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94800"/>
            <a:ext cx="4571640" cy="342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9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s and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onization of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H Sc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Using the Calcul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.0 x 10 -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.0 x 10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nter 1.0  EE   +/-   14    4.0   EE   +/-  5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=  2.5 x 10 -10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Check pH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[OH-] of a solution is 5 x 10 -5 M.  What is the [H3O+ ] of the solu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x 10- 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x 10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x 10-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 pH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[OH-] of a water solution is 5 x 10-5 M.  What is the [H3O+] in the solu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 H3O+]  =  1.0 x 10 -1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x 10-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some calculato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0  EE  +/-  14   5  EE  +/-  5 =  2 x 10 -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Check pH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The [OH-] when [H3O+ ] of 1 x 10- 4 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1 x 10-6 M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 1 x 10-8 M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 1 x 10-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The [H3O+] when [OH- ] of 5 x  10-9 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1 x 10- 6 M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 2 x 10- 6 M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 2 x 10-7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Solution pH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Kw  =   [H3O+ ][OH-]   =  1.0 x 10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. (3) [OH- ] =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 1.0 x 10 -14    =  1.0 x 10 -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.0 x 10- 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. (2) [H3O+]  =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 1.0 x 10 -14    =  2 x 10 -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5 x 10- 9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s the acidity [H3O+] of the 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  =  - log [H3O+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the French pouvoir hydroge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“hydrogen power” or power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og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expression for [H3O+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x 10-ex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xponent = p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H3O+]   =   1 x 10-pH M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H 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   1   2   3  4  5   6    7  8  9  10  11  12  13 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eut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[H+]&gt;[OH-]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    [H+] = [OH-]             [OH-]&gt;[H+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ci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ome [H3O+] and 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[H3O+]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 x 10-5 M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 x 10-9 M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 x 10-11 M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H of Some Common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astric juice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mon juice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vinegar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range juice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ffee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5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ilk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6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onization of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asionally, in water, a H+ is transferred between H2O 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.          . .                   . .                 .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:O:  +    :O:H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H:O:H +     +   :O: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. 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. 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.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molecules     hydronium     hydroxid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ion (+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ion (-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of Some Common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7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7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awat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8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lk of magnesi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usehold ammoni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Check pH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The  [H3O+] of tomato juice is 1 x 10-4 M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pH of the solu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 - 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The [OH-] of an ammonia solution 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x 10-3 M.  What is the pH of the solu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  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olution pH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. pH = - log [ 1 x 10-4] = -(- 4) =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. [H3O+]  = 1 x 10-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H = - log [ 1 x 10- 11] = -(- 11) = 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Check pH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H of a soap is 10.  What is the [H3O+] of the soap solu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x 10 - 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 1 x 10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 1 x 10 - 10 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 pH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H of a soap is 10.  What is the [H3O+] of the soap solu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H3O+]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 1 x 10-pH M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 1 x 10-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on the Calcul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H3O+] is 4.5 x 10-6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=   4.5  x  EXP(or EE) 6+/- LOG +/-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5.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Check pH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oap solution has a [H3O+] = 2 x 10-8 M.  What is the pH of the solution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 7.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 pH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oap solution has a [H3O+] = 2.0 x 10-8 M.  What is the pH of the solution?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 2.0    EE    8    +/-    LOG   +/-  =  7.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arning Check pH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dentify each solution 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. acidic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 2. basic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. neut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. _____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Cl with a pH = 1.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. _____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ancreatic fluid  [H+] =  1 x 10-8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. _____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prite soft drink   pH = 3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. _____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H = 7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. _____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[OH- ]  =  3 x 10-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. _____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[H+ ] =  5 x 10-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olution pH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dentify each solution 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. acidic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 2. basic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. neut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. _1__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HCl with a pH = 1.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. _2__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ancreatic fluid  [H+] =  1 x 10-8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. _1__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prite soft drink   pH = 3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. _3__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H = 7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. _1__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[OH-]  =  3 x 10-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. _2__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[H+] =  5 x 10-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ure Water is Neut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ure water contains small, but equal amounts of ions:  H3O+ and 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2O  +  H2O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3O+     +    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ydronium hydroxide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   ion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ion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 x 10-7 M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1 x 10-7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3O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 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polluted rain has a pH of 5.6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in with a pH below 5.6 is “acid rain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2 in the air forms carbonic aci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2  +  H2O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CO3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s to H+ of ra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CO3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+ (aq) +  HCO3-(a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ation of acid rai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Emission of sulfur and nitrogen oxides from the burning of fuels expecially coal with high S content, power stations,  oil refineries, vehicles as well as bacterial decomposition, and lighting hitting N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6 million tons in 19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and NO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 million tons in 19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t. St Helens (1980) 400,000 tons S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Reactions in the atmosphere form SO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SO2  + O2     2 SO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Reactions with atmosphere water form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3  +  H2O      H2SO4  sulfur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 +  H2O      HNO2  nitrous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NO2 +  H2O    HNO3  nitr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 Effects of Acid 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line in fish populations in rivers and lasts due to toxic effect of Al leached from soil by acid rai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ensive fish kills in spring from runoff due to accumulation of large amounts of acid on the sno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solves minerals Mg, Ca, and K from the soil and waxy coatings that protect leaves from 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rodes metals, textiles, paper and lea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s of Acid Rai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 s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il refine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al with high S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 and truck emis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l decomposition, and lighting hitting N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O2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6 million tons in 19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O and NO2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2 million tons in 19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t. St Helens (1980)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00,000 tons S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eactions with oxygen in air form SO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SO2  + O2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 SO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eactions with water in air form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O3  +  H2O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2SO4  sulfur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O  +  H2O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NO2  nitrous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NO2 +  H2O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NO3  nitr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ects of Acid 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ches Al from soil, which kills fis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sh kills in spring from runoff due to accumulation of large amounts of acid in  sno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solves waxy coatings that protect leaves from 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rodes metals, textiles, paper and lea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on Product of Water K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            ] =  Molar concentr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w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 H3O+ ]  [ OH-  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 1 x 10-7  ][ 1 x 10-7 ]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x 10-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Increase H+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Cl (g)  +  H2O (l)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3O+ (aq)  +  Cl- (a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More [H3O+] than water &gt; 1 x 10-7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s H3O+ increases, OH- decre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[H3O+] &gt; [OH-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3O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ncrease the hydroxide ions (OH-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aOH (s)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Na+(aq)    +   OH- (a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ore [OH-] than water, [OH-] &gt; 1 x 10-7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hen OH- increases, H3O+ decre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[OH] &gt; [H3O+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3O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K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[OH- ] of a solution is 1.0 x 10- 3 M. What is the [H3O+]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w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H3O+ ] [OH- 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 1.0 x 10-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H3O+]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0 x 10-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OH-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H3O+]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    1.0 x 10-1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1.0 x 10-1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0 x 10- 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Check pH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[H3O+] of lemon juice is 1.0 x 10-3 M.  What is the [OH-] of the solu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0 x 10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0 x 10-1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0 x 101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 pH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[H3O+] of lemon juice is 1.0 x 10- 3 M.  What is the [OH-]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OH- ]  =   1.0 x 10 -14     =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0 x 10-1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0 x 10 -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E0B8-FD7B-4FB8-8B03-939D0583B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56A5-4C4E-4654-80C1-DBE258E5C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2E60-C305-4B26-82EF-77EC2F1BB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5AA1-B359-4773-AC3A-A23808100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A612-C1B9-43F0-BBFE-B6E56653B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8932-DA22-4E8A-8BB5-EB63F50E9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5DA2-1EB1-48EA-97F0-1C0052B1B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0621-E7BF-446A-A8EC-33A887447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0768-441F-4D85-BFCF-5EB978615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7F3B-8ABD-40D0-AAAD-6CF7E22C9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981B-AFD4-406E-89FD-324E85124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B2F4-A754-4981-A9BF-ED26F012E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E1A1C-E7CD-4EF6-9643-80464EFB5164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hapter 9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cids and Base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ff33"/>
                </a:solidFill>
                <a:latin typeface="Arial"/>
              </a:rPr>
              <a:t>Ionization of Water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ff33"/>
                </a:solidFill>
                <a:latin typeface="Arial"/>
              </a:rPr>
              <a:t>The pH Scale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Using the Calculator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1.0 x 10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 -14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4.0 x 10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5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Enter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1.0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EE   +/-  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14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400" spc="-1" strike="noStrike">
                <a:solidFill>
                  <a:srgbClr val="ffff00"/>
                </a:solidFill>
                <a:latin typeface="Symbol"/>
                <a:ea typeface="Symbol"/>
              </a:rPr>
              <a:t>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4.0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EE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+/-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5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=  2.5 x 10 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10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0" name="Object 4" descr=""/>
          <p:cNvPicPr/>
          <p:nvPr/>
        </p:nvPicPr>
        <p:blipFill>
          <a:blip r:embed="rId1"/>
          <a:stretch/>
        </p:blipFill>
        <p:spPr>
          <a:xfrm>
            <a:off x="7238880" y="4419720"/>
            <a:ext cx="1551240" cy="220968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5"/>
          <p:cNvSpPr/>
          <p:nvPr/>
        </p:nvSpPr>
        <p:spPr>
          <a:xfrm>
            <a:off x="2209680" y="3352680"/>
            <a:ext cx="685800" cy="6858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3048120" y="3352680"/>
            <a:ext cx="685800" cy="6858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4343400" y="3352680"/>
            <a:ext cx="685800" cy="6858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Rectangle 8"/>
          <p:cNvSpPr/>
          <p:nvPr/>
        </p:nvSpPr>
        <p:spPr>
          <a:xfrm>
            <a:off x="5791320" y="3429000"/>
            <a:ext cx="685800" cy="6858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Rectangle 9"/>
          <p:cNvSpPr/>
          <p:nvPr/>
        </p:nvSpPr>
        <p:spPr>
          <a:xfrm>
            <a:off x="6705720" y="3429000"/>
            <a:ext cx="685800" cy="6858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earning Check pH2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he [OH-] of a solution is 5 x 10 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-5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M.  What is the [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+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] of the solution?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1) 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2 x 10</a:t>
            </a:r>
            <a:r>
              <a:rPr b="1" lang="en-US" sz="3200" spc="-1" strike="noStrike" baseline="30000">
                <a:solidFill>
                  <a:srgbClr val="ff9900"/>
                </a:solidFill>
                <a:latin typeface="Arial"/>
              </a:rPr>
              <a:t>- 5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 M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2) 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1 x 10</a:t>
            </a:r>
            <a:r>
              <a:rPr b="1" lang="en-US" sz="3200" spc="-1" strike="noStrike" baseline="30000">
                <a:solidFill>
                  <a:srgbClr val="ff9900"/>
                </a:solidFill>
                <a:latin typeface="Arial"/>
              </a:rPr>
              <a:t>10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 M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3) 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2 x 10</a:t>
            </a:r>
            <a:r>
              <a:rPr b="1" lang="en-US" sz="3200" spc="-1" strike="noStrike" baseline="30000">
                <a:solidFill>
                  <a:srgbClr val="ff9900"/>
                </a:solidFill>
                <a:latin typeface="Arial"/>
              </a:rPr>
              <a:t>-10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 M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olution pH2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-360" y="16761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he [OH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] of a water solution is 5 x 10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-5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M.  What is the [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] in the solution?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[ 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]  =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.0 x 10 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-14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200" spc="-1" strike="noStrike" baseline="30000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 baseline="30000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 baseline="30000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 baseline="30000">
                <a:solidFill>
                  <a:srgbClr val="ff9900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5 x 10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- 5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On some calculators: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1.0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  EE  +/-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14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66ff33"/>
                </a:solidFill>
                <a:latin typeface="Symbol"/>
                <a:ea typeface="Symbol"/>
              </a:rPr>
              <a:t></a:t>
            </a:r>
            <a:r>
              <a:rPr b="1" lang="en-US" sz="36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5 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 EE  +/-</a:t>
            </a:r>
            <a:r>
              <a:rPr b="1" lang="en-US" sz="3600" spc="-1" strike="noStrike">
                <a:solidFill>
                  <a:srgbClr val="66ff33"/>
                </a:solidFill>
                <a:latin typeface="Arial"/>
              </a:rPr>
              <a:t>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5 </a:t>
            </a:r>
            <a:r>
              <a:rPr b="1" lang="en-US" sz="3200" spc="-1" strike="noStrike">
                <a:solidFill>
                  <a:srgbClr val="66ff33"/>
                </a:solidFill>
                <a:latin typeface="Arial"/>
              </a:rPr>
              <a:t>=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2 x 10</a:t>
            </a:r>
            <a:r>
              <a:rPr b="1" lang="en-US" sz="3200" spc="-1" strike="noStrike" baseline="30000">
                <a:solidFill>
                  <a:srgbClr val="ff9900"/>
                </a:solidFill>
                <a:latin typeface="Arial"/>
              </a:rPr>
              <a:t> -10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 M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66ff33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" name="Line 4"/>
          <p:cNvSpPr/>
          <p:nvPr/>
        </p:nvSpPr>
        <p:spPr>
          <a:xfrm>
            <a:off x="2438280" y="3886200"/>
            <a:ext cx="18288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07732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earning Check pH3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752120"/>
            <a:ext cx="75438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.The [O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] when [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+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] of 1 x 10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 4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M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1)  1 x 10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-6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M  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2)  1 x 10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-8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M  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3)  1 x 10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-10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M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B.The [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] when [O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] of 5 x  10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9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M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1)  1 x 10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- 6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M   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2)  2 x 10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- 6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M 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3)  2 x 10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-7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M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olution pH3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K</a:t>
            </a:r>
            <a:r>
              <a:rPr b="1" lang="en-US" sz="3000" spc="-1" strike="noStrike" baseline="-25000">
                <a:solidFill>
                  <a:srgbClr val="ff9900"/>
                </a:solidFill>
                <a:latin typeface="Arial"/>
              </a:rPr>
              <a:t>w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 =   [H</a:t>
            </a:r>
            <a:r>
              <a:rPr b="1" lang="en-US" sz="3000" spc="-1" strike="noStrike" baseline="-25000">
                <a:solidFill>
                  <a:srgbClr val="ff99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O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][OH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-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]   =  1.0 x 10 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14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.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(3)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[O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] =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  1.0 x 10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 -14 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=  1.0 x 10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 -10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    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1.0 x 10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 4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(2)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[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]  =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  1.0 x 10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 -14 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=  2 x 10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 - 6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    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             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5 x 10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 9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8001000" cy="129564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H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66ff33"/>
              </a:buClr>
              <a:buSzPct val="11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Indicates the acidity [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] of the solution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51"/>
              </a:spcBef>
              <a:buClr>
                <a:srgbClr val="66ff33"/>
              </a:buClr>
              <a:buSzPct val="11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pH   =  - log [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]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51"/>
              </a:spcBef>
              <a:buClr>
                <a:srgbClr val="66ff33"/>
              </a:buClr>
              <a:buSzPct val="11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From the French </a:t>
            </a:r>
            <a:r>
              <a:rPr b="1" i="1" lang="en-US" sz="3000" spc="-1" strike="noStrike">
                <a:solidFill>
                  <a:srgbClr val="ffff00"/>
                </a:solidFill>
                <a:latin typeface="Arial"/>
              </a:rPr>
              <a:t>pouvoir hydrogene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00"/>
                </a:solidFill>
                <a:latin typeface="Arial"/>
              </a:rPr>
              <a:t>        </a:t>
            </a:r>
            <a:r>
              <a:rPr b="1" i="1" lang="en-US" sz="3000" spc="-1" strike="noStrike">
                <a:solidFill>
                  <a:srgbClr val="ffff00"/>
                </a:solidFill>
                <a:latin typeface="Arial"/>
              </a:rPr>
              <a:t>(“hydrogen power” or power of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00"/>
                </a:solidFill>
                <a:latin typeface="Arial"/>
              </a:rPr>
              <a:t>          </a:t>
            </a:r>
            <a:r>
              <a:rPr b="1" i="1" lang="en-US" sz="3000" spc="-1" strike="noStrike">
                <a:solidFill>
                  <a:srgbClr val="ffff00"/>
                </a:solidFill>
                <a:latin typeface="Arial"/>
              </a:rPr>
              <a:t>hydrogen)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3045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In the expression for [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]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1 x 10</a:t>
            </a:r>
            <a:r>
              <a:rPr b="1" lang="en-US" sz="3400" spc="-1" strike="noStrike" baseline="30000">
                <a:solidFill>
                  <a:srgbClr val="ffff00"/>
                </a:solidFill>
                <a:latin typeface="Arial"/>
              </a:rPr>
              <a:t>-exponent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he exponent = pH</a:t>
            </a:r>
            <a:r>
              <a:rPr b="1" lang="en-US" sz="3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3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34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[H</a:t>
            </a:r>
            <a:r>
              <a:rPr b="1" lang="en-US" sz="4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4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]   =   1 x 10</a:t>
            </a:r>
            <a:r>
              <a:rPr b="1" lang="en-US" sz="40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4000" spc="-1" strike="noStrike" baseline="30000">
                <a:solidFill>
                  <a:srgbClr val="ff9900"/>
                </a:solidFill>
                <a:latin typeface="Arial"/>
              </a:rPr>
              <a:t>pH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M  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H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" name="Line 4"/>
          <p:cNvSpPr/>
          <p:nvPr/>
        </p:nvSpPr>
        <p:spPr>
          <a:xfrm>
            <a:off x="4267080" y="4114800"/>
            <a:ext cx="1295640" cy="91440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53452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H Range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Comic Sans MS"/>
              </a:rPr>
              <a:t>0   1   2   3  4  5   6    7  8  9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1" lang="en-US" sz="2600" spc="-1" strike="noStrike">
                <a:solidFill>
                  <a:srgbClr val="ffff00"/>
                </a:solidFill>
                <a:latin typeface="Comic Sans MS"/>
              </a:rPr>
              <a:t>10  11  12  13  14</a:t>
            </a:r>
            <a:endParaRPr b="0" lang="en-US" sz="26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6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1" lang="en-US" sz="2600" spc="-1" strike="noStrike">
                <a:solidFill>
                  <a:srgbClr val="ffff00"/>
                </a:solidFill>
                <a:latin typeface="Comic Sans MS"/>
              </a:rPr>
              <a:t>Neutral</a:t>
            </a:r>
            <a:endParaRPr b="0" lang="en-US" sz="26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[H</a:t>
            </a:r>
            <a:r>
              <a:rPr b="1" lang="en-US" sz="36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]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&gt;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[OH</a:t>
            </a:r>
            <a:r>
              <a:rPr b="1" lang="en-US" sz="24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]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       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[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] = [O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]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            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[OH</a:t>
            </a:r>
            <a:r>
              <a:rPr b="1" lang="en-US" sz="36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]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&gt;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[H</a:t>
            </a:r>
            <a:r>
              <a:rPr b="1" lang="en-US" sz="24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" name="AutoShape 4"/>
          <p:cNvSpPr/>
          <p:nvPr/>
        </p:nvSpPr>
        <p:spPr>
          <a:xfrm>
            <a:off x="0" y="2895480"/>
            <a:ext cx="4495680" cy="1371600"/>
          </a:xfrm>
          <a:prstGeom prst="leftArrow">
            <a:avLst>
              <a:gd name="adj1" fmla="val 50000"/>
              <a:gd name="adj2" fmla="val 81942"/>
            </a:avLst>
          </a:prstGeom>
          <a:solidFill>
            <a:srgbClr val="ff3399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Acidic</a:t>
            </a:r>
            <a:endParaRPr b="0" lang="en-US" sz="2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" name="AutoShape 5"/>
          <p:cNvSpPr/>
          <p:nvPr/>
        </p:nvSpPr>
        <p:spPr>
          <a:xfrm>
            <a:off x="4495680" y="2930400"/>
            <a:ext cx="4648320" cy="1295640"/>
          </a:xfrm>
          <a:prstGeom prst="rightArrow">
            <a:avLst>
              <a:gd name="adj1" fmla="val 50000"/>
              <a:gd name="adj2" fmla="val 89692"/>
            </a:avLst>
          </a:prstGeom>
          <a:solidFill>
            <a:srgbClr val="00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Basic</a:t>
            </a:r>
            <a:endParaRPr b="0" lang="en-US" sz="2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ome [H</a:t>
            </a:r>
            <a:r>
              <a:rPr b="1" lang="en-US" sz="4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4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] and pH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ffff"/>
                </a:solidFill>
                <a:latin typeface="Arial"/>
              </a:rPr>
              <a:t>[H</a:t>
            </a:r>
            <a:r>
              <a:rPr b="1" lang="en-US" sz="4000" spc="-1" strike="noStrike" baseline="-25000">
                <a:solidFill>
                  <a:srgbClr val="00ffff"/>
                </a:solidFill>
                <a:latin typeface="Arial"/>
              </a:rPr>
              <a:t>3</a:t>
            </a:r>
            <a:r>
              <a:rPr b="1" lang="en-US" sz="4000" spc="-1" strike="noStrike">
                <a:solidFill>
                  <a:srgbClr val="00ffff"/>
                </a:solidFill>
                <a:latin typeface="Arial"/>
              </a:rPr>
              <a:t>O</a:t>
            </a:r>
            <a:r>
              <a:rPr b="1" lang="en-US" sz="4000" spc="-1" strike="noStrike" baseline="30000">
                <a:solidFill>
                  <a:srgbClr val="00ffff"/>
                </a:solidFill>
                <a:latin typeface="Arial"/>
              </a:rPr>
              <a:t>+</a:t>
            </a:r>
            <a:r>
              <a:rPr b="1" lang="en-US" sz="4000" spc="-1" strike="noStrike">
                <a:solidFill>
                  <a:srgbClr val="00ffff"/>
                </a:solidFill>
                <a:latin typeface="Arial"/>
              </a:rPr>
              <a:t>]</a:t>
            </a:r>
            <a:r>
              <a:rPr b="1" lang="en-US" sz="4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ffff"/>
                </a:solidFill>
                <a:latin typeface="Arial"/>
              </a:rPr>
              <a:t>    </a:t>
            </a:r>
            <a:r>
              <a:rPr b="1" lang="en-US" sz="4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ffff"/>
                </a:solidFill>
                <a:latin typeface="Arial"/>
              </a:rPr>
              <a:t>pH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lnSpc>
                <a:spcPct val="13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40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1 x 10</a:t>
            </a:r>
            <a:r>
              <a:rPr b="1" lang="en-US" sz="40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4000" spc="-1" strike="noStrike" baseline="30000">
                <a:solidFill>
                  <a:srgbClr val="ff9900"/>
                </a:solidFill>
                <a:latin typeface="Arial"/>
              </a:rPr>
              <a:t>5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M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ff99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lnSpc>
                <a:spcPct val="13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1 x 10</a:t>
            </a:r>
            <a:r>
              <a:rPr b="1" lang="en-US" sz="40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4000" spc="-1" strike="noStrike" baseline="30000">
                <a:solidFill>
                  <a:srgbClr val="ff9900"/>
                </a:solidFill>
                <a:latin typeface="Arial"/>
              </a:rPr>
              <a:t>9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M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ff9900"/>
                </a:solidFill>
                <a:latin typeface="Arial"/>
              </a:rPr>
              <a:t>9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  <a:p>
            <a:pPr lvl="2" marL="1131480" indent="0">
              <a:lnSpc>
                <a:spcPct val="13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1 x 10</a:t>
            </a:r>
            <a:r>
              <a:rPr b="1" lang="en-US" sz="40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4000" spc="-1" strike="noStrike" baseline="30000">
                <a:solidFill>
                  <a:srgbClr val="ff9900"/>
                </a:solidFill>
                <a:latin typeface="Arial"/>
              </a:rPr>
              <a:t>11</a:t>
            </a:r>
            <a:r>
              <a:rPr b="1" lang="en-US" sz="40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9900"/>
                </a:solidFill>
                <a:latin typeface="Arial"/>
              </a:rPr>
              <a:t>11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Arial"/>
              </a:rPr>
              <a:t>pH of Some Common Acids</a:t>
            </a:r>
            <a:endParaRPr b="0" lang="en-US" sz="3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0">
              <a:lnSpc>
                <a:spcPct val="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15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gastric juice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.0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15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lemon juice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2.3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15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vinegar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2.8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15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range juice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3.5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15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offee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5.0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15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ilk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6.6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15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27" name="Object 4" descr=""/>
          <p:cNvPicPr/>
          <p:nvPr/>
        </p:nvPicPr>
        <p:blipFill>
          <a:blip r:embed="rId1"/>
          <a:stretch/>
        </p:blipFill>
        <p:spPr>
          <a:xfrm>
            <a:off x="6705720" y="2819520"/>
            <a:ext cx="2031840" cy="20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30556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Ionization of Water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ccasionally, in water, a 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is transferred between 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 molecules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. .          . .                   . .                 . .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+   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 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   H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 </a:t>
            </a:r>
            <a:r>
              <a:rPr b="1" lang="en-US" sz="4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  + 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: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40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 baseline="30000">
                <a:solidFill>
                  <a:srgbClr val="ffff00"/>
                </a:solidFill>
                <a:latin typeface="Arial"/>
              </a:rPr>
              <a:t>       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. .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 . .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        . .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           . .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400" spc="-1" strike="noStrike" baseline="30000">
                <a:solidFill>
                  <a:srgbClr val="ffff00"/>
                </a:solidFill>
                <a:latin typeface="Arial"/>
              </a:rPr>
              <a:t>  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        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       H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water molecules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    hydronium    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 hydroxide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      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        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ion (+)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        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ion (-)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4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4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Oval 4"/>
          <p:cNvSpPr/>
          <p:nvPr/>
        </p:nvSpPr>
        <p:spPr>
          <a:xfrm>
            <a:off x="1143000" y="4495680"/>
            <a:ext cx="533520" cy="533520"/>
          </a:xfrm>
          <a:prstGeom prst="ellipse">
            <a:avLst/>
          </a:prstGeom>
          <a:noFill/>
          <a:ln w="2844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Line 5"/>
          <p:cNvSpPr/>
          <p:nvPr/>
        </p:nvSpPr>
        <p:spPr>
          <a:xfrm flipV="1">
            <a:off x="1676520" y="3962520"/>
            <a:ext cx="914400" cy="761760"/>
          </a:xfrm>
          <a:prstGeom prst="line">
            <a:avLst/>
          </a:prstGeom>
          <a:ln w="381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Line 6"/>
          <p:cNvSpPr/>
          <p:nvPr/>
        </p:nvSpPr>
        <p:spPr>
          <a:xfrm>
            <a:off x="3809880" y="3962520"/>
            <a:ext cx="533520" cy="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" name="Line 7"/>
          <p:cNvSpPr/>
          <p:nvPr/>
        </p:nvSpPr>
        <p:spPr>
          <a:xfrm flipH="1">
            <a:off x="3657600" y="4191120"/>
            <a:ext cx="914400" cy="0"/>
          </a:xfrm>
          <a:prstGeom prst="line">
            <a:avLst/>
          </a:prstGeom>
          <a:ln w="2844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Arial"/>
              </a:rPr>
              <a:t>pH of Some Common Bases</a:t>
            </a:r>
            <a:endParaRPr b="0" lang="en-US" sz="3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blood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7.4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ears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7.4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eawater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8.4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ilk of magnesia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0.6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household ammonia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1.0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31" name="Object 4" descr=""/>
          <p:cNvPicPr/>
          <p:nvPr/>
        </p:nvPicPr>
        <p:blipFill>
          <a:blip r:embed="rId1"/>
          <a:stretch/>
        </p:blipFill>
        <p:spPr>
          <a:xfrm>
            <a:off x="7391520" y="2133720"/>
            <a:ext cx="1184040" cy="1600200"/>
          </a:xfrm>
          <a:prstGeom prst="rect">
            <a:avLst/>
          </a:prstGeom>
          <a:ln w="0">
            <a:noFill/>
          </a:ln>
        </p:spPr>
      </p:pic>
      <p:pic>
        <p:nvPicPr>
          <p:cNvPr id="132" name="Object 5" descr=""/>
          <p:cNvPicPr/>
          <p:nvPr/>
        </p:nvPicPr>
        <p:blipFill>
          <a:blip r:embed="rId2"/>
          <a:stretch/>
        </p:blipFill>
        <p:spPr>
          <a:xfrm>
            <a:off x="6705720" y="4038480"/>
            <a:ext cx="86508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earning Check pH4 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. The  [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] of tomato juice is 1 x 10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4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M. 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What is the pH of the solution?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1)   - 4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2)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4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3)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8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B. The [O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] of an ammonia solution is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1 x 10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M.  What is the pH of the solution?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1)    3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2)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11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3)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-11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olution pH4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280" y="190512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. pH = - log [ 1 x 10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4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] = -(- 4) = 4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B.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[H</a:t>
            </a:r>
            <a:r>
              <a:rPr b="1" lang="en-US" sz="3000" spc="-1" strike="noStrike" baseline="-25000">
                <a:solidFill>
                  <a:srgbClr val="ff99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O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]  = 1 x 10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-11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pH = - log [ 1 x 10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 11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] = -(- 11) = 11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earning Check pH5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6000"/>
          </a:bodyPr>
          <a:p>
            <a:pPr marL="226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he pH of a soap is 10.  What is the [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] of the soap solution?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226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1) 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1 x 10 </a:t>
            </a:r>
            <a:r>
              <a:rPr b="1" lang="en-US" sz="3200" spc="-1" strike="noStrike" baseline="30000">
                <a:solidFill>
                  <a:srgbClr val="ff9900"/>
                </a:solidFill>
                <a:latin typeface="Arial"/>
              </a:rPr>
              <a:t>- 4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 M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226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2)  1 x 10</a:t>
            </a:r>
            <a:r>
              <a:rPr b="1" lang="en-US" sz="3200" spc="-1" strike="noStrike" baseline="30000">
                <a:solidFill>
                  <a:srgbClr val="ff9900"/>
                </a:solidFill>
                <a:latin typeface="Arial"/>
              </a:rPr>
              <a:t>10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 M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226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3)  1 x 10 </a:t>
            </a:r>
            <a:r>
              <a:rPr b="1" lang="en-US" sz="3200" spc="-1" strike="noStrike" baseline="30000">
                <a:solidFill>
                  <a:srgbClr val="ff9900"/>
                </a:solidFill>
                <a:latin typeface="Arial"/>
              </a:rPr>
              <a:t>- 10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 M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22608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Comic Sans MS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226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22608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ff33"/>
                </a:solidFill>
                <a:latin typeface="Comic Sans MS"/>
              </a:rPr>
              <a:t> 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22608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olution pH5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he pH of a soap is 10.  What is the [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] of the soap solution?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1896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Comic Sans MS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1896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[H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6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]  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=   1 x 10</a:t>
            </a:r>
            <a:r>
              <a:rPr b="1" lang="en-US" sz="36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3600" spc="-1" strike="noStrike" baseline="30000">
                <a:solidFill>
                  <a:srgbClr val="66ff33"/>
                </a:solidFill>
                <a:latin typeface="Arial"/>
              </a:rPr>
              <a:t>pH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M  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318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=   1 x 10</a:t>
            </a:r>
            <a:r>
              <a:rPr b="1" lang="en-US" sz="36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3600" spc="-1" strike="noStrike" baseline="30000">
                <a:solidFill>
                  <a:srgbClr val="66ff33"/>
                </a:solidFill>
                <a:latin typeface="Arial"/>
              </a:rPr>
              <a:t>10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M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31896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ff33"/>
                </a:solidFill>
                <a:latin typeface="Comic Sans MS"/>
              </a:rPr>
              <a:t> 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1896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H on the Calculator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[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] is 4.5 x 10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6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M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pH =   4.5  x 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 EXP(or EE)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6+/- 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LOG +/-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=  5.35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48" name="Object 4" descr=""/>
          <p:cNvPicPr/>
          <p:nvPr/>
        </p:nvPicPr>
        <p:blipFill>
          <a:blip r:embed="rId1"/>
          <a:stretch/>
        </p:blipFill>
        <p:spPr>
          <a:xfrm>
            <a:off x="6629400" y="3886200"/>
            <a:ext cx="19256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earning Check pH6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-360" y="19810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8000"/>
          </a:bodyPr>
          <a:p>
            <a:pPr marL="2332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 soap solution has a [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] = 2 x 10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-8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M.  What is the pH of the solution?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2332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2332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1)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2332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2)  7.7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2332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3)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2332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233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233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52" name="Object 4" descr=""/>
          <p:cNvPicPr/>
          <p:nvPr/>
        </p:nvPicPr>
        <p:blipFill>
          <a:blip r:embed="rId1"/>
          <a:stretch/>
        </p:blipFill>
        <p:spPr>
          <a:xfrm>
            <a:off x="6629400" y="3048120"/>
            <a:ext cx="152892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olution pH6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 soap solution has a [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] = 2.0 x 10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-8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M.  What is the pH of the solution?    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B)  </a:t>
            </a:r>
            <a:r>
              <a:rPr b="1" lang="en-US" sz="3200" spc="-1" strike="noStrike">
                <a:solidFill>
                  <a:srgbClr val="66ff33"/>
                </a:solidFill>
                <a:latin typeface="Arial"/>
              </a:rPr>
              <a:t>2.0  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EE   </a:t>
            </a:r>
            <a:r>
              <a:rPr b="1" lang="en-US" sz="3200" spc="-1" strike="noStrike">
                <a:solidFill>
                  <a:srgbClr val="66ff33"/>
                </a:solidFill>
                <a:latin typeface="Arial"/>
              </a:rPr>
              <a:t> 8  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+/-    LOG  </a:t>
            </a:r>
            <a:r>
              <a:rPr b="1" lang="en-US" sz="3200" spc="-1" strike="noStrike">
                <a:solidFill>
                  <a:srgbClr val="66ff33"/>
                </a:solidFill>
                <a:latin typeface="Arial"/>
              </a:rPr>
              <a:t> +/-  =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7.7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1828800" y="4800600"/>
            <a:ext cx="838080" cy="6094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4419720" y="4724280"/>
            <a:ext cx="1143000" cy="7621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8" name="Rectangle 6"/>
          <p:cNvSpPr/>
          <p:nvPr/>
        </p:nvSpPr>
        <p:spPr>
          <a:xfrm>
            <a:off x="5715000" y="4800600"/>
            <a:ext cx="838080" cy="6094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earning Check pH7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520" y="167616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Identify each solution a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1. acidic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      2. basic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3. neutra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. _____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Cl with a pH = 1.5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B. _____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ancreatic fluid  [H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] =  1 x 10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-8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. _____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prite soft drink   pH = 3.0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. _____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H = 7.0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. _____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[OH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-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]  =  3 x 10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-10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M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. _____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[H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+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] =  5 x 10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-12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olution pH7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Identify each solution a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1. acidic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      2. basic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3. neutra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. _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1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__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HCl with a pH = 1.5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B.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_2__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ancreatic fluid  [H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] =  1 x 10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-8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.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_1__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prite soft drink   pH = 3.0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.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_3__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H = 7.0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.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_1__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[OH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]  =  3 x 10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-10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M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.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_2__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[H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] =  5 x 10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-12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ure Water is Neutral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Pure water contains small, but equal amounts of ions:  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and O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18960" indent="0">
              <a:lnSpc>
                <a:spcPct val="3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  <a:p>
            <a:pPr marL="318960" indent="0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34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O  +  H</a:t>
            </a:r>
            <a:r>
              <a:rPr b="1" lang="en-US" sz="34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O 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34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4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     +    OH</a:t>
            </a:r>
            <a:r>
              <a:rPr b="1" lang="en-US" sz="34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  <a:p>
            <a:pPr marL="318960" indent="0">
              <a:lnSpc>
                <a:spcPct val="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4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4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400" spc="-1" strike="noStrike" baseline="30000">
                <a:solidFill>
                  <a:srgbClr val="ffff00"/>
                </a:solidFill>
                <a:latin typeface="Arial"/>
              </a:rPr>
              <a:t>                           </a:t>
            </a: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  <a:p>
            <a:pPr marL="318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ydronium hydroxide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    ion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ion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896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1 x 10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-7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M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 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1 x 10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-7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M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1896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Line 4"/>
          <p:cNvSpPr/>
          <p:nvPr/>
        </p:nvSpPr>
        <p:spPr>
          <a:xfrm>
            <a:off x="3809880" y="3886200"/>
            <a:ext cx="457200" cy="0"/>
          </a:xfrm>
          <a:prstGeom prst="line">
            <a:avLst/>
          </a:prstGeom>
          <a:ln w="28440">
            <a:solidFill>
              <a:srgbClr val="ff0033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Line 5"/>
          <p:cNvSpPr/>
          <p:nvPr/>
        </p:nvSpPr>
        <p:spPr>
          <a:xfrm>
            <a:off x="3429000" y="4191120"/>
            <a:ext cx="1295280" cy="0"/>
          </a:xfrm>
          <a:prstGeom prst="line">
            <a:avLst/>
          </a:prstGeom>
          <a:ln w="38160">
            <a:solidFill>
              <a:srgbClr val="ff00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685800" y="4343400"/>
            <a:ext cx="990720" cy="18288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Rectangle 7"/>
          <p:cNvSpPr/>
          <p:nvPr/>
        </p:nvSpPr>
        <p:spPr>
          <a:xfrm>
            <a:off x="1981080" y="4343400"/>
            <a:ext cx="990720" cy="18288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H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8458200" cy="914400"/>
          </a:xfrm>
          <a:prstGeom prst="rect">
            <a:avLst/>
          </a:prstGeom>
          <a:noFill/>
          <a:ln w="5724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cid Rain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28000"/>
          </a:bodyPr>
          <a:p>
            <a:pPr marL="95760" indent="-95760">
              <a:lnSpc>
                <a:spcPct val="130000"/>
              </a:lnSpc>
              <a:spcBef>
                <a:spcPts val="751"/>
              </a:spcBef>
              <a:buClr>
                <a:srgbClr val="ff0066"/>
              </a:buClr>
              <a:buSzPct val="12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Unpolluted rain has a pH of 5.6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95760" indent="-95760">
              <a:lnSpc>
                <a:spcPct val="130000"/>
              </a:lnSpc>
              <a:spcBef>
                <a:spcPts val="751"/>
              </a:spcBef>
              <a:buClr>
                <a:srgbClr val="ff0066"/>
              </a:buClr>
              <a:buSzPct val="12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Rain with a pH below 5.6 is “acid rain“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95760" indent="-95760">
              <a:lnSpc>
                <a:spcPct val="130000"/>
              </a:lnSpc>
              <a:spcBef>
                <a:spcPts val="751"/>
              </a:spcBef>
              <a:buClr>
                <a:srgbClr val="ff0066"/>
              </a:buClr>
              <a:buSzPct val="12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O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in the air forms carbonic acid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9576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CO</a:t>
            </a:r>
            <a:r>
              <a:rPr b="1" lang="en-US" sz="30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  +  H</a:t>
            </a:r>
            <a:r>
              <a:rPr b="1" lang="en-US" sz="30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O 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</a:t>
            </a:r>
            <a:r>
              <a:rPr b="1" lang="en-US" sz="30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CO</a:t>
            </a:r>
            <a:r>
              <a:rPr b="1" lang="en-US" sz="3000" spc="-1" strike="noStrike" baseline="-25000">
                <a:solidFill>
                  <a:srgbClr val="00ffff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  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95760" indent="-95760">
              <a:lnSpc>
                <a:spcPct val="130000"/>
              </a:lnSpc>
              <a:spcBef>
                <a:spcPts val="751"/>
              </a:spcBef>
              <a:buClr>
                <a:srgbClr val="ff0066"/>
              </a:buClr>
              <a:buSzPct val="12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dds to 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+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f rain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9576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</a:t>
            </a:r>
            <a:r>
              <a:rPr b="1" lang="en-US" sz="30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CO</a:t>
            </a:r>
            <a:r>
              <a:rPr b="1" lang="en-US" sz="3000" spc="-1" strike="noStrike" baseline="-25000">
                <a:solidFill>
                  <a:srgbClr val="00ffff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    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</a:t>
            </a:r>
            <a:r>
              <a:rPr b="1" lang="en-US" sz="3000" spc="-1" strike="noStrike" baseline="30000">
                <a:solidFill>
                  <a:srgbClr val="00ffff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 (aq) +  HCO</a:t>
            </a:r>
            <a:r>
              <a:rPr b="1" lang="en-US" sz="3000" spc="-1" strike="noStrike" baseline="-25000">
                <a:solidFill>
                  <a:srgbClr val="00ffff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-(aq)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9576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9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9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9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Formation of acid rain: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9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.  Emission of sulfur and nitrogen oxides from the burning of fuels expecially coal with high S content, power stations,  oil refineries, vehicles as well as bacterial decomposition, and lighting hitting N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9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6 million tons in 1980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9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NO and NO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2 million tons in 1980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9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t. St Helens (1980) 400,000 tons SO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9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9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.  Reactions in the atmosphere form SO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9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SO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+ O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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2 SO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9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9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3.  Reactions with atmosphere water form acid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9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+  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    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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sulfuric acid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9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NO  +  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    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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HNO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nitrous acid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9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NO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+  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   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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HNO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nitric acid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9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9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4.   Effects of Acid Rai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3200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ecline in fish populations in rivers and lasts due to toxic effect of Al leached from soil by acid rain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3200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tensive fish kills in spring from runoff due to accumulation of large amounts of acid on the snow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3200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issolves minerals Mg, Ca, and K from the soil and waxy coatings that protect leaves from bacteria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3200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orrodes metals, textiles, paper and leather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9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8" name="Line 4"/>
          <p:cNvSpPr/>
          <p:nvPr/>
        </p:nvSpPr>
        <p:spPr>
          <a:xfrm>
            <a:off x="3581280" y="5562720"/>
            <a:ext cx="60984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9" name="Line 5"/>
          <p:cNvSpPr/>
          <p:nvPr/>
        </p:nvSpPr>
        <p:spPr>
          <a:xfrm>
            <a:off x="3886200" y="4191120"/>
            <a:ext cx="6858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7772400" cy="99072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ources of Acid Rain</a:t>
            </a:r>
            <a:br>
              <a:rPr sz="4000"/>
            </a:b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51"/>
              </a:spcBef>
              <a:buClr>
                <a:srgbClr val="ff0066"/>
              </a:buClr>
              <a:buSzPct val="12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Power stations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buClr>
                <a:srgbClr val="ff0066"/>
              </a:buClr>
              <a:buSzPct val="12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il refineries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51"/>
              </a:spcBef>
              <a:buClr>
                <a:srgbClr val="ff0066"/>
              </a:buClr>
              <a:buSzPct val="12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oal with high S content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51"/>
              </a:spcBef>
              <a:buClr>
                <a:srgbClr val="ff0066"/>
              </a:buClr>
              <a:buSzPct val="12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ar and truck emissions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51"/>
              </a:spcBef>
              <a:buClr>
                <a:srgbClr val="ff0066"/>
              </a:buClr>
              <a:buSzPct val="12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Bacterial decomposition, and lighting hitting N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73" name="Object 4" descr=""/>
          <p:cNvPicPr/>
          <p:nvPr/>
        </p:nvPicPr>
        <p:blipFill>
          <a:blip r:embed="rId1"/>
          <a:stretch/>
        </p:blipFill>
        <p:spPr>
          <a:xfrm>
            <a:off x="5410080" y="1600200"/>
            <a:ext cx="3276720" cy="20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6 million tons in 1980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NO and NO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2 million tons in 1980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53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t. St Helens (1980)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400,000 tons SO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536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ff0066"/>
              </a:buClr>
              <a:buSzPct val="11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eactions with oxygen in air form SO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53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2SO</a:t>
            </a:r>
            <a:r>
              <a:rPr b="1" lang="en-US" sz="2800" spc="-1" strike="noStrike" baseline="-25000">
                <a:solidFill>
                  <a:srgbClr val="ff99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 + O</a:t>
            </a:r>
            <a:r>
              <a:rPr b="1" lang="en-US" sz="2800" spc="-1" strike="noStrike" baseline="-25000">
                <a:solidFill>
                  <a:srgbClr val="ff99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2 SO</a:t>
            </a:r>
            <a:r>
              <a:rPr b="1" lang="en-US" sz="2800" spc="-1" strike="noStrike" baseline="-25000">
                <a:solidFill>
                  <a:srgbClr val="ff99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5360" indent="0">
              <a:lnSpc>
                <a:spcPct val="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ff0066"/>
              </a:buClr>
              <a:buSzPct val="12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eactions with water in air form acid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53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SO</a:t>
            </a:r>
            <a:r>
              <a:rPr b="1" lang="en-US" sz="2800" spc="-1" strike="noStrike" baseline="-25000">
                <a:solidFill>
                  <a:srgbClr val="ff99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 +  H</a:t>
            </a:r>
            <a:r>
              <a:rPr b="1" lang="en-US" sz="2800" spc="-1" strike="noStrike" baseline="-25000">
                <a:solidFill>
                  <a:srgbClr val="ff99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O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H</a:t>
            </a:r>
            <a:r>
              <a:rPr b="1" lang="en-US" sz="2800" spc="-1" strike="noStrike" baseline="-25000">
                <a:solidFill>
                  <a:srgbClr val="ff99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SO</a:t>
            </a:r>
            <a:r>
              <a:rPr b="1" lang="en-US" sz="2800" spc="-1" strike="noStrike" baseline="-25000">
                <a:solidFill>
                  <a:srgbClr val="ff99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 sulfuric acid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53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cc66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NO  +  H</a:t>
            </a:r>
            <a:r>
              <a:rPr b="1" lang="en-US" sz="2800" spc="-1" strike="noStrike" baseline="-25000">
                <a:solidFill>
                  <a:srgbClr val="ff99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O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HNO</a:t>
            </a:r>
            <a:r>
              <a:rPr b="1" lang="en-US" sz="2800" spc="-1" strike="noStrike" baseline="-25000">
                <a:solidFill>
                  <a:srgbClr val="ff99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 nitrous acid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53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HNO</a:t>
            </a:r>
            <a:r>
              <a:rPr b="1" lang="en-US" sz="2800" spc="-1" strike="noStrike" baseline="-25000">
                <a:solidFill>
                  <a:srgbClr val="ff99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+  H</a:t>
            </a:r>
            <a:r>
              <a:rPr b="1" lang="en-US" sz="2800" spc="-1" strike="noStrike" baseline="-25000">
                <a:solidFill>
                  <a:srgbClr val="ff99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O 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HNO</a:t>
            </a:r>
            <a:r>
              <a:rPr b="1" lang="en-US" sz="2800" spc="-1" strike="noStrike" baseline="-25000">
                <a:solidFill>
                  <a:srgbClr val="ff99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 nitric acid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6" name="Line 3"/>
          <p:cNvSpPr/>
          <p:nvPr/>
        </p:nvSpPr>
        <p:spPr>
          <a:xfrm>
            <a:off x="3276720" y="3200400"/>
            <a:ext cx="137160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7" name="Line 4"/>
          <p:cNvSpPr/>
          <p:nvPr/>
        </p:nvSpPr>
        <p:spPr>
          <a:xfrm>
            <a:off x="3276720" y="4572000"/>
            <a:ext cx="144756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8" name="Line 5"/>
          <p:cNvSpPr/>
          <p:nvPr/>
        </p:nvSpPr>
        <p:spPr>
          <a:xfrm>
            <a:off x="3276720" y="5181480"/>
            <a:ext cx="144756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9" name="Line 6"/>
          <p:cNvSpPr/>
          <p:nvPr/>
        </p:nvSpPr>
        <p:spPr>
          <a:xfrm>
            <a:off x="3505320" y="5715000"/>
            <a:ext cx="121896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Effects of Acid Rain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0066"/>
              </a:buClr>
              <a:buSzPct val="12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Leaches Al from soil, which kills fish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0066"/>
              </a:buClr>
              <a:buSzPct val="12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sh kills in spring from runoff due to accumulation of large amounts of acid in  snow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0066"/>
              </a:buClr>
              <a:buSzPct val="12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issolves waxy coatings that protect leaves from bacteria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0066"/>
              </a:buClr>
              <a:buSzPct val="12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orrodes metals, textiles, paper and leather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Ion Product of Water K</a:t>
            </a:r>
            <a:r>
              <a:rPr b="1" lang="en-US" sz="4000" spc="-1" strike="noStrike" baseline="-25000">
                <a:solidFill>
                  <a:srgbClr val="ffff00"/>
                </a:solidFill>
                <a:latin typeface="Arial"/>
              </a:rPr>
              <a:t>w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ffff"/>
                </a:solidFill>
                <a:latin typeface="Arial"/>
              </a:rPr>
              <a:t>[            ] =  Molar concentration </a:t>
            </a: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9900"/>
                </a:solidFill>
                <a:latin typeface="Arial"/>
              </a:rPr>
              <a:t>K</a:t>
            </a:r>
            <a:r>
              <a:rPr b="1" lang="en-US" sz="3400" spc="-1" strike="noStrike" baseline="-25000">
                <a:solidFill>
                  <a:srgbClr val="ff9900"/>
                </a:solidFill>
                <a:latin typeface="Arial"/>
              </a:rPr>
              <a:t>w</a:t>
            </a:r>
            <a:r>
              <a:rPr b="1" lang="en-US" sz="3400" spc="-1" strike="noStrike">
                <a:solidFill>
                  <a:srgbClr val="ff9900"/>
                </a:solidFill>
                <a:latin typeface="Arial"/>
              </a:rPr>
              <a:t>  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=    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[ H</a:t>
            </a:r>
            <a:r>
              <a:rPr b="1" lang="en-US" sz="34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400" spc="-1" strike="noStrike" baseline="30000">
                <a:solidFill>
                  <a:srgbClr val="ffff00"/>
                </a:solidFill>
                <a:latin typeface="Arial"/>
              </a:rPr>
              <a:t>+ 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]  [ OH</a:t>
            </a:r>
            <a:r>
              <a:rPr b="1" lang="en-US" sz="3400" spc="-1" strike="noStrike" baseline="30000">
                <a:solidFill>
                  <a:srgbClr val="ffff00"/>
                </a:solidFill>
                <a:latin typeface="Arial"/>
              </a:rPr>
              <a:t>-  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]</a:t>
            </a: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=     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[ 1 x 10</a:t>
            </a:r>
            <a:r>
              <a:rPr b="1" lang="en-US" sz="3400" spc="-1" strike="noStrike" baseline="30000">
                <a:solidFill>
                  <a:srgbClr val="ffff00"/>
                </a:solidFill>
                <a:latin typeface="Arial"/>
              </a:rPr>
              <a:t>-7  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][ 1 x 10</a:t>
            </a:r>
            <a:r>
              <a:rPr b="1" lang="en-US" sz="3400" spc="-1" strike="noStrike" baseline="30000">
                <a:solidFill>
                  <a:srgbClr val="ffff00"/>
                </a:solidFill>
                <a:latin typeface="Arial"/>
              </a:rPr>
              <a:t>-7 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]   </a:t>
            </a: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=     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ff9900"/>
                </a:solidFill>
                <a:latin typeface="Arial"/>
              </a:rPr>
              <a:t>1 x 10</a:t>
            </a:r>
            <a:r>
              <a:rPr b="1" lang="en-US" sz="3400" spc="-1" strike="noStrike" baseline="30000">
                <a:solidFill>
                  <a:srgbClr val="ff9900"/>
                </a:solidFill>
                <a:latin typeface="Arial"/>
              </a:rPr>
              <a:t>-14</a:t>
            </a: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cid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51"/>
              </a:spcBef>
              <a:buClr>
                <a:srgbClr val="ff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Increase 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51"/>
              </a:spcBef>
              <a:buClr>
                <a:srgbClr val="ff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Cl 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(g)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+  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 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(l)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66ff"/>
                </a:solidFill>
                <a:latin typeface="Arial"/>
              </a:rPr>
              <a:t>H</a:t>
            </a:r>
            <a:r>
              <a:rPr b="1" lang="en-US" sz="3000" spc="-1" strike="noStrike" baseline="-25000">
                <a:solidFill>
                  <a:srgbClr val="ff66ff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66ff"/>
                </a:solidFill>
                <a:latin typeface="Arial"/>
              </a:rPr>
              <a:t>O</a:t>
            </a:r>
            <a:r>
              <a:rPr b="1" lang="en-US" sz="3000" spc="-1" strike="noStrike" baseline="30000">
                <a:solidFill>
                  <a:srgbClr val="ff66ff"/>
                </a:solidFill>
                <a:latin typeface="Arial"/>
              </a:rPr>
              <a:t>+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(aq)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+  Cl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(aq)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51"/>
              </a:spcBef>
              <a:buClr>
                <a:srgbClr val="ff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More [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] than water &gt; 1 x 10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7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M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51"/>
              </a:spcBef>
              <a:buClr>
                <a:srgbClr val="ff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s 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increases, O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decreases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66ff"/>
                </a:solidFill>
                <a:latin typeface="Arial"/>
              </a:rPr>
              <a:t>[H</a:t>
            </a:r>
            <a:r>
              <a:rPr b="1" lang="en-US" sz="3000" spc="-1" strike="noStrike" baseline="-25000">
                <a:solidFill>
                  <a:srgbClr val="ff66ff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66ff"/>
                </a:solidFill>
                <a:latin typeface="Arial"/>
              </a:rPr>
              <a:t>O</a:t>
            </a:r>
            <a:r>
              <a:rPr b="1" lang="en-US" sz="3000" spc="-1" strike="noStrike" baseline="30000">
                <a:solidFill>
                  <a:srgbClr val="ff66ff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66ff"/>
                </a:solidFill>
                <a:latin typeface="Arial"/>
              </a:rPr>
              <a:t>] &gt; 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[OH</a:t>
            </a:r>
            <a:r>
              <a:rPr b="1" lang="en-US" sz="3000" spc="-1" strike="noStrike" baseline="30000">
                <a:solidFill>
                  <a:srgbClr val="00ffff"/>
                </a:solidFill>
                <a:latin typeface="Arial"/>
              </a:rPr>
              <a:t>-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]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Rectangle 4"/>
          <p:cNvSpPr/>
          <p:nvPr/>
        </p:nvSpPr>
        <p:spPr>
          <a:xfrm>
            <a:off x="6095880" y="4419720"/>
            <a:ext cx="990720" cy="18288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7238880" y="5334120"/>
            <a:ext cx="838440" cy="9144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H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Line 6"/>
          <p:cNvSpPr/>
          <p:nvPr/>
        </p:nvSpPr>
        <p:spPr>
          <a:xfrm>
            <a:off x="4267080" y="2590920"/>
            <a:ext cx="609840" cy="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Base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51"/>
              </a:spcBef>
              <a:buClr>
                <a:srgbClr val="00ffff"/>
              </a:buClr>
              <a:buSzPct val="12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Increase the hydroxide ions (O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)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                  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</a:t>
            </a:r>
            <a:r>
              <a:rPr b="1" lang="en-US" sz="30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O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buClr>
                <a:srgbClr val="00ffff"/>
              </a:buClr>
              <a:buSzPct val="12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NaOH (s)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Na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(aq)    +   O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 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(aq)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buClr>
                <a:srgbClr val="00ffff"/>
              </a:buClr>
              <a:buSzPct val="12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More [O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] than water, 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[OH</a:t>
            </a:r>
            <a:r>
              <a:rPr b="1" lang="en-US" sz="3000" spc="-1" strike="noStrike" baseline="30000">
                <a:solidFill>
                  <a:srgbClr val="00ffff"/>
                </a:solidFill>
                <a:latin typeface="Arial"/>
              </a:rPr>
              <a:t>-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] &gt; 1 x 10</a:t>
            </a:r>
            <a:r>
              <a:rPr b="1" lang="en-US" sz="3000" spc="-1" strike="noStrike" baseline="30000">
                <a:solidFill>
                  <a:srgbClr val="00ffff"/>
                </a:solidFill>
                <a:latin typeface="Arial"/>
              </a:rPr>
              <a:t>-7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M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buClr>
                <a:srgbClr val="00ffff"/>
              </a:buClr>
              <a:buSzPct val="12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When O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increases, 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decreases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[OH</a:t>
            </a:r>
            <a:r>
              <a:rPr b="1" lang="en-US" sz="3000" spc="-1" strike="noStrike" baseline="30000">
                <a:solidFill>
                  <a:srgbClr val="00ffff"/>
                </a:solidFill>
                <a:latin typeface="Symbol"/>
                <a:ea typeface="Symbol"/>
              </a:rPr>
              <a:t>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]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&gt; </a:t>
            </a:r>
            <a:r>
              <a:rPr b="1" lang="en-US" sz="3000" spc="-1" strike="noStrike">
                <a:solidFill>
                  <a:srgbClr val="ff66ff"/>
                </a:solidFill>
                <a:latin typeface="Arial"/>
              </a:rPr>
              <a:t>[H</a:t>
            </a:r>
            <a:r>
              <a:rPr b="1" lang="en-US" sz="3000" spc="-1" strike="noStrike" baseline="-25000">
                <a:solidFill>
                  <a:srgbClr val="ff66ff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66ff"/>
                </a:solidFill>
                <a:latin typeface="Arial"/>
              </a:rPr>
              <a:t>O</a:t>
            </a:r>
            <a:r>
              <a:rPr b="1" lang="en-US" sz="3000" spc="-1" strike="noStrike" baseline="30000">
                <a:solidFill>
                  <a:srgbClr val="ff66ff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66ff"/>
                </a:solidFill>
                <a:latin typeface="Arial"/>
              </a:rPr>
              <a:t>]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6172200" y="5638680"/>
            <a:ext cx="838080" cy="76212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Rectangle 5"/>
          <p:cNvSpPr/>
          <p:nvPr/>
        </p:nvSpPr>
        <p:spPr>
          <a:xfrm>
            <a:off x="7162920" y="4876920"/>
            <a:ext cx="914400" cy="16002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H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Line 6"/>
          <p:cNvSpPr/>
          <p:nvPr/>
        </p:nvSpPr>
        <p:spPr>
          <a:xfrm>
            <a:off x="2590920" y="3657600"/>
            <a:ext cx="533160" cy="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Using K</a:t>
            </a:r>
            <a:r>
              <a:rPr b="1" lang="en-US" sz="4000" spc="-1" strike="noStrike" baseline="-25000">
                <a:solidFill>
                  <a:srgbClr val="ffff00"/>
                </a:solidFill>
                <a:latin typeface="Arial"/>
              </a:rPr>
              <a:t>w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61048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The [O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] of a solution is 1.0 x 10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 3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M. What is the [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]?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016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K</a:t>
            </a:r>
            <a:r>
              <a:rPr b="1" lang="en-US" sz="3000" spc="-1" strike="noStrike" baseline="-25000">
                <a:solidFill>
                  <a:srgbClr val="00ffff"/>
                </a:solidFill>
                <a:latin typeface="Arial"/>
              </a:rPr>
              <a:t>w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= 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66ff"/>
                </a:solidFill>
                <a:latin typeface="Arial"/>
              </a:rPr>
              <a:t>[H</a:t>
            </a:r>
            <a:r>
              <a:rPr b="1" lang="en-US" sz="3000" spc="-1" strike="noStrike" baseline="-25000">
                <a:solidFill>
                  <a:srgbClr val="ff66ff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66ff"/>
                </a:solidFill>
                <a:latin typeface="Arial"/>
              </a:rPr>
              <a:t>O</a:t>
            </a:r>
            <a:r>
              <a:rPr b="1" lang="en-US" sz="3000" spc="-1" strike="noStrike" baseline="30000">
                <a:solidFill>
                  <a:srgbClr val="ff66ff"/>
                </a:solidFill>
                <a:latin typeface="Arial"/>
              </a:rPr>
              <a:t>+ </a:t>
            </a:r>
            <a:r>
              <a:rPr b="1" lang="en-US" sz="3000" spc="-1" strike="noStrike">
                <a:solidFill>
                  <a:srgbClr val="ff66ff"/>
                </a:solidFill>
                <a:latin typeface="Arial"/>
              </a:rPr>
              <a:t>]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[O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]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=   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1.0 x 10</a:t>
            </a:r>
            <a:r>
              <a:rPr b="1" lang="en-US" sz="3000" spc="-1" strike="noStrike" baseline="30000">
                <a:solidFill>
                  <a:srgbClr val="00ffff"/>
                </a:solidFill>
                <a:latin typeface="Arial"/>
              </a:rPr>
              <a:t>-14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0168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016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66ff"/>
                </a:solidFill>
                <a:latin typeface="Arial"/>
              </a:rPr>
              <a:t>[H</a:t>
            </a:r>
            <a:r>
              <a:rPr b="1" lang="en-US" sz="3000" spc="-1" strike="noStrike" baseline="-25000">
                <a:solidFill>
                  <a:srgbClr val="ff66ff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66ff"/>
                </a:solidFill>
                <a:latin typeface="Arial"/>
              </a:rPr>
              <a:t>O</a:t>
            </a:r>
            <a:r>
              <a:rPr b="1" lang="en-US" sz="3000" spc="-1" strike="noStrike" baseline="30000">
                <a:solidFill>
                  <a:srgbClr val="ff66ff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66ff"/>
                </a:solidFill>
                <a:latin typeface="Arial"/>
              </a:rPr>
              <a:t>]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=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u="sng">
                <a:solidFill>
                  <a:srgbClr val="00ffff"/>
                </a:solidFill>
                <a:uFillTx/>
                <a:latin typeface="Arial"/>
              </a:rPr>
              <a:t>1.0 x 10</a:t>
            </a:r>
            <a:r>
              <a:rPr b="1" lang="en-US" sz="3000" spc="-1" strike="noStrike" baseline="30000">
                <a:solidFill>
                  <a:srgbClr val="00ffff"/>
                </a:solidFill>
                <a:latin typeface="Arial"/>
              </a:rPr>
              <a:t>-14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0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[O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]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016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66ff"/>
                </a:solidFill>
                <a:latin typeface="Arial"/>
              </a:rPr>
              <a:t>[H</a:t>
            </a:r>
            <a:r>
              <a:rPr b="1" lang="en-US" sz="3000" spc="-1" strike="noStrike" baseline="-25000">
                <a:solidFill>
                  <a:srgbClr val="ff66ff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66ff"/>
                </a:solidFill>
                <a:latin typeface="Arial"/>
              </a:rPr>
              <a:t>O</a:t>
            </a:r>
            <a:r>
              <a:rPr b="1" lang="en-US" sz="3000" spc="-1" strike="noStrike" baseline="30000">
                <a:solidFill>
                  <a:srgbClr val="ff66ff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66ff"/>
                </a:solidFill>
                <a:latin typeface="Arial"/>
              </a:rPr>
              <a:t>]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=     </a:t>
            </a: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 </a:t>
            </a:r>
            <a:r>
              <a:rPr b="1" lang="en-US" sz="3000" spc="-1" strike="noStrike" u="sng">
                <a:solidFill>
                  <a:srgbClr val="00ffff"/>
                </a:solidFill>
                <a:uFillTx/>
                <a:latin typeface="Arial"/>
              </a:rPr>
              <a:t>1.0 x 10</a:t>
            </a:r>
            <a:r>
              <a:rPr b="1" lang="en-US" sz="3000" spc="-1" strike="noStrike" baseline="30000">
                <a:solidFill>
                  <a:srgbClr val="00ffff"/>
                </a:solidFill>
                <a:latin typeface="Arial"/>
              </a:rPr>
              <a:t>-14</a:t>
            </a: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	</a:t>
            </a: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=  </a:t>
            </a:r>
            <a:r>
              <a:rPr b="1" lang="en-US" sz="3000" spc="-1" strike="noStrike">
                <a:solidFill>
                  <a:srgbClr val="ff66ff"/>
                </a:solidFill>
                <a:latin typeface="Arial"/>
              </a:rPr>
              <a:t>1.0 x 10</a:t>
            </a:r>
            <a:r>
              <a:rPr b="1" lang="en-US" sz="3000" spc="-1" strike="noStrike" baseline="30000">
                <a:solidFill>
                  <a:srgbClr val="ff66ff"/>
                </a:solidFill>
                <a:latin typeface="Arial"/>
              </a:rPr>
              <a:t>-11</a:t>
            </a:r>
            <a:r>
              <a:rPr b="1" lang="en-US" sz="3000" spc="-1" strike="noStrike">
                <a:solidFill>
                  <a:srgbClr val="ff66ff"/>
                </a:solidFill>
                <a:latin typeface="Arial"/>
              </a:rPr>
              <a:t> M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0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1.0 x 10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 3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0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earning Check pH1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he [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] of lemon juice is 1.0 x 10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-3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M.  What is the [OH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] of the solution?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1) 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1.0 x 10</a:t>
            </a:r>
            <a:r>
              <a:rPr b="1" lang="en-US" sz="3200" spc="-1" strike="noStrike" baseline="30000">
                <a:solidFill>
                  <a:srgbClr val="ff99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 M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2) 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1.0 x 10</a:t>
            </a:r>
            <a:r>
              <a:rPr b="1" lang="en-US" sz="3200" spc="-1" strike="noStrike" baseline="30000">
                <a:solidFill>
                  <a:srgbClr val="ff9900"/>
                </a:solidFill>
                <a:latin typeface="Arial"/>
              </a:rPr>
              <a:t>-11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 M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3) 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1.0 x 10</a:t>
            </a:r>
            <a:r>
              <a:rPr b="1" lang="en-US" sz="3200" spc="-1" strike="noStrike" baseline="30000">
                <a:solidFill>
                  <a:srgbClr val="ff9900"/>
                </a:solidFill>
                <a:latin typeface="Arial"/>
              </a:rPr>
              <a:t>11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 M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AutoShape 4">
            <a:hlinkClick r:id="rId1" action="ppaction://hlinksldjump"/>
          </p:cNvPr>
          <p:cNvSpPr/>
          <p:nvPr/>
        </p:nvSpPr>
        <p:spPr>
          <a:xfrm>
            <a:off x="7162920" y="54864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olution pH1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he [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] of lemon juice is 1.0 x 10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- 3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M.  What is the [OH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]?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[O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]  =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1.0 x 10 </a:t>
            </a:r>
            <a:r>
              <a:rPr b="1" lang="en-US" sz="3000" spc="-1" strike="noStrike" baseline="30000">
                <a:solidFill>
                  <a:srgbClr val="00ffff"/>
                </a:solidFill>
                <a:latin typeface="Arial"/>
              </a:rPr>
              <a:t>-14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1.0 x 10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-11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M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1.0 x 10 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 3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Line 4"/>
          <p:cNvSpPr/>
          <p:nvPr/>
        </p:nvSpPr>
        <p:spPr>
          <a:xfrm>
            <a:off x="2209680" y="4343400"/>
            <a:ext cx="24386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16T22:30:38Z</dcterms:created>
  <dc:creator>Karen Timberlake</dc:creator>
  <dc:description/>
  <dc:language>en-US</dc:language>
  <cp:lastModifiedBy>LEGION</cp:lastModifiedBy>
  <dcterms:modified xsi:type="dcterms:W3CDTF">2017-01-26T09:13:18Z</dcterms:modified>
  <cp:revision>4</cp:revision>
  <dc:subject/>
  <dc:title>Chapter 9 Acids and Ba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1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>khemist@aol.com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CHMSTRY\ChemModules\HTMLPPZ\CH9</vt:lpwstr>
  </property>
  <property fmtid="{D5CDD505-2E9C-101B-9397-08002B2CF9AE}" pid="14" name="ScreenSize">
    <vt:r8>1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-1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