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_rels/notesSlide6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5.png" ContentType="image/png"/>
  <Override PartName="/ppt/media/image54.jpeg" ContentType="image/jpeg"/>
  <Override PartName="/ppt/media/image33.png" ContentType="image/png"/>
  <Override PartName="/ppt/media/image53.jpeg" ContentType="image/jpeg"/>
  <Override PartName="/ppt/media/image23.png" ContentType="image/png"/>
  <Override PartName="/ppt/media/image3.png" ContentType="image/png"/>
  <Override PartName="/ppt/media/image56.jpeg" ContentType="image/jpeg"/>
  <Override PartName="/ppt/media/image26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4.png" ContentType="image/png"/>
  <Override PartName="/ppt/media/image16.png" ContentType="image/png"/>
  <Override PartName="/ppt/media/image2.png" ContentType="image/png"/>
  <Override PartName="/ppt/media/image25.png" ContentType="image/png"/>
  <Override PartName="/ppt/media/image6.wmf" ContentType="image/x-wmf"/>
  <Override PartName="/ppt/media/image29.wmf" ContentType="image/x-wmf"/>
  <Override PartName="/ppt/media/image31.wmf" ContentType="image/x-wmf"/>
  <Override PartName="/ppt/media/image28.png" ContentType="image/png"/>
  <Override PartName="/ppt/media/image1.wmf" ContentType="image/x-wmf"/>
  <Override PartName="/ppt/media/image63.wmf" ContentType="image/x-wmf"/>
  <Override PartName="/ppt/media/image62.wmf" ContentType="image/x-wmf"/>
  <Override PartName="/ppt/media/image24.jpeg" ContentType="image/jpeg"/>
  <Override PartName="/ppt/media/image59.png" ContentType="image/png"/>
  <Override PartName="/ppt/media/image44.png" ContentType="image/png"/>
  <Override PartName="/ppt/media/image64.wmf" ContentType="image/x-wmf"/>
  <Override PartName="/ppt/media/image27.wmf" ContentType="image/x-wmf"/>
  <Override PartName="/ppt/media/image15.wmf" ContentType="image/x-wmf"/>
  <Override PartName="/ppt/media/image14.jpeg" ContentType="image/jpeg"/>
  <Override PartName="/ppt/media/image60.png" ContentType="image/png"/>
  <Override PartName="/ppt/media/image58.wmf" ContentType="image/x-wmf"/>
  <Override PartName="/ppt/media/image22.wmf" ContentType="image/x-wmf"/>
  <Override PartName="/ppt/media/image19.png" ContentType="image/png"/>
  <Override PartName="/ppt/media/image21.png" ContentType="image/png"/>
  <Override PartName="/ppt/media/image11.wmf" ContentType="image/x-wmf"/>
  <Override PartName="/ppt/media/image48.wmf" ContentType="image/x-wmf"/>
  <Override PartName="/ppt/media/image7.wmf" ContentType="image/x-wmf"/>
  <Override PartName="/ppt/media/image12.jpeg" ContentType="image/jpeg"/>
  <Override PartName="/ppt/media/image37.wmf" ContentType="image/x-wmf"/>
  <Override PartName="/ppt/media/image9.wmf" ContentType="image/x-wmf"/>
  <Override PartName="/ppt/media/image41.png" ContentType="image/png"/>
  <Override PartName="/ppt/media/image8.wmf" ContentType="image/x-wmf"/>
  <Override PartName="/ppt/media/image38.wmf" ContentType="image/x-wmf"/>
  <Override PartName="/ppt/media/image30.wmf" ContentType="image/x-wmf"/>
  <Override PartName="/ppt/media/image32.wmf" ContentType="image/x-wmf"/>
  <Override PartName="/ppt/media/image34.wmf" ContentType="image/x-wmf"/>
  <Override PartName="/ppt/media/image36.png" ContentType="image/png"/>
  <Override PartName="/ppt/media/image61.wmf" ContentType="image/x-wmf"/>
  <Override PartName="/ppt/media/image39.png" ContentType="image/png"/>
  <Override PartName="/ppt/media/image18.png" ContentType="image/png"/>
  <Override PartName="/ppt/media/image40.wmf" ContentType="image/x-wmf"/>
  <Override PartName="/ppt/media/image42.png" ContentType="image/png"/>
  <Override PartName="/ppt/media/image43.png" ContentType="image/png"/>
  <Override PartName="/ppt/media/image20.wmf" ContentType="image/x-wmf"/>
  <Override PartName="/ppt/media/image57.jpeg" ContentType="image/jpeg"/>
  <Override PartName="/ppt/media/image45.wmf" ContentType="image/x-wmf"/>
  <Override PartName="/ppt/media/image46.wmf" ContentType="image/x-wmf"/>
  <Override PartName="/ppt/media/image13.jpeg" ContentType="image/jpeg"/>
  <Override PartName="/ppt/media/image47.wmf" ContentType="image/x-wmf"/>
  <Override PartName="/ppt/media/image49.png" ContentType="image/png"/>
  <Override PartName="/ppt/media/image50.jpeg" ContentType="image/jpeg"/>
  <Override PartName="/ppt/media/image51.jpeg" ContentType="image/jpeg"/>
  <Override PartName="/ppt/media/image52.jpeg" ContentType="image/jpeg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2794320" y="8710560"/>
            <a:ext cx="12711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6CB4300-5F70-453C-86E4-D5B825420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66 Helvetica MediumItalic"/>
              </a:rPr>
              <a:t>The Chemistry of 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66 Helvetica MediumItalic"/>
              </a:rPr>
              <a:t>Chemistry I – Chapter 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66 Helvetica MediumItalic"/>
              </a:rPr>
              <a:t>Chemistry I HD – Chapter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66 Helvetica MediumItalic"/>
              </a:rPr>
              <a:t>ICP – Chapter 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66 Helvetica MediumItalic"/>
              </a:rPr>
              <a:t>SAVE PAPER AND INK!!! When you print out the notes on PowerPoint, print "Handouts" instead of "Slides" in the print setup. Also, turn off the backgrounds (Tools&gt;Options&gt;Print&gt;UNcheck "Background Printing")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roperties of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OH- ions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te bitter, chal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electrol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l soapy, slipp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 with acids to form salts and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greater than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s red litmus paper to blue     “Basic Blu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me Common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OH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dium hydroxid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y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OH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tassium hydroxid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iquid so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(OH)2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rium hydroxid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abilizer for pla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g(OH)2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gnesium hydroxid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“MOM” Milk of magn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(OH)3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uminum hydroxid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alox (antac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/Base 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 #1:  Arrhenius (traditional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– produce H+ ions (or hydronium ions H3O+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s – produce OH-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oblem:  some bases don’t have hydroxide ions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henius acid is a substance that produces H+ (H3O+)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henius base is a substance that produces OH-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/Base 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efinition #2: Brønsted – Low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s – proton do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ses – proton accep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 “proton” is really just a hydrogen atom that has lost it’s electro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rønsted-Lowry acid is a proton do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rønsted-Lowry base is a proton accep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jugate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jugate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-BASE THE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rønsted definition means NH3 is a BASE in water — and water is itself an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njugate 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 the acid, base, conjugate acid, and conjugate base in each rea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Cl + OH-     Cl- + H2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 + H2SO4    HSO4- + H3O+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&amp; Base 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wis acid - a substance that accepts an electron p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wis base - a substance that donates an electron p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 #3 – Lew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tion of hydronium ion is also an excellent exam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wis Acids &amp;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pair of the new O-H bond originates on the Lewis 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wis Acid/Bas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wis Acid-Base Interactions in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me group in hemoglobin can interact with O2 and 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e ion in hemoglobin is a Lewis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2 and CO can act as Lewis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m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 scale is a way of expressing the strength of acids and bases.  Instead of using very small numbers, we just use the NEGATIVE power of 10 on the Molarity of the H+ (or OH-) ion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 7  = aci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7 = neutr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7 =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 of Common Sub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ng the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= - log 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Remember that the [ ] mean Molarity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If [H+] = 1 X 10-1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= - log 1 X 10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= - (- 10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If [H+] = 1.8 X 10-5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= - log 1.8 X 10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= - (- 4.7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= 4.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s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pH of the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A 0.15 M solution of Hydrochlo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A 3.00 X 10-7 M solution of Nit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calculations – Solving for 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pH of Coke is 3.12, [H+] = 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pH = - log [H+] 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H = log 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antilog (10x) of bot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ides and 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-pH  = 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+] = 10-3.12 = 7.6 x 10-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** to find antilog on your calculator, look for “Shift” or “2nd function” and then the log but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calculations – Solving for 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olution has a pH of 8.5.  What is the Molarity of hydrogen ions in the solu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= - log 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5 = - log 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.5 = log 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log -8.5 = antilog (log [H+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-8.5 = 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16 X 10-9 = 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About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 can function as both an ACID and a 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pure water there can be AUTOIO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librium constant for water = K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w  =  [H3O+] [OH-] =  1.00 x 10-14 at 25 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About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w  =  [H3O+] [OH-] =  1.00 x 10-14 at 25 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neutral solution [H3O+] =  [OH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Kw  =  [H3O+]2 = [OH-]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o [H3O+] =  [OH-]  = 1.00 x 10-7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io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acids and bases are opposites, pH and pOH are opposit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H does not really exist, but it is useful for changing bases to 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H looks at the perspective of a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H = - log [OH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pH and pOH are on opposite end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+ pOH =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OH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3O+], [OH-] and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pH of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0010 M NaOH soluti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OH-] = 0.0010 (or 1.0 X 10-3 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H = - log 0.0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H = 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 = 14 – 3 = 1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 Kw = [H3O+] [OH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3O+]  =  1.0 x 10-1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= - log (1.0 x 10-11) = 11.0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 of rainwater collected in a certain region of the northeastern United States on a particular day was 4.82.  What is the H+ ion concentration of the rainwa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OH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0-p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0-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Log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Log[OH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4 - p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4 -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0 x 10-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OH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0 x 10-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ng [H3O+], pH, [OH-], and p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 1:    A chemist dilutes concentrated hydrochloric acid to make two solutions: (a) 3.0 M and (b) 0.0024 M. Calculate the [H3O+], pH, [OH-], and pOH of the two solutions at 25°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 2:  What is the [H3O+], [OH-], and pOH of a solution with pH = 3.67? Is this an acid, base, or neutr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 3:  Problem #2 with pH = 8.05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NO3, HCl, H2SO4 and HClO4 are among the only known strong ac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and Weak Acids/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ength of an acid (or base) is determined by the amount of ION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and Weak Acids/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ly divide acids and bases into STRONG or WEAK 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ACID:  HNO3 (aq)   +  H2O (l)   -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3O+ (aq)   +   NO3-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NO3 is about 100% dissociated i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k acids are much less than 100% ionized i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best known is acetic acid = CH3CO2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and Weak Acids/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rong Base:  100% dissociated i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OH (aq)   ---&gt;  Na+ (aq)  +   OH-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rong and Weak Acids/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ther common strong bases include KOH and Ca(OH)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O (lime) + H2O  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(OH)2 (slaked l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k base:  less than 100% ionized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best known weak bases is ammo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H3 (aq) + H2O (l)   NH4+ (aq) + OH-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and Weak Acids/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eak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quilibria Involving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eak 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nsider acetic acid, HC2H3O2 (HOA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C2H3O2 + H2O   H3O+    +     C2H3O2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Conj.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K is designated Ka for AC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 gives the ratio of ions (split up) to molecules (don’t split u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ization Constants for Acids/Ba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ju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str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str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librium Constants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Weak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k acid has Ka &lt;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s to small [H3O+] and a pH of 2 - 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librium Constants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Weak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k base has Kb &lt;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s to small [OH-] and a pH of 12 - 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 of Ka, Kb, [H3O+] and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libria Involving A Weak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ve 1.00 M HOAc. Calc. the equilibrium concs. of HOAc, H3O+, OAc-, and the 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. Define equilibrium concs. in ICE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OAc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3O+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OAc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lib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0-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libria Involving A Weak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. Write Ka expres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ve 1.00 M HOAc. Calc. the equilibrium concs. of HOAc, H3O+, OAc-, and the 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quadratic. Solve using quadratic formul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you can make an approximation if x is very small! (Rule of thumb: 10-5 or smaller is o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ave a sour taste.  Vinegar is a solution of acetic acid.  Cit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ruits contain citric ac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act with certain metals to produce hydrogen g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act with carbonates and bicarbonates to produce carb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ioxide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ave a bitter tas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el slippery.  Many soaps contain b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libria Involving A Weak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. Solve Ka expres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ve 1.00 M HOAc. Calc. the equilibrium concs. of HOAc, H3O+, OAc-, and the 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assume x is very small because Ka is so sm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we can more easily solve this approximate expres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xim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K is really small, the equilibrium concentrations will be nearly the same as the initial concentr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0.20 – x is just about 0.20 if x is really sm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K is 10-5 or smaller (10-6, 10-7, etc.), you should approximate. Otherwise, you have to use the quadr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libria Involving A Weak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. Solve Ka approximate expres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ve 1.00 M HOAc. Calc. the equilibrium concs. of HOAc, H3O+, OAc-, and the 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 =  [H3O+] =  [OAc-] = 4.2 x 10-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= - log [H3O+]  =  -log (4.2 x 10-3)  =  2.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quilibria Involving A Weak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lculate the pH of a 0.0010 M solution of formic acid, HCO2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CO2H   +   H2O    HCO2-   +   H3O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a = 1.8 x 10-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pproximate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H3O+] = 4.2 x 10-4 M, pH = 3.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act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H3O+] = [HCO2-]  =  3.4 x 10-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HCO2H]  =  0.0010 - 3.4 x 10-4 = 0.0007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 = 3.4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quilibria Involving A Weak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ou have 0.010 M NH3. Calc. the 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H3  +  H2O    NH4+   +   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b = 1.8 x 10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1. Define equilibrium concs. in ICE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NH3]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NH4+]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OH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itial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hang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quilib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.010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x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x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.010 - x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quilibria Involving A Weak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ou have 0.010 M NH3. Calc. the 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H3  +  H2O    NH4+   +   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b = 1.8 x 10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1. Define equilibrium concs. in ICE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NH3]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NH4+]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OH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itial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hang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quilib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.010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x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x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.010 - x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libria Involving A Weak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ve 0.010 M NH3. Calc. the 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H3  +  H2O    NH4+   +   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b = 1.8 x 10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. Solve the equilibrium ex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e x is small, 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= [OH-] = [NH4+] = 4.2 x 10-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[NH3] = 0.010 - 4.2 x 10-4 ≈  0.0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roximation is val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quilibria Involving A Weak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ou have 0.010 M NH3. Calc. the 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H3  +  H2O    NH4+   +   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b = 1.8 x 10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3. Calculate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OH-] =  4.2 x 10-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 pOH = - log [OH-]  =  3.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ecause pH + pOH = 14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 = 10.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cid/Base Reactions: 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 te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re are several ways to test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lue litmus paper (red = ac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d litmus paper (blue = bas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 paper (multi-color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 meter (7 is neutral, &lt;7 acid, &gt;7 b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niversal indicator (multi-color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dicators like phenolphthal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tural indicators like red cabbage, radis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roperties of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H+ (as H3O+) ions in water  (the hydronium ion is a hydrogen ion attached to a water molecu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te sour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ode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lyt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 with bases to form a salt and wa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is less than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s blue litmus paper to red  “Blue to Red A-CI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per te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per tests like litmus paper and pH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a stirring rod into the solution and st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the stirring rod out, and place a drop of the solution from the end of the stirring rod onto a piece of the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and record the color change.  Note what the color indic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hould only use a small portion of the paper.  You can use one piece of paper for several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s the voltage of the electroly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ts the voltage to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cheap, accu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be calibrated with a buffer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indic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ors are dyes that can be added that will change color in the presence of an acid or 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indicators only work in a specific range of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the drops are added, the sample is ru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dyes are natural, like radish skin or red cabb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-BASE REACTION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it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C2O4(aq)   +   2 NaOH(aq)  -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                       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2C2O4(aq)  +  2 H2O(li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rry out this reaction using a TIT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up for titrating an acid with a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Add solution from the bur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Reagent (base) reacts with compound (acid) in solution in the flas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or shows when exact stoichiometric reaction has occurred. (Acid = B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called NEUTRAL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.62 mL of NaOH is neutralized with 25.2 mL of 0.0998 M HCl by titration to an equivalence point.  What is the concentration of the NaOH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PROBLEM #1:   Standardize a solution of NaOH — i.e., accurately determine its concent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:  You have 50.0 mL of 3.0 M NaOH and you want 0.50 M NaOH.  What do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water to the 3.0 M solution to lower its concentration to 0.50 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lute the solution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:  You have 50.0 mL of 3.0 M NaOH and you want 0.50 M NaOH.  What do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how much w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we ad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 Nomenclature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Oxygen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/Oxyg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asy way to remember which goes with whic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cafeteria, you ATE something ICk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:  You have 50.0 mL of 3.0 M NaOH and you want 0.50 M NaOH.  What do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water is add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mportant point is that -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:  You have 50.0 mL of 3.0 M NaOH and you want 0.50 M NaOH.  What do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unt of NaOH in original solution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• V 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.0 mol/L)(0.050 L)  =  0.5 M NaOH  X  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unt of NaOH in final solution must also = 0.15 mol Na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of final solution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0.15 mol NaOH)  /  (0.50 M)  = 0.30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     300 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:  You have 50.0 mL of 3.0 M NaOH and you want 0.50 M NaOH.  What do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lus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250 mL of water to 50.0 mL of 3.0 M NaOH to make 300 mL of 0.50 M NaOH.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hortc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1 • V1  =  M2 • V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paring Solutions by Di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try this dilution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ve a stock bottle of hydrochloric acid, which is 12.1 M.  You need 400. mL of 0.10 M HCl.  How much of the acid and how much water will you ne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Br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C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S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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ydrobrom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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rbon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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ulfurous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 Nomenclature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ame ‘Em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I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Cl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2S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N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IO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90720" y="41306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12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124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8345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90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124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8345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12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847"/>
            </a:gs>
            <a:gs pos="100000">
              <a:srgbClr val="cc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182800" y="166680"/>
            <a:ext cx="1287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B08BC-27C4-44CE-8E9C-57495CB1772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png"/><Relationship Id="rId3" Type="http://schemas.openxmlformats.org/officeDocument/2006/relationships/image" Target="../media/image56.jpeg"/><Relationship Id="rId4" Type="http://schemas.openxmlformats.org/officeDocument/2006/relationships/image" Target="../media/image5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63.wmf"/><Relationship Id="rId2" Type="http://schemas.openxmlformats.org/officeDocument/2006/relationships/image" Target="../media/image6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762120" y="2514600"/>
            <a:ext cx="7785000" cy="41781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716292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cfeb9"/>
                </a:solidFill>
                <a:latin typeface="Comic Sans MS"/>
              </a:rPr>
              <a:t>The Chemistry of Acids and Bases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324120" y="1523880"/>
            <a:ext cx="266724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feb9"/>
                </a:solidFill>
                <a:latin typeface="Arial"/>
              </a:rPr>
              <a:t>Chemistry I – Chapter 1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feb9"/>
                </a:solidFill>
                <a:latin typeface="Arial"/>
              </a:rPr>
              <a:t>Chemistry I HD – Chapter 16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feb9"/>
                </a:solidFill>
                <a:latin typeface="Arial"/>
              </a:rPr>
              <a:t>ICP – Chapter 2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3124080" y="1981080"/>
            <a:ext cx="3200400" cy="14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VE PAPER AND INK!!! When you print out the notes on PowerPoint, print "Handouts" instead of "Slides" in the print setup. Also, turn off the backgrounds (Tools&gt;Options&gt;Print&gt;UNcheck "Background Printing")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Comic Sans MS"/>
              </a:rPr>
              <a:t>Some Properties of Ba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88"/>
              </a:spcBef>
              <a:buClr>
                <a:srgbClr val="cc66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roduce OH</a:t>
            </a:r>
            <a:r>
              <a:rPr b="0" lang="en-US" sz="21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ions in water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88"/>
              </a:spcBef>
              <a:buClr>
                <a:srgbClr val="cc66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aste bitter, chalky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88"/>
              </a:spcBef>
              <a:buClr>
                <a:srgbClr val="cc66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re electrolyte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88"/>
              </a:spcBef>
              <a:buClr>
                <a:srgbClr val="cc66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Feel soapy, slippery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88"/>
              </a:spcBef>
              <a:buClr>
                <a:srgbClr val="cc66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React with acids to form salts and water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88"/>
              </a:spcBef>
              <a:buClr>
                <a:srgbClr val="cc66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H greater than 7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88"/>
              </a:spcBef>
              <a:buClr>
                <a:srgbClr val="cc66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urns red litmus paper to blue     “</a:t>
            </a:r>
            <a:r>
              <a:rPr b="0" lang="en-US" sz="2100" spc="-1" strike="noStrike">
                <a:solidFill>
                  <a:srgbClr val="00279f"/>
                </a:solidFill>
                <a:latin typeface="Arial"/>
              </a:rPr>
              <a:t>B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sic </a:t>
            </a:r>
            <a:r>
              <a:rPr b="0" lang="en-US" sz="2100" spc="-1" strike="noStrike">
                <a:solidFill>
                  <a:srgbClr val="00279f"/>
                </a:solidFill>
                <a:latin typeface="Arial"/>
              </a:rPr>
              <a:t>B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lue”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Object 4" descr=""/>
          <p:cNvPicPr/>
          <p:nvPr/>
        </p:nvPicPr>
        <p:blipFill>
          <a:blip r:embed="rId1"/>
          <a:stretch/>
        </p:blipFill>
        <p:spPr>
          <a:xfrm>
            <a:off x="6172200" y="2209680"/>
            <a:ext cx="9968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38160">
            <a:solidFill>
              <a:srgbClr val="fc0128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Comic Sans MS"/>
              </a:rPr>
              <a:t>Some Common Ba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NaOH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sodium hydroxide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ly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KOH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potassium hydroxide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liquid soap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Ba(OH)</a:t>
            </a:r>
            <a:r>
              <a:rPr b="0" lang="en-US" sz="2100" spc="-1" strike="noStrike" baseline="-25000">
                <a:solidFill>
                  <a:srgbClr val="cecece"/>
                </a:solidFill>
                <a:latin typeface="Arial"/>
              </a:rPr>
              <a:t>2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  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barium hydroxide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stabilizer for plastic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Mg(OH)</a:t>
            </a:r>
            <a:r>
              <a:rPr b="0" lang="en-US" sz="2100" spc="-1" strike="noStrike" baseline="-25000">
                <a:solidFill>
                  <a:srgbClr val="cecece"/>
                </a:solidFill>
                <a:latin typeface="Arial"/>
              </a:rPr>
              <a:t>2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magnesium hydroxide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“MOM” Milk of magnesia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    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Al(OH)</a:t>
            </a:r>
            <a:r>
              <a:rPr b="0" lang="en-US" sz="2100" spc="-1" strike="noStrike" baseline="-25000">
                <a:solidFill>
                  <a:srgbClr val="cecece"/>
                </a:solidFill>
                <a:latin typeface="Arial"/>
              </a:rPr>
              <a:t>3</a:t>
            </a:r>
            <a:r>
              <a:rPr b="0" lang="en-US" sz="2100" spc="-1" strike="noStrike" baseline="-25000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aluminum hydroxide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Maalox (antacid)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Comic Sans MS"/>
              </a:rPr>
              <a:t>Acid/Base defini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c1ce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Definition #1:  Arrhenius (traditional)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ids – produce 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ons (or hydronium ions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ses – produce O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problem:  some bases don’t have hydroxide ions!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335160" y="304920"/>
            <a:ext cx="856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Arrhenius acid is a substance that produces H</a:t>
            </a:r>
            <a:r>
              <a:rPr b="0" lang="en-US" sz="2400" spc="-1" strike="noStrike" baseline="30000">
                <a:solidFill>
                  <a:srgbClr val="fcfeb9"/>
                </a:solidFill>
                <a:latin typeface="Arial"/>
              </a:rPr>
              <a:t>+ </a:t>
            </a: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(H</a:t>
            </a:r>
            <a:r>
              <a:rPr b="0" lang="en-US" sz="2400" spc="-1" strike="noStrike" baseline="-25000">
                <a:solidFill>
                  <a:srgbClr val="fcfeb9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O</a:t>
            </a:r>
            <a:r>
              <a:rPr b="0" lang="en-US" sz="2400" spc="-1" strike="noStrike" baseline="30000">
                <a:solidFill>
                  <a:srgbClr val="fcfeb9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) in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cha56011_0407L"/>
          <p:cNvPicPr/>
          <p:nvPr/>
        </p:nvPicPr>
        <p:blipFill>
          <a:blip r:embed="rId1"/>
          <a:stretch/>
        </p:blipFill>
        <p:spPr>
          <a:xfrm>
            <a:off x="228600" y="838080"/>
            <a:ext cx="8686800" cy="1812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cha56011_0408L"/>
          <p:cNvPicPr/>
          <p:nvPr/>
        </p:nvPicPr>
        <p:blipFill>
          <a:blip r:embed="rId2"/>
          <a:stretch/>
        </p:blipFill>
        <p:spPr>
          <a:xfrm>
            <a:off x="228600" y="3886200"/>
            <a:ext cx="8686800" cy="21178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317520" y="3352680"/>
            <a:ext cx="791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Arrhenius base is a substance that produces OH</a:t>
            </a:r>
            <a:r>
              <a:rPr b="0" lang="en-US" sz="2400" spc="-1" strike="noStrike" baseline="30000">
                <a:solidFill>
                  <a:srgbClr val="fcfeb9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n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Comic Sans MS"/>
              </a:rPr>
              <a:t>Acid/Base Defini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c1ce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Definition #2: Brønsted – Low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Acids – proton don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Bases – proton accep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A “proton” is really just a hydrogen atom that has lost it’s electron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hydrogen"/>
          <p:cNvPicPr/>
          <p:nvPr/>
        </p:nvPicPr>
        <p:blipFill>
          <a:blip r:embed="rId1"/>
          <a:stretch/>
        </p:blipFill>
        <p:spPr>
          <a:xfrm>
            <a:off x="6248520" y="3809880"/>
            <a:ext cx="25905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1546920" y="228600"/>
            <a:ext cx="7128360" cy="12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B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sted-Low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c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a proton don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B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sted-Low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6ff33"/>
                </a:solidFill>
                <a:latin typeface="Arial"/>
              </a:rPr>
              <a:t>b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a proton acce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cha56011_0408L"/>
          <p:cNvPicPr/>
          <p:nvPr/>
        </p:nvPicPr>
        <p:blipFill>
          <a:blip r:embed="rId1"/>
          <a:stretch/>
        </p:blipFill>
        <p:spPr>
          <a:xfrm>
            <a:off x="0" y="1849320"/>
            <a:ext cx="9144000" cy="22291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9"/>
          <p:cNvSpPr/>
          <p:nvPr/>
        </p:nvSpPr>
        <p:spPr>
          <a:xfrm>
            <a:off x="3063600" y="480060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7629480" y="4622760"/>
            <a:ext cx="161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conjugate</a:t>
            </a:r>
            <a:r>
              <a:rPr b="0" lang="en-US" sz="2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536040" y="480060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5638680" y="4635360"/>
            <a:ext cx="161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njugate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3de8"/>
                </a:solidFill>
                <a:latin typeface="Comic Sans MS"/>
              </a:rPr>
              <a:t>ACID-BASE THEORI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5790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Brønsted definition means N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s 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BA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water — and water is itself a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AC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1600200" y="3124080"/>
            <a:ext cx="5977080" cy="80964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sp>
        <p:nvSpPr>
          <p:cNvPr id="108" name="Line 6"/>
          <p:cNvSpPr/>
          <p:nvPr/>
        </p:nvSpPr>
        <p:spPr>
          <a:xfrm>
            <a:off x="609480" y="1676520"/>
            <a:ext cx="7594560" cy="0"/>
          </a:xfrm>
          <a:prstGeom prst="line">
            <a:avLst/>
          </a:prstGeom>
          <a:ln w="255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17M02AN2.avi" descr=""/>
          <p:cNvPicPr/>
          <p:nvPr/>
        </p:nvPicPr>
        <p:blipFill>
          <a:blip r:embed="rId2"/>
          <a:stretch/>
        </p:blipFill>
        <p:spPr>
          <a:xfrm>
            <a:off x="2438280" y="4191120"/>
            <a:ext cx="3886200" cy="25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37" nodeType="clickEffect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0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18ffd"/>
                </a:solidFill>
                <a:latin typeface="Comic Sans MS"/>
              </a:rPr>
              <a:t>Conjugate Pair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216000" y="1536840"/>
            <a:ext cx="8712000" cy="410184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sp>
        <p:nvSpPr>
          <p:cNvPr id="112" name="Line 4"/>
          <p:cNvSpPr/>
          <p:nvPr/>
        </p:nvSpPr>
        <p:spPr>
          <a:xfrm>
            <a:off x="914400" y="1447920"/>
            <a:ext cx="7391520" cy="0"/>
          </a:xfrm>
          <a:prstGeom prst="line">
            <a:avLst/>
          </a:prstGeom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</a:rPr>
              <a:t>Learning Check!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bel the acid, base, conjugate acid, and conjugate base in each reac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1887480" y="3079440"/>
            <a:ext cx="4640400" cy="668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HCl + O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rebuchet MS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  Cl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rebuchet MS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+ 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1714680" y="4848120"/>
            <a:ext cx="5805360" cy="668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 + 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O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  HSO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</a:rPr>
              <a:t>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rebuchet MS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+ 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rebuchet MS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4dc"/>
                </a:solidFill>
                <a:latin typeface="Comic Sans MS"/>
              </a:rPr>
              <a:t>Acids &amp; Base Definition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wis acid - a substance that accepts an electron pai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17M11AN2.avi" descr=""/>
          <p:cNvPicPr/>
          <p:nvPr/>
        </p:nvPicPr>
        <p:blipFill>
          <a:blip r:embed="rId1"/>
          <a:stretch/>
        </p:blipFill>
        <p:spPr>
          <a:xfrm>
            <a:off x="6019920" y="1523880"/>
            <a:ext cx="2819160" cy="2349720"/>
          </a:xfrm>
          <a:prstGeom prst="rect">
            <a:avLst/>
          </a:prstGeom>
          <a:ln w="0">
            <a:noFill/>
          </a:ln>
        </p:spPr>
      </p:pic>
      <p:sp>
        <p:nvSpPr>
          <p:cNvPr id="121" name="Line 4"/>
          <p:cNvSpPr/>
          <p:nvPr/>
        </p:nvSpPr>
        <p:spPr>
          <a:xfrm>
            <a:off x="609480" y="990720"/>
            <a:ext cx="79250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5"/>
          <p:cNvSpPr/>
          <p:nvPr/>
        </p:nvSpPr>
        <p:spPr>
          <a:xfrm>
            <a:off x="711360" y="990720"/>
            <a:ext cx="7797600" cy="0"/>
          </a:xfrm>
          <a:prstGeom prst="line">
            <a:avLst/>
          </a:prstGeom>
          <a:ln w="50760">
            <a:solidFill>
              <a:srgbClr val="0034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990720" y="4343400"/>
            <a:ext cx="4587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wis base - a substance that donates an electron p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228600" y="1219320"/>
            <a:ext cx="4800600" cy="642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ceff"/>
                </a:solidFill>
                <a:latin typeface="Arial"/>
              </a:rPr>
              <a:t>Definition #3 – Lew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17M11AN3.avi" descr=""/>
          <p:cNvPicPr/>
          <p:nvPr/>
        </p:nvPicPr>
        <p:blipFill>
          <a:blip r:embed="rId2"/>
          <a:stretch/>
        </p:blipFill>
        <p:spPr>
          <a:xfrm>
            <a:off x="6019920" y="4419720"/>
            <a:ext cx="2895480" cy="217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54" nodeType="clickEffect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7" dur="1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59" nodeType="clickEffect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2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Comic Sans MS"/>
              </a:rPr>
              <a:t>Acid and Bas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686800" cy="440064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sp>
        <p:nvSpPr>
          <p:cNvPr id="49" name="Line 5"/>
          <p:cNvSpPr/>
          <p:nvPr/>
        </p:nvSpPr>
        <p:spPr>
          <a:xfrm>
            <a:off x="838080" y="1600200"/>
            <a:ext cx="746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mation o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hydronium io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s also an excellent exampl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990720" y="15228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feb9"/>
                </a:solidFill>
                <a:latin typeface="Comic Sans MS"/>
              </a:rPr>
              <a:t>Lewis Acids &amp; Bas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028"/>
          <p:cNvSpPr/>
          <p:nvPr/>
        </p:nvSpPr>
        <p:spPr>
          <a:xfrm>
            <a:off x="635040" y="1066680"/>
            <a:ext cx="7873920" cy="0"/>
          </a:xfrm>
          <a:prstGeom prst="line">
            <a:avLst/>
          </a:prstGeom>
          <a:ln w="50760">
            <a:solidFill>
              <a:srgbClr val="7900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029"/>
          <p:cNvSpPr/>
          <p:nvPr/>
        </p:nvSpPr>
        <p:spPr>
          <a:xfrm>
            <a:off x="771480" y="4343400"/>
            <a:ext cx="759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ectron pair of the new O-H bond originates on the Lewis b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030" descr=""/>
          <p:cNvPicPr/>
          <p:nvPr/>
        </p:nvPicPr>
        <p:blipFill>
          <a:blip r:embed="rId1">
            <a:alphaModFix amt="61000"/>
          </a:blip>
          <a:stretch/>
        </p:blipFill>
        <p:spPr>
          <a:xfrm>
            <a:off x="1714680" y="2449440"/>
            <a:ext cx="5676840" cy="165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Lewis Acid/Base Rea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1050840" y="1515960"/>
            <a:ext cx="7026480" cy="496908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4dc"/>
                </a:solidFill>
                <a:latin typeface="Comic Sans MS"/>
              </a:rPr>
              <a:t>Lewis Acid-Base Interactions in Biolo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3504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-2772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heme group in hemoglobin can interact with 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nd CO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Fe ion in hemoglobin is a Lewis aci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nd CO can act as Lewis ba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457200" y="4125960"/>
            <a:ext cx="2895480" cy="206064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</p:pic>
      <p:sp>
        <p:nvSpPr>
          <p:cNvPr id="136" name="Text Box 5"/>
          <p:cNvSpPr/>
          <p:nvPr/>
        </p:nvSpPr>
        <p:spPr>
          <a:xfrm>
            <a:off x="1662120" y="6284880"/>
            <a:ext cx="151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me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17S12AN1.avi" descr=""/>
          <p:cNvPicPr/>
          <p:nvPr/>
        </p:nvPicPr>
        <p:blipFill>
          <a:blip r:embed="rId2"/>
          <a:stretch/>
        </p:blipFill>
        <p:spPr>
          <a:xfrm>
            <a:off x="533520" y="1676520"/>
            <a:ext cx="2666880" cy="24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93" nodeType="clickEffect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6" dur="1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548640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The </a:t>
            </a: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pH scale</a:t>
            </a: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 is a way of expressing the strength of acids and bases.  Instead of using very small numbers, we just use the NEGATIVE power of 10 on the Molarity of the H</a:t>
            </a:r>
            <a:r>
              <a:rPr b="1" lang="en-US" sz="3600" spc="-1" strike="noStrike" baseline="30000">
                <a:solidFill>
                  <a:srgbClr val="fcfeb9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 (or OH</a:t>
            </a:r>
            <a:r>
              <a:rPr b="1" lang="en-US" sz="3600" spc="-1" strike="noStrike" baseline="30000">
                <a:solidFill>
                  <a:srgbClr val="fcfeb9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) ion.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Under 7  = acid</a:t>
            </a:r>
            <a:br>
              <a:rPr sz="3600"/>
            </a:b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   7 = neutral</a:t>
            </a:r>
            <a:br>
              <a:rPr sz="3600"/>
            </a:b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Over 7 = bas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Zumdahl16_03"/>
          <p:cNvPicPr/>
          <p:nvPr/>
        </p:nvPicPr>
        <p:blipFill>
          <a:blip r:embed="rId1"/>
          <a:stretch/>
        </p:blipFill>
        <p:spPr>
          <a:xfrm>
            <a:off x="6019920" y="304920"/>
            <a:ext cx="2447640" cy="5943600"/>
          </a:xfrm>
          <a:prstGeom prst="rect">
            <a:avLst/>
          </a:prstGeom>
          <a:ln w="28440">
            <a:solidFill>
              <a:srgbClr val="919191"/>
            </a:solidFill>
            <a:miter/>
          </a:ln>
        </p:spPr>
      </p:pic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18ffd"/>
                </a:solidFill>
                <a:latin typeface="Comic Sans MS"/>
              </a:rPr>
              <a:t>pH of Common Substanc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1"/>
          <a:stretch/>
        </p:blipFill>
        <p:spPr>
          <a:xfrm>
            <a:off x="228600" y="2095560"/>
            <a:ext cx="8750160" cy="281448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Comic Sans MS"/>
              </a:rPr>
              <a:t>Calculating the p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05920" cy="579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pH = - log [H+]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Remember that the [ ] mean Molarity)</a:t>
            </a:r>
            <a:br>
              <a:rPr sz="32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:  If 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= 1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10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 = - log 1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1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 = - (- 10)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 = 1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:  If 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= 1.8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 = - log 1.8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 = - (- 4.74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 = 4.7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Comic Sans MS"/>
              </a:rPr>
              <a:t>Try These!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nd the pH of these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) A 0.15 M solution of Hydrochloric aci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) A 3.00 X 10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-7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M solution of Nitric aci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543800" cy="838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pH calculations – Solving for H+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the pH of Coke is 3.12, [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] = ??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cause pH = - log [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] th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pH = log [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]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ke antilog (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 of both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sides and g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-pH 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=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[H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]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=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3.1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7.6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feb9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ae00"/>
                </a:solidFill>
                <a:latin typeface="Arial"/>
              </a:rPr>
              <a:t>*** to find antilog on your calculator, look for “Shift” or “2</a:t>
            </a:r>
            <a:r>
              <a:rPr b="1" lang="en-US" sz="2000" spc="-1" strike="noStrike" baseline="30000">
                <a:solidFill>
                  <a:srgbClr val="00ae00"/>
                </a:solidFill>
                <a:latin typeface="Arial"/>
              </a:rPr>
              <a:t>nd </a:t>
            </a:r>
            <a:r>
              <a:rPr b="1" lang="en-US" sz="2000" spc="-1" strike="noStrike">
                <a:solidFill>
                  <a:srgbClr val="00ae00"/>
                </a:solidFill>
                <a:latin typeface="Arial"/>
              </a:rPr>
              <a:t>function” and then the log butt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tretch/>
        </p:blipFill>
        <p:spPr>
          <a:xfrm>
            <a:off x="5638680" y="1600200"/>
            <a:ext cx="3276720" cy="321480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pH calculations – Solving for H+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066680"/>
            <a:ext cx="716292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solution has a pH of 8.5.  What is the Molarity of hydrogen ions in the solution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2971800" y="2490840"/>
            <a:ext cx="5715000" cy="4412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 = - log 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.5 = - log 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8.5 = log 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tilog -8.5 = antilog (log 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8.5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16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9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Comic Sans MS"/>
              </a:rPr>
              <a:t>More About Wat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 can function as both an ACID and a BAS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pure water there can b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c0128"/>
                </a:solidFill>
                <a:latin typeface="Comic Sans MS"/>
              </a:rPr>
              <a:t>AUTOIONIZ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028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4708800" cy="24494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</p:pic>
      <p:sp>
        <p:nvSpPr>
          <p:cNvPr id="155" name="Rectangle 1031"/>
          <p:cNvSpPr/>
          <p:nvPr/>
        </p:nvSpPr>
        <p:spPr>
          <a:xfrm>
            <a:off x="662040" y="5410080"/>
            <a:ext cx="7397640" cy="14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quilibrium constant for water = K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=  [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] [OH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] =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c0128"/>
                </a:solidFill>
                <a:latin typeface="Times New Roman"/>
              </a:rPr>
              <a:t>1.00 x 10</a:t>
            </a:r>
            <a:r>
              <a:rPr b="1" lang="en-US" sz="3200" spc="-1" strike="noStrike" baseline="30000">
                <a:solidFill>
                  <a:srgbClr val="fc0128"/>
                </a:solidFill>
                <a:latin typeface="Times New Roman"/>
              </a:rPr>
              <a:t>-1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t 25 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17M03AN1.avi" descr=""/>
          <p:cNvPicPr/>
          <p:nvPr/>
        </p:nvPicPr>
        <p:blipFill>
          <a:blip r:embed="rId2"/>
          <a:stretch/>
        </p:blipFill>
        <p:spPr>
          <a:xfrm>
            <a:off x="5943600" y="2819520"/>
            <a:ext cx="2895480" cy="178092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1038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200" nodeType="clickEffect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03" dur="1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Comic Sans MS"/>
              </a:rPr>
              <a:t>Acid and Bas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4"/>
          <p:cNvSpPr/>
          <p:nvPr/>
        </p:nvSpPr>
        <p:spPr>
          <a:xfrm>
            <a:off x="838080" y="1600200"/>
            <a:ext cx="746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8007120" cy="479592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75960"/>
            <a:ext cx="71629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Comic Sans MS"/>
              </a:rPr>
              <a:t>More About Wat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520" y="3657240"/>
            <a:ext cx="8153280" cy="25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4840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w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=  [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] [OH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] =  1.00 x 10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-14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at 25 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840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a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utral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lution [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=  [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840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w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=  [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[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840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so [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=  [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 = 1.00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7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1320840" y="1003320"/>
            <a:ext cx="6337440" cy="2730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</p:pic>
      <p:sp>
        <p:nvSpPr>
          <p:cNvPr id="161" name="Rectangle 5"/>
          <p:cNvSpPr/>
          <p:nvPr/>
        </p:nvSpPr>
        <p:spPr>
          <a:xfrm>
            <a:off x="1224360" y="1038240"/>
            <a:ext cx="3183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EBTechnical"/>
              </a:rPr>
              <a:t>Autoio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pO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90720" y="1066680"/>
            <a:ext cx="71625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nce acids and bases are opposites, pH and pOH are opposites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H does not really exist, but it is useful for changing bases to pH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H looks at the perspective of a ba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OH = - log [OH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nce pH and pOH are on opposite ends,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H + pOH = 1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7734600" cy="541044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6"/>
          <p:cNvSpPr/>
          <p:nvPr/>
        </p:nvSpPr>
        <p:spPr>
          <a:xfrm>
            <a:off x="1371600" y="5943600"/>
            <a:ext cx="1371600" cy="581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3276720" y="5943600"/>
            <a:ext cx="1371600" cy="581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[H</a:t>
            </a:r>
            <a:r>
              <a:rPr b="1" lang="en-US" sz="3200" spc="-1" strike="noStrike" baseline="30000">
                <a:solidFill>
                  <a:srgbClr val="fcfeb9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5181480" y="5943600"/>
            <a:ext cx="1371600" cy="581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[OH</a:t>
            </a:r>
            <a:r>
              <a:rPr b="1" lang="en-US" sz="3200" spc="-1" strike="noStrike" baseline="30000">
                <a:solidFill>
                  <a:srgbClr val="fcfeb9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7086600" y="5943600"/>
            <a:ext cx="1371600" cy="581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pO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63244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Comic Sans MS"/>
              </a:rPr>
              <a:t>[H</a:t>
            </a:r>
            <a:r>
              <a:rPr b="1" lang="en-US" sz="4000" spc="-1" strike="noStrike" baseline="-25000">
                <a:solidFill>
                  <a:srgbClr val="fc0128"/>
                </a:solidFill>
                <a:latin typeface="Comic Sans MS"/>
              </a:rPr>
              <a:t>3</a:t>
            </a:r>
            <a:r>
              <a:rPr b="1" lang="en-US" sz="4000" spc="-1" strike="noStrike">
                <a:solidFill>
                  <a:srgbClr val="fc0128"/>
                </a:solidFill>
                <a:latin typeface="Comic Sans MS"/>
              </a:rPr>
              <a:t>O</a:t>
            </a:r>
            <a:r>
              <a:rPr b="1" lang="en-US" sz="4000" spc="-1" strike="noStrike" baseline="30000">
                <a:solidFill>
                  <a:srgbClr val="fc0128"/>
                </a:solidFill>
                <a:latin typeface="Comic Sans MS"/>
              </a:rPr>
              <a:t>+</a:t>
            </a:r>
            <a:r>
              <a:rPr b="1" lang="en-US" sz="4000" spc="-1" strike="noStrike">
                <a:solidFill>
                  <a:srgbClr val="fc0128"/>
                </a:solidFill>
                <a:latin typeface="Comic Sans MS"/>
              </a:rPr>
              <a:t>], [OH</a:t>
            </a:r>
            <a:r>
              <a:rPr b="1" lang="en-US" sz="4000" spc="-1" strike="noStrike" baseline="30000">
                <a:solidFill>
                  <a:srgbClr val="fc0128"/>
                </a:solidFill>
                <a:latin typeface="Comic Sans MS"/>
              </a:rPr>
              <a:t>-</a:t>
            </a:r>
            <a:r>
              <a:rPr b="1" lang="en-US" sz="4000" spc="-1" strike="noStrike">
                <a:solidFill>
                  <a:srgbClr val="fc0128"/>
                </a:solidFill>
                <a:latin typeface="Comic Sans MS"/>
              </a:rPr>
              <a:t>] and pH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1536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is the pH of th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.0010 M NaOH solution?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[OH-] = 0.0010 (or 1.0 X 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cece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cecece"/>
                </a:solidFill>
                <a:latin typeface="Arial"/>
              </a:rPr>
              <a:t>pOH = - log 0.00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cece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cecece"/>
                </a:solidFill>
                <a:latin typeface="Arial"/>
              </a:rPr>
              <a:t>pOH = 3</a:t>
            </a:r>
            <a:r>
              <a:rPr b="1" lang="en-US" sz="2400" spc="-1" strike="noStrike">
                <a:solidFill>
                  <a:srgbClr val="cecece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cece"/>
                </a:solidFill>
                <a:latin typeface="Arial"/>
              </a:rPr>
              <a:t>pH  = 14 – 3 = 1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R  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= [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] [O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]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[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]  =  1.0 x 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-1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H = - log (1.0 x 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-1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 = 11.0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Object 5"/>
          <p:cNvGraphicFramePr/>
          <p:nvPr/>
        </p:nvGraphicFramePr>
        <p:xfrm>
          <a:off x="5915160" y="4200480"/>
          <a:ext cx="2622240" cy="231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15160" y="4200480"/>
                    <a:ext cx="2622240" cy="23176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919191"/>
                    </a:outerShdw>
                  </a:effectLst>
                </p:spPr>
              </p:pic>
            </p:oleObj>
          </a:graphicData>
        </a:graphic>
      </p:graphicFrame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919080" y="320760"/>
            <a:ext cx="8180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The pH of rainwater collected in a certain region of the northeastern United States on a particular day was 4.82.  What is the H</a:t>
            </a:r>
            <a:r>
              <a:rPr b="1" lang="en-US" sz="2400" spc="-1" strike="noStrike" baseline="30000">
                <a:solidFill>
                  <a:srgbClr val="66ff33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 ion concentration of the rainwa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Object 3" descr=""/>
          <p:cNvPicPr/>
          <p:nvPr/>
        </p:nvPicPr>
        <p:blipFill>
          <a:blip r:embed="rId1"/>
          <a:stretch/>
        </p:blipFill>
        <p:spPr>
          <a:xfrm>
            <a:off x="152280" y="76320"/>
            <a:ext cx="717840" cy="1368360"/>
          </a:xfrm>
          <a:prstGeom prst="rect">
            <a:avLst/>
          </a:prstGeom>
          <a:ln w="0">
            <a:noFill/>
          </a:ln>
        </p:spPr>
      </p:pic>
      <p:grpSp>
        <p:nvGrpSpPr>
          <p:cNvPr id="177" name="Group 8"/>
          <p:cNvGrpSpPr/>
          <p:nvPr/>
        </p:nvGrpSpPr>
        <p:grpSpPr>
          <a:xfrm>
            <a:off x="152280" y="2987640"/>
            <a:ext cx="8991720" cy="1368360"/>
            <a:chOff x="152280" y="2987640"/>
            <a:chExt cx="8991720" cy="1368360"/>
          </a:xfrm>
        </p:grpSpPr>
        <p:sp>
          <p:nvSpPr>
            <p:cNvPr id="178" name="Text Box 9"/>
            <p:cNvSpPr/>
            <p:nvPr/>
          </p:nvSpPr>
          <p:spPr>
            <a:xfrm>
              <a:off x="838080" y="3232080"/>
              <a:ext cx="8305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ff33"/>
                  </a:solidFill>
                  <a:latin typeface="Arial"/>
                </a:rPr>
                <a:t>The OH</a:t>
              </a:r>
              <a:r>
                <a:rPr b="1" lang="en-US" sz="2400" spc="-1" strike="noStrike" baseline="30000">
                  <a:solidFill>
                    <a:srgbClr val="66ff33"/>
                  </a:solidFill>
                  <a:latin typeface="Arial"/>
                </a:rPr>
                <a:t>-</a:t>
              </a:r>
              <a:r>
                <a:rPr b="1" lang="en-US" sz="2400" spc="-1" strike="noStrike">
                  <a:solidFill>
                    <a:srgbClr val="66ff33"/>
                  </a:solidFill>
                  <a:latin typeface="Arial"/>
                </a:rPr>
                <a:t> ion concentration of a blood sample is </a:t>
              </a:r>
              <a:br>
                <a:rPr sz="2400"/>
              </a:br>
              <a:r>
                <a:rPr b="1" lang="en-US" sz="2400" spc="-1" strike="noStrike">
                  <a:solidFill>
                    <a:srgbClr val="66ff33"/>
                  </a:solidFill>
                  <a:latin typeface="Arial"/>
                </a:rPr>
                <a:t>2.5 x 10</a:t>
              </a:r>
              <a:r>
                <a:rPr b="1" lang="en-US" sz="2400" spc="-1" strike="noStrike" baseline="30000">
                  <a:solidFill>
                    <a:srgbClr val="66ff33"/>
                  </a:solidFill>
                  <a:latin typeface="Arial"/>
                </a:rPr>
                <a:t>-7 </a:t>
              </a:r>
              <a:r>
                <a:rPr b="1" lang="en-US" sz="2400" spc="-1" strike="noStrike">
                  <a:solidFill>
                    <a:srgbClr val="66ff33"/>
                  </a:solidFill>
                  <a:latin typeface="Arial"/>
                </a:rPr>
                <a:t>M.  What is the pH of the blood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9" name="Object 10" descr=""/>
            <p:cNvPicPr/>
            <p:nvPr/>
          </p:nvPicPr>
          <p:blipFill>
            <a:blip r:embed="rId2"/>
            <a:stretch/>
          </p:blipFill>
          <p:spPr>
            <a:xfrm>
              <a:off x="152280" y="2987640"/>
              <a:ext cx="717840" cy="1368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1143000" y="76212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4206960" y="2716200"/>
            <a:ext cx="183960" cy="366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4038480" y="152280"/>
            <a:ext cx="1600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[OH</a:t>
            </a:r>
            <a:r>
              <a:rPr b="1" lang="en-US" sz="3600" spc="-1" strike="noStrike" baseline="30000">
                <a:solidFill>
                  <a:srgbClr val="fc0128"/>
                </a:solidFill>
                <a:latin typeface="Comic Sans MS"/>
              </a:rPr>
              <a:t>-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533520" y="3048120"/>
            <a:ext cx="1752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008a6"/>
                </a:solidFill>
                <a:latin typeface="Comic Sans MS"/>
              </a:rPr>
              <a:t>[H</a:t>
            </a:r>
            <a:r>
              <a:rPr b="1" lang="en-US" sz="3600" spc="-1" strike="noStrike" baseline="30000">
                <a:solidFill>
                  <a:srgbClr val="1008a6"/>
                </a:solidFill>
                <a:latin typeface="Comic Sans MS"/>
              </a:rPr>
              <a:t>+</a:t>
            </a:r>
            <a:r>
              <a:rPr b="1" lang="en-US" sz="3600" spc="-1" strike="noStrike">
                <a:solidFill>
                  <a:srgbClr val="1008a6"/>
                </a:solidFill>
                <a:latin typeface="Comic Sans MS"/>
              </a:rPr>
              <a:t>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7010280" y="3048120"/>
            <a:ext cx="1752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pO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3733920" y="5715000"/>
            <a:ext cx="1752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008a6"/>
                </a:solidFill>
                <a:latin typeface="Comic Sans MS"/>
              </a:rPr>
              <a:t>p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8"/>
          <p:cNvSpPr/>
          <p:nvPr/>
        </p:nvSpPr>
        <p:spPr>
          <a:xfrm flipV="1">
            <a:off x="1981080" y="990360"/>
            <a:ext cx="2133720" cy="19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9"/>
          <p:cNvSpPr/>
          <p:nvPr/>
        </p:nvSpPr>
        <p:spPr>
          <a:xfrm flipH="1">
            <a:off x="1676520" y="762120"/>
            <a:ext cx="2133360" cy="1904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0"/>
          <p:cNvSpPr/>
          <p:nvPr/>
        </p:nvSpPr>
        <p:spPr>
          <a:xfrm flipV="1">
            <a:off x="5334120" y="4114440"/>
            <a:ext cx="2133360" cy="19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1"/>
          <p:cNvSpPr/>
          <p:nvPr/>
        </p:nvSpPr>
        <p:spPr>
          <a:xfrm flipH="1">
            <a:off x="5028840" y="3886200"/>
            <a:ext cx="2133720" cy="190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2"/>
          <p:cNvSpPr/>
          <p:nvPr/>
        </p:nvSpPr>
        <p:spPr>
          <a:xfrm flipH="1" flipV="1">
            <a:off x="5752800" y="881280"/>
            <a:ext cx="1829520" cy="2199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3"/>
          <p:cNvSpPr/>
          <p:nvPr/>
        </p:nvSpPr>
        <p:spPr>
          <a:xfrm>
            <a:off x="5445000" y="1184760"/>
            <a:ext cx="1832400" cy="212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4"/>
          <p:cNvSpPr/>
          <p:nvPr/>
        </p:nvSpPr>
        <p:spPr>
          <a:xfrm flipH="1" flipV="1">
            <a:off x="2325240" y="3702240"/>
            <a:ext cx="1829520" cy="2199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5"/>
          <p:cNvSpPr/>
          <p:nvPr/>
        </p:nvSpPr>
        <p:spPr>
          <a:xfrm>
            <a:off x="2017440" y="4005720"/>
            <a:ext cx="1832400" cy="212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6"/>
          <p:cNvSpPr/>
          <p:nvPr/>
        </p:nvSpPr>
        <p:spPr>
          <a:xfrm rot="3073800">
            <a:off x="6351120" y="1385640"/>
            <a:ext cx="106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-p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7"/>
          <p:cNvSpPr/>
          <p:nvPr/>
        </p:nvSpPr>
        <p:spPr>
          <a:xfrm rot="3073800">
            <a:off x="3078000" y="4264200"/>
            <a:ext cx="90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8a6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1008a6"/>
                </a:solidFill>
                <a:latin typeface="Arial"/>
              </a:rPr>
              <a:t>-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8"/>
          <p:cNvSpPr/>
          <p:nvPr/>
        </p:nvSpPr>
        <p:spPr>
          <a:xfrm rot="3073800">
            <a:off x="1863000" y="4917240"/>
            <a:ext cx="146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8a6"/>
                </a:solidFill>
                <a:latin typeface="Arial"/>
              </a:rPr>
              <a:t>-Log[H</a:t>
            </a:r>
            <a:r>
              <a:rPr b="0" lang="en-US" sz="2800" spc="-1" strike="noStrike" baseline="30000">
                <a:solidFill>
                  <a:srgbClr val="1008a6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1008a6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9"/>
          <p:cNvSpPr/>
          <p:nvPr/>
        </p:nvSpPr>
        <p:spPr>
          <a:xfrm rot="3073800">
            <a:off x="5094000" y="2028600"/>
            <a:ext cx="16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og[OH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0"/>
          <p:cNvSpPr/>
          <p:nvPr/>
        </p:nvSpPr>
        <p:spPr>
          <a:xfrm rot="19069200">
            <a:off x="5054760" y="4309560"/>
            <a:ext cx="162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8a6"/>
                </a:solidFill>
                <a:latin typeface="Arial"/>
              </a:rPr>
              <a:t>14 - p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1"/>
          <p:cNvSpPr/>
          <p:nvPr/>
        </p:nvSpPr>
        <p:spPr>
          <a:xfrm rot="19069200">
            <a:off x="5888160" y="5182560"/>
            <a:ext cx="134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Arial"/>
              </a:rPr>
              <a:t>14 - 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2"/>
          <p:cNvSpPr/>
          <p:nvPr/>
        </p:nvSpPr>
        <p:spPr>
          <a:xfrm rot="19069200">
            <a:off x="1503000" y="807840"/>
            <a:ext cx="174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1008a6"/>
                </a:solidFill>
                <a:uFillTx/>
                <a:latin typeface="Arial"/>
              </a:rPr>
              <a:t>1.0 x 10</a:t>
            </a:r>
            <a:r>
              <a:rPr b="0" lang="en-US" sz="2800" spc="-1" strike="noStrike" baseline="30000">
                <a:solidFill>
                  <a:srgbClr val="1008a6"/>
                </a:solidFill>
                <a:latin typeface="Arial"/>
              </a:rPr>
              <a:t>-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8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1008a6"/>
                </a:solidFill>
                <a:latin typeface="Arial"/>
              </a:rPr>
              <a:t>[OH</a:t>
            </a:r>
            <a:r>
              <a:rPr b="0" lang="en-US" sz="2800" spc="-1" strike="noStrike" baseline="30000">
                <a:solidFill>
                  <a:srgbClr val="1008a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1008a6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3"/>
          <p:cNvSpPr/>
          <p:nvPr/>
        </p:nvSpPr>
        <p:spPr>
          <a:xfrm rot="19069200">
            <a:off x="2542680" y="1829880"/>
            <a:ext cx="174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c0128"/>
                </a:solidFill>
                <a:uFillTx/>
                <a:latin typeface="Arial"/>
              </a:rPr>
              <a:t>1.0 x 10</a:t>
            </a:r>
            <a:r>
              <a:rPr b="0" lang="en-US" sz="2800" spc="-1" strike="noStrike" baseline="30000">
                <a:solidFill>
                  <a:srgbClr val="fc0128"/>
                </a:solidFill>
                <a:latin typeface="Arial"/>
              </a:rPr>
              <a:t>-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c0128"/>
                </a:solidFill>
                <a:latin typeface="Arial"/>
              </a:rPr>
              <a:t>[H</a:t>
            </a:r>
            <a:r>
              <a:rPr b="0" lang="en-US" sz="2800" spc="-1" strike="noStrike" baseline="30000">
                <a:solidFill>
                  <a:srgbClr val="fc0128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fc0128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853200" y="15840"/>
            <a:ext cx="750888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Calculating [H</a:t>
            </a:r>
            <a:r>
              <a:rPr b="1" lang="en-US" sz="3200" spc="-1" strike="noStrike" baseline="-25000">
                <a:solidFill>
                  <a:srgbClr val="fc0128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c0128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], pH, [OH</a:t>
            </a:r>
            <a:r>
              <a:rPr b="1" lang="en-US" sz="3200" spc="-1" strike="noStrike" baseline="30000">
                <a:solidFill>
                  <a:srgbClr val="fc0128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], and pO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3"/>
          <p:cNvSpPr/>
          <p:nvPr/>
        </p:nvSpPr>
        <p:spPr>
          <a:xfrm>
            <a:off x="127080" y="685800"/>
            <a:ext cx="8940600" cy="0"/>
          </a:xfrm>
          <a:prstGeom prst="line">
            <a:avLst/>
          </a:prstGeom>
          <a:ln w="127080">
            <a:solidFill>
              <a:srgbClr val="8901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61920" y="708120"/>
            <a:ext cx="831996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Problem 1:    A chemist dilutes concentrated hydrochloric acid to make two solutions: (a) 3.0 </a:t>
            </a:r>
            <a:r>
              <a:rPr b="1" i="1" lang="en-US" sz="2800" spc="-1" strike="noStrike">
                <a:solidFill>
                  <a:srgbClr val="fcfeb9"/>
                </a:solidFill>
                <a:latin typeface="Arial"/>
              </a:rPr>
              <a:t>M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 and (b) 0.0024 </a:t>
            </a:r>
            <a:r>
              <a:rPr b="1" i="1" lang="en-US" sz="2800" spc="-1" strike="noStrike">
                <a:solidFill>
                  <a:srgbClr val="fcfeb9"/>
                </a:solidFill>
                <a:latin typeface="Arial"/>
              </a:rPr>
              <a:t>M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. Calculate the [H</a:t>
            </a:r>
            <a:r>
              <a:rPr b="1" lang="en-US" sz="2800" spc="-1" strike="noStrike" baseline="-25000">
                <a:solidFill>
                  <a:srgbClr val="fcfeb9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cfeb9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], pH, [OH</a:t>
            </a:r>
            <a:r>
              <a:rPr b="1" lang="en-US" sz="2800" spc="-1" strike="noStrike" baseline="30000">
                <a:solidFill>
                  <a:srgbClr val="fcfeb9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], and pOH of the two solutions at 25°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Problem 2:  What is the [H</a:t>
            </a:r>
            <a:r>
              <a:rPr b="1" lang="en-US" sz="2800" spc="-1" strike="noStrike" baseline="-25000">
                <a:solidFill>
                  <a:srgbClr val="fcfeb9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cfeb9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], [OH</a:t>
            </a:r>
            <a:r>
              <a:rPr b="1" lang="en-US" sz="2800" spc="-1" strike="noStrike" baseline="30000">
                <a:solidFill>
                  <a:srgbClr val="fcfeb9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], and pOH of a solution with pH = 3.67? Is this an acid, base, or neutr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Problem 3:  Problem #2 with pH = 8.05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1890360" y="3719520"/>
            <a:ext cx="257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1905120" y="5181480"/>
            <a:ext cx="18072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2043000" y="5472000"/>
            <a:ext cx="181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441360" y="4419720"/>
            <a:ext cx="8169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1143000" y="76212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609480" y="5562720"/>
            <a:ext cx="7556760" cy="10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N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HCl,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nd HCl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re among the only known strong aci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990720" y="228600"/>
            <a:ext cx="7162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Strong and Weak Acids/B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7" descr=""/>
          <p:cNvPicPr/>
          <p:nvPr/>
        </p:nvPicPr>
        <p:blipFill>
          <a:blip r:embed="rId1"/>
          <a:stretch/>
        </p:blipFill>
        <p:spPr>
          <a:xfrm>
            <a:off x="304920" y="2819520"/>
            <a:ext cx="8534160" cy="270648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sp>
        <p:nvSpPr>
          <p:cNvPr id="213" name="Text Box 8"/>
          <p:cNvSpPr/>
          <p:nvPr/>
        </p:nvSpPr>
        <p:spPr>
          <a:xfrm>
            <a:off x="838080" y="1143000"/>
            <a:ext cx="7696440" cy="155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strength of an acid (or base) is determined by the amount of </a:t>
            </a:r>
            <a:r>
              <a:rPr b="1" lang="en-US" sz="3200" spc="-1" strike="noStrike">
                <a:solidFill>
                  <a:srgbClr val="cecece"/>
                </a:solidFill>
                <a:latin typeface="Arial"/>
              </a:rPr>
              <a:t>IONIZATI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Strong and Weak Acids/Ba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1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nerally divide acids and bases into STRONG or WEAK on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STRONG ACID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N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aq)   + 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 (l)   ---&gt;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aq)   +   N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aq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N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s about 100% dissociated in wate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5" descr=""/>
          <p:cNvPicPr/>
          <p:nvPr/>
        </p:nvPicPr>
        <p:blipFill>
          <a:blip r:embed="rId1"/>
          <a:stretch/>
        </p:blipFill>
        <p:spPr>
          <a:xfrm>
            <a:off x="647640" y="4114800"/>
            <a:ext cx="2959200" cy="2362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</p:pic>
      <p:pic>
        <p:nvPicPr>
          <p:cNvPr id="218" name="17M02AN1.avi" descr=""/>
          <p:cNvPicPr/>
          <p:nvPr/>
        </p:nvPicPr>
        <p:blipFill>
          <a:blip r:embed="rId2"/>
          <a:stretch/>
        </p:blipFill>
        <p:spPr>
          <a:xfrm>
            <a:off x="5181480" y="4038480"/>
            <a:ext cx="3657600" cy="236700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15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9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310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13" dur="1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190440" y="1066320"/>
            <a:ext cx="8763120" cy="221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20000"/>
              </a:lnSpc>
              <a:spcBef>
                <a:spcPts val="1049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Weak acid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re much less than 100% ionized in water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e of the best known is acetic acid = C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990720" y="228600"/>
            <a:ext cx="7162560" cy="914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Strong and Weak Acids/B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"/>
          <p:cNvPicPr/>
          <p:nvPr/>
        </p:nvPicPr>
        <p:blipFill>
          <a:blip r:embed="rId1"/>
          <a:stretch/>
        </p:blipFill>
        <p:spPr>
          <a:xfrm>
            <a:off x="755640" y="2895480"/>
            <a:ext cx="7632720" cy="350532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sp>
        <p:nvSpPr>
          <p:cNvPr id="223" name="Text Box 7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Comic Sans MS"/>
              </a:rPr>
              <a:t>Acid and Bas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4"/>
          <p:cNvSpPr/>
          <p:nvPr/>
        </p:nvSpPr>
        <p:spPr>
          <a:xfrm>
            <a:off x="838080" y="1600200"/>
            <a:ext cx="746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584280" y="1905120"/>
            <a:ext cx="3987720" cy="447012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pic>
        <p:nvPicPr>
          <p:cNvPr id="56" name="Picture 6" descr=""/>
          <p:cNvPicPr/>
          <p:nvPr/>
        </p:nvPicPr>
        <p:blipFill>
          <a:blip r:embed="rId2"/>
          <a:stretch/>
        </p:blipFill>
        <p:spPr>
          <a:xfrm>
            <a:off x="4952880" y="1905120"/>
            <a:ext cx="3886200" cy="313668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609120" y="121896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10000"/>
              </a:lnSpc>
              <a:spcBef>
                <a:spcPts val="1199"/>
              </a:spcBef>
              <a:buClr>
                <a:srgbClr val="618f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</a:rPr>
              <a:t>Strong Base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00% dissociated in water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OH (aq)   ---&gt;  Na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aq)  +   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aq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990720" y="228600"/>
            <a:ext cx="7162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Strong and Weak Acids/B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4100400" y="3376440"/>
            <a:ext cx="4584960" cy="28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ther common strong bases include KOH an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Ca(OH)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O (lime) +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 --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Ca(OH)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 (slaked li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7"/>
          <p:cNvGrpSpPr/>
          <p:nvPr/>
        </p:nvGrpSpPr>
        <p:grpSpPr>
          <a:xfrm>
            <a:off x="584280" y="3340080"/>
            <a:ext cx="3390840" cy="3276720"/>
            <a:chOff x="584280" y="3340080"/>
            <a:chExt cx="3390840" cy="3276720"/>
          </a:xfrm>
        </p:grpSpPr>
        <p:pic>
          <p:nvPicPr>
            <p:cNvPr id="228" name="Picture 4" descr=""/>
            <p:cNvPicPr/>
            <p:nvPr/>
          </p:nvPicPr>
          <p:blipFill>
            <a:blip r:embed="rId1"/>
            <a:stretch/>
          </p:blipFill>
          <p:spPr>
            <a:xfrm>
              <a:off x="584280" y="3340080"/>
              <a:ext cx="3390840" cy="327672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</p:pic>
        <p:sp>
          <p:nvSpPr>
            <p:cNvPr id="229" name="Rectangle 6"/>
            <p:cNvSpPr/>
            <p:nvPr/>
          </p:nvSpPr>
          <p:spPr>
            <a:xfrm>
              <a:off x="3034440" y="6035760"/>
              <a:ext cx="911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afd00"/>
                  </a:solidFill>
                  <a:latin typeface="Arial"/>
                </a:rPr>
                <a:t>Ca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Text Box 8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990720" y="1523880"/>
            <a:ext cx="6705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10000"/>
              </a:lnSpc>
              <a:spcBef>
                <a:spcPts val="1049"/>
              </a:spcBef>
              <a:buClr>
                <a:srgbClr val="618f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Weak base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ss than 100% ionized in wa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e of the best known weak bases i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mmon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aq) +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 (l)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ffffff"/>
                </a:solidFill>
                <a:latin typeface="symb_chm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N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aq) + O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aq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990720" y="457200"/>
            <a:ext cx="7162560" cy="914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Strong and Weak Acids/B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5" descr=""/>
          <p:cNvPicPr/>
          <p:nvPr/>
        </p:nvPicPr>
        <p:blipFill>
          <a:blip r:embed="rId1"/>
          <a:stretch/>
        </p:blipFill>
        <p:spPr>
          <a:xfrm>
            <a:off x="888840" y="4038480"/>
            <a:ext cx="3073680" cy="2362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</p:pic>
      <p:pic>
        <p:nvPicPr>
          <p:cNvPr id="234" name="17M02AN2.avi" descr=""/>
          <p:cNvPicPr/>
          <p:nvPr/>
        </p:nvPicPr>
        <p:blipFill>
          <a:blip r:embed="rId2"/>
          <a:stretch/>
        </p:blipFill>
        <p:spPr>
          <a:xfrm>
            <a:off x="5029200" y="4038480"/>
            <a:ext cx="3581280" cy="231804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19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5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376" nodeType="clickEffect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79" dur="1" fill="hold"/>
                                        <p:tgtEl>
                                          <p:spTgt spid="2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18ffd"/>
                </a:solidFill>
                <a:latin typeface="Comic Sans MS"/>
              </a:rPr>
              <a:t>Weak Bas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3" descr=""/>
          <p:cNvPicPr/>
          <p:nvPr/>
        </p:nvPicPr>
        <p:blipFill>
          <a:blip r:embed="rId1"/>
          <a:stretch/>
        </p:blipFill>
        <p:spPr>
          <a:xfrm>
            <a:off x="152280" y="1646280"/>
            <a:ext cx="8877600" cy="437364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sp>
        <p:nvSpPr>
          <p:cNvPr id="238" name="Line 4"/>
          <p:cNvSpPr/>
          <p:nvPr/>
        </p:nvSpPr>
        <p:spPr>
          <a:xfrm>
            <a:off x="685800" y="1295280"/>
            <a:ext cx="75438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Equilibria Involving </a:t>
            </a:r>
            <a:br>
              <a:rPr sz="3600"/>
            </a:b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Weak Acids and Ba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sider acetic acid, HC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(HOAc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+     C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cid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     Conj. ba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Object 4"/>
          <p:cNvGraphicFramePr/>
          <p:nvPr/>
        </p:nvGraphicFramePr>
        <p:xfrm>
          <a:off x="1752480" y="3681360"/>
          <a:ext cx="5580360" cy="10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681360"/>
                    <a:ext cx="5580360" cy="10080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919191"/>
                    </a:outerShdw>
                  </a:effectLst>
                </p:spPr>
              </p:pic>
            </p:oleObj>
          </a:graphicData>
        </a:graphic>
      </p:graphicFrame>
      <p:sp>
        <p:nvSpPr>
          <p:cNvPr id="244" name="Line 5"/>
          <p:cNvSpPr/>
          <p:nvPr/>
        </p:nvSpPr>
        <p:spPr>
          <a:xfrm>
            <a:off x="622440" y="175248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457200" y="4954680"/>
            <a:ext cx="8381880" cy="19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K is designated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for ACI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 gives the ratio of ions (split up) to molecules (don’t split u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1625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Comic Sans MS"/>
              </a:rPr>
              <a:t>Ionization Constants for Acids/Base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3" descr=""/>
          <p:cNvPicPr/>
          <p:nvPr/>
        </p:nvPicPr>
        <p:blipFill>
          <a:blip r:embed="rId1"/>
          <a:stretch/>
        </p:blipFill>
        <p:spPr>
          <a:xfrm>
            <a:off x="1673280" y="838080"/>
            <a:ext cx="5794200" cy="589284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sp>
        <p:nvSpPr>
          <p:cNvPr id="249" name="Text Box 4"/>
          <p:cNvSpPr/>
          <p:nvPr/>
        </p:nvSpPr>
        <p:spPr>
          <a:xfrm>
            <a:off x="543240" y="1522440"/>
            <a:ext cx="9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Comic Sans MS"/>
              </a:rPr>
              <a:t>Ac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7328160" y="1503360"/>
            <a:ext cx="174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Comic Sans MS"/>
              </a:rPr>
              <a:t>Conju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Comic Sans MS"/>
              </a:rPr>
              <a:t>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6"/>
          <p:cNvSpPr/>
          <p:nvPr/>
        </p:nvSpPr>
        <p:spPr>
          <a:xfrm flipV="1">
            <a:off x="914400" y="2971800"/>
            <a:ext cx="0" cy="3276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7"/>
          <p:cNvSpPr/>
          <p:nvPr/>
        </p:nvSpPr>
        <p:spPr>
          <a:xfrm>
            <a:off x="8077320" y="2514600"/>
            <a:ext cx="0" cy="3276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380880" y="2209680"/>
            <a:ext cx="1082880" cy="6426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str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9"/>
          <p:cNvSpPr/>
          <p:nvPr/>
        </p:nvSpPr>
        <p:spPr>
          <a:xfrm>
            <a:off x="7620120" y="5867280"/>
            <a:ext cx="1082520" cy="6426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str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0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1625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Equilibrium Constants  </a:t>
            </a:r>
            <a:br>
              <a:rPr sz="3600"/>
            </a:b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for Weak Aci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3"/>
          <p:cNvSpPr/>
          <p:nvPr/>
        </p:nvSpPr>
        <p:spPr>
          <a:xfrm>
            <a:off x="622440" y="175248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4" descr=""/>
          <p:cNvPicPr/>
          <p:nvPr/>
        </p:nvPicPr>
        <p:blipFill>
          <a:blip r:embed="rId1"/>
          <a:stretch/>
        </p:blipFill>
        <p:spPr>
          <a:xfrm>
            <a:off x="977760" y="1981080"/>
            <a:ext cx="7188480" cy="247680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sp>
        <p:nvSpPr>
          <p:cNvPr id="259" name="Text Box 5"/>
          <p:cNvSpPr/>
          <p:nvPr/>
        </p:nvSpPr>
        <p:spPr>
          <a:xfrm>
            <a:off x="1200240" y="4730760"/>
            <a:ext cx="669888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eak acid has K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&lt;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eads to small [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] and a pH of 2 - 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1625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Equilibrium Constants  </a:t>
            </a:r>
            <a:br>
              <a:rPr sz="3600"/>
            </a:b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for Weak Ba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3"/>
          <p:cNvSpPr/>
          <p:nvPr/>
        </p:nvSpPr>
        <p:spPr>
          <a:xfrm>
            <a:off x="622440" y="175248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1185840" y="4730760"/>
            <a:ext cx="673092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eak base has K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&lt;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eads to small [O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] and a pH of 12 - 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5" descr=""/>
          <p:cNvPicPr/>
          <p:nvPr/>
        </p:nvPicPr>
        <p:blipFill>
          <a:blip r:embed="rId1"/>
          <a:stretch/>
        </p:blipFill>
        <p:spPr>
          <a:xfrm>
            <a:off x="1103400" y="1981080"/>
            <a:ext cx="6933960" cy="234972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sp>
        <p:nvSpPr>
          <p:cNvPr id="265" name="Text Box 6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5702400" cy="622296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248160" y="1981080"/>
            <a:ext cx="243828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Relation of K</a:t>
            </a:r>
            <a:r>
              <a:rPr b="1" lang="en-US" sz="3600" spc="-1" strike="noStrike" baseline="-25000">
                <a:solidFill>
                  <a:srgbClr val="fc0128"/>
                </a:solidFill>
                <a:latin typeface="Comic Sans MS"/>
              </a:rPr>
              <a:t>a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, K</a:t>
            </a:r>
            <a:r>
              <a:rPr b="1" lang="en-US" sz="3600" spc="-1" strike="noStrike" baseline="-25000">
                <a:solidFill>
                  <a:srgbClr val="fc0128"/>
                </a:solidFill>
                <a:latin typeface="Comic Sans MS"/>
              </a:rPr>
              <a:t>b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, [H</a:t>
            </a:r>
            <a:r>
              <a:rPr b="1" lang="en-US" sz="3600" spc="-1" strike="noStrike" baseline="-25000">
                <a:solidFill>
                  <a:srgbClr val="fc0128"/>
                </a:solidFill>
                <a:latin typeface="Comic Sans MS"/>
              </a:rPr>
              <a:t>3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O</a:t>
            </a:r>
            <a:r>
              <a:rPr b="1" lang="en-US" sz="3600" spc="-1" strike="noStrike" baseline="30000">
                <a:solidFill>
                  <a:srgbClr val="fc0128"/>
                </a:solidFill>
                <a:latin typeface="Comic Sans MS"/>
              </a:rPr>
              <a:t>+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] and p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315200" cy="761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Equilibria Involving A Weak Aci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6960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 have 1.00 M HOAc. Calc. the equilibrium concs. of HOAc,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OAc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and the pH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Step 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e equilibrium concs. in ICE tabl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HOAc]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OAc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initial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change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equilib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4"/>
          <p:cNvSpPr/>
          <p:nvPr/>
        </p:nvSpPr>
        <p:spPr>
          <a:xfrm>
            <a:off x="698400" y="99072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5"/>
          <p:cNvSpPr/>
          <p:nvPr/>
        </p:nvSpPr>
        <p:spPr>
          <a:xfrm>
            <a:off x="2592720" y="4371840"/>
            <a:ext cx="4036320" cy="520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1.00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6"/>
          <p:cNvSpPr/>
          <p:nvPr/>
        </p:nvSpPr>
        <p:spPr>
          <a:xfrm>
            <a:off x="2516760" y="5029200"/>
            <a:ext cx="4243680" cy="520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-x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+x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+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2592720" y="5562720"/>
            <a:ext cx="4036320" cy="520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1.00-x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8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315200" cy="761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Equilibria Involving A Weak Aci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Step 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rite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xpress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595440" y="1031760"/>
            <a:ext cx="778500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have 1.00 M HOAc. Calc. the equilibrium concs. of HOAc,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OAc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and the p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Object 5"/>
          <p:cNvGraphicFramePr/>
          <p:nvPr/>
        </p:nvGraphicFramePr>
        <p:xfrm>
          <a:off x="1460520" y="2705040"/>
          <a:ext cx="6311880" cy="8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0520" y="2705040"/>
                    <a:ext cx="6311880" cy="838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919191"/>
                    </a:outerShdw>
                  </a:effectLst>
                </p:spPr>
              </p:pic>
            </p:oleObj>
          </a:graphicData>
        </a:graphic>
      </p:graphicFrame>
      <p:sp>
        <p:nvSpPr>
          <p:cNvPr id="281" name="Line 6"/>
          <p:cNvSpPr/>
          <p:nvPr/>
        </p:nvSpPr>
        <p:spPr>
          <a:xfrm>
            <a:off x="698400" y="99072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7"/>
          <p:cNvSpPr/>
          <p:nvPr/>
        </p:nvSpPr>
        <p:spPr>
          <a:xfrm>
            <a:off x="1050840" y="4038480"/>
            <a:ext cx="7026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his is a quadratic. Solve using quadratic formu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8"/>
          <p:cNvSpPr/>
          <p:nvPr/>
        </p:nvSpPr>
        <p:spPr>
          <a:xfrm>
            <a:off x="380880" y="5334120"/>
            <a:ext cx="8458200" cy="947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r you can make an approximation if x is very small! (Rule of thumb: 10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5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or smaller is o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Comic Sans MS"/>
              </a:rPr>
              <a:t>Aci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306360" y="1616040"/>
            <a:ext cx="848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Have a sour taste.  Vinegar is a solution of acetic acid.  Cit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fruits contain citric ac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308520" y="2560680"/>
            <a:ext cx="71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eact with certain metals to produce hydrogen g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309960" y="3139920"/>
            <a:ext cx="824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eact with carbonates and bicarbonates to produce carb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dioxide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304920" y="510372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a bitter tas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308880" y="5713560"/>
            <a:ext cx="585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el slippery.  Many soaps contain 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685800" y="41911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Comic Sans MS"/>
              </a:rPr>
              <a:t>B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" descr="j0079109"/>
          <p:cNvPicPr/>
          <p:nvPr/>
        </p:nvPicPr>
        <p:blipFill>
          <a:blip r:embed="rId1"/>
          <a:stretch/>
        </p:blipFill>
        <p:spPr>
          <a:xfrm>
            <a:off x="380880" y="228600"/>
            <a:ext cx="1444680" cy="1243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pe02251_"/>
          <p:cNvPicPr/>
          <p:nvPr/>
        </p:nvPicPr>
        <p:blipFill>
          <a:blip r:embed="rId2"/>
          <a:stretch/>
        </p:blipFill>
        <p:spPr>
          <a:xfrm>
            <a:off x="7391520" y="4267080"/>
            <a:ext cx="144144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315200" cy="761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Equilibria Involving A Weak Aci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Step 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lve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xpress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595440" y="1031760"/>
            <a:ext cx="778500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have 1.00 M HOAc. Calc. the equilibrium concs. of HOAc,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OAc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and the p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Object 5"/>
          <p:cNvGraphicFramePr/>
          <p:nvPr/>
        </p:nvGraphicFramePr>
        <p:xfrm>
          <a:off x="1104840" y="2629080"/>
          <a:ext cx="631188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2629080"/>
                    <a:ext cx="6311880" cy="83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919191"/>
                    </a:outerShdw>
                  </a:effectLst>
                </p:spPr>
              </p:pic>
            </p:oleObj>
          </a:graphicData>
        </a:graphic>
      </p:graphicFrame>
      <p:sp>
        <p:nvSpPr>
          <p:cNvPr id="290" name="Line 6"/>
          <p:cNvSpPr/>
          <p:nvPr/>
        </p:nvSpPr>
        <p:spPr>
          <a:xfrm>
            <a:off x="698400" y="99072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7"/>
          <p:cNvSpPr/>
          <p:nvPr/>
        </p:nvSpPr>
        <p:spPr>
          <a:xfrm>
            <a:off x="914400" y="3657600"/>
            <a:ext cx="64911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assume x is very small because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is so sm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Object 8"/>
          <p:cNvGraphicFramePr/>
          <p:nvPr/>
        </p:nvGraphicFramePr>
        <p:xfrm>
          <a:off x="3137040" y="4622760"/>
          <a:ext cx="3289320" cy="78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3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37040" y="4622760"/>
                    <a:ext cx="3289320" cy="7873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919191"/>
                    </a:outerShdw>
                  </a:effectLst>
                </p:spPr>
              </p:pic>
            </p:oleObj>
          </a:graphicData>
        </a:graphic>
      </p:graphicFrame>
      <p:sp>
        <p:nvSpPr>
          <p:cNvPr id="294" name="Text Box 9"/>
          <p:cNvSpPr/>
          <p:nvPr/>
        </p:nvSpPr>
        <p:spPr>
          <a:xfrm>
            <a:off x="1143000" y="556272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w we can more easily solve this approximate expre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5400" cy="12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pproxima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f2f2"/>
                </a:solidFill>
                <a:latin typeface="Arial"/>
              </a:rPr>
              <a:t>If K is really small, the equilibrium concentrations will be nearly the same as the initial concentration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f2f2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2f2f2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2f2f2"/>
                </a:solidFill>
                <a:latin typeface="Arial"/>
              </a:rPr>
              <a:t>Example: 0.20 – x is just about 0.20 if x is really small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f2f2"/>
                </a:solidFill>
                <a:latin typeface="Arial"/>
              </a:rPr>
              <a:t>If the K is 10</a:t>
            </a:r>
            <a:r>
              <a:rPr b="1" lang="en-US" sz="2800" spc="-1" strike="noStrike" baseline="30000">
                <a:solidFill>
                  <a:srgbClr val="f2f2f2"/>
                </a:solidFill>
                <a:latin typeface="Arial"/>
              </a:rPr>
              <a:t>-5</a:t>
            </a:r>
            <a:r>
              <a:rPr b="1" lang="en-US" sz="2800" spc="-1" strike="noStrike">
                <a:solidFill>
                  <a:srgbClr val="f2f2f2"/>
                </a:solidFill>
                <a:latin typeface="Arial"/>
              </a:rPr>
              <a:t> or smaller (10</a:t>
            </a:r>
            <a:r>
              <a:rPr b="1" lang="en-US" sz="2800" spc="-1" strike="noStrike" baseline="30000">
                <a:solidFill>
                  <a:srgbClr val="f2f2f2"/>
                </a:solidFill>
                <a:latin typeface="Arial"/>
              </a:rPr>
              <a:t>-6</a:t>
            </a:r>
            <a:r>
              <a:rPr b="1" lang="en-US" sz="2800" spc="-1" strike="noStrike">
                <a:solidFill>
                  <a:srgbClr val="f2f2f2"/>
                </a:solidFill>
                <a:latin typeface="Arial"/>
              </a:rPr>
              <a:t>, 10</a:t>
            </a:r>
            <a:r>
              <a:rPr b="1" lang="en-US" sz="2800" spc="-1" strike="noStrike" baseline="30000">
                <a:solidFill>
                  <a:srgbClr val="f2f2f2"/>
                </a:solidFill>
                <a:latin typeface="Arial"/>
              </a:rPr>
              <a:t>-7</a:t>
            </a:r>
            <a:r>
              <a:rPr b="1" lang="en-US" sz="2800" spc="-1" strike="noStrike">
                <a:solidFill>
                  <a:srgbClr val="f2f2f2"/>
                </a:solidFill>
                <a:latin typeface="Arial"/>
              </a:rPr>
              <a:t>, etc.), you should approximate. Otherwise, you have to use the quadratic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315200" cy="761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Equilibria Involving A Weak Aci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Step 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lve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approximat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ress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4"/>
          <p:cNvSpPr/>
          <p:nvPr/>
        </p:nvSpPr>
        <p:spPr>
          <a:xfrm>
            <a:off x="595440" y="1031760"/>
            <a:ext cx="778500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have 1.00 M HOAc. Calc. the equilibrium concs. of HOAc,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OAc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and the p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Object 5"/>
          <p:cNvGraphicFramePr/>
          <p:nvPr/>
        </p:nvGraphicFramePr>
        <p:xfrm>
          <a:off x="2927520" y="2641680"/>
          <a:ext cx="3288960" cy="78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27520" y="2641680"/>
                    <a:ext cx="3288960" cy="7873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919191"/>
                    </a:outerShdw>
                  </a:effectLst>
                </p:spPr>
              </p:pic>
            </p:oleObj>
          </a:graphicData>
        </a:graphic>
      </p:graphicFrame>
      <p:sp>
        <p:nvSpPr>
          <p:cNvPr id="303" name="Line 6"/>
          <p:cNvSpPr/>
          <p:nvPr/>
        </p:nvSpPr>
        <p:spPr>
          <a:xfrm>
            <a:off x="698400" y="99072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990000" y="3657600"/>
            <a:ext cx="7163640" cy="21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  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[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fc0128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O</a:t>
            </a:r>
            <a:r>
              <a:rPr b="1" lang="en-US" sz="2400" spc="-1" strike="noStrike" baseline="30000">
                <a:solidFill>
                  <a:srgbClr val="fc0128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] =  [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OAc</a:t>
            </a:r>
            <a:r>
              <a:rPr b="1" lang="en-US" sz="2400" spc="-1" strike="noStrike" baseline="30000">
                <a:solidFill>
                  <a:srgbClr val="fc0128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] = 4.2 x 10</a:t>
            </a:r>
            <a:r>
              <a:rPr b="1" lang="en-US" sz="2800" spc="-1" strike="noStrike" baseline="30000">
                <a:solidFill>
                  <a:srgbClr val="fc0128"/>
                </a:solidFill>
                <a:latin typeface="Arial"/>
              </a:rPr>
              <a:t>-3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 = - log [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 =  -log (4.2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  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2.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3152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Equilibria Involving A Weak Aci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762120" y="837720"/>
            <a:ext cx="761976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25992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culate the pH of a 0.0010 M solution of formic acid, HC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92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   +  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HC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+  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92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1.8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92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Approximate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92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= 4.2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pH = 3.37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92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ae00"/>
                </a:solidFill>
                <a:latin typeface="Arial"/>
              </a:rPr>
              <a:t>Exact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92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= [HC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 =  3.4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92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HC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]  =  0.0010 - 3.4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0.0007 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92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pH = 3.47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4"/>
          <p:cNvSpPr/>
          <p:nvPr/>
        </p:nvSpPr>
        <p:spPr>
          <a:xfrm>
            <a:off x="698400" y="83808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5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3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3152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Equilibria Involving A Weak Ba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 have 0.010 M 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Calc. the pH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+ 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+    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1.8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Step 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e equilibrium concs. in ICE t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initial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change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equilib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4"/>
          <p:cNvSpPr/>
          <p:nvPr/>
        </p:nvSpPr>
        <p:spPr>
          <a:xfrm>
            <a:off x="698400" y="99072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5"/>
          <p:cNvSpPr/>
          <p:nvPr/>
        </p:nvSpPr>
        <p:spPr>
          <a:xfrm>
            <a:off x="2592720" y="4038480"/>
            <a:ext cx="4036320" cy="605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0.010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6"/>
          <p:cNvSpPr/>
          <p:nvPr/>
        </p:nvSpPr>
        <p:spPr>
          <a:xfrm>
            <a:off x="2516760" y="4676760"/>
            <a:ext cx="4243680" cy="520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-x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+x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+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7"/>
          <p:cNvSpPr/>
          <p:nvPr/>
        </p:nvSpPr>
        <p:spPr>
          <a:xfrm>
            <a:off x="2592720" y="5257800"/>
            <a:ext cx="4036320" cy="605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0.010 - x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x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8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3152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Equilibria Involving A Weak Ba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 have 0.010 M 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Calc. the pH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+ 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+    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1.8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Step 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e equilibrium concs. in ICE t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initial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change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equilib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4"/>
          <p:cNvSpPr/>
          <p:nvPr/>
        </p:nvSpPr>
        <p:spPr>
          <a:xfrm>
            <a:off x="698400" y="99072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5"/>
          <p:cNvSpPr/>
          <p:nvPr/>
        </p:nvSpPr>
        <p:spPr>
          <a:xfrm>
            <a:off x="2592720" y="4038480"/>
            <a:ext cx="4036320" cy="605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0.010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6"/>
          <p:cNvSpPr/>
          <p:nvPr/>
        </p:nvSpPr>
        <p:spPr>
          <a:xfrm>
            <a:off x="2516760" y="4676760"/>
            <a:ext cx="4243680" cy="520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-x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+x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+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7"/>
          <p:cNvSpPr/>
          <p:nvPr/>
        </p:nvSpPr>
        <p:spPr>
          <a:xfrm>
            <a:off x="2592720" y="5257800"/>
            <a:ext cx="4036320" cy="605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0.010 - x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x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8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3152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Equilibria Involving A Weak Ba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6960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 have 0.010 M 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Calc. the pH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+ 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symb_chm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+    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1.8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Step 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lve the equilibrium expres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6" name="Object 4"/>
          <p:cNvGraphicFramePr/>
          <p:nvPr/>
        </p:nvGraphicFramePr>
        <p:xfrm>
          <a:off x="990720" y="3301920"/>
          <a:ext cx="6540480" cy="8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301920"/>
                    <a:ext cx="6540480" cy="8636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919191"/>
                    </a:outerShdw>
                  </a:effectLst>
                </p:spPr>
              </p:pic>
            </p:oleObj>
          </a:graphicData>
        </a:graphic>
      </p:graphicFrame>
      <p:sp>
        <p:nvSpPr>
          <p:cNvPr id="328" name="Line 5"/>
          <p:cNvSpPr/>
          <p:nvPr/>
        </p:nvSpPr>
        <p:spPr>
          <a:xfrm>
            <a:off x="698400" y="99072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6"/>
          <p:cNvSpPr/>
          <p:nvPr/>
        </p:nvSpPr>
        <p:spPr>
          <a:xfrm>
            <a:off x="716760" y="4408560"/>
            <a:ext cx="8026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ume x is small,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 = [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= [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= 4.2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[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= 0.010 - 4.2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≈  0.010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The approximation is valid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7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3152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Equilibria Involving A Weak Ba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6960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 have 0.010 M 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Calc. the pH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+ 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+    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1.8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Step 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culate p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=  4.2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 pOH = - log [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 =  3.37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cause pH + pOH = 14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pH = 10.6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4" descr=""/>
          <p:cNvPicPr/>
          <p:nvPr/>
        </p:nvPicPr>
        <p:blipFill>
          <a:blip r:embed="rId1"/>
          <a:stretch/>
        </p:blipFill>
        <p:spPr>
          <a:xfrm>
            <a:off x="6568920" y="2158920"/>
            <a:ext cx="1187640" cy="33019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</p:pic>
      <p:sp>
        <p:nvSpPr>
          <p:cNvPr id="334" name="Line 5"/>
          <p:cNvSpPr/>
          <p:nvPr/>
        </p:nvSpPr>
        <p:spPr>
          <a:xfrm>
            <a:off x="698400" y="99072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3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716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Types of Acid/Base Reactions: 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3"/>
          <p:cNvSpPr/>
          <p:nvPr/>
        </p:nvSpPr>
        <p:spPr>
          <a:xfrm>
            <a:off x="990720" y="1523880"/>
            <a:ext cx="7162560" cy="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152280" y="1922400"/>
            <a:ext cx="8915400" cy="272592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sp>
        <p:nvSpPr>
          <p:cNvPr id="339" name="Text Box 5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pH test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16256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re are several ways to test p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lue litmus paper (red = aci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d litmus paper (blue = basic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 paper (multi-color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 meter (7 is neutral, &lt;7 acid, &gt;7 bas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iversal indicator (multi-color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dicators like phenolphthale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tural indicators like red cabbage, radish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Some Properties of Aci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88"/>
              </a:spcBef>
              <a:buClr>
                <a:srgbClr val="ff0066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roduce H</a:t>
            </a:r>
            <a:r>
              <a:rPr b="0" lang="en-US" sz="21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(as H</a:t>
            </a:r>
            <a:r>
              <a:rPr b="0" lang="en-US" sz="21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1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) ions in water  (the hydronium ion is a hydrogen ion attached to a water molecule)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88"/>
              </a:spcBef>
              <a:buClr>
                <a:srgbClr val="ff0066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aste sour            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88"/>
              </a:spcBef>
              <a:buClr>
                <a:srgbClr val="ff0066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Corrode metal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88"/>
              </a:spcBef>
              <a:buClr>
                <a:srgbClr val="ff0066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Electrolytes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88"/>
              </a:spcBef>
              <a:buClr>
                <a:srgbClr val="ff0066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React with bases to form a salt and water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88"/>
              </a:spcBef>
              <a:buClr>
                <a:srgbClr val="ff0066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H is less than 7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88"/>
              </a:spcBef>
              <a:buClr>
                <a:srgbClr val="ff0066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urns blue litmus paper to red  “Blue to Red A-CID”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Object 4" descr=""/>
          <p:cNvPicPr/>
          <p:nvPr/>
        </p:nvPicPr>
        <p:blipFill>
          <a:blip r:embed="rId1"/>
          <a:stretch/>
        </p:blipFill>
        <p:spPr>
          <a:xfrm>
            <a:off x="6477120" y="2438280"/>
            <a:ext cx="205740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Paper test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58672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per tests like litmus paper and pH pap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t a stirring rod into the solution and sti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ke the stirring rod out, and place a drop of the solution from the end of the stirring rod onto a piece of the pap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ad and record the color change.  Note what the color indicat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should only use a small portion of the paper.  You can use one piece of paper for several tes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4" descr="litmus"/>
          <p:cNvPicPr/>
          <p:nvPr/>
        </p:nvPicPr>
        <p:blipFill>
          <a:blip r:embed="rId1"/>
          <a:stretch/>
        </p:blipFill>
        <p:spPr>
          <a:xfrm>
            <a:off x="6397560" y="2590920"/>
            <a:ext cx="2746440" cy="19810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5" descr="litmus bottles"/>
          <p:cNvPicPr/>
          <p:nvPr/>
        </p:nvPicPr>
        <p:blipFill>
          <a:blip r:embed="rId2"/>
          <a:stretch/>
        </p:blipFill>
        <p:spPr>
          <a:xfrm>
            <a:off x="6934320" y="6094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6" descr="ph-paper-0-14"/>
          <p:cNvPicPr/>
          <p:nvPr/>
        </p:nvPicPr>
        <p:blipFill>
          <a:blip r:embed="rId3"/>
          <a:stretch/>
        </p:blipFill>
        <p:spPr>
          <a:xfrm>
            <a:off x="6696000" y="4767120"/>
            <a:ext cx="244800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304920" y="6265800"/>
            <a:ext cx="16002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3" descr=""/>
          <p:cNvPicPr/>
          <p:nvPr/>
        </p:nvPicPr>
        <p:blipFill>
          <a:blip r:embed="rId1"/>
          <a:srcRect l="0" t="3000" r="0" b="0"/>
          <a:stretch/>
        </p:blipFill>
        <p:spPr>
          <a:xfrm>
            <a:off x="609480" y="942840"/>
            <a:ext cx="8129880" cy="5915160"/>
          </a:xfrm>
          <a:prstGeom prst="rect">
            <a:avLst/>
          </a:prstGeom>
          <a:ln w="0">
            <a:noFill/>
          </a:ln>
        </p:spPr>
      </p:pic>
      <p:sp>
        <p:nvSpPr>
          <p:cNvPr id="349" name="Rectangle 4"/>
          <p:cNvSpPr/>
          <p:nvPr/>
        </p:nvSpPr>
        <p:spPr>
          <a:xfrm>
            <a:off x="3352680" y="228600"/>
            <a:ext cx="2133720" cy="581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pH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c0128"/>
                </a:solidFill>
                <a:latin typeface="Comic Sans MS"/>
              </a:rPr>
              <a:t>pH meter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sts the voltage of the electroly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verts the voltage to p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y cheap, accura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ust be calibrated with a buffer solu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1"/>
          <a:stretch/>
        </p:blipFill>
        <p:spPr>
          <a:xfrm>
            <a:off x="5791320" y="2362320"/>
            <a:ext cx="2971800" cy="291456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Comic Sans MS"/>
              </a:rPr>
              <a:t>pH indicato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54104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icators are dyes that can be added that will change color in the presence of an acid or bas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indicators only work in a specific range of p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ce the drops are added, the sample is ruin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dyes are natural, like radish skin or red cabb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4" descr="pool pH kit"/>
          <p:cNvPicPr/>
          <p:nvPr/>
        </p:nvPicPr>
        <p:blipFill>
          <a:blip r:embed="rId1"/>
          <a:stretch/>
        </p:blipFill>
        <p:spPr>
          <a:xfrm>
            <a:off x="4038480" y="4168800"/>
            <a:ext cx="2743200" cy="26892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5" descr="universal indicator"/>
          <p:cNvPicPr/>
          <p:nvPr/>
        </p:nvPicPr>
        <p:blipFill>
          <a:blip r:embed="rId2"/>
          <a:stretch/>
        </p:blipFill>
        <p:spPr>
          <a:xfrm>
            <a:off x="0" y="4314960"/>
            <a:ext cx="3276720" cy="254304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6" descr="cabjuice2"/>
          <p:cNvPicPr/>
          <p:nvPr/>
        </p:nvPicPr>
        <p:blipFill>
          <a:blip r:embed="rId3"/>
          <a:stretch/>
        </p:blipFill>
        <p:spPr>
          <a:xfrm>
            <a:off x="5905440" y="838080"/>
            <a:ext cx="3238560" cy="254016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7" descr="redcabba"/>
          <p:cNvPicPr/>
          <p:nvPr/>
        </p:nvPicPr>
        <p:blipFill>
          <a:blip r:embed="rId4"/>
          <a:stretch/>
        </p:blipFill>
        <p:spPr>
          <a:xfrm>
            <a:off x="6838920" y="2971800"/>
            <a:ext cx="230508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162560" cy="1143000"/>
          </a:xfrm>
          <a:prstGeom prst="rect">
            <a:avLst/>
          </a:prstGeom>
          <a:solidFill>
            <a:srgbClr val="ffc5cf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CID-BASE REACTION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itr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19191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919191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919191"/>
                </a:solidFill>
                <a:latin typeface="Arial"/>
              </a:rPr>
              <a:t>C</a:t>
            </a:r>
            <a:r>
              <a:rPr b="1" lang="en-US" sz="2800" spc="-1" strike="noStrike" baseline="-25000">
                <a:solidFill>
                  <a:srgbClr val="919191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919191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919191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919191"/>
                </a:solidFill>
                <a:latin typeface="Arial"/>
              </a:rPr>
              <a:t>(aq)   +   2 NaOH(aq)  ---&gt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aci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ba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aq)  +  2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(liq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rry out this reaction using 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TITRA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Group 4"/>
          <p:cNvGrpSpPr/>
          <p:nvPr/>
        </p:nvGrpSpPr>
        <p:grpSpPr>
          <a:xfrm>
            <a:off x="2419200" y="4184640"/>
            <a:ext cx="5309640" cy="2158920"/>
            <a:chOff x="2419200" y="4184640"/>
            <a:chExt cx="5309640" cy="2158920"/>
          </a:xfrm>
        </p:grpSpPr>
        <p:pic>
          <p:nvPicPr>
            <p:cNvPr id="362" name="Picture 5" descr=""/>
            <p:cNvPicPr/>
            <p:nvPr/>
          </p:nvPicPr>
          <p:blipFill>
            <a:blip r:embed="rId1"/>
            <a:stretch/>
          </p:blipFill>
          <p:spPr>
            <a:xfrm>
              <a:off x="2419200" y="4184640"/>
              <a:ext cx="3225960" cy="215892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</p:pic>
        <p:sp>
          <p:nvSpPr>
            <p:cNvPr id="363" name="Rectangle 6"/>
            <p:cNvSpPr/>
            <p:nvPr/>
          </p:nvSpPr>
          <p:spPr>
            <a:xfrm>
              <a:off x="5851080" y="4800600"/>
              <a:ext cx="1877760" cy="102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xalic acid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328680" y="925560"/>
            <a:ext cx="8483400" cy="5003640"/>
          </a:xfrm>
          <a:prstGeom prst="rect">
            <a:avLst/>
          </a:prstGeom>
          <a:ln w="0">
            <a:noFill/>
          </a:ln>
        </p:spPr>
      </p:pic>
      <p:sp>
        <p:nvSpPr>
          <p:cNvPr id="365" name="Text Box 3"/>
          <p:cNvSpPr/>
          <p:nvPr/>
        </p:nvSpPr>
        <p:spPr>
          <a:xfrm>
            <a:off x="592560" y="203040"/>
            <a:ext cx="786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Comic Sans MS"/>
              </a:rPr>
              <a:t>Setup for titrating an acid with a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Comic Sans MS"/>
              </a:rPr>
              <a:t>Titration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657240" y="198108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  Add solution from the bure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  Reagent (base) reacts with compound (acid) in solution in the flask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icator shows when exact stoichiometric reaction has occurred. (Acid = Bas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is called NEUTRALIZA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05M14VD1.avi" descr=""/>
          <p:cNvPicPr/>
          <p:nvPr/>
        </p:nvPicPr>
        <p:blipFill>
          <a:blip r:embed="rId1"/>
          <a:stretch/>
        </p:blipFill>
        <p:spPr>
          <a:xfrm>
            <a:off x="0" y="2133720"/>
            <a:ext cx="3192480" cy="37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2" restart="whenNotActive" nodeType="interactiveSeq" fill="hold">
                <p:stCondLst>
                  <p:cond evt="onClick">
                    <p:tgtEl>
                      <p:spTgt spid="368"/>
                    </p:tgtEl>
                  </p:cond>
                </p:stCondLst>
                <p:childTnLst>
                  <p:par>
                    <p:cTn id="633" nodeType="clickEffect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36" dur="1" fill="hold"/>
                                        <p:tgtEl>
                                          <p:spTgt spid="3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3809520" y="2361960"/>
            <a:ext cx="4496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5.62 mL of NaOH is neutralized with 25.2 mL of 0.0998 M HCl by titration to an equivalence point.  What is the concentration of the NaOH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title"/>
          </p:nvPr>
        </p:nvSpPr>
        <p:spPr>
          <a:xfrm>
            <a:off x="837720" y="380880"/>
            <a:ext cx="7239240" cy="144792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B PROBLEM #1:   Standardize a solution of NaOH — i.e., accurately determine its concentration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4" descr=""/>
          <p:cNvPicPr/>
          <p:nvPr/>
        </p:nvPicPr>
        <p:blipFill>
          <a:blip r:embed="rId1"/>
          <a:stretch/>
        </p:blipFill>
        <p:spPr>
          <a:xfrm>
            <a:off x="630360" y="1652760"/>
            <a:ext cx="3008160" cy="324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7162560" cy="1447920"/>
          </a:xfrm>
          <a:prstGeom prst="rect">
            <a:avLst/>
          </a:prstGeom>
          <a:solidFill>
            <a:srgbClr val="ffc5cf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ROBLEM:  You have 50.0 mL of 3.0 M NaOH and you want 0.50 M NaOH.  What do you do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d water to the 3.0 M solution to lower its concentration to 0.50 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Dilute the solution!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7162560" cy="1371600"/>
          </a:xfrm>
          <a:prstGeom prst="rect">
            <a:avLst/>
          </a:prstGeom>
          <a:solidFill>
            <a:srgbClr val="ffc5cf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OBLEM:  You have 50.0 mL of 3.0 M NaOH and you want 0.50 M NaOH.  What do you do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3" descr=""/>
          <p:cNvPicPr/>
          <p:nvPr/>
        </p:nvPicPr>
        <p:blipFill>
          <a:blip r:embed="rId1"/>
          <a:stretch/>
        </p:blipFill>
        <p:spPr>
          <a:xfrm>
            <a:off x="1015920" y="2019240"/>
            <a:ext cx="6019920" cy="449604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4"/>
          <p:cNvSpPr/>
          <p:nvPr/>
        </p:nvSpPr>
        <p:spPr>
          <a:xfrm>
            <a:off x="3563280" y="2333520"/>
            <a:ext cx="4270320" cy="10638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t how much wa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 we ad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2"/>
          <p:cNvGraphicFramePr/>
          <p:nvPr/>
        </p:nvGraphicFramePr>
        <p:xfrm>
          <a:off x="1981080" y="1523880"/>
          <a:ext cx="6915240" cy="398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523880"/>
                    <a:ext cx="6915240" cy="398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eb9"/>
                </a:solidFill>
                <a:latin typeface="Arial"/>
              </a:rPr>
              <a:t>Acid Nomenclature 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304920" y="2895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No Oxygen</a:t>
            </a:r>
            <a:r>
              <a:rPr b="0" lang="en-US" sz="2400" spc="-1" strike="noStrike">
                <a:solidFill>
                  <a:srgbClr val="fcfeb9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380880" y="42670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w/Oxyg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6"/>
          <p:cNvSpPr/>
          <p:nvPr/>
        </p:nvSpPr>
        <p:spPr>
          <a:xfrm flipV="1">
            <a:off x="1981080" y="411444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7"/>
          <p:cNvSpPr/>
          <p:nvPr/>
        </p:nvSpPr>
        <p:spPr>
          <a:xfrm>
            <a:off x="1981080" y="457200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228600" y="5410080"/>
            <a:ext cx="8915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n easy way to remember which goes with whic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In the cafeteria, you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ATE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something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IC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k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7162560" cy="1447920"/>
          </a:xfrm>
          <a:prstGeom prst="rect">
            <a:avLst/>
          </a:prstGeom>
          <a:solidFill>
            <a:srgbClr val="ffc5cf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OBLEM:  You have 50.0 mL of 3.0 M NaOH and you want 0.50 M NaOH.  What do you d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16256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How much water is added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The important point is that ---&g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Group 4"/>
          <p:cNvGrpSpPr/>
          <p:nvPr/>
        </p:nvGrpSpPr>
        <p:grpSpPr>
          <a:xfrm>
            <a:off x="914400" y="3578400"/>
            <a:ext cx="7273440" cy="1222200"/>
            <a:chOff x="914400" y="3578400"/>
            <a:chExt cx="7273440" cy="1222200"/>
          </a:xfrm>
        </p:grpSpPr>
        <p:sp>
          <p:nvSpPr>
            <p:cNvPr id="380" name="Rectangle 5"/>
            <p:cNvSpPr/>
            <p:nvPr/>
          </p:nvSpPr>
          <p:spPr>
            <a:xfrm>
              <a:off x="914400" y="3581280"/>
              <a:ext cx="7238880" cy="121932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6"/>
            <p:cNvSpPr/>
            <p:nvPr/>
          </p:nvSpPr>
          <p:spPr>
            <a:xfrm>
              <a:off x="1455480" y="3578400"/>
              <a:ext cx="673236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moles of NaOH in ORIGINAL solution =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moles of NaOH in FINAL solu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143000"/>
          </a:xfrm>
          <a:prstGeom prst="rect">
            <a:avLst/>
          </a:prstGeom>
          <a:solidFill>
            <a:srgbClr val="ffc5cf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OBLEM:  You have 50.0 mL of 3.0 M NaOH and you want 0.50 M NaOH.  What do you do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990720" y="1523520"/>
            <a:ext cx="716256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ount of NaOH in original solution =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            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 • V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=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3.0 mol/L)(0.050 L)  =  0.5 M NaOH  X  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mount of NaOH in final solution must also = 0.15 mol NaO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olume of final solution 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(0.15 mol NaOH)  /  (0.50 M)  = 0.30 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00 m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1447920"/>
          </a:xfrm>
          <a:prstGeom prst="rect">
            <a:avLst/>
          </a:prstGeom>
          <a:solidFill>
            <a:srgbClr val="ffc5cf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OBLEM:  You have 50.0 mL of 3.0 M NaOH and you want 0.50 M NaOH.  What do you do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095520" y="1904760"/>
            <a:ext cx="26672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26856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Conclusion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dd 250 mL of wat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50.0 mL of 3.0 M NaOH to make 300 mL of 0.50 M NaOH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4" descr=""/>
          <p:cNvPicPr/>
          <p:nvPr/>
        </p:nvPicPr>
        <p:blipFill>
          <a:blip r:embed="rId1"/>
          <a:stretch/>
        </p:blipFill>
        <p:spPr>
          <a:xfrm>
            <a:off x="254160" y="1790640"/>
            <a:ext cx="6019560" cy="449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2"/>
          <p:cNvSpPr/>
          <p:nvPr/>
        </p:nvSpPr>
        <p:spPr>
          <a:xfrm>
            <a:off x="609480" y="3200400"/>
            <a:ext cx="4724640" cy="1295280"/>
          </a:xfrm>
          <a:prstGeom prst="rect">
            <a:avLst/>
          </a:prstGeom>
          <a:solidFill>
            <a:srgbClr val="ffc5cf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914400" y="236232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shortcu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• V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=  M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• V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4" descr=""/>
          <p:cNvPicPr/>
          <p:nvPr/>
        </p:nvPicPr>
        <p:blipFill>
          <a:blip r:embed="rId1"/>
          <a:stretch/>
        </p:blipFill>
        <p:spPr>
          <a:xfrm>
            <a:off x="503280" y="1754280"/>
            <a:ext cx="1866960" cy="18032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5" descr=""/>
          <p:cNvPicPr/>
          <p:nvPr/>
        </p:nvPicPr>
        <p:blipFill>
          <a:blip r:embed="rId2"/>
          <a:stretch/>
        </p:blipFill>
        <p:spPr>
          <a:xfrm>
            <a:off x="7294680" y="3587760"/>
            <a:ext cx="1401480" cy="2717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</p:pic>
      <p:sp>
        <p:nvSpPr>
          <p:cNvPr id="391" name="PlaceHolder 2"/>
          <p:cNvSpPr>
            <a:spLocks noGrp="1"/>
          </p:cNvSpPr>
          <p:nvPr>
            <p:ph type="title"/>
          </p:nvPr>
        </p:nvSpPr>
        <p:spPr>
          <a:xfrm>
            <a:off x="1523880" y="609120"/>
            <a:ext cx="609624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Comic Sans MS"/>
              </a:rPr>
              <a:t>Preparing Solutions by Dilu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You try this dilution proble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990720" y="914040"/>
            <a:ext cx="71625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have a stock bottle of hydrochloric acid, which is 12.1 M.  You need 400. mL of 0.10 M HCl.  How much of the acid and how much water will you need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479520" y="1946160"/>
            <a:ext cx="525924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Br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(a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4720">
              <a:lnSpc>
                <a:spcPct val="12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2819520" y="1981080"/>
            <a:ext cx="423360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18ffd"/>
                </a:solidFill>
                <a:latin typeface="Arial"/>
              </a:rPr>
              <a:t>hydr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o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2819520" y="2895480"/>
            <a:ext cx="3752640" cy="8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rbon</a:t>
            </a:r>
            <a:r>
              <a:rPr b="1" lang="en-US" sz="2400" spc="-1" strike="noStrike">
                <a:solidFill>
                  <a:srgbClr val="618ffd"/>
                </a:solidFill>
                <a:latin typeface="Arial"/>
              </a:rPr>
              <a:t>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8"/>
          <p:cNvSpPr/>
          <p:nvPr/>
        </p:nvSpPr>
        <p:spPr>
          <a:xfrm>
            <a:off x="2819520" y="4038480"/>
            <a:ext cx="3811320" cy="8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lfur</a:t>
            </a:r>
            <a:r>
              <a:rPr b="1" lang="en-US" sz="2400" spc="-1" strike="noStrike">
                <a:solidFill>
                  <a:srgbClr val="618ffd"/>
                </a:solidFill>
                <a:latin typeface="Arial"/>
              </a:rPr>
              <a:t>o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Comic Sans MS"/>
              </a:rPr>
              <a:t>Acid Nomenclature Re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Comic Sans MS"/>
              </a:rPr>
              <a:t>Name ‘Em!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980720"/>
            <a:ext cx="245736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 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(aq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l 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(aq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N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fanfare 07.wav" descr=""/>
          <p:cNvPicPr/>
          <p:nvPr/>
        </p:nvPicPr>
        <p:blipFill>
          <a:blip r:embed="rId1"/>
          <a:stretch/>
        </p:blipFill>
        <p:spPr>
          <a:xfrm>
            <a:off x="914400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272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5T23:08:44Z</dcterms:created>
  <dc:creator>Neil Rapp</dc:creator>
  <dc:description/>
  <cp:keywords>acids bases pH</cp:keywords>
  <dc:language>en-US</dc:language>
  <cp:lastModifiedBy>LEGION</cp:lastModifiedBy>
  <cp:lastPrinted>1997-03-04T21:31:49Z</cp:lastPrinted>
  <dcterms:modified xsi:type="dcterms:W3CDTF">2017-01-26T09:11:38Z</dcterms:modified>
  <cp:revision>258</cp:revision>
  <dc:subject>Chemistry I (High School)</dc:subject>
  <dc:title>Acids and Bases</dc:title>
</cp:coreProperties>
</file>