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D35E-C690-473D-BFB4-8A4A7319A04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830-00F0-4813-83D9-F9DB5A5F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64C-0B86-428E-8DB0-1E76A399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865-F6F2-439D-B6A1-62345A16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FC0-164B-44F5-A369-E6254CF1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9DDA-D6D2-41C6-9685-50755E8A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AA85-857B-4C14-893E-FB5064B0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0741-08C3-494B-B63C-BD5848A1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B8F6-CE07-4000-8B09-A3D9C015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F0AE-F1A2-42DA-9F07-10B84846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CBDD-2BE2-4C09-882A-27299567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F827-5F58-4B63-92A5-92B9CD7A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7E5-3BD2-45A8-86CB-67D73485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ABBC-D887-429B-81FE-0FE6BF75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3203-0AE2-4611-88E8-3A5D1EF6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E7B4-73C9-4872-B5AD-3D6AEC66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0472-8B92-47F5-B4B0-E856BBE6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24D5-2A6C-4CFB-8CFF-E3B92DDC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715-6859-437A-955E-90B2D06B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549-1626-407C-B846-DDE1D720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029-20DA-4ED1-B38B-0FA27FF8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458-AE91-44B1-9E18-2CBF3D6C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B95-C3E3-417C-9D49-B2A0E857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7A8-384A-4A71-9306-D6FCF1C4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D1F-3AF4-4F97-8B67-A78AD1D5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F90E-CB89-4866-8073-E9C7322628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7EAC-3E1D-409A-923F-3FF61DAA85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hup.edu/~dsimanek/scenario/labman1/atom.gif&amp;imgrefurl=http://www.lhup.edu/~dsimanek/scenario/analogy.htm&amp;usg=__FEC_VogIXbghGkoxomZcOWXdC_0=&amp;h=240&amp;w=245&amp;sz=12&amp;hl=en&amp;start=15&amp;um=1&amp;tbnid=-U8eVTWiIsbxfM:&amp;tbnh=108&amp;tbnw=110&amp;prev=/images%3Fq%3Dmodels%2Bof%2Bthe%2Batom%26um%3D1%26hl%3Den%26rlz%3D1T4GPEA_enCA295CA295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ATO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048120"/>
            <a:ext cx="2114640" cy="20764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rnest Rutherford (1908) - Nuclear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rutherford_atom"/>
          <p:cNvPicPr/>
          <p:nvPr/>
        </p:nvPicPr>
        <p:blipFill>
          <a:blip r:embed="rId1"/>
          <a:stretch/>
        </p:blipFill>
        <p:spPr>
          <a:xfrm>
            <a:off x="1295280" y="2590920"/>
            <a:ext cx="2432160" cy="2743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ernest_rutherford2"/>
          <p:cNvPicPr/>
          <p:nvPr/>
        </p:nvPicPr>
        <p:blipFill>
          <a:blip r:embed="rId2"/>
          <a:stretch/>
        </p:blipFill>
        <p:spPr>
          <a:xfrm>
            <a:off x="5410080" y="2438280"/>
            <a:ext cx="207648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rnest Rutherford (1908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nucleus3gif"/>
          <p:cNvPicPr/>
          <p:nvPr/>
        </p:nvPicPr>
        <p:blipFill>
          <a:blip r:embed="rId1"/>
          <a:stretch/>
        </p:blipFill>
        <p:spPr>
          <a:xfrm>
            <a:off x="1676520" y="2286000"/>
            <a:ext cx="5095800" cy="33433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atom2.jpg"/>
          <p:cNvPicPr/>
          <p:nvPr/>
        </p:nvPicPr>
        <p:blipFill>
          <a:blip r:embed="rId1"/>
          <a:stretch/>
        </p:blipFill>
        <p:spPr>
          <a:xfrm>
            <a:off x="2362320" y="21337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5" descr="T014145A.gif"/>
          <p:cNvPicPr/>
          <p:nvPr/>
        </p:nvPicPr>
        <p:blipFill>
          <a:blip r:embed="rId1"/>
          <a:stretch/>
        </p:blipFill>
        <p:spPr>
          <a:xfrm>
            <a:off x="822240" y="1816200"/>
            <a:ext cx="7493040" cy="42861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 combination of all mode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Picture 2" descr="http://sharpiron.files.wordpress.com/2008/06/atomic-models3.jpg"/>
          <p:cNvPicPr/>
          <p:nvPr/>
        </p:nvPicPr>
        <p:blipFill>
          <a:blip r:embed="rId1"/>
          <a:stretch/>
        </p:blipFill>
        <p:spPr>
          <a:xfrm>
            <a:off x="1143000" y="1523880"/>
            <a:ext cx="6721560" cy="5127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Drawing Bohr Diagra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laser1.jpg"/>
          <p:cNvPicPr/>
          <p:nvPr/>
        </p:nvPicPr>
        <p:blipFill>
          <a:blip r:embed="rId1"/>
          <a:stretch/>
        </p:blipFill>
        <p:spPr>
          <a:xfrm>
            <a:off x="2209680" y="1371600"/>
            <a:ext cx="4343400" cy="4206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752480" y="1514520"/>
            <a:ext cx="5083200" cy="3438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Ion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362320" y="2403360"/>
            <a:ext cx="3843360" cy="26449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6" name="Picture 4" descr="b11_5"/>
          <p:cNvPicPr/>
          <p:nvPr/>
        </p:nvPicPr>
        <p:blipFill>
          <a:blip r:embed="rId1"/>
          <a:stretch/>
        </p:blipFill>
        <p:spPr>
          <a:xfrm>
            <a:off x="1295280" y="1998720"/>
            <a:ext cx="6477120" cy="3806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910040" cy="35928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o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 3 subatomic particles: 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electrons (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and neutrons 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How ionic bonds form: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Picture 4" descr="Sodium_atom_and_Chlorine_atom"/>
          <p:cNvPicPr/>
          <p:nvPr/>
        </p:nvPicPr>
        <p:blipFill>
          <a:blip r:embed="rId1"/>
          <a:stretch/>
        </p:blipFill>
        <p:spPr>
          <a:xfrm>
            <a:off x="1447920" y="2232000"/>
            <a:ext cx="5295960" cy="28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Picture 4" descr="sodium_ion_and_chlorine_ion"/>
          <p:cNvPicPr/>
          <p:nvPr/>
        </p:nvPicPr>
        <p:blipFill>
          <a:blip r:embed="rId1"/>
          <a:stretch/>
        </p:blipFill>
        <p:spPr>
          <a:xfrm>
            <a:off x="1924200" y="2419200"/>
            <a:ext cx="5295600" cy="30099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s of the Atom - His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ttp://www.lsua.info/chem1001/vocabulary/Module3/AtomHistory.jpg"/>
          <p:cNvPicPr/>
          <p:nvPr/>
        </p:nvPicPr>
        <p:blipFill>
          <a:blip r:embed="rId1"/>
          <a:stretch/>
        </p:blipFill>
        <p:spPr>
          <a:xfrm>
            <a:off x="1549440" y="1028880"/>
            <a:ext cx="6146640" cy="4609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ohn Dalton (1803)- Billiard B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10312949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353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s4"/>
          <p:cNvPicPr/>
          <p:nvPr/>
        </p:nvPicPr>
        <p:blipFill>
          <a:blip r:embed="rId2"/>
          <a:stretch/>
        </p:blipFill>
        <p:spPr>
          <a:xfrm>
            <a:off x="5334120" y="23623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ohn Dalton (1803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. J. Thomson (1897) – Plum Pudd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Thomson_model_E"/>
          <p:cNvPicPr/>
          <p:nvPr/>
        </p:nvPicPr>
        <p:blipFill>
          <a:blip r:embed="rId1"/>
          <a:stretch/>
        </p:blipFill>
        <p:spPr>
          <a:xfrm>
            <a:off x="1181160" y="2666880"/>
            <a:ext cx="2598840" cy="2743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rutherford3"/>
          <p:cNvPicPr/>
          <p:nvPr/>
        </p:nvPicPr>
        <p:blipFill>
          <a:blip r:embed="rId2"/>
          <a:stretch/>
        </p:blipFill>
        <p:spPr>
          <a:xfrm>
            <a:off x="5715000" y="2743200"/>
            <a:ext cx="1765440" cy="27432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. J. Thomson (189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07:21Z</dcterms:created>
  <dc:creator>gwinsor</dc:creator>
  <dc:description/>
  <dc:language>en-US</dc:language>
  <cp:lastModifiedBy>LEGION</cp:lastModifiedBy>
  <dcterms:modified xsi:type="dcterms:W3CDTF">2017-01-26T09:19:26Z</dcterms:modified>
  <cp:revision>15</cp:revision>
  <dc:subject/>
  <dc:title>The ATOM</dc:title>
</cp:coreProperties>
</file>