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jpeg" ContentType="image/jpe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7B29-B2FF-491E-B6A7-834654FAB9A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rnest Rutherford (1908) - Nu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 (19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ls Bohr (19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Mechanics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ll model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Ato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ed of 3 subatomic particles: protons (p+), electrons (e-) and neutrons (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onic bonds form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dium + 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of the Atom -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ohn Dalton (1803)- Billiard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 (1803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J. J. Thomson (1897) – 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J. Thomson (18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E3B8-ED5C-429C-9C3B-EAD2C085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CEE-5AE1-465E-97A3-5C387601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582F-D55D-4F79-8DF0-AF5A0224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36A-4F1A-4662-AFD0-B0F6AFA5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F48-AD75-4F30-85F8-F6E13000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0342-BC84-47AC-B818-7C11ECA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18F-7D3B-4B4F-A695-4E2BE004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F414-B3CC-47B5-B7EB-A9D62EDA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554-3789-47BF-AD4D-9659EB84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3A62-C62C-4950-A4A3-34788E44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0D7A-762E-4921-937F-3CD1B6F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A0E-C21B-46DA-9314-F5D1364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14BF-B9D6-4D0B-9277-D772039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C040-044D-481F-80EE-F657E13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F4D2-4EA4-4521-A862-3FC4C81E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9CDD-6AB1-47D1-AF33-7CE8B588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29AC-3472-4AB8-A93D-40AC1F68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377-95C3-43BB-876F-97029E83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A78-F536-477B-9136-5E916DF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FA9-9005-478C-B97F-2DF5D2CC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660D-5D9E-4032-8BBD-3A05BA5D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3C4-A2DC-41EA-BFDB-DEB549F3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CD6-6176-4CDE-8D9A-1222D9D1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5A9-1309-47E8-9F5E-2EC8A582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6BC3-CD27-4E4F-91FA-F9E50BED4F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D306-5465-4CB0-A332-AD95BD032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hup.edu/~dsimanek/scenario/labman1/atom.gif&amp;imgrefurl=http://www.lhup.edu/~dsimanek/scenario/analogy.htm&amp;usg=__FEC_VogIXbghGkoxomZcOWXdC_0=&amp;h=240&amp;w=245&amp;sz=12&amp;hl=en&amp;start=15&amp;um=1&amp;tbnid=-U8eVTWiIsbxfM:&amp;tbnh=108&amp;tbnw=110&amp;prev=/images%3Fq%3Dmodels%2Bof%2Bthe%2Batom%26um%3D1%26hl%3Den%26rlz%3D1T4GPEA_enCA295CA295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 ATO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at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3048120"/>
            <a:ext cx="2114640" cy="20764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Ernest Rutherford (1908) - Nuclear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rutherford_atom"/>
          <p:cNvPicPr/>
          <p:nvPr/>
        </p:nvPicPr>
        <p:blipFill>
          <a:blip r:embed="rId1"/>
          <a:stretch/>
        </p:blipFill>
        <p:spPr>
          <a:xfrm>
            <a:off x="1295280" y="2590920"/>
            <a:ext cx="2432160" cy="2743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rnest_rutherford2"/>
          <p:cNvPicPr/>
          <p:nvPr/>
        </p:nvPicPr>
        <p:blipFill>
          <a:blip r:embed="rId2"/>
          <a:stretch/>
        </p:blipFill>
        <p:spPr>
          <a:xfrm>
            <a:off x="5410080" y="2438280"/>
            <a:ext cx="207648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rnest Rutherford (1908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vered that the atom is mostly empty space with a dense positively charged nucleus surrounded by negative electron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therford received the Nobel Prize in chemistry in 1908 for his contributions into the structure of the atom.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nucleus3gif"/>
          <p:cNvPicPr/>
          <p:nvPr/>
        </p:nvPicPr>
        <p:blipFill>
          <a:blip r:embed="rId1"/>
          <a:stretch/>
        </p:blipFill>
        <p:spPr>
          <a:xfrm>
            <a:off x="1676520" y="2286000"/>
            <a:ext cx="5095800" cy="334332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ils Bohr (191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electrons traveled in circular orbits and that only certain orbits were allowed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received the Nobel Prize in physics in 1922 for his the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atom2.jpg"/>
          <p:cNvPicPr/>
          <p:nvPr/>
        </p:nvPicPr>
        <p:blipFill>
          <a:blip r:embed="rId1"/>
          <a:stretch/>
        </p:blipFill>
        <p:spPr>
          <a:xfrm>
            <a:off x="2362320" y="21337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Quantum Mechanics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lectron Cloud Model (1920'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n atom consists of a dense nucleus composed of protons and neutrons surrounded by electrons that exist in different clouds at the various energy level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Erwin Schrodinger and Werner Heisenburg developed probability functions to determine the regions or clouds in which electrons would most likely be fou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Content Placeholder 5" descr="T014145A.gif"/>
          <p:cNvPicPr/>
          <p:nvPr/>
        </p:nvPicPr>
        <p:blipFill>
          <a:blip r:embed="rId1"/>
          <a:stretch/>
        </p:blipFill>
        <p:spPr>
          <a:xfrm>
            <a:off x="822240" y="1816200"/>
            <a:ext cx="7493040" cy="42861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 combination of all models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Picture 2" descr="http://sharpiron.files.wordpress.com/2008/06/atomic-models3.jpg"/>
          <p:cNvPicPr/>
          <p:nvPr/>
        </p:nvPicPr>
        <p:blipFill>
          <a:blip r:embed="rId1"/>
          <a:stretch/>
        </p:blipFill>
        <p:spPr>
          <a:xfrm>
            <a:off x="1143000" y="1523880"/>
            <a:ext cx="6721560" cy="51278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rawing Bohr Diagra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 numb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the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to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toms are electrically neutral, # of protons = #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protons + #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neutrons = atomic mass (rounded off) – atomic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s and neutrons account for most of the mass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nergy level represents a specific value of energy of an electron and corresponds to a general location around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occupied energy levels in any atom is normally the same as the period number in which an atom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laser1.jpg"/>
          <p:cNvPicPr/>
          <p:nvPr/>
        </p:nvPicPr>
        <p:blipFill>
          <a:blip r:embed="rId1"/>
          <a:stretch/>
        </p:blipFill>
        <p:spPr>
          <a:xfrm>
            <a:off x="2209680" y="13716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irst 3 energy levels, the maximum number of electrons that can be present are 2, 8 and 8 in order of increasing energy (increasing distance from the nucle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er energy level is filled with electrons to its maximum level before the next level is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s in the highest (outermost) occupied energy level are called valence electrons. Number of valence electrons is the same as the group number for group A elements (1,2,13-1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ohr Diagrams (continued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raw a circle for the nucle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Put in the number of protons and neutrons inside the cir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etermine the number of electrons and place them in energy levels starting closest to the nucleus and filling them in the order of 2, 8, 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752480" y="1514520"/>
            <a:ext cx="5083200" cy="3438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low chemical re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noble gases, all of which have 8 valence electrons (except He, which has 2)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tability is a function of having a full complement of valence electr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s that do not have full electrons energy levels are unstable and must gain, lose or share electrons to become st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atoms can become more stable by reacting and changing the number of their electr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Stable Atom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follow one of 2 ru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) Octet ru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8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most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) Duet r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attempt to obtain 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ence electr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 H, Li and B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oms can achieve a stable octet or duet by forming 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on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tom or groups of atoms that have a positive or negative charge, due to the loss or gain of one or more electr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ngle atoms form simple ions (monatomic ions); groups of atoms form complex ions (polyatomic 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dium metal and chlorine gas react to produce NaCl, a very stable and unreactive substance, compared to Na or C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odium atom loses 1 electron to the chlorine atom so both of their outer levels are filled. In doing so, the atoms form ions of opposite ch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362320" y="2403360"/>
            <a:ext cx="3843360" cy="26449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6" name="Picture 4" descr="b11_5"/>
          <p:cNvPicPr/>
          <p:nvPr/>
        </p:nvPicPr>
        <p:blipFill>
          <a:blip r:embed="rId1"/>
          <a:stretch/>
        </p:blipFill>
        <p:spPr>
          <a:xfrm>
            <a:off x="1295280" y="1998720"/>
            <a:ext cx="6477120" cy="3806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910040" cy="359280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o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asic building block of all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est particle of an element that retains the properties of that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ctrically neutral: the number of positive charges (protons) equals the number of negative charges (electr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osed of 3 subatomic particles: 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electrons (e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and neutrons (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How ionic bonds form: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egin with atoms of two different elements that do not have 8 electrons in their outer most energy level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4" descr="Sodium_atom_and_Chlorine_atom"/>
          <p:cNvPicPr/>
          <p:nvPr/>
        </p:nvPicPr>
        <p:blipFill>
          <a:blip r:embed="rId1"/>
          <a:stretch/>
        </p:blipFill>
        <p:spPr>
          <a:xfrm>
            <a:off x="1447920" y="2232000"/>
            <a:ext cx="5295960" cy="28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sodium atom (Na ) donates 1 electron becoming a positively sodium ion ( Na+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hlorine atom (Cl) accepts the donated electron becoming a negatively charged chloride ion (Cl-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dium + chlor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0" name="Picture 4" descr="sodium_ion_and_chlorine_ion"/>
          <p:cNvPicPr/>
          <p:nvPr/>
        </p:nvPicPr>
        <p:blipFill>
          <a:blip r:embed="rId1"/>
          <a:stretch/>
        </p:blipFill>
        <p:spPr>
          <a:xfrm>
            <a:off x="1924200" y="2419200"/>
            <a:ext cx="5295600" cy="30099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s of the Atom - His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critus a fifth century B.C. Greek philosopher proposed that all matter was composed of indivisible particles called atoms (“atoma” - Greek for indivisible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ttp://www.lsua.info/chem1001/vocabulary/Module3/AtomHistory.jpg"/>
          <p:cNvPicPr/>
          <p:nvPr/>
        </p:nvPicPr>
        <p:blipFill>
          <a:blip r:embed="rId1"/>
          <a:stretch/>
        </p:blipFill>
        <p:spPr>
          <a:xfrm>
            <a:off x="1549440" y="1028880"/>
            <a:ext cx="6146640" cy="4609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ohn Dalton (1803)- Billiard B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10312949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3532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4"/>
          <p:cNvPicPr/>
          <p:nvPr/>
        </p:nvPicPr>
        <p:blipFill>
          <a:blip r:embed="rId2"/>
          <a:stretch/>
        </p:blipFill>
        <p:spPr>
          <a:xfrm>
            <a:off x="5334120" y="23623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ohn Dalton (1803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lliard Ball Model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d the atom as a small solid sphere.  He really got the "ball" rolling for modern chemistr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lement was composed of the same kind of ato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 are composed of atoms in specific rati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reactions are rearrangements of atoms (mass is conserved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J. J. Thomson (1897) – Plum Pudd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Thomson_model_E"/>
          <p:cNvPicPr/>
          <p:nvPr/>
        </p:nvPicPr>
        <p:blipFill>
          <a:blip r:embed="rId1"/>
          <a:stretch/>
        </p:blipFill>
        <p:spPr>
          <a:xfrm>
            <a:off x="1181160" y="2666880"/>
            <a:ext cx="2598840" cy="2743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rutherford3"/>
          <p:cNvPicPr/>
          <p:nvPr/>
        </p:nvPicPr>
        <p:blipFill>
          <a:blip r:embed="rId2"/>
          <a:stretch/>
        </p:blipFill>
        <p:spPr>
          <a:xfrm>
            <a:off x="5715000" y="2743200"/>
            <a:ext cx="1765440" cy="27432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. J. Thomson (1897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m Pudding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that the atom was a sphere of positive electricity with negative particles imbedded throughout after discovering the electr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iscovery for which he was awarded the Nobel Prize in physics in 1906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07:21Z</dcterms:created>
  <dc:creator>gwinsor</dc:creator>
  <dc:description/>
  <dc:language>en-US</dc:language>
  <cp:lastModifiedBy>LEGION</cp:lastModifiedBy>
  <dcterms:modified xsi:type="dcterms:W3CDTF">2017-01-26T09:19:26Z</dcterms:modified>
  <cp:revision>15</cp:revision>
  <dc:subject/>
  <dc:title>The ATOM</dc:title>
</cp:coreProperties>
</file>