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wmf" ContentType="image/x-wmf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5181-BD8B-48B1-B87B-C442AF809F22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rnest Rutherford (1908) - Nucl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rnest Rutherford (1908) - Nu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nest Rutherford (190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at the atom is mostly empty space with a dense positively charged nucleus surrounded by negative electrons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therford received the Nobel Prize in chemistry in 1908 for his contributions into the structure of the atom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est Rutherford (19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at the atom is mostly empty space with a dense positively charged nucleus surrounded by negative electr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received the Nobel Prize in chemistry in 1908 for his contributions into the structure of the atom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that electrons traveled in circular orbits and that only certain orbits were allowed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received the Nobel Prize in physics in 1922 for his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that electrons traveled in circular orbits and that only certain orbits were allowed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received the Nobel Prize in physics in 1922 for his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Cloud Model (1920'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tom consists of a dense nucleus composed of protons and neutrons surrounded by electrons that exist in different clouds at the various energy levels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win Schrodinger and Werner Heisenburg developed probability functions to determine the regions or clouds in which electrons would most likely be f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loud Model (1920'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consists of a dense nucleus composed of protons and neutrons surrounded by electrons that exist in different clouds at the various energy level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win Schrodinger and Werner Heisenburg developed probability functions to determine the regions or clouds in which electrons would most likely be f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bination of all model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ll model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Bohr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ies the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 to the number of protons in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atoms are electrically neutral, # of protons = #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protons + #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neutrons = atomic mass (rounded off) – atomic #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and neutrons account for most of the mass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 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es the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 to the number of protons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toms are electrically neutral, # of protons = #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protons + # of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neutrons = atomic mass (rounded off) –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nd neutrons account for most of the mass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nergy level represents a specific value of energy of an electron and corresponds to a general location around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occupied energy levels in any atom is normally the same as the period number in which an atom app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ergy level represents a specific value of energy of an electron and corresponds to a general location a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occupied energy levels in any atom is normally the same as the period number in which an atom app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wer energy level is filled with electrons to its maximum level before the next level is sta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wer energy level is filled with electrons to its maximum level before the next level is sta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circle for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in the number of protons and neutrons inside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the number of electrons and place them in energy levels starting closest to the nucleus and filling them in the order of 2, 8, 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le for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in the number of protons and neutrons inside th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and place them in energy levels starting closest to the nucleus and filling them in the order of 2, 8,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low chemical re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noble gases, all of which have 8 valence electrons (except He, which has 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ility is a function of having a full complement of valence electr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that do not have full electrons energy levels are unstable and must gain, lose or share electrons to become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atoms can become more stable by reacting and changing the number of their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low chemical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noble gases, all of which have 8 valence electrons (except He, which has 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 is a function of having a full complement of valence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that do not have full electrons energy levels are unstable and must gain, lose or share electrons to become s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toms can become more stable by reacting and changing the number of their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can follow one of 2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Octet rul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ttempt to obtain 8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most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Duet ru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ttempt to obtain 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ence elec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H, Li an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can achieve a stable octet or duet by forming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can follow one of 2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ctet r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ttempt to obtain 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most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Duet r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ttempt to obtain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H, Li an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can achieve a stable octet or duet by forming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tom or groups of atoms that have a positive or negative charge, due to the loss or gain of one or more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atoms form simple ions (monatomic ions); groups of atoms form complex ions (polyatomic 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or groups of atoms that have a positive or negative charge, due to the loss or gain of one or mor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atoms form simple ions (monatomic ions); groups of atoms form complex ions (polyatomic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metal and chlorine gas react to produce NaCl, a very stable and unreactive substance, compared to Na or C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dium atom loses 1 electron to the chlorine atom so both of their outer levels are filled. In doing so, the atoms form ions of opposit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metal and chlorine gas react to produce NaCl, a very stable and unreactive substance, compared to Na or C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 atom loses 1 electron to the chlorine atom so both of their outer levels are filled. In doing so, the atoms form ions of opposit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sic building block of all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particle of an element that retains the properties of that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ly neutral: the number of positive charges (protons) equals the number of negative charges (electr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3 subatomic particles: protons (p+), electrons (e-) and neutrons (n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building block of all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ies of that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ly neutral: the number of positive charges (protons) equals the number of negative charges (elect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ed of 3 subatomic particles: protons (p+), electrons (e-) and neutrons (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onic bonds form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 with atoms of two different elements that do not have 8 electrons in their outer most energy lev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onic bonds form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with atoms of two different elements that do not have 8 electrons in their outer most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dium atom (Na ) donates 1 electron becoming a positively sodium ion ( Na+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lorine atom (Cl) accepts the donated electron becoming a negatively charged chloride ion (Cl-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 atom (Na ) donates 1 electron becoming a positively sodium ion ( Na+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lorine atom (Cl) accepts the donated electron becoming a negatively charged chloride ion (Cl-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of the Atom -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of the Atom -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John Dalton (1803)- Billiard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John Dalton (1803)- Billiard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Dalton (180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iard Ball Model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ed the atom as a small solid sphere.  He really got the "ball" rolling for modern chemistry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element was composed of the same kind of ato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unds are composed of atoms in specific rati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reactions are rearrangements of atoms (mass is conserved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alton (180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iard Ball Model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ed the atom as a small solid sphere.  He really got the "ball" rolling for modern chemistry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was composed of the same kind of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s are composed of atoms in specific rati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rearrangements of atoms (mass is conserved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J. J. Thomson (1897) – Plum Pud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J. J. Thomson (1897) – Plum P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. J. Thomson (189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m Pudding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that the atom was a sphere of positive electricity with negative particles imbedded throughout after discovering the 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scovery for which he was awarded the Nobel Prize in physics in 190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 J. Thomson (189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that the atom was a sphere of positive electricity with negative particles imbedded throughout after discovering the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covery for which he was awarded the Nobel Prize in physics in 190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27F1-0CCE-45A7-81C7-2BC7C679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F14E-6D3B-47E2-AA99-8575DB74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E87D-6F51-4476-A1F2-8583EDDC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61DE-C584-4499-BBD9-37C67309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FA55-0DF8-4B30-9CD4-D6142DC0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5527-0D87-402E-A55F-859C12DA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EFCC-DA5C-47FB-824A-FEDA8B4B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C53C-9B7D-45D7-93E6-3F28EC1C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6BA4-BA47-4644-9D15-6307EB58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9E45-3F64-4335-98AD-35F481D4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7941-82A7-4AFA-B95F-982A8BA4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38F8-9660-42ED-98D7-1FEC0B3F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CC6A-D4B4-4A26-8FCC-4F4D2ED1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5949-ED60-48CC-87FD-9B8F2971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BFAC-F91F-4007-BB4B-10386FD2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1B13-DDD8-44C8-8C65-0929168D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50D5-F711-478B-B292-FCCE1003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C7B2-B963-47FE-BD06-B8E1929B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7270-B743-4628-902F-00D2BC5D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77B6-7EEE-42DF-9913-3B0FDB22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10AB-33C4-46B5-B4AE-8BCA067B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BD29-4602-4605-8945-5A66FA3B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BB5E-1ABB-4783-A3BA-318A4D44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88F-89DE-4419-91C8-A2D1F489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1284-E240-4E8A-A4FE-F48F04B126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1B11-B8C9-4098-9E82-0D5FFD23A0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hup.edu/~dsimanek/scenario/labman1/atom.gif&amp;imgrefurl=http://www.lhup.edu/~dsimanek/scenario/analogy.htm&amp;usg=__FEC_VogIXbghGkoxomZcOWXdC_0=&amp;h=240&amp;w=245&amp;sz=12&amp;hl=en&amp;start=15&amp;um=1&amp;tbnid=-U8eVTWiIsbxfM:&amp;tbnh=108&amp;tbnw=110&amp;prev=/images%3Fq%3Dmodels%2Bof%2Bthe%2Batom%26um%3D1%26hl%3Den%26rlz%3D1T4GPEA_enCA295CA295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 ATOM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at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3048120"/>
            <a:ext cx="2114640" cy="20764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rnest Rutherford (1908) - Nuclear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rutherford_atom"/>
          <p:cNvPicPr/>
          <p:nvPr/>
        </p:nvPicPr>
        <p:blipFill>
          <a:blip r:embed="rId1"/>
          <a:stretch/>
        </p:blipFill>
        <p:spPr>
          <a:xfrm>
            <a:off x="1295280" y="2590920"/>
            <a:ext cx="2432160" cy="2743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ernest_rutherford2"/>
          <p:cNvPicPr/>
          <p:nvPr/>
        </p:nvPicPr>
        <p:blipFill>
          <a:blip r:embed="rId2"/>
          <a:stretch/>
        </p:blipFill>
        <p:spPr>
          <a:xfrm>
            <a:off x="5410080" y="2438280"/>
            <a:ext cx="2076480" cy="25909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rnest Rutherford (1908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overed that the atom is mostly empty space with a dense positively charged nucleus surrounded by negative electron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therford received the Nobel Prize in chemistry in 1908 for his contributions into the structure of the atom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ils Bohr (191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nucleus3gif"/>
          <p:cNvPicPr/>
          <p:nvPr/>
        </p:nvPicPr>
        <p:blipFill>
          <a:blip r:embed="rId1"/>
          <a:stretch/>
        </p:blipFill>
        <p:spPr>
          <a:xfrm>
            <a:off x="1676520" y="2286000"/>
            <a:ext cx="5095800" cy="334332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ils Bohr (191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that electrons traveled in circular orbits and that only certain orbits were allowed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received the Nobel Prize in physics in 1922 for his the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Quantum Mechanic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atom2.jpg"/>
          <p:cNvPicPr/>
          <p:nvPr/>
        </p:nvPicPr>
        <p:blipFill>
          <a:blip r:embed="rId1"/>
          <a:stretch/>
        </p:blipFill>
        <p:spPr>
          <a:xfrm>
            <a:off x="2362320" y="21337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Quantum Mechanic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lectron Cloud Model (1920'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n atom consists of a dense nucleus composed of protons and neutrons surrounded by electrons that exist in different clouds at the various energy level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rwin Schrodinger and Werner Heisenburg developed probability functions to determine the regions or clouds in which electrons would most likely be foun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Content Placeholder 5" descr="T014145A.gif"/>
          <p:cNvPicPr/>
          <p:nvPr/>
        </p:nvPicPr>
        <p:blipFill>
          <a:blip r:embed="rId1"/>
          <a:stretch/>
        </p:blipFill>
        <p:spPr>
          <a:xfrm>
            <a:off x="822240" y="1816200"/>
            <a:ext cx="7493040" cy="42861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A combination of all model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Picture 2" descr="http://sharpiron.files.wordpress.com/2008/06/atomic-models3.jpg"/>
          <p:cNvPicPr/>
          <p:nvPr/>
        </p:nvPicPr>
        <p:blipFill>
          <a:blip r:embed="rId1"/>
          <a:stretch/>
        </p:blipFill>
        <p:spPr>
          <a:xfrm>
            <a:off x="1143000" y="1523880"/>
            <a:ext cx="6721560" cy="51278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Drawing Bohr Diagra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numb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s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 to the number of prot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toms are electrically neutral, # of protons = #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protons + #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neutrons = atomic mass (rounded off) – atomic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neutrons account for most of the mass of th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ohr Diagram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ergy level represents a specific value of energy of an electron and corresponds to a general location around th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occupied energy levels in any atom is normally the same as the period number in which an atom 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3" descr="laser1.jpg"/>
          <p:cNvPicPr/>
          <p:nvPr/>
        </p:nvPicPr>
        <p:blipFill>
          <a:blip r:embed="rId1"/>
          <a:stretch/>
        </p:blipFill>
        <p:spPr>
          <a:xfrm>
            <a:off x="2209680" y="1371600"/>
            <a:ext cx="4343400" cy="42069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er energy level is filled with electrons to its maximum level before the next level is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ohr Diagram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raw a circle for the nucl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Put in the number of protons and neutrons inside the cir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etermine the number of electrons and place them in energy levels starting closest to the nucleus and filling them in the order of 2, 8, 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752480" y="1514520"/>
            <a:ext cx="5083200" cy="343836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Stable Atom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low chemical re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noble gases, all of which have 8 valence electrons (except He, which has 2)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tability is a function of having a full complement of valence electr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s that do not have full electrons energy levels are unstable and must gain, lose or share electrons to become st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atoms can become more stable by reacting and changing the number of their elect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Stable Atom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can follow one of 2 ru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) Octet ru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attempt to obtain 8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most 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) Duet ru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attempt to obtain 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H, Li and 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can achieve a stable octet or duet by forming 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Ion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tom or groups of atoms that have a positive or negative charge, due to the loss or gain of one or more electr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 atoms form simple ions (monatomic ions); groups of atoms form complex ions (polyatomic 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dium metal and chlorine gas react to produce NaCl, a very stable and unreactive substance, compared to Na or C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odium atom loses 1 electron to the chlorine atom so both of their outer levels are filled. In doing so, the atoms form ions of opposite char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2362320" y="2403360"/>
            <a:ext cx="3843360" cy="264492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6" name="Picture 4" descr="b11_5"/>
          <p:cNvPicPr/>
          <p:nvPr/>
        </p:nvPicPr>
        <p:blipFill>
          <a:blip r:embed="rId1"/>
          <a:stretch/>
        </p:blipFill>
        <p:spPr>
          <a:xfrm>
            <a:off x="1295280" y="1998720"/>
            <a:ext cx="6477120" cy="38066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910040" cy="359280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o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asic building block of all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ies of that e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rically neutral: the number of positive charges (protons) equals the number of negative charges (electr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osed of 3 subatomic particles: protons 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, electrons (e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and neutrons (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How ionic bonds form: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egin with atoms of two different elements that do not have 8 electrons in their outer most energy level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 + 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5" name="Picture 4" descr="Sodium_atom_and_Chlorine_atom"/>
          <p:cNvPicPr/>
          <p:nvPr/>
        </p:nvPicPr>
        <p:blipFill>
          <a:blip r:embed="rId1"/>
          <a:stretch/>
        </p:blipFill>
        <p:spPr>
          <a:xfrm>
            <a:off x="1447920" y="2232000"/>
            <a:ext cx="5295960" cy="2868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sodium atom (Na ) donates 1 electron becoming a positively sodium ion ( Na+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chlorine atom (Cl) accepts the donated electron becoming a negatively charged chloride ion (Cl-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 + 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0" name="Picture 4" descr="sodium_ion_and_chlorine_ion"/>
          <p:cNvPicPr/>
          <p:nvPr/>
        </p:nvPicPr>
        <p:blipFill>
          <a:blip r:embed="rId1"/>
          <a:stretch/>
        </p:blipFill>
        <p:spPr>
          <a:xfrm>
            <a:off x="1924200" y="2419200"/>
            <a:ext cx="5295600" cy="30099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s of the Atom - His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ttp://www.lsua.info/chem1001/vocabulary/Module3/AtomHistory.jpg"/>
          <p:cNvPicPr/>
          <p:nvPr/>
        </p:nvPicPr>
        <p:blipFill>
          <a:blip r:embed="rId1"/>
          <a:stretch/>
        </p:blipFill>
        <p:spPr>
          <a:xfrm>
            <a:off x="1549440" y="1028880"/>
            <a:ext cx="6146640" cy="46098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ohn Dalton (1803)- Billiard B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10312949"/>
          <p:cNvPicPr/>
          <p:nvPr/>
        </p:nvPicPr>
        <p:blipFill>
          <a:blip r:embed="rId1"/>
          <a:stretch/>
        </p:blipFill>
        <p:spPr>
          <a:xfrm>
            <a:off x="380880" y="2057400"/>
            <a:ext cx="4724640" cy="3532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s4"/>
          <p:cNvPicPr/>
          <p:nvPr/>
        </p:nvPicPr>
        <p:blipFill>
          <a:blip r:embed="rId2"/>
          <a:stretch/>
        </p:blipFill>
        <p:spPr>
          <a:xfrm>
            <a:off x="5334120" y="23623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ohn Dalton (1803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lliard Ball Model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ed the atom as a small solid sphere.  He really got the "ball" rolling for modern chemistry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element was composed of the same kind of atom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unds are composed of atoms in specific rati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mical reactions are rearrangements of atoms (mass is conserved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. J. Thomson (1897) – Plum Pudding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Thomson_model_E"/>
          <p:cNvPicPr/>
          <p:nvPr/>
        </p:nvPicPr>
        <p:blipFill>
          <a:blip r:embed="rId1"/>
          <a:stretch/>
        </p:blipFill>
        <p:spPr>
          <a:xfrm>
            <a:off x="1181160" y="2666880"/>
            <a:ext cx="2598840" cy="2743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rutherford3"/>
          <p:cNvPicPr/>
          <p:nvPr/>
        </p:nvPicPr>
        <p:blipFill>
          <a:blip r:embed="rId2"/>
          <a:stretch/>
        </p:blipFill>
        <p:spPr>
          <a:xfrm>
            <a:off x="5715000" y="2743200"/>
            <a:ext cx="1765440" cy="27432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. J. Thomson (1897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that the atom was a sphere of positive electricity with negative particles imbedded throughout after discovering the electr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iscovery for which he was awarded the Nobel Prize in physics in 1906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9:07:21Z</dcterms:created>
  <dc:creator>gwinsor</dc:creator>
  <dc:description/>
  <dc:language>en-US</dc:language>
  <cp:lastModifiedBy>LEGION</cp:lastModifiedBy>
  <dcterms:modified xsi:type="dcterms:W3CDTF">2017-01-26T09:19:26Z</dcterms:modified>
  <cp:revision>15</cp:revision>
  <dc:subject/>
  <dc:title>The ATOM</dc:title>
</cp:coreProperties>
</file>