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C48-F562-4A67-B34E-28E85723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7F2-103E-43A0-8F53-4A126F92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B00-BAB0-45F0-A88F-359E5493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E77-DC5E-43E3-B70A-EFBD727B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011-C3C5-4E5E-B1B2-0A51A481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3D8-2597-4A51-B7A6-3A809A3B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C9E-BC6C-4AC6-B2B7-559750E2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E1F-7CAD-4AC9-B2A3-420A7F38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241-26CD-41B5-B2A4-BDE28325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6F5-0E86-4A62-AC32-6E690CC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998-3EBC-4F9D-BD22-24A5C55B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F29-63DA-4ADE-8D45-423043AD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F647-F39F-4C68-98F2-9356E198AA57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LEGION</cp:lastModifiedBy>
  <dcterms:modified xsi:type="dcterms:W3CDTF">2017-01-26T09:14:52Z</dcterms:modified>
  <cp:revision>10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