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and 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the mass number and 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the symbol of the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N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sodium-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is neutr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t charge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batomic Particles in Some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5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of chlo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ne - 35         chlorine -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carbon consists of three isotopes, 12C, 13C, and 14C.  State the number of protons, neutrons, and electrons in each of these carbon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e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p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n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e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6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atomic symbols for atoms with  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are building blocks of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atoms in each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from atoms of other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different atoms bond in simple ratios to form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37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07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is the weighted average mass  of all the atomic masses of the isotopes of tha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n Averag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-35 is about 75.5 % and Cl-37 about 24.5% of  natural chlorin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  x   75.5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26.4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 x    24.5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  9.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articl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ymbol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harge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e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p+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cation of 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13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toms of an element have the same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5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 7 protons     3)  14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32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16 protons    3)  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137 protons  2)  81 protons    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 7 protons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1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77C-A171-4C3A-B3FD-659F4BB9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AD4-BF3C-4512-8DE5-B8F1B12F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1BAC-099A-43F4-A009-5BD46CE3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2921-F656-4399-B2BE-B78DB791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0561-2AF2-44CD-A5CD-161A395C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A466-137A-4278-8097-26231B40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71AF-AD72-45F1-AAC2-6AF18599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0823-9D29-46AF-8C21-6230A894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291A-355F-4B5F-BE23-3958DBCB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71BD-E1B2-4FA9-8025-6D4F2A68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C3BB-DE03-4A40-9736-A053C10A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282F-9A45-4BAF-A764-A13420CE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FFCB-84FA-48A1-B5FB-4F4573D453EE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apter 2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toms and Element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The Atom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Atomic Number and Mass Number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Isotopes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523880" y="1066680"/>
            <a:ext cx="58676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Mass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Counts the number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of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rotons and neutr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in an ato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Symbol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how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 and atomic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Give the symbol of the elemen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23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Na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dium-23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3276720" y="4114800"/>
            <a:ext cx="9144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 flipV="1">
            <a:off x="3505320" y="5181120"/>
            <a:ext cx="6858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n atom is neutral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he net charge is zero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umber of protons = 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7162920" y="1219320"/>
            <a:ext cx="1531800" cy="21333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 in Some Atom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65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P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Z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6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 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otop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sotopes of chlorin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5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lorine - 35         chlorine - 3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aturally occurring carbon consists of three isotopes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and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State the number of protons, neutrons, and electrons in each of these carbon atom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p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n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e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228600" y="0"/>
            <a:ext cx="1952640" cy="19810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p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n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7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e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7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6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Write the atomic symbols for atoms with   the following: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Theor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are building blocks of elements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Similar atoms in each elemen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ifferent from atoms of other element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wo or more different atoms bond in simple ratios to form compound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2003400" cy="20574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502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3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0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80920" y="2286000"/>
            <a:ext cx="29718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35320" y="259092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63920" y="365760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2819520" y="4114800"/>
            <a:ext cx="152388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3505320" y="289548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59360" y="5181480"/>
            <a:ext cx="230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2895480" y="548640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ic mass is the weighted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verage mas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of all the atomic masses of the isotopes of that atom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xample of an Average 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Cl-35 is about 75.5 % and Cl-37 about 24.5% of  natural chlorine.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5 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75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=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6.4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.5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7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24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=       9.0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6324480" y="3124080"/>
            <a:ext cx="838440" cy="2133720"/>
          </a:xfrm>
          <a:custGeom>
            <a:avLst/>
            <a:gdLst>
              <a:gd name="textAreaLeft" fmla="*/ 0 w 838440"/>
              <a:gd name="textAreaRight" fmla="*/ 302760 w 83844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tic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arge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lativ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as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Elec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0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Prot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eu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0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4" name="Object 4" descr=""/>
          <p:cNvPicPr/>
          <p:nvPr/>
        </p:nvPicPr>
        <p:blipFill>
          <a:blip r:embed="rId1"/>
          <a:stretch/>
        </p:blipFill>
        <p:spPr>
          <a:xfrm>
            <a:off x="6934320" y="3429000"/>
            <a:ext cx="2003400" cy="20574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ocation of 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13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lec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8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8" name="Object 4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934080" cy="4038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267080" y="400212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5410080" y="3886200"/>
            <a:ext cx="167652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Line 7"/>
          <p:cNvSpPr/>
          <p:nvPr/>
        </p:nvSpPr>
        <p:spPr>
          <a:xfrm>
            <a:off x="5410080" y="4267080"/>
            <a:ext cx="160020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Line 8"/>
          <p:cNvSpPr/>
          <p:nvPr/>
        </p:nvSpPr>
        <p:spPr>
          <a:xfrm>
            <a:off x="2743200" y="2819520"/>
            <a:ext cx="10666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>
            <a:off x="4267080" y="1981080"/>
            <a:ext cx="9144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2971800" y="6248520"/>
            <a:ext cx="41148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Line 11"/>
          <p:cNvSpPr/>
          <p:nvPr/>
        </p:nvSpPr>
        <p:spPr>
          <a:xfrm>
            <a:off x="2743200" y="289548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Counts the number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of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proto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in an ato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092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35320" y="297180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11280" y="441972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Line 6"/>
          <p:cNvSpPr/>
          <p:nvPr/>
        </p:nvSpPr>
        <p:spPr>
          <a:xfrm>
            <a:off x="2514600" y="4724280"/>
            <a:ext cx="15238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3276720" y="335268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ll atoms of an element have the same number of prot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724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4600" y="3048120"/>
            <a:ext cx="190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11 prot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10920" y="4419720"/>
            <a:ext cx="14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odium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2666880" y="47242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666880" y="33526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5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 7 protons     3)  14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32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16 protons    3)  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137 protons  2)  81 protons    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 7 protons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1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00:13:26Z</dcterms:created>
  <dc:creator>Karen Timberlake</dc:creator>
  <dc:description/>
  <dc:language>en-US</dc:language>
  <cp:lastModifiedBy>LEGION</cp:lastModifiedBy>
  <dcterms:modified xsi:type="dcterms:W3CDTF">2017-01-26T09:14:52Z</dcterms:modified>
  <cp:revision>10</cp:revision>
  <dc:subject/>
  <dc:title>Atomic number and mass numb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2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