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1C5-DE28-41BA-91FC-DA2A8C80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FD1-E436-42E2-9ACE-529B28FF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803-D86B-4007-BCA3-417553CB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97C-A139-4D05-BD36-1FAE8BE1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BAD-A398-44B8-8D9E-E3B1F7AF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E01-956C-4842-90D2-5025689C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809-A5EF-40EF-9D7E-F3A0F579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DB5-0241-4A2D-BA4B-689F4520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6ED-62C0-49C5-BA52-51B0006F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C24-2656-40C5-ABC8-FF183247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536-96E8-4F3F-AFAB-4BE68B1F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DBB-A363-47F9-8F76-152070B7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0F08-72E9-46E4-B374-4B7724C45D2D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LEGION</cp:lastModifiedBy>
  <dcterms:modified xsi:type="dcterms:W3CDTF">2017-01-26T09:14:52Z</dcterms:modified>
  <cp:revision>10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