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nd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and 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s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the mass number and 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the symbol of the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 N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sodium-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is neutr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t charge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= 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ubatomic Particles in Some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Z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p+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 p+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 p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n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 n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5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the same number of protons, but different numbers of neu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(same atomic number) with different mass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of chlor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C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C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ine - 35         chlorine -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 carbon consists of three isotopes, 12C, 13C, and 14C.  State the number of protons, neutrons, and electrons in each of these carbon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13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6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e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2C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13C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1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      6        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p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n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7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e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of zinc has a mass number of 6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 What is the mass number of a zinc isot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37 neutr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6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of zinc has a mass number of 6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 What is the mass number of a zinc isot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37 neutr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atomic symbols for atoms with  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8 p+, 8 n, 8 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p+, 20n, 17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47p+, 60 n, 47 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s are building blocks of el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atoms in each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from atoms of other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or more different atoms bond in simple ratios to form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O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.  8 p+, 8 n, 8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7p+, 20n, 17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37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.  47p+, 60 n, 47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07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 on 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 is the weighted average mass  of all the atomic masses of the isotopes of that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n Average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-35 is about 75.5 % and Cl-37 about 24.5% of  natural chlorin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   x   75.5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  26.4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.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 x    24.5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    9.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ub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articl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ymbol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harge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s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ectr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e-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t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p+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eutr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0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cation of Sub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-13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-8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s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on 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toms of an element have the same 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e number of protons for atoms of  each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5 prot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2)   7 protons     3)  14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Sulf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32 prot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2)  16 protons    3)  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Bar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137 protons  2)  81 protons    3)  5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e number of protons for atoms of each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 7 protons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Sulf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1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Bar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5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B776-9CD9-4EB4-A3A6-5DA6941E6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C6F2-13FB-4937-BE37-AA8E10AE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F0D2-0B46-4BDA-8202-DBDA6926F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25EB-35FA-490C-9063-347B2937B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C2EE-9198-46EC-987E-8796B4D5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3506-ACF4-4861-9C76-679287CD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2EED-13B7-4FB3-A8B3-5DD18998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6501-43BE-4CC3-BFED-6713E372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4A7C-3A6F-4FFA-9632-F02C0270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2215-0601-4FD2-A2A6-9F74BADD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555E-A26E-4227-AFCC-0C19DB39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8986-2DAD-4AFE-ABCA-EF69BA0D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1FD3-8F24-4D85-89F9-0D56FD2E65BB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hapter 2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Atoms and Element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The Atom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Atomic Number and Mass Number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Isotopes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Line 4"/>
          <p:cNvSpPr/>
          <p:nvPr/>
        </p:nvSpPr>
        <p:spPr>
          <a:xfrm>
            <a:off x="1523880" y="1066680"/>
            <a:ext cx="58676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Mass Number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Counts the number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of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protons and neutro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in an atom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Symbol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Show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ss number and atomic numb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Give the symbol of the elemen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ss numb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23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Na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odium-23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3276720" y="4114800"/>
            <a:ext cx="914400" cy="4572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 flipV="1">
            <a:off x="3505320" y="5181120"/>
            <a:ext cx="685800" cy="3049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umber of Electron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251424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n atom is neutral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The net charge is zero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Number of protons = Number of electr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r>
              <a:rPr b="1" lang="en-US" sz="30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umber of electr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0" name="Object 4" descr=""/>
          <p:cNvPicPr/>
          <p:nvPr/>
        </p:nvPicPr>
        <p:blipFill>
          <a:blip r:embed="rId1"/>
          <a:stretch/>
        </p:blipFill>
        <p:spPr>
          <a:xfrm>
            <a:off x="7162920" y="1219320"/>
            <a:ext cx="1531800" cy="213336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ubatomic Particles in Some Atom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6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31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65</a:t>
            </a:r>
            <a:endParaRPr b="0" lang="en-US" sz="5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P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Z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30000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5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5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0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n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6 n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5 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5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0 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sotop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with the same number of protons, but different numbers of neutrons.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of the same element (same atomic number) with different mass number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sotopes of chlorin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35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l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37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l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17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17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hlorine - 35         chlorine - 37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aturally occurring carbon consists of three isotopes,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,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, and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State the number of protons, neutrons, and electrons in each of these carbon atoms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         6               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p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n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e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0" name="Object 4" descr=""/>
          <p:cNvPicPr/>
          <p:nvPr/>
        </p:nvPicPr>
        <p:blipFill>
          <a:blip r:embed="rId1"/>
          <a:stretch/>
        </p:blipFill>
        <p:spPr>
          <a:xfrm>
            <a:off x="228600" y="0"/>
            <a:ext cx="1952640" cy="19810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         6               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p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n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7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e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n atom of zinc has a mass number of 65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prot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neutr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 What is the mass number of a zinc isotop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with 37 neutrons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7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6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7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n atom of zinc has a mass number of 65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prot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neutr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 What is the mass number of a zinc isotop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with 37 neutrons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7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Write the atomic symbols for atoms with   the following: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.  8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8 n, 8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20n, 17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.  4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60 n, 47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Theory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8915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are building blocks of elements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Similar atoms in each element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Different from atoms of other element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Two or more different atoms bond in simple ratios to form compound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0" name="Object 4" descr=""/>
          <p:cNvPicPr/>
          <p:nvPr/>
        </p:nvPicPr>
        <p:blipFill>
          <a:blip r:embed="rId1"/>
          <a:stretch/>
        </p:blipFill>
        <p:spPr>
          <a:xfrm>
            <a:off x="6858000" y="304920"/>
            <a:ext cx="2003400" cy="20574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5029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.  8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8 n, 8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20n, 17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37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.  4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60 n, 47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07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47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Mass on the Periodic Table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80920" y="2286000"/>
            <a:ext cx="29718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2.99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35320" y="2590920"/>
            <a:ext cx="281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763920" y="3657600"/>
            <a:ext cx="140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ymbol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2819520" y="4114800"/>
            <a:ext cx="152388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3505320" y="2895480"/>
            <a:ext cx="1143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59360" y="5181480"/>
            <a:ext cx="230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Mas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2895480" y="5486400"/>
            <a:ext cx="1143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Mas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ic mass is the weighted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verage mass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of all the atomic masses of the isotopes of that atom.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Example of an Average Atomic Mas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Cl-35 is about 75.5 % and Cl-37 about 24.5% of  natural chlorine.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35   x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75.5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= 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6.4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00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5.5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37  x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24.5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=       9.0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00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6324480" y="3124080"/>
            <a:ext cx="838440" cy="2133720"/>
          </a:xfrm>
          <a:custGeom>
            <a:avLst/>
            <a:gdLst>
              <a:gd name="textAreaLeft" fmla="*/ 0 w 838440"/>
              <a:gd name="textAreaRight" fmla="*/ 302760 w 83844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ubatomic Particl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artic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ymbo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harge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elativ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as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Electr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-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0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Prot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Neutr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0 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4" name="Object 4" descr=""/>
          <p:cNvPicPr/>
          <p:nvPr/>
        </p:nvPicPr>
        <p:blipFill>
          <a:blip r:embed="rId1"/>
          <a:stretch/>
        </p:blipFill>
        <p:spPr>
          <a:xfrm>
            <a:off x="6934320" y="3429000"/>
            <a:ext cx="2003400" cy="20574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ocation of Subatomic Particl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-13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lectr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eutr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-8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8" name="Object 4" descr=""/>
          <p:cNvPicPr/>
          <p:nvPr/>
        </p:nvPicPr>
        <p:blipFill>
          <a:blip r:embed="rId1"/>
          <a:stretch/>
        </p:blipFill>
        <p:spPr>
          <a:xfrm>
            <a:off x="2895480" y="2209680"/>
            <a:ext cx="3934080" cy="4038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4267080" y="400212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Line 6"/>
          <p:cNvSpPr/>
          <p:nvPr/>
        </p:nvSpPr>
        <p:spPr>
          <a:xfrm flipV="1">
            <a:off x="5410080" y="3886200"/>
            <a:ext cx="167652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Line 7"/>
          <p:cNvSpPr/>
          <p:nvPr/>
        </p:nvSpPr>
        <p:spPr>
          <a:xfrm>
            <a:off x="5410080" y="4267080"/>
            <a:ext cx="1600200" cy="60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Line 8"/>
          <p:cNvSpPr/>
          <p:nvPr/>
        </p:nvSpPr>
        <p:spPr>
          <a:xfrm>
            <a:off x="2743200" y="2819520"/>
            <a:ext cx="10666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Line 9"/>
          <p:cNvSpPr/>
          <p:nvPr/>
        </p:nvSpPr>
        <p:spPr>
          <a:xfrm>
            <a:off x="4267080" y="1981080"/>
            <a:ext cx="914400" cy="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Line 10"/>
          <p:cNvSpPr/>
          <p:nvPr/>
        </p:nvSpPr>
        <p:spPr>
          <a:xfrm>
            <a:off x="2971800" y="6248520"/>
            <a:ext cx="4114800" cy="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Line 11"/>
          <p:cNvSpPr/>
          <p:nvPr/>
        </p:nvSpPr>
        <p:spPr>
          <a:xfrm>
            <a:off x="2743200" y="2895480"/>
            <a:ext cx="3808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Counts the number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of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proton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in an ato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Number on the Periodic Table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80920" y="2743200"/>
            <a:ext cx="29718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35320" y="2971800"/>
            <a:ext cx="281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Atomic Number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611280" y="4419720"/>
            <a:ext cx="140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Symbol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Line 6"/>
          <p:cNvSpPr/>
          <p:nvPr/>
        </p:nvSpPr>
        <p:spPr>
          <a:xfrm>
            <a:off x="2514600" y="4724280"/>
            <a:ext cx="15238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Line 7"/>
          <p:cNvSpPr/>
          <p:nvPr/>
        </p:nvSpPr>
        <p:spPr>
          <a:xfrm>
            <a:off x="3276720" y="3352680"/>
            <a:ext cx="12952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ll atoms of an element have the same number of proton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57240" y="2743200"/>
            <a:ext cx="29718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534600" y="3048120"/>
            <a:ext cx="190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11 prot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10920" y="4419720"/>
            <a:ext cx="142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Sodium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Line 6"/>
          <p:cNvSpPr/>
          <p:nvPr/>
        </p:nvSpPr>
        <p:spPr>
          <a:xfrm>
            <a:off x="2666880" y="4724280"/>
            <a:ext cx="129564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Line 7"/>
          <p:cNvSpPr/>
          <p:nvPr/>
        </p:nvSpPr>
        <p:spPr>
          <a:xfrm>
            <a:off x="2666880" y="3352680"/>
            <a:ext cx="129564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tate the number of protons for atoms of  each of the following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.  Nitrogen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5 prot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2)   7 protons     3)  14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.  Sulfu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32 prot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2)  16 protons    3)  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.  Bariu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137 protons  2)  81 protons    3)  5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tate the number of protons for atoms of each of the following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.  Nitrogen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 7 protons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.  Sulfu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1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.  Bariu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5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00:13:26Z</dcterms:created>
  <dc:creator>Karen Timberlake</dc:creator>
  <dc:description/>
  <dc:language>en-US</dc:language>
  <cp:lastModifiedBy>LEGION</cp:lastModifiedBy>
  <dcterms:modified xsi:type="dcterms:W3CDTF">2017-01-26T09:14:52Z</dcterms:modified>
  <cp:revision>10</cp:revision>
  <dc:subject/>
  <dc:title>Atomic number and mass numb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2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