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59.jpeg" ContentType="image/jpeg"/>
  <Override PartName="/ppt/media/image58.jpeg" ContentType="image/jpeg"/>
  <Override PartName="/ppt/media/image57.wmf" ContentType="image/x-wmf"/>
  <Override PartName="/ppt/media/image14.jpeg" ContentType="image/jpeg"/>
  <Override PartName="/ppt/media/image53.wmf" ContentType="image/x-wmf"/>
  <Override PartName="/ppt/media/image6.jpeg" ContentType="image/jpeg"/>
  <Override PartName="/ppt/media/image63.jpeg" ContentType="image/jpeg"/>
  <Override PartName="/ppt/media/image5.jpeg" ContentType="image/jpeg"/>
  <Override PartName="/ppt/media/image50.png" ContentType="image/png"/>
  <Override PartName="/ppt/media/image62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60.jpeg" ContentType="image/jpeg"/>
  <Override PartName="/ppt/media/image52.png" ContentType="image/png"/>
  <Override PartName="/ppt/media/image24.jpeg" ContentType="image/jpeg"/>
  <Override PartName="/ppt/media/image41.jpeg" ContentType="image/jpeg"/>
  <Override PartName="/ppt/media/image15.jpeg" ContentType="image/jpeg"/>
  <Override PartName="/ppt/media/image17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1.jpeg" ContentType="image/jpeg"/>
  <Override PartName="/ppt/media/image32.wmf" ContentType="image/x-wmf"/>
  <Override PartName="/ppt/media/image22.jpeg" ContentType="image/jpeg"/>
  <Override PartName="/ppt/media/image18.jpeg" ContentType="image/jpeg"/>
  <Override PartName="/ppt/media/image16.jpeg" ContentType="image/jpeg"/>
  <Override PartName="/ppt/media/image42.wmf" ContentType="image/x-wmf"/>
  <Override PartName="/ppt/media/image23.jpeg" ContentType="image/jpeg"/>
  <Override PartName="/ppt/media/image1.png" ContentType="image/png"/>
  <Override PartName="/ppt/media/image29.wmf" ContentType="image/x-wmf"/>
  <Override PartName="/ppt/media/image19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31.wmf" ContentType="image/x-wmf"/>
  <Override PartName="/ppt/media/image61.jpeg" ContentType="image/jpeg"/>
  <Override PartName="/ppt/media/image51.png" ContentType="image/png"/>
  <Override PartName="/ppt/media/image4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54.wmf" ContentType="image/x-wmf"/>
  <Override PartName="/ppt/media/image13.jpeg" ContentType="image/jpeg"/>
  <Override PartName="/ppt/media/image40.jpeg" ContentType="image/jpeg"/>
  <Override PartName="/ppt/media/image33.jpeg" ContentType="image/jpeg"/>
  <Override PartName="/ppt/media/image34.wmf" ContentType="image/x-wmf"/>
  <Override PartName="/ppt/media/image36.wmf" ContentType="image/x-wmf"/>
  <Override PartName="/ppt/media/image4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6.wmf" ContentType="image/x-wmf"/>
  <Override PartName="/ppt/media/image35.wmf" ContentType="image/x-wmf"/>
  <Override PartName="/ppt/media/image48.jpeg" ContentType="image/jpeg"/>
  <Override PartName="/ppt/media/image49.jpeg" ContentType="image/jpeg"/>
  <Override PartName="/ppt/media/image5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C80F-0308-48F2-8454-2FA229ED6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rticle inside the circle of area πb02 will be similarly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ss section σ = πb2 is related to the probability for a particle being scattered by 1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 = ntAs/A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rticle inside the circle of area πb02 will be similarly scattere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ss section σ = πb2 is related to the probability for a particle being scattered by 1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 = ntAs/A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tual experiment a detector is positioned from θ to θ + dθ that corresponds to incident particles between b and b + d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tual experiment a detector is positioned from θ to θ + dθ that corresponds to incident particles between b and b + db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 Equatio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: The Classical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: The Classical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ton’s 2nd Law force of attraction on the electron by the nucleus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ton’s 2nd Law force of attraction on the electron by the nucleus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tary Model is Doo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Radius r must decreas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tary Model is Doomed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Radius r must decrease!!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Stationary states, in which orbiting electrons do not radiate energy, exist in atoms and have well-defined energies, En. Transitions can occur between them, yielding light of energy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n − En’ = h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angular momentum of the nth state is: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called the Principal Quantum Number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Stationary states, in which orbiting electrons do not radiate energy, exist in atoms and have well-defined energies, En. Transitions can occur between them, yielding light of energ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n − En’ = h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angular momentum of the nth state is: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called the Principal Quantum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: 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1 − E2 = h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nhforb/2, where forb is the frequency of rotation. This is equivalent to ask that the angular momentum L=nh/(2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: 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1 − E2 = hf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nhforb/2, where forb is the frequency of rotation. This is equivalent to ask that the angular momentum L=nh/(2p)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for r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0 is called the Bohr radius. It’s the diameter of the Hydrogen atom (in its lowest-energy, or “ground,” state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for 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0 is called the Bohr radius. It’s the diameter of the Hydrogen atom (in its lowest-energy, or “ground,” stat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Bohr radius is given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1 gives its lowest energy state (called the “ground”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adiu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Bohr radius is given b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1 gives its lowest energy state (called the “ground” state)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nu → nℓ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the frequency of a pho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∞ is the Rydberg cons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ies of the stationary states where E0 = 13.6 e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nu → nℓ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the frequency of a phot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∞ is the Rydberg consta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ies of the stationary states where E0 = 13.6 eV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of valence. Certain elements combine with some elements but not with others, a characteristic that hinted at an internal atomic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of valence. Certain elements combine with some elements but not with others, a characteristic that hinted at an internal atomic structur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s in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n = 1 (invis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s in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n = 1 (invisible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 = 2.2 × 106 m/s ~ less than 1% of the speed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v1 to c is the fine structure cons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 = 2.2 × 106 m/s ~ less than 1% of the speed of ligh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v1 to c is the fine structure consta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electro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electrodynamic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properties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adiatio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correspondence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quency of the radiation emitted nclassical is equal to the orbital frequency norb of the electron around the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n + 1 to n (when n is very large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arge 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ing for E0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quency of the radiation emitted nclassical is equal to the orbital frequency norb of the electron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n + 1 to n (when n is very large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arge 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ing for E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shell for n = 1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for n = 2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X-ra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energy E (X-ray) = Eu − Eℓ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shell for n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for n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X-r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energy E (X-ray) = Eu − Eℓ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and Mosele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to K shell:   Kα X-ra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shell to K shell:  Kβ X-ra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Z = number of protons in the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s for the Kα X-ray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and Mose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to K shell:   Kα X-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shell to K shell:  Kβ X-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Z = number of protons in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s for the Kα X-r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Empirical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ray is produced from n = 2 to n = 1 tran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Empirical Result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ray is produced from n = 2 to n = 1 transi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: 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: 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 has E0 to be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cited state has E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difference E1 − 0 = E1 is the excit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 has E0 to be zero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cited state has E1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difference E1 − 0 = E1 is the excitation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on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mass is replaced by its reduced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on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mass is replaced by its reduced mas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R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ation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ation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 of an At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 of an Atom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ments of Geiger and Mars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a particles from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iger showed that some a particles were scattered from thin gold-leaf targets at backward angles greater than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n’t back-scatter a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ments of Geiger and Marsde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a particles from atoms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iger showed that some a particles were scattered from thin gold-leaf targets at backward angles greater than 90°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n’t back-scatter a particl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from 1 elect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momentum change of the α particl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θ by letting Δpmax be perpendicular to the direction of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from 1 electro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momentum change of the α particle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θ by letting Δpmax be perpendicular to the direction of mo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α particle were scattered by many electrons and N electrons results in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across the thin gold layer of 6 × 10−7 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attering from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α particle were scattered by many electrons and N electrons results in            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across the thin gold layer of 6 × 10−7 m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attering from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he α particle scattered from all 79 electrons in each atom of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charge is concentrated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with a radius much smaller than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he α particle scattered from all 79 electrons in each atom of gol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charge is concentrated in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with a radius much smaller than 10-10 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lationship between the impact parameter b and the scattering angle 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b is smal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get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θ can be large and the particle can be repelle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: 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lationship between the impact parameter b and the scattering angle θ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b is small,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gets smal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θ can be large and the particle can be repelled backwar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: 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1BC5-93C7-40A3-A1C9-C10F4DF2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86F4-B331-46E8-B439-0FEB9D14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4A8E-A44B-400E-BA0E-419BF2A4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D1CE-2F17-4756-B917-3C60C13B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CA0B-453B-4862-9029-302350ED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B5D2-A693-48CB-86D0-16C43BF5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5DE2-8FD3-4890-83E1-55EEB145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95EA-FE7B-4DC2-B068-C3DEEA0B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24F8-1C75-414C-9C9D-728B5482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A1A3-D0DC-4CD1-B1B3-63778DAB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3FEF-DDB5-4C4B-84F9-EBB2BEA5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EA44-817E-4197-AC35-21D2DB1F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718A-CF30-465D-A3A7-84597AE3BCA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4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4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54.wmf"/><Relationship Id="rId12" Type="http://schemas.openxmlformats.org/officeDocument/2006/relationships/image" Target="../media/image55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56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57.wmf"/><Relationship Id="rId17" Type="http://schemas.openxmlformats.org/officeDocument/2006/relationships/image" Target="../media/image51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2057040"/>
            <a:ext cx="79246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0" y="838080"/>
          <a:ext cx="8458200" cy="6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845820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5"/>
          <p:cNvSpPr/>
          <p:nvPr/>
        </p:nvSpPr>
        <p:spPr>
          <a:xfrm>
            <a:off x="457200" y="307800"/>
            <a:ext cx="855828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tructure of the Atom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819520" y="4800600"/>
            <a:ext cx="59436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y particle inside the circle of area </a:t>
            </a:r>
            <a:r>
              <a:rPr b="0" i="1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will be similarly scattere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ross section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s related to the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for a particle being scattered by 1 nucleu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= ntA</a:t>
            </a:r>
            <a:r>
              <a:rPr b="0" i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A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9" descr="0409"/>
          <p:cNvPicPr/>
          <p:nvPr/>
        </p:nvPicPr>
        <p:blipFill>
          <a:blip r:embed="rId1"/>
          <a:stretch/>
        </p:blipFill>
        <p:spPr>
          <a:xfrm>
            <a:off x="2286000" y="1219320"/>
            <a:ext cx="4419720" cy="24098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utherford Scatterin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8" name="Picture 22" descr=""/>
          <p:cNvPicPr/>
          <p:nvPr/>
        </p:nvPicPr>
        <p:blipFill>
          <a:blip r:embed="rId2"/>
          <a:stretch/>
        </p:blipFill>
        <p:spPr>
          <a:xfrm>
            <a:off x="5029200" y="5435640"/>
            <a:ext cx="2117880" cy="711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"/>
          <p:cNvPicPr/>
          <p:nvPr/>
        </p:nvPicPr>
        <p:blipFill>
          <a:blip r:embed="rId3"/>
          <a:stretch/>
        </p:blipFill>
        <p:spPr>
          <a:xfrm>
            <a:off x="5943600" y="4533840"/>
            <a:ext cx="1879560" cy="60660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5"/>
          <p:cNvGrpSpPr/>
          <p:nvPr/>
        </p:nvGrpSpPr>
        <p:grpSpPr>
          <a:xfrm>
            <a:off x="1447920" y="5410080"/>
            <a:ext cx="1596960" cy="878040"/>
            <a:chOff x="1447920" y="5410080"/>
            <a:chExt cx="1596960" cy="878040"/>
          </a:xfrm>
        </p:grpSpPr>
        <p:sp>
          <p:nvSpPr>
            <p:cNvPr id="121" name="Rectangle 26"/>
            <p:cNvSpPr/>
            <p:nvPr/>
          </p:nvSpPr>
          <p:spPr>
            <a:xfrm>
              <a:off x="1447920" y="5410080"/>
              <a:ext cx="1596960" cy="87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122" name="Picture 27" descr="0410"/>
            <p:cNvPicPr/>
            <p:nvPr/>
          </p:nvPicPr>
          <p:blipFill>
            <a:blip r:embed="rId4"/>
            <a:srcRect l="24901" t="0" r="0" b="3862"/>
            <a:stretch/>
          </p:blipFill>
          <p:spPr>
            <a:xfrm>
              <a:off x="1516320" y="5449680"/>
              <a:ext cx="1469880" cy="79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Line 28"/>
          <p:cNvSpPr/>
          <p:nvPr/>
        </p:nvSpPr>
        <p:spPr>
          <a:xfrm>
            <a:off x="1600200" y="5638680"/>
            <a:ext cx="106668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1752480" y="609588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5" name="Line 30"/>
          <p:cNvSpPr/>
          <p:nvPr/>
        </p:nvSpPr>
        <p:spPr>
          <a:xfrm>
            <a:off x="1752480" y="59436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1752480" y="54864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1752480" y="57150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066680"/>
            <a:ext cx="868824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actual experiment a detector is positioned from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at corresponds to incident particles betwee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0412"/>
          <p:cNvPicPr/>
          <p:nvPr/>
        </p:nvPicPr>
        <p:blipFill>
          <a:blip r:embed="rId1"/>
          <a:stretch/>
        </p:blipFill>
        <p:spPr>
          <a:xfrm>
            <a:off x="2679840" y="1905120"/>
            <a:ext cx="3784320" cy="28954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utherford Scattering Equation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2452680" y="5216400"/>
            <a:ext cx="4238640" cy="8794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3: The Classical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295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tangential velocity of the electr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5" descr=""/>
          <p:cNvPicPr/>
          <p:nvPr/>
        </p:nvPicPr>
        <p:blipFill>
          <a:blip r:embed="rId1"/>
          <a:stretch/>
        </p:blipFill>
        <p:spPr>
          <a:xfrm>
            <a:off x="3049560" y="2390760"/>
            <a:ext cx="3044880" cy="961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"/>
          <p:cNvPicPr/>
          <p:nvPr/>
        </p:nvPicPr>
        <p:blipFill>
          <a:blip r:embed="rId2"/>
          <a:stretch/>
        </p:blipFill>
        <p:spPr>
          <a:xfrm>
            <a:off x="2119320" y="4495680"/>
            <a:ext cx="4905360" cy="9622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Object 2"/>
          <p:cNvGraphicFramePr/>
          <p:nvPr/>
        </p:nvGraphicFramePr>
        <p:xfrm>
          <a:off x="1720800" y="2382840"/>
          <a:ext cx="274788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0800" y="2382840"/>
                    <a:ext cx="27478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2400" y="328320"/>
            <a:ext cx="769284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The Classical Atomic Model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066680"/>
            <a:ext cx="526572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ton’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w force of attraction on the electron by the nucleus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860400" y="5553000"/>
            <a:ext cx="4905360" cy="962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507960" y="3457440"/>
            <a:ext cx="517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tangential velocity of the electron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145" name="Group 7"/>
          <p:cNvGrpSpPr/>
          <p:nvPr/>
        </p:nvGrpSpPr>
        <p:grpSpPr>
          <a:xfrm>
            <a:off x="6114960" y="1582560"/>
            <a:ext cx="1938600" cy="2036880"/>
            <a:chOff x="6114960" y="1582560"/>
            <a:chExt cx="1938600" cy="2036880"/>
          </a:xfrm>
        </p:grpSpPr>
        <p:sp>
          <p:nvSpPr>
            <p:cNvPr id="146" name="Oval 8"/>
            <p:cNvSpPr/>
            <p:nvPr/>
          </p:nvSpPr>
          <p:spPr>
            <a:xfrm>
              <a:off x="6932880" y="2447640"/>
              <a:ext cx="304560" cy="30492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7" name="Oval 9"/>
            <p:cNvSpPr/>
            <p:nvPr/>
          </p:nvSpPr>
          <p:spPr>
            <a:xfrm>
              <a:off x="6114960" y="1582560"/>
              <a:ext cx="1938600" cy="2036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8" name="Line 10"/>
            <p:cNvSpPr/>
            <p:nvPr/>
          </p:nvSpPr>
          <p:spPr>
            <a:xfrm>
              <a:off x="7732800" y="1847880"/>
              <a:ext cx="98280" cy="1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9" name="Oval 11"/>
            <p:cNvSpPr/>
            <p:nvPr/>
          </p:nvSpPr>
          <p:spPr>
            <a:xfrm>
              <a:off x="7446960" y="1631880"/>
              <a:ext cx="146160" cy="145800"/>
            </a:xfrm>
            <a:prstGeom prst="ellipse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50" name="Text Box 12"/>
          <p:cNvSpPr/>
          <p:nvPr/>
        </p:nvSpPr>
        <p:spPr>
          <a:xfrm>
            <a:off x="507960" y="5049720"/>
            <a:ext cx="29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151" name="Object 13"/>
          <p:cNvGraphicFramePr/>
          <p:nvPr/>
        </p:nvGraphicFramePr>
        <p:xfrm>
          <a:off x="1270080" y="3944880"/>
          <a:ext cx="1914480" cy="998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70080" y="3944880"/>
                    <a:ext cx="19144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4"/>
          <p:cNvGraphicFramePr/>
          <p:nvPr/>
        </p:nvGraphicFramePr>
        <p:xfrm>
          <a:off x="3382920" y="3943440"/>
          <a:ext cx="3191040" cy="99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4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82920" y="3943440"/>
                    <a:ext cx="319104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15"/>
          <p:cNvSpPr/>
          <p:nvPr/>
        </p:nvSpPr>
        <p:spPr>
          <a:xfrm>
            <a:off x="6186600" y="5567400"/>
            <a:ext cx="2423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e Planetary Model is Doomed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dius r must decrease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3683160" y="1752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4191120" y="4952880"/>
            <a:ext cx="533160" cy="457200"/>
          </a:xfrm>
          <a:prstGeom prst="downArrow">
            <a:avLst>
              <a:gd name="adj1" fmla="val 50880"/>
              <a:gd name="adj2" fmla="val 444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61" name="Picture 14" descr="0414"/>
          <p:cNvPicPr/>
          <p:nvPr/>
        </p:nvPicPr>
        <p:blipFill>
          <a:blip r:embed="rId1"/>
          <a:stretch/>
        </p:blipFill>
        <p:spPr>
          <a:xfrm>
            <a:off x="3297240" y="2057400"/>
            <a:ext cx="2549520" cy="23652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608040" y="5492880"/>
            <a:ext cx="6021360" cy="83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3200" y="351000"/>
            <a:ext cx="820908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he Bohr Model of the Hydrogen Atom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6640" y="1353960"/>
            <a:ext cx="4889520" cy="39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which orbiting electrons do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diate energy, exist in atoms and have well-defined energie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ransitions can occur between them, yielding light of energ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5"/>
          <p:cNvGrpSpPr/>
          <p:nvPr/>
        </p:nvGrpSpPr>
        <p:grpSpPr>
          <a:xfrm>
            <a:off x="5981760" y="1871640"/>
            <a:ext cx="2193840" cy="2193840"/>
            <a:chOff x="5981760" y="1871640"/>
            <a:chExt cx="2193840" cy="2193840"/>
          </a:xfrm>
        </p:grpSpPr>
        <p:sp>
          <p:nvSpPr>
            <p:cNvPr id="167" name="Oval 6"/>
            <p:cNvSpPr/>
            <p:nvPr/>
          </p:nvSpPr>
          <p:spPr>
            <a:xfrm>
              <a:off x="6981840" y="2871720"/>
              <a:ext cx="193680" cy="19368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68" name="Oval 7"/>
            <p:cNvSpPr/>
            <p:nvPr/>
          </p:nvSpPr>
          <p:spPr>
            <a:xfrm>
              <a:off x="6580080" y="2470320"/>
              <a:ext cx="998640" cy="998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69" name="Oval 8"/>
            <p:cNvSpPr/>
            <p:nvPr/>
          </p:nvSpPr>
          <p:spPr>
            <a:xfrm>
              <a:off x="5981760" y="1871640"/>
              <a:ext cx="2193840" cy="2193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7407360" y="390996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6923160" y="2813040"/>
              <a:ext cx="311040" cy="311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2" name="Oval 11"/>
            <p:cNvSpPr/>
            <p:nvPr/>
          </p:nvSpPr>
          <p:spPr>
            <a:xfrm>
              <a:off x="7140600" y="285264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3" name="Oval 12"/>
            <p:cNvSpPr/>
            <p:nvPr/>
          </p:nvSpPr>
          <p:spPr>
            <a:xfrm>
              <a:off x="6519960" y="293220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74" name="Text Box 13"/>
          <p:cNvSpPr/>
          <p:nvPr/>
        </p:nvSpPr>
        <p:spPr>
          <a:xfrm>
            <a:off x="533520" y="5554800"/>
            <a:ext cx="602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angular momentum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is:    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alled the Principal Quantum Number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4"/>
              <p:cNvSpPr txBox="1"/>
              <p:nvPr/>
            </p:nvSpPr>
            <p:spPr>
              <a:xfrm>
                <a:off x="6035760" y="5575320"/>
                <a:ext cx="4302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" name="Group 15"/>
          <p:cNvGrpSpPr/>
          <p:nvPr/>
        </p:nvGrpSpPr>
        <p:grpSpPr>
          <a:xfrm>
            <a:off x="5595840" y="1378080"/>
            <a:ext cx="2646360" cy="3409920"/>
            <a:chOff x="5595840" y="1378080"/>
            <a:chExt cx="2646360" cy="3409920"/>
          </a:xfrm>
        </p:grpSpPr>
        <p:grpSp>
          <p:nvGrpSpPr>
            <p:cNvPr id="177" name="Group 16"/>
            <p:cNvGrpSpPr/>
            <p:nvPr/>
          </p:nvGrpSpPr>
          <p:grpSpPr>
            <a:xfrm>
              <a:off x="7229520" y="1378080"/>
              <a:ext cx="1012680" cy="1450800"/>
              <a:chOff x="7229520" y="1378080"/>
              <a:chExt cx="1012680" cy="1450800"/>
            </a:xfrm>
          </p:grpSpPr>
          <p:sp>
            <p:nvSpPr>
              <p:cNvPr id="178" name="Text Box 17"/>
              <p:cNvSpPr/>
              <p:nvPr/>
            </p:nvSpPr>
            <p:spPr>
              <a:xfrm>
                <a:off x="7535880" y="1378080"/>
                <a:ext cx="706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= 1</a:t>
                </a:r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179" name="Line 18"/>
              <p:cNvSpPr/>
              <p:nvPr/>
            </p:nvSpPr>
            <p:spPr>
              <a:xfrm flipH="1">
                <a:off x="7229520" y="1717560"/>
                <a:ext cx="549360" cy="1111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  <p:sp>
          <p:nvSpPr>
            <p:cNvPr id="180" name="Text Box 19"/>
            <p:cNvSpPr/>
            <p:nvPr/>
          </p:nvSpPr>
          <p:spPr>
            <a:xfrm>
              <a:off x="7416720" y="441972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3</a:t>
              </a:r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1" name="Line 20"/>
            <p:cNvSpPr/>
            <p:nvPr/>
          </p:nvSpPr>
          <p:spPr>
            <a:xfrm flipH="1" flipV="1">
              <a:off x="7516800" y="4061880"/>
              <a:ext cx="208080" cy="46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2" name="Text Box 21"/>
            <p:cNvSpPr/>
            <p:nvPr/>
          </p:nvSpPr>
          <p:spPr>
            <a:xfrm>
              <a:off x="5595840" y="148752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2</a:t>
              </a:r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3" name="Line 22"/>
            <p:cNvSpPr/>
            <p:nvPr/>
          </p:nvSpPr>
          <p:spPr>
            <a:xfrm>
              <a:off x="5961240" y="1778040"/>
              <a:ext cx="549000" cy="111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84" name="Text Box 23"/>
          <p:cNvSpPr/>
          <p:nvPr/>
        </p:nvSpPr>
        <p:spPr>
          <a:xfrm>
            <a:off x="6767640" y="5451480"/>
            <a:ext cx="1914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4.4: The Bohr Model of the Hydrogen Atom</a:t>
            </a:r>
            <a:endParaRPr b="0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−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h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hf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or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2, wher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or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frequency of rotation. This is equivalent to ask that the angular momentum L=nh/(2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6464160" y="1122480"/>
            <a:ext cx="1914840" cy="1914480"/>
            <a:chOff x="6464160" y="1122480"/>
            <a:chExt cx="1914840" cy="1914480"/>
          </a:xfrm>
        </p:grpSpPr>
        <p:sp>
          <p:nvSpPr>
            <p:cNvPr id="190" name="Oval 3"/>
            <p:cNvSpPr/>
            <p:nvPr/>
          </p:nvSpPr>
          <p:spPr>
            <a:xfrm>
              <a:off x="7336800" y="1995120"/>
              <a:ext cx="168840" cy="16884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1" name="Oval 4"/>
            <p:cNvSpPr/>
            <p:nvPr/>
          </p:nvSpPr>
          <p:spPr>
            <a:xfrm>
              <a:off x="6986160" y="1644840"/>
              <a:ext cx="871560" cy="870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>
              <a:off x="6464160" y="1122480"/>
              <a:ext cx="1914840" cy="1914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>
              <a:off x="7708320" y="290124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>
              <a:off x="7285680" y="1944000"/>
              <a:ext cx="271440" cy="271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7475400" y="197856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6933600" y="204768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3200" y="351000"/>
            <a:ext cx="820908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onsequences of the Bohr Model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38280" y="1279440"/>
            <a:ext cx="334008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12"/>
              <p:cNvSpPr txBox="1"/>
              <p:nvPr/>
            </p:nvSpPr>
            <p:spPr>
              <a:xfrm>
                <a:off x="1932120" y="1913040"/>
                <a:ext cx="19684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mvr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0" name="Object 13"/>
          <p:cNvGraphicFramePr/>
          <p:nvPr/>
        </p:nvGraphicFramePr>
        <p:xfrm>
          <a:off x="1454040" y="3236760"/>
          <a:ext cx="191448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3236760"/>
                    <a:ext cx="19144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14"/>
              <p:cNvSpPr txBox="1"/>
              <p:nvPr/>
            </p:nvSpPr>
            <p:spPr>
              <a:xfrm>
                <a:off x="2894040" y="2698920"/>
                <a:ext cx="1549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ℏ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03" name="Object 15"/>
          <p:cNvGraphicFramePr/>
          <p:nvPr/>
        </p:nvGraphicFramePr>
        <p:xfrm>
          <a:off x="4299120" y="3197160"/>
          <a:ext cx="2220840" cy="9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99120" y="3197160"/>
                    <a:ext cx="222084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Text Box 16"/>
          <p:cNvSpPr/>
          <p:nvPr/>
        </p:nvSpPr>
        <p:spPr>
          <a:xfrm>
            <a:off x="638280" y="3460680"/>
            <a:ext cx="78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3578400" y="3460680"/>
            <a:ext cx="78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638280" y="4795920"/>
            <a:ext cx="185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ing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208" name="Object 19"/>
          <p:cNvGraphicFramePr/>
          <p:nvPr/>
        </p:nvGraphicFramePr>
        <p:xfrm>
          <a:off x="2766960" y="4687920"/>
          <a:ext cx="122076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66960" y="4687920"/>
                    <a:ext cx="1220760" cy="52704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0" name="Text Box 20"/>
          <p:cNvSpPr/>
          <p:nvPr/>
        </p:nvSpPr>
        <p:spPr>
          <a:xfrm>
            <a:off x="638280" y="2712960"/>
            <a:ext cx="23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211" name="Object 21"/>
          <p:cNvGraphicFramePr/>
          <p:nvPr/>
        </p:nvGraphicFramePr>
        <p:xfrm>
          <a:off x="6203880" y="4494240"/>
          <a:ext cx="172080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03880" y="4494240"/>
                    <a:ext cx="1720800" cy="91440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3" name="Text Box 22"/>
          <p:cNvSpPr/>
          <p:nvPr/>
        </p:nvSpPr>
        <p:spPr>
          <a:xfrm>
            <a:off x="4856040" y="4795920"/>
            <a:ext cx="10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682560" y="5845320"/>
            <a:ext cx="7950240" cy="7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is called the Bohr radius. It’s the diameter of the Hydrogen atom (in its lowest-energy, or “ground,” state)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215" name="Group 24"/>
          <p:cNvGrpSpPr/>
          <p:nvPr/>
        </p:nvGrpSpPr>
        <p:grpSpPr>
          <a:xfrm>
            <a:off x="7297560" y="2109960"/>
            <a:ext cx="460440" cy="1593000"/>
            <a:chOff x="7297560" y="2109960"/>
            <a:chExt cx="460440" cy="1593000"/>
          </a:xfrm>
        </p:grpSpPr>
        <p:sp>
          <p:nvSpPr>
            <p:cNvPr id="216" name="Text Box 25"/>
            <p:cNvSpPr/>
            <p:nvPr/>
          </p:nvSpPr>
          <p:spPr>
            <a:xfrm>
              <a:off x="7297560" y="3262320"/>
              <a:ext cx="460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7" name="Line 26"/>
            <p:cNvSpPr/>
            <p:nvPr/>
          </p:nvSpPr>
          <p:spPr>
            <a:xfrm>
              <a:off x="7397640" y="3282840"/>
              <a:ext cx="1954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8" name="Line 27"/>
            <p:cNvSpPr/>
            <p:nvPr/>
          </p:nvSpPr>
          <p:spPr>
            <a:xfrm>
              <a:off x="7419960" y="2109960"/>
              <a:ext cx="0" cy="110952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9" name="Line 28"/>
            <p:cNvSpPr/>
            <p:nvPr/>
          </p:nvSpPr>
          <p:spPr>
            <a:xfrm>
              <a:off x="7572240" y="2109960"/>
              <a:ext cx="0" cy="110952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Bohr Radiu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1880" y="1143000"/>
            <a:ext cx="852984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ohr radiu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given b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 gives its lowest energy state (called the 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nd” stat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5" descr=""/>
          <p:cNvPicPr/>
          <p:nvPr/>
        </p:nvPicPr>
        <p:blipFill>
          <a:blip r:embed="rId1"/>
          <a:stretch/>
        </p:blipFill>
        <p:spPr>
          <a:xfrm>
            <a:off x="3254400" y="1523880"/>
            <a:ext cx="2635200" cy="803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6" descr=""/>
          <p:cNvPicPr/>
          <p:nvPr/>
        </p:nvPicPr>
        <p:blipFill>
          <a:blip r:embed="rId2"/>
          <a:stretch/>
        </p:blipFill>
        <p:spPr>
          <a:xfrm>
            <a:off x="511200" y="2978280"/>
            <a:ext cx="1012680" cy="520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7" descr=""/>
          <p:cNvPicPr/>
          <p:nvPr/>
        </p:nvPicPr>
        <p:blipFill>
          <a:blip r:embed="rId3"/>
          <a:stretch/>
        </p:blipFill>
        <p:spPr>
          <a:xfrm>
            <a:off x="7493040" y="3132000"/>
            <a:ext cx="1320840" cy="225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8" descr=""/>
          <p:cNvPicPr/>
          <p:nvPr/>
        </p:nvPicPr>
        <p:blipFill>
          <a:blip r:embed="rId4"/>
          <a:stretch/>
        </p:blipFill>
        <p:spPr>
          <a:xfrm>
            <a:off x="3511440" y="4421160"/>
            <a:ext cx="2121120" cy="39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9" descr=""/>
          <p:cNvPicPr/>
          <p:nvPr/>
        </p:nvPicPr>
        <p:blipFill>
          <a:blip r:embed="rId5"/>
          <a:stretch/>
        </p:blipFill>
        <p:spPr>
          <a:xfrm>
            <a:off x="1547640" y="2971800"/>
            <a:ext cx="5905800" cy="58104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7"/>
          <p:cNvSpPr/>
          <p:nvPr/>
        </p:nvSpPr>
        <p:spPr>
          <a:xfrm>
            <a:off x="3276720" y="2438280"/>
            <a:ext cx="548640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frequency of a photon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ydberg constan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The Hydrogen Atom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ergies of the stationary states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3.6 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29"/>
          <p:cNvGraphicFramePr/>
          <p:nvPr/>
        </p:nvGraphicFramePr>
        <p:xfrm>
          <a:off x="4952880" y="3492360"/>
          <a:ext cx="187956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492360"/>
                    <a:ext cx="1879560" cy="546120"/>
                  </a:xfrm>
                  <a:prstGeom prst="rect">
                    <a:avLst/>
                  </a:prstGeom>
                  <a:ln w="38160">
                    <a:solidFill>
                      <a:srgbClr val="ff99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34" name="Picture 24" descr=""/>
          <p:cNvPicPr/>
          <p:nvPr/>
        </p:nvPicPr>
        <p:blipFill>
          <a:blip r:embed="rId3"/>
          <a:stretch/>
        </p:blipFill>
        <p:spPr>
          <a:xfrm>
            <a:off x="2841480" y="1165320"/>
            <a:ext cx="3461040" cy="711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8" descr="0415"/>
          <p:cNvPicPr/>
          <p:nvPr/>
        </p:nvPicPr>
        <p:blipFill>
          <a:blip r:embed="rId4"/>
          <a:stretch/>
        </p:blipFill>
        <p:spPr>
          <a:xfrm>
            <a:off x="304920" y="2389320"/>
            <a:ext cx="2660400" cy="446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36" name="Group 31"/>
          <p:cNvGrpSpPr/>
          <p:nvPr/>
        </p:nvGrpSpPr>
        <p:grpSpPr>
          <a:xfrm>
            <a:off x="3649680" y="4459320"/>
            <a:ext cx="4656240" cy="950760"/>
            <a:chOff x="3649680" y="4459320"/>
            <a:chExt cx="4656240" cy="950760"/>
          </a:xfrm>
        </p:grpSpPr>
        <p:sp>
          <p:nvSpPr>
            <p:cNvPr id="237" name="Rectangle 32"/>
            <p:cNvSpPr/>
            <p:nvPr/>
          </p:nvSpPr>
          <p:spPr>
            <a:xfrm>
              <a:off x="3649680" y="4459320"/>
              <a:ext cx="4656240" cy="9507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38" name="Picture 33" descr=""/>
            <p:cNvPicPr/>
            <p:nvPr/>
          </p:nvPicPr>
          <p:blipFill>
            <a:blip r:embed="rId5"/>
            <a:srcRect l="24122" t="0" r="0" b="0"/>
            <a:stretch/>
          </p:blipFill>
          <p:spPr>
            <a:xfrm>
              <a:off x="5359320" y="4530600"/>
              <a:ext cx="2876760" cy="8028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39" name="Object 34"/>
            <p:cNvGraphicFramePr/>
            <p:nvPr/>
          </p:nvGraphicFramePr>
          <p:xfrm>
            <a:off x="3759120" y="4555800"/>
            <a:ext cx="1614600" cy="725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40" name="Object 3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759120" y="4555800"/>
                      <a:ext cx="1614600" cy="72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37" descr="A nitrogen atom with electrons in two energy levels."/>
          <p:cNvPicPr/>
          <p:nvPr/>
        </p:nvPicPr>
        <p:blipFill>
          <a:blip r:embed="rId1"/>
          <a:srcRect l="14953" t="0" r="12248" b="0"/>
          <a:stretch/>
        </p:blipFill>
        <p:spPr>
          <a:xfrm>
            <a:off x="1143000" y="127080"/>
            <a:ext cx="7162920" cy="6578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0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Structure of the Atom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problem of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alenc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Certain elements combine with some elements but not with others, a characteristic that hinted at an internal atomic structu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ransitions in the Hydrogen Atom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334120" y="990720"/>
            <a:ext cx="35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 (invisible).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245" name="Picture 6" descr="0416"/>
          <p:cNvPicPr/>
          <p:nvPr/>
        </p:nvPicPr>
        <p:blipFill>
          <a:blip r:embed="rId1"/>
          <a:stretch/>
        </p:blipFill>
        <p:spPr>
          <a:xfrm>
            <a:off x="826920" y="914400"/>
            <a:ext cx="4278600" cy="579132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Fine Structure Constant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less than 1% of the speed of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tio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035" descr=""/>
          <p:cNvPicPr/>
          <p:nvPr/>
        </p:nvPicPr>
        <p:blipFill>
          <a:blip r:embed="rId1"/>
          <a:stretch/>
        </p:blipFill>
        <p:spPr>
          <a:xfrm>
            <a:off x="3502080" y="2111400"/>
            <a:ext cx="2139840" cy="777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36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714840" cy="85392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83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e Correspondence Principle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3809520"/>
            <a:ext cx="822636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4"/>
          <p:cNvSpPr/>
          <p:nvPr/>
        </p:nvSpPr>
        <p:spPr>
          <a:xfrm>
            <a:off x="609480" y="1495440"/>
            <a:ext cx="36576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Classical electrodynamics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5" name="Oval 5"/>
          <p:cNvSpPr/>
          <p:nvPr/>
        </p:nvSpPr>
        <p:spPr>
          <a:xfrm>
            <a:off x="4800600" y="1571760"/>
            <a:ext cx="3505320" cy="99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Bohr’s atomic model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2209680" y="2638440"/>
            <a:ext cx="4648320" cy="1095480"/>
          </a:xfrm>
          <a:prstGeom prst="downArrow">
            <a:avLst>
              <a:gd name="adj1" fmla="val 64750"/>
              <a:gd name="adj2" fmla="val 406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Determine the properties 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of radiation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7" name="AutoShape 8"/>
          <p:cNvSpPr/>
          <p:nvPr/>
        </p:nvSpPr>
        <p:spPr>
          <a:xfrm>
            <a:off x="546120" y="4619520"/>
            <a:ext cx="3048120" cy="990720"/>
          </a:xfrm>
          <a:prstGeom prst="rightArrow">
            <a:avLst>
              <a:gd name="adj1" fmla="val 75639"/>
              <a:gd name="adj2" fmla="val 961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Bohr’s correspondence 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principle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3765600" y="4579920"/>
            <a:ext cx="5149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4315320" y="1752480"/>
            <a:ext cx="4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The Correspondence Principle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990720"/>
            <a:ext cx="8229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equency of the radiation emitte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lass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qual to the orbital frequenc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r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lectron around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very large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2259000" y="3530520"/>
            <a:ext cx="4187880" cy="1368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2"/>
          <a:stretch/>
        </p:blipFill>
        <p:spPr>
          <a:xfrm>
            <a:off x="3397320" y="5796000"/>
            <a:ext cx="2711520" cy="711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"/>
          <p:cNvPicPr/>
          <p:nvPr/>
        </p:nvPicPr>
        <p:blipFill>
          <a:blip r:embed="rId3"/>
          <a:stretch/>
        </p:blipFill>
        <p:spPr>
          <a:xfrm>
            <a:off x="3657600" y="5257800"/>
            <a:ext cx="1781280" cy="5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7"/>
          <p:cNvGraphicFramePr/>
          <p:nvPr/>
        </p:nvGraphicFramePr>
        <p:xfrm>
          <a:off x="5365800" y="5931000"/>
          <a:ext cx="790560" cy="41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65800" y="5931000"/>
                    <a:ext cx="790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8"/>
          <p:cNvGraphicFramePr/>
          <p:nvPr/>
        </p:nvGraphicFramePr>
        <p:xfrm>
          <a:off x="2197080" y="3625920"/>
          <a:ext cx="557280" cy="419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9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97080" y="362592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9"/>
          <p:cNvGraphicFramePr/>
          <p:nvPr/>
        </p:nvGraphicFramePr>
        <p:xfrm>
          <a:off x="3557520" y="5295960"/>
          <a:ext cx="557280" cy="419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1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57520" y="529596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10"/>
          <p:cNvGraphicFramePr/>
          <p:nvPr/>
        </p:nvGraphicFramePr>
        <p:xfrm>
          <a:off x="3352680" y="5950080"/>
          <a:ext cx="557280" cy="41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3" name="Object 1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52680" y="595008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4" name="Picture 11" descr=""/>
          <p:cNvPicPr/>
          <p:nvPr/>
        </p:nvPicPr>
        <p:blipFill>
          <a:blip r:embed="rId12"/>
          <a:srcRect l="0" t="0" r="25657" b="0"/>
          <a:stretch/>
        </p:blipFill>
        <p:spPr>
          <a:xfrm>
            <a:off x="3627360" y="1798560"/>
            <a:ext cx="29624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5" name="Object 12"/>
          <p:cNvGraphicFramePr/>
          <p:nvPr/>
        </p:nvGraphicFramePr>
        <p:xfrm>
          <a:off x="3603600" y="2041560"/>
          <a:ext cx="790560" cy="419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6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03600" y="2041560"/>
                    <a:ext cx="790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13"/>
          <p:cNvGraphicFramePr/>
          <p:nvPr/>
        </p:nvGraphicFramePr>
        <p:xfrm>
          <a:off x="1486080" y="1851120"/>
          <a:ext cx="2903400" cy="722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8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86080" y="1851120"/>
                    <a:ext cx="29034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9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0" name="Text Box 15"/>
          <p:cNvSpPr/>
          <p:nvPr/>
        </p:nvSpPr>
        <p:spPr>
          <a:xfrm>
            <a:off x="609480" y="5257800"/>
            <a:ext cx="2354400" cy="11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arg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ituting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281" name="Picture 16" descr=""/>
          <p:cNvPicPr/>
          <p:nvPr/>
        </p:nvPicPr>
        <p:blipFill>
          <a:blip r:embed="rId17"/>
          <a:srcRect l="27639" t="0" r="34604" b="0"/>
          <a:stretch/>
        </p:blipFill>
        <p:spPr>
          <a:xfrm>
            <a:off x="6707160" y="1878120"/>
            <a:ext cx="1023840" cy="71100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93560" y="2144520"/>
            <a:ext cx="8226720" cy="44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sh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sh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-r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has the energ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-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6520" y="326880"/>
            <a:ext cx="418464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haracteristic X-Ray Spectra and Atomic Number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493560" y="4775040"/>
            <a:ext cx="629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2387520" y="3301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287" name="Group 6"/>
          <p:cNvGrpSpPr/>
          <p:nvPr/>
        </p:nvGrpSpPr>
        <p:grpSpPr>
          <a:xfrm>
            <a:off x="4929120" y="450720"/>
            <a:ext cx="3519360" cy="4243320"/>
            <a:chOff x="4929120" y="450720"/>
            <a:chExt cx="3519360" cy="4243320"/>
          </a:xfrm>
        </p:grpSpPr>
        <p:sp>
          <p:nvSpPr>
            <p:cNvPr id="288" name="Rectangle 7"/>
            <p:cNvSpPr/>
            <p:nvPr/>
          </p:nvSpPr>
          <p:spPr>
            <a:xfrm>
              <a:off x="4929120" y="450720"/>
              <a:ext cx="3519360" cy="424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89" name="Picture 8" descr="0418"/>
            <p:cNvPicPr/>
            <p:nvPr/>
          </p:nvPicPr>
          <p:blipFill>
            <a:blip r:embed="rId1"/>
            <a:srcRect l="0" t="0" r="0" b="2809"/>
            <a:stretch/>
          </p:blipFill>
          <p:spPr>
            <a:xfrm>
              <a:off x="5122080" y="624240"/>
              <a:ext cx="3160440" cy="388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8"/>
          <p:cNvSpPr/>
          <p:nvPr/>
        </p:nvSpPr>
        <p:spPr>
          <a:xfrm>
            <a:off x="762120" y="5791320"/>
            <a:ext cx="32763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5440" y="228600"/>
            <a:ext cx="357480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Atomic Number and Moseley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440" y="1599840"/>
            <a:ext cx="73645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shell to K shell:   K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shell to K shell:  K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Atomic number Z = number of protons in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s for the K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4689360" y="525600"/>
            <a:ext cx="3600360" cy="3444840"/>
            <a:chOff x="4689360" y="525600"/>
            <a:chExt cx="3600360" cy="3444840"/>
          </a:xfrm>
        </p:grpSpPr>
        <p:sp>
          <p:nvSpPr>
            <p:cNvPr id="295" name="Rectangle 5"/>
            <p:cNvSpPr/>
            <p:nvPr/>
          </p:nvSpPr>
          <p:spPr>
            <a:xfrm>
              <a:off x="4689360" y="525600"/>
              <a:ext cx="3600360" cy="344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96" name="Picture 6" descr="0418"/>
            <p:cNvPicPr/>
            <p:nvPr/>
          </p:nvPicPr>
          <p:blipFill>
            <a:blip r:embed="rId1"/>
            <a:srcRect l="0" t="0" r="0" b="2809"/>
            <a:stretch/>
          </p:blipFill>
          <p:spPr>
            <a:xfrm>
              <a:off x="4887000" y="666360"/>
              <a:ext cx="3233160" cy="315648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97" name="Object 7"/>
              <p:cNvSpPr txBox="1"/>
              <p:nvPr/>
            </p:nvSpPr>
            <p:spPr>
              <a:xfrm>
                <a:off x="4803840" y="5683320"/>
                <a:ext cx="24969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98" name="Group 8"/>
          <p:cNvGrpSpPr/>
          <p:nvPr/>
        </p:nvGrpSpPr>
        <p:grpSpPr>
          <a:xfrm>
            <a:off x="4626000" y="473040"/>
            <a:ext cx="3718800" cy="3794040"/>
            <a:chOff x="4626000" y="473040"/>
            <a:chExt cx="3718800" cy="3794040"/>
          </a:xfrm>
        </p:grpSpPr>
        <p:grpSp>
          <p:nvGrpSpPr>
            <p:cNvPr id="299" name="Group 9"/>
            <p:cNvGrpSpPr/>
            <p:nvPr/>
          </p:nvGrpSpPr>
          <p:grpSpPr>
            <a:xfrm>
              <a:off x="4626000" y="473040"/>
              <a:ext cx="3718800" cy="3794040"/>
              <a:chOff x="4626000" y="473040"/>
              <a:chExt cx="3718800" cy="3794040"/>
            </a:xfrm>
          </p:grpSpPr>
          <p:sp>
            <p:nvSpPr>
              <p:cNvPr id="300" name="Rectangle 10"/>
              <p:cNvSpPr/>
              <p:nvPr/>
            </p:nvSpPr>
            <p:spPr>
              <a:xfrm>
                <a:off x="4626000" y="473040"/>
                <a:ext cx="3718800" cy="379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pic>
            <p:nvPicPr>
              <p:cNvPr id="301" name="Picture 11" descr="0319"/>
              <p:cNvPicPr/>
              <p:nvPr/>
            </p:nvPicPr>
            <p:blipFill>
              <a:blip r:embed="rId2"/>
              <a:srcRect l="0" t="0" r="0" b="2640"/>
              <a:stretch/>
            </p:blipFill>
            <p:spPr>
              <a:xfrm>
                <a:off x="4767840" y="590040"/>
                <a:ext cx="3450600" cy="3591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2" name="Group 12"/>
            <p:cNvGrpSpPr/>
            <p:nvPr/>
          </p:nvGrpSpPr>
          <p:grpSpPr>
            <a:xfrm>
              <a:off x="6944760" y="651240"/>
              <a:ext cx="884160" cy="475200"/>
              <a:chOff x="6944760" y="651240"/>
              <a:chExt cx="884160" cy="475200"/>
            </a:xfrm>
          </p:grpSpPr>
          <p:sp>
            <p:nvSpPr>
              <p:cNvPr id="303" name="Text Box 13"/>
              <p:cNvSpPr/>
              <p:nvPr/>
            </p:nvSpPr>
            <p:spPr>
              <a:xfrm>
                <a:off x="7239960" y="651240"/>
                <a:ext cx="5889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2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304" name="Line 14"/>
              <p:cNvSpPr/>
              <p:nvPr/>
            </p:nvSpPr>
            <p:spPr>
              <a:xfrm flipH="1">
                <a:off x="6944760" y="895320"/>
                <a:ext cx="360000" cy="17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5"/>
            <p:cNvGrpSpPr/>
            <p:nvPr/>
          </p:nvGrpSpPr>
          <p:grpSpPr>
            <a:xfrm>
              <a:off x="5685840" y="613080"/>
              <a:ext cx="870840" cy="494640"/>
              <a:chOff x="5685840" y="613080"/>
              <a:chExt cx="870840" cy="494640"/>
            </a:xfrm>
          </p:grpSpPr>
          <p:sp>
            <p:nvSpPr>
              <p:cNvPr id="306" name="Text Box 16"/>
              <p:cNvSpPr/>
              <p:nvPr/>
            </p:nvSpPr>
            <p:spPr>
              <a:xfrm>
                <a:off x="5685840" y="613080"/>
                <a:ext cx="5889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2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307" name="Line 17"/>
              <p:cNvSpPr/>
              <p:nvPr/>
            </p:nvSpPr>
            <p:spPr>
              <a:xfrm>
                <a:off x="6196680" y="933120"/>
                <a:ext cx="360000" cy="17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Moseley’s Empirical Result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X ray is produced from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2 to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 transi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6"/>
          <p:cNvSpPr/>
          <p:nvPr/>
        </p:nvSpPr>
        <p:spPr>
          <a:xfrm>
            <a:off x="4343400" y="3836880"/>
            <a:ext cx="457200" cy="11430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12" name="Picture 9" descr=""/>
          <p:cNvPicPr/>
          <p:nvPr/>
        </p:nvPicPr>
        <p:blipFill>
          <a:blip r:embed="rId1"/>
          <a:stretch/>
        </p:blipFill>
        <p:spPr>
          <a:xfrm>
            <a:off x="1765440" y="2895480"/>
            <a:ext cx="5613120" cy="80352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7: Atomic Excitation by Electron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1143000"/>
            <a:ext cx="8226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"/>
          <p:cNvSpPr/>
          <p:nvPr/>
        </p:nvSpPr>
        <p:spPr>
          <a:xfrm>
            <a:off x="660240" y="51944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17" name="Line 6"/>
          <p:cNvSpPr/>
          <p:nvPr/>
        </p:nvSpPr>
        <p:spPr>
          <a:xfrm>
            <a:off x="660240" y="59817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18" name="Picture 7" descr="0420"/>
          <p:cNvPicPr/>
          <p:nvPr/>
        </p:nvPicPr>
        <p:blipFill>
          <a:blip r:embed="rId1"/>
          <a:stretch/>
        </p:blipFill>
        <p:spPr>
          <a:xfrm>
            <a:off x="2187720" y="1631880"/>
            <a:ext cx="4768560" cy="2838600"/>
          </a:xfrm>
          <a:prstGeom prst="rect">
            <a:avLst/>
          </a:prstGeom>
          <a:ln w="0">
            <a:noFill/>
          </a:ln>
        </p:spPr>
      </p:pic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Atomic Excitation by Electrons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879120"/>
            <a:ext cx="8229600" cy="13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nd state ha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be zer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rst excited state ha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nergy differenc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0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citation energ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4572000" y="2286000"/>
            <a:ext cx="441972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380880" y="5349960"/>
            <a:ext cx="8763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88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9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24" name="Picture 10" descr="0421"/>
          <p:cNvPicPr/>
          <p:nvPr/>
        </p:nvPicPr>
        <p:blipFill>
          <a:blip r:embed="rId1"/>
          <a:stretch/>
        </p:blipFill>
        <p:spPr>
          <a:xfrm>
            <a:off x="506520" y="2209680"/>
            <a:ext cx="3684600" cy="3084480"/>
          </a:xfrm>
          <a:prstGeom prst="rect">
            <a:avLst/>
          </a:prstGeom>
          <a:ln w="0">
            <a:noFill/>
          </a:ln>
        </p:spPr>
      </p:pic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More details on the Bohr Model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5400" y="1066680"/>
            <a:ext cx="8226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lectron mass is replaced by its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duced mas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1" descr="0417"/>
          <p:cNvPicPr/>
          <p:nvPr/>
        </p:nvPicPr>
        <p:blipFill>
          <a:blip r:embed="rId1"/>
          <a:stretch/>
        </p:blipFill>
        <p:spPr>
          <a:xfrm>
            <a:off x="3021120" y="1689120"/>
            <a:ext cx="3101760" cy="12826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"/>
          <p:cNvPicPr/>
          <p:nvPr/>
        </p:nvPicPr>
        <p:blipFill>
          <a:blip r:embed="rId2"/>
          <a:stretch/>
        </p:blipFill>
        <p:spPr>
          <a:xfrm>
            <a:off x="3375000" y="3403440"/>
            <a:ext cx="2394000" cy="9874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3" descr=""/>
          <p:cNvPicPr/>
          <p:nvPr/>
        </p:nvPicPr>
        <p:blipFill>
          <a:blip r:embed="rId3"/>
          <a:stretch/>
        </p:blipFill>
        <p:spPr>
          <a:xfrm>
            <a:off x="2593800" y="4927680"/>
            <a:ext cx="3956400" cy="939600"/>
          </a:xfrm>
          <a:prstGeom prst="rect">
            <a:avLst/>
          </a:prstGeom>
          <a:ln w="0">
            <a:noFill/>
          </a:ln>
        </p:spPr>
      </p:pic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9500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0401"/>
          <p:cNvPicPr/>
          <p:nvPr/>
        </p:nvPicPr>
        <p:blipFill>
          <a:blip r:embed="rId1"/>
          <a:stretch/>
        </p:blipFill>
        <p:spPr>
          <a:xfrm>
            <a:off x="3429000" y="2514600"/>
            <a:ext cx="2133720" cy="21225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omson’s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Limitations of the Bohr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023480"/>
            <a:ext cx="838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1"/>
          <a:stretch/>
        </p:blipFill>
        <p:spPr>
          <a:xfrm>
            <a:off x="1219320" y="4876920"/>
            <a:ext cx="7391160" cy="68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"/>
          <p:cNvPicPr/>
          <p:nvPr/>
        </p:nvPicPr>
        <p:blipFill>
          <a:blip r:embed="rId2"/>
          <a:stretch/>
        </p:blipFill>
        <p:spPr>
          <a:xfrm>
            <a:off x="1486080" y="2014560"/>
            <a:ext cx="4749480" cy="48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3"/>
          <a:stretch/>
        </p:blipFill>
        <p:spPr>
          <a:xfrm>
            <a:off x="3505320" y="2452680"/>
            <a:ext cx="4298760" cy="561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/>
          <p:cNvPicPr/>
          <p:nvPr/>
        </p:nvPicPr>
        <p:blipFill>
          <a:blip r:embed="rId4"/>
          <a:stretch/>
        </p:blipFill>
        <p:spPr>
          <a:xfrm>
            <a:off x="3333600" y="3718080"/>
            <a:ext cx="3292560" cy="48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"/>
          <p:cNvPicPr/>
          <p:nvPr/>
        </p:nvPicPr>
        <p:blipFill>
          <a:blip r:embed="rId5"/>
          <a:stretch/>
        </p:blipFill>
        <p:spPr>
          <a:xfrm>
            <a:off x="3333600" y="3086280"/>
            <a:ext cx="3711600" cy="5457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6"/>
          <p:cNvSpPr/>
          <p:nvPr/>
        </p:nvSpPr>
        <p:spPr>
          <a:xfrm>
            <a:off x="457200" y="277920"/>
            <a:ext cx="8226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adius of an Atom: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Experiments of Geiger and Marsden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4876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s from ato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iger showed that some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s were scattered from thin gold-leaf targets at backward angles greater than 9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0402"/>
          <p:cNvPicPr/>
          <p:nvPr/>
        </p:nvPicPr>
        <p:blipFill>
          <a:blip r:embed="rId1"/>
          <a:stretch/>
        </p:blipFill>
        <p:spPr>
          <a:xfrm>
            <a:off x="5562720" y="1295280"/>
            <a:ext cx="3200400" cy="4697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609480" y="4495680"/>
            <a:ext cx="4043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ectrons can’t back-scatter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particles.</a:t>
            </a:r>
            <a:endParaRPr b="0" lang="en-US" sz="2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Scattering from 1 electron: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15508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momentum change of th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icl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letting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perpendicular to the direction of mo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1" descr=""/>
          <p:cNvPicPr/>
          <p:nvPr/>
        </p:nvPicPr>
        <p:blipFill>
          <a:blip r:embed="rId1"/>
          <a:stretch/>
        </p:blipFill>
        <p:spPr>
          <a:xfrm>
            <a:off x="5451480" y="3394080"/>
            <a:ext cx="1666800" cy="339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2" descr=""/>
          <p:cNvPicPr/>
          <p:nvPr/>
        </p:nvPicPr>
        <p:blipFill>
          <a:blip r:embed="rId2"/>
          <a:stretch/>
        </p:blipFill>
        <p:spPr>
          <a:xfrm>
            <a:off x="1535040" y="5356080"/>
            <a:ext cx="5854680" cy="727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3" descr=""/>
          <p:cNvPicPr/>
          <p:nvPr/>
        </p:nvPicPr>
        <p:blipFill>
          <a:blip r:embed="rId3"/>
          <a:stretch/>
        </p:blipFill>
        <p:spPr>
          <a:xfrm>
            <a:off x="1549440" y="3390840"/>
            <a:ext cx="3448080" cy="339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4" descr="0404"/>
          <p:cNvPicPr/>
          <p:nvPr/>
        </p:nvPicPr>
        <p:blipFill>
          <a:blip r:embed="rId4"/>
          <a:srcRect l="0" t="0" r="0" b="9010"/>
          <a:stretch/>
        </p:blipFill>
        <p:spPr>
          <a:xfrm>
            <a:off x="3244680" y="4152960"/>
            <a:ext cx="2654640" cy="1219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5" descr="0403"/>
          <p:cNvPicPr/>
          <p:nvPr/>
        </p:nvPicPr>
        <p:blipFill>
          <a:blip r:embed="rId5"/>
          <a:srcRect l="0" t="0" r="0" b="10004"/>
          <a:stretch/>
        </p:blipFill>
        <p:spPr>
          <a:xfrm>
            <a:off x="1143000" y="1066680"/>
            <a:ext cx="6858000" cy="137016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023480"/>
            <a:ext cx="838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icle were scattered by many electrons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ectrons results in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atoms across the thin gold layer of 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Multiple Scattering from Electron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7" name="Picture 26" descr=""/>
          <p:cNvPicPr/>
          <p:nvPr/>
        </p:nvPicPr>
        <p:blipFill>
          <a:blip r:embed="rId1"/>
          <a:stretch/>
        </p:blipFill>
        <p:spPr>
          <a:xfrm>
            <a:off x="1968480" y="1341360"/>
            <a:ext cx="1263600" cy="32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9" descr=""/>
          <p:cNvPicPr/>
          <p:nvPr/>
        </p:nvPicPr>
        <p:blipFill>
          <a:blip r:embed="rId2"/>
          <a:stretch/>
        </p:blipFill>
        <p:spPr>
          <a:xfrm>
            <a:off x="2476440" y="4838760"/>
            <a:ext cx="3156120" cy="6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1" descr=""/>
          <p:cNvPicPr/>
          <p:nvPr/>
        </p:nvPicPr>
        <p:blipFill>
          <a:blip r:embed="rId3"/>
          <a:stretch/>
        </p:blipFill>
        <p:spPr>
          <a:xfrm>
            <a:off x="5372280" y="4325760"/>
            <a:ext cx="3619440" cy="336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0" descr=""/>
          <p:cNvPicPr/>
          <p:nvPr/>
        </p:nvPicPr>
        <p:blipFill>
          <a:blip r:embed="rId4"/>
          <a:stretch/>
        </p:blipFill>
        <p:spPr>
          <a:xfrm>
            <a:off x="1486080" y="2014560"/>
            <a:ext cx="4749480" cy="48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7" descr=""/>
          <p:cNvPicPr/>
          <p:nvPr/>
        </p:nvPicPr>
        <p:blipFill>
          <a:blip r:embed="rId5"/>
          <a:stretch/>
        </p:blipFill>
        <p:spPr>
          <a:xfrm>
            <a:off x="3505320" y="2452680"/>
            <a:ext cx="4298760" cy="561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8" descr=""/>
          <p:cNvPicPr/>
          <p:nvPr/>
        </p:nvPicPr>
        <p:blipFill>
          <a:blip r:embed="rId6"/>
          <a:stretch/>
        </p:blipFill>
        <p:spPr>
          <a:xfrm>
            <a:off x="3333600" y="3718080"/>
            <a:ext cx="3292560" cy="48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2" descr=""/>
          <p:cNvPicPr/>
          <p:nvPr/>
        </p:nvPicPr>
        <p:blipFill>
          <a:blip r:embed="rId7"/>
          <a:stretch/>
        </p:blipFill>
        <p:spPr>
          <a:xfrm>
            <a:off x="3333600" y="3086280"/>
            <a:ext cx="3711600" cy="545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3" descr=""/>
          <p:cNvPicPr/>
          <p:nvPr/>
        </p:nvPicPr>
        <p:blipFill>
          <a:blip r:embed="rId8"/>
          <a:stretch/>
        </p:blipFill>
        <p:spPr>
          <a:xfrm>
            <a:off x="2133720" y="5641920"/>
            <a:ext cx="3124080" cy="3780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0"/>
          <p:cNvSpPr/>
          <p:nvPr/>
        </p:nvSpPr>
        <p:spPr>
          <a:xfrm>
            <a:off x="455760" y="1066680"/>
            <a:ext cx="83833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 if the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 scattered from all 79 electrons in each atom of gold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utherford’s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AutoShape 35"/>
          <p:cNvSpPr/>
          <p:nvPr/>
        </p:nvSpPr>
        <p:spPr>
          <a:xfrm>
            <a:off x="3962520" y="1676520"/>
            <a:ext cx="647640" cy="838080"/>
          </a:xfrm>
          <a:prstGeom prst="downArrow">
            <a:avLst>
              <a:gd name="adj1" fmla="val 49222"/>
              <a:gd name="adj2" fmla="val 6470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99" name="Picture 40" descr=""/>
          <p:cNvPicPr/>
          <p:nvPr/>
        </p:nvPicPr>
        <p:blipFill>
          <a:blip r:embed="rId1"/>
          <a:stretch/>
        </p:blipFill>
        <p:spPr>
          <a:xfrm>
            <a:off x="892080" y="1136520"/>
            <a:ext cx="1330560" cy="336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2"/>
          <p:cNvSpPr/>
          <p:nvPr/>
        </p:nvSpPr>
        <p:spPr>
          <a:xfrm>
            <a:off x="2743200" y="4724280"/>
            <a:ext cx="5791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The positive charge is concentrated in 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33"/>
                </a:solidFill>
                <a:uFillTx/>
                <a:latin typeface="Arial"/>
              </a:rPr>
              <a:t>a nucleus with a radius much smaller than 10</a:t>
            </a:r>
            <a:r>
              <a:rPr b="1" lang="en-US" sz="1800" spc="-1" strike="noStrike" u="sng" baseline="30000">
                <a:solidFill>
                  <a:srgbClr val="006633"/>
                </a:solidFill>
                <a:uFillTx/>
                <a:latin typeface="Arial"/>
              </a:rPr>
              <a:t>-10</a:t>
            </a:r>
            <a:r>
              <a:rPr b="1" lang="en-US" sz="1800" spc="-1" strike="noStrike" u="sng">
                <a:solidFill>
                  <a:srgbClr val="006633"/>
                </a:solidFill>
                <a:uFillTx/>
                <a:latin typeface="Arial"/>
              </a:rPr>
              <a:t> m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101" name="Group 43"/>
          <p:cNvGrpSpPr/>
          <p:nvPr/>
        </p:nvGrpSpPr>
        <p:grpSpPr>
          <a:xfrm>
            <a:off x="838080" y="4495680"/>
            <a:ext cx="1524240" cy="1524240"/>
            <a:chOff x="838080" y="4495680"/>
            <a:chExt cx="1524240" cy="1524240"/>
          </a:xfrm>
        </p:grpSpPr>
        <p:sp>
          <p:nvSpPr>
            <p:cNvPr id="102" name="Oval 44"/>
            <p:cNvSpPr/>
            <p:nvPr/>
          </p:nvSpPr>
          <p:spPr>
            <a:xfrm>
              <a:off x="1481040" y="5142960"/>
              <a:ext cx="239400" cy="22788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3" name="Oval 45"/>
            <p:cNvSpPr/>
            <p:nvPr/>
          </p:nvSpPr>
          <p:spPr>
            <a:xfrm>
              <a:off x="838080" y="4495680"/>
              <a:ext cx="1524240" cy="1524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4" name="Line 46"/>
            <p:cNvSpPr/>
            <p:nvPr/>
          </p:nvSpPr>
          <p:spPr>
            <a:xfrm>
              <a:off x="2109960" y="4694040"/>
              <a:ext cx="77040" cy="8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5" name="Oval 47"/>
            <p:cNvSpPr/>
            <p:nvPr/>
          </p:nvSpPr>
          <p:spPr>
            <a:xfrm>
              <a:off x="1885320" y="4532400"/>
              <a:ext cx="114840" cy="109080"/>
            </a:xfrm>
            <a:prstGeom prst="ellipse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2"/>
          <p:cNvSpPr/>
          <p:nvPr/>
        </p:nvSpPr>
        <p:spPr>
          <a:xfrm>
            <a:off x="457200" y="990720"/>
            <a:ext cx="86868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is a relationship between the impact parameter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the scattering angle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small,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gets small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can be large and the particle can be repelled backward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2: Rutherford Scattering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Line 49"/>
          <p:cNvSpPr/>
          <p:nvPr/>
        </p:nvSpPr>
        <p:spPr>
          <a:xfrm>
            <a:off x="1066680" y="45338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0" name="Line 51"/>
          <p:cNvSpPr/>
          <p:nvPr/>
        </p:nvSpPr>
        <p:spPr>
          <a:xfrm>
            <a:off x="1066680" y="4915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1" name="Line 52"/>
          <p:cNvSpPr/>
          <p:nvPr/>
        </p:nvSpPr>
        <p:spPr>
          <a:xfrm>
            <a:off x="1066680" y="416556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12" name="Picture 59" descr="0406"/>
          <p:cNvPicPr/>
          <p:nvPr/>
        </p:nvPicPr>
        <p:blipFill>
          <a:blip r:embed="rId1"/>
          <a:stretch/>
        </p:blipFill>
        <p:spPr>
          <a:xfrm>
            <a:off x="4876920" y="2057400"/>
            <a:ext cx="4024080" cy="2583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0" descr=""/>
          <p:cNvPicPr/>
          <p:nvPr/>
        </p:nvPicPr>
        <p:blipFill>
          <a:blip r:embed="rId2"/>
          <a:stretch/>
        </p:blipFill>
        <p:spPr>
          <a:xfrm>
            <a:off x="2170080" y="5181480"/>
            <a:ext cx="4803840" cy="86364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23:52:57Z</dcterms:created>
  <dc:creator>Anthony Pitucco</dc:creator>
  <dc:description/>
  <dc:language>en-US</dc:language>
  <cp:lastModifiedBy>LEGION</cp:lastModifiedBy>
  <dcterms:modified xsi:type="dcterms:W3CDTF">2017-01-26T09:36:06Z</dcterms:modified>
  <cp:revision>302</cp:revision>
  <dc:subject/>
  <dc:title>CHAPTER 4: Structure of the Atom</dc:title>
</cp:coreProperties>
</file>