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s of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Di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ntration of A Diluted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5 mL sample of a 6.0 M KOH is diluted by adding  75 mL of water.  Calculate the new concentration of the KOH s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s KOH  = 0.025 L x  6.0 moles = 0.15 m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volume = 25 mL + 75 mL = 100. mL = 0.100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molarity =   0.15 moles   =     1.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100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SW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125 mL sample of a 3.0 M HCl is diluted by adding  250 mL of water.  The new concentration of the HCl solu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8.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1.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1.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SW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)  1.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les HCl  =  0.250 L x 3.0 moles  =  0.75 m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w M  =  0.75 mol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0 M H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750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new volu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SW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50.0 mL sample of 15% sucrose solution is diluted by adding 200. mL of water.  The new concentration of the sucrose solu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3.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7.5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10.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SW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50.0 mL sample of 15% sucrose solution is diluted by adding 200. mL of water.  The new concentration of the sucrose solu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3.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sucrose = 50.0 mL x 15 g sucrose =  7.5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%   =   7.5 g sucrose       =  3.0 % suc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0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ew volume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engths of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ong acids completely ionize (100%)  in aqueous solutions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   +  H2O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  + Cl-  (100 % 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ong bases completely (100%) dissociate into ions in aqueous solu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+ (aq)  +  OH-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100 % 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3, A Bronsted-Lowry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NH3 reacts with water, most of the reactants remain dissolved as molecules, but a few NH3 reacts with water to form NH4+ and hydroxide 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3       +    H2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NH4+(aq)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don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nd Weak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l, HNO3 , H2S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ther acids are we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OH, KOH,  and Ca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ther bases are we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SW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each of the following a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strong acid or base   2) weak acid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eak 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___  HCl (aq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___  NH3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___  NaOH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___  H2CO3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SW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each of the following a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strong acid or base   2) weak acid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eak 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_1__  HCl (aq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_3__  NH3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_1__  NaOH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_2__  H2CO3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t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ed to neutralize stomach acid (HC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ny contain one or more weak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ka-Seltzer: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HCO3, citric acid, and aspir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-gel: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CO3  and 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lusil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(OH)3 and 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alox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(OH)3 and Mg(OH)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ylanta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(OH)3 and 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re Ant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lk of Magnesia: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laids: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AlNa(OH)2CO3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uminum sodium dihydroxy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ums: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mpo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CO3, Al(OH)3, 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incre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concentration is less than ini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BB85-BE82-4C02-90D0-393161F37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4F3E-5558-4E9E-A620-1C7A9209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73FE-942B-4742-AD15-EA9EB3A4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296C-4DE0-4327-95A2-4CFE4D284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105A-91D1-45D6-97C5-7BE68EF2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F0F6-BAFE-4030-9CB0-CCE8DC5F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113B-869A-401C-AC23-A38492FA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BB52-BC7C-498D-9600-4429366B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9A7B-C384-4985-994C-8A0F36D8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E7AE-5267-4922-8200-86946CFF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0346-1A08-4B34-B472-4B7ED444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5A7E-49F5-4863-A27D-5E0236A2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5591-BA54-444D-92B2-8E29834C7AB6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pter 9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Strengths of 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Making Dilu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centration of A Diluted Solu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25 mL sample of a 6.0 M KOH is diluted by adding  75 mL of water.  Calculate the new concentration of the KOH solutio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Moles KOH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= 0.025 L x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 6.0 mole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0.15 mo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 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New volum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25 mL + 75 mL = 100. mL = </a:t>
            </a: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0.100 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New molarity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99ff33"/>
                </a:solidFill>
                <a:uFillTx/>
                <a:latin typeface="Arial"/>
              </a:rPr>
              <a:t>0.15 mole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=     1.5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0.100 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SW 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125 mL sample of a 3.0 M HCl is diluted by adding  250 mL of water.  The new concentration of the HCl solution i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8.0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)  1.5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)  1.0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SW 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)  1.0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moles HCl  =  0.250 L x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 3.0 moles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=  0.75 mo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 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ew M  =  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0.75 mole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.0 M HC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0.750 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(new volume)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SW 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50.0 mL sample of 15% sucrose solution is diluted by adding 200. mL of water.  The new concentration of the sucrose solution i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3.0 %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)  7.5 %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)  10. %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SW 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50.0 mL sample of 15% sucrose solution is diluted by adding 200. mL of water.  The new concentration of the sucrose solution i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3.0 %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g sucrose = 50.0 mL x 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15 g sucrose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=  7.5 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00 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ew %   =   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7.5 g sucrose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=  3.0 % sucro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50 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(new volume)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rengths of 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trong acids completely ionize (100%)  in aqueous solutions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Comic Sans MS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Comic Sans MS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Cl   +  H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      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+ Cl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(100 % ions</a:t>
            </a: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)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trong bases completely (100%) dissociate into ions in aqueous solutions.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NaOH  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Na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(aq)  +  OH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100 % ions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Line 4"/>
          <p:cNvSpPr/>
          <p:nvPr/>
        </p:nvSpPr>
        <p:spPr>
          <a:xfrm>
            <a:off x="2819520" y="3429000"/>
            <a:ext cx="6858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Line 5"/>
          <p:cNvSpPr/>
          <p:nvPr/>
        </p:nvSpPr>
        <p:spPr>
          <a:xfrm>
            <a:off x="2743200" y="5257800"/>
            <a:ext cx="6858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Oval 2"/>
          <p:cNvSpPr/>
          <p:nvPr/>
        </p:nvSpPr>
        <p:spPr>
          <a:xfrm>
            <a:off x="3352680" y="5943600"/>
            <a:ext cx="38124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Oval 3"/>
          <p:cNvSpPr/>
          <p:nvPr/>
        </p:nvSpPr>
        <p:spPr>
          <a:xfrm>
            <a:off x="4800600" y="5410080"/>
            <a:ext cx="3808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Oval 4"/>
          <p:cNvSpPr/>
          <p:nvPr/>
        </p:nvSpPr>
        <p:spPr>
          <a:xfrm>
            <a:off x="5334120" y="601992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Oval 5"/>
          <p:cNvSpPr/>
          <p:nvPr/>
        </p:nvSpPr>
        <p:spPr>
          <a:xfrm>
            <a:off x="1143000" y="6095880"/>
            <a:ext cx="3808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H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, A Bronsted-Lowry Bas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en N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reacts with water, most of the reactants remain dissolved as molecules, but a few N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reacts with water to form N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nd hydroxide io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+  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N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aq)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(aq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cceptor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donor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>
            <a:off x="3886200" y="4343400"/>
            <a:ext cx="53352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 flipH="1">
            <a:off x="3580920" y="4572000"/>
            <a:ext cx="1143000" cy="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Oval 10"/>
          <p:cNvSpPr/>
          <p:nvPr/>
        </p:nvSpPr>
        <p:spPr>
          <a:xfrm>
            <a:off x="685800" y="5638680"/>
            <a:ext cx="685800" cy="6858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Oval 11"/>
          <p:cNvSpPr/>
          <p:nvPr/>
        </p:nvSpPr>
        <p:spPr>
          <a:xfrm>
            <a:off x="4876920" y="5562720"/>
            <a:ext cx="685800" cy="6858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Oval 12"/>
          <p:cNvSpPr/>
          <p:nvPr/>
        </p:nvSpPr>
        <p:spPr>
          <a:xfrm>
            <a:off x="533520" y="6095880"/>
            <a:ext cx="3808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Oval 13"/>
          <p:cNvSpPr/>
          <p:nvPr/>
        </p:nvSpPr>
        <p:spPr>
          <a:xfrm>
            <a:off x="838080" y="5410080"/>
            <a:ext cx="3812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Oval 14"/>
          <p:cNvSpPr/>
          <p:nvPr/>
        </p:nvSpPr>
        <p:spPr>
          <a:xfrm>
            <a:off x="4724280" y="6019920"/>
            <a:ext cx="38124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Oval 15"/>
          <p:cNvSpPr/>
          <p:nvPr/>
        </p:nvSpPr>
        <p:spPr>
          <a:xfrm>
            <a:off x="5334120" y="548640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Oval 16"/>
          <p:cNvSpPr/>
          <p:nvPr/>
        </p:nvSpPr>
        <p:spPr>
          <a:xfrm>
            <a:off x="2743200" y="5486400"/>
            <a:ext cx="838080" cy="7621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Oval 17"/>
          <p:cNvSpPr/>
          <p:nvPr/>
        </p:nvSpPr>
        <p:spPr>
          <a:xfrm>
            <a:off x="2590920" y="594360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Oval 18"/>
          <p:cNvSpPr/>
          <p:nvPr/>
        </p:nvSpPr>
        <p:spPr>
          <a:xfrm>
            <a:off x="7010280" y="5410080"/>
            <a:ext cx="838440" cy="8384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Oval 19"/>
          <p:cNvSpPr/>
          <p:nvPr/>
        </p:nvSpPr>
        <p:spPr>
          <a:xfrm>
            <a:off x="7772400" y="5638680"/>
            <a:ext cx="3808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Line 20"/>
          <p:cNvSpPr/>
          <p:nvPr/>
        </p:nvSpPr>
        <p:spPr>
          <a:xfrm>
            <a:off x="3962520" y="5638680"/>
            <a:ext cx="53316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Line 21"/>
          <p:cNvSpPr/>
          <p:nvPr/>
        </p:nvSpPr>
        <p:spPr>
          <a:xfrm flipH="1">
            <a:off x="3733560" y="5943600"/>
            <a:ext cx="990360" cy="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4582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rong and Weak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trong acid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HCl, HNO</a:t>
            </a:r>
            <a:r>
              <a:rPr b="1" lang="en-US" sz="3200" spc="-1" strike="noStrike" baseline="-25000">
                <a:solidFill>
                  <a:srgbClr val="ff9900"/>
                </a:solidFill>
                <a:latin typeface="Arial"/>
              </a:rPr>
              <a:t>3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,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99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st other acids are weak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Strong bas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NaOH, KOH,  and Ca(OH)</a:t>
            </a:r>
            <a:r>
              <a:rPr b="1" lang="en-US" sz="32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st other bases are weak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SW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dentify each of the following as a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strong acid or base   2) weak acid 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weak  bas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___  HCl (aq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___  N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___  NaOH 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___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SW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dentify each of the following as a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strong acid or base   2) weak acid 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weak  bas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_1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HCl (aq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_3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N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_1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NaOH 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_2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572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ntaci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66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sed to neutralize stomach acid (HCl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66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y contain one or more weak bas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lka-Seltzer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aHC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, citric acid, and aspiri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-gel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aC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and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lusil: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Al(OH)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alox: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Al(OH)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ylanta: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Al(OH)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4" name="Object 4" descr=""/>
          <p:cNvPicPr/>
          <p:nvPr/>
        </p:nvPicPr>
        <p:blipFill>
          <a:blip r:embed="rId1"/>
          <a:stretch/>
        </p:blipFill>
        <p:spPr>
          <a:xfrm>
            <a:off x="7010280" y="3581280"/>
            <a:ext cx="2133720" cy="15908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572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ore Antaci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ilk of Magnesia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olaids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lNa(OH)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luminum sodium dihydroxy carbona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ums: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aC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mpo: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aC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Al(OH)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ilu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66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dd water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66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Volume increases.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6699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ew concentration is less than initia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1" name="Object 4" descr=""/>
          <p:cNvPicPr/>
          <p:nvPr/>
        </p:nvPicPr>
        <p:blipFill>
          <a:blip r:embed="rId1"/>
          <a:stretch/>
        </p:blipFill>
        <p:spPr>
          <a:xfrm>
            <a:off x="3505320" y="3962520"/>
            <a:ext cx="2286000" cy="22190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7T14:34:36Z</dcterms:created>
  <dc:creator>Karen Timberlake</dc:creator>
  <dc:description/>
  <dc:language>en-US</dc:language>
  <cp:lastModifiedBy>LEGION</cp:lastModifiedBy>
  <dcterms:modified xsi:type="dcterms:W3CDTF">2017-01-26T09:13:39Z</dcterms:modified>
  <cp:revision>5</cp:revision>
  <dc:subject/>
  <dc:title>Chapter 9 Acids and 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HTMLPPZ\CH9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