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45.wmf" ContentType="image/x-wmf"/>
  <Override PartName="/ppt/media/image21.png" ContentType="image/png"/>
  <Override PartName="/ppt/media/image16.gif" ContentType="image/gif"/>
  <Override PartName="/ppt/media/image51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.jpeg" ContentType="image/jpeg"/>
  <Override PartName="/ppt/media/image36.jpeg" ContentType="image/jpeg"/>
  <Override PartName="/ppt/media/image6.jpeg" ContentType="image/jpeg"/>
  <Override PartName="/ppt/media/image14.jpeg" ContentType="image/jpeg"/>
  <Override PartName="/ppt/media/image35.jpeg" ContentType="image/jpeg"/>
  <Override PartName="/ppt/media/image10.jpeg" ContentType="image/jpeg"/>
  <Override PartName="/ppt/media/image8.jpeg" ContentType="image/jpeg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44.wmf" ContentType="image/x-wmf"/>
  <Override PartName="/ppt/media/image38.gif" ContentType="image/gif"/>
  <Override PartName="/ppt/media/image43.wmf" ContentType="image/x-wmf"/>
  <Override PartName="/ppt/media/image53.jpeg" ContentType="image/jpeg"/>
  <Override PartName="/ppt/media/image48.jpeg" ContentType="image/jpeg"/>
  <Override PartName="/ppt/media/image46.wmf" ContentType="image/x-wmf"/>
  <Override PartName="/ppt/media/image50.jpeg" ContentType="image/jpeg"/>
  <Override PartName="/ppt/media/image12.jpeg" ContentType="image/jpeg"/>
  <Override PartName="/ppt/media/image49.jpeg" ContentType="image/jpeg"/>
  <Override PartName="/ppt/media/image54.jpeg" ContentType="image/jpeg"/>
  <Override PartName="/ppt/media/image34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7.wmf" ContentType="image/x-wmf"/>
  <Override PartName="/ppt/media/image31.jpeg" ContentType="image/jpeg"/>
  <Override PartName="/ppt/media/image3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  <p:custShowLst>
    <p:custShow name="Custom Show 1" id="0">
      <p:sldLst>
        <p:sld r:id="rId50"/>
        <p:sld r:id="rId51"/>
      </p:sldLst>
    </p:custShow>
    <p:custShow name="Custom Show 2" id="1">
      <p:sldLst>
        <p:sld r:id="rId53"/>
      </p:sldLst>
    </p:custShow>
    <p:custShow name="Custom Show 3" id="2">
      <p:sldLst>
        <p:sld r:id="rId5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 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 The Bohr Theory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: Emission (line) spectra of som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i="1" lang="he-IL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1" lang="he-I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3600"/>
            </a:b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=Planck’s constant 6.626 x 10-34J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=speed of light 3.00 x 108 m/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cs typeface="Arial"/>
              </a:rPr>
              <a:t>ג</a:t>
            </a: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avelength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 the energy of red light?</a:t>
            </a:r>
            <a:br>
              <a:rPr sz="1200"/>
            </a:b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(6.626x10-34Js)(3.00x108m/s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(700x10-9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= 2.84 x10-19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Photoelectric Effect                       (1905--Nobel Prize in 192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imation of Photoelectron Effect)     (Adsorption and Emission Spect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nstein’s assumption that an electron is ejected when struck by a single photon implies that it behaves like a parti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photon hits the metal, its energy, hn is taken up by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oton ceases to exist as a particle; it is said to be “absorb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wave” and “particle” pictures of light should be regarded as complementary views of the same physical e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Effects and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electric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wave-particle duality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 E = hn displays this duality; E is the energy of the “particle” photon, and n is the frequency of the associated “wav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.626 x 10-34 J.s) x (1.255 x 106 s-1)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156 x 10-28  =  8.316 x 10-28 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E, using E = hn, and f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ficant figures for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nergy of a photon corresponding to radio waves of frequency 1.255 x 10 6 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 Wav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work of Niels Bohr, the stability of the atom could not be explained using the then-current the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13, using the work of Einstein and Planck, he applied a new theory to the simplest atom,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looking at Bohr’s theory, we must first examine the “line spectra”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3—Nobel Prize in 19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set down postulates to account for (1) the stability of the hydrogen atom and (2) the line spectrum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nergy level postulate  An electron can have only specific energy levels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ransitions between energy levels  An electron in an atom can change energy levels by undergoing a “transition” from one energy level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 derived the following formula for the energy levels of the electron in the hydroge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 is a constant (expressed in energy units) with a value of 2.18 x 10-18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undergoes a transition from a higher energy level to a lower one, the energy is emitted as a ph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is a continuously repeating change or oscillation in matter or in a physical field. Light is also a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sists of oscillations in electric and magnetic fields that travel through space.Visible light, X rays, and radio waves are all forms of electromagnetic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make a substitution into the previous equation that states the energy of the emitted photon, hn, equals Ei - 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ing, we obt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Line Spect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85, J. J. Balmer showed that the wavelengths, l, in the visible spectrum of hydrogen could be reproduced by a simpl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wavelengths of the four visible lines for hydrogen correspond to values of n = 3, n = 4, n = 5, and n = 6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xplains not only the emission of light, but also the absorbtion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electron falls from n = 3 to n = 2 energy level, a photon of red light (wavelength, 685 nm) is e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red light of this same wavelength shines on a hydrogen atom in the n = 2 level, the energy is gained by the electron that undergoes a transition to n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hr Theory of the Hydroge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blem to 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energy of a photon of light emitted from a hydrogen atom when an electron falls from level n = 3 to level n =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ign of E is negative because energy is emitted when an electron falls from a higher to a low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hr’s theory established the concept of atomic energy levels but did not thoroughly explain the “wave-like” behavior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deas about atomic structure depend on the principles of quantum mechanics, a theory that applies to subatomic particles such as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Theory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Quantum Mechanic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 Quantum Numbers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clue in the development of quantum theory came with the discovery of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3, Louis de Broglie reasoned that if light exhibits particle aspects, perhaps particles of matter show characteristics of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postulated that a particle with mass m and a velocity v has an associated waveleng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l = h/mv is called the de Broglie re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3 – Nobel Prize in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 Broglie relation shows that a baseball (0.145 kg) moving at about 60 mph (27 m/s) has a wavelength of about 1.7 x 10-34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is so incredibly small that such waves cannot be detec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have wavelengths on the order of a few picometers (1 pm = 10-12 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 proper circumstances, the wave character of electrons should be observ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matter has wave properties, why are they not commonly obser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it was demonstrated that a beam of electrons, just like X rays, could be diffracted by a crys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rman physicist, Ernst Ruska, used this wave property to construct the first “electron microscope” in 193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ve can be characterized by its wavelength and frequ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, l (lambda), is the distance between any two adjacent identical points of a wave. The frequency, n (nyu), of a wave is the number of wavelengths that pass a fixed point in one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 is the branch of physics that mathematically describes the wave properties of submicroscopic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 longer think of an electron as having a precise orbit in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scribe such an orbit would require knowing its exact position and velo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27, Werner Heisenberg showed (from quantum mechanics) that it is impossible to know both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isenberg’s uncertainty principle is a relation that states that the product of the uncertainty in position (Dx) and the uncertainty in momentum (mDvx) of a particle can be no larger than h/4p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 is large (for example, a baseball) the uncertainties are small, but for electrons, high uncertainties disallow defining an exact or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öd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6   -Nobel Prize in 19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e probability of finding an electron in an atom, like flies to a can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we cannot precisely define an electron’s orbit, we can obtain the probability of finding an electron at a given point around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Schrodinger defined this probability in a mathematical expression called a wave function, denoted y  (psi). The probability of finding a particle in a region of space is defined by y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cording to quantum mechanics, each electron is described by four quantum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first three define the wave function for a particular electron. The fourth quantum number refers to the magnetic property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ncipal quantum number 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gular momentum quantum number 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gnetic quantum number 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in quantum number 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#’s are like an Add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Quantum #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Quantum # (m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 Quantum # (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ipal quantum number(n) represents the “shell number” in which an electron “resid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smaller the orbi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n is, the lower the energy of the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given the frequency of light, its wavelength can be calculated,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the frequency, n (waves/sec) and the wavelength, l (m/wave) would give the speed of the wave in m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ular momentum quantum number (l) distinguishes “sub shells” within a given shell that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main “shell” is subdivided into “sub shells.” Within each shell of quantum number n, there are n sub shells, each with a distinctive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can have any integer value from 0 to (n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subshells are denoted by le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ter             s     p     d     f     g 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                   0     1     2     3    4 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tic quantum number (ml) distinguishes orbitals within a given sub-shell that have different shapes and orientations in space. Each sub shell is subdivided into “orbitals,” each capable of holding a pair of electrons.  ml can have any integer value from -l  to +l.  Each orbital within a given sub shell has the sam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ntum Numbers and Atomic Orb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in quantum number (ms) refers to the two possible spin orientations of the electrons residing within a given orbital. Each orbital can hold only two electrons whose spins must oppose one another.  The possible values of ms are +1/2 and –1/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different sha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Tunneling Micro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3: Orbital energies of the hydrogen atom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lick here for non-hydrogen ato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4: Cross-sectional representations of the probability distributions of S 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5: Cutaway diagrams showing the spherical shape of S orbital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7: The five 3d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26: The 2p orbit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l = c/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wavelength of yellow light with a frequency of 5.09 x 1014 s-1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e: s-1, commonly referred to as Hertz (Hz) is defined as “cycles or waves per second”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.5: The electromagnetic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ation of Lecture Outlines, 7–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c = nl, then rearranging, we obtain n = c/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frequency of violet light with a wavelength of 408 nm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 Nature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Light-A New Model of 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well Planck-Black Body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that blackbody radiation was quantiz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—Nobel Prize in 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Houghton Mifflin Company.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Quantiz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133B3-F2D5-40BA-AF32-58C35DDB4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46393-2F40-4F14-B7C2-9D8273874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0DBF-40E4-4172-BDFA-61CB208C4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B4128-B42C-4F5E-8C21-80F329F53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E2EB-5C71-4C0E-9E1C-A8F73152A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676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63680" y="176508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94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676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63680" y="3913560"/>
            <a:ext cx="25016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9B8C-1869-4CDA-B613-4E513B199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E8252-69D1-422B-BF6F-FBC7B03B0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86B6-51B0-488D-A0C2-FD877F410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8840" y="9972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34FC-1647-4833-8009-7CC922A56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D45F-36ED-4EF8-88D9-C3D400528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1080" y="391356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841C-967E-4C9D-BBD7-7B3E0958F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1080" y="1765080"/>
            <a:ext cx="3791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3560"/>
            <a:ext cx="7769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05C0-1D6F-4F12-A7E6-58685340B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681600"/>
            <a:ext cx="4267440" cy="1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e1a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800240" y="6552720"/>
            <a:ext cx="396252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resentation of Lecture Outlines,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7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–</a:t>
            </a:r>
            <a:fld id="{F9ED47BA-2378-49C8-9CE0-F941AA6A2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76bb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76bb4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../Chemistry/Chemistry%201A/MyPPT/electromagneticwave.mov" TargetMode="External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41.png"/><Relationship Id="rId9" Type="http://schemas.openxmlformats.org/officeDocument/2006/relationships/image" Target="../media/image41.png"/><Relationship Id="rId10" Type="http://schemas.openxmlformats.org/officeDocument/2006/relationships/image" Target="../media/image41.png"/><Relationship Id="rId11" Type="http://schemas.openxmlformats.org/officeDocument/2006/relationships/image" Target="../media/image41.png"/><Relationship Id="rId12" Type="http://schemas.openxmlformats.org/officeDocument/2006/relationships/image" Target="../media/image41.png"/><Relationship Id="rId13" Type="http://schemas.openxmlformats.org/officeDocument/2006/relationships/image" Target="../media/image41.png"/><Relationship Id="rId14" Type="http://schemas.openxmlformats.org/officeDocument/2006/relationships/image" Target="../media/image41.png"/><Relationship Id="rId15" Type="http://schemas.openxmlformats.org/officeDocument/2006/relationships/image" Target="../media/image41.png"/><Relationship Id="rId16" Type="http://schemas.openxmlformats.org/officeDocument/2006/relationships/image" Target="../media/image41.png"/><Relationship Id="rId17" Type="http://schemas.openxmlformats.org/officeDocument/2006/relationships/image" Target="../media/image41.png"/><Relationship Id="rId18" Type="http://schemas.openxmlformats.org/officeDocument/2006/relationships/image" Target="../media/image41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hyperlink" Target="http://famousphysicists.mye-pix.com/partner.asp?count=1&amp;title0=Planck&amp;lo_res_url0=http://www.egtnet.net/thumbc/THUMB_150W_FPHY_A_PLA1_6000X9000_R01.JPG&amp;hi_res_url0=http://www.egtnet.net/ez/p/FPHY_A_PLA1_6000X9000_R01.JPG&amp;albumid0=0&amp;width0=6000&amp;height0=9000&amp;ReturnPage=http://www.mathematicianspictures.com/famousphysicists/index.htm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3760" y="1523880"/>
            <a:ext cx="327636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2" name="Text Box 1029"/>
          <p:cNvSpPr/>
          <p:nvPr/>
        </p:nvSpPr>
        <p:spPr>
          <a:xfrm>
            <a:off x="5257800" y="25909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1 The Wave Nature of Lig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2 Quantum Effects and Phot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3 The Bohr Theory of th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ydrogen At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bb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720" y="593280"/>
            <a:ext cx="2133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: Emission (line) spectra of some elements. </a:t>
            </a:r>
            <a:endParaRPr b="1" lang="en-US" sz="28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6" name="Picture 3" descr="314903_p_07_02"/>
          <p:cNvPicPr/>
          <p:nvPr/>
        </p:nvPicPr>
        <p:blipFill>
          <a:blip r:embed="rId1"/>
          <a:stretch/>
        </p:blipFill>
        <p:spPr>
          <a:xfrm>
            <a:off x="2286000" y="0"/>
            <a:ext cx="6629400" cy="6629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8840" y="101160"/>
            <a:ext cx="8489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59" name="Picture 13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117800" cy="16765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4"/>
          <p:cNvSpPr/>
          <p:nvPr/>
        </p:nvSpPr>
        <p:spPr>
          <a:xfrm>
            <a:off x="457200" y="1905120"/>
            <a:ext cx="990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=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>
            <a:off x="1523880" y="2209680"/>
            <a:ext cx="609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600200" y="2057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1371600" y="15238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h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14600" y="1447920"/>
            <a:ext cx="64008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h=Planck’s constant 6.626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J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=speed of light 3.0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e-IL" sz="4000" spc="-1" strike="noStrike">
                <a:solidFill>
                  <a:srgbClr val="000000"/>
                </a:solidFill>
                <a:latin typeface="Arial"/>
                <a:cs typeface="Arial"/>
              </a:rPr>
              <a:t>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wavelength of ligh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"/>
          <p:cNvPicPr/>
          <p:nvPr/>
        </p:nvPicPr>
        <p:blipFill>
          <a:blip r:embed="rId2"/>
          <a:stretch/>
        </p:blipFill>
        <p:spPr>
          <a:xfrm>
            <a:off x="0" y="2933640"/>
            <a:ext cx="495288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5105520" y="4191120"/>
            <a:ext cx="37335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hat is the energy of red light?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(6.626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3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s)(3.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/s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(700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= 2.84 x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oul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1"/>
          <p:cNvSpPr/>
          <p:nvPr/>
        </p:nvSpPr>
        <p:spPr>
          <a:xfrm>
            <a:off x="5638680" y="5181480"/>
            <a:ext cx="2895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67400"/>
            <a:ext cx="76960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Einstein’s Photoelectric Effect                       </a:t>
            </a:r>
            <a:r>
              <a:rPr b="1" lang="en-GB" sz="1800" spc="-1" strike="noStrike">
                <a:solidFill>
                  <a:srgbClr val="ffe1ab"/>
                </a:solidFill>
                <a:latin typeface="Arial"/>
              </a:rPr>
              <a:t>(1905--Nobel Prize in 1921)</a:t>
            </a:r>
            <a:endParaRPr b="1" lang="en-US" sz="18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91520" cy="13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76bb4"/>
                </a:solidFill>
                <a:latin typeface="Arial"/>
              </a:rPr>
              <a:t>Only light from a certain color (energy) could eject electrons.  Intensity of the light had no effect.  Energy is absorbed only at quantized energies!               </a:t>
            </a:r>
            <a:endParaRPr b="0" lang="en-US" sz="2000" spc="-1" strike="noStrike">
              <a:solidFill>
                <a:srgbClr val="376bb4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376bb4"/>
                </a:solidFill>
                <a:latin typeface="Arial"/>
              </a:rPr>
              <a:t>(Animation of Photoelectron Effect)     (Adsorption and Emission Spectra)</a:t>
            </a:r>
            <a:endParaRPr b="0" lang="en-US" sz="16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12538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4495680" cy="3141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4038480" cy="31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92080" y="2730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instein’s assumption that an electron is ejected when struck by a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single phot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mplies that it behaves like a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partic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892080" y="38894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the photon hits the metal, its energ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h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aken up by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photon ceases to exist as a particle; it is said to be “absorbed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4572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“wave” and “particle” pictures of light should be regarded as complementary views of the same physical 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Effects and Photon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hotoelectric Effect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3657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-particle duality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of ligh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 E =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displays this duality;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energy of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particle”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photon, an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frequency of the associated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“wav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0"/>
          <p:cNvSpPr/>
          <p:nvPr/>
        </p:nvSpPr>
        <p:spPr>
          <a:xfrm>
            <a:off x="785880" y="4260960"/>
            <a:ext cx="699264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(6.62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s) x (1.255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)  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8.315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 =  8.316 x 10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28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33"/>
          <p:cNvSpPr/>
          <p:nvPr/>
        </p:nvSpPr>
        <p:spPr>
          <a:xfrm>
            <a:off x="1042920" y="3498840"/>
            <a:ext cx="68029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olve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E,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using 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E = h</a:t>
            </a:r>
            <a:r>
              <a:rPr b="1" lang="en-US" sz="32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, and fou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significant figures for</a:t>
            </a:r>
            <a:r>
              <a:rPr b="1" lang="en-US" sz="3200" spc="-1" strike="noStrike">
                <a:solidFill>
                  <a:srgbClr val="376bb4"/>
                </a:solidFill>
                <a:latin typeface="Times New Roman"/>
              </a:rPr>
              <a:t> 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176508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energy of a photon corresponding to radio waves of frequency 1.255 x 10 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32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Radio Wave Energy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769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Prior to the work of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Niels Bohr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84471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stability of the atom could not be explained using the then-current theories.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3276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13, using the work of Einstein and Planck, he applied a new theory to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simplest atom, hydroge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efore looking at Bohr’s theory, we must first examine the “line spectra” of atom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7489800" y="304920"/>
            <a:ext cx="1184400" cy="1676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flipV="1" rot="10800000">
            <a:off x="2743200" y="16761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13—Nobel Prize in 192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set down postulates to account for (1) the stability of the hydrogen atom and (2) the line spectrum of the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Energy level postulat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can have only specific energy levels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Transitions between energy level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An electron in an atom can change energy levels by undergoing a “transition” from one energy level to anoth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 derived the following formula for the energy levels of the electron in the hydrogen atom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49528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is a constant (expressed in energy units) with a value of 2.18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797040" y="3429000"/>
                <a:ext cx="7556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 2, 3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or H ato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undergoes a transition from a higher energy level to a lower one, the energy is emitted as a photon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814320" y="3797280"/>
                <a:ext cx="75265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 of emitted photon 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09" name="Group 9"/>
          <p:cNvGrpSpPr/>
          <p:nvPr/>
        </p:nvGrpSpPr>
        <p:grpSpPr>
          <a:xfrm>
            <a:off x="457200" y="4419720"/>
            <a:ext cx="7772400" cy="1904760"/>
            <a:chOff x="457200" y="4419720"/>
            <a:chExt cx="7772400" cy="1904760"/>
          </a:xfrm>
        </p:grpSpPr>
        <p:sp>
          <p:nvSpPr>
            <p:cNvPr id="210" name="Rectangle 4"/>
            <p:cNvSpPr/>
            <p:nvPr/>
          </p:nvSpPr>
          <p:spPr>
            <a:xfrm>
              <a:off x="457200" y="4419720"/>
              <a:ext cx="7772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From Postulate 1,</a:t>
              </a:r>
              <a:r>
                <a:rPr b="0" lang="en-US" sz="2800" spc="-1" strike="noStrike">
                  <a:solidFill>
                    <a:srgbClr val="376bb4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1" name="Object 6"/>
                <p:cNvSpPr txBox="1"/>
                <p:nvPr/>
              </p:nvSpPr>
              <p:spPr>
                <a:xfrm>
                  <a:off x="1614600" y="5068800"/>
                  <a:ext cx="179856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i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Object 7"/>
                <p:cNvSpPr txBox="1"/>
                <p:nvPr/>
              </p:nvSpPr>
              <p:spPr>
                <a:xfrm>
                  <a:off x="4780080" y="5038560"/>
                  <a:ext cx="1868400" cy="117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8840" y="13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wave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s a continuously repeating change or oscillation in matter or in a physical field. Light is also a wave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380880" y="312408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t consists of oscillations in electric and magnetic fields that travel through space.Visible light, X rays, and radio waves are all forms of </a:t>
            </a:r>
            <a:r>
              <a:rPr b="0" lang="en-US" sz="2400" spc="-1" strike="noStrike" u="sng">
                <a:solidFill>
                  <a:srgbClr val="f3010d"/>
                </a:solidFill>
                <a:uFillTx/>
                <a:latin typeface="Arial"/>
                <a:hlinkClick r:id="rId1"/>
              </a:rPr>
              <a:t>electromagnetic radiation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8" descr=""/>
          <p:cNvPicPr/>
          <p:nvPr/>
        </p:nvPicPr>
        <p:blipFill>
          <a:blip r:embed="rId2"/>
          <a:stretch/>
        </p:blipFill>
        <p:spPr>
          <a:xfrm>
            <a:off x="4191120" y="3276720"/>
            <a:ext cx="4724280" cy="29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7010280" y="1905120"/>
            <a:ext cx="1828800" cy="84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16765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we make a substitution into the previous equation that states the energy of the emitted photon, h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equals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- E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262160" y="2971800"/>
                <a:ext cx="6648480" cy="16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6"/>
          <p:cNvSpPr/>
          <p:nvPr/>
        </p:nvSpPr>
        <p:spPr>
          <a:xfrm>
            <a:off x="457200" y="44197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Rearranging, we obtain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9"/>
              <p:cNvSpPr txBox="1"/>
              <p:nvPr/>
            </p:nvSpPr>
            <p:spPr>
              <a:xfrm>
                <a:off x="2286000" y="4952880"/>
                <a:ext cx="4572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ν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tomic Line Spectra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885, J. J. Balmer showed that the wavelengths,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in the visible spectrum of hydrogen could be reproduced by a simple formula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80880" y="4800600"/>
            <a:ext cx="4953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known wavelengths of the four visible lines for hydrogen correspond to values of n = 3, n = 4, n = 5, and n = 6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380880" y="3733920"/>
                <a:ext cx="495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25" name="Picture 8" descr="07_11"/>
          <p:cNvPicPr/>
          <p:nvPr/>
        </p:nvPicPr>
        <p:blipFill>
          <a:blip r:embed="rId1"/>
          <a:stretch/>
        </p:blipFill>
        <p:spPr>
          <a:xfrm>
            <a:off x="5457960" y="1676520"/>
            <a:ext cx="3686040" cy="4724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5400" y="164448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Bohr’s Postulates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Bohr’s theory explains not only the emission of light, but also the absorbtion of light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57200" y="3105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3000"/>
          </a:bodyPr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an electron falls from n = 3 to n = 2 energy level, a photon of red light (wavelength, 685 nm) is e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 red light of this same wavelength shines on a hydrogen atom in the n = 2 level, the energy is gained by the electron that undergoes a transition to n = 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108080" y="117000"/>
            <a:ext cx="68896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Bohr Theory of the Hydrogen Atom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8840" y="1044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A Problem to Consid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1360" y="140976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lculate the energy of a photon of light emitted from a hydrogen atom when an electron falls from level n = 3 to level n = 1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119880" indent="-1198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Note that the sign of E is negative because energy is emitted when an electron falls from a higher to a lower level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57200" y="34290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57200" y="3276720"/>
            <a:ext cx="8078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2209680" y="2438280"/>
                <a:ext cx="3998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1960560" y="3733920"/>
                <a:ext cx="475128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9"/>
              <p:cNvSpPr txBox="1"/>
              <p:nvPr/>
            </p:nvSpPr>
            <p:spPr>
              <a:xfrm>
                <a:off x="2811600" y="4648320"/>
                <a:ext cx="304776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sup>
                    </m:sSup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760" y="1692360"/>
            <a:ext cx="8231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Bohr’s theory established the concept of atomic energy levels but did not thoroughly explain the “wave-like” behavior of the electr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68580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urrent ideas about atomic structure depend on the principles of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a theory that applies to subatomic particles such as electr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257800" y="1676160"/>
            <a:ext cx="3276720" cy="106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ntum Theory of the Atom</a:t>
            </a:r>
            <a:endParaRPr b="1" lang="en-US" sz="30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5410080" y="3048120"/>
            <a:ext cx="373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4 Quantum Mechan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.5 Quantum Numbers an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omic Orbita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5791320" cy="15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first clue in the development of quantum theory came with the discovery of the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3, Louis de Broglie reasoned that if light exhibits particle aspects, perhaps particles of matter show characteristics of wav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e postulated that a particle with mass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and a velocit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has an associated waveleng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equatio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= h/mv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called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de Broglie rel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7315200" y="304920"/>
            <a:ext cx="1441440" cy="20905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10"/>
          <p:cNvSpPr/>
          <p:nvPr/>
        </p:nvSpPr>
        <p:spPr>
          <a:xfrm>
            <a:off x="6172200" y="25909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23 – Nobel Prize in 192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457200" y="2895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e Broglie relation shows that a baseball (0.145 kg) moving at about 60 mph (27 m/s) has a wavelength of about 1.7 x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34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6"/>
              <p:cNvSpPr txBox="1"/>
              <p:nvPr/>
            </p:nvSpPr>
            <p:spPr>
              <a:xfrm>
                <a:off x="1720800" y="4267080"/>
                <a:ext cx="571176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5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" name="Rectangle 7"/>
          <p:cNvSpPr/>
          <p:nvPr/>
        </p:nvSpPr>
        <p:spPr>
          <a:xfrm>
            <a:off x="457200" y="51814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is value is so incredibly small that such waves cannot be detected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457200" y="28954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lectrons have wavelengths on the order of a few picometers (1 pm = 10</a:t>
            </a:r>
            <a:r>
              <a:rPr b="0" lang="en-US" sz="2400" spc="-1" strike="noStrike" baseline="30000">
                <a:solidFill>
                  <a:srgbClr val="376bb4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m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57200" y="38098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Under the proper circumstances, the wave character of electrons should be observabl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22520"/>
            <a:ext cx="7769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If matter has wave properties, why are they not commonly observed?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262" name="Picture 13" descr=""/>
          <p:cNvPicPr/>
          <p:nvPr/>
        </p:nvPicPr>
        <p:blipFill>
          <a:blip r:embed="rId1"/>
          <a:stretch/>
        </p:blipFill>
        <p:spPr>
          <a:xfrm>
            <a:off x="1828800" y="5029200"/>
            <a:ext cx="2171880" cy="1020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"/>
          <p:cNvPicPr/>
          <p:nvPr/>
        </p:nvPicPr>
        <p:blipFill>
          <a:blip r:embed="rId2"/>
          <a:stretch/>
        </p:blipFill>
        <p:spPr>
          <a:xfrm>
            <a:off x="4876920" y="4800600"/>
            <a:ext cx="3162240" cy="1327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80880" y="1600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In 1927, it was demonstrated that a </a:t>
            </a:r>
            <a:r>
              <a:rPr b="0" lang="en-US" sz="2800" spc="-1" strike="noStrike" u="sng">
                <a:solidFill>
                  <a:srgbClr val="376bb4"/>
                </a:solidFill>
                <a:uFillTx/>
                <a:latin typeface="Arial"/>
              </a:rPr>
              <a:t>beam of electron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just like X rays, could be diffracted by a crystal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80880" y="304812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1000"/>
          </a:bodyPr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German physicist, Ernst Ruska, used this wave property to construct the first “electron microscope” in 1933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11" descr="314903_p_07_16"/>
          <p:cNvPicPr/>
          <p:nvPr/>
        </p:nvPicPr>
        <p:blipFill>
          <a:blip r:embed="rId1"/>
          <a:stretch/>
        </p:blipFill>
        <p:spPr>
          <a:xfrm>
            <a:off x="4267080" y="2894040"/>
            <a:ext cx="4616640" cy="3098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3" descr="21001hoa"/>
          <p:cNvPicPr/>
          <p:nvPr/>
        </p:nvPicPr>
        <p:blipFill>
          <a:blip r:embed="rId2"/>
          <a:stretch/>
        </p:blipFill>
        <p:spPr>
          <a:xfrm>
            <a:off x="380880" y="228600"/>
            <a:ext cx="1467000" cy="952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20101hoa"/>
          <p:cNvPicPr/>
          <p:nvPr/>
        </p:nvPicPr>
        <p:blipFill>
          <a:blip r:embed="rId3"/>
          <a:stretch/>
        </p:blipFill>
        <p:spPr>
          <a:xfrm>
            <a:off x="7238880" y="152280"/>
            <a:ext cx="1543320" cy="1003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8840" y="107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 wave can be characterized by its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wavelength 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 frequency.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57200" y="25146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wavelength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lambda),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the distance between any two adjacent identical points of a wave. The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frequency,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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(nyu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of a wave is the number of wavelengths that pass a fixed point in one secon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07_03"/>
          <p:cNvPicPr/>
          <p:nvPr/>
        </p:nvPicPr>
        <p:blipFill>
          <a:blip r:embed="rId1"/>
          <a:stretch/>
        </p:blipFill>
        <p:spPr>
          <a:xfrm>
            <a:off x="0" y="4124160"/>
            <a:ext cx="5334120" cy="24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3" name="Picture 5" descr="The piezotube moves the specimen in a raster pattern at constant distance or force."/>
          <p:cNvPicPr/>
          <p:nvPr/>
        </p:nvPicPr>
        <p:blipFill>
          <a:blip r:embed="rId1"/>
          <a:stretch/>
        </p:blipFill>
        <p:spPr>
          <a:xfrm>
            <a:off x="0" y="1917720"/>
            <a:ext cx="4807080" cy="3805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scope2"/>
          <p:cNvPicPr/>
          <p:nvPr/>
        </p:nvPicPr>
        <p:blipFill>
          <a:blip r:embed="rId2"/>
          <a:stretch/>
        </p:blipFill>
        <p:spPr>
          <a:xfrm>
            <a:off x="4808520" y="1922400"/>
            <a:ext cx="4141800" cy="3718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77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Quantum mechanics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the branch of physics that mathematically describes the wave properties of submicroscopic particl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93800" y="3232080"/>
            <a:ext cx="75438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e can no longer think of an electron as having a precise orbit in an a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o describe such an orbit would require knowing its exact position and veloc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n 1927, Werner Heisenberg showed (from quantum mechanics) that it is </a:t>
            </a:r>
            <a:r>
              <a:rPr b="0" lang="en-US" sz="2400" spc="-1" strike="noStrike" u="sng">
                <a:solidFill>
                  <a:srgbClr val="376bb4"/>
                </a:solidFill>
                <a:uFillTx/>
                <a:latin typeface="Arial"/>
              </a:rPr>
              <a:t>impossible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to know both simultane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eisenberg’s uncertainty principle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is a relation that states that the product of the uncertainty in position (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x) and the uncertainty in momentum (m</a:t>
            </a:r>
            <a:r>
              <a:rPr b="0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376bb4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) of a particle can be no larger than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h/4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20720" y="5140440"/>
            <a:ext cx="76960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s large (for example, a baseball) the uncertainties are small, but for electrons, high uncertainties disallow defining an exact orb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5"/>
              <p:cNvSpPr txBox="1"/>
              <p:nvPr/>
            </p:nvSpPr>
            <p:spPr>
              <a:xfrm>
                <a:off x="2984400" y="3994200"/>
                <a:ext cx="31878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Δ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rwin Schrödinger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19480" cy="14194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4"/>
          <p:cNvSpPr/>
          <p:nvPr/>
        </p:nvSpPr>
        <p:spPr>
          <a:xfrm>
            <a:off x="3124080" y="106668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1926   -Nobel Prize in 193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3833640" y="37720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3"/>
          <a:stretch/>
        </p:blipFill>
        <p:spPr>
          <a:xfrm>
            <a:off x="5979960" y="3344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"/>
          <p:cNvPicPr/>
          <p:nvPr/>
        </p:nvPicPr>
        <p:blipFill>
          <a:blip r:embed="rId4"/>
          <a:stretch/>
        </p:blipFill>
        <p:spPr>
          <a:xfrm>
            <a:off x="3689280" y="27194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/>
          <p:cNvPicPr/>
          <p:nvPr/>
        </p:nvPicPr>
        <p:blipFill>
          <a:blip r:embed="rId5"/>
          <a:stretch/>
        </p:blipFill>
        <p:spPr>
          <a:xfrm>
            <a:off x="6405480" y="417204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"/>
          <p:cNvPicPr/>
          <p:nvPr/>
        </p:nvPicPr>
        <p:blipFill>
          <a:blip r:embed="rId6"/>
          <a:stretch/>
        </p:blipFill>
        <p:spPr>
          <a:xfrm>
            <a:off x="2940120" y="38876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"/>
          <p:cNvPicPr/>
          <p:nvPr/>
        </p:nvPicPr>
        <p:blipFill>
          <a:blip r:embed="rId7"/>
          <a:stretch/>
        </p:blipFill>
        <p:spPr>
          <a:xfrm>
            <a:off x="5386320" y="2462040"/>
            <a:ext cx="514440" cy="543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8"/>
          <a:stretch/>
        </p:blipFill>
        <p:spPr>
          <a:xfrm>
            <a:off x="5248440" y="378936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"/>
          <p:cNvPicPr/>
          <p:nvPr/>
        </p:nvPicPr>
        <p:blipFill>
          <a:blip r:embed="rId9"/>
          <a:stretch/>
        </p:blipFill>
        <p:spPr>
          <a:xfrm>
            <a:off x="644400" y="5711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"/>
          <p:cNvPicPr/>
          <p:nvPr/>
        </p:nvPicPr>
        <p:blipFill>
          <a:blip r:embed="rId10"/>
          <a:stretch/>
        </p:blipFill>
        <p:spPr>
          <a:xfrm>
            <a:off x="8001000" y="19573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4" descr=""/>
          <p:cNvPicPr/>
          <p:nvPr/>
        </p:nvPicPr>
        <p:blipFill>
          <a:blip r:embed="rId11"/>
          <a:stretch/>
        </p:blipFill>
        <p:spPr>
          <a:xfrm>
            <a:off x="1365120" y="26146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5" descr=""/>
          <p:cNvPicPr/>
          <p:nvPr/>
        </p:nvPicPr>
        <p:blipFill>
          <a:blip r:embed="rId12"/>
          <a:stretch/>
        </p:blipFill>
        <p:spPr>
          <a:xfrm>
            <a:off x="6670800" y="631512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6" descr=""/>
          <p:cNvPicPr/>
          <p:nvPr/>
        </p:nvPicPr>
        <p:blipFill>
          <a:blip r:embed="rId13"/>
          <a:stretch/>
        </p:blipFill>
        <p:spPr>
          <a:xfrm>
            <a:off x="8426520" y="487692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7" descr=""/>
          <p:cNvPicPr/>
          <p:nvPr/>
        </p:nvPicPr>
        <p:blipFill>
          <a:blip r:embed="rId14"/>
          <a:stretch/>
        </p:blipFill>
        <p:spPr>
          <a:xfrm>
            <a:off x="3825720" y="369576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8" descr=""/>
          <p:cNvPicPr/>
          <p:nvPr/>
        </p:nvPicPr>
        <p:blipFill>
          <a:blip r:embed="rId15"/>
          <a:stretch/>
        </p:blipFill>
        <p:spPr>
          <a:xfrm>
            <a:off x="3679920" y="4640400"/>
            <a:ext cx="514080" cy="5428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"/>
          <p:cNvPicPr/>
          <p:nvPr/>
        </p:nvPicPr>
        <p:blipFill>
          <a:blip r:embed="rId16"/>
          <a:stretch/>
        </p:blipFill>
        <p:spPr>
          <a:xfrm>
            <a:off x="4664160" y="32590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"/>
          <p:cNvPicPr/>
          <p:nvPr/>
        </p:nvPicPr>
        <p:blipFill>
          <a:blip r:embed="rId17"/>
          <a:stretch/>
        </p:blipFill>
        <p:spPr>
          <a:xfrm>
            <a:off x="5830920" y="4686480"/>
            <a:ext cx="514440" cy="542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1" descr=""/>
          <p:cNvPicPr/>
          <p:nvPr/>
        </p:nvPicPr>
        <p:blipFill>
          <a:blip r:embed="rId18"/>
          <a:stretch/>
        </p:blipFill>
        <p:spPr>
          <a:xfrm>
            <a:off x="393840" y="1449360"/>
            <a:ext cx="514080" cy="542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22"/>
          <p:cNvSpPr/>
          <p:nvPr/>
        </p:nvSpPr>
        <p:spPr>
          <a:xfrm>
            <a:off x="2819520" y="1447920"/>
            <a:ext cx="37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66"/>
                </a:solidFill>
                <a:latin typeface="Arial"/>
                <a:ea typeface="Arial"/>
              </a:rPr>
              <a:t>Found the probability of finding an electron in an atom, like flies to a candl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Mechanic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776916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lthough we cannot precisely define an electron’s orbit, we can obtain the 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probability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of finding an electron at a given point around the nucleu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320040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rwin Schrodinger defined this probability in a mathematical expression called a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wave function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, denoted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(psi). The probability of finding a particle in a region of space is defined by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30000">
                <a:solidFill>
                  <a:srgbClr val="376bb4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10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571400" cy="15717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07_19"/>
          <p:cNvPicPr/>
          <p:nvPr/>
        </p:nvPicPr>
        <p:blipFill>
          <a:blip r:embed="rId2"/>
          <a:stretch/>
        </p:blipFill>
        <p:spPr>
          <a:xfrm>
            <a:off x="3962520" y="3276720"/>
            <a:ext cx="4952880" cy="3036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8588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According to quantum mechanics, each electron is described by four quantum number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457200" y="487692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first three define the wave function for a particular electron. The fourth quantum number refers to the magnetic property of electron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457200" y="30481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33000"/>
          </a:bodyPr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Principal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Angular momentum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</a:t>
            </a:r>
            <a:r>
              <a:rPr b="1" i="1" lang="en-US" sz="2400" spc="-1" strike="noStrike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 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#’s are like an Address. 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347" name="Picture 5" descr="j0185604"/>
          <p:cNvPicPr/>
          <p:nvPr/>
        </p:nvPicPr>
        <p:blipFill>
          <a:blip r:embed="rId1"/>
          <a:stretch/>
        </p:blipFill>
        <p:spPr>
          <a:xfrm>
            <a:off x="7620120" y="2438280"/>
            <a:ext cx="1141200" cy="1143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j0335112"/>
          <p:cNvPicPr/>
          <p:nvPr/>
        </p:nvPicPr>
        <p:blipFill>
          <a:blip r:embed="rId2"/>
          <a:stretch/>
        </p:blipFill>
        <p:spPr>
          <a:xfrm>
            <a:off x="457200" y="23623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j0158007"/>
          <p:cNvPicPr/>
          <p:nvPr/>
        </p:nvPicPr>
        <p:blipFill>
          <a:blip r:embed="rId3"/>
          <a:stretch/>
        </p:blipFill>
        <p:spPr>
          <a:xfrm>
            <a:off x="457200" y="5562720"/>
            <a:ext cx="8305920" cy="538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9" descr="j0212957"/>
          <p:cNvPicPr/>
          <p:nvPr/>
        </p:nvPicPr>
        <p:blipFill>
          <a:blip r:embed="rId4"/>
          <a:stretch/>
        </p:blipFill>
        <p:spPr>
          <a:xfrm>
            <a:off x="4952880" y="2362320"/>
            <a:ext cx="1830600" cy="1149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j0205462"/>
          <p:cNvPicPr/>
          <p:nvPr/>
        </p:nvPicPr>
        <p:blipFill>
          <a:blip r:embed="rId5"/>
          <a:stretch/>
        </p:blipFill>
        <p:spPr>
          <a:xfrm>
            <a:off x="2286000" y="213372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1"/>
          <p:cNvSpPr/>
          <p:nvPr/>
        </p:nvSpPr>
        <p:spPr>
          <a:xfrm>
            <a:off x="533520" y="1600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do you need to know to find out where you live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80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25146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1814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754380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ciple Quantum # (n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2362320" y="4419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ular Quantum # (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l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5029200" y="4419720"/>
            <a:ext cx="18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gnetic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7162920" y="4419720"/>
            <a:ext cx="1981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in Quantum # (m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Script MT Bold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09480" y="1638000"/>
            <a:ext cx="7769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376bb4"/>
                </a:solidFill>
                <a:latin typeface="Arial"/>
              </a:rPr>
              <a:t>principal quantum number(n)</a:t>
            </a: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 represents the “shell number” in which an electron “resides.”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644400" y="3470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smaller the orbit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smaller n is, the lower the energy of the electr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33"/>
          <p:cNvSpPr/>
          <p:nvPr/>
        </p:nvSpPr>
        <p:spPr>
          <a:xfrm>
            <a:off x="457200" y="4267080"/>
            <a:ext cx="4648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So, given the frequency of light, its wavelength can be calculated, or vice vers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8840" y="1170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64448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product of the frequency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waves/sec) and the wavelength, </a:t>
            </a:r>
            <a:r>
              <a:rPr b="1" lang="en-US" sz="2800" spc="-1" strike="noStrike">
                <a:solidFill>
                  <a:srgbClr val="376bb4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(m/wave) would give the speed of the wave in m/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29"/>
              <p:cNvSpPr txBox="1"/>
              <p:nvPr/>
            </p:nvSpPr>
            <p:spPr>
              <a:xfrm>
                <a:off x="4432320" y="3117960"/>
                <a:ext cx="279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00" name="Group 1035"/>
          <p:cNvGrpSpPr/>
          <p:nvPr/>
        </p:nvGrpSpPr>
        <p:grpSpPr>
          <a:xfrm>
            <a:off x="228600" y="2514600"/>
            <a:ext cx="8381880" cy="1905120"/>
            <a:chOff x="228600" y="2514600"/>
            <a:chExt cx="8381880" cy="1905120"/>
          </a:xfrm>
        </p:grpSpPr>
        <p:sp>
          <p:nvSpPr>
            <p:cNvPr id="101" name="Rectangle 1030"/>
            <p:cNvSpPr/>
            <p:nvPr/>
          </p:nvSpPr>
          <p:spPr>
            <a:xfrm>
              <a:off x="228600" y="2514600"/>
              <a:ext cx="83818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bd99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In a vacuum, the speed of light, c, is 3.00 x 10</a:t>
              </a:r>
              <a:r>
                <a:rPr b="0" lang="en-US" sz="2400" spc="-1" strike="noStrike" baseline="30000">
                  <a:solidFill>
                    <a:srgbClr val="376bb4"/>
                  </a:solidFill>
                  <a:latin typeface="Arial"/>
                </a:rPr>
                <a:t>8</a:t>
              </a:r>
              <a:r>
                <a:rPr b="0" lang="en-US" sz="2400" spc="-1" strike="noStrike">
                  <a:solidFill>
                    <a:srgbClr val="376bb4"/>
                  </a:solidFill>
                  <a:latin typeface="Arial"/>
                </a:rPr>
                <a:t> m/s. Therefore,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1031"/>
                <p:cNvSpPr txBox="1"/>
                <p:nvPr/>
              </p:nvSpPr>
              <p:spPr>
                <a:xfrm>
                  <a:off x="3340080" y="3886200"/>
                  <a:ext cx="1447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νλ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3" name="Picture 1037" descr=""/>
          <p:cNvPicPr/>
          <p:nvPr/>
        </p:nvPicPr>
        <p:blipFill>
          <a:blip r:embed="rId1"/>
          <a:stretch/>
        </p:blipFill>
        <p:spPr>
          <a:xfrm>
            <a:off x="5181480" y="3809880"/>
            <a:ext cx="38102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609480" y="1670040"/>
            <a:ext cx="77695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angular momentum quantum number (</a:t>
            </a:r>
            <a:r>
              <a:rPr b="1" i="1" lang="en-US" sz="28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distinguishes “sub shells” within a given shell that have different shapes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06600" y="32004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Each main “shell” is subdivided into “sub shells.” Within each shell of quantum number n, there are n sub shells, each with a distinctive shap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can have any integer value from 0 to (n - 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different subshells are denoted by let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Letter             s     p     d     f     g 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                     0     1     2     3    4  …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magnetic quantum number (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distinguishes orbitals within a given sub-shell that have different shapes and orientations in space. Each sub shell is subdivided into “orbitals,” each capable of holding a pair of electrons.  m</a:t>
            </a:r>
            <a:r>
              <a:rPr b="1" i="1" lang="en-US" sz="2400" spc="-1" strike="noStrike" baseline="-25000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can have any integer value from -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 to +</a:t>
            </a:r>
            <a:r>
              <a:rPr b="1" i="1" lang="en-US" sz="2400" spc="-1" strike="noStrike">
                <a:solidFill>
                  <a:srgbClr val="376bb4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.  Each orbital within a given sub shell has the same energy.</a:t>
            </a: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504800" y="99720"/>
            <a:ext cx="6127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Quantum Numbers and Atomic Orbitals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4191120"/>
            <a:ext cx="88390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spin quantum number (m</a:t>
            </a:r>
            <a:r>
              <a:rPr b="1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76bb4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refers to the two possible spin orientations of the electrons residing within a given orbital. Each orbital can hold only two electrons whose spins must oppose one another.  The possible values of m</a:t>
            </a:r>
            <a:r>
              <a:rPr b="0" lang="en-US" sz="2400" spc="-1" strike="noStrike" baseline="-25000">
                <a:solidFill>
                  <a:srgbClr val="376bb4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 are +1/2 and –1/2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Why the different shapes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375" name="Oval 3"/>
          <p:cNvSpPr/>
          <p:nvPr/>
        </p:nvSpPr>
        <p:spPr>
          <a:xfrm>
            <a:off x="3962520" y="3505320"/>
            <a:ext cx="76176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Oval 4"/>
          <p:cNvSpPr/>
          <p:nvPr/>
        </p:nvSpPr>
        <p:spPr>
          <a:xfrm>
            <a:off x="3505320" y="3048120"/>
            <a:ext cx="1676160" cy="1676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5"/>
          <p:cNvSpPr/>
          <p:nvPr/>
        </p:nvSpPr>
        <p:spPr>
          <a:xfrm rot="5337000">
            <a:off x="3921480" y="4075560"/>
            <a:ext cx="839880" cy="46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6"/>
          <p:cNvSpPr/>
          <p:nvPr/>
        </p:nvSpPr>
        <p:spPr>
          <a:xfrm rot="16188600">
            <a:off x="3847680" y="31618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7"/>
          <p:cNvSpPr/>
          <p:nvPr/>
        </p:nvSpPr>
        <p:spPr>
          <a:xfrm rot="21514200">
            <a:off x="34290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Oval 8"/>
          <p:cNvSpPr/>
          <p:nvPr/>
        </p:nvSpPr>
        <p:spPr>
          <a:xfrm rot="21514200">
            <a:off x="4343400" y="3581280"/>
            <a:ext cx="91440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Oval 9"/>
          <p:cNvSpPr/>
          <p:nvPr/>
        </p:nvSpPr>
        <p:spPr>
          <a:xfrm rot="16188600">
            <a:off x="4074840" y="3694320"/>
            <a:ext cx="45720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10"/>
          <p:cNvSpPr/>
          <p:nvPr/>
        </p:nvSpPr>
        <p:spPr>
          <a:xfrm rot="16188600">
            <a:off x="4228920" y="3542760"/>
            <a:ext cx="228600" cy="457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11"/>
          <p:cNvSpPr/>
          <p:nvPr/>
        </p:nvSpPr>
        <p:spPr>
          <a:xfrm>
            <a:off x="2971800" y="2438280"/>
            <a:ext cx="281952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12"/>
          <p:cNvSpPr/>
          <p:nvPr/>
        </p:nvSpPr>
        <p:spPr>
          <a:xfrm>
            <a:off x="4038480" y="3581280"/>
            <a:ext cx="6098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13"/>
          <p:cNvSpPr/>
          <p:nvPr/>
        </p:nvSpPr>
        <p:spPr>
          <a:xfrm>
            <a:off x="3962520" y="236232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Oval 14"/>
          <p:cNvSpPr/>
          <p:nvPr/>
        </p:nvSpPr>
        <p:spPr>
          <a:xfrm rot="5478000">
            <a:off x="3276360" y="3124080"/>
            <a:ext cx="76176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Oval 15"/>
          <p:cNvSpPr/>
          <p:nvPr/>
        </p:nvSpPr>
        <p:spPr>
          <a:xfrm>
            <a:off x="3733920" y="3886200"/>
            <a:ext cx="12189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Oval 16"/>
          <p:cNvSpPr/>
          <p:nvPr/>
        </p:nvSpPr>
        <p:spPr>
          <a:xfrm>
            <a:off x="3962520" y="388620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7"/>
          <p:cNvSpPr/>
          <p:nvPr/>
        </p:nvSpPr>
        <p:spPr>
          <a:xfrm rot="5393400">
            <a:off x="4800240" y="3124080"/>
            <a:ext cx="761760" cy="1523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18"/>
          <p:cNvSpPr/>
          <p:nvPr/>
        </p:nvSpPr>
        <p:spPr>
          <a:xfrm rot="2746800">
            <a:off x="4152960" y="4152960"/>
            <a:ext cx="17524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9"/>
          <p:cNvSpPr/>
          <p:nvPr/>
        </p:nvSpPr>
        <p:spPr>
          <a:xfrm rot="19262400">
            <a:off x="2895480" y="4114440"/>
            <a:ext cx="175284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20"/>
          <p:cNvSpPr/>
          <p:nvPr/>
        </p:nvSpPr>
        <p:spPr>
          <a:xfrm rot="2746800">
            <a:off x="2856960" y="2857680"/>
            <a:ext cx="175248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21"/>
          <p:cNvSpPr/>
          <p:nvPr/>
        </p:nvSpPr>
        <p:spPr>
          <a:xfrm rot="19065600">
            <a:off x="4276800" y="2921040"/>
            <a:ext cx="167616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48006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586728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257800" y="36576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52578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3962520" y="46483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715000" y="2438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d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3962520" y="259092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4038480" y="47242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pz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3962520" y="198108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y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1"/>
          <p:cNvSpPr/>
          <p:nvPr/>
        </p:nvSpPr>
        <p:spPr>
          <a:xfrm>
            <a:off x="5943600" y="3886200"/>
            <a:ext cx="685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p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731520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731520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731520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7315200" y="4495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"/>
          <p:cNvSpPr/>
          <p:nvPr/>
        </p:nvSpPr>
        <p:spPr>
          <a:xfrm>
            <a:off x="701028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im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0" y="1600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ct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80880" y="21337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80880" y="289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380880" y="3657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-sha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Scanning Tunneling Microscope</a:t>
            </a:r>
            <a:br>
              <a:rPr sz="36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Electron Clouds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15" name="Picture 3" descr="I11-42-goldatom"/>
          <p:cNvPicPr/>
          <p:nvPr/>
        </p:nvPicPr>
        <p:blipFill>
          <a:blip r:embed="rId1"/>
          <a:stretch/>
        </p:blipFill>
        <p:spPr>
          <a:xfrm>
            <a:off x="684360" y="1558800"/>
            <a:ext cx="3190680" cy="42865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01phy1"/>
          <p:cNvPicPr/>
          <p:nvPr/>
        </p:nvPicPr>
        <p:blipFill>
          <a:blip r:embed="rId2"/>
          <a:stretch/>
        </p:blipFill>
        <p:spPr>
          <a:xfrm>
            <a:off x="4311720" y="1579680"/>
            <a:ext cx="4000320" cy="1962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stm12"/>
          <p:cNvPicPr/>
          <p:nvPr/>
        </p:nvPicPr>
        <p:blipFill>
          <a:blip r:embed="rId3"/>
          <a:stretch/>
        </p:blipFill>
        <p:spPr>
          <a:xfrm>
            <a:off x="4616280" y="3603600"/>
            <a:ext cx="3490920" cy="27939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609480" y="6054840"/>
            <a:ext cx="32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age Movi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2" descr="tab07_01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46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760" y="914040"/>
            <a:ext cx="1952640" cy="43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3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bital energies of the hydrogen atom.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(Click here for non-hydrogen atoms)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3" name="Picture 3" descr="07_23"/>
          <p:cNvPicPr/>
          <p:nvPr/>
        </p:nvPicPr>
        <p:blipFill>
          <a:blip r:embed="rId1"/>
          <a:stretch/>
        </p:blipFill>
        <p:spPr>
          <a:xfrm>
            <a:off x="2209680" y="546120"/>
            <a:ext cx="6782040" cy="5659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Figure 7.24: Cross-sectional representations of the probability distributions of </a:t>
            </a:r>
            <a:r>
              <a:rPr b="1" i="1" lang="en-US" sz="28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e1ab"/>
                </a:solidFill>
                <a:latin typeface="Arial"/>
              </a:rPr>
              <a:t>  orbitals.</a:t>
            </a:r>
            <a:r>
              <a:rPr b="1" lang="en-US" sz="14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6" name="Picture 3" descr="07_24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4147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301760" y="117000"/>
            <a:ext cx="65311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5: Cutaway diagrams showing the spherical shape of 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29" name="Picture 3" descr="07_25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5295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2720" y="1519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7: The five 3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2" name="Picture 3" descr="07_27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3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6300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Figure 7.26: The 2</a:t>
            </a:r>
            <a:r>
              <a:rPr b="1" i="1" lang="en-US" sz="2400" spc="-1" strike="noStrike">
                <a:solidFill>
                  <a:srgbClr val="ffe1ab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e1ab"/>
                </a:solidFill>
                <a:latin typeface="Arial"/>
              </a:rPr>
              <a:t> orbitals. </a:t>
            </a:r>
            <a:endParaRPr b="1" lang="en-US" sz="24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435" name="Picture 3" descr="07_26"/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559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6"/>
          <p:cNvSpPr/>
          <p:nvPr/>
        </p:nvSpPr>
        <p:spPr>
          <a:xfrm>
            <a:off x="228600" y="4572000"/>
            <a:ext cx="5257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3000" y="9180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What is the wavelength of yellow light with a frequency of 5.09 x 10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14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(Note: 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, commonly referred to as</a:t>
            </a:r>
            <a:r>
              <a:rPr b="0" lang="en-US" sz="2800" spc="-1" strike="noStrike" baseline="30000">
                <a:solidFill>
                  <a:srgbClr val="376bb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76bb4"/>
                </a:solidFill>
                <a:latin typeface="Arial"/>
              </a:rPr>
              <a:t>Hertz (Hz) is defined as “cycles or waves per second”.)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035"/>
              <p:cNvSpPr txBox="1"/>
              <p:nvPr/>
            </p:nvSpPr>
            <p:spPr>
              <a:xfrm>
                <a:off x="838080" y="5638680"/>
                <a:ext cx="74329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  or 589 n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1036" descr=""/>
          <p:cNvPicPr/>
          <p:nvPr/>
        </p:nvPicPr>
        <p:blipFill>
          <a:blip r:embed="rId1"/>
          <a:stretch/>
        </p:blipFill>
        <p:spPr>
          <a:xfrm>
            <a:off x="5257800" y="2133720"/>
            <a:ext cx="3657600" cy="315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Line 1037"/>
          <p:cNvSpPr/>
          <p:nvPr/>
        </p:nvSpPr>
        <p:spPr>
          <a:xfrm flipH="1">
            <a:off x="2611440" y="50706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Місце для нижнього колонтитула 2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3960" y="88920"/>
            <a:ext cx="8800920" cy="105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Figure 7.5: The electromagnetic spectrum.</a:t>
            </a:r>
            <a:r>
              <a:rPr b="1" lang="en-US" sz="1200" spc="-1" strike="noStrike">
                <a:solidFill>
                  <a:srgbClr val="ffe1ab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e1ab"/>
              </a:solidFill>
              <a:latin typeface="Arial"/>
            </a:endParaRPr>
          </a:p>
        </p:txBody>
      </p:sp>
      <p:pic>
        <p:nvPicPr>
          <p:cNvPr id="113" name="Picture 3" descr="07_05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4" name="Picture 5" descr="OS06097"/>
          <p:cNvPicPr/>
          <p:nvPr/>
        </p:nvPicPr>
        <p:blipFill>
          <a:blip r:embed="rId2"/>
          <a:stretch/>
        </p:blipFill>
        <p:spPr>
          <a:xfrm>
            <a:off x="8058240" y="5106960"/>
            <a:ext cx="1085760" cy="1495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filling"/>
          <p:cNvPicPr/>
          <p:nvPr/>
        </p:nvPicPr>
        <p:blipFill>
          <a:blip r:embed="rId3"/>
          <a:stretch/>
        </p:blipFill>
        <p:spPr>
          <a:xfrm>
            <a:off x="1162080" y="5219640"/>
            <a:ext cx="1730520" cy="130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admagen"/>
          <p:cNvPicPr/>
          <p:nvPr/>
        </p:nvPicPr>
        <p:blipFill>
          <a:blip r:embed="rId4"/>
          <a:stretch/>
        </p:blipFill>
        <p:spPr>
          <a:xfrm>
            <a:off x="0" y="5302080"/>
            <a:ext cx="1133640" cy="1046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flir3"/>
          <p:cNvPicPr/>
          <p:nvPr/>
        </p:nvPicPr>
        <p:blipFill>
          <a:blip r:embed="rId5"/>
          <a:stretch/>
        </p:blipFill>
        <p:spPr>
          <a:xfrm>
            <a:off x="4168800" y="5170320"/>
            <a:ext cx="2687760" cy="142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HandPowder_1_1"/>
          <p:cNvPicPr/>
          <p:nvPr/>
        </p:nvPicPr>
        <p:blipFill>
          <a:blip r:embed="rId6"/>
          <a:stretch/>
        </p:blipFill>
        <p:spPr>
          <a:xfrm>
            <a:off x="2894040" y="5127480"/>
            <a:ext cx="1316160" cy="148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microwve"/>
          <p:cNvPicPr/>
          <p:nvPr/>
        </p:nvPicPr>
        <p:blipFill>
          <a:blip r:embed="rId7"/>
          <a:stretch/>
        </p:blipFill>
        <p:spPr>
          <a:xfrm>
            <a:off x="6310440" y="5208480"/>
            <a:ext cx="1746000" cy="125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26"/>
          <p:cNvSpPr/>
          <p:nvPr/>
        </p:nvSpPr>
        <p:spPr>
          <a:xfrm>
            <a:off x="534960" y="330840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bd9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If c =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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Arial"/>
              </a:rPr>
              <a:t>then rearranging, we obtain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76bb4"/>
                </a:solidFill>
                <a:latin typeface="Times New Roman"/>
              </a:rPr>
              <a:t> = c/</a:t>
            </a:r>
            <a:r>
              <a:rPr b="0" lang="en-US" sz="2400" spc="-1" strike="noStrike">
                <a:solidFill>
                  <a:srgbClr val="376bb4"/>
                </a:solidFill>
                <a:latin typeface="Symbol"/>
                <a:ea typeface="Symbol"/>
              </a:rPr>
              <a:t>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13372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bd9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6bb4"/>
                </a:solidFill>
                <a:latin typeface="Arial"/>
              </a:rPr>
              <a:t>What is the frequency of violet light with a wavelength of 408 nm? 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030"/>
              <p:cNvSpPr txBox="1"/>
              <p:nvPr/>
            </p:nvSpPr>
            <p:spPr>
              <a:xfrm>
                <a:off x="4510080" y="3530520"/>
                <a:ext cx="27936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31"/>
              <p:cNvSpPr txBox="1"/>
              <p:nvPr/>
            </p:nvSpPr>
            <p:spPr>
              <a:xfrm>
                <a:off x="2030400" y="4299120"/>
                <a:ext cx="51768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8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8840" y="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ab"/>
                </a:solidFill>
                <a:latin typeface="Arial"/>
              </a:rPr>
              <a:t>The Wave Nature of Light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6" name="Line 1034"/>
          <p:cNvSpPr/>
          <p:nvPr/>
        </p:nvSpPr>
        <p:spPr>
          <a:xfrm flipH="1">
            <a:off x="7010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e1ab"/>
                </a:solidFill>
                <a:latin typeface="Arial"/>
              </a:rPr>
              <a:t>Seeing the Light-A New Model of the Atom</a:t>
            </a:r>
            <a:endParaRPr b="1" lang="en-US" sz="32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376bb4"/>
                </a:solidFill>
                <a:latin typeface="Arial"/>
              </a:rPr>
              <a:t>Maxwell Planck-Black Body Radiation</a:t>
            </a:r>
            <a:endParaRPr b="0" lang="en-US" sz="3200" spc="-1" strike="noStrike">
              <a:solidFill>
                <a:srgbClr val="376bb4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3457800" cy="3990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400800" y="33526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5181480" y="513396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und that blackbody radiation was quantiz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96080" y="1143000"/>
            <a:ext cx="1257480" cy="18860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1600200" y="2070000"/>
            <a:ext cx="34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900—Nobel Prize in 191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Місце для нижнього колонтитула 3"/>
          <p:cNvSpPr/>
          <p:nvPr/>
        </p:nvSpPr>
        <p:spPr>
          <a:xfrm>
            <a:off x="152280" y="6681960"/>
            <a:ext cx="426744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e1ab"/>
                </a:solidFill>
                <a:latin typeface="Arial"/>
              </a:rPr>
              <a:t>www.sliderbase.com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9200" y="100080"/>
            <a:ext cx="84614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ffe1ab"/>
                </a:solidFill>
                <a:latin typeface="Arial"/>
              </a:rPr>
              <a:t>What is Quantized?</a:t>
            </a:r>
            <a:endParaRPr b="1" lang="en-US" sz="3600" spc="-1" strike="noStrike">
              <a:solidFill>
                <a:srgbClr val="ffe1a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76bb4"/>
                </a:solidFill>
                <a:latin typeface="Arial"/>
              </a:rPr>
              <a:t>Energy can have only certain values (quantities), not in between, instead of a continuum of values.  This is like energy existing on stairs of a staircase instead of at any energy on a ramp.</a:t>
            </a:r>
            <a:endParaRPr b="0" lang="en-US" sz="2800" spc="-1" strike="noStrike">
              <a:solidFill>
                <a:srgbClr val="376bb4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133720" y="54864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3505320" y="41148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2819520" y="48006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4191120" y="3429000"/>
            <a:ext cx="1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133720" y="54864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2819520" y="48006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3505320" y="41148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4191120" y="34290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2"/>
          <p:cNvSpPr/>
          <p:nvPr/>
        </p:nvSpPr>
        <p:spPr>
          <a:xfrm flipV="1">
            <a:off x="4495680" y="3654360"/>
            <a:ext cx="3276720" cy="267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3"/>
          <p:cNvSpPr/>
          <p:nvPr/>
        </p:nvSpPr>
        <p:spPr>
          <a:xfrm>
            <a:off x="1676520" y="5867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14"/>
          <p:cNvSpPr/>
          <p:nvPr/>
        </p:nvSpPr>
        <p:spPr>
          <a:xfrm>
            <a:off x="4343400" y="601992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1447920" y="617220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16"/>
          <p:cNvSpPr/>
          <p:nvPr/>
        </p:nvSpPr>
        <p:spPr>
          <a:xfrm>
            <a:off x="2362320" y="51814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3048120" y="44956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3733920" y="38098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441972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2428E-007 L 0.35417 -0.38844 E">
                                      <p:cBhvr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02T21:50:40Z</dcterms:created>
  <dc:creator>Billy K. Cook</dc:creator>
  <dc:description/>
  <dc:language>en-US</dc:language>
  <cp:lastModifiedBy>LEGION</cp:lastModifiedBy>
  <cp:lastPrinted>2009-04-22T19:24:48Z</cp:lastPrinted>
  <dcterms:modified xsi:type="dcterms:W3CDTF">2017-01-26T09:33:37Z</dcterms:modified>
  <cp:revision>171</cp:revision>
  <dc:subject>Chapter 7</dc:subject>
  <dc:title>Quantum Theory of the Atom</dc:title>
</cp:coreProperties>
</file>