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27.png" ContentType="image/png"/>
  <Override PartName="/ppt/media/image4.gif" ContentType="image/gif"/>
  <Override PartName="/ppt/media/image26.jpeg" ContentType="image/jpeg"/>
  <Override PartName="/ppt/media/image25.jpeg" ContentType="image/jpeg"/>
  <Override PartName="/ppt/media/image32.png" ContentType="image/png"/>
  <Override PartName="/ppt/media/image22.png" ContentType="image/png"/>
  <Override PartName="/ppt/media/image24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5.png" ContentType="image/png"/>
  <Override PartName="/ppt/media/image17.jpeg" ContentType="image/jpeg"/>
  <Override PartName="/ppt/media/image45.wmf" ContentType="image/x-wmf"/>
  <Override PartName="/ppt/media/image21.png" ContentType="image/png"/>
  <Override PartName="/ppt/media/image16.gif" ContentType="image/gif"/>
  <Override PartName="/ppt/media/image51.png" ContentType="image/png"/>
  <Override PartName="/ppt/media/image1.png" ContentType="image/png"/>
  <Override PartName="/ppt/media/image3.jpeg" ContentType="image/jpeg"/>
  <Override PartName="/ppt/media/image37.jpeg" ContentType="image/jpeg"/>
  <Override PartName="/ppt/media/image2.jpeg" ContentType="image/jpeg"/>
  <Override PartName="/ppt/media/image36.jpeg" ContentType="image/jpeg"/>
  <Override PartName="/ppt/media/image6.jpeg" ContentType="image/jpeg"/>
  <Override PartName="/ppt/media/image14.jpeg" ContentType="image/jpeg"/>
  <Override PartName="/ppt/media/image35.jpeg" ContentType="image/jpeg"/>
  <Override PartName="/ppt/media/image10.jpeg" ContentType="image/jpeg"/>
  <Override PartName="/ppt/media/image8.jpeg" ContentType="image/jpeg"/>
  <Override PartName="/ppt/media/image39.png" ContentType="image/png"/>
  <Override PartName="/ppt/media/image41.png" ContentType="image/png"/>
  <Override PartName="/ppt/media/image40.png" ContentType="image/png"/>
  <Override PartName="/ppt/media/image9.jpeg" ContentType="image/jpeg"/>
  <Override PartName="/ppt/media/image11.jpeg" ContentType="image/jpeg"/>
  <Override PartName="/ppt/media/image13.jpeg" ContentType="image/jpeg"/>
  <Override PartName="/ppt/media/image23.png" ContentType="image/png"/>
  <Override PartName="/ppt/media/image44.wmf" ContentType="image/x-wmf"/>
  <Override PartName="/ppt/media/image38.gif" ContentType="image/gif"/>
  <Override PartName="/ppt/media/image43.wmf" ContentType="image/x-wmf"/>
  <Override PartName="/ppt/media/image53.jpeg" ContentType="image/jpeg"/>
  <Override PartName="/ppt/media/image48.jpeg" ContentType="image/jpeg"/>
  <Override PartName="/ppt/media/image46.wmf" ContentType="image/x-wmf"/>
  <Override PartName="/ppt/media/image50.jpeg" ContentType="image/jpeg"/>
  <Override PartName="/ppt/media/image12.jpeg" ContentType="image/jpeg"/>
  <Override PartName="/ppt/media/image49.jpeg" ContentType="image/jpeg"/>
  <Override PartName="/ppt/media/image54.jpeg" ContentType="image/jpeg"/>
  <Override PartName="/ppt/media/image34.jpeg" ContentType="image/jpeg"/>
  <Override PartName="/ppt/media/image5.gif" ContentType="image/gif"/>
  <Override PartName="/ppt/media/image28.png" ContentType="image/png"/>
  <Override PartName="/ppt/media/image7.jpeg" ContentType="image/jpeg"/>
  <Override PartName="/ppt/media/image33.png" ContentType="image/png"/>
  <Override PartName="/ppt/media/image29.jpeg" ContentType="image/jpeg"/>
  <Override PartName="/ppt/media/image52.jpeg" ContentType="image/jpeg"/>
  <Override PartName="/ppt/media/image47.wmf" ContentType="image/x-wmf"/>
  <Override PartName="/ppt/media/image31.jpeg" ContentType="image/jpeg"/>
  <Override PartName="/ppt/media/image3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</p:sldIdLst>
  <p:sldSz cx="9144000" cy="6858000"/>
  <p:notesSz cx="6858000" cy="9144000"/>
  <p:custShowLst>
    <p:custShow name="Custom Show 1" id="0">
      <p:sldLst>
        <p:sld r:id="rId50"/>
        <p:sld r:id="rId51"/>
      </p:sldLst>
    </p:custShow>
    <p:custShow name="Custom Show 2" id="1">
      <p:sldLst>
        <p:sld r:id="rId53"/>
      </p:sldLst>
    </p:custShow>
    <p:custShow name="Custom Show 3" id="2">
      <p:sldLst>
        <p:sld r:id="rId52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1ab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ntum Theory of the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The Wave Nature of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 Quantum Effects and Phot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3 The Bohr Theory of th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gen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of Lecture Outlines, 7–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7.2: Emission (line) spectra of some element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Presentation of Lecture Outlines, 7–11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Quantum Effects and Photon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E=</a:t>
            </a:r>
            <a:br>
              <a:rPr sz="3600"/>
            </a:b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000000"/>
                </a:solidFill>
                <a:latin typeface="Times New Roman"/>
                <a:cs typeface="Arial"/>
              </a:rPr>
              <a:t>ג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hc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h=Planck’s constant 6.626 x 10-34Js</a:t>
            </a:r>
            <a:br>
              <a:rPr sz="3600"/>
            </a:b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c=speed of light 3.00 x 108 m/s</a:t>
            </a:r>
            <a:br>
              <a:rPr sz="3600"/>
            </a:b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he-IL" sz="3600" spc="-1" strike="noStrike">
                <a:solidFill>
                  <a:srgbClr val="000000"/>
                </a:solidFill>
                <a:latin typeface="Times New Roman"/>
                <a:cs typeface="Arial"/>
              </a:rPr>
              <a:t>ג</a:t>
            </a:r>
            <a:r>
              <a:rPr b="1" lang="he-IL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=</a:t>
            </a: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wavelength of ligh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What is the energy of red light?</a:t>
            </a:r>
            <a:br>
              <a:rPr sz="3600"/>
            </a:br>
            <a:br>
              <a:rPr sz="3600"/>
            </a:b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     (6.626x10-34Js)(3.00x108m/s)</a:t>
            </a:r>
            <a:br>
              <a:rPr sz="3600"/>
            </a:b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E=</a:t>
            </a:r>
            <a:br>
              <a:rPr sz="3600"/>
            </a:b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   (700x10-9m)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E= 2.84 x10-19Joule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Presentation of Lecture Outlines, 7–11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Quantum Effects and Photons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E=</a:t>
            </a:r>
            <a:br>
              <a:rPr sz="1000"/>
            </a:b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e-IL" sz="1000" spc="-1" strike="noStrike">
                <a:solidFill>
                  <a:srgbClr val="000000"/>
                </a:solidFill>
                <a:latin typeface="Times New Roman"/>
                <a:cs typeface="Arial"/>
              </a:rPr>
              <a:t>ג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hc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h=Planck’s constant 6.626 x 10-34Js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c=speed of light 3.00 x 108 m/s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he-IL" sz="1000" spc="-1" strike="noStrike">
                <a:solidFill>
                  <a:srgbClr val="000000"/>
                </a:solidFill>
                <a:latin typeface="Times New Roman"/>
                <a:cs typeface="Arial"/>
              </a:rPr>
              <a:t>ג</a:t>
            </a:r>
            <a:r>
              <a:rPr b="0" i="1" lang="he-IL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=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wavelength of light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What is the energy of red light?</a:t>
            </a:r>
            <a:br>
              <a:rPr sz="1000"/>
            </a:b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     (6.626x10-34Js)(3.00x108m/s)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E=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   (700x10-9m)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E= 2.84 x10-19Joules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Presentation of Lecture Outlines, 7–11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Quantum Effects and Photon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E=</a:t>
            </a:r>
            <a:br>
              <a:rPr sz="3600"/>
            </a:b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000000"/>
                </a:solidFill>
                <a:latin typeface="Times New Roman"/>
                <a:cs typeface="Arial"/>
              </a:rPr>
              <a:t>ג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hc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h=Planck’s constant 6.626 x 10-34Js</a:t>
            </a:r>
            <a:br>
              <a:rPr sz="3600"/>
            </a:b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c=speed of light 3.00 x 108 m/s</a:t>
            </a:r>
            <a:br>
              <a:rPr sz="3600"/>
            </a:b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he-IL" sz="3600" spc="-1" strike="noStrike">
                <a:solidFill>
                  <a:srgbClr val="000000"/>
                </a:solidFill>
                <a:latin typeface="Times New Roman"/>
                <a:cs typeface="Arial"/>
              </a:rPr>
              <a:t>ג</a:t>
            </a:r>
            <a:r>
              <a:rPr b="1" lang="he-IL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=</a:t>
            </a: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wavelength of ligh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What is the energy of red light?</a:t>
            </a:r>
            <a:br>
              <a:rPr sz="3600"/>
            </a:br>
            <a:br>
              <a:rPr sz="3600"/>
            </a:b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     (6.626x10-34Js)(3.00x108m/s)</a:t>
            </a:r>
            <a:br>
              <a:rPr sz="3600"/>
            </a:b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E=</a:t>
            </a:r>
            <a:br>
              <a:rPr sz="3600"/>
            </a:b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   (700x10-9m)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E= 2.84 x10-19Joule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Presentation of Lecture Outlines, 7–11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Quantum Effects and Photon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E=</a:t>
            </a:r>
            <a:br>
              <a:rPr sz="3600"/>
            </a:b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000000"/>
                </a:solidFill>
                <a:latin typeface="Times New Roman"/>
                <a:cs typeface="Arial"/>
              </a:rPr>
              <a:t>ג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hc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h=Planck’s constant 6.626 x 10-34Js</a:t>
            </a:r>
            <a:br>
              <a:rPr sz="3600"/>
            </a:b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c=speed of light 3.00 x 108 m/s</a:t>
            </a:r>
            <a:br>
              <a:rPr sz="3600"/>
            </a:b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he-IL" sz="3600" spc="-1" strike="noStrike">
                <a:solidFill>
                  <a:srgbClr val="000000"/>
                </a:solidFill>
                <a:latin typeface="Times New Roman"/>
                <a:cs typeface="Arial"/>
              </a:rPr>
              <a:t>ג</a:t>
            </a:r>
            <a:r>
              <a:rPr b="1" lang="he-IL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=</a:t>
            </a: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wavelength of ligh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What is the energy of red light?</a:t>
            </a:r>
            <a:br>
              <a:rPr sz="3600"/>
            </a:br>
            <a:br>
              <a:rPr sz="3600"/>
            </a:b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     (6.626x10-34Js)(3.00x108m/s)</a:t>
            </a:r>
            <a:br>
              <a:rPr sz="3600"/>
            </a:b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E=</a:t>
            </a:r>
            <a:br>
              <a:rPr sz="3600"/>
            </a:b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   (700x10-9m)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E= 2.84 x10-19Joule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resentation of Lecture Outlines, 7–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Quantum Effects and Phot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=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Times New Roman"/>
                <a:cs typeface="Arial"/>
              </a:rPr>
              <a:t>ג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=Planck’s constant 6.626 x 10-34Js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=speed of light 3.00 x 108 m/s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e-IL" sz="1200" spc="-1" strike="noStrike">
                <a:solidFill>
                  <a:srgbClr val="000000"/>
                </a:solidFill>
                <a:latin typeface="Times New Roman"/>
                <a:cs typeface="Arial"/>
              </a:rPr>
              <a:t>ג</a:t>
            </a:r>
            <a:r>
              <a:rPr b="0" lang="he-IL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=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avelength of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hat is the energy of red light?</a:t>
            </a:r>
            <a:br>
              <a:rPr sz="1200"/>
            </a:b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  (6.626x10-34Js)(3.00x108m/s)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=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(700x10-9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= 2.84 x10-19Jo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instein’s Photoelectric Effect                       (1905--Nobel Prize in 1921)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Only light from a certain color (energy) could eject electrons.  Intensity of the light had no effect.  Energy is absorbed only at quantized energies!              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Animation of Photoelectron Effect)     (Adsorption and Emission Spectra)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instein’s Photoelectric Effect                       (1905--Nobel Prize in 192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light from a certain color (energy) could eject electrons.  Intensity of the light had no effect.  Energy is absorbed only at quantized energies!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nimation of Photoelectron Effect)     (Adsorption and Emission Spectr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13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instein’s assumption that an electron is ejected when struck by a single photon implies that it behaves like a particle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Effects and Photon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hotoelectric Effec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en the photon hits the metal, its energy, hn is taken up by the electron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photon ceases to exist as a particle; it is said to be “absorbed.”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Presentation of Lecture Outlines, 7–13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Einstein’s assumption that an electron is ejected when struck by a single photon implies that it behaves like a particle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Quantum Effects and Photons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Photoelectric Effect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When the photon hits the metal, its energy, hn is taken up by the electron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The photon ceases to exist as a particle; it is said to be “absorbed.”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13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instein’s assumption that an electron is ejected when struck by a single photon implies that it behaves like a particle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Effects and Photon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hotoelectric Effec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en the photon hits the metal, its energy, hn is taken up by the electron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photon ceases to exist as a particle; it is said to be “absorbed.”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13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instein’s assumption that an electron is ejected when struck by a single photon implies that it behaves like a particle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Effects and Photon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hotoelectric Effec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en the photon hits the metal, its energy, hn is taken up by the electron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photon ceases to exist as a particle; it is said to be “absorbed.”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of Lecture Outlines, 7–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instein’s assumption that an electron is ejected when struck by a single photon implies that it behaves like a partic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ntum Effects and Phot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electric Eff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the photon hits the metal, its energy, hn is taken up by the electr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hoton ceases to exist as a particle; it is said to be “absorbed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14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“wave” and “particle” pictures of light should be regarded as complementary views of the same physical entity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Effects and Photon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hotoelectric Effec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is is called the wave-particle duality of light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equation  E = hn displays this duality; E is the energy of the “particle” photon, and n is the frequency of the associated “wave.”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Presentation of Lecture Outlines, 7–14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The “wave” and “particle” pictures of light should be regarded as complementary views of the same physical entity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Quantum Effects and Photons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Photoelectric Effect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This is called the wave-particle duality of light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The equation  E = hn displays this duality; E is the energy of the “particle” photon, and n is the frequency of the associated “wave.”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14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“wave” and “particle” pictures of light should be regarded as complementary views of the same physical entity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Effects and Photon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hotoelectric Effec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is is called the wave-particle duality of light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equation  E = hn displays this duality; E is the energy of the “particle” photon, and n is the frequency of the associated “wave.”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14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“wave” and “particle” pictures of light should be regarded as complementary views of the same physical entity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Effects and Photon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hotoelectric Effec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is is called the wave-particle duality of light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equation  E = hn displays this duality; E is the energy of the “particle” photon, and n is the frequency of the associated “wave.”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of Lecture Outlines, 7–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“wave” and “particle” pictures of light should be regarded as complementary views of the same physical ent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ntum Effects and Phot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electric Eff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called the wave-particle duality of ligh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quation  E = hn displays this duality; E is the energy of the “particle” photon, and n is the frequency of the associated “wave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15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6.626 x 10-34 J.s) x (1.255 x 106 s-1)  =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8.3156 x 10-28  =  8.316 x 10-28 J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olve for E, using E = hn, and four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ignificant figures for h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at is the energy of a photon corresponding to radio waves of frequency 1.255 x 10 6 s-1?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adio Wave Energy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Presentation of Lecture Outlines, 7–15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(6.626 x 10-34 J.s) x (1.255 x 106 s-1)  =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8.3156 x 10-28  =  8.316 x 10-28 J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Solve for E, using E = hn, and four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significant figures for h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What is the energy of a photon corresponding to radio waves of frequency 1.255 x 10 6 s-1?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Radio Wave Energy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15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6.626 x 10-34 J.s) x (1.255 x 106 s-1)  =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8.3156 x 10-28  =  8.316 x 10-28 J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olve for E, using E = hn, and four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ignificant figures for h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at is the energy of a photon corresponding to radio waves of frequency 1.255 x 10 6 s-1?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adio Wave Energy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15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6.626 x 10-34 J.s) x (1.255 x 106 s-1)  =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8.3156 x 10-28  =  8.316 x 10-28 J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olve for E, using E = hn, and four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ignificant figures for h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at is the energy of a photon corresponding to radio waves of frequency 1.255 x 10 6 s-1?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adio Wave Energy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of Lecture Outlines, 7–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6.626 x 10-34 J.s) x (1.255 x 106 s-1) 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3156 x 10-28  =  8.316 x 10-28 J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ve for E, using E = hn, and fou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gnificant figures for 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energy of a photon corresponding to radio waves of frequency 1.255 x 10 6 s-1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o Wave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16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Bohr Theory of the Hydrogen Atom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ior to the work of Niels Bohr, the stability of the atom could not be explained using the then-current theories.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n 1913, using the work of Einstein and Planck, he applied a new theory to the simplest atom, hydrogen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efore looking at Bohr’s theory, we must first examine the “line spectra” of atoms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913—Nobel Prize in 1922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Presentation of Lecture Outlines, 7–16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The Bohr Theory of the Hydrogen At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Prior to the work of Niels Bohr, the stability of the atom could not be explained using the then-current theories.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In 1913, using the work of Einstein and Planck, he applied a new theory to the simplest atom, hydrogen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Before looking at Bohr’s theory, we must first examine the “line spectra” of atoms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913—Nobel Prize in 1922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16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Bohr Theory of the Hydrogen Atom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ior to the work of Niels Bohr, the stability of the atom could not be explained using the then-current theories.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n 1913, using the work of Einstein and Planck, he applied a new theory to the simplest atom, hydrogen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efore looking at Bohr’s theory, we must first examine the “line spectra” of atoms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913—Nobel Prize in 1922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16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Bohr Theory of the Hydrogen Atom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ior to the work of Niels Bohr, the stability of the atom could not be explained using the then-current theories.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n 1913, using the work of Einstein and Planck, he applied a new theory to the simplest atom, hydrogen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efore looking at Bohr’s theory, we must first examine the “line spectra” of atoms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913—Nobel Prize in 1922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of Lecture Outlines, 7–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ohr Theory of the Hydrogen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ior to the work of Niels Bohr, the stability of the atom could not be explained using the then-current theori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1913, using the work of Einstein and Planck, he applied a new theory to the simplest atom, hydrog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fore looking at Bohr’s theory, we must first examine the “line spectra” of ato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13—Nobel Prize in 19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17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ohr’s Postulate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ohr set down postulates to account for (1) the stability of the hydrogen atom and (2) the line spectrum of the atom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. Energy level postulate  An electron can have only specific energy levels in an atom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. Transitions between energy levels  An electron in an atom can change energy levels by undergoing a “transition” from one energy level to another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Bohr Theory of the Hydrogen Atom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Presentation of Lecture Outlines, 7–17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Bohr’s Postulates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Bohr set down postulates to account for (1) the stability of the hydrogen atom and (2) the line spectrum of the atom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. Energy level postulate  An electron can have only specific energy levels in an atom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. Transitions between energy levels  An electron in an atom can change energy levels by undergoing a “transition” from one energy level to another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The Bohr Theory of the Hydrogen At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17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ohr’s Postulate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ohr set down postulates to account for (1) the stability of the hydrogen atom and (2) the line spectrum of the atom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. Energy level postulate  An electron can have only specific energy levels in an atom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. Transitions between energy levels  An electron in an atom can change energy levels by undergoing a “transition” from one energy level to another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Bohr Theory of the Hydrogen Atom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17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ohr’s Postulate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ohr set down postulates to account for (1) the stability of the hydrogen atom and (2) the line spectrum of the atom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. Energy level postulate  An electron can have only specific energy levels in an atom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. Transitions between energy levels  An electron in an atom can change energy levels by undergoing a “transition” from one energy level to another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Bohr Theory of the Hydrogen Atom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of Lecture Outlines, 7–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hr’s Postul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hr set down postulates to account for (1) the stability of the hydrogen atom and (2) the line spectrum of the ato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Energy level postulate  An electron can have only specific energy levels in an ato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ransitions between energy levels  An electron in an atom can change energy levels by undergoing a “transition” from one energy level to anot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ohr Theory of the Hydrogen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18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ohr’s Postulate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ohr derived the following formula for the energy levels of the electron in the hydrogen atom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h is a constant (expressed in energy units) with a value of 2.18 x 10-18 J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Bohr Theory of the Hydrogen Atom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Presentation of Lecture Outlines, 7–18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Bohr’s Postulates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Bohr derived the following formula for the energy levels of the electron in the hydrogen atom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Rh is a constant (expressed in energy units) with a value of 2.18 x 10-18 J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The Bohr Theory of the Hydrogen At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18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ohr’s Postulate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ohr derived the following formula for the energy levels of the electron in the hydrogen atom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h is a constant (expressed in energy units) with a value of 2.18 x 10-18 J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Bohr Theory of the Hydrogen Atom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18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ohr’s Postulate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ohr derived the following formula for the energy levels of the electron in the hydrogen atom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h is a constant (expressed in energy units) with a value of 2.18 x 10-18 J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Bohr Theory of the Hydrogen Atom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of Lecture Outlines, 7–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hr’s Postul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hr derived the following formula for the energy levels of the electron in the hydrogen ato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h is a constant (expressed in energy units) with a value of 2.18 x 10-18 J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ohr Theory of the Hydrogen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19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ohr’s Postulate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en an electron undergoes a transition from a higher energy level to a lower one, the energy is emitted as a photon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Bohr Theory of the Hydrogen Atom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Presentation of Lecture Outlines, 7–19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Bohr’s Postulates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When an electron undergoes a transition from a higher energy level to a lower one, the energy is emitted as a photon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The Bohr Theory of the Hydrogen At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19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ohr’s Postulate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en an electron undergoes a transition from a higher energy level to a lower one, the energy is emitted as a photon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Bohr Theory of the Hydrogen Atom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19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ohr’s Postulate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en an electron undergoes a transition from a higher energy level to a lower one, the energy is emitted as a photon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Bohr Theory of the Hydrogen Atom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of Lecture Outlines, 7–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hr’s Postul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an electron undergoes a transition from a higher energy level to a lower one, the energy is emitted as a phot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ohr Theory of the Hydrogen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2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Wave Nature of Ligh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 wave is a continuously repeating change or oscillation in matter or in a physical field. Light is also a wave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t consists of oscillations in electric and magnetic fields that travel through space.Visible light, X rays, and radio waves are all forms of electromagnetic radiation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Presentation of Lecture Outlines, 7–2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The Wave Nature of Light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A wave is a continuously repeating change or oscillation in matter or in a physical field. Light is also a wave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It consists of oscillations in electric and magnetic fields that travel through space.Visible light, X rays, and radio waves are all forms of electromagnetic radiation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2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Wave Nature of Ligh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 wave is a continuously repeating change or oscillation in matter or in a physical field. Light is also a wave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t consists of oscillations in electric and magnetic fields that travel through space.Visible light, X rays, and radio waves are all forms of electromagnetic radiation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2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Wave Nature of Ligh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 wave is a continuously repeating change or oscillation in matter or in a physical field. Light is also a wave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t consists of oscillations in electric and magnetic fields that travel through space.Visible light, X rays, and radio waves are all forms of electromagnetic radiation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of Lecture Outlines, 7–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ave Nature of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wave is a continuously repeating change or oscillation in matter or in a physical field. Light is also a wa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consists of oscillations in electric and magnetic fields that travel through space.Visible light, X rays, and radio waves are all forms of electromagnetic radi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20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ohr’s Postulate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f we make a substitution into the previous equation that states the energy of the emitted photon, hn, equals Ei - Ef,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earranging, we obtain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Bohr Theory of the Hydrogen Atom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Presentation of Lecture Outlines, 7–20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Bohr’s Postulates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If we make a substitution into the previous equation that states the energy of the emitted photon, hn, equals Ei - Ef,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Rearranging, we obtain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The Bohr Theory of the Hydrogen At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20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ohr’s Postulate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f we make a substitution into the previous equation that states the energy of the emitted photon, hn, equals Ei - Ef,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earranging, we obtain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Bohr Theory of the Hydrogen Atom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20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ohr’s Postulate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f we make a substitution into the previous equation that states the energy of the emitted photon, hn, equals Ei - Ef,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earranging, we obtain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Bohr Theory of the Hydrogen Atom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of Lecture Outlines, 7–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hr’s Postul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we make a substitution into the previous equation that states the energy of the emitted photon, hn, equals Ei - Ef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rranging, we obtai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ohr Theory of the Hydrogen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21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tomic Line Spectra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n 1885, J. J. Balmer showed that the wavelengths, l, in the visible spectrum of hydrogen could be reproduced by a simple formula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known wavelengths of the four visible lines for hydrogen correspond to values of n = 3, n = 4, n = 5, and n = 6. 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Bohr Theory of the Hydrogen Atom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Presentation of Lecture Outlines, 7–21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Atomic Line Spectra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In 1885, J. J. Balmer showed that the wavelengths, l, in the visible spectrum of hydrogen could be reproduced by a simple formula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The known wavelengths of the four visible lines for hydrogen correspond to values of n = 3, n = 4, n = 5, and n = 6. 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The Bohr Theory of the Hydrogen At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21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tomic Line Spectra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n 1885, J. J. Balmer showed that the wavelengths, l, in the visible spectrum of hydrogen could be reproduced by a simple formula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known wavelengths of the four visible lines for hydrogen correspond to values of n = 3, n = 4, n = 5, and n = 6. 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Bohr Theory of the Hydrogen Atom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21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tomic Line Spectra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n 1885, J. J. Balmer showed that the wavelengths, l, in the visible spectrum of hydrogen could be reproduced by a simple formula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known wavelengths of the four visible lines for hydrogen correspond to values of n = 3, n = 4, n = 5, and n = 6. 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Bohr Theory of the Hydrogen Atom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of Lecture Outlines, 7–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Line Spect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1885, J. J. Balmer showed that the wavelengths, l, in the visible spectrum of hydrogen could be reproduced by a simple formul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known wavelengths of the four visible lines for hydrogen correspond to values of n = 3, n = 4, n = 5, and n = 6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ohr Theory of the Hydrogen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22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ohr’s Postulate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ohr’s theory explains not only the emission of light, but also the absorbtion of light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en an electron falls from n = 3 to n = 2 energy level, a photon of red light (wavelength, 685 nm) is emitt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en red light of this same wavelength shines on a hydrogen atom in the n = 2 level, the energy is gained by the electron that undergoes a transition to n = 3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Bohr Theory of the Hydrogen Atom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Presentation of Lecture Outlines, 7–22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Bohr’s Postulates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Bohr’s theory explains not only the emission of light, but also the absorbtion of light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When an electron falls from n = 3 to n = 2 energy level, a photon of red light (wavelength, 685 nm) is emitted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When red light of this same wavelength shines on a hydrogen atom in the n = 2 level, the energy is gained by the electron that undergoes a transition to n = 3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The Bohr Theory of the Hydrogen At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22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ohr’s Postulate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ohr’s theory explains not only the emission of light, but also the absorbtion of light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en an electron falls from n = 3 to n = 2 energy level, a photon of red light (wavelength, 685 nm) is emitt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en red light of this same wavelength shines on a hydrogen atom in the n = 2 level, the energy is gained by the electron that undergoes a transition to n = 3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Bohr Theory of the Hydrogen Atom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22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ohr’s Postulate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ohr’s theory explains not only the emission of light, but also the absorbtion of light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en an electron falls from n = 3 to n = 2 energy level, a photon of red light (wavelength, 685 nm) is emitt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en red light of this same wavelength shines on a hydrogen atom in the n = 2 level, the energy is gained by the electron that undergoes a transition to n = 3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Bohr Theory of the Hydrogen Atom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of Lecture Outlines, 7–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hr’s Postul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hr’s theory explains not only the emission of light, but also the absorbtion of ligh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an electron falls from n = 3 to n = 2 energy level, a photon of red light (wavelength, 685 nm) is emit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red light of this same wavelength shines on a hydrogen atom in the n = 2 level, the energy is gained by the electron that undergoes a transition to n = 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ohr Theory of the Hydrogen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23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 Problem to Consider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alculate the energy of a photon of light emitted from a hydrogen atom when an electron falls from level n = 3 to level n = 1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Note that the sign of E is negative because energy is emitted when an electron falls from a higher to a lower level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Presentation of Lecture Outlines, 7–23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A Problem to Consider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Calculate the energy of a photon of light emitted from a hydrogen atom when an electron falls from level n = 3 to level n = 1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Note that the sign of E is negative because energy is emitted when an electron falls from a higher to a lower level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23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 Problem to Consider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alculate the energy of a photon of light emitted from a hydrogen atom when an electron falls from level n = 3 to level n = 1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Note that the sign of E is negative because energy is emitted when an electron falls from a higher to a lower level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23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 Problem to Consider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alculate the energy of a photon of light emitted from a hydrogen atom when an electron falls from level n = 3 to level n = 1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Note that the sign of E is negative because energy is emitted when an electron falls from a higher to a lower level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of Lecture Outlines, 7–2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roblem to Consi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ulate the energy of a photon of light emitted from a hydrogen atom when an electron falls from level n = 3 to level n =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at the sign of E is negative because energy is emitted when an electron falls from a higher to a lower leve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24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ohr’s theory established the concept of atomic energy levels but did not thoroughly explain the “wave-like” behavior of the electron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urrent ideas about atomic structure depend on the principles of quantum mechanics, a theory that applies to subatomic particles such as electrons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Presentation of Lecture Outlines, 7–24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Bohr’s theory established the concept of atomic energy levels but did not thoroughly explain the “wave-like” behavior of the electron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Current ideas about atomic structure depend on the principles of quantum mechanics, a theory that applies to subatomic particles such as electrons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24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ohr’s theory established the concept of atomic energy levels but did not thoroughly explain the “wave-like” behavior of the electron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urrent ideas about atomic structure depend on the principles of quantum mechanics, a theory that applies to subatomic particles such as electrons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24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ohr’s theory established the concept of atomic energy levels but did not thoroughly explain the “wave-like” behavior of the electron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urrent ideas about atomic structure depend on the principles of quantum mechanics, a theory that applies to subatomic particles such as electrons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of Lecture Outlines, 7–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hr’s theory established the concept of atomic energy levels but did not thoroughly explain the “wave-like” behavior of the electr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rrent ideas about atomic structure depend on the principles of quantum mechanics, a theory that applies to subatomic particles such as electr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ntum Theory of the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4 Quantum Mechanic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5 Quantum Numbers and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Orbit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26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first clue in the development of quantum theory came with the discovery of the de Broglie relation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n 1923, Louis de Broglie reasoned that if light exhibits particle aspects, perhaps particles of matter show characteristics of waves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e postulated that a particle with mass m and a velocity v has an associated wavelength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equation l = h/mv is called the de Broglie relation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923 – Nobel Prize in 1929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Presentation of Lecture Outlines, 7–26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The first clue in the development of quantum theory came with the discovery of the de Broglie relation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In 1923, Louis de Broglie reasoned that if light exhibits particle aspects, perhaps particles of matter show characteristics of waves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He postulated that a particle with mass m and a velocity v has an associated wavelength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The equation l = h/mv is called the de Broglie relation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923 – Nobel Prize in 1929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26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first clue in the development of quantum theory came with the discovery of the de Broglie relation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n 1923, Louis de Broglie reasoned that if light exhibits particle aspects, perhaps particles of matter show characteristics of waves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e postulated that a particle with mass m and a velocity v has an associated wavelength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equation l = h/mv is called the de Broglie relation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923 – Nobel Prize in 1929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26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first clue in the development of quantum theory came with the discovery of the de Broglie relation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n 1923, Louis de Broglie reasoned that if light exhibits particle aspects, perhaps particles of matter show characteristics of waves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e postulated that a particle with mass m and a velocity v has an associated wavelength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equation l = h/mv is called the de Broglie relation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923 – Nobel Prize in 1929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of Lecture Outlines, 7–2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irst clue in the development of quantum theory came with the discovery of the de Broglie rel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1923, Louis de Broglie reasoned that if light exhibits particle aspects, perhaps particles of matter show characteristics of wav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postulated that a particle with mass m and a velocity v has an associated wavelengt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quation l = h/mv is called the de Broglie rel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23 – Nobel Prize in 192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27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f matter has wave properties, why are they not commonly observed?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de Broglie relation shows that a baseball (0.145 kg) moving at about 60 mph (27 m/s) has a wavelength of about 1.7 x 10-34 m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is value is so incredibly small that such waves cannot be detected.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Presentation of Lecture Outlines, 7–27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If matter has wave properties, why are they not commonly observed?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The de Broglie relation shows that a baseball (0.145 kg) moving at about 60 mph (27 m/s) has a wavelength of about 1.7 x 10-34 m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This value is so incredibly small that such waves cannot be detected.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27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f matter has wave properties, why are they not commonly observed?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de Broglie relation shows that a baseball (0.145 kg) moving at about 60 mph (27 m/s) has a wavelength of about 1.7 x 10-34 m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is value is so incredibly small that such waves cannot be detected.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27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f matter has wave properties, why are they not commonly observed?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de Broglie relation shows that a baseball (0.145 kg) moving at about 60 mph (27 m/s) has a wavelength of about 1.7 x 10-34 m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is value is so incredibly small that such waves cannot be detected.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of Lecture Outlines, 7–2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matter has wave properties, why are they not commonly observ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e Broglie relation shows that a baseball (0.145 kg) moving at about 60 mph (27 m/s) has a wavelength of about 1.7 x 10-34 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value is so incredibly small that such waves cannot be detecte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28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lectrons have wavelengths on the order of a few picometers (1 pm = 10-12 m)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Under the proper circumstances, the wave character of electrons should be observable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f matter has wave properties, why are they not commonly observed?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Presentation of Lecture Outlines, 7–28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Electrons have wavelengths on the order of a few picometers (1 pm = 10-12 m)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Under the proper circumstances, the wave character of electrons should be observable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If matter has wave properties, why are they not commonly observed?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28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lectrons have wavelengths on the order of a few picometers (1 pm = 10-12 m)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Under the proper circumstances, the wave character of electrons should be observable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f matter has wave properties, why are they not commonly observed?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28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lectrons have wavelengths on the order of a few picometers (1 pm = 10-12 m)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Under the proper circumstances, the wave character of electrons should be observable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f matter has wave properties, why are they not commonly observed?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of Lecture Outlines, 7–2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s have wavelengths on the order of a few picometers (1 pm = 10-12 m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der the proper circumstances, the wave character of electrons should be observa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matter has wave properties, why are they not commonly observ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29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n 1927, it was demonstrated that a beam of electrons, just like X rays, could be diffracted by a crystal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German physicist, Ernst Ruska, used this wave property to construct the first “electron microscope” in 1933.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Presentation of Lecture Outlines, 7–29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In 1927, it was demonstrated that a beam of electrons, just like X rays, could be diffracted by a crystal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The German physicist, Ernst Ruska, used this wave property to construct the first “electron microscope” in 1933.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29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n 1927, it was demonstrated that a beam of electrons, just like X rays, could be diffracted by a crystal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German physicist, Ernst Ruska, used this wave property to construct the first “electron microscope” in 1933.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29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n 1927, it was demonstrated that a beam of electrons, just like X rays, could be diffracted by a crystal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German physicist, Ernst Ruska, used this wave property to construct the first “electron microscope” in 1933.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of Lecture Outlines, 7–2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1927, it was demonstrated that a beam of electrons, just like X rays, could be diffracted by a cryst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erman physicist, Ernst Ruska, used this wave property to construct the first “electron microscope” in 1933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3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Wave Nature of Ligh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 wave can be characterized by its wavelength and frequency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wavelength, l (lambda), is the distance between any two adjacent identical points of a wave. The frequency, n (nyu), of a wave is the number of wavelengths that pass a fixed point in one secon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Presentation of Lecture Outlines, 7–3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The Wave Nature of Light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A wave can be characterized by its wavelength and frequency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The wavelength, l (lambda), is the distance between any two adjacent identical points of a wave. The frequency, n (nyu), of a wave is the number of wavelengths that pass a fixed point in one second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3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Wave Nature of Ligh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 wave can be characterized by its wavelength and frequency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wavelength, l (lambda), is the distance between any two adjacent identical points of a wave. The frequency, n (nyu), of a wave is the number of wavelengths that pass a fixed point in one secon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3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Wave Nature of Ligh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 wave can be characterized by its wavelength and frequency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wavelength, l (lambda), is the distance between any two adjacent identical points of a wave. The frequency, n (nyu), of a wave is the number of wavelengths that pass a fixed point in one secon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of Lecture Outlines, 7–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ave Nature of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wave can be characterized by its wavelength and frequenc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avelength, l (lambda), is the distance between any two adjacent identical points of a wave. The frequency, n (nyu), of a wave is the number of wavelengths that pass a fixed point in one seco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of Lecture Outlines, 7–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anning Tunneling Microsc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of Lecture Outlines, 7–3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anning Tunneling Microscop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 Clou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age Movi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32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mechanics is the branch of physics that mathematically describes the wave properties of submicroscopic particles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e can no longer think of an electron as having a precise orbit in an atom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o describe such an orbit would require knowing its exact position and velocity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n 1927, Werner Heisenberg showed (from quantum mechanics) that it is impossible to know both simultaneously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Presentation of Lecture Outlines, 7–32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Quantum mechanics is the branch of physics that mathematically describes the wave properties of submicroscopic particles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We can no longer think of an electron as having a precise orbit in an atom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To describe such an orbit would require knowing its exact position and velocity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In 1927, Werner Heisenberg showed (from quantum mechanics) that it is impossible to know both simultaneously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32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mechanics is the branch of physics that mathematically describes the wave properties of submicroscopic particles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e can no longer think of an electron as having a precise orbit in an atom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o describe such an orbit would require knowing its exact position and velocity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n 1927, Werner Heisenberg showed (from quantum mechanics) that it is impossible to know both simultaneously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32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mechanics is the branch of physics that mathematically describes the wave properties of submicroscopic particles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e can no longer think of an electron as having a precise orbit in an atom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o describe such an orbit would require knowing its exact position and velocity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n 1927, Werner Heisenberg showed (from quantum mechanics) that it is impossible to know both simultaneously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of Lecture Outlines, 7–3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ntum mechanics is the branch of physics that mathematically describes the wave properties of submicroscopic partic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an no longer think of an electron as having a precise orbit in an ato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describe such an orbit would require knowing its exact position and veloc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1927, Werner Heisenberg showed (from quantum mechanics) that it is impossible to know both simultaneous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33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eisenberg’s uncertainty principle is a relation that states that the product of the uncertainty in position (Dx) and the uncertainty in momentum (mDvx) of a particle can be no larger than h/4p.  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en m is large (for example, a baseball) the uncertainties are small, but for electrons, high uncertainties disallow defining an exact orbit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Presentation of Lecture Outlines, 7–33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Heisenberg’s uncertainty principle is a relation that states that the product of the uncertainty in position (Dx) and the uncertainty in momentum (mDvx) of a particle can be no larger than h/4p.  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When m is large (for example, a baseball) the uncertainties are small, but for electrons, high uncertainties disallow defining an exact orbit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33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eisenberg’s uncertainty principle is a relation that states that the product of the uncertainty in position (Dx) and the uncertainty in momentum (mDvx) of a particle can be no larger than h/4p.  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en m is large (for example, a baseball) the uncertainties are small, but for electrons, high uncertainties disallow defining an exact orbit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33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eisenberg’s uncertainty principle is a relation that states that the product of the uncertainty in position (Dx) and the uncertainty in momentum (mDvx) of a particle can be no larger than h/4p.  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en m is large (for example, a baseball) the uncertainties are small, but for electrons, high uncertainties disallow defining an exact orbit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of Lecture Outlines, 7–3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isenberg’s uncertainty principle is a relation that states that the product of the uncertainty in position (Dx) and the uncertainty in momentum (mDvx) of a particle can be no larger than h/4p.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m is large (for example, a baseball) the uncertainties are small, but for electrons, high uncertainties disallow defining an exact orb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rwin Schrödinger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926   -Nobel Prize in 1933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ound the probability of finding an electron in an atom, like flies to a candle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win Schrödin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26   -Nobel Prize in 193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 the probability of finding an electron in an atom, like flies to a cand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rwin Schrödinger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926   -Nobel Prize in 1933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ound the probability of finding an electron in an atom, like flies to a candle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win Schrödin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26   -Nobel Prize in 193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 the probability of finding an electron in an atom, like flies to a cand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36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lthough we cannot precisely define an electron’s orbit, we can obtain the probability of finding an electron at a given point around the nucleus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rwin Schrodinger defined this probability in a mathematical expression called a wave function, denoted y  (psi). The probability of finding a particle in a region of space is defined by y2.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Presentation of Lecture Outlines, 7–36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Although we cannot precisely define an electron’s orbit, we can obtain the probability of finding an electron at a given point around the nucleus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Erwin Schrodinger defined this probability in a mathematical expression called a wave function, denoted y  (psi). The probability of finding a particle in a region of space is defined by y2.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36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lthough we cannot precisely define an electron’s orbit, we can obtain the probability of finding an electron at a given point around the nucleus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rwin Schrodinger defined this probability in a mathematical expression called a wave function, denoted y  (psi). The probability of finding a particle in a region of space is defined by y2.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36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lthough we cannot precisely define an electron’s orbit, we can obtain the probability of finding an electron at a given point around the nucleus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rwin Schrodinger defined this probability in a mathematical expression called a wave function, denoted y  (psi). The probability of finding a particle in a region of space is defined by y2.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of Lecture Outlines, 7–3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though we cannot precisely define an electron’s orbit, we can obtain the probability of finding an electron at a given point around the nucle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win Schrodinger defined this probability in a mathematical expression called a wave function, denoted y  (psi). The probability of finding a particle in a region of space is defined by y2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Presentation of Lecture Outlines, 7–37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Quantum Numbers and Atomic Orbital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According to quantum mechanics, each electron is described by four quantum numbers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The first three define the wave function for a particular electron. The fourth quantum number refers to the magnetic property of electrons.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Principal quantum number  (n)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Angular momentum quantum number  (l)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Magnetic quantum number  (ml)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Spin quantum number  (ms)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Presentation of Lecture Outlines, 7–37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Quantum Numbers and Atomic Orbitals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According to quantum mechanics, each electron is described by four quantum numbers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The first three define the wave function for a particular electron. The fourth quantum number refers to the magnetic property of electrons.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Principal quantum number  (n)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Angular momentum quantum number  (l)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Magnetic quantum number  (ml)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Spin quantum number  (ms)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Presentation of Lecture Outlines, 7–37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Quantum Numbers and Atomic Orbital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According to quantum mechanics, each electron is described by four quantum numbers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The first three define the wave function for a particular electron. The fourth quantum number refers to the magnetic property of electrons.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Principal quantum number  (n)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Angular momentum quantum number  (l)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Magnetic quantum number  (ml)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Spin quantum number  (ms)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Presentation of Lecture Outlines, 7–37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Quantum Numbers and Atomic Orbital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According to quantum mechanics, each electron is described by four quantum numbers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The first three define the wave function for a particular electron. The fourth quantum number refers to the magnetic property of electrons.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Principal quantum number  (n)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Angular momentum quantum number  (l)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Magnetic quantum number  (ml)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Spin quantum number  (ms)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resentation of Lecture Outlines, 7–3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Quantum Numbers and Atomic Orbit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ccording to quantum mechanics, each electron is described by four quantum numb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he first three define the wave function for a particular electron. The fourth quantum number refers to the magnetic property of electro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rincipal quantum number  (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ngular momentum quantum number  (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agnetic quantum number  (m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pin quantum number  (m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of Lecture Outlines, 7–3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ntum #’s are like an Addres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 you need to know to find out where you liv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e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inciple Quantum # (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gular Quantum # (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tic Quantum # (m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in Quantum # (m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39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principal quantum number(n) represents the “shell number” in which an electron “resides.”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smaller n is, the smaller the orbital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smaller n is, the lower the energy of the electron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Numbers and Atomic Orbital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Presentation of Lecture Outlines, 7–39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The principal quantum number(n) represents the “shell number” in which an electron “resides.”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The smaller n is, the smaller the orbital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The smaller n is, the lower the energy of the electron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Quantum Numbers and Atomic Orbitals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39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principal quantum number(n) represents the “shell number” in which an electron “resides.”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smaller n is, the smaller the orbital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smaller n is, the lower the energy of the electron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Numbers and Atomic Orbital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39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principal quantum number(n) represents the “shell number” in which an electron “resides.”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smaller n is, the smaller the orbital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smaller n is, the lower the energy of the electron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Numbers and Atomic Orbital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of Lecture Outlines, 7–3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incipal quantum number(n) represents the “shell number” in which an electron “resides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maller n is, the smaller the orbit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maller n is, the lower the energy of the electr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ntum Numbers and Atomic Orbit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4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o, given the frequency of light, its wavelength can be calculated, or vice versa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Wave Nature of Ligh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product of the frequency, n (waves/sec) and the wavelength, l (m/wave) would give the speed of the wave in m/s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Presentation of Lecture Outlines, 7–4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So, given the frequency of light, its wavelength can be calculated, or vice versa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The Wave Nature of Light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The product of the frequency, n (waves/sec) and the wavelength, l (m/wave) would give the speed of the wave in m/s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4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o, given the frequency of light, its wavelength can be calculated, or vice versa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Wave Nature of Ligh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product of the frequency, n (waves/sec) and the wavelength, l (m/wave) would give the speed of the wave in m/s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4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o, given the frequency of light, its wavelength can be calculated, or vice versa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Wave Nature of Ligh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product of the frequency, n (waves/sec) and the wavelength, l (m/wave) would give the speed of the wave in m/s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of Lecture Outlines, 7–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given the frequency of light, its wavelength can be calculated, or vice vers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ave Nature of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duct of the frequency, n (waves/sec) and the wavelength, l (m/wave) would give the speed of the wave in m/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40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angular momentum quantum number (l) distinguishes “sub shells” within a given shell that have different shapes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ach main “shell” is subdivided into “sub shells.” Within each shell of quantum number n, there are n sub shells, each with a distinctive shape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l can have any integer value from 0 to (n - 1)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different subshells are denoted by letters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Letter             s     p     d     f     g  …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l                     0     1     2     3    4  …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Numbers and Atomic Orbital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Presentation of Lecture Outlines, 7–40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The angular momentum quantum number (l) distinguishes “sub shells” within a given shell that have different shapes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Each main “shell” is subdivided into “sub shells.” Within each shell of quantum number n, there are n sub shells, each with a distinctive shape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l can have any integer value from 0 to (n - 1)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The different subshells are denoted by letters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Letter             s     p     d     f     g  …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l                     0     1     2     3    4  …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Quantum Numbers and Atomic Orbitals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40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angular momentum quantum number (l) distinguishes “sub shells” within a given shell that have different shapes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ach main “shell” is subdivided into “sub shells.” Within each shell of quantum number n, there are n sub shells, each with a distinctive shape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l can have any integer value from 0 to (n - 1)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different subshells are denoted by letters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Letter             s     p     d     f     g  …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l                     0     1     2     3    4  …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Numbers and Atomic Orbital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40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angular momentum quantum number (l) distinguishes “sub shells” within a given shell that have different shapes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ach main “shell” is subdivided into “sub shells.” Within each shell of quantum number n, there are n sub shells, each with a distinctive shape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l can have any integer value from 0 to (n - 1)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different subshells are denoted by letters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Letter             s     p     d     f     g  …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l                     0     1     2     3    4  …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Numbers and Atomic Orbital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of Lecture Outlines, 7–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ngular momentum quantum number (l) distinguishes “sub shells” within a given shell that have different shap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main “shell” is subdivided into “sub shells.” Within each shell of quantum number n, there are n sub shells, each with a distinctive shap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 can have any integer value from 0 to (n -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ifferent subshells are denoted by lett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tter             s     p     d     f     g 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                     0     1     2     3    4  …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ntum Numbers and Atomic Orbit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41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magnetic quantum number (ml) distinguishes orbitals within a given sub-shell that have different shapes and orientations in space. Each sub shell is subdivided into “orbitals,” each capable of holding a pair of electrons.  ml can have any integer value from -l  to +l.  Each orbital within a given sub shell has the same energy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Numbers and Atomic Orbital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spin quantum number (ms) refers to the two possible spin orientations of the electrons residing within a given orbital. Each orbital can hold only two electrons whose spins must oppose one another.  The possible values of ms are +1/2 and –1/2.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Presentation of Lecture Outlines, 7–41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The magnetic quantum number (ml) distinguishes orbitals within a given sub-shell that have different shapes and orientations in space. Each sub shell is subdivided into “orbitals,” each capable of holding a pair of electrons.  ml can have any integer value from -l  to +l.  Each orbital within a given sub shell has the same energy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Quantum Numbers and Atomic Orbitals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The spin quantum number (ms) refers to the two possible spin orientations of the electrons residing within a given orbital. Each orbital can hold only two electrons whose spins must oppose one another.  The possible values of ms are +1/2 and –1/2.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41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magnetic quantum number (ml) distinguishes orbitals within a given sub-shell that have different shapes and orientations in space. Each sub shell is subdivided into “orbitals,” each capable of holding a pair of electrons.  ml can have any integer value from -l  to +l.  Each orbital within a given sub shell has the same energy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Numbers and Atomic Orbital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spin quantum number (ms) refers to the two possible spin orientations of the electrons residing within a given orbital. Each orbital can hold only two electrons whose spins must oppose one another.  The possible values of ms are +1/2 and –1/2.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41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magnetic quantum number (ml) distinguishes orbitals within a given sub-shell that have different shapes and orientations in space. Each sub shell is subdivided into “orbitals,” each capable of holding a pair of electrons.  ml can have any integer value from -l  to +l.  Each orbital within a given sub shell has the same energy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Numbers and Atomic Orbital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spin quantum number (ms) refers to the two possible spin orientations of the electrons residing within a given orbital. Each orbital can hold only two electrons whose spins must oppose one another.  The possible values of ms are +1/2 and –1/2.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of Lecture Outlines, 7–4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agnetic quantum number (ml) distinguishes orbitals within a given sub-shell that have different shapes and orientations in space. Each sub shell is subdivided into “orbitals,” each capable of holding a pair of electrons.  ml can have any integer value from -l  to +l.  Each orbital within a given sub shell has the same energ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ntum Numbers and Atomic Orbit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pin quantum number (ms) refers to the two possible spin orientations of the electrons residing within a given orbital. Each orbital can hold only two electrons whose spins must oppose one another.  The possible values of ms are +1/2 and –1/2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of Lecture Outlines, 7–4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the different shap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p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p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p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p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p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p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-sha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-sha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-sha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-sha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-sha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-sha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-sha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of Lecture Outlines, 7–4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anning Tunneling Microscop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 Clou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age Movi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of Lecture Outlines, 7–4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6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of Lecture Outlines, 7–4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7.23: Orbital energies of the hydrogen atom.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Click here for non-hydrogen atom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of Lecture Outlines, 7–4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7.24: Cross-sectional representations of the probability distributions of S  orbita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of Lecture Outlines, 7–4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7.25: Cutaway diagrams showing the spherical shape of S orbital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of Lecture Outlines, 7–4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7.27: The five 3d orbita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of Lecture Outlines, 7–4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7.26: The 2p orbita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5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f c = nl, then rearranging, we obtain l = c/n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Wave Nature of Ligh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at is the wavelength of yellow light with a frequency of 5.09 x 1014 s-1?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Note: s-1, commonly referred to as Hertz (Hz) is defined as “cycles or waves per second”.)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Presentation of Lecture Outlines, 7–5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If c = nl, then rearranging, we obtain l = c/n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The Wave Nature of Light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What is the wavelength of yellow light with a frequency of 5.09 x 1014 s-1?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(Note: s-1, commonly referred to as Hertz (Hz) is defined as “cycles or waves per second”.)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5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f c = nl, then rearranging, we obtain l = c/n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Wave Nature of Ligh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at is the wavelength of yellow light with a frequency of 5.09 x 1014 s-1?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Note: s-1, commonly referred to as Hertz (Hz) is defined as “cycles or waves per second”.)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5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f c = nl, then rearranging, we obtain l = c/n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Wave Nature of Ligh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at is the wavelength of yellow light with a frequency of 5.09 x 1014 s-1?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Note: s-1, commonly referred to as Hertz (Hz) is defined as “cycles or waves per second”.)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of Lecture Outlines, 7–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c = nl, then rearranging, we obtain l = c/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ave Nature of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wavelength of yellow light with a frequency of 5.09 x 1014 s-1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Note: s-1, commonly referred to as Hertz (Hz) is defined as “cycles or waves per second”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of Lecture Outlines, 7–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7.5: The electromagnetic spectrum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7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f c = nl, then rearranging, we obtain n = c/l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at is the frequency of violet light with a wavelength of 408 nm?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Wave Nature of Ligh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Presentation of Lecture Outlines, 7–7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If c = nl, then rearranging, we obtain n = c/l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What is the frequency of violet light with a wavelength of 408 nm?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The Wave Nature of Light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7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f c = nl, then rearranging, we obtain n = c/l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at is the frequency of violet light with a wavelength of 408 nm?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Wave Nature of Ligh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7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f c = nl, then rearranging, we obtain n = c/l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at is the frequency of violet light with a wavelength of 408 nm?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Wave Nature of Ligh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of Lecture Outlines, 7–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c = nl, then rearranging, we obtain n = c/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frequency of violet light with a wavelength of 408 nm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ave Nature of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eeing the Light-A New Model of the Atom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axwell Planck-Black Body Radiation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ound that blackbody radiation was quantiz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900—Nobel Prize in 1918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ing the Light-A New Model of the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xwell Planck-Black Body Rad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 that blackbody radiation was quantiz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00—Nobel Prize in 19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at is Quantized?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nergy can have only certain values (quantities), not in between, instead of a continuum of values.  This is like energy existing on stairs of a staircase instead of at any energy on a ramp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Quantiz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can have only certain values (quantities), not in between, instead of a continuum of values.  This is like energy existing on stairs of a staircase instead of at any energy on a ram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D604DB-E389-46B0-AE54-9BFA4DC3D1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8840" y="997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480" y="1765080"/>
            <a:ext cx="776952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09480" y="3913560"/>
            <a:ext cx="776952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4373EC-BD3F-4579-80C1-AB7E9507BA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48840" y="997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09480" y="1765080"/>
            <a:ext cx="379152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91080" y="1765080"/>
            <a:ext cx="379152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09480" y="3913560"/>
            <a:ext cx="379152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591080" y="3913560"/>
            <a:ext cx="379152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9EB022-3B69-4676-AE76-A6775D458B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48840" y="997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765080"/>
            <a:ext cx="25016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6760" y="1765080"/>
            <a:ext cx="25016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863680" y="1765080"/>
            <a:ext cx="25016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09480" y="3913560"/>
            <a:ext cx="25016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6760" y="3913560"/>
            <a:ext cx="25016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863680" y="3913560"/>
            <a:ext cx="25016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2DBC08-E1D6-46EE-A889-C880895475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48840" y="997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09480" y="1765080"/>
            <a:ext cx="776952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8840" y="997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09480" y="1765080"/>
            <a:ext cx="776952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48840" y="997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09480" y="1765080"/>
            <a:ext cx="379152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91080" y="1765080"/>
            <a:ext cx="379152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48840" y="997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348840" y="9972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48840" y="997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765080"/>
            <a:ext cx="379152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91080" y="1765080"/>
            <a:ext cx="379152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09480" y="3913560"/>
            <a:ext cx="379152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48840" y="997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09480" y="1765080"/>
            <a:ext cx="776952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7AAE95-3CCE-465F-B772-2ECA81A1B7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48840" y="997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765080"/>
            <a:ext cx="379152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91080" y="1765080"/>
            <a:ext cx="379152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91080" y="3913560"/>
            <a:ext cx="379152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48840" y="997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765080"/>
            <a:ext cx="379152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91080" y="1765080"/>
            <a:ext cx="379152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9480" y="3913560"/>
            <a:ext cx="776952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48840" y="997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765080"/>
            <a:ext cx="776952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09480" y="3913560"/>
            <a:ext cx="776952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48840" y="997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765080"/>
            <a:ext cx="379152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1080" y="1765080"/>
            <a:ext cx="379152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09480" y="3913560"/>
            <a:ext cx="379152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591080" y="3913560"/>
            <a:ext cx="379152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48840" y="997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480" y="1765080"/>
            <a:ext cx="25016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6760" y="1765080"/>
            <a:ext cx="25016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863680" y="1765080"/>
            <a:ext cx="25016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09480" y="3913560"/>
            <a:ext cx="25016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6760" y="3913560"/>
            <a:ext cx="25016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863680" y="3913560"/>
            <a:ext cx="25016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48840" y="997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09480" y="1765080"/>
            <a:ext cx="776952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D717F6-4F56-42A6-9678-04389BC777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48840" y="997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9480" y="1765080"/>
            <a:ext cx="379152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591080" y="1765080"/>
            <a:ext cx="379152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064850-BEFC-4695-B5F5-997D540269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48840" y="997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93DA99-555C-460D-8F42-EC55238EA5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48840" y="9972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6BAF15-8257-426C-87B3-09171BA878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48840" y="997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765080"/>
            <a:ext cx="379152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591080" y="1765080"/>
            <a:ext cx="379152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09480" y="3913560"/>
            <a:ext cx="379152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78BA4B-525C-4CFA-AB81-F2F4DA1387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48840" y="997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9480" y="1765080"/>
            <a:ext cx="379152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91080" y="1765080"/>
            <a:ext cx="379152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91080" y="3913560"/>
            <a:ext cx="379152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3B4DEF-DEE9-4437-828D-01281C61D2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48840" y="997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9480" y="1765080"/>
            <a:ext cx="379152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91080" y="1765080"/>
            <a:ext cx="379152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09480" y="3913560"/>
            <a:ext cx="776952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2441BA-D079-4B37-BA2B-E17E096CF0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8840" y="997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1ab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765080"/>
            <a:ext cx="776952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bd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bb4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bb4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76bb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bb4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76bb4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bb4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76bb4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bb4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bb4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bb4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152280" y="6681600"/>
            <a:ext cx="4267440" cy="1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e1ab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4800240" y="6552720"/>
            <a:ext cx="3962520" cy="2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Presentation of Lecture Outlines,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7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–</a:t>
            </a:r>
            <a:fld id="{5F7BF21B-CA53-485C-B79F-73D72587D1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48840" y="997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1ab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609480" y="1765080"/>
            <a:ext cx="776952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bd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bb4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bb4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76bb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bb4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76bb4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bb4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76bb4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bb4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bb4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bb4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../../../../Chemistry/Chemistry%201A/MyPPT/electromagneticwave.mov" TargetMode="External"/><Relationship Id="rId2" Type="http://schemas.openxmlformats.org/officeDocument/2006/relationships/image" Target="../media/image4.gif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gif"/><Relationship Id="rId3" Type="http://schemas.openxmlformats.org/officeDocument/2006/relationships/image" Target="../media/image39.png"/><Relationship Id="rId4" Type="http://schemas.openxmlformats.org/officeDocument/2006/relationships/image" Target="../media/image40.png"/><Relationship Id="rId5" Type="http://schemas.openxmlformats.org/officeDocument/2006/relationships/image" Target="../media/image41.png"/><Relationship Id="rId6" Type="http://schemas.openxmlformats.org/officeDocument/2006/relationships/image" Target="../media/image41.png"/><Relationship Id="rId7" Type="http://schemas.openxmlformats.org/officeDocument/2006/relationships/image" Target="../media/image41.png"/><Relationship Id="rId8" Type="http://schemas.openxmlformats.org/officeDocument/2006/relationships/image" Target="../media/image41.png"/><Relationship Id="rId9" Type="http://schemas.openxmlformats.org/officeDocument/2006/relationships/image" Target="../media/image41.png"/><Relationship Id="rId10" Type="http://schemas.openxmlformats.org/officeDocument/2006/relationships/image" Target="../media/image41.png"/><Relationship Id="rId11" Type="http://schemas.openxmlformats.org/officeDocument/2006/relationships/image" Target="../media/image41.png"/><Relationship Id="rId12" Type="http://schemas.openxmlformats.org/officeDocument/2006/relationships/image" Target="../media/image41.png"/><Relationship Id="rId13" Type="http://schemas.openxmlformats.org/officeDocument/2006/relationships/image" Target="../media/image41.png"/><Relationship Id="rId14" Type="http://schemas.openxmlformats.org/officeDocument/2006/relationships/image" Target="../media/image41.png"/><Relationship Id="rId15" Type="http://schemas.openxmlformats.org/officeDocument/2006/relationships/image" Target="../media/image41.png"/><Relationship Id="rId16" Type="http://schemas.openxmlformats.org/officeDocument/2006/relationships/image" Target="../media/image41.png"/><Relationship Id="rId17" Type="http://schemas.openxmlformats.org/officeDocument/2006/relationships/image" Target="../media/image41.png"/><Relationship Id="rId18" Type="http://schemas.openxmlformats.org/officeDocument/2006/relationships/image" Target="../media/image41.png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gif"/><Relationship Id="rId3" Type="http://schemas.openxmlformats.org/officeDocument/2006/relationships/image" Target="../media/image39.png"/><Relationship Id="rId4" Type="http://schemas.openxmlformats.org/officeDocument/2006/relationships/image" Target="../media/image40.png"/><Relationship Id="rId5" Type="http://schemas.openxmlformats.org/officeDocument/2006/relationships/image" Target="../media/image41.png"/><Relationship Id="rId6" Type="http://schemas.openxmlformats.org/officeDocument/2006/relationships/image" Target="../media/image41.png"/><Relationship Id="rId7" Type="http://schemas.openxmlformats.org/officeDocument/2006/relationships/image" Target="../media/image41.png"/><Relationship Id="rId8" Type="http://schemas.openxmlformats.org/officeDocument/2006/relationships/image" Target="../media/image41.png"/><Relationship Id="rId9" Type="http://schemas.openxmlformats.org/officeDocument/2006/relationships/image" Target="../media/image41.png"/><Relationship Id="rId10" Type="http://schemas.openxmlformats.org/officeDocument/2006/relationships/image" Target="../media/image41.png"/><Relationship Id="rId11" Type="http://schemas.openxmlformats.org/officeDocument/2006/relationships/image" Target="../media/image41.png"/><Relationship Id="rId12" Type="http://schemas.openxmlformats.org/officeDocument/2006/relationships/image" Target="../media/image41.png"/><Relationship Id="rId13" Type="http://schemas.openxmlformats.org/officeDocument/2006/relationships/image" Target="../media/image41.png"/><Relationship Id="rId14" Type="http://schemas.openxmlformats.org/officeDocument/2006/relationships/image" Target="../media/image41.png"/><Relationship Id="rId15" Type="http://schemas.openxmlformats.org/officeDocument/2006/relationships/image" Target="../media/image41.png"/><Relationship Id="rId16" Type="http://schemas.openxmlformats.org/officeDocument/2006/relationships/image" Target="../media/image41.png"/><Relationship Id="rId17" Type="http://schemas.openxmlformats.org/officeDocument/2006/relationships/image" Target="../media/image41.png"/><Relationship Id="rId18" Type="http://schemas.openxmlformats.org/officeDocument/2006/relationships/image" Target="../media/image41.png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image" Target="../media/image44.wmf"/><Relationship Id="rId3" Type="http://schemas.openxmlformats.org/officeDocument/2006/relationships/image" Target="../media/image45.wmf"/><Relationship Id="rId4" Type="http://schemas.openxmlformats.org/officeDocument/2006/relationships/image" Target="../media/image46.wmf"/><Relationship Id="rId5" Type="http://schemas.openxmlformats.org/officeDocument/2006/relationships/image" Target="../media/image47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image" Target="../media/image14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gif"/><Relationship Id="rId3" Type="http://schemas.openxmlformats.org/officeDocument/2006/relationships/hyperlink" Target="http://famousphysicists.mye-pix.com/partner.asp?count=1&amp;title0=Planck&amp;lo_res_url0=http://www.egtnet.net/thumbc/THUMB_150W_FPHY_A_PLA1_6000X9000_R01.JPG&amp;hi_res_url0=http://www.egtnet.net/ez/p/FPHY_A_PLA1_6000X9000_R01.JPG&amp;albumid0=0&amp;width0=6000&amp;height0=9000&amp;ReturnPage=http://www.mathematicianspictures.com/famousphysicists/index.htm" TargetMode="External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33760" y="1523880"/>
            <a:ext cx="3276360" cy="10670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Quantum Theory of the Atom</a:t>
            </a:r>
            <a:endParaRPr b="1" lang="en-US" sz="30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82" name="Text Box 1029"/>
          <p:cNvSpPr/>
          <p:nvPr/>
        </p:nvSpPr>
        <p:spPr>
          <a:xfrm>
            <a:off x="5257800" y="2590920"/>
            <a:ext cx="3733920" cy="16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7.1 The Wave Nature of Light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7.2 Quantum Effects and Photon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7.3 The Bohr Theory of the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ydrogen Atom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6bb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Місце для нижнього колонтитула 2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2720" y="593280"/>
            <a:ext cx="2133720" cy="3429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e1ab"/>
                </a:solidFill>
                <a:latin typeface="Arial"/>
              </a:rPr>
              <a:t>Figure 7.2: Emission (line) spectra of some elements. </a:t>
            </a:r>
            <a:endParaRPr b="1" lang="en-US" sz="2800" spc="-1" strike="noStrike">
              <a:solidFill>
                <a:srgbClr val="ffe1ab"/>
              </a:solidFill>
              <a:latin typeface="Arial"/>
            </a:endParaRPr>
          </a:p>
        </p:txBody>
      </p:sp>
      <p:pic>
        <p:nvPicPr>
          <p:cNvPr id="156" name="Picture 3" descr="314903_p_07_02"/>
          <p:cNvPicPr/>
          <p:nvPr/>
        </p:nvPicPr>
        <p:blipFill>
          <a:blip r:embed="rId1"/>
          <a:stretch/>
        </p:blipFill>
        <p:spPr>
          <a:xfrm>
            <a:off x="2286000" y="0"/>
            <a:ext cx="6629400" cy="66294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Місце для нижнього колонтитула 3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48840" y="101160"/>
            <a:ext cx="848988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1ab"/>
                </a:solidFill>
                <a:latin typeface="Arial"/>
              </a:rPr>
              <a:t>Quantum Effects and Photons</a:t>
            </a: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pic>
        <p:nvPicPr>
          <p:cNvPr id="159" name="Picture 13" descr=""/>
          <p:cNvPicPr/>
          <p:nvPr/>
        </p:nvPicPr>
        <p:blipFill>
          <a:blip r:embed="rId1"/>
          <a:stretch/>
        </p:blipFill>
        <p:spPr>
          <a:xfrm>
            <a:off x="6553080" y="2438280"/>
            <a:ext cx="1117800" cy="1676520"/>
          </a:xfrm>
          <a:prstGeom prst="rect">
            <a:avLst/>
          </a:prstGeom>
          <a:ln w="0">
            <a:noFill/>
          </a:ln>
        </p:spPr>
      </p:pic>
      <p:sp>
        <p:nvSpPr>
          <p:cNvPr id="160" name="Rectangle 14"/>
          <p:cNvSpPr/>
          <p:nvPr/>
        </p:nvSpPr>
        <p:spPr>
          <a:xfrm>
            <a:off x="457200" y="1905120"/>
            <a:ext cx="99072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9840" indent="-33984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E=</a:t>
            </a:r>
            <a:br>
              <a:rPr sz="4000"/>
            </a:b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Line 15"/>
          <p:cNvSpPr/>
          <p:nvPr/>
        </p:nvSpPr>
        <p:spPr>
          <a:xfrm>
            <a:off x="1523880" y="2209680"/>
            <a:ext cx="60984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16"/>
          <p:cNvSpPr/>
          <p:nvPr/>
        </p:nvSpPr>
        <p:spPr>
          <a:xfrm>
            <a:off x="1600200" y="2057400"/>
            <a:ext cx="457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  <a:cs typeface="Arial"/>
              </a:rPr>
              <a:t>ג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17"/>
          <p:cNvSpPr/>
          <p:nvPr/>
        </p:nvSpPr>
        <p:spPr>
          <a:xfrm>
            <a:off x="1371600" y="1523880"/>
            <a:ext cx="76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Arial"/>
              </a:rPr>
              <a:t>hc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18"/>
          <p:cNvSpPr/>
          <p:nvPr/>
        </p:nvSpPr>
        <p:spPr>
          <a:xfrm>
            <a:off x="2514600" y="1447920"/>
            <a:ext cx="6400800" cy="15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h=Planck’s constant 6.626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34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Js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c=speed of light 3.00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8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m/s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  <a:cs typeface="Arial"/>
              </a:rPr>
              <a:t>ג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=wavelength of ligh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Picture 19" descr=""/>
          <p:cNvPicPr/>
          <p:nvPr/>
        </p:nvPicPr>
        <p:blipFill>
          <a:blip r:embed="rId2"/>
          <a:stretch/>
        </p:blipFill>
        <p:spPr>
          <a:xfrm>
            <a:off x="0" y="2933640"/>
            <a:ext cx="4952880" cy="371628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20"/>
          <p:cNvSpPr/>
          <p:nvPr/>
        </p:nvSpPr>
        <p:spPr>
          <a:xfrm>
            <a:off x="5105520" y="4191120"/>
            <a:ext cx="373356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What is the energy of red light?</a:t>
            </a:r>
            <a:br>
              <a:rPr sz="1800"/>
            </a:b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    (6.626x10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3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Js)(3.00x10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8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m/s)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E=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  (700x10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9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m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E= 2.84 x10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19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Joules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Line 21"/>
          <p:cNvSpPr/>
          <p:nvPr/>
        </p:nvSpPr>
        <p:spPr>
          <a:xfrm>
            <a:off x="5638680" y="5181480"/>
            <a:ext cx="28958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Місце для нижнього колонтитула 3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0" y="167400"/>
            <a:ext cx="76960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ffe1ab"/>
                </a:solidFill>
                <a:latin typeface="Arial"/>
              </a:rPr>
              <a:t>Einstein’s Photoelectric Effect                       </a:t>
            </a:r>
            <a:r>
              <a:rPr b="1" lang="en-GB" sz="1800" spc="-1" strike="noStrike">
                <a:solidFill>
                  <a:srgbClr val="ffe1ab"/>
                </a:solidFill>
                <a:latin typeface="Arial"/>
              </a:rPr>
              <a:t>(1905--Nobel Prize in 1921)</a:t>
            </a:r>
            <a:endParaRPr b="1" lang="en-US" sz="18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7391520" cy="13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376bb4"/>
                </a:solidFill>
                <a:latin typeface="Arial"/>
              </a:rPr>
              <a:t>Only light from a certain color (energy) could eject electrons.  Intensity of the light had no effect.  Energy is absorbed only at quantized energies!               </a:t>
            </a:r>
            <a:endParaRPr b="0" lang="en-US" sz="2000" spc="-1" strike="noStrike">
              <a:solidFill>
                <a:srgbClr val="376bb4"/>
              </a:solidFill>
              <a:latin typeface="Arial"/>
            </a:endParaRPr>
          </a:p>
          <a:p>
            <a:pPr marL="339840" indent="0"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376bb4"/>
                </a:solidFill>
                <a:latin typeface="Arial"/>
              </a:rPr>
              <a:t>(Animation of Photoelectron Effect)     (Adsorption and Emission Spectra)</a:t>
            </a:r>
            <a:endParaRPr b="0" lang="en-US" sz="1600" spc="-1" strike="noStrike">
              <a:solidFill>
                <a:srgbClr val="376bb4"/>
              </a:solidFill>
              <a:latin typeface="Arial"/>
            </a:endParaRPr>
          </a:p>
        </p:txBody>
      </p:sp>
      <p:pic>
        <p:nvPicPr>
          <p:cNvPr id="171" name="Picture 4" descr=""/>
          <p:cNvPicPr/>
          <p:nvPr/>
        </p:nvPicPr>
        <p:blipFill>
          <a:blip r:embed="rId1"/>
          <a:stretch/>
        </p:blipFill>
        <p:spPr>
          <a:xfrm>
            <a:off x="7620120" y="762120"/>
            <a:ext cx="1253880" cy="17524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"/>
          <p:cNvPicPr/>
          <p:nvPr/>
        </p:nvPicPr>
        <p:blipFill>
          <a:blip r:embed="rId2"/>
          <a:stretch/>
        </p:blipFill>
        <p:spPr>
          <a:xfrm>
            <a:off x="228600" y="3200400"/>
            <a:ext cx="4495680" cy="31417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6" descr=""/>
          <p:cNvPicPr/>
          <p:nvPr/>
        </p:nvPicPr>
        <p:blipFill>
          <a:blip r:embed="rId3"/>
          <a:stretch/>
        </p:blipFill>
        <p:spPr>
          <a:xfrm>
            <a:off x="4800600" y="3200400"/>
            <a:ext cx="4038480" cy="3147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Місце для нижнього колонтитула 3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2"/>
          <p:cNvSpPr/>
          <p:nvPr/>
        </p:nvSpPr>
        <p:spPr>
          <a:xfrm>
            <a:off x="892080" y="273060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Einstein’s assumption that an electron is ejected when struck by a </a:t>
            </a:r>
            <a:r>
              <a:rPr b="0" lang="en-US" sz="2400" spc="-1" strike="noStrike" u="sng">
                <a:solidFill>
                  <a:srgbClr val="376bb4"/>
                </a:solidFill>
                <a:uFillTx/>
                <a:latin typeface="Arial"/>
              </a:rPr>
              <a:t>single photon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 implies that it behaves like a</a:t>
            </a:r>
            <a:r>
              <a:rPr b="1" lang="en-US" sz="2400" spc="-1" strike="noStrike">
                <a:solidFill>
                  <a:srgbClr val="376bb4"/>
                </a:solidFill>
                <a:latin typeface="Arial"/>
              </a:rPr>
              <a:t> particl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48840" y="997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1ab"/>
                </a:solidFill>
                <a:latin typeface="Arial"/>
              </a:rPr>
              <a:t>Quantum Effects and Photons</a:t>
            </a: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2057400"/>
            <a:ext cx="776952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bd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76bb4"/>
                </a:solidFill>
                <a:latin typeface="Arial"/>
              </a:rPr>
              <a:t>Photoelectric Effect</a:t>
            </a: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178" name="Rectangle 5"/>
          <p:cNvSpPr/>
          <p:nvPr/>
        </p:nvSpPr>
        <p:spPr>
          <a:xfrm>
            <a:off x="892080" y="388944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3000"/>
          </a:bodyPr>
          <a:p>
            <a:pPr lvl="1" marL="616680" indent="-23724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When the photon hits the metal, its energy,</a:t>
            </a:r>
            <a:r>
              <a:rPr b="1" lang="en-US" sz="2400" spc="-1" strike="noStrike">
                <a:solidFill>
                  <a:srgbClr val="376bb4"/>
                </a:solidFill>
                <a:latin typeface="Times New Roman"/>
              </a:rPr>
              <a:t> h</a:t>
            </a:r>
            <a:r>
              <a:rPr b="1" lang="en-US" sz="2400" spc="-1" strike="noStrike">
                <a:solidFill>
                  <a:srgbClr val="376bb4"/>
                </a:solidFill>
                <a:latin typeface="Symbol"/>
                <a:ea typeface="Symbol"/>
              </a:rPr>
              <a:t></a:t>
            </a:r>
            <a:r>
              <a:rPr b="1" lang="en-US" sz="2400" spc="-1" strike="noStrike">
                <a:solidFill>
                  <a:srgbClr val="376bb4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is taken up by the electron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The photon ceases to exist as a particle; it is said to be “absorbed.”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Місце для нижнього колонтитула 3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Rectangle 2"/>
          <p:cNvSpPr/>
          <p:nvPr/>
        </p:nvSpPr>
        <p:spPr>
          <a:xfrm>
            <a:off x="457200" y="228600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The “wave” and “particle” pictures of light should be regarded as complementary views of the same physical entity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48840" y="997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1ab"/>
                </a:solidFill>
                <a:latin typeface="Arial"/>
              </a:rPr>
              <a:t>Quantum Effects and Photons</a:t>
            </a: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09480" y="1765080"/>
            <a:ext cx="7769520" cy="411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bd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76bb4"/>
                </a:solidFill>
                <a:latin typeface="Arial"/>
              </a:rPr>
              <a:t>Photoelectric Effect</a:t>
            </a: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183" name="Rectangle 5"/>
          <p:cNvSpPr/>
          <p:nvPr/>
        </p:nvSpPr>
        <p:spPr>
          <a:xfrm>
            <a:off x="457200" y="365760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3000"/>
          </a:bodyPr>
          <a:p>
            <a:pPr lvl="1" marL="616680" indent="-23724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This is called the</a:t>
            </a:r>
            <a:r>
              <a:rPr b="1" lang="en-US" sz="2400" spc="-1" strike="noStrike">
                <a:solidFill>
                  <a:srgbClr val="376bb4"/>
                </a:solidFill>
                <a:latin typeface="Arial"/>
              </a:rPr>
              <a:t> wave-particle duality 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of light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The equation</a:t>
            </a:r>
            <a:r>
              <a:rPr b="0" lang="en-US" sz="2400" spc="-1" strike="noStrike">
                <a:solidFill>
                  <a:srgbClr val="376bb4"/>
                </a:solidFill>
                <a:latin typeface="Times New Roman"/>
              </a:rPr>
              <a:t>  E = h</a:t>
            </a:r>
            <a:r>
              <a:rPr b="0" lang="en-US" sz="2400" spc="-1" strike="noStrike">
                <a:solidFill>
                  <a:srgbClr val="376bb4"/>
                </a:solidFill>
                <a:latin typeface="Symbol"/>
                <a:ea typeface="Symbol"/>
              </a:rPr>
              <a:t></a:t>
            </a:r>
            <a:r>
              <a:rPr b="0" lang="en-US" sz="2400" spc="-1" strike="noStrike">
                <a:solidFill>
                  <a:srgbClr val="376bb4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displays this duality;</a:t>
            </a:r>
            <a:r>
              <a:rPr b="0" lang="en-US" sz="2400" spc="-1" strike="noStrike">
                <a:solidFill>
                  <a:srgbClr val="376bb4"/>
                </a:solidFill>
                <a:latin typeface="Times New Roman"/>
              </a:rPr>
              <a:t> E 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is the energy of the</a:t>
            </a:r>
            <a:r>
              <a:rPr b="1" lang="en-US" sz="2400" spc="-1" strike="noStrike">
                <a:solidFill>
                  <a:srgbClr val="376bb4"/>
                </a:solidFill>
                <a:latin typeface="Arial"/>
              </a:rPr>
              <a:t> “particle” 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photon, and</a:t>
            </a:r>
            <a:r>
              <a:rPr b="0" lang="en-US" sz="2400" spc="-1" strike="noStrike">
                <a:solidFill>
                  <a:srgbClr val="376bb4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76bb4"/>
                </a:solidFill>
                <a:latin typeface="Symbol"/>
                <a:ea typeface="Symbol"/>
              </a:rPr>
              <a:t></a:t>
            </a:r>
            <a:r>
              <a:rPr b="0" lang="en-US" sz="2400" spc="-1" strike="noStrike">
                <a:solidFill>
                  <a:srgbClr val="376bb4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is the frequency of the associated</a:t>
            </a:r>
            <a:r>
              <a:rPr b="1" lang="en-US" sz="2400" spc="-1" strike="noStrike">
                <a:solidFill>
                  <a:srgbClr val="376bb4"/>
                </a:solidFill>
                <a:latin typeface="Arial"/>
              </a:rPr>
              <a:t> “wave.”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Місце для нижнього колонтитула 3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Rectangle 1026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102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Rectangle 1030"/>
          <p:cNvSpPr/>
          <p:nvPr/>
        </p:nvSpPr>
        <p:spPr>
          <a:xfrm>
            <a:off x="785880" y="4260960"/>
            <a:ext cx="6992640" cy="161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bb4"/>
                </a:solidFill>
                <a:latin typeface="Arial"/>
              </a:rPr>
              <a:t>(6.626 x 10</a:t>
            </a:r>
            <a:r>
              <a:rPr b="0" lang="en-US" sz="3200" spc="-1" strike="noStrike" baseline="30000">
                <a:solidFill>
                  <a:srgbClr val="376bb4"/>
                </a:solidFill>
                <a:latin typeface="Arial"/>
              </a:rPr>
              <a:t>-34</a:t>
            </a:r>
            <a:r>
              <a:rPr b="0" lang="en-US" sz="3200" spc="-1" strike="noStrike">
                <a:solidFill>
                  <a:srgbClr val="376bb4"/>
                </a:solidFill>
                <a:latin typeface="Arial"/>
              </a:rPr>
              <a:t> J</a:t>
            </a:r>
            <a:r>
              <a:rPr b="0" lang="en-US" sz="3200" spc="-1" strike="noStrike" baseline="30000">
                <a:solidFill>
                  <a:srgbClr val="376bb4"/>
                </a:solidFill>
                <a:latin typeface="Arial"/>
              </a:rPr>
              <a:t>.</a:t>
            </a:r>
            <a:r>
              <a:rPr b="0" lang="en-US" sz="3200" spc="-1" strike="noStrike">
                <a:solidFill>
                  <a:srgbClr val="376bb4"/>
                </a:solidFill>
                <a:latin typeface="Arial"/>
              </a:rPr>
              <a:t>s) x (1.255 x 10</a:t>
            </a:r>
            <a:r>
              <a:rPr b="0" lang="en-US" sz="3200" spc="-1" strike="noStrike" baseline="30000">
                <a:solidFill>
                  <a:srgbClr val="376bb4"/>
                </a:solidFill>
                <a:latin typeface="Arial"/>
              </a:rPr>
              <a:t>6</a:t>
            </a:r>
            <a:r>
              <a:rPr b="0" lang="en-US" sz="3200" spc="-1" strike="noStrike">
                <a:solidFill>
                  <a:srgbClr val="376bb4"/>
                </a:solidFill>
                <a:latin typeface="Arial"/>
              </a:rPr>
              <a:t> s</a:t>
            </a:r>
            <a:r>
              <a:rPr b="0" lang="en-US" sz="3200" spc="-1" strike="noStrike" baseline="30000">
                <a:solidFill>
                  <a:srgbClr val="376bb4"/>
                </a:solidFill>
                <a:latin typeface="Arial"/>
              </a:rPr>
              <a:t>-1</a:t>
            </a:r>
            <a:r>
              <a:rPr b="0" lang="en-US" sz="3200" spc="-1" strike="noStrike">
                <a:solidFill>
                  <a:srgbClr val="376bb4"/>
                </a:solidFill>
                <a:latin typeface="Arial"/>
              </a:rPr>
              <a:t>)  =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bb4"/>
                </a:solidFill>
                <a:latin typeface="Arial"/>
              </a:rPr>
              <a:t>8.3156 x 10</a:t>
            </a:r>
            <a:r>
              <a:rPr b="0" lang="en-US" sz="3200" spc="-1" strike="noStrike" baseline="30000">
                <a:solidFill>
                  <a:srgbClr val="376bb4"/>
                </a:solidFill>
                <a:latin typeface="Arial"/>
              </a:rPr>
              <a:t>-28</a:t>
            </a:r>
            <a:r>
              <a:rPr b="0" lang="en-US" sz="3200" spc="-1" strike="noStrike">
                <a:solidFill>
                  <a:srgbClr val="376bb4"/>
                </a:solidFill>
                <a:latin typeface="Arial"/>
              </a:rPr>
              <a:t>  =  8.316 x 10</a:t>
            </a:r>
            <a:r>
              <a:rPr b="0" lang="en-US" sz="3200" spc="-1" strike="noStrike" baseline="30000">
                <a:solidFill>
                  <a:srgbClr val="376bb4"/>
                </a:solidFill>
                <a:latin typeface="Arial"/>
              </a:rPr>
              <a:t>-28</a:t>
            </a:r>
            <a:r>
              <a:rPr b="0" lang="en-US" sz="3200" spc="-1" strike="noStrike">
                <a:solidFill>
                  <a:srgbClr val="376bb4"/>
                </a:solidFill>
                <a:latin typeface="Arial"/>
              </a:rPr>
              <a:t> J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ectangle 1033"/>
          <p:cNvSpPr/>
          <p:nvPr/>
        </p:nvSpPr>
        <p:spPr>
          <a:xfrm>
            <a:off x="1042920" y="3498840"/>
            <a:ext cx="6802920" cy="10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76bb4"/>
                </a:solidFill>
                <a:latin typeface="Arial"/>
              </a:rPr>
              <a:t>Solve for</a:t>
            </a:r>
            <a:r>
              <a:rPr b="1" lang="en-US" sz="3200" spc="-1" strike="noStrike">
                <a:solidFill>
                  <a:srgbClr val="376bb4"/>
                </a:solidFill>
                <a:latin typeface="Times New Roman"/>
              </a:rPr>
              <a:t> E, </a:t>
            </a:r>
            <a:r>
              <a:rPr b="1" lang="en-US" sz="3200" spc="-1" strike="noStrike">
                <a:solidFill>
                  <a:srgbClr val="376bb4"/>
                </a:solidFill>
                <a:latin typeface="Arial"/>
              </a:rPr>
              <a:t>using </a:t>
            </a:r>
            <a:r>
              <a:rPr b="1" lang="en-US" sz="3200" spc="-1" strike="noStrike">
                <a:solidFill>
                  <a:srgbClr val="376bb4"/>
                </a:solidFill>
                <a:latin typeface="Times New Roman"/>
              </a:rPr>
              <a:t>E = h</a:t>
            </a:r>
            <a:r>
              <a:rPr b="1" lang="en-US" sz="3200" spc="-1" strike="noStrike">
                <a:solidFill>
                  <a:srgbClr val="376bb4"/>
                </a:solidFill>
                <a:latin typeface="Symbol"/>
                <a:ea typeface="Symbol"/>
              </a:rPr>
              <a:t></a:t>
            </a:r>
            <a:r>
              <a:rPr b="1" lang="en-US" sz="3200" spc="-1" strike="noStrike">
                <a:solidFill>
                  <a:srgbClr val="376bb4"/>
                </a:solidFill>
                <a:latin typeface="Arial"/>
              </a:rPr>
              <a:t>, and four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76bb4"/>
                </a:solidFill>
                <a:latin typeface="Arial"/>
              </a:rPr>
              <a:t>significant figures for</a:t>
            </a:r>
            <a:r>
              <a:rPr b="1" lang="en-US" sz="3200" spc="-1" strike="noStrike">
                <a:solidFill>
                  <a:srgbClr val="376bb4"/>
                </a:solidFill>
                <a:latin typeface="Times New Roman"/>
              </a:rPr>
              <a:t> h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609480" y="1765080"/>
            <a:ext cx="7769520" cy="411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bd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bb4"/>
                </a:solidFill>
                <a:latin typeface="Arial"/>
              </a:rPr>
              <a:t>What is the energy of a photon corresponding to radio waves of frequency 1.255 x 10 </a:t>
            </a:r>
            <a:r>
              <a:rPr b="0" lang="en-US" sz="3200" spc="-1" strike="noStrike" baseline="30000">
                <a:solidFill>
                  <a:srgbClr val="376bb4"/>
                </a:solidFill>
                <a:latin typeface="Arial"/>
              </a:rPr>
              <a:t>6</a:t>
            </a:r>
            <a:r>
              <a:rPr b="0" lang="en-US" sz="3200" spc="-1" strike="noStrike">
                <a:solidFill>
                  <a:srgbClr val="376bb4"/>
                </a:solidFill>
                <a:latin typeface="Arial"/>
              </a:rPr>
              <a:t> s</a:t>
            </a:r>
            <a:r>
              <a:rPr b="0" lang="en-US" sz="3200" spc="-1" strike="noStrike" baseline="30000">
                <a:solidFill>
                  <a:srgbClr val="376bb4"/>
                </a:solidFill>
                <a:latin typeface="Arial"/>
              </a:rPr>
              <a:t>-1</a:t>
            </a:r>
            <a:r>
              <a:rPr b="0" lang="en-US" sz="3200" spc="-1" strike="noStrike">
                <a:solidFill>
                  <a:srgbClr val="376bb4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title"/>
          </p:nvPr>
        </p:nvSpPr>
        <p:spPr>
          <a:xfrm>
            <a:off x="348840" y="997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1ab"/>
                </a:solidFill>
                <a:latin typeface="Arial"/>
              </a:rPr>
              <a:t>Radio Wave Energy</a:t>
            </a: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Місце для нижнього колонтитула 3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08080" y="117000"/>
            <a:ext cx="688968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1ab"/>
                </a:solidFill>
                <a:latin typeface="Arial"/>
              </a:rPr>
              <a:t>The Bohr Theory of the Hydrogen Atom</a:t>
            </a: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440" y="2286000"/>
            <a:ext cx="776916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bd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Prior to the work of </a:t>
            </a:r>
            <a:r>
              <a:rPr b="1" lang="en-US" sz="2800" spc="-1" strike="noStrike">
                <a:solidFill>
                  <a:srgbClr val="376bb4"/>
                </a:solidFill>
                <a:latin typeface="Arial"/>
              </a:rPr>
              <a:t>Niels Bohr</a:t>
            </a: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,</a:t>
            </a:r>
            <a:r>
              <a:rPr b="0" lang="en-US" sz="2800" spc="-1" strike="noStrike">
                <a:solidFill>
                  <a:srgbClr val="84471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the stability of the atom could not be explained using the then-current theories. </a:t>
            </a:r>
            <a:endParaRPr b="0" lang="en-US" sz="28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194" name="Rectangle 4"/>
          <p:cNvSpPr/>
          <p:nvPr/>
        </p:nvSpPr>
        <p:spPr>
          <a:xfrm>
            <a:off x="457200" y="3276720"/>
            <a:ext cx="777240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In 1913, using the work of Einstein and Planck, he applied a new theory to </a:t>
            </a:r>
            <a:r>
              <a:rPr b="1" lang="en-US" sz="2400" spc="-1" strike="noStrike">
                <a:solidFill>
                  <a:srgbClr val="376bb4"/>
                </a:solidFill>
                <a:latin typeface="Arial"/>
              </a:rPr>
              <a:t>the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 simplest atom, hydrogen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Before looking at Bohr’s theory, we must first examine the “line spectra” of atom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Picture 5" descr=""/>
          <p:cNvPicPr/>
          <p:nvPr/>
        </p:nvPicPr>
        <p:blipFill>
          <a:blip r:embed="rId1"/>
          <a:stretch/>
        </p:blipFill>
        <p:spPr>
          <a:xfrm>
            <a:off x="7489800" y="304920"/>
            <a:ext cx="1184400" cy="167616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6"/>
          <p:cNvSpPr/>
          <p:nvPr/>
        </p:nvSpPr>
        <p:spPr>
          <a:xfrm flipV="1" rot="10800000">
            <a:off x="2743200" y="167616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1913—Nobel Prize in 1922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Місце для нижнього колонтитула 3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455400" y="1676520"/>
            <a:ext cx="807876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cbd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76bb4"/>
                </a:solidFill>
                <a:latin typeface="Arial"/>
              </a:rPr>
              <a:t>Bohr’s Postulates</a:t>
            </a:r>
            <a:endParaRPr b="0" lang="en-US" sz="2800" spc="-1" strike="noStrike">
              <a:solidFill>
                <a:srgbClr val="376bb4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Bohr set down postulates to account for (1) the stability of the hydrogen atom and (2) the line spectrum of the atom.</a:t>
            </a:r>
            <a:endParaRPr b="0" lang="en-US" sz="24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199" name="Rectangle 4"/>
          <p:cNvSpPr/>
          <p:nvPr/>
        </p:nvSpPr>
        <p:spPr>
          <a:xfrm>
            <a:off x="457200" y="3429000"/>
            <a:ext cx="77724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4000"/>
          </a:bodyPr>
          <a:p>
            <a:pPr lvl="1" marL="698400" indent="-2685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6bb4"/>
                </a:solidFill>
                <a:latin typeface="Arial"/>
              </a:rPr>
              <a:t>1.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76bb4"/>
                </a:solidFill>
                <a:latin typeface="Arial"/>
              </a:rPr>
              <a:t>Energy level postulate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  An electron can have only specific energy levels in an atom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6bb4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. </a:t>
            </a:r>
            <a:r>
              <a:rPr b="1" lang="en-US" sz="2400" spc="-1" strike="noStrike">
                <a:solidFill>
                  <a:srgbClr val="376bb4"/>
                </a:solidFill>
                <a:latin typeface="Arial"/>
              </a:rPr>
              <a:t>Transitions between energy levels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  An electron in an atom can change energy levels by undergoing a “transition” from one energy level to another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title"/>
          </p:nvPr>
        </p:nvSpPr>
        <p:spPr>
          <a:xfrm>
            <a:off x="1108080" y="117000"/>
            <a:ext cx="688968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1ab"/>
                </a:solidFill>
                <a:latin typeface="Arial"/>
              </a:rPr>
              <a:t>The Bohr Theory of the Hydrogen Atom</a:t>
            </a: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Місце для нижнього колонтитула 3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455400" y="1644480"/>
            <a:ext cx="807876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bd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76bb4"/>
                </a:solidFill>
                <a:latin typeface="Arial"/>
              </a:rPr>
              <a:t>Bohr’s Postulates</a:t>
            </a:r>
            <a:endParaRPr b="0" lang="en-US" sz="2800" spc="-1" strike="noStrike">
              <a:solidFill>
                <a:srgbClr val="376bb4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Bohr derived the following formula for the energy levels of the electron in the hydrogen atom.</a:t>
            </a:r>
            <a:endParaRPr b="0" lang="en-US" sz="24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203" name="Rectangle 4"/>
          <p:cNvSpPr/>
          <p:nvPr/>
        </p:nvSpPr>
        <p:spPr>
          <a:xfrm>
            <a:off x="533520" y="49528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R</a:t>
            </a:r>
            <a:r>
              <a:rPr b="0" lang="en-US" sz="2400" spc="-1" strike="noStrike" baseline="-25000">
                <a:solidFill>
                  <a:srgbClr val="376bb4"/>
                </a:solidFill>
                <a:latin typeface="Arial"/>
              </a:rPr>
              <a:t>h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 is a constant (expressed in energy units) with a value of 2.18 x 10</a:t>
            </a:r>
            <a:r>
              <a:rPr b="0" lang="en-US" sz="2400" spc="-1" strike="noStrike" baseline="30000">
                <a:solidFill>
                  <a:srgbClr val="376bb4"/>
                </a:solidFill>
                <a:latin typeface="Arial"/>
              </a:rPr>
              <a:t>-18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 J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" name="Object 5"/>
              <p:cNvSpPr txBox="1"/>
              <p:nvPr/>
            </p:nvSpPr>
            <p:spPr>
              <a:xfrm>
                <a:off x="797040" y="3429000"/>
                <a:ext cx="7556400" cy="103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rPr>
                        <m:lit/>
                        <m:nor/>
                      </m:rPr>
                      <m:t xml:space="preserve">      n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, 2, 3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∞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for H atom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5" name="PlaceHolder 2"/>
          <p:cNvSpPr>
            <a:spLocks noGrp="1"/>
          </p:cNvSpPr>
          <p:nvPr>
            <p:ph type="title"/>
          </p:nvPr>
        </p:nvSpPr>
        <p:spPr>
          <a:xfrm>
            <a:off x="1108080" y="117000"/>
            <a:ext cx="688968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1ab"/>
                </a:solidFill>
                <a:latin typeface="Arial"/>
              </a:rPr>
              <a:t>The Bohr Theory of the Hydrogen Atom</a:t>
            </a: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Місце для нижнього колонтитула 3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455400" y="1676520"/>
            <a:ext cx="807876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cbd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76bb4"/>
                </a:solidFill>
                <a:latin typeface="Arial"/>
              </a:rPr>
              <a:t>Bohr’s Postulates</a:t>
            </a:r>
            <a:endParaRPr b="0" lang="en-US" sz="2800" spc="-1" strike="noStrike">
              <a:solidFill>
                <a:srgbClr val="376bb4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When an electron undergoes a transition from a higher energy level to a lower one, the energy is emitted as a photon.</a:t>
            </a:r>
            <a:endParaRPr b="0" lang="en-US" sz="2400" spc="-1" strike="noStrike">
              <a:solidFill>
                <a:srgbClr val="376bb4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8" name="Object 5"/>
              <p:cNvSpPr txBox="1"/>
              <p:nvPr/>
            </p:nvSpPr>
            <p:spPr>
              <a:xfrm>
                <a:off x="814320" y="3797280"/>
                <a:ext cx="7526520" cy="5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nergy of emitted photon </m:t>
                    </m:r>
                    <m:r>
                      <m:t xml:space="preserve">=</m:t>
                    </m:r>
                    <m:r>
                      <m:t xml:space="preserve">hν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209" name="Group 9"/>
          <p:cNvGrpSpPr/>
          <p:nvPr/>
        </p:nvGrpSpPr>
        <p:grpSpPr>
          <a:xfrm>
            <a:off x="457200" y="4419720"/>
            <a:ext cx="7772400" cy="1904760"/>
            <a:chOff x="457200" y="4419720"/>
            <a:chExt cx="7772400" cy="1904760"/>
          </a:xfrm>
        </p:grpSpPr>
        <p:sp>
          <p:nvSpPr>
            <p:cNvPr id="210" name="Rectangle 4"/>
            <p:cNvSpPr/>
            <p:nvPr/>
          </p:nvSpPr>
          <p:spPr>
            <a:xfrm>
              <a:off x="457200" y="4419720"/>
              <a:ext cx="7772400" cy="190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lvl="1" marL="743040" indent="-285840">
                <a:lnSpc>
                  <a:spcPct val="100000"/>
                </a:lnSpc>
                <a:spcBef>
                  <a:spcPts val="700"/>
                </a:spcBef>
                <a:buClr>
                  <a:srgbClr val="cbd990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76bb4"/>
                  </a:solidFill>
                  <a:latin typeface="Arial"/>
                </a:rPr>
                <a:t>From Postulate 1,</a:t>
              </a:r>
              <a:r>
                <a:rPr b="0" lang="en-US" sz="2800" spc="-1" strike="noStrike">
                  <a:solidFill>
                    <a:srgbClr val="376bb4"/>
                  </a:solidFill>
                  <a:latin typeface="Times New Roman"/>
                </a:rPr>
                <a:t> 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1" name="Object 6"/>
                <p:cNvSpPr txBox="1"/>
                <p:nvPr/>
              </p:nvSpPr>
              <p:spPr>
                <a:xfrm>
                  <a:off x="1614600" y="5068800"/>
                  <a:ext cx="1798560" cy="1173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E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−</m:t>
                      </m:r>
                      <m:f>
                        <m:num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h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sSup>
                                <m:e>
                                  <m:r>
                                    <m:t xml:space="preserve">i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12" name="Object 7"/>
                <p:cNvSpPr txBox="1"/>
                <p:nvPr/>
              </p:nvSpPr>
              <p:spPr>
                <a:xfrm>
                  <a:off x="4780080" y="5038560"/>
                  <a:ext cx="1868400" cy="1173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E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−</m:t>
                      </m:r>
                      <m:f>
                        <m:num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h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sSup>
                                <m:e>
                                  <m:r>
                                    <m:t xml:space="preserve">f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13" name="PlaceHolder 2"/>
          <p:cNvSpPr>
            <a:spLocks noGrp="1"/>
          </p:cNvSpPr>
          <p:nvPr>
            <p:ph type="title"/>
          </p:nvPr>
        </p:nvSpPr>
        <p:spPr>
          <a:xfrm>
            <a:off x="1108080" y="117000"/>
            <a:ext cx="688968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1ab"/>
                </a:solidFill>
                <a:latin typeface="Arial"/>
              </a:rPr>
              <a:t>The Bohr Theory of the Hydrogen Atom</a:t>
            </a: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Місце для нижнього колонтитула 3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48840" y="1328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1ab"/>
                </a:solidFill>
                <a:latin typeface="Arial"/>
              </a:rPr>
              <a:t>The Wave Nature of Light</a:t>
            </a: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70866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bd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A</a:t>
            </a:r>
            <a:r>
              <a:rPr b="1" lang="en-US" sz="2800" spc="-1" strike="noStrike">
                <a:solidFill>
                  <a:srgbClr val="376bb4"/>
                </a:solidFill>
                <a:latin typeface="Arial"/>
              </a:rPr>
              <a:t> wave </a:t>
            </a: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is a continuously repeating change or oscillation in matter or in a physical field. Light is also a wave.</a:t>
            </a:r>
            <a:endParaRPr b="0" lang="en-US" sz="28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86" name="Rectangle 17"/>
          <p:cNvSpPr/>
          <p:nvPr/>
        </p:nvSpPr>
        <p:spPr>
          <a:xfrm>
            <a:off x="380880" y="3124080"/>
            <a:ext cx="37339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9000"/>
          </a:bodyPr>
          <a:p>
            <a:pPr marL="236520" indent="-236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It consists of oscillations in electric and magnetic fields that travel through space.Visible light, X rays, and radio waves are all forms of </a:t>
            </a:r>
            <a:r>
              <a:rPr b="0" lang="en-US" sz="2400" spc="-1" strike="noStrike" u="sng">
                <a:solidFill>
                  <a:srgbClr val="f3010d"/>
                </a:solidFill>
                <a:uFillTx/>
                <a:latin typeface="Arial"/>
                <a:hlinkClick r:id="rId1"/>
              </a:rPr>
              <a:t>electromagnetic radiation</a:t>
            </a:r>
            <a:r>
              <a:rPr b="1" i="1" lang="en-US" sz="2400" spc="-1" strike="noStrike">
                <a:solidFill>
                  <a:srgbClr val="376bb4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18" descr=""/>
          <p:cNvPicPr/>
          <p:nvPr/>
        </p:nvPicPr>
        <p:blipFill>
          <a:blip r:embed="rId2"/>
          <a:stretch/>
        </p:blipFill>
        <p:spPr>
          <a:xfrm>
            <a:off x="4191120" y="3276720"/>
            <a:ext cx="4724280" cy="29620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9" descr=""/>
          <p:cNvPicPr/>
          <p:nvPr/>
        </p:nvPicPr>
        <p:blipFill>
          <a:blip r:embed="rId3"/>
          <a:stretch/>
        </p:blipFill>
        <p:spPr>
          <a:xfrm>
            <a:off x="7010280" y="1905120"/>
            <a:ext cx="1828800" cy="8427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Місце для нижнього колонтитула 3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455400" y="1676520"/>
            <a:ext cx="807876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bd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76bb4"/>
                </a:solidFill>
                <a:latin typeface="Arial"/>
              </a:rPr>
              <a:t>Bohr’s Postulates</a:t>
            </a:r>
            <a:endParaRPr b="0" lang="en-US" sz="2800" spc="-1" strike="noStrike">
              <a:solidFill>
                <a:srgbClr val="376bb4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If we make a substitution into the previous equation that states the energy of the emitted photon, h</a:t>
            </a:r>
            <a:r>
              <a:rPr b="0" lang="en-US" sz="2400" spc="-1" strike="noStrike">
                <a:solidFill>
                  <a:srgbClr val="376bb4"/>
                </a:solidFill>
                <a:latin typeface="Symbol"/>
                <a:ea typeface="Symbol"/>
              </a:rPr>
              <a:t>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, equals E</a:t>
            </a:r>
            <a:r>
              <a:rPr b="0" lang="en-US" sz="2400" spc="-1" strike="noStrike" baseline="-25000">
                <a:solidFill>
                  <a:srgbClr val="376bb4"/>
                </a:solidFill>
                <a:latin typeface="Arial"/>
              </a:rPr>
              <a:t>i 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- E</a:t>
            </a:r>
            <a:r>
              <a:rPr b="0" lang="en-US" sz="2400" spc="-1" strike="noStrike" baseline="-25000">
                <a:solidFill>
                  <a:srgbClr val="376bb4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376bb4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6" name="Object 4"/>
              <p:cNvSpPr txBox="1"/>
              <p:nvPr/>
            </p:nvSpPr>
            <p:spPr>
              <a:xfrm>
                <a:off x="1262160" y="2971800"/>
                <a:ext cx="6648480" cy="160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ν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7" name="Rectangle 6"/>
          <p:cNvSpPr/>
          <p:nvPr/>
        </p:nvSpPr>
        <p:spPr>
          <a:xfrm>
            <a:off x="457200" y="4419720"/>
            <a:ext cx="777240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Rearranging, we obtain</a:t>
            </a: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8" name="Object 9"/>
              <p:cNvSpPr txBox="1"/>
              <p:nvPr/>
            </p:nvSpPr>
            <p:spPr>
              <a:xfrm>
                <a:off x="2286000" y="4952880"/>
                <a:ext cx="4572000" cy="129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ν</m:t>
                    </m:r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(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Sup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Sup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9" name="PlaceHolder 2"/>
          <p:cNvSpPr>
            <a:spLocks noGrp="1"/>
          </p:cNvSpPr>
          <p:nvPr>
            <p:ph type="title"/>
          </p:nvPr>
        </p:nvSpPr>
        <p:spPr>
          <a:xfrm>
            <a:off x="1108080" y="117000"/>
            <a:ext cx="688968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1ab"/>
                </a:solidFill>
                <a:latin typeface="Arial"/>
              </a:rPr>
              <a:t>The Bohr Theory of the Hydrogen Atom</a:t>
            </a: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Місце для нижнього колонтитула 3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54864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-246960">
              <a:lnSpc>
                <a:spcPct val="90000"/>
              </a:lnSpc>
              <a:spcBef>
                <a:spcPts val="700"/>
              </a:spcBef>
              <a:buClr>
                <a:srgbClr val="cbd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76bb4"/>
                </a:solidFill>
                <a:latin typeface="Arial"/>
              </a:rPr>
              <a:t>Atomic Line Spectra</a:t>
            </a:r>
            <a:endParaRPr b="0" lang="en-US" sz="2800" spc="-1" strike="noStrike">
              <a:solidFill>
                <a:srgbClr val="376bb4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In 1885, J. J. Balmer showed that the wavelengths, </a:t>
            </a:r>
            <a:r>
              <a:rPr b="0" lang="en-US" sz="2400" spc="-1" strike="noStrike">
                <a:solidFill>
                  <a:srgbClr val="376bb4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, in the visible spectrum of hydrogen could be reproduced by a simple formula.</a:t>
            </a:r>
            <a:endParaRPr b="0" lang="en-US" sz="24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222" name="Rectangle 4"/>
          <p:cNvSpPr/>
          <p:nvPr/>
        </p:nvSpPr>
        <p:spPr>
          <a:xfrm>
            <a:off x="380880" y="4800600"/>
            <a:ext cx="49532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The known wavelengths of the four visible lines for hydrogen correspond to values of n = 3, n = 4, n = 5, and n = 6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3" name="Object 5"/>
              <p:cNvSpPr txBox="1"/>
              <p:nvPr/>
            </p:nvSpPr>
            <p:spPr>
              <a:xfrm>
                <a:off x="380880" y="3733920"/>
                <a:ext cx="495324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λ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97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7</m:t>
                        </m:r>
                      </m:sup>
                    </m:sSup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(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4" name="PlaceHolder 2"/>
          <p:cNvSpPr>
            <a:spLocks noGrp="1"/>
          </p:cNvSpPr>
          <p:nvPr>
            <p:ph type="title"/>
          </p:nvPr>
        </p:nvSpPr>
        <p:spPr>
          <a:xfrm>
            <a:off x="1108080" y="117000"/>
            <a:ext cx="688968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1ab"/>
                </a:solidFill>
                <a:latin typeface="Arial"/>
              </a:rPr>
              <a:t>The Bohr Theory of the Hydrogen Atom</a:t>
            </a: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pic>
        <p:nvPicPr>
          <p:cNvPr id="225" name="Picture 8" descr="07_11"/>
          <p:cNvPicPr/>
          <p:nvPr/>
        </p:nvPicPr>
        <p:blipFill>
          <a:blip r:embed="rId1"/>
          <a:stretch/>
        </p:blipFill>
        <p:spPr>
          <a:xfrm>
            <a:off x="5457960" y="1676520"/>
            <a:ext cx="3686040" cy="47242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Місце для нижнього колонтитула 3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455400" y="1644480"/>
            <a:ext cx="807876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bd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76bb4"/>
                </a:solidFill>
                <a:latin typeface="Arial"/>
              </a:rPr>
              <a:t>Bohr’s Postulates</a:t>
            </a:r>
            <a:endParaRPr b="0" lang="en-US" sz="2800" spc="-1" strike="noStrike">
              <a:solidFill>
                <a:srgbClr val="376bb4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Bohr’s theory explains not only the emission of light, but also the absorbtion of light.</a:t>
            </a:r>
            <a:endParaRPr b="0" lang="en-US" sz="2400" spc="-1" strike="noStrike">
              <a:solidFill>
                <a:srgbClr val="376bb4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228" name="Rectangle 5"/>
          <p:cNvSpPr/>
          <p:nvPr/>
        </p:nvSpPr>
        <p:spPr>
          <a:xfrm>
            <a:off x="457200" y="3105000"/>
            <a:ext cx="77724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3000"/>
          </a:bodyPr>
          <a:p>
            <a:pPr lvl="1" marL="690840" indent="-26568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When an electron falls from n = 3 to n = 2 energy level, a photon of red light (wavelength, 685 nm) is emitted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When red light of this same wavelength shines on a hydrogen atom in the n = 2 level, the energy is gained by the electron that undergoes a transition to n = 3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1108080" y="117000"/>
            <a:ext cx="688968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1ab"/>
                </a:solidFill>
                <a:latin typeface="Arial"/>
              </a:rPr>
              <a:t>The Bohr Theory of the Hydrogen Atom</a:t>
            </a: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Місце для нижнього колонтитула 3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48840" y="10440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1ab"/>
                </a:solidFill>
                <a:latin typeface="Arial"/>
              </a:rPr>
              <a:t>A Problem to Consider</a:t>
            </a: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31360" y="1409760"/>
            <a:ext cx="807876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5000"/>
          </a:bodyPr>
          <a:p>
            <a:pPr marL="119880" indent="-119880">
              <a:lnSpc>
                <a:spcPct val="9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Calculate the energy of a photon of light emitted from a hydrogen atom when an electron falls from level n = 3 to level n = 1.</a:t>
            </a:r>
            <a:endParaRPr b="0" lang="en-US" sz="2400" spc="-1" strike="noStrike">
              <a:solidFill>
                <a:srgbClr val="376bb4"/>
              </a:solidFill>
              <a:latin typeface="Arial"/>
            </a:endParaRPr>
          </a:p>
          <a:p>
            <a:pPr marL="119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bb4"/>
              </a:solidFill>
              <a:latin typeface="Arial"/>
            </a:endParaRPr>
          </a:p>
          <a:p>
            <a:pPr marL="119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bb4"/>
              </a:solidFill>
              <a:latin typeface="Arial"/>
            </a:endParaRPr>
          </a:p>
          <a:p>
            <a:pPr marL="119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bb4"/>
              </a:solidFill>
              <a:latin typeface="Arial"/>
            </a:endParaRPr>
          </a:p>
          <a:p>
            <a:pPr marL="119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bb4"/>
              </a:solidFill>
              <a:latin typeface="Arial"/>
            </a:endParaRPr>
          </a:p>
          <a:p>
            <a:pPr marL="119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bb4"/>
              </a:solidFill>
              <a:latin typeface="Arial"/>
            </a:endParaRPr>
          </a:p>
          <a:p>
            <a:pPr marL="119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bb4"/>
              </a:solidFill>
              <a:latin typeface="Arial"/>
            </a:endParaRPr>
          </a:p>
          <a:p>
            <a:pPr marL="119880" indent="-119880">
              <a:lnSpc>
                <a:spcPct val="9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Note that the sign of E is negative because energy is emitted when an electron falls from a higher to a lower level.</a:t>
            </a:r>
            <a:endParaRPr b="0" lang="en-US" sz="24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233" name="Rectangle 4"/>
          <p:cNvSpPr/>
          <p:nvPr/>
        </p:nvSpPr>
        <p:spPr>
          <a:xfrm>
            <a:off x="457200" y="3429000"/>
            <a:ext cx="77724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lvl="4" marL="205740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Rectangle 5"/>
          <p:cNvSpPr/>
          <p:nvPr/>
        </p:nvSpPr>
        <p:spPr>
          <a:xfrm>
            <a:off x="457200" y="3276720"/>
            <a:ext cx="80787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5" name="Object 6"/>
              <p:cNvSpPr txBox="1"/>
              <p:nvPr/>
            </p:nvSpPr>
            <p:spPr>
              <a:xfrm>
                <a:off x="4432320" y="3117960"/>
                <a:ext cx="279360" cy="62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6" name="Object 7"/>
              <p:cNvSpPr txBox="1"/>
              <p:nvPr/>
            </p:nvSpPr>
            <p:spPr>
              <a:xfrm>
                <a:off x="2209680" y="2438280"/>
                <a:ext cx="399888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r>
                      <m:t xml:space="preserve">hν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(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Sup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Sup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7" name="Object 8"/>
              <p:cNvSpPr txBox="1"/>
              <p:nvPr/>
            </p:nvSpPr>
            <p:spPr>
              <a:xfrm>
                <a:off x="1960560" y="3733920"/>
                <a:ext cx="4751280" cy="64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sup>
                    </m:sSup>
                    <m:r>
                      <m:t xml:space="preserve">J</m:t>
                    </m:r>
                    <m:r>
                      <m:t xml:space="preserve">)</m:t>
                    </m:r>
                    <m:r>
                      <m:t xml:space="preserve">(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" name="Object 9"/>
              <p:cNvSpPr txBox="1"/>
              <p:nvPr/>
            </p:nvSpPr>
            <p:spPr>
              <a:xfrm>
                <a:off x="2811600" y="4648320"/>
                <a:ext cx="3047760" cy="47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4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sup>
                    </m:sSup>
                    <m:r>
                      <m:t xml:space="preserve">J</m:t>
                    </m:r>
                  </m:oMath>
                </a14:m>
              </a:p>
            </p:txBody>
          </p:sp>
        </mc:Choice>
        <mc:Fallback/>
      </mc:AlternateContent>
    </p:spTree>
  </p:cSld>
  <p:transition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Місце для нижнього колонтитула 3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48840" y="11700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1ab"/>
                </a:solidFill>
                <a:latin typeface="Arial"/>
              </a:rPr>
              <a:t>Quantum Mechanics</a:t>
            </a: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5760" y="1692360"/>
            <a:ext cx="823104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Bohr’s theory established the concept of atomic energy levels but did not thoroughly explain the “wave-like” behavior of the electron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242" name="Rectangle 4"/>
          <p:cNvSpPr/>
          <p:nvPr/>
        </p:nvSpPr>
        <p:spPr>
          <a:xfrm>
            <a:off x="685800" y="2743200"/>
            <a:ext cx="77724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Current ideas about atomic structure depend on the principles of </a:t>
            </a:r>
            <a:r>
              <a:rPr b="1" lang="en-US" sz="2400" spc="-1" strike="noStrike">
                <a:solidFill>
                  <a:srgbClr val="376bb4"/>
                </a:solidFill>
                <a:latin typeface="Arial"/>
              </a:rPr>
              <a:t>quantum mechanics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, a theory that applies to subatomic particles such as electron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257800" y="1676160"/>
            <a:ext cx="3276720" cy="10666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Quantum Theory of the Atom</a:t>
            </a:r>
            <a:endParaRPr b="1" lang="en-US" sz="30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244" name="Text Box 3"/>
          <p:cNvSpPr/>
          <p:nvPr/>
        </p:nvSpPr>
        <p:spPr>
          <a:xfrm>
            <a:off x="5410080" y="3048120"/>
            <a:ext cx="3733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7.4 Quantum Mechanics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7.5 Quantum Numbers and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tomic Orbital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Місце для нижнього колонтитула 3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1066320" y="1676520"/>
            <a:ext cx="5791320" cy="158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bd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The first clue in the development of quantum theory came with the discovery of the</a:t>
            </a:r>
            <a:r>
              <a:rPr b="1" lang="en-US" sz="2800" spc="-1" strike="noStrike">
                <a:solidFill>
                  <a:srgbClr val="376bb4"/>
                </a:solidFill>
                <a:latin typeface="Arial"/>
              </a:rPr>
              <a:t> de Broglie relation.</a:t>
            </a:r>
            <a:endParaRPr b="0" lang="en-US" sz="28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247" name="Rectangle 5"/>
          <p:cNvSpPr/>
          <p:nvPr/>
        </p:nvSpPr>
        <p:spPr>
          <a:xfrm>
            <a:off x="685800" y="320040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4000"/>
          </a:bodyPr>
          <a:p>
            <a:pPr lvl="1" marL="475200" indent="-18288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In 1923, Louis de Broglie reasoned that if light exhibits particle aspects, perhaps particles of matter show characteristics of wave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75200" indent="-18288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He postulated that a particle with mass</a:t>
            </a:r>
            <a:r>
              <a:rPr b="0" lang="en-US" sz="2400" spc="-1" strike="noStrike">
                <a:solidFill>
                  <a:srgbClr val="376bb4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76bb4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376bb4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and a velocity</a:t>
            </a:r>
            <a:r>
              <a:rPr b="0" lang="en-US" sz="2400" spc="-1" strike="noStrike">
                <a:solidFill>
                  <a:srgbClr val="376bb4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76bb4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376bb4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has an associated wavelength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75200" indent="-18288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The equation</a:t>
            </a:r>
            <a:r>
              <a:rPr b="0" lang="en-US" sz="2400" spc="-1" strike="noStrike">
                <a:solidFill>
                  <a:srgbClr val="376bb4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76bb4"/>
                </a:solidFill>
                <a:latin typeface="Symbol"/>
                <a:ea typeface="Symbol"/>
              </a:rPr>
              <a:t></a:t>
            </a:r>
            <a:r>
              <a:rPr b="1" lang="en-US" sz="2400" spc="-1" strike="noStrike">
                <a:solidFill>
                  <a:srgbClr val="376bb4"/>
                </a:solidFill>
                <a:latin typeface="Times New Roman"/>
              </a:rPr>
              <a:t>= h/mv 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is called the</a:t>
            </a:r>
            <a:r>
              <a:rPr b="1" lang="en-US" sz="2400" spc="-1" strike="noStrike">
                <a:solidFill>
                  <a:srgbClr val="376bb4"/>
                </a:solidFill>
                <a:latin typeface="Arial"/>
              </a:rPr>
              <a:t> de Broglie relation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title"/>
          </p:nvPr>
        </p:nvSpPr>
        <p:spPr>
          <a:xfrm>
            <a:off x="348840" y="11700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1ab"/>
                </a:solidFill>
                <a:latin typeface="Arial"/>
              </a:rPr>
              <a:t>Quantum Mechanics</a:t>
            </a: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pic>
        <p:nvPicPr>
          <p:cNvPr id="249" name="Picture 9" descr=""/>
          <p:cNvPicPr/>
          <p:nvPr/>
        </p:nvPicPr>
        <p:blipFill>
          <a:blip r:embed="rId1"/>
          <a:stretch/>
        </p:blipFill>
        <p:spPr>
          <a:xfrm>
            <a:off x="7315200" y="304920"/>
            <a:ext cx="1441440" cy="2090520"/>
          </a:xfrm>
          <a:prstGeom prst="rect">
            <a:avLst/>
          </a:prstGeom>
          <a:ln w="0">
            <a:noFill/>
          </a:ln>
        </p:spPr>
      </p:pic>
      <p:sp>
        <p:nvSpPr>
          <p:cNvPr id="250" name="Text Box 10"/>
          <p:cNvSpPr/>
          <p:nvPr/>
        </p:nvSpPr>
        <p:spPr>
          <a:xfrm>
            <a:off x="6172200" y="2590920"/>
            <a:ext cx="32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1923 – Nobel Prize in 1929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Місце для нижнього колонтитула 3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/>
          </p:nvPr>
        </p:nvSpPr>
        <p:spPr>
          <a:xfrm>
            <a:off x="609480" y="1622520"/>
            <a:ext cx="77695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bd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bb4"/>
                </a:solidFill>
                <a:latin typeface="Arial"/>
              </a:rPr>
              <a:t>If matter has wave properties, why are they not commonly observed?</a:t>
            </a: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253" name="Rectangle 4"/>
          <p:cNvSpPr/>
          <p:nvPr/>
        </p:nvSpPr>
        <p:spPr>
          <a:xfrm>
            <a:off x="457200" y="289548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The de Broglie relation shows that a baseball (0.145 kg) moving at about 60 mph (27 m/s) has a wavelength of about 1.7 x 10</a:t>
            </a:r>
            <a:r>
              <a:rPr b="0" lang="en-US" sz="2400" spc="-1" strike="noStrike" baseline="30000">
                <a:solidFill>
                  <a:srgbClr val="376bb4"/>
                </a:solidFill>
                <a:latin typeface="Arial"/>
              </a:rPr>
              <a:t>-34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 m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4" name="Object 6"/>
              <p:cNvSpPr txBox="1"/>
              <p:nvPr/>
            </p:nvSpPr>
            <p:spPr>
              <a:xfrm>
                <a:off x="1720800" y="4267080"/>
                <a:ext cx="5711760" cy="77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3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4</m:t>
                            </m:r>
                          </m:sup>
                        </m:sSup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sSup>
                              <m:e>
                                <m:r>
                                  <m:t xml:space="preserve">m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</m:num>
                      <m:den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45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7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34</m:t>
                        </m:r>
                      </m:sup>
                    </m:sSup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5" name="Rectangle 7"/>
          <p:cNvSpPr/>
          <p:nvPr/>
        </p:nvSpPr>
        <p:spPr>
          <a:xfrm>
            <a:off x="457200" y="518148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This value is so incredibly small that such waves cannot be detected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title"/>
          </p:nvPr>
        </p:nvSpPr>
        <p:spPr>
          <a:xfrm>
            <a:off x="348840" y="11700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1ab"/>
                </a:solidFill>
                <a:latin typeface="Arial"/>
              </a:rPr>
              <a:t>Quantum Mechanics</a:t>
            </a: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Місце для нижнього колонтитула 3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Rectangle 4"/>
          <p:cNvSpPr/>
          <p:nvPr/>
        </p:nvSpPr>
        <p:spPr>
          <a:xfrm>
            <a:off x="457200" y="2895480"/>
            <a:ext cx="80773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Electrons have wavelengths on the order of a few picometers (1 pm = 10</a:t>
            </a:r>
            <a:r>
              <a:rPr b="0" lang="en-US" sz="2400" spc="-1" strike="noStrike" baseline="30000">
                <a:solidFill>
                  <a:srgbClr val="376bb4"/>
                </a:solidFill>
                <a:latin typeface="Arial"/>
              </a:rPr>
              <a:t>-12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 m)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Rectangle 8"/>
          <p:cNvSpPr/>
          <p:nvPr/>
        </p:nvSpPr>
        <p:spPr>
          <a:xfrm>
            <a:off x="457200" y="3809880"/>
            <a:ext cx="80773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Under the proper circumstances, the wave character of electrons should be observabl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48840" y="11700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1ab"/>
                </a:solidFill>
                <a:latin typeface="Arial"/>
              </a:rPr>
              <a:t>Quantum Mechanics</a:t>
            </a: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09480" y="1622520"/>
            <a:ext cx="77695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bd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bb4"/>
                </a:solidFill>
                <a:latin typeface="Arial"/>
              </a:rPr>
              <a:t>If matter has wave properties, why are they not commonly observed?</a:t>
            </a: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pic>
        <p:nvPicPr>
          <p:cNvPr id="262" name="Picture 13" descr=""/>
          <p:cNvPicPr/>
          <p:nvPr/>
        </p:nvPicPr>
        <p:blipFill>
          <a:blip r:embed="rId1"/>
          <a:stretch/>
        </p:blipFill>
        <p:spPr>
          <a:xfrm>
            <a:off x="1828800" y="5029200"/>
            <a:ext cx="2171880" cy="102060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14" descr=""/>
          <p:cNvPicPr/>
          <p:nvPr/>
        </p:nvPicPr>
        <p:blipFill>
          <a:blip r:embed="rId2"/>
          <a:stretch/>
        </p:blipFill>
        <p:spPr>
          <a:xfrm>
            <a:off x="4876920" y="4800600"/>
            <a:ext cx="3162240" cy="13273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Місце для нижнього колонтитула 3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48840" y="997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1ab"/>
                </a:solidFill>
                <a:latin typeface="Arial"/>
              </a:rPr>
              <a:t>Quantum Mechanics</a:t>
            </a: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266" name="Rectangle 5"/>
          <p:cNvSpPr/>
          <p:nvPr/>
        </p:nvSpPr>
        <p:spPr>
          <a:xfrm>
            <a:off x="380880" y="1600200"/>
            <a:ext cx="80010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In 1927, it was demonstrated that a </a:t>
            </a:r>
            <a:r>
              <a:rPr b="0" lang="en-US" sz="2800" spc="-1" strike="noStrike" u="sng">
                <a:solidFill>
                  <a:srgbClr val="376bb4"/>
                </a:solidFill>
                <a:uFillTx/>
                <a:latin typeface="Arial"/>
              </a:rPr>
              <a:t>beam of electrons</a:t>
            </a: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, just like X rays, could be diffracted by a crystal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Rectangle 6"/>
          <p:cNvSpPr/>
          <p:nvPr/>
        </p:nvSpPr>
        <p:spPr>
          <a:xfrm>
            <a:off x="380880" y="3048120"/>
            <a:ext cx="4114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71000"/>
          </a:bodyPr>
          <a:p>
            <a:pPr lvl="1" marL="527400" indent="-202680">
              <a:lnSpc>
                <a:spcPct val="100000"/>
              </a:lnSpc>
              <a:spcBef>
                <a:spcPts val="700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The German physicist, Ernst Ruska, used this wave property to construct the first “electron microscope” in 1933.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8" name="Picture 11" descr="314903_p_07_16"/>
          <p:cNvPicPr/>
          <p:nvPr/>
        </p:nvPicPr>
        <p:blipFill>
          <a:blip r:embed="rId1"/>
          <a:stretch/>
        </p:blipFill>
        <p:spPr>
          <a:xfrm>
            <a:off x="4267080" y="2894040"/>
            <a:ext cx="4616640" cy="30988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269" name="Picture 13" descr="21001hoa"/>
          <p:cNvPicPr/>
          <p:nvPr/>
        </p:nvPicPr>
        <p:blipFill>
          <a:blip r:embed="rId2"/>
          <a:stretch/>
        </p:blipFill>
        <p:spPr>
          <a:xfrm>
            <a:off x="380880" y="228600"/>
            <a:ext cx="1467000" cy="95256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15" descr="20101hoa"/>
          <p:cNvPicPr/>
          <p:nvPr/>
        </p:nvPicPr>
        <p:blipFill>
          <a:blip r:embed="rId3"/>
          <a:stretch/>
        </p:blipFill>
        <p:spPr>
          <a:xfrm>
            <a:off x="7238880" y="152280"/>
            <a:ext cx="1543320" cy="10033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Місце для нижнього колонтитула 3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48840" y="1076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1ab"/>
                </a:solidFill>
                <a:latin typeface="Arial"/>
              </a:rPr>
              <a:t>The Wave Nature of Light</a:t>
            </a: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33160" y="1447920"/>
            <a:ext cx="830556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bb4"/>
                </a:solidFill>
                <a:latin typeface="Arial"/>
              </a:rPr>
              <a:t>A wave can be characterized by its</a:t>
            </a:r>
            <a:r>
              <a:rPr b="1" lang="en-US" sz="3200" spc="-1" strike="noStrike">
                <a:solidFill>
                  <a:srgbClr val="376bb4"/>
                </a:solidFill>
                <a:latin typeface="Arial"/>
              </a:rPr>
              <a:t> wavelength </a:t>
            </a:r>
            <a:r>
              <a:rPr b="0" lang="en-US" sz="3200" spc="-1" strike="noStrike">
                <a:solidFill>
                  <a:srgbClr val="376bb4"/>
                </a:solidFill>
                <a:latin typeface="Arial"/>
              </a:rPr>
              <a:t>and</a:t>
            </a:r>
            <a:r>
              <a:rPr b="1" lang="en-US" sz="3200" spc="-1" strike="noStrike">
                <a:solidFill>
                  <a:srgbClr val="376bb4"/>
                </a:solidFill>
                <a:latin typeface="Arial"/>
              </a:rPr>
              <a:t> frequency.</a:t>
            </a: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457200" y="2514600"/>
            <a:ext cx="84582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The</a:t>
            </a:r>
            <a:r>
              <a:rPr b="1" lang="en-US" sz="2400" spc="-1" strike="noStrike">
                <a:solidFill>
                  <a:srgbClr val="376bb4"/>
                </a:solidFill>
                <a:latin typeface="Arial"/>
              </a:rPr>
              <a:t> wavelength,</a:t>
            </a:r>
            <a:r>
              <a:rPr b="1" lang="en-US" sz="2400" spc="-1" strike="noStrike">
                <a:solidFill>
                  <a:srgbClr val="376bb4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76bb4"/>
                </a:solidFill>
                <a:latin typeface="Symbol"/>
                <a:ea typeface="Symbol"/>
              </a:rPr>
              <a:t></a:t>
            </a:r>
            <a:r>
              <a:rPr b="1" lang="en-US" sz="2400" spc="-1" strike="noStrike">
                <a:solidFill>
                  <a:srgbClr val="376bb4"/>
                </a:solidFill>
                <a:latin typeface="Arial"/>
              </a:rPr>
              <a:t>(lambda), 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is the distance between any two adjacent identical points of a wave. The</a:t>
            </a:r>
            <a:r>
              <a:rPr b="1" lang="en-US" sz="2400" spc="-1" strike="noStrike">
                <a:solidFill>
                  <a:srgbClr val="376bb4"/>
                </a:solidFill>
                <a:latin typeface="Arial"/>
              </a:rPr>
              <a:t> frequency,</a:t>
            </a:r>
            <a:r>
              <a:rPr b="1" lang="en-US" sz="2400" spc="-1" strike="noStrike">
                <a:solidFill>
                  <a:srgbClr val="376bb4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76bb4"/>
                </a:solidFill>
                <a:latin typeface="Symbol"/>
                <a:ea typeface="Symbol"/>
              </a:rPr>
              <a:t></a:t>
            </a:r>
            <a:r>
              <a:rPr b="1" lang="en-US" sz="2400" spc="-1" strike="noStrike">
                <a:solidFill>
                  <a:srgbClr val="376bb4"/>
                </a:solidFill>
                <a:latin typeface="Arial"/>
              </a:rPr>
              <a:t>(nyu)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, of a wave is the number of wavelengths that pass a fixed point in one second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5" descr="07_03"/>
          <p:cNvPicPr/>
          <p:nvPr/>
        </p:nvPicPr>
        <p:blipFill>
          <a:blip r:embed="rId1"/>
          <a:stretch/>
        </p:blipFill>
        <p:spPr>
          <a:xfrm>
            <a:off x="0" y="4124160"/>
            <a:ext cx="5334120" cy="24321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94" name="Picture 6" descr=""/>
          <p:cNvPicPr/>
          <p:nvPr/>
        </p:nvPicPr>
        <p:blipFill>
          <a:blip r:embed="rId2"/>
          <a:stretch/>
        </p:blipFill>
        <p:spPr>
          <a:xfrm>
            <a:off x="5334120" y="4114800"/>
            <a:ext cx="3809880" cy="2438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>
    <p:dissolv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Місце для нижнього колонтитула 3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48840" y="997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1ab"/>
                </a:solidFill>
                <a:latin typeface="Arial"/>
              </a:rPr>
              <a:t>Scanning Tunneling Microscope</a:t>
            </a: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pic>
        <p:nvPicPr>
          <p:cNvPr id="273" name="Picture 5" descr="The piezotube moves the specimen in a raster pattern at constant distance or force."/>
          <p:cNvPicPr/>
          <p:nvPr/>
        </p:nvPicPr>
        <p:blipFill>
          <a:blip r:embed="rId1"/>
          <a:stretch/>
        </p:blipFill>
        <p:spPr>
          <a:xfrm>
            <a:off x="0" y="1917720"/>
            <a:ext cx="4807080" cy="380520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6" descr="scope2"/>
          <p:cNvPicPr/>
          <p:nvPr/>
        </p:nvPicPr>
        <p:blipFill>
          <a:blip r:embed="rId2"/>
          <a:stretch/>
        </p:blipFill>
        <p:spPr>
          <a:xfrm>
            <a:off x="4808520" y="1922400"/>
            <a:ext cx="4141800" cy="37180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Місце для нижнього колонтитула 3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48840" y="997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1ab"/>
                </a:solidFill>
                <a:latin typeface="Arial"/>
              </a:rPr>
              <a:t>Scanning Tunneling Microscope</a:t>
            </a:r>
            <a:br>
              <a:rPr sz="3600"/>
            </a:br>
            <a:r>
              <a:rPr b="1" lang="en-US" sz="2400" spc="-1" strike="noStrike">
                <a:solidFill>
                  <a:srgbClr val="ffe1ab"/>
                </a:solidFill>
                <a:latin typeface="Arial"/>
              </a:rPr>
              <a:t>Electron Clouds</a:t>
            </a:r>
            <a:endParaRPr b="1" lang="en-US" sz="2400" spc="-1" strike="noStrike">
              <a:solidFill>
                <a:srgbClr val="ffe1ab"/>
              </a:solidFill>
              <a:latin typeface="Arial"/>
            </a:endParaRPr>
          </a:p>
        </p:txBody>
      </p:sp>
      <p:pic>
        <p:nvPicPr>
          <p:cNvPr id="277" name="Picture 3" descr="I11-42-goldatom"/>
          <p:cNvPicPr/>
          <p:nvPr/>
        </p:nvPicPr>
        <p:blipFill>
          <a:blip r:embed="rId1"/>
          <a:stretch/>
        </p:blipFill>
        <p:spPr>
          <a:xfrm>
            <a:off x="684360" y="1558800"/>
            <a:ext cx="3190680" cy="428652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4" descr="01phy1"/>
          <p:cNvPicPr/>
          <p:nvPr/>
        </p:nvPicPr>
        <p:blipFill>
          <a:blip r:embed="rId2"/>
          <a:stretch/>
        </p:blipFill>
        <p:spPr>
          <a:xfrm>
            <a:off x="4311720" y="1579680"/>
            <a:ext cx="4000320" cy="196200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5" descr="stm12"/>
          <p:cNvPicPr/>
          <p:nvPr/>
        </p:nvPicPr>
        <p:blipFill>
          <a:blip r:embed="rId3"/>
          <a:stretch/>
        </p:blipFill>
        <p:spPr>
          <a:xfrm>
            <a:off x="4616280" y="3603600"/>
            <a:ext cx="3490920" cy="2793960"/>
          </a:xfrm>
          <a:prstGeom prst="rect">
            <a:avLst/>
          </a:prstGeom>
          <a:ln w="0">
            <a:noFill/>
          </a:ln>
        </p:spPr>
      </p:pic>
      <p:sp>
        <p:nvSpPr>
          <p:cNvPr id="280" name="Text Box 6"/>
          <p:cNvSpPr/>
          <p:nvPr/>
        </p:nvSpPr>
        <p:spPr>
          <a:xfrm>
            <a:off x="609480" y="6054840"/>
            <a:ext cx="325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age Movi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Місце для нижнього колонтитула 3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48840" y="997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1ab"/>
                </a:solidFill>
                <a:latin typeface="Arial"/>
              </a:rPr>
              <a:t>Quantum Mechanics</a:t>
            </a: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09480" y="1685880"/>
            <a:ext cx="776952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bd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76bb4"/>
                </a:solidFill>
                <a:latin typeface="Arial"/>
              </a:rPr>
              <a:t>Quantum mechanics</a:t>
            </a: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 is the branch of physics that mathematically describes the wave properties of submicroscopic particles.</a:t>
            </a:r>
            <a:endParaRPr b="0" lang="en-US" sz="28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284" name="Rectangle 5"/>
          <p:cNvSpPr/>
          <p:nvPr/>
        </p:nvSpPr>
        <p:spPr>
          <a:xfrm>
            <a:off x="793800" y="3232080"/>
            <a:ext cx="7543800" cy="26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5000"/>
          </a:bodyPr>
          <a:p>
            <a:pPr lvl="1" marL="705600" indent="-27144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We can no longer think of an electron as having a precise orbit in an atom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To describe such an orbit would require knowing its exact position and velocity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In 1927, Werner Heisenberg showed (from quantum mechanics) that it is </a:t>
            </a:r>
            <a:r>
              <a:rPr b="0" lang="en-US" sz="2400" spc="-1" strike="noStrike" u="sng">
                <a:solidFill>
                  <a:srgbClr val="376bb4"/>
                </a:solidFill>
                <a:uFillTx/>
                <a:latin typeface="Arial"/>
              </a:rPr>
              <a:t>impossible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 to know both simultaneously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Місце для нижнього колонтитула 3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48840" y="997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1ab"/>
                </a:solidFill>
                <a:latin typeface="Arial"/>
              </a:rPr>
              <a:t>Quantum Mechanics</a:t>
            </a: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09480" y="1685880"/>
            <a:ext cx="776952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bd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76bb4"/>
                </a:solidFill>
                <a:latin typeface="Arial"/>
              </a:rPr>
              <a:t>Heisenberg’s uncertainty principle</a:t>
            </a: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 is a relation that states that the product of the uncertainty in position (</a:t>
            </a:r>
            <a:r>
              <a:rPr b="0" lang="en-US" sz="2800" spc="-1" strike="noStrike">
                <a:solidFill>
                  <a:srgbClr val="376bb4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x) and the uncertainty in momentum (m</a:t>
            </a:r>
            <a:r>
              <a:rPr b="0" lang="en-US" sz="2800" spc="-1" strike="noStrike">
                <a:solidFill>
                  <a:srgbClr val="376bb4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v</a:t>
            </a:r>
            <a:r>
              <a:rPr b="0" lang="en-US" sz="2800" spc="-1" strike="noStrike" baseline="-25000">
                <a:solidFill>
                  <a:srgbClr val="376bb4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) of a particle can be no larger than </a:t>
            </a:r>
            <a:r>
              <a:rPr b="1" lang="en-US" sz="2800" spc="-1" strike="noStrike">
                <a:solidFill>
                  <a:srgbClr val="376bb4"/>
                </a:solidFill>
                <a:latin typeface="Arial"/>
              </a:rPr>
              <a:t>h/4</a:t>
            </a:r>
            <a:r>
              <a:rPr b="1" lang="en-US" sz="2800" spc="-1" strike="noStrike">
                <a:solidFill>
                  <a:srgbClr val="376bb4"/>
                </a:solidFill>
                <a:latin typeface="Symbol"/>
                <a:ea typeface="Symbol"/>
              </a:rPr>
              <a:t></a:t>
            </a: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.   </a:t>
            </a:r>
            <a:endParaRPr b="0" lang="en-US" sz="28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288" name="Rectangle 4"/>
          <p:cNvSpPr/>
          <p:nvPr/>
        </p:nvSpPr>
        <p:spPr>
          <a:xfrm>
            <a:off x="720720" y="5140440"/>
            <a:ext cx="7696080" cy="11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When</a:t>
            </a:r>
            <a:r>
              <a:rPr b="0" lang="en-US" sz="2400" spc="-1" strike="noStrike">
                <a:solidFill>
                  <a:srgbClr val="376bb4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76bb4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376bb4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is large (for example, a baseball) the uncertainties are small, but for electrons, high uncertainties disallow defining an exact orbit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9" name="Object 5"/>
              <p:cNvSpPr txBox="1"/>
              <p:nvPr/>
            </p:nvSpPr>
            <p:spPr>
              <a:xfrm>
                <a:off x="2984400" y="3994200"/>
                <a:ext cx="3187800" cy="102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Δx</m:t>
                    </m:r>
                    <m:r>
                      <m:t xml:space="preserve">)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mΔv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≥</m:t>
                    </m:r>
                    <m:f>
                      <m:num>
                        <m:r>
                          <m:t xml:space="preserve">h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π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dissolv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Місце для нижнього колонтитула 3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49200" y="100080"/>
            <a:ext cx="846144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Erwin Schrödinger</a:t>
            </a: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pic>
        <p:nvPicPr>
          <p:cNvPr id="292" name="Picture 3" descr=""/>
          <p:cNvPicPr/>
          <p:nvPr/>
        </p:nvPicPr>
        <p:blipFill>
          <a:blip r:embed="rId1"/>
          <a:stretch/>
        </p:blipFill>
        <p:spPr>
          <a:xfrm>
            <a:off x="7238880" y="380880"/>
            <a:ext cx="1419480" cy="1419480"/>
          </a:xfrm>
          <a:prstGeom prst="rect">
            <a:avLst/>
          </a:prstGeom>
          <a:ln w="0">
            <a:noFill/>
          </a:ln>
        </p:spPr>
      </p:pic>
      <p:sp>
        <p:nvSpPr>
          <p:cNvPr id="293" name="Text Box 4"/>
          <p:cNvSpPr/>
          <p:nvPr/>
        </p:nvSpPr>
        <p:spPr>
          <a:xfrm>
            <a:off x="3124080" y="1066680"/>
            <a:ext cx="331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ff66"/>
                </a:solidFill>
                <a:latin typeface="Arial"/>
                <a:ea typeface="Arial"/>
              </a:rPr>
              <a:t>1926   -Nobel Prize in 1933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4" name="Picture 5" descr=""/>
          <p:cNvPicPr/>
          <p:nvPr/>
        </p:nvPicPr>
        <p:blipFill>
          <a:blip r:embed="rId2"/>
          <a:stretch/>
        </p:blipFill>
        <p:spPr>
          <a:xfrm>
            <a:off x="3833640" y="3772080"/>
            <a:ext cx="1905120" cy="285732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6" descr=""/>
          <p:cNvPicPr/>
          <p:nvPr/>
        </p:nvPicPr>
        <p:blipFill>
          <a:blip r:embed="rId3"/>
          <a:stretch/>
        </p:blipFill>
        <p:spPr>
          <a:xfrm>
            <a:off x="5979960" y="3344760"/>
            <a:ext cx="514440" cy="54288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7" descr=""/>
          <p:cNvPicPr/>
          <p:nvPr/>
        </p:nvPicPr>
        <p:blipFill>
          <a:blip r:embed="rId4"/>
          <a:stretch/>
        </p:blipFill>
        <p:spPr>
          <a:xfrm>
            <a:off x="3689280" y="2719440"/>
            <a:ext cx="514440" cy="54288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8" descr=""/>
          <p:cNvPicPr/>
          <p:nvPr/>
        </p:nvPicPr>
        <p:blipFill>
          <a:blip r:embed="rId5"/>
          <a:stretch/>
        </p:blipFill>
        <p:spPr>
          <a:xfrm>
            <a:off x="6405480" y="4172040"/>
            <a:ext cx="514440" cy="54288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9" descr=""/>
          <p:cNvPicPr/>
          <p:nvPr/>
        </p:nvPicPr>
        <p:blipFill>
          <a:blip r:embed="rId6"/>
          <a:stretch/>
        </p:blipFill>
        <p:spPr>
          <a:xfrm>
            <a:off x="2940120" y="3887640"/>
            <a:ext cx="514440" cy="54324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10" descr=""/>
          <p:cNvPicPr/>
          <p:nvPr/>
        </p:nvPicPr>
        <p:blipFill>
          <a:blip r:embed="rId7"/>
          <a:stretch/>
        </p:blipFill>
        <p:spPr>
          <a:xfrm>
            <a:off x="5386320" y="2462040"/>
            <a:ext cx="514440" cy="54324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11" descr=""/>
          <p:cNvPicPr/>
          <p:nvPr/>
        </p:nvPicPr>
        <p:blipFill>
          <a:blip r:embed="rId8"/>
          <a:stretch/>
        </p:blipFill>
        <p:spPr>
          <a:xfrm>
            <a:off x="5248440" y="3789360"/>
            <a:ext cx="514080" cy="54288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12" descr=""/>
          <p:cNvPicPr/>
          <p:nvPr/>
        </p:nvPicPr>
        <p:blipFill>
          <a:blip r:embed="rId9"/>
          <a:stretch/>
        </p:blipFill>
        <p:spPr>
          <a:xfrm>
            <a:off x="644400" y="5711760"/>
            <a:ext cx="514440" cy="54288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13" descr=""/>
          <p:cNvPicPr/>
          <p:nvPr/>
        </p:nvPicPr>
        <p:blipFill>
          <a:blip r:embed="rId10"/>
          <a:stretch/>
        </p:blipFill>
        <p:spPr>
          <a:xfrm>
            <a:off x="8001000" y="1957320"/>
            <a:ext cx="514440" cy="54288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14" descr=""/>
          <p:cNvPicPr/>
          <p:nvPr/>
        </p:nvPicPr>
        <p:blipFill>
          <a:blip r:embed="rId11"/>
          <a:stretch/>
        </p:blipFill>
        <p:spPr>
          <a:xfrm>
            <a:off x="1365120" y="2614680"/>
            <a:ext cx="514440" cy="54288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15" descr=""/>
          <p:cNvPicPr/>
          <p:nvPr/>
        </p:nvPicPr>
        <p:blipFill>
          <a:blip r:embed="rId12"/>
          <a:stretch/>
        </p:blipFill>
        <p:spPr>
          <a:xfrm>
            <a:off x="6670800" y="6315120"/>
            <a:ext cx="514080" cy="54288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16" descr=""/>
          <p:cNvPicPr/>
          <p:nvPr/>
        </p:nvPicPr>
        <p:blipFill>
          <a:blip r:embed="rId13"/>
          <a:stretch/>
        </p:blipFill>
        <p:spPr>
          <a:xfrm>
            <a:off x="8426520" y="4876920"/>
            <a:ext cx="514440" cy="54288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17" descr=""/>
          <p:cNvPicPr/>
          <p:nvPr/>
        </p:nvPicPr>
        <p:blipFill>
          <a:blip r:embed="rId14"/>
          <a:stretch/>
        </p:blipFill>
        <p:spPr>
          <a:xfrm>
            <a:off x="3825720" y="3695760"/>
            <a:ext cx="514440" cy="54288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18" descr=""/>
          <p:cNvPicPr/>
          <p:nvPr/>
        </p:nvPicPr>
        <p:blipFill>
          <a:blip r:embed="rId15"/>
          <a:stretch/>
        </p:blipFill>
        <p:spPr>
          <a:xfrm>
            <a:off x="3679920" y="4640400"/>
            <a:ext cx="514080" cy="54288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19" descr=""/>
          <p:cNvPicPr/>
          <p:nvPr/>
        </p:nvPicPr>
        <p:blipFill>
          <a:blip r:embed="rId16"/>
          <a:stretch/>
        </p:blipFill>
        <p:spPr>
          <a:xfrm>
            <a:off x="4664160" y="3259080"/>
            <a:ext cx="514440" cy="54288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20" descr=""/>
          <p:cNvPicPr/>
          <p:nvPr/>
        </p:nvPicPr>
        <p:blipFill>
          <a:blip r:embed="rId17"/>
          <a:stretch/>
        </p:blipFill>
        <p:spPr>
          <a:xfrm>
            <a:off x="5830920" y="4686480"/>
            <a:ext cx="514440" cy="54288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21" descr=""/>
          <p:cNvPicPr/>
          <p:nvPr/>
        </p:nvPicPr>
        <p:blipFill>
          <a:blip r:embed="rId18"/>
          <a:stretch/>
        </p:blipFill>
        <p:spPr>
          <a:xfrm>
            <a:off x="393840" y="1449360"/>
            <a:ext cx="514080" cy="542880"/>
          </a:xfrm>
          <a:prstGeom prst="rect">
            <a:avLst/>
          </a:prstGeom>
          <a:ln w="0">
            <a:noFill/>
          </a:ln>
        </p:spPr>
      </p:pic>
      <p:sp>
        <p:nvSpPr>
          <p:cNvPr id="311" name="Text Box 22"/>
          <p:cNvSpPr/>
          <p:nvPr/>
        </p:nvSpPr>
        <p:spPr>
          <a:xfrm>
            <a:off x="2819520" y="1447920"/>
            <a:ext cx="3771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ff66"/>
                </a:solidFill>
                <a:latin typeface="Arial"/>
                <a:ea typeface="Arial"/>
              </a:rPr>
              <a:t>Found the probability of finding an electron in an atom, like flies to a candle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7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5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3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1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2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9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3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6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4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4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5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2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5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6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8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1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7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6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1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8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4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19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1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19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9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2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20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7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2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21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5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Місце для нижнього колонтитула 3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49200" y="100080"/>
            <a:ext cx="846144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Erwin Schrödinger</a:t>
            </a: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pic>
        <p:nvPicPr>
          <p:cNvPr id="314" name="Picture 3" descr=""/>
          <p:cNvPicPr/>
          <p:nvPr/>
        </p:nvPicPr>
        <p:blipFill>
          <a:blip r:embed="rId1"/>
          <a:stretch/>
        </p:blipFill>
        <p:spPr>
          <a:xfrm>
            <a:off x="7238880" y="380880"/>
            <a:ext cx="1419480" cy="1419480"/>
          </a:xfrm>
          <a:prstGeom prst="rect">
            <a:avLst/>
          </a:prstGeom>
          <a:ln w="0">
            <a:noFill/>
          </a:ln>
        </p:spPr>
      </p:pic>
      <p:sp>
        <p:nvSpPr>
          <p:cNvPr id="315" name="Text Box 4"/>
          <p:cNvSpPr/>
          <p:nvPr/>
        </p:nvSpPr>
        <p:spPr>
          <a:xfrm>
            <a:off x="3124080" y="1066680"/>
            <a:ext cx="331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ff66"/>
                </a:solidFill>
                <a:latin typeface="Arial"/>
                <a:ea typeface="Arial"/>
              </a:rPr>
              <a:t>1926   -Nobel Prize in 1933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6" name="Picture 5" descr=""/>
          <p:cNvPicPr/>
          <p:nvPr/>
        </p:nvPicPr>
        <p:blipFill>
          <a:blip r:embed="rId2"/>
          <a:stretch/>
        </p:blipFill>
        <p:spPr>
          <a:xfrm>
            <a:off x="3833640" y="3772080"/>
            <a:ext cx="1905120" cy="285732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6" descr=""/>
          <p:cNvPicPr/>
          <p:nvPr/>
        </p:nvPicPr>
        <p:blipFill>
          <a:blip r:embed="rId3"/>
          <a:stretch/>
        </p:blipFill>
        <p:spPr>
          <a:xfrm>
            <a:off x="5979960" y="3344760"/>
            <a:ext cx="514440" cy="54288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7" descr=""/>
          <p:cNvPicPr/>
          <p:nvPr/>
        </p:nvPicPr>
        <p:blipFill>
          <a:blip r:embed="rId4"/>
          <a:stretch/>
        </p:blipFill>
        <p:spPr>
          <a:xfrm>
            <a:off x="3689280" y="2719440"/>
            <a:ext cx="514440" cy="54288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8" descr=""/>
          <p:cNvPicPr/>
          <p:nvPr/>
        </p:nvPicPr>
        <p:blipFill>
          <a:blip r:embed="rId5"/>
          <a:stretch/>
        </p:blipFill>
        <p:spPr>
          <a:xfrm>
            <a:off x="6405480" y="4172040"/>
            <a:ext cx="514440" cy="54288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9" descr=""/>
          <p:cNvPicPr/>
          <p:nvPr/>
        </p:nvPicPr>
        <p:blipFill>
          <a:blip r:embed="rId6"/>
          <a:stretch/>
        </p:blipFill>
        <p:spPr>
          <a:xfrm>
            <a:off x="2940120" y="3887640"/>
            <a:ext cx="514440" cy="54324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10" descr=""/>
          <p:cNvPicPr/>
          <p:nvPr/>
        </p:nvPicPr>
        <p:blipFill>
          <a:blip r:embed="rId7"/>
          <a:stretch/>
        </p:blipFill>
        <p:spPr>
          <a:xfrm>
            <a:off x="5386320" y="2462040"/>
            <a:ext cx="514440" cy="54324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11" descr=""/>
          <p:cNvPicPr/>
          <p:nvPr/>
        </p:nvPicPr>
        <p:blipFill>
          <a:blip r:embed="rId8"/>
          <a:stretch/>
        </p:blipFill>
        <p:spPr>
          <a:xfrm>
            <a:off x="5248440" y="3789360"/>
            <a:ext cx="514080" cy="54288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12" descr=""/>
          <p:cNvPicPr/>
          <p:nvPr/>
        </p:nvPicPr>
        <p:blipFill>
          <a:blip r:embed="rId9"/>
          <a:stretch/>
        </p:blipFill>
        <p:spPr>
          <a:xfrm>
            <a:off x="644400" y="5711760"/>
            <a:ext cx="514440" cy="54288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13" descr=""/>
          <p:cNvPicPr/>
          <p:nvPr/>
        </p:nvPicPr>
        <p:blipFill>
          <a:blip r:embed="rId10"/>
          <a:stretch/>
        </p:blipFill>
        <p:spPr>
          <a:xfrm>
            <a:off x="8001000" y="1957320"/>
            <a:ext cx="514440" cy="54288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14" descr=""/>
          <p:cNvPicPr/>
          <p:nvPr/>
        </p:nvPicPr>
        <p:blipFill>
          <a:blip r:embed="rId11"/>
          <a:stretch/>
        </p:blipFill>
        <p:spPr>
          <a:xfrm>
            <a:off x="1365120" y="2614680"/>
            <a:ext cx="514440" cy="54288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15" descr=""/>
          <p:cNvPicPr/>
          <p:nvPr/>
        </p:nvPicPr>
        <p:blipFill>
          <a:blip r:embed="rId12"/>
          <a:stretch/>
        </p:blipFill>
        <p:spPr>
          <a:xfrm>
            <a:off x="6670800" y="6315120"/>
            <a:ext cx="514080" cy="54288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16" descr=""/>
          <p:cNvPicPr/>
          <p:nvPr/>
        </p:nvPicPr>
        <p:blipFill>
          <a:blip r:embed="rId13"/>
          <a:stretch/>
        </p:blipFill>
        <p:spPr>
          <a:xfrm>
            <a:off x="8426520" y="4876920"/>
            <a:ext cx="514440" cy="54288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17" descr=""/>
          <p:cNvPicPr/>
          <p:nvPr/>
        </p:nvPicPr>
        <p:blipFill>
          <a:blip r:embed="rId14"/>
          <a:stretch/>
        </p:blipFill>
        <p:spPr>
          <a:xfrm>
            <a:off x="3825720" y="3695760"/>
            <a:ext cx="514440" cy="54288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18" descr=""/>
          <p:cNvPicPr/>
          <p:nvPr/>
        </p:nvPicPr>
        <p:blipFill>
          <a:blip r:embed="rId15"/>
          <a:stretch/>
        </p:blipFill>
        <p:spPr>
          <a:xfrm>
            <a:off x="3679920" y="4640400"/>
            <a:ext cx="514080" cy="54288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19" descr=""/>
          <p:cNvPicPr/>
          <p:nvPr/>
        </p:nvPicPr>
        <p:blipFill>
          <a:blip r:embed="rId16"/>
          <a:stretch/>
        </p:blipFill>
        <p:spPr>
          <a:xfrm>
            <a:off x="4664160" y="3259080"/>
            <a:ext cx="514440" cy="54288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20" descr=""/>
          <p:cNvPicPr/>
          <p:nvPr/>
        </p:nvPicPr>
        <p:blipFill>
          <a:blip r:embed="rId17"/>
          <a:stretch/>
        </p:blipFill>
        <p:spPr>
          <a:xfrm>
            <a:off x="5830920" y="4686480"/>
            <a:ext cx="514440" cy="54288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21" descr=""/>
          <p:cNvPicPr/>
          <p:nvPr/>
        </p:nvPicPr>
        <p:blipFill>
          <a:blip r:embed="rId18"/>
          <a:stretch/>
        </p:blipFill>
        <p:spPr>
          <a:xfrm>
            <a:off x="393840" y="1449360"/>
            <a:ext cx="514080" cy="542880"/>
          </a:xfrm>
          <a:prstGeom prst="rect">
            <a:avLst/>
          </a:prstGeom>
          <a:ln w="0">
            <a:noFill/>
          </a:ln>
        </p:spPr>
      </p:pic>
      <p:sp>
        <p:nvSpPr>
          <p:cNvPr id="333" name="Text Box 22"/>
          <p:cNvSpPr/>
          <p:nvPr/>
        </p:nvSpPr>
        <p:spPr>
          <a:xfrm>
            <a:off x="2819520" y="1447920"/>
            <a:ext cx="3771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ff66"/>
                </a:solidFill>
                <a:latin typeface="Arial"/>
                <a:ea typeface="Arial"/>
              </a:rPr>
              <a:t>Found the probability of finding an electron in an atom, like flies to a candle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Місце для нижнього колонтитула 3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48840" y="997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1ab"/>
                </a:solidFill>
                <a:latin typeface="Arial"/>
              </a:rPr>
              <a:t>Quantum Mechanics</a:t>
            </a: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7769160" cy="197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Although we cannot precisely define an electron’s orbit, we can obtain the </a:t>
            </a:r>
            <a:r>
              <a:rPr b="1" i="1" lang="en-US" sz="2800" spc="-1" strike="noStrike">
                <a:solidFill>
                  <a:srgbClr val="376bb4"/>
                </a:solidFill>
                <a:latin typeface="Arial"/>
              </a:rPr>
              <a:t>probability </a:t>
            </a: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of finding an electron at a given point around the nucleus.</a:t>
            </a:r>
            <a:endParaRPr b="0" lang="en-US" sz="28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337" name="Rectangle 4"/>
          <p:cNvSpPr/>
          <p:nvPr/>
        </p:nvSpPr>
        <p:spPr>
          <a:xfrm>
            <a:off x="0" y="3200400"/>
            <a:ext cx="38862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76000"/>
          </a:bodyPr>
          <a:p>
            <a:pPr marL="260640" indent="-260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Erwin Schrodinger defined this probability in a mathematical expression called a </a:t>
            </a:r>
            <a:r>
              <a:rPr b="1" lang="en-US" sz="2400" spc="-1" strike="noStrike">
                <a:solidFill>
                  <a:srgbClr val="376bb4"/>
                </a:solidFill>
                <a:latin typeface="Arial"/>
              </a:rPr>
              <a:t>wave function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, denoted</a:t>
            </a:r>
            <a:r>
              <a:rPr b="0" lang="en-US" sz="2400" spc="-1" strike="noStrike">
                <a:solidFill>
                  <a:srgbClr val="376bb4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76bb4"/>
                </a:solidFill>
                <a:latin typeface="Symbol"/>
                <a:ea typeface="Symbol"/>
              </a:rPr>
              <a:t></a:t>
            </a:r>
            <a:r>
              <a:rPr b="1" lang="en-US" sz="2400" spc="-1" strike="noStrike">
                <a:solidFill>
                  <a:srgbClr val="376bb4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76bb4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(psi). The probability of finding a particle in a region of space is defined by</a:t>
            </a:r>
            <a:r>
              <a:rPr b="0" lang="en-US" sz="2400" spc="-1" strike="noStrike">
                <a:solidFill>
                  <a:srgbClr val="376bb4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76bb4"/>
                </a:solidFill>
                <a:latin typeface="Symbol"/>
                <a:ea typeface="Symbol"/>
              </a:rPr>
              <a:t></a:t>
            </a:r>
            <a:r>
              <a:rPr b="1" lang="en-US" sz="2400" spc="-1" strike="noStrike" baseline="30000">
                <a:solidFill>
                  <a:srgbClr val="376bb4"/>
                </a:solidFill>
                <a:latin typeface="Symbol"/>
                <a:ea typeface="Symbol"/>
              </a:rPr>
              <a:t></a:t>
            </a:r>
            <a:r>
              <a:rPr b="1" lang="en-US" sz="2400" spc="-1" strike="noStrike">
                <a:solidFill>
                  <a:srgbClr val="376bb4"/>
                </a:solidFill>
                <a:latin typeface="Times New Roman"/>
              </a:rPr>
              <a:t>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8" name="Picture 10" descr=""/>
          <p:cNvPicPr/>
          <p:nvPr/>
        </p:nvPicPr>
        <p:blipFill>
          <a:blip r:embed="rId1"/>
          <a:stretch/>
        </p:blipFill>
        <p:spPr>
          <a:xfrm>
            <a:off x="7162920" y="228600"/>
            <a:ext cx="1571400" cy="157176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13" descr="07_19"/>
          <p:cNvPicPr/>
          <p:nvPr/>
        </p:nvPicPr>
        <p:blipFill>
          <a:blip r:embed="rId2"/>
          <a:stretch/>
        </p:blipFill>
        <p:spPr>
          <a:xfrm>
            <a:off x="3962520" y="3276720"/>
            <a:ext cx="4952880" cy="30366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p:transition>
    <p:dissolv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Місце для нижнього колонтитула 3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504800" y="99720"/>
            <a:ext cx="61279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1ab"/>
                </a:solidFill>
                <a:latin typeface="Arial"/>
              </a:rPr>
              <a:t>Quantum Numbers and Atomic Orbitals</a:t>
            </a: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09480" y="1685880"/>
            <a:ext cx="776952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bd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According to quantum mechanics, each electron is described by four quantum numbers.</a:t>
            </a:r>
            <a:endParaRPr b="0" lang="en-US" sz="28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343" name="Rectangle 4"/>
          <p:cNvSpPr/>
          <p:nvPr/>
        </p:nvSpPr>
        <p:spPr>
          <a:xfrm>
            <a:off x="457200" y="4876920"/>
            <a:ext cx="8686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The first three define the wave function for a particular electron. The fourth quantum number refers to the magnetic property of electrons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Rectangle 6"/>
          <p:cNvSpPr/>
          <p:nvPr/>
        </p:nvSpPr>
        <p:spPr>
          <a:xfrm>
            <a:off x="457200" y="3048120"/>
            <a:ext cx="8686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33000"/>
          </a:bodyPr>
          <a:p>
            <a:pPr lvl="1" marL="245160" indent="-9432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6bb4"/>
                </a:solidFill>
                <a:latin typeface="Arial"/>
              </a:rPr>
              <a:t>Principal quantum number</a:t>
            </a:r>
            <a:r>
              <a:rPr b="1" lang="en-US" sz="2400" spc="-1" strike="noStrike">
                <a:solidFill>
                  <a:srgbClr val="376bb4"/>
                </a:solidFill>
                <a:latin typeface="Times New Roman"/>
              </a:rPr>
              <a:t>  (n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45160" indent="-9432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6bb4"/>
                </a:solidFill>
                <a:latin typeface="Arial"/>
              </a:rPr>
              <a:t>Angular momentum quantum number</a:t>
            </a:r>
            <a:r>
              <a:rPr b="1" lang="en-US" sz="2400" spc="-1" strike="noStrike">
                <a:solidFill>
                  <a:srgbClr val="376bb4"/>
                </a:solidFill>
                <a:latin typeface="Times New Roman"/>
              </a:rPr>
              <a:t>  (</a:t>
            </a:r>
            <a:r>
              <a:rPr b="1" i="1" lang="en-US" sz="2400" spc="-1" strike="noStrike">
                <a:solidFill>
                  <a:srgbClr val="376bb4"/>
                </a:solidFill>
                <a:latin typeface="Times New Roman"/>
              </a:rPr>
              <a:t>l</a:t>
            </a:r>
            <a:r>
              <a:rPr b="1" lang="en-US" sz="2400" spc="-1" strike="noStrike">
                <a:solidFill>
                  <a:srgbClr val="376bb4"/>
                </a:solidFill>
                <a:latin typeface="Times New Roman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45160" indent="-9432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6bb4"/>
                </a:solidFill>
                <a:latin typeface="Arial"/>
              </a:rPr>
              <a:t>Magnetic quantum number</a:t>
            </a:r>
            <a:r>
              <a:rPr b="1" lang="en-US" sz="2400" spc="-1" strike="noStrike">
                <a:solidFill>
                  <a:srgbClr val="376bb4"/>
                </a:solidFill>
                <a:latin typeface="Times New Roman"/>
              </a:rPr>
              <a:t>  (m</a:t>
            </a:r>
            <a:r>
              <a:rPr b="1" i="1" lang="en-US" sz="2400" spc="-1" strike="noStrike" baseline="-25000">
                <a:solidFill>
                  <a:srgbClr val="376bb4"/>
                </a:solidFill>
                <a:latin typeface="Times New Roman"/>
              </a:rPr>
              <a:t>l</a:t>
            </a:r>
            <a:r>
              <a:rPr b="1" lang="en-US" sz="2400" spc="-1" strike="noStrike">
                <a:solidFill>
                  <a:srgbClr val="376bb4"/>
                </a:solidFill>
                <a:latin typeface="Times New Roman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45160" indent="-9432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6bb4"/>
                </a:solidFill>
                <a:latin typeface="Arial"/>
              </a:rPr>
              <a:t>Spin quantum number</a:t>
            </a:r>
            <a:r>
              <a:rPr b="1" lang="en-US" sz="2400" spc="-1" strike="noStrike">
                <a:solidFill>
                  <a:srgbClr val="376bb4"/>
                </a:solidFill>
                <a:latin typeface="Times New Roman"/>
              </a:rPr>
              <a:t>  (m</a:t>
            </a:r>
            <a:r>
              <a:rPr b="1" lang="en-US" sz="2400" spc="-1" strike="noStrike" baseline="-25000">
                <a:solidFill>
                  <a:srgbClr val="376bb4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376bb4"/>
                </a:solidFill>
                <a:latin typeface="Times New Roman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Місце для нижнього колонтитула 3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48840" y="997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1ab"/>
                </a:solidFill>
                <a:latin typeface="Arial"/>
              </a:rPr>
              <a:t>Quantum #’s are like an Address. </a:t>
            </a: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pic>
        <p:nvPicPr>
          <p:cNvPr id="347" name="Picture 5" descr="j0185604"/>
          <p:cNvPicPr/>
          <p:nvPr/>
        </p:nvPicPr>
        <p:blipFill>
          <a:blip r:embed="rId1"/>
          <a:stretch/>
        </p:blipFill>
        <p:spPr>
          <a:xfrm>
            <a:off x="7620120" y="2438280"/>
            <a:ext cx="1141200" cy="114300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6" descr="j0335112"/>
          <p:cNvPicPr/>
          <p:nvPr/>
        </p:nvPicPr>
        <p:blipFill>
          <a:blip r:embed="rId2"/>
          <a:stretch/>
        </p:blipFill>
        <p:spPr>
          <a:xfrm>
            <a:off x="457200" y="2362320"/>
            <a:ext cx="1219320" cy="121896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7" descr="j0158007"/>
          <p:cNvPicPr/>
          <p:nvPr/>
        </p:nvPicPr>
        <p:blipFill>
          <a:blip r:embed="rId3"/>
          <a:stretch/>
        </p:blipFill>
        <p:spPr>
          <a:xfrm>
            <a:off x="457200" y="5562720"/>
            <a:ext cx="8305920" cy="53820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9" descr="j0212957"/>
          <p:cNvPicPr/>
          <p:nvPr/>
        </p:nvPicPr>
        <p:blipFill>
          <a:blip r:embed="rId4"/>
          <a:stretch/>
        </p:blipFill>
        <p:spPr>
          <a:xfrm>
            <a:off x="4952880" y="2362320"/>
            <a:ext cx="1830600" cy="114912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10" descr="j0205462"/>
          <p:cNvPicPr/>
          <p:nvPr/>
        </p:nvPicPr>
        <p:blipFill>
          <a:blip r:embed="rId5"/>
          <a:stretch/>
        </p:blipFill>
        <p:spPr>
          <a:xfrm>
            <a:off x="2286000" y="2133720"/>
            <a:ext cx="1819440" cy="1809720"/>
          </a:xfrm>
          <a:prstGeom prst="rect">
            <a:avLst/>
          </a:prstGeom>
          <a:ln w="0">
            <a:noFill/>
          </a:ln>
        </p:spPr>
      </p:pic>
      <p:sp>
        <p:nvSpPr>
          <p:cNvPr id="352" name="Text Box 11"/>
          <p:cNvSpPr/>
          <p:nvPr/>
        </p:nvSpPr>
        <p:spPr>
          <a:xfrm>
            <a:off x="533520" y="16002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at do you need to know to find out where you live?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Text Box 12"/>
          <p:cNvSpPr/>
          <p:nvPr/>
        </p:nvSpPr>
        <p:spPr>
          <a:xfrm>
            <a:off x="380880" y="37339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t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Text Box 13"/>
          <p:cNvSpPr/>
          <p:nvPr/>
        </p:nvSpPr>
        <p:spPr>
          <a:xfrm>
            <a:off x="2514600" y="38098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it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Text Box 14"/>
          <p:cNvSpPr/>
          <p:nvPr/>
        </p:nvSpPr>
        <p:spPr>
          <a:xfrm>
            <a:off x="5181480" y="38098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ree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Text Box 15"/>
          <p:cNvSpPr/>
          <p:nvPr/>
        </p:nvSpPr>
        <p:spPr>
          <a:xfrm>
            <a:off x="7543800" y="38098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ou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Text Box 16"/>
          <p:cNvSpPr/>
          <p:nvPr/>
        </p:nvSpPr>
        <p:spPr>
          <a:xfrm>
            <a:off x="0" y="441972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inciple Quantum # (n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Text Box 17"/>
          <p:cNvSpPr/>
          <p:nvPr/>
        </p:nvSpPr>
        <p:spPr>
          <a:xfrm>
            <a:off x="2362320" y="441972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ngular Quantum # (</a:t>
            </a:r>
            <a:r>
              <a:rPr b="1" lang="en-US" sz="1800" spc="-1" strike="noStrike">
                <a:solidFill>
                  <a:srgbClr val="000000"/>
                </a:solidFill>
                <a:latin typeface="Script MT Bold"/>
              </a:rPr>
              <a:t>l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Text Box 20"/>
          <p:cNvSpPr/>
          <p:nvPr/>
        </p:nvSpPr>
        <p:spPr>
          <a:xfrm>
            <a:off x="5029200" y="4419720"/>
            <a:ext cx="182880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gnetic Quantum # (m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1800" spc="-1" strike="noStrike">
                <a:solidFill>
                  <a:srgbClr val="000000"/>
                </a:solidFill>
                <a:latin typeface="Script MT Bold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Text Box 21"/>
          <p:cNvSpPr/>
          <p:nvPr/>
        </p:nvSpPr>
        <p:spPr>
          <a:xfrm>
            <a:off x="7162920" y="4419720"/>
            <a:ext cx="198108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pin Quantum # (m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Script MT Bold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500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Місце для нижнього колонтитула 3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/>
          </p:nvPr>
        </p:nvSpPr>
        <p:spPr>
          <a:xfrm>
            <a:off x="609480" y="1638000"/>
            <a:ext cx="7769520" cy="411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bd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bb4"/>
                </a:solidFill>
                <a:latin typeface="Arial"/>
              </a:rPr>
              <a:t>The </a:t>
            </a:r>
            <a:r>
              <a:rPr b="1" lang="en-US" sz="3200" spc="-1" strike="noStrike">
                <a:solidFill>
                  <a:srgbClr val="376bb4"/>
                </a:solidFill>
                <a:latin typeface="Arial"/>
              </a:rPr>
              <a:t>principal quantum number(n)</a:t>
            </a:r>
            <a:r>
              <a:rPr b="0" lang="en-US" sz="3200" spc="-1" strike="noStrike">
                <a:solidFill>
                  <a:srgbClr val="376bb4"/>
                </a:solidFill>
                <a:latin typeface="Arial"/>
              </a:rPr>
              <a:t> represents the “shell number” in which an electron “resides.”</a:t>
            </a: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363" name="Rectangle 4"/>
          <p:cNvSpPr/>
          <p:nvPr/>
        </p:nvSpPr>
        <p:spPr>
          <a:xfrm>
            <a:off x="644400" y="3470400"/>
            <a:ext cx="78487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The smaller n is, the smaller the orbital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The smaller n is, the lower the energy of the electron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title"/>
          </p:nvPr>
        </p:nvSpPr>
        <p:spPr>
          <a:xfrm>
            <a:off x="1504800" y="99720"/>
            <a:ext cx="61279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1ab"/>
                </a:solidFill>
                <a:latin typeface="Arial"/>
              </a:rPr>
              <a:t>Quantum Numbers and Atomic Orbitals</a:t>
            </a: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Місце для нижнього колонтитула 3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1033"/>
          <p:cNvSpPr/>
          <p:nvPr/>
        </p:nvSpPr>
        <p:spPr>
          <a:xfrm>
            <a:off x="457200" y="4267080"/>
            <a:ext cx="464832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So, given the frequency of light, its wavelength can be calculated, or vice versa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48840" y="11700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1ab"/>
                </a:solidFill>
                <a:latin typeface="Arial"/>
              </a:rPr>
              <a:t>The Wave Nature of Light</a:t>
            </a: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644480"/>
            <a:ext cx="830736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bd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The product of the frequency, </a:t>
            </a:r>
            <a:r>
              <a:rPr b="1" lang="en-US" sz="2800" spc="-1" strike="noStrike">
                <a:solidFill>
                  <a:srgbClr val="376bb4"/>
                </a:solidFill>
                <a:latin typeface="Symbol"/>
                <a:ea typeface="Symbol"/>
              </a:rPr>
              <a:t></a:t>
            </a: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 (waves/sec) and the wavelength, </a:t>
            </a:r>
            <a:r>
              <a:rPr b="1" lang="en-US" sz="2800" spc="-1" strike="noStrike">
                <a:solidFill>
                  <a:srgbClr val="376bb4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 (m/wave) would give the speed of the wave in m/s.</a:t>
            </a:r>
            <a:endParaRPr b="0" lang="en-US" sz="2800" spc="-1" strike="noStrike">
              <a:solidFill>
                <a:srgbClr val="376bb4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" name="Object 1029"/>
              <p:cNvSpPr txBox="1"/>
              <p:nvPr/>
            </p:nvSpPr>
            <p:spPr>
              <a:xfrm>
                <a:off x="4432320" y="3117960"/>
                <a:ext cx="279360" cy="62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grpSp>
        <p:nvGrpSpPr>
          <p:cNvPr id="100" name="Group 1035"/>
          <p:cNvGrpSpPr/>
          <p:nvPr/>
        </p:nvGrpSpPr>
        <p:grpSpPr>
          <a:xfrm>
            <a:off x="228600" y="2514600"/>
            <a:ext cx="8381880" cy="1905120"/>
            <a:chOff x="228600" y="2514600"/>
            <a:chExt cx="8381880" cy="1905120"/>
          </a:xfrm>
        </p:grpSpPr>
        <p:sp>
          <p:nvSpPr>
            <p:cNvPr id="101" name="Rectangle 1030"/>
            <p:cNvSpPr/>
            <p:nvPr/>
          </p:nvSpPr>
          <p:spPr>
            <a:xfrm>
              <a:off x="228600" y="2514600"/>
              <a:ext cx="8381880" cy="190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Clr>
                  <a:srgbClr val="cbd990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cbd990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76bb4"/>
                  </a:solidFill>
                  <a:latin typeface="Arial"/>
                </a:rPr>
                <a:t>In a vacuum, the speed of light, c, is 3.00 x 10</a:t>
              </a:r>
              <a:r>
                <a:rPr b="0" lang="en-US" sz="2400" spc="-1" strike="noStrike" baseline="30000">
                  <a:solidFill>
                    <a:srgbClr val="376bb4"/>
                  </a:solidFill>
                  <a:latin typeface="Arial"/>
                </a:rPr>
                <a:t>8</a:t>
              </a:r>
              <a:r>
                <a:rPr b="0" lang="en-US" sz="2400" spc="-1" strike="noStrike">
                  <a:solidFill>
                    <a:srgbClr val="376bb4"/>
                  </a:solidFill>
                  <a:latin typeface="Arial"/>
                </a:rPr>
                <a:t> m/s. Therefore,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2" name="Object 1031"/>
                <p:cNvSpPr txBox="1"/>
                <p:nvPr/>
              </p:nvSpPr>
              <p:spPr>
                <a:xfrm>
                  <a:off x="3340080" y="3886200"/>
                  <a:ext cx="1447920" cy="457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c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νλ</m:t>
                      </m: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103" name="Picture 1037" descr=""/>
          <p:cNvPicPr/>
          <p:nvPr/>
        </p:nvPicPr>
        <p:blipFill>
          <a:blip r:embed="rId1"/>
          <a:stretch/>
        </p:blipFill>
        <p:spPr>
          <a:xfrm>
            <a:off x="5181480" y="3809880"/>
            <a:ext cx="3810240" cy="2438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>
    <p:dissolv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Місце для нижнього колонтитула 3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/>
          </p:nvPr>
        </p:nvSpPr>
        <p:spPr>
          <a:xfrm>
            <a:off x="609480" y="1670040"/>
            <a:ext cx="776952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bd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The </a:t>
            </a:r>
            <a:r>
              <a:rPr b="1" lang="en-US" sz="2800" spc="-1" strike="noStrike">
                <a:solidFill>
                  <a:srgbClr val="376bb4"/>
                </a:solidFill>
                <a:latin typeface="Arial"/>
              </a:rPr>
              <a:t>angular momentum quantum number (</a:t>
            </a:r>
            <a:r>
              <a:rPr b="1" i="1" lang="en-US" sz="2800" spc="-1" strike="noStrike">
                <a:solidFill>
                  <a:srgbClr val="376bb4"/>
                </a:solidFill>
                <a:latin typeface="Arial"/>
              </a:rPr>
              <a:t>l</a:t>
            </a:r>
            <a:r>
              <a:rPr b="1" lang="en-US" sz="2800" spc="-1" strike="noStrike">
                <a:solidFill>
                  <a:srgbClr val="376bb4"/>
                </a:solidFill>
                <a:latin typeface="Arial"/>
              </a:rPr>
              <a:t>)</a:t>
            </a: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 distinguishes “sub shells” within a given shell that have different shapes.</a:t>
            </a:r>
            <a:endParaRPr b="0" lang="en-US" sz="28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367" name="Rectangle 4"/>
          <p:cNvSpPr/>
          <p:nvPr/>
        </p:nvSpPr>
        <p:spPr>
          <a:xfrm>
            <a:off x="606600" y="3200400"/>
            <a:ext cx="792468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7000"/>
          </a:bodyPr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Each main “shell” is subdivided into “sub shells.” Within each shell of quantum number n, there are n sub shells, each with a distinctive shap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76bb4"/>
                </a:solidFill>
                <a:latin typeface="Arial"/>
              </a:rPr>
              <a:t>l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 can have any integer value from 0 to (n - 1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The different subshells are denoted by letter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               </a:t>
            </a:r>
            <a:r>
              <a:rPr b="1" lang="en-US" sz="2400" spc="-1" strike="noStrike">
                <a:solidFill>
                  <a:srgbClr val="376bb4"/>
                </a:solidFill>
                <a:latin typeface="Arial"/>
              </a:rPr>
              <a:t>Letter             s     p     d     f     g  …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6bb4"/>
                </a:solidFill>
                <a:latin typeface="Arial"/>
              </a:rPr>
              <a:t>                 </a:t>
            </a:r>
            <a:r>
              <a:rPr b="1" i="1" lang="en-US" sz="2400" spc="-1" strike="noStrike">
                <a:solidFill>
                  <a:srgbClr val="376bb4"/>
                </a:solidFill>
                <a:latin typeface="Arial"/>
              </a:rPr>
              <a:t>l</a:t>
            </a:r>
            <a:r>
              <a:rPr b="1" lang="en-US" sz="2400" spc="-1" strike="noStrike">
                <a:solidFill>
                  <a:srgbClr val="376bb4"/>
                </a:solidFill>
                <a:latin typeface="Arial"/>
              </a:rPr>
              <a:t>                     0     1     2     3    4  …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title"/>
          </p:nvPr>
        </p:nvSpPr>
        <p:spPr>
          <a:xfrm>
            <a:off x="1504800" y="99720"/>
            <a:ext cx="61279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1ab"/>
                </a:solidFill>
                <a:latin typeface="Arial"/>
              </a:rPr>
              <a:t>Quantum Numbers and Atomic Orbitals</a:t>
            </a: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Місце для нижнього колонтитула 3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914400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bd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376bb4"/>
                </a:solidFill>
                <a:latin typeface="Arial"/>
              </a:rPr>
              <a:t>magnetic quantum number (m</a:t>
            </a:r>
            <a:r>
              <a:rPr b="1" i="1" lang="en-US" sz="2400" spc="-1" strike="noStrike" baseline="-25000">
                <a:solidFill>
                  <a:srgbClr val="376bb4"/>
                </a:solidFill>
                <a:latin typeface="Arial"/>
              </a:rPr>
              <a:t>l</a:t>
            </a:r>
            <a:r>
              <a:rPr b="1" lang="en-US" sz="2400" spc="-1" strike="noStrike">
                <a:solidFill>
                  <a:srgbClr val="376bb4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 distinguishes orbitals within a given sub-shell that have different shapes and orientations in space. Each sub shell is subdivided into “orbitals,” each capable of holding a pair of electrons.  m</a:t>
            </a:r>
            <a:r>
              <a:rPr b="1" i="1" lang="en-US" sz="2400" spc="-1" strike="noStrike" baseline="-25000">
                <a:solidFill>
                  <a:srgbClr val="376bb4"/>
                </a:solidFill>
                <a:latin typeface="Arial"/>
              </a:rPr>
              <a:t>l</a:t>
            </a:r>
            <a:r>
              <a:rPr b="0" lang="en-US" sz="2400" spc="-1" strike="noStrike" baseline="-25000">
                <a:solidFill>
                  <a:srgbClr val="376bb4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can have any integer value from -</a:t>
            </a:r>
            <a:r>
              <a:rPr b="1" i="1" lang="en-US" sz="2400" spc="-1" strike="noStrike">
                <a:solidFill>
                  <a:srgbClr val="376bb4"/>
                </a:solidFill>
                <a:latin typeface="Arial"/>
              </a:rPr>
              <a:t>l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  to +</a:t>
            </a:r>
            <a:r>
              <a:rPr b="1" i="1" lang="en-US" sz="2400" spc="-1" strike="noStrike">
                <a:solidFill>
                  <a:srgbClr val="376bb4"/>
                </a:solidFill>
                <a:latin typeface="Arial"/>
              </a:rPr>
              <a:t>l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.  Each orbital within a given sub shell has the same energy.</a:t>
            </a:r>
            <a:endParaRPr b="0" lang="en-US" sz="2400" spc="-1" strike="noStrike">
              <a:solidFill>
                <a:srgbClr val="376bb4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title"/>
          </p:nvPr>
        </p:nvSpPr>
        <p:spPr>
          <a:xfrm>
            <a:off x="1504800" y="99720"/>
            <a:ext cx="61279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1ab"/>
                </a:solidFill>
                <a:latin typeface="Arial"/>
              </a:rPr>
              <a:t>Quantum Numbers and Atomic Orbitals</a:t>
            </a: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372" name="Rectangle 9"/>
          <p:cNvSpPr/>
          <p:nvPr/>
        </p:nvSpPr>
        <p:spPr>
          <a:xfrm>
            <a:off x="0" y="4191120"/>
            <a:ext cx="883908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marL="260640" indent="-26064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376bb4"/>
                </a:solidFill>
                <a:latin typeface="Arial"/>
              </a:rPr>
              <a:t>spin quantum number (m</a:t>
            </a:r>
            <a:r>
              <a:rPr b="1" lang="en-US" sz="2400" spc="-1" strike="noStrike" baseline="-25000">
                <a:solidFill>
                  <a:srgbClr val="376bb4"/>
                </a:solidFill>
                <a:latin typeface="Arial"/>
              </a:rPr>
              <a:t>s</a:t>
            </a:r>
            <a:r>
              <a:rPr b="1" lang="en-US" sz="2400" spc="-1" strike="noStrike">
                <a:solidFill>
                  <a:srgbClr val="376bb4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 refers to the two possible spin orientations of the electrons residing within a given orbital. Each orbital can hold only two electrons whose spins must oppose one another.  The possible values of m</a:t>
            </a:r>
            <a:r>
              <a:rPr b="0" lang="en-US" sz="2400" spc="-1" strike="noStrike" baseline="-25000">
                <a:solidFill>
                  <a:srgbClr val="376bb4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 are +1/2 and –1/2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Місце для нижнього колонтитула 3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48840" y="997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1ab"/>
                </a:solidFill>
                <a:latin typeface="Arial"/>
              </a:rPr>
              <a:t>Why the different shapes?</a:t>
            </a: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375" name="Oval 3"/>
          <p:cNvSpPr/>
          <p:nvPr/>
        </p:nvSpPr>
        <p:spPr>
          <a:xfrm>
            <a:off x="3962520" y="3505320"/>
            <a:ext cx="761760" cy="685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Oval 4"/>
          <p:cNvSpPr/>
          <p:nvPr/>
        </p:nvSpPr>
        <p:spPr>
          <a:xfrm>
            <a:off x="3505320" y="3048120"/>
            <a:ext cx="1676160" cy="1676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Oval 5"/>
          <p:cNvSpPr/>
          <p:nvPr/>
        </p:nvSpPr>
        <p:spPr>
          <a:xfrm rot="5337000">
            <a:off x="3921480" y="4075560"/>
            <a:ext cx="839880" cy="460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Oval 6"/>
          <p:cNvSpPr/>
          <p:nvPr/>
        </p:nvSpPr>
        <p:spPr>
          <a:xfrm rot="16188600">
            <a:off x="3847680" y="3161880"/>
            <a:ext cx="91440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Oval 7"/>
          <p:cNvSpPr/>
          <p:nvPr/>
        </p:nvSpPr>
        <p:spPr>
          <a:xfrm rot="21514200">
            <a:off x="3429000" y="3581280"/>
            <a:ext cx="91440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Oval 8"/>
          <p:cNvSpPr/>
          <p:nvPr/>
        </p:nvSpPr>
        <p:spPr>
          <a:xfrm rot="21514200">
            <a:off x="4343400" y="3581280"/>
            <a:ext cx="91440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Oval 9"/>
          <p:cNvSpPr/>
          <p:nvPr/>
        </p:nvSpPr>
        <p:spPr>
          <a:xfrm rot="16188600">
            <a:off x="4074840" y="3694320"/>
            <a:ext cx="457200" cy="8380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Oval 10"/>
          <p:cNvSpPr/>
          <p:nvPr/>
        </p:nvSpPr>
        <p:spPr>
          <a:xfrm rot="16188600">
            <a:off x="4228920" y="3542760"/>
            <a:ext cx="228600" cy="457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Oval 11"/>
          <p:cNvSpPr/>
          <p:nvPr/>
        </p:nvSpPr>
        <p:spPr>
          <a:xfrm>
            <a:off x="2971800" y="2438280"/>
            <a:ext cx="2819520" cy="28958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Oval 12"/>
          <p:cNvSpPr/>
          <p:nvPr/>
        </p:nvSpPr>
        <p:spPr>
          <a:xfrm>
            <a:off x="4038480" y="3581280"/>
            <a:ext cx="609840" cy="3049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Oval 13"/>
          <p:cNvSpPr/>
          <p:nvPr/>
        </p:nvSpPr>
        <p:spPr>
          <a:xfrm>
            <a:off x="3962520" y="2362320"/>
            <a:ext cx="761760" cy="1523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Oval 14"/>
          <p:cNvSpPr/>
          <p:nvPr/>
        </p:nvSpPr>
        <p:spPr>
          <a:xfrm rot="5478000">
            <a:off x="3276360" y="3124080"/>
            <a:ext cx="761760" cy="1524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Oval 15"/>
          <p:cNvSpPr/>
          <p:nvPr/>
        </p:nvSpPr>
        <p:spPr>
          <a:xfrm>
            <a:off x="3733920" y="3886200"/>
            <a:ext cx="121896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Oval 16"/>
          <p:cNvSpPr/>
          <p:nvPr/>
        </p:nvSpPr>
        <p:spPr>
          <a:xfrm>
            <a:off x="3962520" y="3886200"/>
            <a:ext cx="761760" cy="1523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Oval 17"/>
          <p:cNvSpPr/>
          <p:nvPr/>
        </p:nvSpPr>
        <p:spPr>
          <a:xfrm rot="5393400">
            <a:off x="4800240" y="3124080"/>
            <a:ext cx="761760" cy="1523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Oval 18"/>
          <p:cNvSpPr/>
          <p:nvPr/>
        </p:nvSpPr>
        <p:spPr>
          <a:xfrm rot="2746800">
            <a:off x="4152960" y="4152960"/>
            <a:ext cx="1752480" cy="7617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Oval 19"/>
          <p:cNvSpPr/>
          <p:nvPr/>
        </p:nvSpPr>
        <p:spPr>
          <a:xfrm rot="19262400">
            <a:off x="2895480" y="4114440"/>
            <a:ext cx="1752840" cy="7621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Oval 20"/>
          <p:cNvSpPr/>
          <p:nvPr/>
        </p:nvSpPr>
        <p:spPr>
          <a:xfrm rot="2746800">
            <a:off x="2856960" y="2857680"/>
            <a:ext cx="1752480" cy="7621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Oval 21"/>
          <p:cNvSpPr/>
          <p:nvPr/>
        </p:nvSpPr>
        <p:spPr>
          <a:xfrm rot="19065600">
            <a:off x="4276800" y="2921040"/>
            <a:ext cx="1676160" cy="7621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Text Box 22"/>
          <p:cNvSpPr/>
          <p:nvPr/>
        </p:nvSpPr>
        <p:spPr>
          <a:xfrm>
            <a:off x="4800600" y="3657600"/>
            <a:ext cx="685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7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s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Text Box 23"/>
          <p:cNvSpPr/>
          <p:nvPr/>
        </p:nvSpPr>
        <p:spPr>
          <a:xfrm>
            <a:off x="5867280" y="3657600"/>
            <a:ext cx="685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7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s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Text Box 24"/>
          <p:cNvSpPr/>
          <p:nvPr/>
        </p:nvSpPr>
        <p:spPr>
          <a:xfrm>
            <a:off x="5257800" y="3657600"/>
            <a:ext cx="685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7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s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Text Box 25"/>
          <p:cNvSpPr/>
          <p:nvPr/>
        </p:nvSpPr>
        <p:spPr>
          <a:xfrm>
            <a:off x="5257800" y="3886200"/>
            <a:ext cx="685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7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px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Text Box 26"/>
          <p:cNvSpPr/>
          <p:nvPr/>
        </p:nvSpPr>
        <p:spPr>
          <a:xfrm>
            <a:off x="3962520" y="4648320"/>
            <a:ext cx="685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7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pz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Text Box 27"/>
          <p:cNvSpPr/>
          <p:nvPr/>
        </p:nvSpPr>
        <p:spPr>
          <a:xfrm>
            <a:off x="5715000" y="2438280"/>
            <a:ext cx="685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7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d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Text Box 28"/>
          <p:cNvSpPr/>
          <p:nvPr/>
        </p:nvSpPr>
        <p:spPr>
          <a:xfrm>
            <a:off x="3962520" y="2590920"/>
            <a:ext cx="685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7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py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Text Box 29"/>
          <p:cNvSpPr/>
          <p:nvPr/>
        </p:nvSpPr>
        <p:spPr>
          <a:xfrm>
            <a:off x="4038480" y="4724280"/>
            <a:ext cx="685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7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pz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Text Box 30"/>
          <p:cNvSpPr/>
          <p:nvPr/>
        </p:nvSpPr>
        <p:spPr>
          <a:xfrm>
            <a:off x="3962520" y="1981080"/>
            <a:ext cx="685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7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py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Text Box 31"/>
          <p:cNvSpPr/>
          <p:nvPr/>
        </p:nvSpPr>
        <p:spPr>
          <a:xfrm>
            <a:off x="5943600" y="3886200"/>
            <a:ext cx="685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7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px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Text Box 32"/>
          <p:cNvSpPr/>
          <p:nvPr/>
        </p:nvSpPr>
        <p:spPr>
          <a:xfrm>
            <a:off x="7315200" y="213372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-shap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Text Box 33"/>
          <p:cNvSpPr/>
          <p:nvPr/>
        </p:nvSpPr>
        <p:spPr>
          <a:xfrm>
            <a:off x="7315200" y="289548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-shap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Text Box 34"/>
          <p:cNvSpPr/>
          <p:nvPr/>
        </p:nvSpPr>
        <p:spPr>
          <a:xfrm>
            <a:off x="7315200" y="365760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-shap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Text Box 35"/>
          <p:cNvSpPr/>
          <p:nvPr/>
        </p:nvSpPr>
        <p:spPr>
          <a:xfrm>
            <a:off x="7315200" y="449568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-shap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Text Box 36"/>
          <p:cNvSpPr/>
          <p:nvPr/>
        </p:nvSpPr>
        <p:spPr>
          <a:xfrm>
            <a:off x="7010280" y="16002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imation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Text Box 37"/>
          <p:cNvSpPr/>
          <p:nvPr/>
        </p:nvSpPr>
        <p:spPr>
          <a:xfrm>
            <a:off x="0" y="16002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ictur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Text Box 38"/>
          <p:cNvSpPr/>
          <p:nvPr/>
        </p:nvSpPr>
        <p:spPr>
          <a:xfrm>
            <a:off x="380880" y="213372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-shap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Text Box 39"/>
          <p:cNvSpPr/>
          <p:nvPr/>
        </p:nvSpPr>
        <p:spPr>
          <a:xfrm>
            <a:off x="380880" y="289548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-shap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Text Box 40"/>
          <p:cNvSpPr/>
          <p:nvPr/>
        </p:nvSpPr>
        <p:spPr>
          <a:xfrm>
            <a:off x="380880" y="365760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-shap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8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1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18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3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35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2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65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8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82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1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99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4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8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2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16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1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5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9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3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7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Місце для нижнього колонтитула 3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48840" y="997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1ab"/>
                </a:solidFill>
                <a:latin typeface="Arial"/>
              </a:rPr>
              <a:t>Scanning Tunneling Microscope</a:t>
            </a:r>
            <a:br>
              <a:rPr sz="3600"/>
            </a:br>
            <a:r>
              <a:rPr b="1" lang="en-US" sz="2400" spc="-1" strike="noStrike">
                <a:solidFill>
                  <a:srgbClr val="ffe1ab"/>
                </a:solidFill>
                <a:latin typeface="Arial"/>
              </a:rPr>
              <a:t>Electron Clouds</a:t>
            </a:r>
            <a:endParaRPr b="1" lang="en-US" sz="2400" spc="-1" strike="noStrike">
              <a:solidFill>
                <a:srgbClr val="ffe1ab"/>
              </a:solidFill>
              <a:latin typeface="Arial"/>
            </a:endParaRPr>
          </a:p>
        </p:txBody>
      </p:sp>
      <p:pic>
        <p:nvPicPr>
          <p:cNvPr id="415" name="Picture 3" descr="I11-42-goldatom"/>
          <p:cNvPicPr/>
          <p:nvPr/>
        </p:nvPicPr>
        <p:blipFill>
          <a:blip r:embed="rId1"/>
          <a:stretch/>
        </p:blipFill>
        <p:spPr>
          <a:xfrm>
            <a:off x="684360" y="1558800"/>
            <a:ext cx="3190680" cy="428652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4" descr="01phy1"/>
          <p:cNvPicPr/>
          <p:nvPr/>
        </p:nvPicPr>
        <p:blipFill>
          <a:blip r:embed="rId2"/>
          <a:stretch/>
        </p:blipFill>
        <p:spPr>
          <a:xfrm>
            <a:off x="4311720" y="1579680"/>
            <a:ext cx="4000320" cy="196200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5" descr="stm12"/>
          <p:cNvPicPr/>
          <p:nvPr/>
        </p:nvPicPr>
        <p:blipFill>
          <a:blip r:embed="rId3"/>
          <a:stretch/>
        </p:blipFill>
        <p:spPr>
          <a:xfrm>
            <a:off x="4616280" y="3603600"/>
            <a:ext cx="3490920" cy="2793960"/>
          </a:xfrm>
          <a:prstGeom prst="rect">
            <a:avLst/>
          </a:prstGeom>
          <a:ln w="0">
            <a:noFill/>
          </a:ln>
        </p:spPr>
      </p:pic>
      <p:sp>
        <p:nvSpPr>
          <p:cNvPr id="418" name="Text Box 6"/>
          <p:cNvSpPr/>
          <p:nvPr/>
        </p:nvSpPr>
        <p:spPr>
          <a:xfrm>
            <a:off x="609480" y="6054840"/>
            <a:ext cx="325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age Movi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Місце для нижнього колонтитула 2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0" name="Picture 2" descr="tab07_01"/>
          <p:cNvPicPr/>
          <p:nvPr/>
        </p:nvPicPr>
        <p:blipFill>
          <a:blip r:embed="rId1"/>
          <a:stretch/>
        </p:blipFill>
        <p:spPr>
          <a:xfrm>
            <a:off x="304920" y="0"/>
            <a:ext cx="8534160" cy="64659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p:transition>
    <p:dissolve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Місце для нижнього колонтитула 2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04760" y="914040"/>
            <a:ext cx="1952640" cy="43434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1ab"/>
                </a:solidFill>
                <a:latin typeface="Arial"/>
              </a:rPr>
              <a:t>Figure 7.23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bital energies of the hydrogen atom. 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ffe1ab"/>
                </a:solidFill>
                <a:latin typeface="Arial"/>
              </a:rPr>
              <a:t>(Click here for non-hydrogen atoms)</a:t>
            </a:r>
            <a:endParaRPr b="1" lang="en-US" sz="2400" spc="-1" strike="noStrike">
              <a:solidFill>
                <a:srgbClr val="ffe1ab"/>
              </a:solidFill>
              <a:latin typeface="Arial"/>
            </a:endParaRPr>
          </a:p>
        </p:txBody>
      </p:sp>
      <p:pic>
        <p:nvPicPr>
          <p:cNvPr id="423" name="Picture 3" descr="07_23"/>
          <p:cNvPicPr/>
          <p:nvPr/>
        </p:nvPicPr>
        <p:blipFill>
          <a:blip r:embed="rId1"/>
          <a:stretch/>
        </p:blipFill>
        <p:spPr>
          <a:xfrm>
            <a:off x="2209680" y="546120"/>
            <a:ext cx="6782040" cy="56595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p:transition>
    <p:dissolve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Місце для нижнього колонтитула 2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42720" y="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e1ab"/>
                </a:solidFill>
                <a:latin typeface="Arial"/>
              </a:rPr>
              <a:t>Figure 7.24: Cross-sectional representations of the probability distributions of </a:t>
            </a:r>
            <a:r>
              <a:rPr b="1" i="1" lang="en-US" sz="2800" spc="-1" strike="noStrike">
                <a:solidFill>
                  <a:srgbClr val="ffe1ab"/>
                </a:solidFill>
                <a:latin typeface="Arial"/>
              </a:rPr>
              <a:t>S</a:t>
            </a:r>
            <a:r>
              <a:rPr b="1" lang="en-US" sz="2800" spc="-1" strike="noStrike">
                <a:solidFill>
                  <a:srgbClr val="ffe1ab"/>
                </a:solidFill>
                <a:latin typeface="Arial"/>
              </a:rPr>
              <a:t>  orbitals.</a:t>
            </a:r>
            <a:r>
              <a:rPr b="1" lang="en-US" sz="1400" spc="-1" strike="noStrike">
                <a:solidFill>
                  <a:srgbClr val="ffe1ab"/>
                </a:solidFill>
                <a:latin typeface="Arial"/>
              </a:rPr>
              <a:t> </a:t>
            </a:r>
            <a:endParaRPr b="1" lang="en-US" sz="1400" spc="-1" strike="noStrike">
              <a:solidFill>
                <a:srgbClr val="ffe1ab"/>
              </a:solidFill>
              <a:latin typeface="Arial"/>
            </a:endParaRPr>
          </a:p>
        </p:txBody>
      </p:sp>
      <p:pic>
        <p:nvPicPr>
          <p:cNvPr id="426" name="Picture 3" descr="07_24"/>
          <p:cNvPicPr/>
          <p:nvPr/>
        </p:nvPicPr>
        <p:blipFill>
          <a:blip r:embed="rId1"/>
          <a:stretch/>
        </p:blipFill>
        <p:spPr>
          <a:xfrm>
            <a:off x="304920" y="1905120"/>
            <a:ext cx="8534160" cy="41479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p:transition>
    <p:dissolve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Місце для нижнього колонтитула 2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301760" y="117000"/>
            <a:ext cx="6531120" cy="685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1ab"/>
                </a:solidFill>
                <a:latin typeface="Arial"/>
              </a:rPr>
              <a:t>Figure 7.25: Cutaway diagrams showing the spherical shape of </a:t>
            </a:r>
            <a:r>
              <a:rPr b="1" i="1" lang="en-US" sz="2400" spc="-1" strike="noStrike">
                <a:solidFill>
                  <a:srgbClr val="ffe1ab"/>
                </a:solidFill>
                <a:latin typeface="Arial"/>
              </a:rPr>
              <a:t>S</a:t>
            </a:r>
            <a:r>
              <a:rPr b="1" lang="en-US" sz="2400" spc="-1" strike="noStrike">
                <a:solidFill>
                  <a:srgbClr val="ffe1ab"/>
                </a:solidFill>
                <a:latin typeface="Arial"/>
              </a:rPr>
              <a:t> orbitals.  </a:t>
            </a:r>
            <a:endParaRPr b="1" lang="en-US" sz="2400" spc="-1" strike="noStrike">
              <a:solidFill>
                <a:srgbClr val="ffe1ab"/>
              </a:solidFill>
              <a:latin typeface="Arial"/>
            </a:endParaRPr>
          </a:p>
        </p:txBody>
      </p:sp>
      <p:pic>
        <p:nvPicPr>
          <p:cNvPr id="429" name="Picture 3" descr="07_25"/>
          <p:cNvPicPr/>
          <p:nvPr/>
        </p:nvPicPr>
        <p:blipFill>
          <a:blip r:embed="rId2"/>
          <a:stretch/>
        </p:blipFill>
        <p:spPr>
          <a:xfrm>
            <a:off x="457200" y="1066680"/>
            <a:ext cx="8229600" cy="52959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p:transition>
    <p:dissolve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Місце для нижнього колонтитула 2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42720" y="151920"/>
            <a:ext cx="8458200" cy="3812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1ab"/>
                </a:solidFill>
                <a:latin typeface="Arial"/>
              </a:rPr>
              <a:t>Figure 7.27: The five 3</a:t>
            </a:r>
            <a:r>
              <a:rPr b="1" i="1" lang="en-US" sz="2400" spc="-1" strike="noStrike">
                <a:solidFill>
                  <a:srgbClr val="ffe1ab"/>
                </a:solidFill>
                <a:latin typeface="Arial"/>
              </a:rPr>
              <a:t>d</a:t>
            </a:r>
            <a:r>
              <a:rPr b="1" lang="en-US" sz="2400" spc="-1" strike="noStrike">
                <a:solidFill>
                  <a:srgbClr val="ffe1ab"/>
                </a:solidFill>
                <a:latin typeface="Arial"/>
              </a:rPr>
              <a:t> orbitals. </a:t>
            </a:r>
            <a:endParaRPr b="1" lang="en-US" sz="2400" spc="-1" strike="noStrike">
              <a:solidFill>
                <a:srgbClr val="ffe1ab"/>
              </a:solidFill>
              <a:latin typeface="Arial"/>
            </a:endParaRPr>
          </a:p>
        </p:txBody>
      </p:sp>
      <p:pic>
        <p:nvPicPr>
          <p:cNvPr id="432" name="Picture 3" descr="07_27"/>
          <p:cNvPicPr/>
          <p:nvPr/>
        </p:nvPicPr>
        <p:blipFill>
          <a:blip r:embed="rId2"/>
          <a:stretch/>
        </p:blipFill>
        <p:spPr>
          <a:xfrm>
            <a:off x="533520" y="838080"/>
            <a:ext cx="8076960" cy="54324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p:transition>
    <p:dissolve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Місце для нижнього колонтитула 2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342720" y="63000"/>
            <a:ext cx="8458200" cy="3812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1ab"/>
                </a:solidFill>
                <a:latin typeface="Arial"/>
              </a:rPr>
              <a:t>Figure 7.26: The 2</a:t>
            </a:r>
            <a:r>
              <a:rPr b="1" i="1" lang="en-US" sz="2400" spc="-1" strike="noStrike">
                <a:solidFill>
                  <a:srgbClr val="ffe1ab"/>
                </a:solidFill>
                <a:latin typeface="Arial"/>
              </a:rPr>
              <a:t>p</a:t>
            </a:r>
            <a:r>
              <a:rPr b="1" lang="en-US" sz="2400" spc="-1" strike="noStrike">
                <a:solidFill>
                  <a:srgbClr val="ffe1ab"/>
                </a:solidFill>
                <a:latin typeface="Arial"/>
              </a:rPr>
              <a:t> orbitals. </a:t>
            </a:r>
            <a:endParaRPr b="1" lang="en-US" sz="2400" spc="-1" strike="noStrike">
              <a:solidFill>
                <a:srgbClr val="ffe1ab"/>
              </a:solidFill>
              <a:latin typeface="Arial"/>
            </a:endParaRPr>
          </a:p>
        </p:txBody>
      </p:sp>
      <p:pic>
        <p:nvPicPr>
          <p:cNvPr id="435" name="Picture 3" descr="07_26"/>
          <p:cNvPicPr/>
          <p:nvPr/>
        </p:nvPicPr>
        <p:blipFill>
          <a:blip r:embed="rId2"/>
          <a:stretch/>
        </p:blipFill>
        <p:spPr>
          <a:xfrm>
            <a:off x="1066680" y="685800"/>
            <a:ext cx="7010640" cy="55944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Місце для нижнього колонтитула 3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1026"/>
          <p:cNvSpPr/>
          <p:nvPr/>
        </p:nvSpPr>
        <p:spPr>
          <a:xfrm>
            <a:off x="228600" y="4572000"/>
            <a:ext cx="52578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If c =</a:t>
            </a:r>
            <a:r>
              <a:rPr b="0" lang="en-US" sz="2400" spc="-1" strike="noStrike">
                <a:solidFill>
                  <a:srgbClr val="376bb4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76bb4"/>
                </a:solidFill>
                <a:latin typeface="Symbol"/>
                <a:ea typeface="Symbol"/>
              </a:rPr>
              <a:t></a:t>
            </a:r>
            <a:r>
              <a:rPr b="0" lang="en-US" sz="2400" spc="-1" strike="noStrike">
                <a:solidFill>
                  <a:srgbClr val="376bb4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then rearranging, we obtain</a:t>
            </a:r>
            <a:r>
              <a:rPr b="0" lang="en-US" sz="2400" spc="-1" strike="noStrike">
                <a:solidFill>
                  <a:srgbClr val="376bb4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76bb4"/>
                </a:solidFill>
                <a:latin typeface="Symbol"/>
                <a:ea typeface="Symbol"/>
              </a:rPr>
              <a:t></a:t>
            </a:r>
            <a:r>
              <a:rPr b="0" lang="en-US" sz="2400" spc="-1" strike="noStrike">
                <a:solidFill>
                  <a:srgbClr val="376bb4"/>
                </a:solidFill>
                <a:latin typeface="Times New Roman"/>
              </a:rPr>
              <a:t>= c/</a:t>
            </a:r>
            <a:r>
              <a:rPr b="0" lang="en-US" sz="2400" spc="-1" strike="noStrike">
                <a:solidFill>
                  <a:srgbClr val="376bb4"/>
                </a:solidFill>
                <a:latin typeface="Symbol"/>
                <a:ea typeface="Symbol"/>
              </a:rPr>
              <a:t>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33000" y="9180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1ab"/>
                </a:solidFill>
                <a:latin typeface="Arial"/>
              </a:rPr>
              <a:t>The Wave Nature of Light</a:t>
            </a: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51055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5000"/>
          </a:bodyPr>
          <a:p>
            <a:pPr marL="222840" indent="-222840">
              <a:lnSpc>
                <a:spcPct val="90000"/>
              </a:lnSpc>
              <a:spcBef>
                <a:spcPts val="700"/>
              </a:spcBef>
              <a:buClr>
                <a:srgbClr val="cbd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What is the wavelength of yellow light with a frequency of 5.09 x 10</a:t>
            </a:r>
            <a:r>
              <a:rPr b="0" lang="en-US" sz="2800" spc="-1" strike="noStrike" baseline="30000">
                <a:solidFill>
                  <a:srgbClr val="376bb4"/>
                </a:solidFill>
                <a:latin typeface="Arial"/>
              </a:rPr>
              <a:t>14</a:t>
            </a: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 s</a:t>
            </a:r>
            <a:r>
              <a:rPr b="0" lang="en-US" sz="2800" spc="-1" strike="noStrike" baseline="30000">
                <a:solidFill>
                  <a:srgbClr val="376bb4"/>
                </a:solidFill>
                <a:latin typeface="Arial"/>
              </a:rPr>
              <a:t>-1</a:t>
            </a: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? </a:t>
            </a:r>
            <a:endParaRPr b="0" lang="en-US" sz="2800" spc="-1" strike="noStrike">
              <a:solidFill>
                <a:srgbClr val="376bb4"/>
              </a:solidFill>
              <a:latin typeface="Arial"/>
            </a:endParaRPr>
          </a:p>
          <a:p>
            <a:pPr marL="222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(Note: s</a:t>
            </a:r>
            <a:r>
              <a:rPr b="0" lang="en-US" sz="2800" spc="-1" strike="noStrike" baseline="30000">
                <a:solidFill>
                  <a:srgbClr val="376bb4"/>
                </a:solidFill>
                <a:latin typeface="Arial"/>
              </a:rPr>
              <a:t>-1</a:t>
            </a: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, commonly referred to as</a:t>
            </a:r>
            <a:r>
              <a:rPr b="0" lang="en-US" sz="2800" spc="-1" strike="noStrike" baseline="30000">
                <a:solidFill>
                  <a:srgbClr val="376bb4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Hertz (Hz) is defined as “cycles or waves per second”.)</a:t>
            </a:r>
            <a:endParaRPr b="0" lang="en-US" sz="2800" spc="-1" strike="noStrike">
              <a:solidFill>
                <a:srgbClr val="376bb4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" name="Object 1035"/>
              <p:cNvSpPr txBox="1"/>
              <p:nvPr/>
            </p:nvSpPr>
            <p:spPr>
              <a:xfrm>
                <a:off x="838080" y="5638680"/>
                <a:ext cx="7432920" cy="66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0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8</m:t>
                            </m:r>
                          </m:sup>
                        </m:sSup>
                        <m:f>
                          <m:fPr>
                            <m:type m:val="lin"/>
                          </m:fPr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  <m:r>
                          <m:t xml:space="preserve">)</m:t>
                        </m:r>
                      </m:num>
                      <m:den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9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</m:sup>
                        </m:sSup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9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7</m:t>
                        </m:r>
                      </m:sup>
                    </m:sSup>
                    <m:r>
                      <m:t xml:space="preserve">m</m:t>
                    </m:r>
                    <m:r>
                      <m:rPr>
                        <m:lit/>
                        <m:nor/>
                      </m:rPr>
                      <m:t xml:space="preserve">  or 589 nm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09" name="Picture 1036" descr=""/>
          <p:cNvPicPr/>
          <p:nvPr/>
        </p:nvPicPr>
        <p:blipFill>
          <a:blip r:embed="rId1"/>
          <a:stretch/>
        </p:blipFill>
        <p:spPr>
          <a:xfrm>
            <a:off x="5257800" y="2133720"/>
            <a:ext cx="3657600" cy="3155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10" name="Line 1037"/>
          <p:cNvSpPr/>
          <p:nvPr/>
        </p:nvSpPr>
        <p:spPr>
          <a:xfrm flipH="1">
            <a:off x="2611440" y="5070600"/>
            <a:ext cx="7632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Місце для нижнього колонтитула 2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83960" y="88920"/>
            <a:ext cx="8800920" cy="1054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1ab"/>
                </a:solidFill>
                <a:latin typeface="Arial"/>
              </a:rPr>
              <a:t>Figure 7.5: The electromagnetic spectrum.</a:t>
            </a:r>
            <a:r>
              <a:rPr b="1" lang="en-US" sz="1200" spc="-1" strike="noStrike">
                <a:solidFill>
                  <a:srgbClr val="ffe1ab"/>
                </a:solidFill>
                <a:latin typeface="Arial"/>
              </a:rPr>
              <a:t> </a:t>
            </a:r>
            <a:endParaRPr b="1" lang="en-US" sz="1200" spc="-1" strike="noStrike">
              <a:solidFill>
                <a:srgbClr val="ffe1ab"/>
              </a:solidFill>
              <a:latin typeface="Arial"/>
            </a:endParaRPr>
          </a:p>
        </p:txBody>
      </p:sp>
      <p:pic>
        <p:nvPicPr>
          <p:cNvPr id="113" name="Picture 3" descr="07_05"/>
          <p:cNvPicPr/>
          <p:nvPr/>
        </p:nvPicPr>
        <p:blipFill>
          <a:blip r:embed="rId1"/>
          <a:stretch/>
        </p:blipFill>
        <p:spPr>
          <a:xfrm>
            <a:off x="0" y="1357200"/>
            <a:ext cx="9144000" cy="37432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14" name="Picture 5" descr="OS06097"/>
          <p:cNvPicPr/>
          <p:nvPr/>
        </p:nvPicPr>
        <p:blipFill>
          <a:blip r:embed="rId2"/>
          <a:stretch/>
        </p:blipFill>
        <p:spPr>
          <a:xfrm>
            <a:off x="8058240" y="5106960"/>
            <a:ext cx="1085760" cy="14954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filling"/>
          <p:cNvPicPr/>
          <p:nvPr/>
        </p:nvPicPr>
        <p:blipFill>
          <a:blip r:embed="rId3"/>
          <a:stretch/>
        </p:blipFill>
        <p:spPr>
          <a:xfrm>
            <a:off x="1162080" y="5219640"/>
            <a:ext cx="1730520" cy="13082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7" descr="radmagen"/>
          <p:cNvPicPr/>
          <p:nvPr/>
        </p:nvPicPr>
        <p:blipFill>
          <a:blip r:embed="rId4"/>
          <a:stretch/>
        </p:blipFill>
        <p:spPr>
          <a:xfrm>
            <a:off x="0" y="5302080"/>
            <a:ext cx="1133640" cy="10461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8" descr="flir3"/>
          <p:cNvPicPr/>
          <p:nvPr/>
        </p:nvPicPr>
        <p:blipFill>
          <a:blip r:embed="rId5"/>
          <a:stretch/>
        </p:blipFill>
        <p:spPr>
          <a:xfrm>
            <a:off x="4168800" y="5170320"/>
            <a:ext cx="2687760" cy="14227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9" descr="HandPowder_1_1"/>
          <p:cNvPicPr/>
          <p:nvPr/>
        </p:nvPicPr>
        <p:blipFill>
          <a:blip r:embed="rId6"/>
          <a:stretch/>
        </p:blipFill>
        <p:spPr>
          <a:xfrm>
            <a:off x="2894040" y="5127480"/>
            <a:ext cx="1316160" cy="14875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4" descr="microwve"/>
          <p:cNvPicPr/>
          <p:nvPr/>
        </p:nvPicPr>
        <p:blipFill>
          <a:blip r:embed="rId7"/>
          <a:stretch/>
        </p:blipFill>
        <p:spPr>
          <a:xfrm>
            <a:off x="6310440" y="5208480"/>
            <a:ext cx="1746000" cy="12542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Місце для нижнього колонтитула 3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1026"/>
          <p:cNvSpPr/>
          <p:nvPr/>
        </p:nvSpPr>
        <p:spPr>
          <a:xfrm>
            <a:off x="534960" y="3308400"/>
            <a:ext cx="838188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If c =</a:t>
            </a:r>
            <a:r>
              <a:rPr b="0" lang="en-US" sz="2400" spc="-1" strike="noStrike">
                <a:solidFill>
                  <a:srgbClr val="376bb4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76bb4"/>
                </a:solidFill>
                <a:latin typeface="Symbol"/>
                <a:ea typeface="Symbol"/>
              </a:rPr>
              <a:t></a:t>
            </a:r>
            <a:r>
              <a:rPr b="0" lang="en-US" sz="2400" spc="-1" strike="noStrike">
                <a:solidFill>
                  <a:srgbClr val="376bb4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then rearranging, we obtain</a:t>
            </a:r>
            <a:r>
              <a:rPr b="0" lang="en-US" sz="2400" spc="-1" strike="noStrike">
                <a:solidFill>
                  <a:srgbClr val="376bb4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76bb4"/>
                </a:solidFill>
                <a:latin typeface="Symbol"/>
                <a:ea typeface="Symbol"/>
              </a:rPr>
              <a:t></a:t>
            </a:r>
            <a:r>
              <a:rPr b="0" lang="en-US" sz="2400" spc="-1" strike="noStrike">
                <a:solidFill>
                  <a:srgbClr val="376bb4"/>
                </a:solidFill>
                <a:latin typeface="Times New Roman"/>
              </a:rPr>
              <a:t> = c/</a:t>
            </a:r>
            <a:r>
              <a:rPr b="0" lang="en-US" sz="2400" spc="-1" strike="noStrike">
                <a:solidFill>
                  <a:srgbClr val="376bb4"/>
                </a:solidFill>
                <a:latin typeface="Symbol"/>
                <a:ea typeface="Symbol"/>
              </a:rPr>
              <a:t>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533520" y="2133720"/>
            <a:ext cx="830736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bd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bb4"/>
                </a:solidFill>
                <a:latin typeface="Arial"/>
              </a:rPr>
              <a:t>What is the frequency of violet light with a wavelength of 408 nm? </a:t>
            </a: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Object 1030"/>
              <p:cNvSpPr txBox="1"/>
              <p:nvPr/>
            </p:nvSpPr>
            <p:spPr>
              <a:xfrm>
                <a:off x="4510080" y="3530520"/>
                <a:ext cx="27936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Object 1031"/>
              <p:cNvSpPr txBox="1"/>
              <p:nvPr/>
            </p:nvSpPr>
            <p:spPr>
              <a:xfrm>
                <a:off x="2030400" y="4299120"/>
                <a:ext cx="5176800" cy="63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ν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0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8</m:t>
                            </m:r>
                          </m:sup>
                        </m:sSup>
                        <m:f>
                          <m:fPr>
                            <m:type m:val="lin"/>
                          </m:fPr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08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9</m:t>
                            </m:r>
                          </m:sup>
                        </m:sSup>
                        <m:r>
                          <m:t xml:space="preserve">m</m:t>
                        </m:r>
                      </m:den>
                    </m:f>
                    <m:r>
                      <m:t xml:space="preserve">=</m:t>
                    </m:r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5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sup>
                    </m:sSup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348840" y="997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1ab"/>
                </a:solidFill>
                <a:latin typeface="Arial"/>
              </a:rPr>
              <a:t>The Wave Nature of Light</a:t>
            </a: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126" name="Line 1034"/>
          <p:cNvSpPr/>
          <p:nvPr/>
        </p:nvSpPr>
        <p:spPr>
          <a:xfrm flipH="1">
            <a:off x="7010280" y="3429000"/>
            <a:ext cx="7632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Місце для нижнього колонтитула 3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1140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e1ab"/>
                </a:solidFill>
                <a:latin typeface="Arial"/>
              </a:rPr>
              <a:t>Seeing the Light-A New Model of the Atom</a:t>
            </a:r>
            <a:endParaRPr b="1" lang="en-US" sz="32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 algn="ctr">
              <a:spcBef>
                <a:spcPts val="7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376bb4"/>
                </a:solidFill>
                <a:latin typeface="Arial"/>
              </a:rPr>
              <a:t>Maxwell Planck-Black Body Radiation</a:t>
            </a: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pic>
        <p:nvPicPr>
          <p:cNvPr id="130" name="Picture 4" descr=""/>
          <p:cNvPicPr/>
          <p:nvPr/>
        </p:nvPicPr>
        <p:blipFill>
          <a:blip r:embed="rId1"/>
          <a:stretch/>
        </p:blipFill>
        <p:spPr>
          <a:xfrm>
            <a:off x="1295280" y="2514600"/>
            <a:ext cx="3457800" cy="39909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"/>
          <p:cNvPicPr/>
          <p:nvPr/>
        </p:nvPicPr>
        <p:blipFill>
          <a:blip r:embed="rId2"/>
          <a:stretch/>
        </p:blipFill>
        <p:spPr>
          <a:xfrm>
            <a:off x="6400800" y="3352680"/>
            <a:ext cx="1428840" cy="142884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6"/>
          <p:cNvSpPr/>
          <p:nvPr/>
        </p:nvSpPr>
        <p:spPr>
          <a:xfrm>
            <a:off x="5181480" y="5133960"/>
            <a:ext cx="3733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Found that blackbody radiation was quantized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Picture 7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696080" y="1143000"/>
            <a:ext cx="1257480" cy="188604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8"/>
          <p:cNvSpPr/>
          <p:nvPr/>
        </p:nvSpPr>
        <p:spPr>
          <a:xfrm>
            <a:off x="1600200" y="2070000"/>
            <a:ext cx="345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1900—Nobel Prize in 1918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Місце для нижнього колонтитула 3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49200" y="100080"/>
            <a:ext cx="846144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ffe1ab"/>
                </a:solidFill>
                <a:latin typeface="Arial"/>
              </a:rPr>
              <a:t>What is Quantized?</a:t>
            </a: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376bb4"/>
                </a:solidFill>
                <a:latin typeface="Arial"/>
              </a:rPr>
              <a:t>Energy can have only certain values (quantities), not in between, instead of a continuum of values.  This is like energy existing on stairs of a staircase instead of at any energy on a ramp.</a:t>
            </a:r>
            <a:endParaRPr b="0" lang="en-US" sz="28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138" name="Line 4"/>
          <p:cNvSpPr/>
          <p:nvPr/>
        </p:nvSpPr>
        <p:spPr>
          <a:xfrm>
            <a:off x="2133720" y="5486400"/>
            <a:ext cx="144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Line 5"/>
          <p:cNvSpPr/>
          <p:nvPr/>
        </p:nvSpPr>
        <p:spPr>
          <a:xfrm>
            <a:off x="3505320" y="4114800"/>
            <a:ext cx="144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Line 6"/>
          <p:cNvSpPr/>
          <p:nvPr/>
        </p:nvSpPr>
        <p:spPr>
          <a:xfrm>
            <a:off x="2819520" y="4800600"/>
            <a:ext cx="144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Line 7"/>
          <p:cNvSpPr/>
          <p:nvPr/>
        </p:nvSpPr>
        <p:spPr>
          <a:xfrm>
            <a:off x="4191120" y="3429000"/>
            <a:ext cx="144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Line 8"/>
          <p:cNvSpPr/>
          <p:nvPr/>
        </p:nvSpPr>
        <p:spPr>
          <a:xfrm>
            <a:off x="2133720" y="5486400"/>
            <a:ext cx="6858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Line 9"/>
          <p:cNvSpPr/>
          <p:nvPr/>
        </p:nvSpPr>
        <p:spPr>
          <a:xfrm>
            <a:off x="2819520" y="4800600"/>
            <a:ext cx="6858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Line 10"/>
          <p:cNvSpPr/>
          <p:nvPr/>
        </p:nvSpPr>
        <p:spPr>
          <a:xfrm>
            <a:off x="3505320" y="4114800"/>
            <a:ext cx="6858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Line 11"/>
          <p:cNvSpPr/>
          <p:nvPr/>
        </p:nvSpPr>
        <p:spPr>
          <a:xfrm>
            <a:off x="4191120" y="3429000"/>
            <a:ext cx="6858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Line 12"/>
          <p:cNvSpPr/>
          <p:nvPr/>
        </p:nvSpPr>
        <p:spPr>
          <a:xfrm flipV="1">
            <a:off x="4495680" y="3654360"/>
            <a:ext cx="3276720" cy="2673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Oval 13"/>
          <p:cNvSpPr/>
          <p:nvPr/>
        </p:nvSpPr>
        <p:spPr>
          <a:xfrm>
            <a:off x="1676520" y="5867280"/>
            <a:ext cx="22860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Oval 14"/>
          <p:cNvSpPr/>
          <p:nvPr/>
        </p:nvSpPr>
        <p:spPr>
          <a:xfrm>
            <a:off x="4343400" y="6019920"/>
            <a:ext cx="22860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Line 15"/>
          <p:cNvSpPr/>
          <p:nvPr/>
        </p:nvSpPr>
        <p:spPr>
          <a:xfrm>
            <a:off x="1447920" y="6172200"/>
            <a:ext cx="6858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Oval 16"/>
          <p:cNvSpPr/>
          <p:nvPr/>
        </p:nvSpPr>
        <p:spPr>
          <a:xfrm>
            <a:off x="2362320" y="5181480"/>
            <a:ext cx="22860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Oval 17"/>
          <p:cNvSpPr/>
          <p:nvPr/>
        </p:nvSpPr>
        <p:spPr>
          <a:xfrm>
            <a:off x="3048120" y="4495680"/>
            <a:ext cx="22860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Oval 18"/>
          <p:cNvSpPr/>
          <p:nvPr/>
        </p:nvSpPr>
        <p:spPr>
          <a:xfrm>
            <a:off x="3733920" y="3809880"/>
            <a:ext cx="22860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Oval 19"/>
          <p:cNvSpPr/>
          <p:nvPr/>
        </p:nvSpPr>
        <p:spPr>
          <a:xfrm>
            <a:off x="4419720" y="3124080"/>
            <a:ext cx="22860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8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4.62428E-007 L 0.35417 -0.38844 E">
                                      <p:cBhvr>
                                        <p:cTn id="70" dur="2000" fill="hold"/>
                                        <p:tgtEl>
                                          <p:spTgt spid="1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02T21:50:40Z</dcterms:created>
  <dc:creator>Billy K. Cook</dc:creator>
  <dc:description/>
  <dc:language>en-US</dc:language>
  <cp:lastModifiedBy>LEGION</cp:lastModifiedBy>
  <cp:lastPrinted>2009-04-22T19:24:48Z</cp:lastPrinted>
  <dcterms:modified xsi:type="dcterms:W3CDTF">2017-01-26T09:33:37Z</dcterms:modified>
  <cp:revision>171</cp:revision>
  <dc:subject>Chapter 7</dc:subject>
  <dc:title>Quantum Theory of the Atom</dc:title>
</cp:coreProperties>
</file>