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0.jpeg" ContentType="image/jpeg"/>
  <Override PartName="/ppt/media/image19.png" ContentType="image/png"/>
  <Override PartName="/ppt/media/image21.png" ContentType="image/png"/>
  <Override PartName="/ppt/media/image17.png" ContentType="image/png"/>
  <Override PartName="/ppt/media/image32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D5B5E-C877-4076-9050-79C8A6E501C2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Polar Covalent Bonds: 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 on McMurry’s Organic Chemistry, 7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Polar Covalent Bonds: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 on McMurry’s Organic Chemistry, 7th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ence of Dipole Mo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ymmetrical molecules, the dipole moments of each bond has one in the opposite di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ffects of the local dipoles cancel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ence of Dipole Mo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ymmetrical molecules, the dipole moments of each bond has one in the opposit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ffects of the local dipoles cancel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3 Formal Cha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it is necessary to have structures with formal charges on individual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 the bonding of the atom in the molecule to the valence electron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atom has one more electron in the molecule, it is shown with a “-” ch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atom has one less electron, it is shown with a “+” ch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al molecules with both a “+” and a “-” are dipo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3 Formal Cha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it is necessary to have structures with formal charges on individual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 the bonding of the atom in the molecule to the valence electron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atom has one more electron in the molecule, it is shown with a “-”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atom has one less electron, it is shown with a “+”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al molecules with both a “+” and a “-” are dipo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ulfur has 6 valence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methyl suloxide sulfur has only 5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 lost an electron and has positive char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atom in DMSO has gained electron and has (-) char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l Charge for Dimethyl Sulf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ulfur has 6 valence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methyl suloxide sulfur has only 5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 lost an electron and has positive cha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atom in DMSO has gained electron and has (-) cha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l Charge for Dimethyl Sulf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4 Reso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olecules are have structures that cannot be shown with a single re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se cases we draw structures that contribute to the final structure but which differ in the position of the  bond(s) or lone pair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ch a structure is delocalized and is represented by resonance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onance forms are connected by a double-headed a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4 Reso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olecules are have structures that cannot be shown with a single re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se cases we draw structures that contribute to the final structure but which differ in the position of the  bond(s) or lone pair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ch a structure is delocalized and is represented by resonance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onance forms are connected by a double-headed ar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nance Hybr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ructure with resonance forms does not alternate between the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ead, it is a hybrid of the two resonance forms, so the structure is called a resonance hyb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benzene (C6H6) has two resonance forms with alternating double and single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resonance hybrid, the actual structure, all its C-C bonds are equivalent, midway between double and si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nance Hybr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ructure with resonance forms does not alternate between the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ead, it is a hybrid of the two resonance forms, so the structure is called a resonance 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benzene (C6H6) has two resonance forms with alternating double and single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resonance hybrid, the actual structure, all its C-C bonds are equivalent, midway between double and sin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 Rules for Resonance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 resonance forms are imaginary - the real structure is a hybrid (only by knowing the contributors can you visualize the actual structu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nance forms differ only in the placement of their  or nonbond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resonance forms of a substance don’t have to be equival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nance forms must be valid Lewis structures: the octet rule appl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onance hybrid is more stable than any individual resonance form would 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 Rules for Resonance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 resonance forms are imaginary - the real structure is a hybrid (only by knowing the contributors can you visualize the actual struc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nance forms differ only in the placement of their  or nonbonding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resonance forms of a substance don’t have to be equiva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nance forms must be valid Lewis structures: the octet rule app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onance hybrid is more stable than any individual resonance form would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ved Arrows and Resonance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imagine that electrons move in pairs to convert from one resonance form to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urved arrow shows that a pair of electrons moves from the atom or bond at the tail of the arrow to the atom or bond at the head of the a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ved Arrows and Resonance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imagine that electrons move in pairs to convert from one resonance form to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urved arrow shows that a pair of electrons moves from the atom or bond at the tail of the arrow to the atom or bond at the head of the ar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 Drawing Resonance For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three-atom grouping with a multiple bond has two resonance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 Drawing Resonance For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three-atom grouping with a multiple bond has two resonance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Atoms in Resonance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resonance forms involve different atom types as well as lo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ing resonance hybrid has properties associated with both types of contribu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ypes may contribute unequ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enolate” derived from acetone is a good illustration, with delocalization between carbon and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Atoms in Resonance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resonance forms involve different atom types as well as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ing resonance hybrid has properties associated with both types of contribu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ypes may contribute unequ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enolate” derived from acetone is a good illustration, with delocalization between carbon and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his chap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ption of basic ways chemists account for chemical reactiv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ablish foundation for understanding specific reactions discussed in subsequent chap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his chap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ption of basic ways chemists account for chemical re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ablish foundation for understanding specific reactions discussed in subsequent chap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4-Pentaned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ion derived from 2,4-pentaned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e pair of electrons and a formal negative charge on the central carbon atom, next to a C=O bond on the left and on the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resonance structures res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4-Pentaned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ion derived from 2,4-pentaned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e pair of electrons and a formal negative charge on the central carbon atom, next to a C=O bond on the left and on the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resonance structures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 Acids and Bases: The Brønsted–Lowry Defini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rms “acid” and “base” can have different meanings in different con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at reason, we specify the usage with more complete termi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dea that acids are solutions containing a lot of “H+” and bases are solutions containing a lot of “OH-” is not very useful in organic chem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ead, Brønsted–Lowry theory defines acids and bases by their role in reactions that transfer protons (H+) between donors and accep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 Acids and Bases: The Brønsted–Lowry Defini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rms “acid” and “base” can have different meanings in different contex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at reason, we specify the usage with more complete termi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dea that acids are solutions containing a lot of “H+” and bases are solutions containing a lot of “OH-” is not very useful in organic 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ead, Brønsted–Lowry theory defines acids and bases by their role in reactions that transfer protons (H+) between donors and accep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ønsted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ønsted-Lowry” is usually shortened to “Brønst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ønsted acid is a substance that donates a hydrogen ion (H+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ønsted base is a substance that accepts the 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” is a synonym for H+ - loss of an electron from H leaving the bare nucleus—a pr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ønsted 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ønsted-Lowry” is usually shortened to “Brønste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ønsted acid is a substance that donates a hydrogen ion (H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ønsted base is a substance that accepts the 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” is a synonym for H+ - loss of an electron from H leaving the bare nucleus—a pro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Reaction of Acid with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ydronium ion, product when base H2O gains a pr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Cl donates a proton to water molecule, yielding hydronium ion (H3O+) [conjugate acid] and Cl [conjugate bas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reverse is also a Brønsted acid–base reaction of the conjugate acid and conjugate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The Reaction of Acid with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Hydronium ion, product when base H2O gains a pro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HCl donates a proton to water molecule, yielding hydronium ion (H3O+) [conjugate acid] and Cl [conjugate bas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The reverse is also a Brønsted acid–base reaction of the conjugate acid and conjugate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8 Acid and Base Str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quilibrium constant (Keq) for the reaction of an acid (HA) with water to form hydronium ion and the conjugate base (A-) is a measure related to the strength of the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er acids have larger Ke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brackets [ ] indicate concentration, moles per liter, 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8 Acid and Base Str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quilibrium constant (Keq) for the reaction of an acid (HA) with water to form hydronium ion and the conjugate base (A-) is a measure related to the strength of the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er acids have larger Ke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brackets [ ] indicate concentration, moles per liter, 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 – the Acidity 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centration of water as a solvent does not change significantly when it is proton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lecular weight of H2O is 18 and one liter weighs 1000 grams, so the concentration is ~ 55.4 M at 25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cidity constant, Ka for HA Keq times 55.6 M (leaving [water] out of the expr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 ranges from 1015 for the strongest acids to very small values (10-60) for the weak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 – the Acidity Cons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centration of water as a solvent does not change significantly when it is proto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lecular weight of H2O is 18 and one liter weighs 1000 grams, so the concentration is ~ 55.4 M at 25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cidity constant, Ka for HA Keq times 55.6 M (leaving [water] out of the express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 ranges from 1015 for the strongest acids to very small values (10-60) for the weak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Ka – the Acid Strength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Ka = -log 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e energy in an equilibrium is related to –log of Keq (DG = -RT log Ke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maller value of pKa indicates a stronger acid and is proportional to the energy difference between products and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Ka of water is 15.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Ka – the Acid Strength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Ka = -log 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e energy in an equilibrium is related to –log of Keq (DG = -RT log Ke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maller value of pKa indicates a stronger acid and is proportional to the energy difference between products and reac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Ka of water is 15.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9 Predicting Acid–Base Reactions from pKa Valu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Ka values are related as logarithms to equilibrium cons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ful for predicting whether a given acid-base reaction will take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ce in two pKa values is the log of the ratio of equilibrium constants, and can be used to calculate the extent of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onger base holds the proton more tigh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9 Predicting Acid–Base Reactions from pKa Valu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Ka values are related as logarithms to equilibrium cons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ful for predicting whether a given acid-base reaction will take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ce in two pKa values is the log of the ratio of equilibrium constants, and can be used to calculate the extent of trans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onger base holds the proton more tigh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0 Organic Acids and Organic Ba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Acid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zed by the presence of positively polarized 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0 Organic Acids and Organic Ba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Aci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zed by the presence of positively polarized hydroge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 Polar Covalent Bonds: Electronega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valent bonds can have ionic charac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polar covalent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ing electrons attracted more strongly by one atom than by the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distribution between atoms is not symmet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 Polar Covalent Bonds: Electroneg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valent bonds can have ionic charac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polar covalent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ing electrons attracted more strongly by one atom than by the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distribution between atoms is not symmetr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that lose a proton from O–H, such as methanol and acet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that lose a proton from C–H, usually from a carbon atom next to a C=O double bond (O=C–C–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that lose a proton from O–H, such as methanol and acet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that lose a proton from C–H, usually from a carbon atom next to a C=O double bond (O=C–C–H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n atom with a lone pair of electrons that can bond to 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gen-containing compounds derived from ammonia are the most common organic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-containing compounds can react as bases when with a strong acid or as acids with strong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n atom with a lone pair of electrons that can bond to 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gen-containing compounds derived from ammonia are the most common organic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-containing compounds can react as bases when with a strong acid or as acids with strong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1 Acids and Bases: The Lewis Defini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acids are electron pair acceptors and Lewis bases are electron pair don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ønsted acids are not Lewis acids because they cannot accept an electron pair directly (only a proton would be a Lewis aci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wis definition leads to a general description of many reaction patterns but there is no scale of strengths as in the Brønsted definition of p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1 Acids and Bases: The Lewis Defini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acids are electron pair acceptors and Lewis bases are electron pair don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ønsted acids are not Lewis acids because they cannot accept an electron pair directly (only a proton would be a Lewis ac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wis definition leads to a general description of many reaction patterns but there is no scale of strengths as in the Brønsted definition of p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Acids and the Curved Arrow Formalis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wis definition of acidity includes metal cations, such as Mg2+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ccept a pair of electrons when they form a bond to a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3A elements, such as BF3 and AlCl3, are Lewis acids because they have unfilled valence orbitals and can accept electron pairs from Lewis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-metal compounds, such as TiCl4, FeCl3, ZnCl2, and SnCl4, are Lewis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compounds that undergo addition reactions with Lewis bases (discussed later) are called electrophiles and therefore Lewis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bination of a Lewis acid and a Lewis base can shown with a curved arrow from base to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Acids and the Curved Arrow Formalis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wis definition of acidity includes metal cations, such as Mg2+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ccept a pair of electrons when they form a bond to a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3A elements, such as BF3 and AlCl3, are Lewis acids because they have unfilled valence orbitals and can accept electron pairs from Lewis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-metal compounds, such as TiCl4, FeCl3, ZnCl2, and SnCl4, are Lewis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compounds that undergo addition reactions with Lewis bases (discussed later) are called electrophiles and therefore Lewis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bination of a Lewis acid and a Lewis base can shown with a curved arrow from base to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lustration of Curved Arrows in Following Lewis Acid-Base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lustration of Curved Arrows in Following Lewis Acid-Bas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bases can accept protons as well as Lewis acids, therefore the definition encompasses that for Brønste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xygen- and nitrogen-containing organic compounds are Lewis bases because they have lone pairs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compounds can act as both acids and bases, depending on the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bases can accept protons as well as Lewis acids, therefore the definition encompasses that for Brønste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xygen- and nitrogen-containing organic compounds are Lewis bases because they have lone pair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compounds can act as both acids and bases, depending on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2 Molecular Mode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chemistry is 3-D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ar shape is critical in determining the chemistry a compound undergoes in the lab, and in living organ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2 Molecular Mode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chemistry is 3-D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ar shape is critical in determining the chemistry a compound undergoes in the lab, and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.13 Noncovalent Inter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everal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pole-dipole fo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spersion fo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2.13 Noncovalent Inter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Several typ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Dipole-dipole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Dispersion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ole-Dip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 between polar molecules as a result of electrostatic inter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ng dip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s can be attractive of repulsive depending on orientation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ole-Dip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 between polar molecules as a result of electrostatic inter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ng dip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s can be attractive of repulsive depending on orientation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ersion Fo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 between all neighboring molecules and arise because the electron distribution within molecules that are constantly chan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ersion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 between all neighboring molecules and arise because the electron distribution within molecules that are constantly chan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 Polarity and Electronega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egativity (EN): intrinsic ability of an atom to attract the shared electrons in a covalent b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in EN produce bond pola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bitrary scale. As shown in Figure 2.2, electronegativities are based on an arbitrary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is most electronegative (EN = 4.0), Cs is least (EN = 0.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 on left side of periodic table attract electrons weakly, lower 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ogens and other reactive nonmetals on right side of periodic table attract electrons strongly, higher electronegativ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of C = 2.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 Polarity and Electroneg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egativity (EN): intrinsic ability of an atom to attract the shared electrons in a co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in EN produce bond pola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bitrary scale. As shown in Figure 2.2, electronegativities are based on an arbitrary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is most electronegative (EN = 4.0), Cs is least (EN = 0.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 on left side of periodic table attract electrons weakly, lower 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ogens and other reactive nonmetals on right side of periodic table attract electrons strongly, higher electronega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of C = 2.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Bond Fo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important noncovalent interaction in biological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s are result of attractive interaction between a hydrogen bonded to an electronegative O or N atom and an unshared electron pair on another O or 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Bon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important noncovalent interaction in biological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s are result of attractive interaction between a hydrogen bonded to an electronegative O or N atom and an unshared electron pair on another O or 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molecules often have polar covalent bonds as a result of unsymmetrical electron sharing caused by differences in the electronegativity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larity of a molecule is measured by its dipole moment, 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+) and  ()  indicate  formal charges on atoms in molecules to keep track of valence electrons around a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ubstances must be shown as a resonance hybrid of two or more resonance forms that differ by the location of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ønsted(–Lowry) acid donates a pr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ønsted(–Lowry) base accepts a pr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ength Brønsted acid is related to the -1 times the logarithm of the acidity constant, pKa. Weaker acids have higher pKa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molecules often have polar covalent bonds as a result of unsymmetrical electron sharing caused by differences in the electronegativity of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larity of a molecule is measured by its dipole moment, 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+) and  ()  indicate  formal charges on atoms in molecules to keep track of valence electrons around a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ubstances must be shown as a resonance hybrid of two or more resonance forms that differ by the location of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ønsted(–Lowry) acid donates a pro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ønsted(–Lowry) base accepts a pro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ength Brønsted acid is related to the -1 times the logarithm of the acidity constant, pKa. Weaker acids have higher pKa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(cont’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ewis acid has an empty orbital that can accept an electron 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ewis base can donate an unshared electron 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ondensed structures C-C and C-H are impl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keletal structures show bonds and not C or H  (C is shown as a junction of two lines) – other atoms are sh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ar models are useful for representing structures for stu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covalent interactions have several types: dipole-dipole, dispersion, and hydrogen bond fo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(cont’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ewis acid has an empty orbital that can accept an electron 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ewis base can donate an unshared electron 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ondensed structures C-C and C-H are impl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keletal structures show bonds and not C or H  (C is shown as a junction of two lines) – other atoms are sh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ar models are useful for representing structures for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covalent interactions have several types: dipole-dipole, dispersion, and hydrogen bon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 and Electronega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 and Electroneg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 Polarity and Inductive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polar Covalent Bonds: atoms with similar 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 Covalent Bonds: Difference in EN of atoms &lt;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Bonds: Difference in EN &gt;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–H bonds, relatively nonpolar C-O, C-X bonds (more electronegative elements) are po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ing electrons toward electronegativ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acquires partial positive charge, 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egative atom acquires partial negative charge, 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ctive effect: shifting of electrons in a bond in response to EN of nearby ato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 Polarity and Inductive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polar Covalent Bonds: atoms with similar 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 Covalent Bonds: Difference in EN of atoms &lt;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Bonds: Difference in EN &gt;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–H bonds, relatively nonpolar C-O, C-X bonds (more electronegative elements) are po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ing electrons toward electronegativ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acquires partial positive charge, 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egative atom acquires partial negative charge, 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ctive effect: shifting of electrons in a bond in response to EN of nearby ato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static Potential Ma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static potential maps show calculated charge distrib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s indicate electron-rich (red) and electron-poor (blue) reg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ows indicate direction of bond pola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static Potential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static potential maps show calculated charge distrib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s indicate electron-rich (red) and electron-poor (blue) 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ows indicate direction of bond pola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 Polar Covalent Bonds: Dipole Mo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as a whole are often polar from vector summation of individual bond polarities and lone-pair contrib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ly polar substances soluble in polar solvents like water; nonpolar substances are insoluble in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ole moment () - Net molecular polarity, due to difference in summed cha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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magnitude of charge Q at end of molecular dipole times distance r between cha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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Q  r, in debyes (D), 1 D = 3.336  1030 coulomb 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gth of an average covalent bond, the dipole moment would be 1.60  1029 Cm, or 4.80 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 Polar Covalent Bonds: Dipole Mo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as a whole are often polar from vector summation of individual bond polarities and lone-pair contrib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ly polar substances soluble in polar solvents like water; nonpolar substances are insoluble i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ole moment () - Net molecular polarity, due to difference in summed cha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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magnitude of charge Q at end of molecular dipole times distance r between cha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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Q  r, in debyes (D), 1 D = 3.336  1030 coulomb 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gth of an average covalent bond, the dipole moment would be 1.60  1029 Cm, or 4.80 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ole Moments in Water and Ammo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dipole mo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of  O and N &gt;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O and N have lone-pair electrons oriented away from all nucle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ole Moments in Water and Ammo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dipole mo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of  O and N &gt;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O and N have lone-pair electrons oriented away from all nucl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E731B-8A7C-4895-A8DA-72F675C031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02945-444C-4A3D-9389-B8FD93D811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1802B-D301-45BD-898D-7E1569F483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82A41-5F2B-4F87-83D0-CA2FB30D98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9F8BE6-EEC2-47CE-8126-12B85EA6F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3BC3C2-D114-4722-B758-4B4E3297F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DA1B1A-7915-49A5-BBE5-1C0A7D558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030E89-F1EC-42FE-A8CB-CE43A2E65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9BFFE7-3FDD-49B8-A195-69AF871BA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62F783-9B28-474D-9BD8-32FFE9535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B5ED1F-9FB7-435E-B7BA-06D88535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85294-A097-4C7D-8ECC-5380BD033F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3BF302-885B-4618-B56F-6B16FEBA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F9F898-67A6-4D51-9006-DDDE2A0F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2FA56F-653E-467E-A04F-EDD57EFCE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145D99-3B2E-4661-8831-47EDD6749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B62E6B-2BCC-4024-B6C6-A8E447E48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BF846-D5C8-4EE4-8297-2E132C2081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2C072-597E-4A45-AD01-5685C63468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AB0A7-1EF7-4D21-998B-FD1853AD66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C7AC6-084E-4D70-8A8F-0A5EF7BD32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9157A-8DEC-4569-9B89-68A2500E0F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69302-92AE-4326-9D7D-D7FDDD31D9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E1413-CAAE-445A-BA01-FB7E4A9EB2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626CE-0752-4D70-9FA8-6E28226C7C62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8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2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2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3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55E58-6F5E-42F6-BB2B-15BC0ACC6641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066680" y="3809880"/>
            <a:ext cx="76201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480" y="1143000"/>
            <a:ext cx="69343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Arial"/>
              </a:rPr>
              <a:t>2. Polar Covalent Bonds: Acids and Bases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Rectangle 26"/>
          <p:cNvSpPr/>
          <p:nvPr/>
        </p:nvSpPr>
        <p:spPr>
          <a:xfrm>
            <a:off x="1371600" y="3962520"/>
            <a:ext cx="6858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sed on McMurry’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ganic Chemist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Absence of Dipole Momen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ymmetrical molecules, the dipole moments of each bond has one in the opposite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ffects of the local dipoles cancel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"/>
          <p:cNvPicPr/>
          <p:nvPr/>
        </p:nvPicPr>
        <p:blipFill>
          <a:blip r:embed="rId1"/>
          <a:stretch/>
        </p:blipFill>
        <p:spPr>
          <a:xfrm>
            <a:off x="1225440" y="3276720"/>
            <a:ext cx="6693120" cy="25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2.3 Formal Charg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imes it is necessary to have structures wi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mal charg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individual at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ompare the bonding of the atom in the molecule to the valence electron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atom has one more electron in the molecule, it is shown with a “-” ch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atom has one less electron, it is shown with a “+” ch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Neutral molecules with both a “+” and a “-” are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dipo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"/>
          <p:cNvPicPr/>
          <p:nvPr/>
        </p:nvPicPr>
        <p:blipFill>
          <a:blip r:embed="rId1"/>
          <a:stretch/>
        </p:blipFill>
        <p:spPr>
          <a:xfrm>
            <a:off x="2178000" y="3944880"/>
            <a:ext cx="483228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914040" y="1600200"/>
            <a:ext cx="4419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ic sulfur has 6 valence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methyl suloxide sulfur has only 5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as lost an electron and has positive ch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ygen atom in DMSO has gained electron and has (-) ch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762120" y="380880"/>
            <a:ext cx="780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mal Charge for Dimethyl Sulfox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5029200" y="1981080"/>
            <a:ext cx="3962520" cy="31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1720800" y="1676520"/>
            <a:ext cx="5702400" cy="2239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2"/>
          <a:stretch/>
        </p:blipFill>
        <p:spPr>
          <a:xfrm>
            <a:off x="920880" y="4343400"/>
            <a:ext cx="730224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2.4 Resonanc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molecules are have structures that cannot be shown with a single 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se cases we draw structures that contribute to the final structure but which differ in the position of th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ond(s) or lone pair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h a structure is delocalized and is represented b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onance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onance forms are connected by a double-headed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"/>
          <p:cNvPicPr/>
          <p:nvPr/>
        </p:nvPicPr>
        <p:blipFill>
          <a:blip r:embed="rId1"/>
          <a:stretch/>
        </p:blipFill>
        <p:spPr>
          <a:xfrm>
            <a:off x="2063880" y="4267080"/>
            <a:ext cx="501624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Resonance Hybrid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tructure with resonance forms does not alternate between the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ead, it is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ybr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two resonance forms, so the structure is called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onance hyb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, benzene (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has two resonance forms with alternating double and single b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resonance hybrid, the actual structure, all its C-C bonds are equivalent, midway between double and si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7" descr=""/>
          <p:cNvPicPr/>
          <p:nvPr/>
        </p:nvPicPr>
        <p:blipFill>
          <a:blip r:embed="rId1"/>
          <a:stretch/>
        </p:blipFill>
        <p:spPr>
          <a:xfrm>
            <a:off x="1720800" y="4200480"/>
            <a:ext cx="567072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2.5 Rules for Resonance Form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resonance forms a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aginar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he real structure is a hybrid (only by knowing the contributors can you visualize the actual struct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nance forms differ only in the placement of thei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nonbonding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resonance forms of a substance don’t have to be equival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nance forms must be valid Lewis structures: the octet rule a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onance hybrid is more stable than any individual resonance form would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Curved Arrows and Resonance Form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imagine that electrons move in pairs to convert from one resonance form to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urved arrow shows that a pair of electrons mov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atom or bond at the tail of the arrow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atom or bond at the head of the ar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7" descr=""/>
          <p:cNvPicPr/>
          <p:nvPr/>
        </p:nvPicPr>
        <p:blipFill>
          <a:blip r:embed="rId1"/>
          <a:stretch/>
        </p:blipFill>
        <p:spPr>
          <a:xfrm>
            <a:off x="1905120" y="3581280"/>
            <a:ext cx="5321160" cy="22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2.6 Drawing Resonance Forms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three-atom grouping with a multiple bond has two resonance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" descr=""/>
          <p:cNvPicPr/>
          <p:nvPr/>
        </p:nvPicPr>
        <p:blipFill>
          <a:blip r:embed="rId1"/>
          <a:stretch/>
        </p:blipFill>
        <p:spPr>
          <a:xfrm>
            <a:off x="1219320" y="2895480"/>
            <a:ext cx="662940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Different Atoms in Resonance Form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imes resonance forms involve different atom types as well as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ing resonance hybrid has properties associated with both types of contribu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ypes may contribute unequ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“enolate” derived from acetone is a good illustration, with delocalization between carbon and oxy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8" descr=""/>
          <p:cNvPicPr/>
          <p:nvPr/>
        </p:nvPicPr>
        <p:blipFill>
          <a:blip r:embed="rId1"/>
          <a:stretch/>
        </p:blipFill>
        <p:spPr>
          <a:xfrm>
            <a:off x="1371600" y="3657600"/>
            <a:ext cx="640080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Why this chapter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ption of basic ways chemists account for chemical reacti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foundation for understanding specific reactions discussed in subsequent chap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2,4-Pentanedion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nion derived from 2,4-pentaned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ne pair of electrons and a formal negative charge on the central carbon atom, next to a C=O bond on the left and on the r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ree resonance structures resu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" descr=""/>
          <p:cNvPicPr/>
          <p:nvPr/>
        </p:nvPicPr>
        <p:blipFill>
          <a:blip r:embed="rId1"/>
          <a:stretch/>
        </p:blipFill>
        <p:spPr>
          <a:xfrm>
            <a:off x="685800" y="4191120"/>
            <a:ext cx="800100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2.7 Acids and Bases: The Brønsted–Lowry Definition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rms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and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can have different meanings in different contex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at reason, we specify the usage with more complete termi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dea that acids are solutions containing a lot of “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and bases are solutions containing a lot of “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is not very useful in organic chemi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, Brønsted–Lowry theory defines acids and bases by their role in reactions that transfer protons (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between donors and accep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Brønsted Acids and Bas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ønsted-Low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is usually shortened to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øns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ønsted ac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ubstance that donates a hydrogen ion (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ønsted b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ubstance that accepts the 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ton” is a synonym for H</a:t>
            </a:r>
            <a:r>
              <a:rPr b="1" lang="en-US" sz="2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- loss of an electron from H leaving the bare nucleus—a prot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The Reaction of Acid with Bas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dronium ion, product when base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gains a pro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Cl donates a proton to water molecule, yielding hydronium ion (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[conjugate acid] and Cl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</a:rPr>
              <a:t>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[conjugate bas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verse is also a Brønsted acid–base reaction of the conjugate acid and conjugate 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2" descr=""/>
          <p:cNvPicPr/>
          <p:nvPr/>
        </p:nvPicPr>
        <p:blipFill>
          <a:blip r:embed="rId1"/>
          <a:stretch/>
        </p:blipFill>
        <p:spPr>
          <a:xfrm>
            <a:off x="1371600" y="3456000"/>
            <a:ext cx="6381720" cy="13082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3" descr="Picture 1"/>
          <p:cNvPicPr/>
          <p:nvPr/>
        </p:nvPicPr>
        <p:blipFill>
          <a:blip r:embed="rId2"/>
          <a:stretch/>
        </p:blipFill>
        <p:spPr>
          <a:xfrm>
            <a:off x="1374840" y="4809960"/>
            <a:ext cx="634500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2.8 Acid and Base Strength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quilibrium constant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reaction of an acid (HA) with water to form hydronium ion and the conjugate base (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is a measure related to the strength of the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nger acids have larg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brackets [ ] indicate concentration, moles per liter, M.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8" descr="Picture 2"/>
          <p:cNvPicPr/>
          <p:nvPr/>
        </p:nvPicPr>
        <p:blipFill>
          <a:blip r:embed="rId1"/>
          <a:stretch/>
        </p:blipFill>
        <p:spPr>
          <a:xfrm>
            <a:off x="1219320" y="4343400"/>
            <a:ext cx="745956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330033"/>
                </a:solidFill>
                <a:latin typeface="Arial"/>
              </a:rPr>
              <a:t>K</a:t>
            </a:r>
            <a:r>
              <a:rPr b="0" lang="en-US" sz="4200" spc="-1" strike="noStrike" baseline="-25000">
                <a:solidFill>
                  <a:srgbClr val="330033"/>
                </a:solidFill>
                <a:latin typeface="Arial"/>
              </a:rPr>
              <a:t>a</a:t>
            </a: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 – the Acidity Constan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ncentration of water as a solvent does not change significantly when it is proton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lecular weight of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is 18 and one liter weighs 1000 grams, so the concentration is ~ 55.4 M at 25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idity constant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H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imes 55.6 M (leaving [water] out of the expres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anges from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5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strongest acids to very small values (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6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for the weak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Picture 1"/>
          <p:cNvPicPr/>
          <p:nvPr/>
        </p:nvPicPr>
        <p:blipFill>
          <a:blip r:embed="rId1"/>
          <a:stretch/>
        </p:blipFill>
        <p:spPr>
          <a:xfrm>
            <a:off x="838080" y="4076640"/>
            <a:ext cx="8167680" cy="24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76320" y="671400"/>
            <a:ext cx="8966160" cy="52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p</a:t>
            </a:r>
            <a:r>
              <a:rPr b="0" i="1" lang="en-US" sz="4200" spc="-1" strike="noStrike">
                <a:solidFill>
                  <a:srgbClr val="330033"/>
                </a:solidFill>
                <a:latin typeface="Arial"/>
              </a:rPr>
              <a:t>K</a:t>
            </a:r>
            <a:r>
              <a:rPr b="0" lang="en-US" sz="4200" spc="-1" strike="noStrike" baseline="-25000">
                <a:solidFill>
                  <a:srgbClr val="330033"/>
                </a:solidFill>
                <a:latin typeface="Arial"/>
              </a:rPr>
              <a:t>a</a:t>
            </a: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 – the Acid Strength Scal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-lo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ree energy in an equilibrium is related to –log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l-GR" sz="2400" spc="-1" strike="noStrike">
                <a:solidFill>
                  <a:srgbClr val="000000"/>
                </a:solidFill>
                <a:latin typeface="Symbol"/>
                <a:ea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 -RT lo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maller value of 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dicates a stronger acid and is proportional to the energy difference between products and reac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water is 15.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2" descr="Picture 2"/>
          <p:cNvPicPr/>
          <p:nvPr/>
        </p:nvPicPr>
        <p:blipFill>
          <a:blip r:embed="rId1"/>
          <a:stretch/>
        </p:blipFill>
        <p:spPr>
          <a:xfrm>
            <a:off x="828720" y="4605480"/>
            <a:ext cx="800100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2.9 Predicting Acid–Base Reactions from p</a:t>
            </a:r>
            <a:r>
              <a:rPr b="0" i="1" lang="en-US" sz="3800" spc="-1" strike="noStrike">
                <a:solidFill>
                  <a:srgbClr val="330033"/>
                </a:solidFill>
                <a:latin typeface="Arial"/>
              </a:rPr>
              <a:t>K</a:t>
            </a:r>
            <a:r>
              <a:rPr b="0" lang="en-US" sz="3800" spc="-1" strike="noStrike" baseline="-25000">
                <a:solidFill>
                  <a:srgbClr val="330033"/>
                </a:solidFill>
                <a:latin typeface="Arial"/>
              </a:rPr>
              <a:t>a</a:t>
            </a: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 Values</a:t>
            </a:r>
            <a:r>
              <a:rPr b="0" lang="en-CA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alues are related as logarithms to equilibrium 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ful for predicting whether a given acid-base reaction will tak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ifference in two 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alues is the log of the ratio of equilibrium constants, and can be used to calculate the extent of trans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ronger base holds the proton more tigh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7" descr=""/>
          <p:cNvPicPr/>
          <p:nvPr/>
        </p:nvPicPr>
        <p:blipFill>
          <a:blip r:embed="rId1"/>
          <a:stretch/>
        </p:blipFill>
        <p:spPr>
          <a:xfrm>
            <a:off x="1606680" y="3962520"/>
            <a:ext cx="593064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2.10 Organic Acids and Organic Bases</a:t>
            </a:r>
            <a:r>
              <a:rPr b="0" lang="en-CA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c Aci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zed by the presence of positively polarized hydrogen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914400" y="3051000"/>
            <a:ext cx="731520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68256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buClr>
                <a:srgbClr val="000000"/>
              </a:buClr>
              <a:buSzPct val="13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2.1 Polar Covalent Bonds: Electronegativit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15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alent bonds can have ionic charac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 covalent b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nding electrons attracted more strongly by one atom than by the o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ectron distribution between atoms is not symmetri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2" descr=""/>
          <p:cNvPicPr/>
          <p:nvPr/>
        </p:nvPicPr>
        <p:blipFill>
          <a:blip r:embed="rId1"/>
          <a:stretch/>
        </p:blipFill>
        <p:spPr>
          <a:xfrm>
            <a:off x="1308240" y="4038480"/>
            <a:ext cx="6540480" cy="218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Organic Acid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se that lose a proton from O–H, such as methanol and acet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se that lose a proton from C–H, usually from a carbon atom next to a C=O double bond (O=C–C–H)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584360" y="3846600"/>
            <a:ext cx="595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9" descr=""/>
          <p:cNvPicPr/>
          <p:nvPr/>
        </p:nvPicPr>
        <p:blipFill>
          <a:blip r:embed="rId1"/>
          <a:stretch/>
        </p:blipFill>
        <p:spPr>
          <a:xfrm>
            <a:off x="762120" y="3124080"/>
            <a:ext cx="8265960" cy="19926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"/>
          <p:cNvPicPr/>
          <p:nvPr/>
        </p:nvPicPr>
        <p:blipFill>
          <a:blip r:embed="rId2"/>
          <a:stretch/>
        </p:blipFill>
        <p:spPr>
          <a:xfrm>
            <a:off x="762120" y="5294160"/>
            <a:ext cx="822960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Organic Bas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an atom with a lone pair of electrons that can bond to 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trogen-containing compounds derived from ammonia are the most common organic 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ygen-containing compounds can react as bases when with a strong acid or as acids with strong 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7" descr=""/>
          <p:cNvPicPr/>
          <p:nvPr/>
        </p:nvPicPr>
        <p:blipFill>
          <a:blip r:embed="rId1"/>
          <a:stretch/>
        </p:blipFill>
        <p:spPr>
          <a:xfrm>
            <a:off x="1841400" y="3886200"/>
            <a:ext cx="53974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2.11 Acids and Bases: The Lewis Definition</a:t>
            </a:r>
            <a:r>
              <a:rPr b="0" lang="en-CA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wis acids are electron pair acceptors and Lewis bases are electron pair don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ønsted acids are not Lewis acids because they cannot accept an electron pair directly (only a proton would be a Lewis ac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ewis definition leads to a general description of many reaction patterns but there is no scale of strengths as in the Brønsted definition of 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1"/>
          <a:stretch/>
        </p:blipFill>
        <p:spPr>
          <a:xfrm>
            <a:off x="1828800" y="4537080"/>
            <a:ext cx="548640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Lewis Acids and the Curved Arrow Formalism</a:t>
            </a:r>
            <a:r>
              <a:rPr b="0" lang="en-CA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ewis definition of acidity includes metal cations, such as M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ccept a pair of electrons when they form a bond to a 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 3A elements, such as B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Al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re Lewis acids because they have unfilled valence orbitals and can accept electron pairs from Lewis b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-metal compounds, such as Ti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Fe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Zn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Sn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re Lewis ac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Organic compounds that undergo addition reactions with Lewis bases (discussed later) are called electrophiles and therefore Lewis Ac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mbination of a Lewis acid and a Lewis base can shown with a curved arrow from base to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33"/>
                </a:solidFill>
                <a:latin typeface="Arial"/>
              </a:rPr>
              <a:t>Illustration of Curved Arrows in Following Lewis Acid-Base Reactions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96" name="Picture 8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563904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Lewis Bas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wis ba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accept protons as well as Lewis acids, therefore the definition encompasses that for Brønsted b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oxygen- and nitrogen-containing organic compounds are Lewis bases because they have lone pairs of elec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compounds can act as both acids and bases, depending on the 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7" descr=""/>
          <p:cNvPicPr/>
          <p:nvPr/>
        </p:nvPicPr>
        <p:blipFill>
          <a:blip r:embed="rId1"/>
          <a:stretch/>
        </p:blipFill>
        <p:spPr>
          <a:xfrm>
            <a:off x="2133720" y="3397320"/>
            <a:ext cx="478764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2.12 Molecular Models</a:t>
            </a:r>
            <a:r>
              <a:rPr b="0" lang="en-CA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c chemistry is 3-D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lecular shape is critical in determining the chemistry a compound undergoes in the lab, and in living org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8" descr=""/>
          <p:cNvPicPr/>
          <p:nvPr/>
        </p:nvPicPr>
        <p:blipFill>
          <a:blip r:embed="rId1"/>
          <a:stretch/>
        </p:blipFill>
        <p:spPr>
          <a:xfrm>
            <a:off x="685800" y="2971800"/>
            <a:ext cx="7804080" cy="30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>
                <a:solidFill>
                  <a:srgbClr val="330033"/>
                </a:solidFill>
                <a:latin typeface="Arial"/>
              </a:rPr>
              <a:t>2.13 Noncovalent Interac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typ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pole-dipole fo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persion fo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drogen b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>
                <a:solidFill>
                  <a:srgbClr val="330033"/>
                </a:solidFill>
                <a:latin typeface="Arial"/>
              </a:rPr>
              <a:t>Dipole-Dipol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1066680" y="1981080"/>
            <a:ext cx="74185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cur between polar molecules as a result of electrostatic inter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ng dip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ces can be attractive of repulsive depending on orientation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lec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6" descr=""/>
          <p:cNvPicPr/>
          <p:nvPr/>
        </p:nvPicPr>
        <p:blipFill>
          <a:blip r:embed="rId1"/>
          <a:stretch/>
        </p:blipFill>
        <p:spPr>
          <a:xfrm>
            <a:off x="685800" y="3773520"/>
            <a:ext cx="791856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>
                <a:solidFill>
                  <a:srgbClr val="330033"/>
                </a:solidFill>
                <a:latin typeface="Arial"/>
              </a:rPr>
              <a:t>Dispersion Forc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1066680" y="1981080"/>
            <a:ext cx="74185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cur between all neighboring molecules and arise because the electron distribution within molecules that are constantly chan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5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757584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Bond Polarity and Electronegativit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ronegativity (EN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rinsic ability of an atom to attract the shared electrons in a covalent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ces in EN produce bond po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bitrary scale. As shown in Figure 2.2, electronegativities are based on an arbitrary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is most electronegative (EN = 4.0), Cs is least (EN = 0.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s on left side of periodic table attract electrons weakly, lower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logens and other reactive nonmetals on right side of periodic table attract electrons strongly, higher electronega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of C = 2.5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>
                <a:solidFill>
                  <a:srgbClr val="330033"/>
                </a:solidFill>
                <a:latin typeface="Times New Roman"/>
              </a:rPr>
              <a:t>Hydrogen Bond Forc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1066680" y="1981080"/>
            <a:ext cx="74185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important noncovalent interaction in biological molec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ces are result of attractive interaction between a hydrogen bonded to an electronegative O or N atom and an unshared electron pair on another O or N a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5" descr=""/>
          <p:cNvPicPr/>
          <p:nvPr/>
        </p:nvPicPr>
        <p:blipFill>
          <a:blip r:embed="rId1"/>
          <a:stretch/>
        </p:blipFill>
        <p:spPr>
          <a:xfrm>
            <a:off x="1644480" y="3386160"/>
            <a:ext cx="585504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1832040" y="1676520"/>
            <a:ext cx="5478480" cy="44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c molecules often hav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ar covalent bon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a result of unsymmetrical electron sharing caused by differences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egati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at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olarity of a molecule is measured by it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pole mo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+) and 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 indicate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l charg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atoms in molecules to keep track of valence electrons around an a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substances must be shown as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onance hybr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wo or mor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onance form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differ by the location of electr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ønsted(–Lowry) ac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onates a pro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ønsted(–Lowry) b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ccepts a pro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rength Brønsted acid is related to the -1 times the logarithm of the acidity constant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Weaker acids have higher 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Summary (cont’d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wis ac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s an empty orbital that can accept an electron p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wis b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donate an unshared electron p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ensed structur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-C and C-H are impl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keletal structur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bonds and not C or H  (C is shown as a junction of two lines) – other atoms are sh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lecular models are useful for representing structures for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covalent interactions have several types: dipole-dipole, dispersion, and hydrogen bond fo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The Periodic Table and Electronegativit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5" name="Picture 8" descr=""/>
          <p:cNvPicPr/>
          <p:nvPr/>
        </p:nvPicPr>
        <p:blipFill>
          <a:blip r:embed="rId1"/>
          <a:stretch/>
        </p:blipFill>
        <p:spPr>
          <a:xfrm>
            <a:off x="76320" y="2160720"/>
            <a:ext cx="896616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Bond Polarity and Inductive Effec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polar Covalent Bon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toms with similar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 Covalent Bon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Difference in EN of atoms &lt;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ic Bonds: Difference in EN &gt;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–H bonds, relatively nonpolar C-O, C-X bonds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ectronegative elements) are po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ding electrons toward electronegative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acquires partial positive charge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egative atom acquires partial negative charge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uctive effec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hifting of electrons in a bond in response to EN of nearby atom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Electrostatic Potential Map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4419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ctrostatic potential map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 calculated char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s indicate electron-rich (red) and electron-poor (blue)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ows indicate direction of bond po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"/>
          <p:cNvPicPr/>
          <p:nvPr/>
        </p:nvPicPr>
        <p:blipFill>
          <a:blip r:embed="rId1"/>
          <a:stretch/>
        </p:blipFill>
        <p:spPr>
          <a:xfrm>
            <a:off x="5181480" y="2057400"/>
            <a:ext cx="371340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2.2 Polar Covalent Bonds: Dipole Moment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6201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5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lecules as a whole are often polar from vector summation of individual bond polarities and lone-pair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5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ongly polar substances soluble in polar solvents like water; nonpolar substances are insoluble in w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5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pole moment (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</a:rPr>
              <a:t>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t molecular polarity, due to difference in summed char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5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magnitude of charg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 end of molecular dipole times distanc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tween char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85000"/>
              </a:lnSpc>
              <a:spcBef>
                <a:spcPts val="4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</a:rPr>
              <a:t>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eby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D), 1 D = 3.336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</a:rPr>
              <a:t>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Symbol"/>
              </a:rPr>
              <a:t>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ulomb me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85000"/>
              </a:lnSpc>
              <a:spcBef>
                <a:spcPts val="4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 of an average covalent bond, the dipole moment would be 1.60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</a:rPr>
              <a:t>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Symbol"/>
              </a:rPr>
              <a:t>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</a:rPr>
              <a:t>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, or 4.80 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"/>
          <p:cNvPicPr/>
          <p:nvPr/>
        </p:nvPicPr>
        <p:blipFill>
          <a:blip r:embed="rId1"/>
          <a:stretch/>
        </p:blipFill>
        <p:spPr>
          <a:xfrm>
            <a:off x="2209680" y="4427640"/>
            <a:ext cx="4729320" cy="23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Dipole Moments in Water and Ammonia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dipole mo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 of  O and N &gt; 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th O and N have lone-pair electrons oriented away from all nucle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1"/>
          <a:stretch/>
        </p:blipFill>
        <p:spPr>
          <a:xfrm>
            <a:off x="1355760" y="3124080"/>
            <a:ext cx="6432480" cy="34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7T20:13:45Z</dcterms:created>
  <dc:creator>Ronald Kluger</dc:creator>
  <dc:description/>
  <dc:language>en-US</dc:language>
  <cp:lastModifiedBy>LEGION</cp:lastModifiedBy>
  <cp:lastPrinted>2009-04-22T19:24:48Z</cp:lastPrinted>
  <dcterms:modified xsi:type="dcterms:W3CDTF">2017-01-26T09:12:20Z</dcterms:modified>
  <cp:revision>244</cp:revision>
  <dc:subject/>
  <dc:title>2. Polar Covalent Bonds: Acids and Bases</dc:title>
</cp:coreProperties>
</file>