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717E-3309-480D-91FA-FE140E9210B5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olar Covalent Bonds: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McMurry’s Organic Chemistry, 7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ence of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metrical molecules, the dipole moments of each bond has one in the opposit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the local dipoles canc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 Formal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 is necessary to have structures with formal charges on individual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 the bonding of the atom in the molecule to the valence elect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more electron in the molecule, it is shown with a “-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atom has one less electron, it is shown with a “+”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molecules with both a “+” and a “-” are di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ulfur has 6 valenc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methyl suloxide sulfur has only 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lost an electron and has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atom in DMSO has gained electron and has (-)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Charge for Dimethyl Sulf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lecules are have structures that cannot be shown with a singl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se cases we draw structures that contribute to the final structure but which differ in the position of the  bond(s) or lone pair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 structure is delocalized and is represented by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forms are connected by a double-headed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Hybr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ructure with resonance forms does not alternate between th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it is a hybrid of the two resonance forms, so the structure is called a resonance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benzene (C6H6) has two resonance forms with alternating double and singl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resonance hybrid, the actual structure, all its C-C bonds are equivalent, midway between double and si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Rules for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resonance forms are imaginary - the real structure is a hybrid (only by knowing the contributors can you visualize the actual stru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differ only in the placement of their  or nonbond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resonance forms of a substance don’t have to be equiva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nance forms must be valid Lewis structures: the octet rule app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nance hybrid is more stable than any individual resonance form w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ved Arrows and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imagine that electrons move in pairs to convert from one resonance form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rved arrow shows that a pair of electrons moves from the atom or bond at the tail of the arrow to the atom or bond at the head of the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Drawing Resonance F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three-atom grouping with a multiple bond has two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Atoms in Resonance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resonance forms involve different atom types as well as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resonance hybrid has properties associated with both types of contrib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ypes may contribute uneq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enolate” derived from acetone is a good illustration, with delocalization between carbon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is chap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of basic ways chemists account for chemical re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 foundation for understanding specific reactions discussed in subsequent chap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on derived from 2,4-pentaned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e pair of electrons and a formal negative charge on the central carbon atom, next to a C=O bond on the left and on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sonance structures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Acids and Bases: The Brønsted–Lowry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rms “acid” and “base” can have different meanings in different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at reason, we specify the usage with more complete termi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that acids are solutions containing a lot of “H+” and bases are solutions containing a lot of “OH-” is not very useful in organic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, Brønsted–Lowry theory defines acids and bases by their role in reactions that transfer protons (H+) between donors and acce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-Lowry” is usually shortened to “Brøns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acid is a substance that donates a hydrogen ion (H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 base is a substance that accepts the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” is a synonym for H+ - loss of an electron from H leaving the bare nucleus—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action of Acid with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nium ion, product when base H2O gain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Cl donates a proton to water molecule, yielding hydronium ion (H3O+) [conjugate acid] and Cl [conjugate bas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reverse is also a Brønsted acid–base reaction of the conjugate acid and conjugat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 Acid and Base 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ilibrium constant (Keq) for the reaction of an acid (HA) with water to form hydronium ion and the conjugate base (A-) is a measure related to the strength of the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acids have larger Ke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brackets [ ] indicate concentration, moles per liter, 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– the Acidity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entration of water as a solvent does not change significantly when it is proto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lecular weight of H2O is 18 and one liter weighs 1000 grams, so the concentration is ~ 55.4 M at 2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idity constant, Ka for HA Keq times 55.6 M (leaving [water] out of the expr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ranges from 1015 for the strongest acids to very small values (10-60) for the weak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– the Acid Strengt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= -log 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e energy in an equilibrium is related to –log of Keq (DG = -RT log Ke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er value of pKa indicates a stronger acid and is proportional to the energy difference between products and reac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a of water is 15.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 Predicting Acid–Base Reactions from pKa 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values are related as logarithms to equilibrium cons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for predicting whether a given acid-base reaction will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in two pKa values is the log of the ratio of equilibrium constants, and can be used to calculate the extent of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onger base holds the proton more tigh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0 Organic Acids and Organic B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ed by the presence of positively polarized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 Polar Covalent Bonds: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s can have ionic chara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polar 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attracted more strongly by one atom than by the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distribution between atoms is not symmetr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O–H, such as methanol and ace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that lose a proton from C–H, usually from a carbon atom next to a C=O double bond (O=C–C–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n atom with a lone pair of electrons that can bond to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-containing compounds derived from ammonia are the most common organ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-containing compounds can react as bases when with a strong acid or as acids with strong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1 Acids and Bases: The Lewis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re electron pair acceptors and Lewis bases are electron pair d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ønsted acids are not Lewis acids because they cannot accept an electron pair directly (only a proton would be a Lewis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leads to a general description of many reaction patterns but there is no scale of strengths as in the Brønsted definition of p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Acids and the Curved Arrow Formal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wis definition of acidity includes metal cations, such as Mg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ccept a pair of electrons when they form a bond to a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3A elements, such as BF3 and AlCl3, are Lewis acids because they have unfilled valence orbitals and can accept electron pairs from 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tion-metal compounds, such as TiCl4, FeCl3, ZnCl2, and SnCl4, a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ompounds that undergo addition reactions with Lewis bases (discussed later) are called electrophiles and therefore Lewis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bination of a Lewis acid and a Lewis base can shown with a curved arrow from base t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ion of Curved Arrows in Following Lewis Acid-Bas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wis bases can accept protons as well as Lewis acids, therefore the definition encompasses that for Brønste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xygen- and nitrogen-containing organic compounds are Lewis bases because they have lone pair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both acids and bases, depending on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2 Molecular Mod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chemistry is 3-D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shape is critical in determining the chemistry a compound undergoes in the lab, and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2.13 Noncovalent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ev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pole-dipol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-Di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polar molecules as a result of electrostatic inte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ng dip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can be attractive of repulsive depending on orienta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tween all neighboring molecules and arise because the electron distribution within molecules that are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ity (EN): intrinsic ability of an atom to attract the shared electrons in a co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in EN produce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cale. As shown in Figure 2.2, electronegativities are based on an arbitrary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is most electronegative (EN = 4.0), Cs is least (EN = 0.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on left side of periodic table attract electrons weakly, lowe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ogens and other reactive nonmetals on right side of periodic table attract electrons strongly, higher electronega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C = 2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noncovalent interaction in biologic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s are result of attractive interaction between a hydrogen bonded to an electronegative O or N atom and an unshared electron pair on another O or 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c molecules often have polar covalent bonds as a result of unsymmetrical electron sharing caused by differences in the electronegativity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ty of a molecule is measured by its dipole moment, 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 ()  indicate  formal charges on atoms in molecules to keep track of valence electrons around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ubstances must be shown as a resonance hybrid of two or more resonance forms that differ by the location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acid donate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ønsted(–Lowry) base accepts a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ength Brønsted acid is related to the -1 times the logarithm of the acidity constant, pKa. Weaker acids have higher pKa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acid has an empty orbital that can accept an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ewis base can donate an unshared electron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ndensed structures C-C and C-H are imp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eletal structures show bonds and not C or H  (C is shown as a junction of two lines) – other atoms are sh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ar models are useful for representing structures fo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covalent interactions have several types: dipole-dipole, dispersion, and hydrogen bon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nd Electroneg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 Polarity and Inductiv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polar Covalent Bonds: atoms with similar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 Covalent Bonds: Difference in EN of atoms &l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s: Difference in EN 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–H bonds, relatively nonpolar C-O, C-X bonds (more electronegative elements) are po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ing electrons toward electronegativ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acquires partial positive charge, 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egative atom acquires partial negative charge, 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tive effect: shifting of electrons in a bond in response to EN of nearby 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static potential maps show calculated charge dis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indicate electron-rich (red) and electron-poor (blue)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ows indicate direction of bond pol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Polar Covalent Bonds: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s a whole are often polar from vector summation of individual bond polarities and lone-pair 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ly polar substances soluble in polar solvents like water; nonpolar substances are insoluble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 () - Net molecular polarity, due to difference in summed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magnitude of charge Q at end of molecular dipole times distance r between 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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Q  r, in debyes (D), 1 D = 3.336  1030 coulomb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an average covalent bond, the dipole moment would be 1.60  1029 Cm, or 4.80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ole Moments in Water and 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dipol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of  O and N &gt;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 and N have lone-pair electrons oriented away from all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6943-9F75-4012-973C-A28697A2A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AEC5-14D5-4A23-BBE9-CC00F0954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F463-30F8-40B2-8820-91427225D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43BA5-5254-416B-BCB6-8E12B0675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4E97F-9763-4C76-82FE-01419F1F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B9112-6D6A-4632-AED1-CDDD8B90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33FFC-CDE2-4338-870A-0F6199BF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C2CE7-6D04-41C8-B58C-8B131F97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B4078-A911-4490-81DE-5641A965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16977-437A-4958-B0CE-96BDDDB9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63135-C822-4EC3-B097-8A6BF59A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F35D-0694-48CA-B6A3-C000A9DB5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368F0-7409-446E-B82F-ACDC3391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D7633-DBCB-4656-9ADB-5753FBA2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C899A-CB17-4253-9004-F37F02D1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58FD6-63B2-4F26-8B6F-ED4E6545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1F897-04A2-4553-B669-06FAA684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571F-FFE8-4FB2-86B7-116170102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3CF2-2CB0-448C-957C-33E6FFBDA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9BBD-3296-45F5-8197-9F5968431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E679-1BF4-4376-B331-F09DE2D78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B652-DE03-4C58-A7F7-4EBC21211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A169E-CCD6-4230-B7FB-5D3B14317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D380-E848-48D0-9D53-DF2F810153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5B65-96E6-48DF-9868-97EABB544127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06B3-90C9-4A83-99D9-665DF31ABD7B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066680" y="3809880"/>
            <a:ext cx="7620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2. Polar Covalent Bonds: Acids and Bas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Rectangle 26"/>
          <p:cNvSpPr/>
          <p:nvPr/>
        </p:nvSpPr>
        <p:spPr>
          <a:xfrm>
            <a:off x="1371600" y="39625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on McMurry’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ganic 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Absence of Dipole Momen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ymmetrical molecules, the dipole moments of each bond has one in the opposit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of the local dipoles cancel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225440" y="3276720"/>
            <a:ext cx="669312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3 Formal Charg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it is necessary to have structur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individual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ompare the bonding of the atom in the molecule to the valence electro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more electron in the molecule, it is shown with a “-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tom has one less electron, it is shown with a “+”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eutral molecules with both a “+” and a “-” are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ip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2178000" y="3944880"/>
            <a:ext cx="48322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ulfur has 6 valence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thyl suloxide sulfur has only 5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lost an electron and has positive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atom in DMSO has gained electron and has (-) ch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380880"/>
            <a:ext cx="78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l Charge for Dimethyl Sulf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96252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720800" y="1676520"/>
            <a:ext cx="5702400" cy="2239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920880" y="4343400"/>
            <a:ext cx="73022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4 Reson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olecules are have structures that cannot be shown with a singl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se cases we draw structures that contribute to the final structure but which differ in the position of t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nd(s) or lone pai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 structure is delocalized and is represent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nance forms are connected by a double-headed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2063880" y="4267080"/>
            <a:ext cx="5016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Resonance Hybr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ucture with resonance forms does not alternate between the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it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two resonance forms, so the structure is calle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benzene (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two resonance forms with alternating double and single b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esonance hybrid, the actual structure, all its C-C bonds are equivalent, midway between double and 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20800" y="4200480"/>
            <a:ext cx="56707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5 Rules for Resonance Fo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esonance form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real structure is a hybrid (only by knowing the contributors can you visualize the actual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differ only in the placement of 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nonbonding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resonance forms of a substance don’t have to b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nance forms must be valid Lewis structures: the octet rule a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onance hybrid is more stable than any individual resonance form w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Curved Arrows and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imagine that electrons move in pairs to convert from one resonance form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urved arrow shows that a pair of electrons mov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tail of the arr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tom or bond at the head of the a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1905120" y="3581280"/>
            <a:ext cx="53211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6 Drawing Resonance Form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three-atom grouping with a multiple bond has two resonanc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66294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fferent Atoms in Resonance 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resonance forms involve different atom types as well as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resonance hybrid has properties associated with both types of contribu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ypes may contribute unequ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enolate” derived from acetone is a good illustration, with delocalization between carbon and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4008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Why this chapt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basic ways chemists account for chemical re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foundation for understanding specific reactions discussed in subsequent chap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,4-Pentanedio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ion derived from 2,4-pentaned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e pair of electrons and a formal negative charge on the central carbon atom, next to a C=O bond on the left and on the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resonance structures res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80010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7 Acids and Bases: The Brønsted–Lowry Defini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rms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can have different meanings in different contex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at reason, we specify the usage with more complete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acids are solutions containing a lot of “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and bases are solutions containing a lot of “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is not very useful in organic 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Brønsted–Lowry theory defines acids and bases by their role in reactions that transfer protons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tween donors and ac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rønsted Acids and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-Low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s usually shortened to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ac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donates a hydrogen ion (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ønsted 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tance that accepts the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n” is a synonym for H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loss of an electron from H leaving the bare nucleus—a pro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he Reaction of Acid with Bas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nium ion, product when base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ain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l donates a proton to water molecule, yielding hydronium ion 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[conjugate acid] and Cl</a:t>
            </a:r>
            <a:r>
              <a:rPr b="1" lang="en-US" sz="20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[conjugate ba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verse is also a Brønsted acid–base reaction of the conjugate acid and conjugat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1"/>
          <a:stretch/>
        </p:blipFill>
        <p:spPr>
          <a:xfrm>
            <a:off x="1371600" y="3456000"/>
            <a:ext cx="6381720" cy="1308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3" descr="Picture 1"/>
          <p:cNvPicPr/>
          <p:nvPr/>
        </p:nvPicPr>
        <p:blipFill>
          <a:blip r:embed="rId2"/>
          <a:stretch/>
        </p:blipFill>
        <p:spPr>
          <a:xfrm>
            <a:off x="1374840" y="4809960"/>
            <a:ext cx="63450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8 Acid and Base Strengt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ilibrium consta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reaction of an acid (HA) with water to form hydronium ion and the conjugate base (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 measure related to the strength of the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er acids have lar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brackets [ ] indicate concentration, moles per liter, M.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Picture 2"/>
          <p:cNvPicPr/>
          <p:nvPr/>
        </p:nvPicPr>
        <p:blipFill>
          <a:blip r:embed="rId1"/>
          <a:stretch/>
        </p:blipFill>
        <p:spPr>
          <a:xfrm>
            <a:off x="1219320" y="4343400"/>
            <a:ext cx="74595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ity Consta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centration of water as a solvent does not change significantly when it is proto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lecular weight of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is 18 and one liter weighs 1000 grams, so the concentration is ~ 55.4 M at 25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dity constan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H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s 55.6 M (leaving [water] out of the 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ges from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trongest acids to very small values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or the weak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Picture 1"/>
          <p:cNvPicPr/>
          <p:nvPr/>
        </p:nvPicPr>
        <p:blipFill>
          <a:blip r:embed="rId1"/>
          <a:stretch/>
        </p:blipFill>
        <p:spPr>
          <a:xfrm>
            <a:off x="838080" y="4076640"/>
            <a:ext cx="816768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6320" y="671400"/>
            <a:ext cx="896616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p</a:t>
            </a:r>
            <a:r>
              <a:rPr b="0" i="1" lang="en-US" sz="42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42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 – the Acid Strength Sc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e energy in an equilibrium is related to –log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2400" spc="-1" strike="noStrike">
                <a:solidFill>
                  <a:srgbClr val="000000"/>
                </a:solidFill>
                <a:latin typeface="Symbo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-RT lo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er value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a stronger acid and is proportional to the energy difference between products and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water is 15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Picture 2"/>
          <p:cNvPicPr/>
          <p:nvPr/>
        </p:nvPicPr>
        <p:blipFill>
          <a:blip r:embed="rId1"/>
          <a:stretch/>
        </p:blipFill>
        <p:spPr>
          <a:xfrm>
            <a:off x="828720" y="4605480"/>
            <a:ext cx="80010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9 Predicting Acid–Base Reactions from p</a:t>
            </a:r>
            <a:r>
              <a:rPr b="0" i="1" lang="en-US" sz="3800" spc="-1" strike="noStrike">
                <a:solidFill>
                  <a:srgbClr val="330033"/>
                </a:solidFill>
                <a:latin typeface="Arial"/>
              </a:rPr>
              <a:t>K</a:t>
            </a:r>
            <a:r>
              <a:rPr b="0" lang="en-US" sz="3800" spc="-1" strike="noStrike" baseline="-25000">
                <a:solidFill>
                  <a:srgbClr val="330033"/>
                </a:solidFill>
                <a:latin typeface="Arial"/>
              </a:rPr>
              <a:t>a</a:t>
            </a: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 Valu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are related as logarithms to equilibrium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predicting whether a given acid-base reaction will tak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fference in two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s is the log of the ratio of equilibrium constants, and can be used to calculate the extent of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onger base holds the proton more tigh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1606680" y="3962520"/>
            <a:ext cx="59306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0 Organic Acids and Organic Bases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d by the presence of positively polarized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914400" y="3051000"/>
            <a:ext cx="73152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25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buClr>
                <a:srgbClr val="000000"/>
              </a:buClr>
              <a:buSzPct val="1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 Polar Covalent Bonds: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alent bonds can have ionic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ding electrons attracted more strongly by one atom than by the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ctron distribution between atoms is not symmetr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2" descr=""/>
          <p:cNvPicPr/>
          <p:nvPr/>
        </p:nvPicPr>
        <p:blipFill>
          <a:blip r:embed="rId1"/>
          <a:stretch/>
        </p:blipFill>
        <p:spPr>
          <a:xfrm>
            <a:off x="1308240" y="4038480"/>
            <a:ext cx="6540480" cy="21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Acid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O–H, such as methanol and ace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that lose a proton from C–H, usually from a carbon atom next to a C=O double bond (O=C–C–H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84360" y="3846600"/>
            <a:ext cx="595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8265960" cy="1992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762120" y="5294160"/>
            <a:ext cx="82296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rganic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n atom with a lone pair of electrons that can bond to 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-containing compounds derived from ammonia are the most common organic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-containing compounds can react as bases when with a strong acid or as acids with strong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1841400" y="3886200"/>
            <a:ext cx="5397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11 Acids and Bases: The Lewis Definition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wis acids are electron pair acceptors and Lewis bases are electron pair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ønsted acids are not Lewis acids because they cannot accept an electron pair directly (only a proton would be a Lewis ac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wis definition leads to a general description of many reaction patterns but there is no scale of strengths as in the Brønsted definition of 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tretch/>
        </p:blipFill>
        <p:spPr>
          <a:xfrm>
            <a:off x="1828800" y="4537080"/>
            <a:ext cx="54864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Lewis Acids and the Curved Arrow Formalism</a:t>
            </a:r>
            <a:r>
              <a:rPr b="0" lang="en-C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wis definition of acidity includes metal cations, such as M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cept a pair of electrons when they form a bond to a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3A elements, such as B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l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 because they have unfilled valence orbitals and can accept electron pairs from Lewis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-metal compounds, such as Ti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S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rganic compounds that undergo addition reactions with Lewis bases (discussed later) are called electrophiles and therefore Lewis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bination of a Lewis acid and a Lewis base can shown with a curved arrow from base t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Arial"/>
              </a:rPr>
              <a:t>Illustration of Curved Arrows in Following Lewis Acid-Base Reactions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390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ewis Ba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ccept protons as well as Lewis acids, therefore the definition encompasses that for Brønsted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xygen- and nitrogen-containing organic compounds are Lewis bases because they have lone pairs of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compounds can act as both acids and bases, depending on the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1"/>
          <a:stretch/>
        </p:blipFill>
        <p:spPr>
          <a:xfrm>
            <a:off x="2133720" y="3397320"/>
            <a:ext cx="478764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2.12 Molecular Models</a:t>
            </a: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c chemistry is 3-D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shape is critical in determining the chemistry a compound undergoes in the lab, and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8040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2.13 Noncovalent Intera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persion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pole-Dipo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1066680" y="1981080"/>
            <a:ext cx="7418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polar molecules as a result of electrostatic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dip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can be attractive of repulsive depending on orienta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6" descr=""/>
          <p:cNvPicPr/>
          <p:nvPr/>
        </p:nvPicPr>
        <p:blipFill>
          <a:blip r:embed="rId1"/>
          <a:stretch/>
        </p:blipFill>
        <p:spPr>
          <a:xfrm>
            <a:off x="685800" y="3773520"/>
            <a:ext cx="79185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Arial"/>
              </a:rPr>
              <a:t>Dispersion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1981080"/>
            <a:ext cx="74185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 between all neighboring molecules and arise because the electron distribution within molecules that are constantly ch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575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Bond Polarity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egativity (EN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insic ability of an atom to attract the shared electrons in a covalen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EN produce bond po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ry scale. As shown in Figure 2.2, electronegativities are based on an arbitrar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most electronegative (EN = 4.0), Cs is least (EN = 0.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on left side of periodic table attract electrons weakly, lowe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s and other reactive nonmetals on right side of periodic table attract electrons strongly, higher electronega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of C = 2.5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200" spc="-1" strike="noStrike">
                <a:solidFill>
                  <a:srgbClr val="330033"/>
                </a:solidFill>
                <a:latin typeface="Times New Roman"/>
              </a:rPr>
              <a:t>Hydrogen Bond Forc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66680" y="1981080"/>
            <a:ext cx="7418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noncovalent interaction in biological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are result of attractive interaction between a hydrogen bonded to an electronegative O or N atom and an unshared electron pair on another O or N a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1644480" y="3386160"/>
            <a:ext cx="585504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832040" y="1676520"/>
            <a:ext cx="54784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molecules often ha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 result of unsymmetrical electron sharing caused by differences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ega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larity of a molecule is measured by 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ole mo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) and 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indicat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l char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atoms in molecules to keep track of valence electrons around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ubstances must be shown a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hybr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wo or mo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ce fo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differ by the location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nate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ønsted(–Lowry)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pts a pro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ength Brønsted acid is related to the -1 times the logarithm of the acidity constan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eaker acids have higher 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mmary (cont’d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ac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n empty orbital that can accept an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wis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donate an unshared electron 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ensed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C and C-H are 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letal structur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bonds and not C or H  (C is shown as a junction of two lines) – other atoms are sh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ecular models are useful for representing structures fo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covalent interactions have several types: dipole-dipole, dispersion, and hydrogen bon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The Periodic Table and Electronega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76320" y="2160720"/>
            <a:ext cx="896616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ond Polarity and Inductive Effe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oms with similar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 Covalent 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fference in EN of atoms &l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Bonds: Difference in EN &gt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–H bonds, relatively nonpolar C-O, C-X bond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ctronegative elements) are 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ing electrons toward electronegative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acquires partial posi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egative atom acquires partial negative charg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ctive effe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ing of electrons in a bond in response to EN of nearby atom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Electrostatic Potential Ma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441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ostatic potential ma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calculated char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 indicate electron-rich (red) and electron-poor (blue)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ows indicate direction of bond po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5181480" y="2057400"/>
            <a:ext cx="371340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2.2 Polar Covalent Bonds: Dipole Mome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es as a whole are often polar from vector summation of individual bond polarities and lone-pair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polar substances soluble in polar solvents like water; nonpolar substances are insoluble in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5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pole moment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t molecular polarity, due to difference in summed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5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gnitude of ch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end of molecular dipole times dista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cha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by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), 1 D = 3.33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ulomb 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5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an average covalent bond, the dipole moment would be 1.6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Symbol"/>
              </a:rPr>
              <a:t>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</a:rPr>
              <a:t>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, or 4.80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2209680" y="4427640"/>
            <a:ext cx="472932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Arial"/>
              </a:rPr>
              <a:t>Dipole Moments in Water and Ammonia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ipole mo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of  O and N &gt; 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O and N have lone-pair electrons oriented away from all nuc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1355760" y="3124080"/>
            <a:ext cx="643248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20:13:45Z</dcterms:created>
  <dc:creator>Ronald Kluger</dc:creator>
  <dc:description/>
  <dc:language>en-US</dc:language>
  <cp:lastModifiedBy>LEGION</cp:lastModifiedBy>
  <cp:lastPrinted>2009-04-22T19:24:48Z</cp:lastPrinted>
  <dcterms:modified xsi:type="dcterms:W3CDTF">2017-01-26T09:12:20Z</dcterms:modified>
  <cp:revision>244</cp:revision>
  <dc:subject/>
  <dc:title>2. Polar Covalent Bonds: Acids and Bases</dc:title>
</cp:coreProperties>
</file>