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5.gif" ContentType="image/gif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33.gif" ContentType="image/gif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E830-EEAE-4880-843F-523E18D1C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the Chemicals that make up the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rga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5000 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 Rock-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Bo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lectrical Neutr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+) and (-) Cancel Ou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Bonding (Satisfy 1 &amp;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(NaCl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(O2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(Cu, Al, F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in wat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and Covalent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Bond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c bonding holds rocks and mineral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valent bonding holds people and other organisms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bonding holds civilization toge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bonding gives water its heat-retaining and solvent proper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Lat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in crystals form a repeating pattern called a Lat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Complex Anions (Radica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inerals contain groups of atoms that behave as single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uconite (Greek: Glaucos = Blue-gree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, 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ovite (Moscow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t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s (and Minerals) Are Classified by their A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: Iron Compounds Have Little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: Gray, Metall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l2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O4: Light Green, Water Solu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CO3: Brown, Fizzes in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: Dense, Brittle, Metallic,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ulfides have Many Properties in 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re Dense, Brittle, Metallic, have Cub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: very variable, complex cau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: strength of atomic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: mass and spacing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: how electrons interact with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: weak atomic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: extremely useful but not for beginn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 distinctive at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imes Distinc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Unreliab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fect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mpurit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oat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in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n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 to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relative strength of atomic bon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atch Test (Moh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ntation Test (Knoo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on Errors du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, ‘Chalk' ma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ing vs. Scratch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hs vs. Knoop Sca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, Fingernail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, Penn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3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16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at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43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ldspar, Glass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56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8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a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4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mon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masses of component atoms and their spac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very consis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 - gm/cm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eight relative to water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0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- Balsa: 0.1, Pine: 0.5, Oak: 0.6-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oline: 0.7, Motor Oil: 0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9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0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ga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18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Major Minerals: 2.6-3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m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, Hematite, Magnetite: 5.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6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i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ld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.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inu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.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idium: 22.4 (densest material on Eart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 or Nonmetallic is the most important distin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nous, waxy, silky, etc. are self-explanat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reous is often used for glassy lu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eav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ency to split along smooth planes of weaknessbetween atoms in cryst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ly related to atomic stru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d to Crystal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cleavage face is a possible crystal f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ery crystal face is a cleavage face. Quartz commonly forms crystals but lacks cleavag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Luck &amp; Pract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-formed crystals are uncomm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Classification is somewhat sub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ct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logic 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in all geologic settings: quartz, feldspar, pyr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sedimentary settings: calcite, dolom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igneous settings: oliv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inerals occur mostly in metamorphic settings: garnet, 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ying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te, Magnetism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ence and Re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est geologist is the one who’s seen the most rocks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ional Meth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Analys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-Ray Stud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raction in O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of Light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rity of Lithium, Beryllium, Bo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ference for Even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undance peak at Iron, trailing off af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lic:Au, Ag, C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, Pb, Zn, Fe, et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nmetallic: C - Diamond, Graph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Nug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ides:  Dense, Usually Metallic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Major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ite 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copyrite CuFe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ena P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alerite ZnS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lybdenite MoS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des: Usually Soft, Often Sol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ite NaC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uorite CaF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ates: Soft, Light Co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ypsum C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rite BaSO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MINERAL SU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es: Often Variable, Some 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matite Fe2O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uxite Al(OH) 3 (a hydrox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undum Al2O3 (Ruby, Sapphir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s: Fizz in Acid, Give off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te CaCO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lomite CaMg (CO3)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IMPORTANT MINERAL SUITE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licate Miner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 + O = 75% of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make up 95% + of all Roc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4: -4 char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k Corner-To-Corner by Sharing Oxygen ato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sosilicates - Isolat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rosilicates - Paired Tetrahedr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osilicates - Ring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yl (Emeral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urmalin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gle Chains  (Pyroxe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:  4 H  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particle  Mass 5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 Mass 8 – Uns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+ He + He 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more He to make heavier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of the line is iron for energy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eyond Iron made in massiv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osilicates - Chai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 Chains (Amphib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llosilicates - She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2O5 sheets with layers of Mg(OH)2 or Al(OH)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y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pentine (asbestos)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sbes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tosilicates - Three-Dimensional Network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z                              Feldsp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Sense of Crys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Cel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peating patterns can be described in terms of repeat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in Crystallography is to reason from the outward shape to the unit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ape Makes Each Stack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lanets Made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material as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s the elements that remain mostly in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find this pattern in a certain class of meteo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hapes that result from stacking 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y – the rules behind the sha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-Away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bond by sharing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are classified by their chemis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erals can be identified by their physical properties = 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licates are the most important miner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s are determined by mathematical rules called sym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nd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th’s Crust looks Very Diffe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ition of the Cru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hemical elements form in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2F32-6D27-461F-B523-261C6183E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A77B-39E4-43C7-BC95-568C5FD1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AA49-E286-4D9A-BC11-EE00E758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1253-9BC0-4590-BA18-307A40AD5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0FD-F16F-44E6-8AA7-069494D4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E306-B0C6-4817-A8FB-2AE785ADE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D402-AAE6-49F6-8091-44453436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7A03-EF86-463E-963F-58F5916AD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D000-4A86-404F-B9FA-4E9A9B79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8BD8-62CF-4F1B-B4C8-3D8FE2B8D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7C77-9A4B-4A30-958E-DA9E7A65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D6E9-26A8-44DD-B667-18622BEF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6C4D-F4C1-439E-892E-64C7D86E1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are the Chemicals that make up the Ear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ally Occurr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organ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out 5000 Kn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 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 Rock-Form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19320" y="1218960"/>
            <a:ext cx="16761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 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6892920" cy="4248360"/>
          </a:xfrm>
          <a:prstGeom prst="rect">
            <a:avLst/>
          </a:prstGeom>
          <a:ln w="0">
            <a:noFill/>
          </a:ln>
        </p:spPr>
      </p:pic>
      <p:sp>
        <p:nvSpPr>
          <p:cNvPr id="81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omic Bon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Electrical Neut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+) and (-) Cancel Ou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Bonding (Satisfy 1 &amp; 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(NaC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(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(Cu, Al, F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(in water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nic and Covalent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781680" cy="5127480"/>
          </a:xfrm>
          <a:prstGeom prst="rect">
            <a:avLst/>
          </a:prstGeom>
          <a:ln w="0">
            <a:noFill/>
          </a:ln>
        </p:spPr>
      </p:pic>
      <p:sp>
        <p:nvSpPr>
          <p:cNvPr id="8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lic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762800"/>
          </a:xfrm>
          <a:prstGeom prst="rect">
            <a:avLst/>
          </a:prstGeom>
          <a:ln w="0">
            <a:noFill/>
          </a:ln>
        </p:spPr>
      </p:pic>
      <p:sp>
        <p:nvSpPr>
          <p:cNvPr id="9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ydrogen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4762440"/>
          </a:xfrm>
          <a:prstGeom prst="rect">
            <a:avLst/>
          </a:prstGeom>
          <a:ln w="0">
            <a:noFill/>
          </a:ln>
        </p:spPr>
      </p:pic>
      <p:sp>
        <p:nvSpPr>
          <p:cNvPr id="9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 of Bond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onic bonding holds rocks and mineral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ing holds people and other organisms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bonding holds civilization togeth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ydrogen bonding gives water its heat-retaining and solvent proper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4.  Lat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in crystals form a repeating pattern called a Latt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1028" descr="D:\working copy\GRAPHIC0\ROCKMIN\ATOM-STRUCT\Lattice1.gif"/>
          <p:cNvPicPr/>
          <p:nvPr/>
        </p:nvPicPr>
        <p:blipFill>
          <a:blip r:embed="rId1"/>
          <a:stretch/>
        </p:blipFill>
        <p:spPr>
          <a:xfrm>
            <a:off x="1676520" y="2666880"/>
            <a:ext cx="5715000" cy="3429000"/>
          </a:xfrm>
          <a:prstGeom prst="rect">
            <a:avLst/>
          </a:prstGeom>
          <a:ln w="0">
            <a:noFill/>
          </a:ln>
        </p:spPr>
      </p:pic>
      <p:sp>
        <p:nvSpPr>
          <p:cNvPr id="100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Complex Anions (Radical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inerals contain groups of atoms that behave as single un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4" descr="D:\working copy\GRAPHIC0\ROCKMIN\Radicals.gif"/>
          <p:cNvPicPr/>
          <p:nvPr/>
        </p:nvPicPr>
        <p:blipFill>
          <a:blip r:embed="rId1"/>
          <a:stretch/>
        </p:blipFill>
        <p:spPr>
          <a:xfrm>
            <a:off x="1523880" y="2440080"/>
            <a:ext cx="6324840" cy="407520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AM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lauconite (Greek: Glaucos = Blue-gre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THER PROPERTIES, U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gne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rom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scovite (Moscow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oti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emicals (and Minerals) Are Classified by their An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or Example: Iron Compounds Have Little in Comm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: Gray, Metallic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Light Green, Water Solu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Brown, Fizzes in Ac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Dense, Brittle, Metallic,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Other Hand, Sulfides have Many Properties in Common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re Dense, Brittle, Metallic, have Cubic Crysta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3429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D:\Cartoons\PrimMailFraud.gif"/>
          <p:cNvPicPr/>
          <p:nvPr/>
        </p:nvPicPr>
        <p:blipFill>
          <a:blip r:embed="rId1"/>
          <a:srcRect l="0" t="8104" r="0" b="0"/>
          <a:stretch/>
        </p:blipFill>
        <p:spPr>
          <a:xfrm>
            <a:off x="4114800" y="228600"/>
            <a:ext cx="5029200" cy="6049800"/>
          </a:xfrm>
          <a:prstGeom prst="rect">
            <a:avLst/>
          </a:prstGeom>
          <a:ln w="0">
            <a:noFill/>
          </a:ln>
        </p:spPr>
      </p:pic>
      <p:sp>
        <p:nvSpPr>
          <p:cNvPr id="11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r: very variable, complex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ness: strength of atomic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: mass and spacing of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uster: how electrons interact with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eavage: weak atomic pla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: extremely useful but not for begin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properties distinctive at tim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times Distinctiv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ten Unreliab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fec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emical Impurit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face Coat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in Si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the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dnes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stance to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relative strength of atomic bo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ratch Test (Moh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entation Test (Knoop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on Errors du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thering, ‘Chalk' mar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eaking vs. Scr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hs vs. Knoop Scal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c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smal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ypsum, Fingernail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cite, Penny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35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uor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163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atite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43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eldspar, Glass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56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8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paz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34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rundum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1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amond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700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masses of component atoms and their spac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ually very consist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nsity - gm/cm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weight relative to water 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i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001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- Balsa: 0.1, Pine: 0.5, Oak: 0.6-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soline: 0.7, Motor Oil: 0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c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.9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0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ga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5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18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6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Major Minerals: 2.6-3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um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1371600" y="1622520"/>
            <a:ext cx="6458040" cy="5235480"/>
          </a:xfrm>
          <a:prstGeom prst="rect">
            <a:avLst/>
          </a:prstGeom>
          <a:ln w="0">
            <a:noFill/>
          </a:ln>
        </p:spPr>
      </p:pic>
      <p:sp>
        <p:nvSpPr>
          <p:cNvPr id="5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, Hematite, Magnetite: 5.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5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on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.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pper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rcury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3.6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rani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ld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.3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tinum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1.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ridium: 22.4 (densest material on Earth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 or Nonmetallic is the most important distinc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inous, waxy, silky, etc. are self-explanator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itreou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s often used for glassy luster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vag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ndency to split along smooth planes of weaknessbetween atoms in cryst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rectly related to atomic stru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ed to Crystal 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ery cleavage face is a possible crystal fa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every crystal face is a cleavage face. Quartz commonly forms crystals but lacks cleavag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ther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kes Luck &amp; Practi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ll-formed crystals are uncomm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 Classification is somewhat subt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ctu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logic 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in all geologic settings: quartz, feldspar, pyr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sedimentary settings: calcite, dolom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igneous settings: olivin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minerals occur mostly in metamorphic settings: garnet, kyan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dentifying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ste, Magnetism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ence and 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est geologist is the one who’s seen the most rocks.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Meth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-Ray Stud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n S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028" descr="D:\working copy\GRAPHIC0\ROCKMIN\Diffgrat0.gif"/>
          <p:cNvPicPr/>
          <p:nvPr/>
        </p:nvPicPr>
        <p:blipFill>
          <a:blip r:embed="rId1"/>
          <a:stretch/>
        </p:blipFill>
        <p:spPr>
          <a:xfrm>
            <a:off x="380880" y="2209680"/>
            <a:ext cx="8382240" cy="335304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D:\working copy\GRAPHIC0\ROCKMIN\Diffgrat1.gif"/>
          <p:cNvPicPr/>
          <p:nvPr/>
        </p:nvPicPr>
        <p:blipFill>
          <a:blip r:embed="rId1"/>
          <a:stretch/>
        </p:blipFill>
        <p:spPr>
          <a:xfrm>
            <a:off x="304920" y="2209680"/>
            <a:ext cx="8534160" cy="3413160"/>
          </a:xfrm>
          <a:prstGeom prst="rect">
            <a:avLst/>
          </a:prstGeom>
          <a:ln w="0">
            <a:noFill/>
          </a:ln>
        </p:spPr>
      </p:pic>
      <p:sp>
        <p:nvSpPr>
          <p:cNvPr id="16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Common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4" descr="A:\MVC-018S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raction in Op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5" descr="A:\MVC-022S.JPG"/>
          <p:cNvPicPr/>
          <p:nvPr/>
        </p:nvPicPr>
        <p:blipFill>
          <a:blip r:embed="rId1"/>
          <a:stretch/>
        </p:blipFill>
        <p:spPr>
          <a:xfrm>
            <a:off x="228600" y="1514520"/>
            <a:ext cx="5105520" cy="3828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A:\MVC-021S.JPG"/>
          <p:cNvPicPr/>
          <p:nvPr/>
        </p:nvPicPr>
        <p:blipFill>
          <a:blip r:embed="rId2"/>
          <a:stretch/>
        </p:blipFill>
        <p:spPr>
          <a:xfrm>
            <a:off x="5562720" y="1523880"/>
            <a:ext cx="3338280" cy="4611960"/>
          </a:xfrm>
          <a:prstGeom prst="rect">
            <a:avLst/>
          </a:prstGeom>
          <a:ln w="0">
            <a:noFill/>
          </a:ln>
        </p:spPr>
      </p:pic>
      <p:sp>
        <p:nvSpPr>
          <p:cNvPr id="16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Su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4190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of Light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rity of Lithium, Beryllium, Bo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ference for Eve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bundance peak at Iron, trailing off af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6" descr="D:\working copy\GRAPHIC0\GEOCHEM\Ptabsol2.gif"/>
          <p:cNvPicPr/>
          <p:nvPr/>
        </p:nvPicPr>
        <p:blipFill>
          <a:blip r:embed="rId1"/>
          <a:stretch/>
        </p:blipFill>
        <p:spPr>
          <a:xfrm>
            <a:off x="4572000" y="2209680"/>
            <a:ext cx="4295880" cy="3483000"/>
          </a:xfrm>
          <a:prstGeom prst="rect">
            <a:avLst/>
          </a:prstGeom>
          <a:ln w="0">
            <a:noFill/>
          </a:ln>
        </p:spPr>
      </p:pic>
      <p:sp>
        <p:nvSpPr>
          <p:cNvPr id="5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tallic:Au, Ag, C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l, Pb, Zn, Fe, et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nmetallic: C - Diamond, Graphi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pper Nug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GB1405 - dutchs\GEOPHOTO\RockMin\CuNugget3.JPG"/>
          <p:cNvPicPr/>
          <p:nvPr/>
        </p:nvPicPr>
        <p:blipFill>
          <a:blip r:embed="rId1"/>
          <a:stretch/>
        </p:blipFill>
        <p:spPr>
          <a:xfrm>
            <a:off x="914400" y="11430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ides:  Dense, Usually Metallic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Major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rite 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lcopyrite CuFe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lena P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halerite Zn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lybdenite Mo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des: Usually Soft, Often Solu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lite NaC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uorite C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lfates: Soft, Light Col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ypsum C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ite BaS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 SU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xides: Often Variable, Some O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matite F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uxite Al(OH)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a hydroxid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rundum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Ruby, Sapphire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bonates: Fizz in Acid, Give off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lcite Ca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lomite CaMg (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ST IMPORTANT MINERAL SUIT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Silicate Minera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 + O = 75% of Crus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make up 95% + of all Rock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-4 char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Corner-To-Corner by Sharing Oxygen ato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sosilicates - Isolat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D:\working copy\GRAPHIC0\sio4a.gif"/>
          <p:cNvPicPr/>
          <p:nvPr/>
        </p:nvPicPr>
        <p:blipFill>
          <a:blip r:embed="rId1"/>
          <a:srcRect l="2025" t="0" r="52186" b="65100"/>
          <a:stretch/>
        </p:blipFill>
        <p:spPr>
          <a:xfrm>
            <a:off x="3886200" y="2590920"/>
            <a:ext cx="4876920" cy="27302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685800" y="2209680"/>
            <a:ext cx="28954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ati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n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yani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iv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rosilicates - Paired Tetrahedra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D:\working copy\GRAPHIC0\cyclo1.gif"/>
          <p:cNvPicPr/>
          <p:nvPr/>
        </p:nvPicPr>
        <p:blipFill>
          <a:blip r:embed="rId1"/>
          <a:srcRect l="14518" t="-1587" r="69331" b="78407"/>
          <a:stretch/>
        </p:blipFill>
        <p:spPr>
          <a:xfrm>
            <a:off x="1295280" y="2286000"/>
            <a:ext cx="2702160" cy="3186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5257800" y="2895480"/>
            <a:ext cx="2666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dote is the most comm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osilicates - Ring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D:\working copy\GRAPHIC0\cyclo1.gif"/>
          <p:cNvPicPr/>
          <p:nvPr/>
        </p:nvPicPr>
        <p:blipFill>
          <a:blip r:embed="rId1"/>
          <a:srcRect l="0" t="24786" r="58750" b="47829"/>
          <a:stretch/>
        </p:blipFill>
        <p:spPr>
          <a:xfrm>
            <a:off x="1600200" y="1828800"/>
            <a:ext cx="3657600" cy="199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D:\working copy\GRAPHIC0\cyclo1.gif"/>
          <p:cNvPicPr/>
          <p:nvPr/>
        </p:nvPicPr>
        <p:blipFill>
          <a:blip r:embed="rId2"/>
          <a:srcRect l="40000" t="0" r="31250" b="41078"/>
          <a:stretch/>
        </p:blipFill>
        <p:spPr>
          <a:xfrm>
            <a:off x="5410080" y="1828800"/>
            <a:ext cx="2522520" cy="424656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990720" y="4114800"/>
            <a:ext cx="441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yl (Emeral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urmalin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19320" y="11426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gle Chains  (Pyroxen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5" descr="D:\working copy\GRAPHIC0\ROCKMIN\ATOM-STRUCT\INO1A.GIF"/>
          <p:cNvPicPr/>
          <p:nvPr/>
        </p:nvPicPr>
        <p:blipFill>
          <a:blip r:embed="rId1"/>
          <a:srcRect l="0" t="-588" r="-1140" b="48768"/>
          <a:stretch/>
        </p:blipFill>
        <p:spPr>
          <a:xfrm>
            <a:off x="533520" y="1981080"/>
            <a:ext cx="8076960" cy="3853080"/>
          </a:xfrm>
          <a:prstGeom prst="rect">
            <a:avLst/>
          </a:prstGeom>
          <a:ln w="0">
            <a:noFill/>
          </a:ln>
        </p:spPr>
      </p:pic>
      <p:sp>
        <p:nvSpPr>
          <p:cNvPr id="202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Elements Form in St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:  4 H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partic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5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ss 8 – Unst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+ He + H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more He to make heavier el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d of the line is iron for energy p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eyond Iron made in massiv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osilicates - Chai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371600" y="12189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uble Chains (Amphibo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4" descr="D:\working copy\GRAPHIC0\ROCKMIN\ATOM-STRUCT\INO2A.GIF"/>
          <p:cNvPicPr/>
          <p:nvPr/>
        </p:nvPicPr>
        <p:blipFill>
          <a:blip r:embed="rId1"/>
          <a:srcRect l="0" t="0" r="0" b="47783"/>
          <a:stretch/>
        </p:blipFill>
        <p:spPr>
          <a:xfrm>
            <a:off x="304920" y="2438280"/>
            <a:ext cx="8458200" cy="236700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4" descr="D:\working copy\GRAPHIC0\ROCKMIN\ATOM-STRUCT\phyllo0.gif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5286240"/>
          </a:xfrm>
          <a:prstGeom prst="rect">
            <a:avLst/>
          </a:prstGeom>
          <a:ln w="0">
            <a:noFill/>
          </a:ln>
        </p:spPr>
      </p:pic>
      <p:sp>
        <p:nvSpPr>
          <p:cNvPr id="209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yllosilicates - She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heets with layers of Mg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Al(OH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y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rpentine (asbestos) miner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e Type of Asbest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15200" cy="4572000"/>
          </a:xfrm>
          <a:prstGeom prst="rect">
            <a:avLst/>
          </a:prstGeom>
          <a:ln w="0">
            <a:noFill/>
          </a:ln>
        </p:spPr>
      </p:pic>
      <p:sp>
        <p:nvSpPr>
          <p:cNvPr id="21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tosilicates - Three-Dimensional Networ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uartz                              Feldsp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5" descr="D:\working copy\GRAPHIC0\ROCKMIN\ATOM-STRUCT\QuartzStruc.gif"/>
          <p:cNvPicPr/>
          <p:nvPr/>
        </p:nvPicPr>
        <p:blipFill>
          <a:blip r:embed="rId1"/>
          <a:stretch/>
        </p:blipFill>
        <p:spPr>
          <a:xfrm>
            <a:off x="533520" y="2666880"/>
            <a:ext cx="3292200" cy="372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D:\working copy\GRAPHIC0\ROCKMIN\ATOM-STRUCT\Feldspar.gif"/>
          <p:cNvPicPr/>
          <p:nvPr/>
        </p:nvPicPr>
        <p:blipFill>
          <a:blip r:embed="rId2"/>
          <a:stretch/>
        </p:blipFill>
        <p:spPr>
          <a:xfrm>
            <a:off x="4038480" y="2895480"/>
            <a:ext cx="4572000" cy="3086280"/>
          </a:xfrm>
          <a:prstGeom prst="rect">
            <a:avLst/>
          </a:prstGeom>
          <a:ln w="0">
            <a:noFill/>
          </a:ln>
        </p:spPr>
      </p:pic>
      <p:sp>
        <p:nvSpPr>
          <p:cNvPr id="220" name="Footer Placeholder 5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king Sense of Cryst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IsoForms0"/>
          <p:cNvPicPr/>
          <p:nvPr/>
        </p:nvPicPr>
        <p:blipFill>
          <a:blip r:embed="rId1"/>
          <a:stretch/>
        </p:blipFill>
        <p:spPr>
          <a:xfrm>
            <a:off x="723960" y="1523880"/>
            <a:ext cx="7696080" cy="4759560"/>
          </a:xfrm>
          <a:prstGeom prst="rect">
            <a:avLst/>
          </a:prstGeom>
          <a:ln w="0">
            <a:noFill/>
          </a:ln>
        </p:spPr>
      </p:pic>
      <p:sp>
        <p:nvSpPr>
          <p:cNvPr id="22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 Cell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3520" y="99036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repeating patterns can be described in terms of repeating bo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4" descr="D:\working copy\GRAPHIC0\ROCKMIN\SYMMPAT\5PlaneUnitCells.gif"/>
          <p:cNvPicPr/>
          <p:nvPr/>
        </p:nvPicPr>
        <p:blipFill>
          <a:blip r:embed="rId1"/>
          <a:stretch/>
        </p:blipFill>
        <p:spPr>
          <a:xfrm>
            <a:off x="1219320" y="205740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22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problem in Crystallography is to reason from the outward shape to the unit c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3" descr="D:\working copy\GRAPHIC0\ROCKMIN\CanAnalogy1.gif"/>
          <p:cNvPicPr/>
          <p:nvPr/>
        </p:nvPicPr>
        <p:blipFill>
          <a:blip r:embed="rId1"/>
          <a:stretch/>
        </p:blipFill>
        <p:spPr>
          <a:xfrm>
            <a:off x="2209680" y="1523880"/>
            <a:ext cx="4572000" cy="4572000"/>
          </a:xfrm>
          <a:prstGeom prst="rect">
            <a:avLst/>
          </a:prstGeom>
          <a:ln w="0">
            <a:noFill/>
          </a:ln>
        </p:spPr>
      </p:pic>
      <p:sp>
        <p:nvSpPr>
          <p:cNvPr id="230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ich Shape Makes Each Stack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3" descr="D:\working copy\GRAPHIC0\ROCKMIN\CanAnalogy2.gif"/>
          <p:cNvPicPr/>
          <p:nvPr/>
        </p:nvPicPr>
        <p:blipFill>
          <a:blip r:embed="rId1"/>
          <a:stretch/>
        </p:blipFill>
        <p:spPr>
          <a:xfrm>
            <a:off x="2133720" y="14479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233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3" descr="D:\working copy\GRAPHIC0\ROCKMIN\UNCELL1.GIF"/>
          <p:cNvPicPr/>
          <p:nvPr/>
        </p:nvPicPr>
        <p:blipFill>
          <a:blip r:embed="rId1"/>
          <a:stretch/>
        </p:blipFill>
        <p:spPr>
          <a:xfrm>
            <a:off x="762120" y="2209680"/>
            <a:ext cx="7818480" cy="2841840"/>
          </a:xfrm>
          <a:prstGeom prst="rect">
            <a:avLst/>
          </a:prstGeom>
          <a:ln w="0">
            <a:noFill/>
          </a:ln>
        </p:spPr>
      </p:pic>
      <p:sp>
        <p:nvSpPr>
          <p:cNvPr id="236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Planets Made o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me material as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us the elements that remain mostly in g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find this pattern in a certain class of meteor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3" descr="D:\working copy\GRAPHIC0\ROCKMIN\DODECA.GIF"/>
          <p:cNvPicPr/>
          <p:nvPr/>
        </p:nvPicPr>
        <p:blipFill>
          <a:blip r:embed="rId1"/>
          <a:stretch/>
        </p:blipFill>
        <p:spPr>
          <a:xfrm>
            <a:off x="533520" y="484200"/>
            <a:ext cx="8229600" cy="5958000"/>
          </a:xfrm>
          <a:prstGeom prst="rect">
            <a:avLst/>
          </a:prstGeom>
          <a:ln w="0">
            <a:noFill/>
          </a:ln>
        </p:spPr>
      </p:pic>
      <p:sp>
        <p:nvSpPr>
          <p:cNvPr id="238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3" descr="D:\working copy\GRAPHIC0\ROCKMIN\OCTAHED.GIF"/>
          <p:cNvPicPr/>
          <p:nvPr/>
        </p:nvPicPr>
        <p:blipFill>
          <a:blip r:embed="rId1"/>
          <a:stretch/>
        </p:blipFill>
        <p:spPr>
          <a:xfrm>
            <a:off x="304920" y="457200"/>
            <a:ext cx="8534160" cy="5958000"/>
          </a:xfrm>
          <a:prstGeom prst="rect">
            <a:avLst/>
          </a:prstGeom>
          <a:ln w="0">
            <a:noFill/>
          </a:ln>
        </p:spPr>
      </p:pic>
      <p:sp>
        <p:nvSpPr>
          <p:cNvPr id="240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2" descr="D:\working copy\GRAPHIC0\Animations\IsoXlAnim0.gif"/>
          <p:cNvPicPr/>
          <p:nvPr/>
        </p:nvPicPr>
        <p:blipFill>
          <a:blip r:embed="rId1"/>
          <a:stretch/>
        </p:blipFill>
        <p:spPr>
          <a:xfrm>
            <a:off x="2133720" y="990720"/>
            <a:ext cx="4800600" cy="4800600"/>
          </a:xfrm>
          <a:prstGeom prst="rect">
            <a:avLst/>
          </a:prstGeom>
          <a:ln w="0">
            <a:noFill/>
          </a:ln>
        </p:spPr>
      </p:pic>
      <p:sp>
        <p:nvSpPr>
          <p:cNvPr id="242" name="Footer Placeholder 2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hapes that result from stacking cub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D:\working copy\GRAPHIC0\ROCKMIN\CRYSTAL-FORM\IsoForms0.gif"/>
          <p:cNvPicPr/>
          <p:nvPr/>
        </p:nvPicPr>
        <p:blipFill>
          <a:blip r:embed="rId1"/>
          <a:stretch/>
        </p:blipFill>
        <p:spPr>
          <a:xfrm>
            <a:off x="1371600" y="2133720"/>
            <a:ext cx="6469200" cy="4000320"/>
          </a:xfrm>
          <a:prstGeom prst="rect">
            <a:avLst/>
          </a:prstGeom>
          <a:ln w="0">
            <a:noFill/>
          </a:ln>
        </p:spPr>
      </p:pic>
      <p:sp>
        <p:nvSpPr>
          <p:cNvPr id="245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Picture 3" descr="D:\working copy\GRAPHIC0\ROCKMIN\SYMMPAT\Symmetry1.gif"/>
          <p:cNvPicPr/>
          <p:nvPr/>
        </p:nvPicPr>
        <p:blipFill>
          <a:blip r:embed="rId1"/>
          <a:stretch/>
        </p:blipFill>
        <p:spPr>
          <a:xfrm>
            <a:off x="2133720" y="1600200"/>
            <a:ext cx="5029200" cy="4491000"/>
          </a:xfrm>
          <a:prstGeom prst="rect">
            <a:avLst/>
          </a:prstGeom>
          <a:ln w="0">
            <a:noFill/>
          </a:ln>
        </p:spPr>
      </p:pic>
      <p:sp>
        <p:nvSpPr>
          <p:cNvPr id="24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763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ymmetry – the rules behind the shap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4" descr="D:\working copy\GRAPHIC0\Animations\SymmAnim.gif"/>
          <p:cNvPicPr/>
          <p:nvPr/>
        </p:nvPicPr>
        <p:blipFill>
          <a:blip r:embed="rId1"/>
          <a:stretch/>
        </p:blipFill>
        <p:spPr>
          <a:xfrm>
            <a:off x="1981080" y="1219320"/>
            <a:ext cx="5410440" cy="5410080"/>
          </a:xfrm>
          <a:prstGeom prst="rect">
            <a:avLst/>
          </a:prstGeom>
          <a:ln w="0">
            <a:noFill/>
          </a:ln>
        </p:spPr>
      </p:pic>
      <p:sp>
        <p:nvSpPr>
          <p:cNvPr id="25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rystal Cla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Picture 5" descr="D:\working copy\GRAPHIC0\ROCKMIN\SYMMPAT\6XlClasses.gif"/>
          <p:cNvPicPr/>
          <p:nvPr/>
        </p:nvPicPr>
        <p:blipFill>
          <a:blip r:embed="rId1"/>
          <a:stretch/>
        </p:blipFill>
        <p:spPr>
          <a:xfrm>
            <a:off x="533520" y="129528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25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ke-Away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emical elements form in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oms bond by sharing electr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are classified by their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nerals can be identified by their physical properties = atomic 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licates are the most important mineral gro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ystals are determined by mathematical rules called symme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Footer Placeholder 4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ondr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D:\working copy\GRAPHIC0\GEOCHEM\Ptabchn2.gif"/>
          <p:cNvPicPr/>
          <p:nvPr/>
        </p:nvPicPr>
        <p:blipFill>
          <a:blip r:embed="rId1"/>
          <a:stretch/>
        </p:blipFill>
        <p:spPr>
          <a:xfrm>
            <a:off x="1371600" y="1905120"/>
            <a:ext cx="6458040" cy="4136760"/>
          </a:xfrm>
          <a:prstGeom prst="rect">
            <a:avLst/>
          </a:prstGeom>
          <a:ln w="0">
            <a:noFill/>
          </a:ln>
        </p:spPr>
      </p:pic>
      <p:sp>
        <p:nvSpPr>
          <p:cNvPr id="68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Earth’s Crust looks Very Differ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D:\working copy\GRAPHIC0\GEOCHEM\Ptabccr2.gif"/>
          <p:cNvPicPr/>
          <p:nvPr/>
        </p:nvPicPr>
        <p:blipFill>
          <a:blip r:embed="rId1"/>
          <a:stretch/>
        </p:blipFill>
        <p:spPr>
          <a:xfrm>
            <a:off x="1295280" y="2286000"/>
            <a:ext cx="6264360" cy="3703680"/>
          </a:xfrm>
          <a:prstGeom prst="rect">
            <a:avLst/>
          </a:prstGeom>
          <a:ln w="0">
            <a:noFill/>
          </a:ln>
        </p:spPr>
      </p:pic>
      <p:sp>
        <p:nvSpPr>
          <p:cNvPr id="71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sition of the Cru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569360" cy="3998880"/>
          </a:xfrm>
          <a:prstGeom prst="rect">
            <a:avLst/>
          </a:prstGeom>
          <a:ln w="0">
            <a:noFill/>
          </a:ln>
        </p:spPr>
      </p:pic>
      <p:sp>
        <p:nvSpPr>
          <p:cNvPr id="74" name="Footer Placeholder 3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7T21:06:31Z</dcterms:created>
  <dc:creator>Steven Dutch</dc:creator>
  <dc:description/>
  <dc:language>en-US</dc:language>
  <cp:lastModifiedBy>LEGION</cp:lastModifiedBy>
  <dcterms:modified xsi:type="dcterms:W3CDTF">2017-01-26T09:34:09Z</dcterms:modified>
  <cp:revision>23</cp:revision>
  <dc:subject/>
  <dc:title>Minerals</dc:title>
</cp:coreProperties>
</file>