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F16071-5117-4C51-AA89-6DCB4B18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, electrons, and neutrons are in an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rconium (Z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91-40 = 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your periodic table to find an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(+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= #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s (-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atoms have no overall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must have an equal # of protons an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protons=#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 has 3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Neutrons (no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# (atomic weight rounded to nearest whole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84 –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rotons (p+), electrons (e-), neutrons (n)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Xenon (X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+, e-, n of Zirconium (Z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(O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6-8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9120" cy="3494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enon (X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+, e-, 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tons =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Pr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Neutrons = Mass # -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31-54 =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F6D-77E7-4BB4-AB43-1E1603B9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1EE-D558-443D-94C9-06738D5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80D-08F5-435E-9B53-954CDC7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275-319A-4360-A1DB-C3E1E019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A45-F7DE-4BF3-A760-89B9AAE1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EF6-FC39-4F09-863F-00CF6E8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C41-7B4B-46C4-ADEF-D18C6979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70D-A1C8-4681-B47E-D053A91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E47-6D56-4DDB-9294-D90C6C6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B8E-506D-4B6B-841D-F6A9087D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55D-FA80-4D46-A735-DFAB83E1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D92-4881-4AF1-B72F-F0BE3F9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E673-0D67-454B-8758-6D6DBEE7F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many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electrons,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are in an ato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PTE"/>
          <p:cNvPicPr/>
          <p:nvPr/>
        </p:nvPicPr>
        <p:blipFill>
          <a:blip r:embed="rId1"/>
          <a:stretch/>
        </p:blipFill>
        <p:spPr>
          <a:xfrm>
            <a:off x="990720" y="1981080"/>
            <a:ext cx="685800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Zirconium (Zr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91-40 = 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periodic table to find an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2590920" y="3200400"/>
            <a:ext cx="472428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(+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atomic number = #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Kr has 36 prot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ypton's data from the Table of Elements"/>
          <p:cNvPicPr/>
          <p:nvPr/>
        </p:nvPicPr>
        <p:blipFill>
          <a:blip r:embed="rId1"/>
          <a:stretch/>
        </p:blipFill>
        <p:spPr>
          <a:xfrm>
            <a:off x="1905120" y="3962520"/>
            <a:ext cx="5276880" cy="2485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Electrons (-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atoms have no overal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must have an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qual # of protons and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#protons=#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Kr has 36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648320" y="3657600"/>
            <a:ext cx="4057560" cy="2438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ep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(no char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tomic weight rounded to nearest whole #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Mass #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 8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utr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4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Krypton's data from the Table of Elements"/>
          <p:cNvPicPr/>
          <p:nvPr/>
        </p:nvPicPr>
        <p:blipFill>
          <a:blip r:embed="rId1"/>
          <a:stretch/>
        </p:blipFill>
        <p:spPr>
          <a:xfrm>
            <a:off x="4419720" y="3733920"/>
            <a:ext cx="4514760" cy="2438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rotons (p+), electrons (e-), neutrons (n)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Xenon (X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p+, e-, n of Zirconium (Z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xygen (O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6-8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enon (Xe)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+, e-, n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Atomic #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ot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=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trons = 131-54 = 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30:38Z</dcterms:created>
  <dc:creator>Myriah Welch</dc:creator>
  <dc:description/>
  <dc:language>en-US</dc:language>
  <cp:lastModifiedBy>LEGION</cp:lastModifiedBy>
  <dcterms:modified xsi:type="dcterms:W3CDTF">2017-01-26T09:31:48Z</dcterms:modified>
  <cp:revision>4</cp:revision>
  <dc:subject/>
  <dc:title>How many protons, electrons, and neutrons are in an atom?</dc:title>
</cp:coreProperties>
</file>