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313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31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00160" y="698400"/>
            <a:ext cx="4659120" cy="349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244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4700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84700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B256A00E-5DE6-41BB-934A-69D4B443B7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4760" y="884700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many protons, electrons, and neutrons are in an atom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0160" y="698400"/>
            <a:ext cx="4659120" cy="349416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4244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any protons, electrons, and neutrons are in an ato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84700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Zirconium (Zr)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+, e-, 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umber of Protons = Atomic #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umber of Electrons = Protons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umber of Neutrons = Mass # - Proto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tons = 40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lectrons = 40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utrons = 91-40 = 51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00160" y="698400"/>
            <a:ext cx="4659120" cy="349416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4244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irconium (Zr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+, e-,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of Protons = Atomic #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of Electrons = Prot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of Neutrons = Mass # - Prot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ons = 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ns = 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trons = 91-40 = 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84700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ep 1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se your periodic table to find an elemen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00160" y="698400"/>
            <a:ext cx="4659120" cy="349416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4244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your periodic table to find an el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84700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ep 2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number of Protons (+ charge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atomic number = # proto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Kr has 36 proto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00160" y="698400"/>
            <a:ext cx="4659120" cy="349416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4244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mber of Protons (+ charg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tomic number = # prot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 has 36 prot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84700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ep 3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number of Electrons (- charge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member atoms have no overall charg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toms must have an equal # of protons and electro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#protons=#electro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Kr has 36 electro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00160" y="698400"/>
            <a:ext cx="4659120" cy="349416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4244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mber of Electrons (- charg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atoms have no overall char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s must have an equal # of protons and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protons=#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 has 36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84700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ep 4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number of Neutrons (no charge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ss # (atomic weight rounded to nearest whole #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utrons = Mass # - Proto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utrons = 84 – 36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utrons = 48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00160" y="698400"/>
            <a:ext cx="4659120" cy="349416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4244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mber of Neutrons (no charg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# (atomic weight rounded to nearest whole #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trons = Mass # - Prot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trons = 84 – 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trons = 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84700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ummar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umber of Protons = Atomic #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umber of Electrons = Protons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umber of Neutrons = Mass # - Proto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00160" y="698400"/>
            <a:ext cx="4659120" cy="349416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4244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of Protons = Atomic #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of Electrons = Prot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of Neutrons = Mass # - Prot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84700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blem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ind the protons (p+), electrons (e-), neutrons (n) of Oxyge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ind the p+, e-, n of Xenon (Xe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ind the p+, e-, n of Zirconium (Zr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00160" y="698400"/>
            <a:ext cx="4659120" cy="349416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4244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bl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the protons (p+), electrons (e-), neutrons (n) of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the p+, e-, n of Xenon (X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the p+, e-, n of Zirconium (Z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84700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xygen (O)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+, e-, 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umber of Protons = Atomic #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umber of Electrons = Protons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umber of Neutrons = Mass # - Proto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tons = 8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lectrons = 8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utrons = 16-8 = 8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00160" y="698400"/>
            <a:ext cx="4659120" cy="349416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4244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 (O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+, e-,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of Protons = Atomic #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of Electrons = Prot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of Neutrons = Mass # - Prot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ons =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ns =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trons = 16-8 =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84700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Xenon (Xe)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+, e-, n 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umber of Protons = Atomic #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umber of Electrons = Protons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umber of Neutrons = Mass # - Proto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tons = 54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lectrons = 54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utrons = 131-54 = 77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00160" y="698400"/>
            <a:ext cx="4659120" cy="349416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4244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enon (Xe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+, e-, n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of Protons = Atomic #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of Electrons = Prot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of Neutrons = Mass # - Prot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ons = 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ns = 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trons = 131-54 = 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E0D80-64E3-4FB8-973C-894EF440D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ED77D-169A-41A3-B8D4-697AC5697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3236C-DC38-48E7-9BD1-04AD572DC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A3CCC-7EEE-4665-ACA8-12B0EF079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EEDBC-FB80-40FA-9288-CE62688DD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A6A6E-598E-4464-BA39-4E0EE28C6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77DB4-4FC5-4E1C-B1BE-4C4667E80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9A5C4-F031-4B1B-AC8F-D890E11F0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D1F75-AC7F-401E-8116-65D26790A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42F41-A312-4A0B-85DC-D112F32EB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33C6E-3E63-4DC0-9B85-D0267B855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8DD30-A0E1-4F21-9ECA-F4A68BC72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E9233-820A-4537-9412-F0AC5E2AA70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How many </a:t>
            </a:r>
            <a:r>
              <a:rPr b="0" lang="en-US" sz="4400" spc="-1" strike="noStrike">
                <a:solidFill>
                  <a:srgbClr val="ff3300"/>
                </a:solidFill>
                <a:latin typeface="Tahoma"/>
              </a:rPr>
              <a:t>protons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, </a:t>
            </a:r>
            <a:r>
              <a:rPr b="0" lang="en-US" sz="4400" spc="-1" strike="noStrike">
                <a:solidFill>
                  <a:srgbClr val="ff6600"/>
                </a:solidFill>
                <a:latin typeface="Tahoma"/>
              </a:rPr>
              <a:t>electrons,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 and </a:t>
            </a: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neutrons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 are in an atom?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49" name="Picture 7" descr="PTE"/>
          <p:cNvPicPr/>
          <p:nvPr/>
        </p:nvPicPr>
        <p:blipFill>
          <a:blip r:embed="rId1"/>
          <a:stretch/>
        </p:blipFill>
        <p:spPr>
          <a:xfrm>
            <a:off x="990720" y="1981080"/>
            <a:ext cx="6858000" cy="4191120"/>
          </a:xfrm>
          <a:prstGeom prst="rect">
            <a:avLst/>
          </a:prstGeom>
          <a:ln w="0">
            <a:noFill/>
          </a:ln>
        </p:spPr>
      </p:pic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Zirconium (Zr)</a:t>
            </a: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p+, e-, n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umber of </a:t>
            </a: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Proton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= Atomic #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umber of </a:t>
            </a:r>
            <a:r>
              <a:rPr b="0" lang="en-US" sz="3200" spc="-1" strike="noStrike">
                <a:solidFill>
                  <a:srgbClr val="ff6600"/>
                </a:solidFill>
                <a:latin typeface="Tahoma"/>
              </a:rPr>
              <a:t>Electron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= Proton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umber of 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Neutron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= </a:t>
            </a:r>
            <a:r>
              <a:rPr b="0" lang="en-US" sz="3200" spc="-1" strike="noStrike">
                <a:solidFill>
                  <a:srgbClr val="66ff33"/>
                </a:solidFill>
                <a:latin typeface="Tahoma"/>
              </a:rPr>
              <a:t>Mass #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- </a:t>
            </a: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Prot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tons = 4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lectrons = 4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eutrons = 91-40 = 5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tep 1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se your periodic table to find an ele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3" name="Picture 5" descr="Krypton's data from the Table of Elements"/>
          <p:cNvPicPr/>
          <p:nvPr/>
        </p:nvPicPr>
        <p:blipFill>
          <a:blip r:embed="rId1"/>
          <a:stretch/>
        </p:blipFill>
        <p:spPr>
          <a:xfrm>
            <a:off x="2590920" y="3200400"/>
            <a:ext cx="4724280" cy="2514600"/>
          </a:xfrm>
          <a:prstGeom prst="rect">
            <a:avLst/>
          </a:prstGeom>
          <a:ln w="0">
            <a:noFill/>
          </a:ln>
        </p:spPr>
      </p:pic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tep 2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30592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number of Protons (+ charge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1" lang="en-US" sz="2800" spc="-1" strike="noStrike">
                <a:solidFill>
                  <a:srgbClr val="ff3300"/>
                </a:solidFill>
                <a:latin typeface="Tahoma"/>
              </a:rPr>
              <a:t>atomic number = # prot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ahoma"/>
              </a:rPr>
              <a:t>Kr has 36 prot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7" name="Picture 7" descr="Krypton's data from the Table of Elements"/>
          <p:cNvPicPr/>
          <p:nvPr/>
        </p:nvPicPr>
        <p:blipFill>
          <a:blip r:embed="rId1"/>
          <a:stretch/>
        </p:blipFill>
        <p:spPr>
          <a:xfrm>
            <a:off x="1905120" y="3962520"/>
            <a:ext cx="5276880" cy="2485800"/>
          </a:xfrm>
          <a:prstGeom prst="rect">
            <a:avLst/>
          </a:prstGeom>
          <a:ln w="0">
            <a:noFill/>
          </a:ln>
        </p:spPr>
      </p:pic>
      <p:sp>
        <p:nvSpPr>
          <p:cNvPr id="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tep 3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number of </a:t>
            </a:r>
            <a:r>
              <a:rPr b="0" lang="en-US" sz="2800" spc="-1" strike="noStrike">
                <a:solidFill>
                  <a:srgbClr val="ff6600"/>
                </a:solidFill>
                <a:latin typeface="Tahoma"/>
              </a:rPr>
              <a:t>Electrons (- charge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member atoms have no overall charg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toms must have an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equal # of protons and electr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Tahoma"/>
              </a:rPr>
              <a:t>#protons=#electr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Tahoma"/>
              </a:rPr>
              <a:t>Kr has 36 electr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1" name="Picture 5" descr="Krypton's data from the Table of Elements"/>
          <p:cNvPicPr/>
          <p:nvPr/>
        </p:nvPicPr>
        <p:blipFill>
          <a:blip r:embed="rId1"/>
          <a:stretch/>
        </p:blipFill>
        <p:spPr>
          <a:xfrm>
            <a:off x="4648320" y="3657600"/>
            <a:ext cx="4057560" cy="2438280"/>
          </a:xfrm>
          <a:prstGeom prst="rect">
            <a:avLst/>
          </a:prstGeom>
          <a:ln w="0">
            <a:noFill/>
          </a:ln>
        </p:spPr>
      </p:pic>
      <p:sp>
        <p:nvSpPr>
          <p:cNvPr id="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tep 4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240" y="990360"/>
            <a:ext cx="89154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number of 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Neutrons (no charge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Tahoma"/>
              </a:rPr>
              <a:t>Mass #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(atomic weight rounded to nearest whole #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Neutrons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=</a:t>
            </a:r>
            <a:r>
              <a:rPr b="1" lang="en-US" sz="3200" spc="-1" strike="noStrike">
                <a:solidFill>
                  <a:srgbClr val="66ff33"/>
                </a:solidFill>
                <a:latin typeface="Tahoma"/>
              </a:rPr>
              <a:t> Mass #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1" lang="en-US" sz="3200" spc="-1" strike="noStrike">
                <a:solidFill>
                  <a:srgbClr val="66ff33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3300"/>
                </a:solidFill>
                <a:latin typeface="Tahoma"/>
              </a:rPr>
              <a:t>Prot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Neutrons</a:t>
            </a:r>
            <a:r>
              <a:rPr b="0" lang="en-US" sz="2800" spc="-1" strike="noStrike">
                <a:solidFill>
                  <a:srgbClr val="66ff33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=</a:t>
            </a:r>
            <a:r>
              <a:rPr b="0" lang="en-US" sz="2800" spc="-1" strike="noStrike">
                <a:solidFill>
                  <a:srgbClr val="66ff33"/>
                </a:solidFill>
                <a:latin typeface="Tahoma"/>
              </a:rPr>
              <a:t> 84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–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3300"/>
                </a:solidFill>
                <a:latin typeface="Tahoma"/>
              </a:rPr>
              <a:t>3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Neutrons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=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 48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5" name="Picture 5" descr="Krypton's data from the Table of Elements"/>
          <p:cNvPicPr/>
          <p:nvPr/>
        </p:nvPicPr>
        <p:blipFill>
          <a:blip r:embed="rId1"/>
          <a:stretch/>
        </p:blipFill>
        <p:spPr>
          <a:xfrm>
            <a:off x="4419720" y="3733920"/>
            <a:ext cx="4514760" cy="2438280"/>
          </a:xfrm>
          <a:prstGeom prst="rect">
            <a:avLst/>
          </a:prstGeom>
          <a:ln w="0">
            <a:noFill/>
          </a:ln>
        </p:spPr>
      </p:pic>
      <p:sp>
        <p:nvSpPr>
          <p:cNvPr id="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umber of </a:t>
            </a: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Proton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= Atomic #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umber of </a:t>
            </a:r>
            <a:r>
              <a:rPr b="0" lang="en-US" sz="3200" spc="-1" strike="noStrike">
                <a:solidFill>
                  <a:srgbClr val="ff6600"/>
                </a:solidFill>
                <a:latin typeface="Tahoma"/>
              </a:rPr>
              <a:t>Electron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= Proton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umber of 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Neutron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= </a:t>
            </a:r>
            <a:r>
              <a:rPr b="0" lang="en-US" sz="3200" spc="-1" strike="noStrike">
                <a:solidFill>
                  <a:srgbClr val="66ff33"/>
                </a:solidFill>
                <a:latin typeface="Tahoma"/>
              </a:rPr>
              <a:t>Mass #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- </a:t>
            </a: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Prot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Problem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nd the protons (p+), electrons (e-), neutrons (n) of Oxyg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nd the p+, e-, n of Xenon (Xe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nd the p+, e-, n of Zirconium (Zr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Oxygen (O)</a:t>
            </a: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p+, e-, n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umber of </a:t>
            </a: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Proton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= Atomic #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umber of </a:t>
            </a:r>
            <a:r>
              <a:rPr b="0" lang="en-US" sz="3200" spc="-1" strike="noStrike">
                <a:solidFill>
                  <a:srgbClr val="ff6600"/>
                </a:solidFill>
                <a:latin typeface="Tahoma"/>
              </a:rPr>
              <a:t>Electron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= Proton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umber of 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Neutron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= </a:t>
            </a:r>
            <a:r>
              <a:rPr b="0" lang="en-US" sz="3200" spc="-1" strike="noStrike">
                <a:solidFill>
                  <a:srgbClr val="66ff33"/>
                </a:solidFill>
                <a:latin typeface="Tahoma"/>
              </a:rPr>
              <a:t>Mass #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- </a:t>
            </a: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Prot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tons = 8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lectrons = 8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eutrons = 16-8 = 8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Xenon (Xe)</a:t>
            </a: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p+, e-, n 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umber of </a:t>
            </a: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Proton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= Atomic #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umber of </a:t>
            </a:r>
            <a:r>
              <a:rPr b="0" lang="en-US" sz="3200" spc="-1" strike="noStrike">
                <a:solidFill>
                  <a:srgbClr val="ff6600"/>
                </a:solidFill>
                <a:latin typeface="Tahoma"/>
              </a:rPr>
              <a:t>Electron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= Proton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umber of 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Neutron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= </a:t>
            </a:r>
            <a:r>
              <a:rPr b="0" lang="en-US" sz="3200" spc="-1" strike="noStrike">
                <a:solidFill>
                  <a:srgbClr val="66ff33"/>
                </a:solidFill>
                <a:latin typeface="Tahoma"/>
              </a:rPr>
              <a:t>Mass #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- </a:t>
            </a: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Prot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tons = 5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lectrons = 5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eutrons = 131-54 = 77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2T19:30:38Z</dcterms:created>
  <dc:creator>Myriah Welch</dc:creator>
  <dc:description/>
  <dc:language>en-US</dc:language>
  <cp:lastModifiedBy>LEGION</cp:lastModifiedBy>
  <dcterms:modified xsi:type="dcterms:W3CDTF">2017-01-26T09:31:48Z</dcterms:modified>
  <cp:revision>4</cp:revision>
  <dc:subject/>
  <dc:title>How many protons, electrons, and neutrons are in an atom?</dc:title>
</cp:coreProperties>
</file>