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C2B108-6935-4F14-8F52-EEB8824D7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610-7272-46F6-9C02-898A22D9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739-5480-43B7-ADE0-FE23107F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01A-C828-43F9-8D13-9AA85CD2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A35-0730-4F83-A2F3-F1A62CDC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A15-83DB-414F-9C1E-4F71D9A1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2F3-CF62-4E76-BCF4-A2C9B55D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F86-92B2-471A-85B9-72F3E999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3EC-D252-4FB8-BA41-481CACE1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A96-479C-4C63-8B6C-401B36B0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0C3-1B00-4F84-93E7-07B6E98D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F0A-B112-4E48-8CED-043A4869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F64-AD2F-40E5-8203-25618F9D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FAEB-E46F-4C54-A57F-727F6E8A93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many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, </a:t>
            </a: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electrons,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re in an atom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7" descr="PTE"/>
          <p:cNvPicPr/>
          <p:nvPr/>
        </p:nvPicPr>
        <p:blipFill>
          <a:blip r:embed="rId1"/>
          <a:stretch/>
        </p:blipFill>
        <p:spPr>
          <a:xfrm>
            <a:off x="990720" y="1981080"/>
            <a:ext cx="685800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Zirconium (Zr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91-40 = 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your periodic table to find an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2590920" y="3200400"/>
            <a:ext cx="472428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Protons (+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atomic number = #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Kr has 36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Krypton's data from the Table of Elements"/>
          <p:cNvPicPr/>
          <p:nvPr/>
        </p:nvPicPr>
        <p:blipFill>
          <a:blip r:embed="rId1"/>
          <a:stretch/>
        </p:blipFill>
        <p:spPr>
          <a:xfrm>
            <a:off x="1905120" y="3962520"/>
            <a:ext cx="527688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Electrons (-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atoms have no overall cha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must have 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qual # of protons and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#protons=#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Kr has 36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648320" y="365760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(no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tomic weight rounded to nearest whole #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Mass #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8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4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419720" y="3733920"/>
            <a:ext cx="4514760" cy="2438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rotons (p+), electrons (e-), neutrons (n)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Xenon (X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Zirconium (Z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xygen (O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6-8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enon (Xe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31-54 = 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9:30:38Z</dcterms:created>
  <dc:creator>Myriah Welch</dc:creator>
  <dc:description/>
  <dc:language>en-US</dc:language>
  <cp:lastModifiedBy>LEGION</cp:lastModifiedBy>
  <dcterms:modified xsi:type="dcterms:W3CDTF">2017-01-26T09:31:48Z</dcterms:modified>
  <cp:revision>4</cp:revision>
  <dc:subject/>
  <dc:title>How many protons, electrons, and neutrons are in an atom?</dc:title>
</cp:coreProperties>
</file>