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4F5B999-3650-468C-ACC6-F0DEF49D4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protons, electrons, and neutrons are in an at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, electrons, and neutrons are in an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rconium (Zr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91-40 = 5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rconium (Z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91-40 = 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periodic table to find an el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periodic table to find an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Protons (+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tomic number = #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 has 36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(+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number = #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 has 36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Electrons (-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atoms have no overall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must have an equal # of protons and 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#protons=#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 has 36 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s (-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atoms have no overall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must have an equal # of protons an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protons=#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 has 3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Neutrons (no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 # (atomic weight rounded to nearest whole #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84 –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4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Neutrons (no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# (atomic weight rounded to nearest whole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84 –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rotons (p+), electrons (e-), neutrons (n)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+, e-, n of Xenon (X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+, e-, n of Zirconium (Z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rotons (p+), electrons (e-), neutrons (n)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+, e-, n of Xenon (X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+, e-, n of Zirconium (Z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(O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16-8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(O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6-8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enon (Xe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5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5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131-54 = 7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enon (X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31-54 = 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736-7DB1-432E-9FC2-E988A754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147-DDAD-4EDF-94B1-E9D48DED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85E-1B0D-4209-9F56-500EE7AF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1020-90F8-4964-A8B8-F6379236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0FB-F72A-4E5E-94F4-385D1058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9D6-D48B-4899-9F8B-8C5AB8B5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E01-76E0-4221-BD88-95C24F68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1EB-7D70-49AB-A756-F7EACB04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A92-152D-4AC3-8C72-C0AC37C5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3176-D00B-41E9-A095-C739E724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EDE-577F-4FB9-9C25-D8A0152D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4EFA-EE1A-4493-BB32-B482552A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A349-0C0D-4F5A-8DAC-0ED2EC5D79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many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, </a:t>
            </a: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electrons,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are in an atom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7" descr="PTE"/>
          <p:cNvPicPr/>
          <p:nvPr/>
        </p:nvPicPr>
        <p:blipFill>
          <a:blip r:embed="rId1"/>
          <a:stretch/>
        </p:blipFill>
        <p:spPr>
          <a:xfrm>
            <a:off x="990720" y="1981080"/>
            <a:ext cx="685800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Zirconium (Zr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91-40 = 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your periodic table to find an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2590920" y="3200400"/>
            <a:ext cx="472428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Protons (+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atomic number = #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Kr has 36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Krypton's data from the Table of Elements"/>
          <p:cNvPicPr/>
          <p:nvPr/>
        </p:nvPicPr>
        <p:blipFill>
          <a:blip r:embed="rId1"/>
          <a:stretch/>
        </p:blipFill>
        <p:spPr>
          <a:xfrm>
            <a:off x="1905120" y="3962520"/>
            <a:ext cx="5276880" cy="24858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Electrons (-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atoms have no overall cha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must have a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qual # of protons and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#protons=#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Kr has 36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4648320" y="365760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 (no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tomic weight rounded to nearest whole #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Neutron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Mass #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 8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4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4419720" y="3733920"/>
            <a:ext cx="4514760" cy="2438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rotons (p+), electrons (e-), neutrons (n)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+, e-, n of Xenon (X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+, e-, n of Zirconium (Z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xygen (O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16-8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Xenon (Xe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131-54 = 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9:30:38Z</dcterms:created>
  <dc:creator>Myriah Welch</dc:creator>
  <dc:description/>
  <dc:language>en-US</dc:language>
  <cp:lastModifiedBy>LEGION</cp:lastModifiedBy>
  <dcterms:modified xsi:type="dcterms:W3CDTF">2017-01-26T09:31:48Z</dcterms:modified>
  <cp:revision>4</cp:revision>
  <dc:subject/>
  <dc:title>How many protons, electrons, and neutrons are in an atom?</dc:title>
</cp:coreProperties>
</file>