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. 10 -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. 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p.272-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where there is 90% probability of finding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pinpoint the location of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of dots represents degree of prob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s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at certain 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energy levels are close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nergy level (n) can hold 2n2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. 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ied energy levels using Bohr’s idea of circular or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tomic #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: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p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e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n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Bohr Model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number between 1 &amp; 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your element by the atomic number you pic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hr Model diagram for your element on your marker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ff the mass listed on the table and subtract the atomic # to find the #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breviate the # of ‘p’ and ‘n’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artner check your dra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with a new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731-098D-44D0-BB73-7D6D7872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DD4-E59E-48AD-93E9-F0A00B84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75D-06B2-41D2-9641-0083D560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723-5125-46A3-AEF3-6F6091E0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D28E-3070-422E-82DD-FB41F6DB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96A5-302C-45B2-A2F2-6F06A1E2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6DDE-10DF-41C2-A466-852643F5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7FED-C985-49F7-BB66-2DD54411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FB83-E9B1-49B9-BFE8-03D6BA29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E4E7-37D0-4C19-A995-AEE74667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5A79-50EB-463B-A242-8240B57C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10A-A9AA-4317-93C9-FD4998A8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EDC3-E658-4634-8154-CEC8074A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0A38-3FEF-49BF-AEBE-D7A1B275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C96E-DBC6-4CAA-B602-BDD07249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11A0-7FCF-4208-9E2D-BF431A07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8EAB-969F-461F-A33A-6F77E7BD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16F-2F7B-4BD8-9A92-0CCDAA2D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C8B-55B2-4781-982C-7E23A043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410-4BCF-4282-A2F0-8568BDFC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C74-9B46-4E94-9E79-E64A5DA3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082-124B-4AC4-8352-B60BBBD7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4DE-E512-4E6E-8D07-FB5FB4DC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8CB-82CE-4C0F-87B0-587C8C09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0E10-7151-4CEA-BD46-AD4AC1B30F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9B35-568A-4A77-930E-8BC8E01224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Ch. 10 - Atomic Structure 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01760" y="2916360"/>
            <a:ext cx="834048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II.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(p.272-274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Bohr Model Diagram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9840" y="205740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Region where there is 90% probability of finding an electron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Electron Cloud.avi" descr=""/>
          <p:cNvPicPr/>
          <p:nvPr/>
        </p:nvPicPr>
        <p:blipFill>
          <a:blip r:embed="rId1"/>
          <a:stretch/>
        </p:blipFill>
        <p:spPr>
          <a:xfrm>
            <a:off x="4486320" y="3340080"/>
            <a:ext cx="4494240" cy="283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1" name="Rectangle 5"/>
          <p:cNvSpPr/>
          <p:nvPr/>
        </p:nvSpPr>
        <p:spPr>
          <a:xfrm>
            <a:off x="339840" y="3193920"/>
            <a:ext cx="41209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an’t pinpoint the location of an electron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Density of dots represents degree of probability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s have different shape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22360" y="4091040"/>
            <a:ext cx="1400040" cy="14000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219400" y="4145040"/>
            <a:ext cx="3701880" cy="129060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6261120" y="3525840"/>
            <a:ext cx="2268360" cy="25304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B. Energy Level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2080" y="2614680"/>
            <a:ext cx="580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lectrons can only exist at certain energy level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Low energy levels are close to the nucleu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ach energy level (n) can hold 2n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 electron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Electron Excitation.avi" descr=""/>
          <p:cNvPicPr/>
          <p:nvPr/>
        </p:nvPicPr>
        <p:blipFill>
          <a:blip r:embed="rId1"/>
          <a:stretch/>
        </p:blipFill>
        <p:spPr>
          <a:xfrm>
            <a:off x="6581880" y="2800440"/>
            <a:ext cx="236376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Diagram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mplified energy levels using Bohr’s idea of circular orbit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3403440" y="3960720"/>
            <a:ext cx="2140200" cy="214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110200" y="5489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3406680" y="4157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309360" y="4863960"/>
            <a:ext cx="257652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ximum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36600" y="3384720"/>
            <a:ext cx="215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t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ic #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ss: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p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e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n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3990960" y="4532400"/>
            <a:ext cx="963720" cy="998280"/>
            <a:chOff x="3990960" y="4532400"/>
            <a:chExt cx="963720" cy="998280"/>
          </a:xfrm>
        </p:grpSpPr>
        <p:sp>
          <p:nvSpPr>
            <p:cNvPr id="121" name="Oval 20"/>
            <p:cNvSpPr/>
            <p:nvPr/>
          </p:nvSpPr>
          <p:spPr>
            <a:xfrm>
              <a:off x="4043520" y="50068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Oval 21"/>
            <p:cNvSpPr/>
            <p:nvPr/>
          </p:nvSpPr>
          <p:spPr>
            <a:xfrm>
              <a:off x="4284720" y="453240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Oval 22"/>
            <p:cNvSpPr/>
            <p:nvPr/>
          </p:nvSpPr>
          <p:spPr>
            <a:xfrm>
              <a:off x="3990960" y="4680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Oval 23"/>
            <p:cNvSpPr/>
            <p:nvPr/>
          </p:nvSpPr>
          <p:spPr>
            <a:xfrm>
              <a:off x="4272120" y="514656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Oval 24"/>
            <p:cNvSpPr/>
            <p:nvPr/>
          </p:nvSpPr>
          <p:spPr>
            <a:xfrm>
              <a:off x="4281480" y="4815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Oval 25"/>
            <p:cNvSpPr/>
            <p:nvPr/>
          </p:nvSpPr>
          <p:spPr>
            <a:xfrm>
              <a:off x="4565880" y="469260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4570560" y="50212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" name="Oval 27"/>
          <p:cNvSpPr/>
          <p:nvPr/>
        </p:nvSpPr>
        <p:spPr>
          <a:xfrm>
            <a:off x="2986200" y="3543480"/>
            <a:ext cx="2975040" cy="2974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5392800" y="378792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34"/>
          <p:cNvGrpSpPr/>
          <p:nvPr/>
        </p:nvGrpSpPr>
        <p:grpSpPr>
          <a:xfrm>
            <a:off x="5089320" y="3079800"/>
            <a:ext cx="3861000" cy="1838160"/>
            <a:chOff x="5089320" y="3079800"/>
            <a:chExt cx="3861000" cy="1838160"/>
          </a:xfrm>
        </p:grpSpPr>
        <p:sp>
          <p:nvSpPr>
            <p:cNvPr id="131" name="AutoShape 29"/>
            <p:cNvSpPr/>
            <p:nvPr/>
          </p:nvSpPr>
          <p:spPr>
            <a:xfrm>
              <a:off x="6262560" y="3079800"/>
              <a:ext cx="2687760" cy="14857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n replace with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5089320" y="3979800"/>
              <a:ext cx="1487160" cy="93816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7161120" y="3600360"/>
              <a:ext cx="895320" cy="90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Activity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1760" y="2057400"/>
            <a:ext cx="892188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4000"/>
          </a:bodyPr>
          <a:p>
            <a:pPr marL="116640" indent="-116640">
              <a:spcBef>
                <a:spcPts val="70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e a number between 1 &amp; 18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nd your element by the atomic number you pick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a Bohr Model diagram for your element on your marker bo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und off the mass listed on the table and subtract the atomic # to find the # of neutron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breviate the # of ‘p’ and ‘n’ in the nucleu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ve a partner check your drawing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eat with a new elemen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son</dc:creator>
  <dc:description/>
  <dc:language>en-US</dc:language>
  <cp:lastModifiedBy>LEGION</cp:lastModifiedBy>
  <dcterms:modified xsi:type="dcterms:W3CDTF">2017-01-26T09:18:35Z</dcterms:modified>
  <cp:revision>92</cp:revision>
  <dc:subject/>
  <dc:title>II. Electron Cloud Model</dc:title>
</cp:coreProperties>
</file>