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. 10 - Atomic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. Electron Cloud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p.272-27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hr Model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where there is 90% probability of finding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pinpoint the location of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of dots represents degree of prob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s have different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at certain energy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energy levels are close to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nergy level (n) can hold 2n2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. Bohr Model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ied energy levels using Bohr’s idea of circular orb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ximum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8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3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2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tomic #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: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p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e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n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Bohr Model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number between 1 &amp; 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your element by the atomic number you pic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hr Model diagram for your element on your marker 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ff the mass listed on the table and subtract the atomic # to find the #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breviate the # of ‘p’ and ‘n’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artner check your dra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with a new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C559-F3A7-44A0-A10C-207EF373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8EDA-1935-4076-97DF-F258D2AA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62A4-F545-45AB-8111-B5E643E0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753-EDDA-4288-A25C-6B456956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7F33-5E3D-48EF-97D9-A4B19630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49A0-AFEC-4223-B910-88919067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6FD0-AEA4-4761-B18B-85E31A07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B923-98DB-43EB-82C2-4960424E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60B2-18E3-4942-A526-B565A32E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9F9F-CBC4-4723-977F-49B7CE98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A6E9-306C-4F09-A749-40D4939B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675A-CFD9-4FDA-AC70-BB5554DF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30BD-4E21-4BF3-874B-34D80862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51B9-8F83-4A98-A11A-70D45293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3C30-014A-4F4A-BE92-EC4E39F8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1932-5FC5-4EA9-8130-511F610B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6511-1ADF-4306-9D80-11780863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CF19-728E-4E79-845D-673689F0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A7E-DFFA-421D-AC17-ECBF86FA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FFE6-850C-4150-A61A-EEEDE833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967D-4141-437E-B310-51600BE1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2D64-568B-4F7D-8978-5911162F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995-F04D-47BA-8754-740560B7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9FE-FD28-4321-9A04-FBDA4140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C625-6158-497A-9805-B2CAAD4F6D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360" y="1663560"/>
            <a:ext cx="8153280" cy="1600200"/>
            <a:chOff x="468360" y="16635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18240" y="16635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43720" y="18288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600880" y="20494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68360" y="23796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E56F-0899-4A63-84AA-E567872211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560" y="367920"/>
            <a:ext cx="799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Ch. 10 - Atomic Structure </a:t>
            </a:r>
            <a:endParaRPr b="1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01760" y="2916360"/>
            <a:ext cx="834048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II.</a:t>
            </a: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Electron Cloud Model</a:t>
            </a: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(p.272-274)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Orbita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nergy Level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Bohr Model Diagram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. Orbital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9840" y="205740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Region where there is 90% probability of finding an electron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Electron Cloud.avi" descr=""/>
          <p:cNvPicPr/>
          <p:nvPr/>
        </p:nvPicPr>
        <p:blipFill>
          <a:blip r:embed="rId1"/>
          <a:stretch/>
        </p:blipFill>
        <p:spPr>
          <a:xfrm>
            <a:off x="4486320" y="3340080"/>
            <a:ext cx="4494240" cy="283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1" name="Rectangle 5"/>
          <p:cNvSpPr/>
          <p:nvPr/>
        </p:nvSpPr>
        <p:spPr>
          <a:xfrm>
            <a:off x="339840" y="3193920"/>
            <a:ext cx="41209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an’t pinpoint the location of an electron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Density of dots represents degree of probability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. Orbital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Orbitals have different shape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22360" y="4091040"/>
            <a:ext cx="1400040" cy="140004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2219400" y="4145040"/>
            <a:ext cx="3701880" cy="129060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6261120" y="3525840"/>
            <a:ext cx="2268360" cy="253044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B. Energy Levels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2080" y="2614680"/>
            <a:ext cx="580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lectrons can only exist at certain energy level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Low energy levels are close to the nucleu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ach energy level (n) can hold 2n</a:t>
            </a:r>
            <a:r>
              <a:rPr b="0" lang="en-US" sz="34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 electron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Electron Excitation.avi" descr=""/>
          <p:cNvPicPr/>
          <p:nvPr/>
        </p:nvPicPr>
        <p:blipFill>
          <a:blip r:embed="rId1"/>
          <a:stretch/>
        </p:blipFill>
        <p:spPr>
          <a:xfrm>
            <a:off x="6581880" y="2800440"/>
            <a:ext cx="2363760" cy="3743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Bohr Model Diagrams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mplified energy levels using Bohr’s idea of circular orbit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3403440" y="3960720"/>
            <a:ext cx="2140200" cy="214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5110200" y="548964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Oval 13"/>
          <p:cNvSpPr/>
          <p:nvPr/>
        </p:nvSpPr>
        <p:spPr>
          <a:xfrm>
            <a:off x="3406680" y="415764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309360" y="4863960"/>
            <a:ext cx="257652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ximum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336600" y="3384720"/>
            <a:ext cx="2153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ith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ic #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ss: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p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e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n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3990960" y="4532400"/>
            <a:ext cx="963720" cy="998280"/>
            <a:chOff x="3990960" y="4532400"/>
            <a:chExt cx="963720" cy="998280"/>
          </a:xfrm>
        </p:grpSpPr>
        <p:sp>
          <p:nvSpPr>
            <p:cNvPr id="121" name="Oval 20"/>
            <p:cNvSpPr/>
            <p:nvPr/>
          </p:nvSpPr>
          <p:spPr>
            <a:xfrm>
              <a:off x="4043520" y="500688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Oval 21"/>
            <p:cNvSpPr/>
            <p:nvPr/>
          </p:nvSpPr>
          <p:spPr>
            <a:xfrm>
              <a:off x="4284720" y="453240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Oval 22"/>
            <p:cNvSpPr/>
            <p:nvPr/>
          </p:nvSpPr>
          <p:spPr>
            <a:xfrm>
              <a:off x="3990960" y="4680000"/>
              <a:ext cx="38448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Oval 23"/>
            <p:cNvSpPr/>
            <p:nvPr/>
          </p:nvSpPr>
          <p:spPr>
            <a:xfrm>
              <a:off x="4272120" y="5146560"/>
              <a:ext cx="38412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Oval 24"/>
            <p:cNvSpPr/>
            <p:nvPr/>
          </p:nvSpPr>
          <p:spPr>
            <a:xfrm>
              <a:off x="4281480" y="4815000"/>
              <a:ext cx="38448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Oval 25"/>
            <p:cNvSpPr/>
            <p:nvPr/>
          </p:nvSpPr>
          <p:spPr>
            <a:xfrm>
              <a:off x="4565880" y="4692600"/>
              <a:ext cx="38412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4570560" y="502128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8" name="Oval 27"/>
          <p:cNvSpPr/>
          <p:nvPr/>
        </p:nvSpPr>
        <p:spPr>
          <a:xfrm>
            <a:off x="2986200" y="3543480"/>
            <a:ext cx="2975040" cy="2974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Oval 28"/>
          <p:cNvSpPr/>
          <p:nvPr/>
        </p:nvSpPr>
        <p:spPr>
          <a:xfrm>
            <a:off x="5392800" y="378792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Group 34"/>
          <p:cNvGrpSpPr/>
          <p:nvPr/>
        </p:nvGrpSpPr>
        <p:grpSpPr>
          <a:xfrm>
            <a:off x="5089320" y="3079800"/>
            <a:ext cx="3861000" cy="1838160"/>
            <a:chOff x="5089320" y="3079800"/>
            <a:chExt cx="3861000" cy="1838160"/>
          </a:xfrm>
        </p:grpSpPr>
        <p:sp>
          <p:nvSpPr>
            <p:cNvPr id="131" name="AutoShape 29"/>
            <p:cNvSpPr/>
            <p:nvPr/>
          </p:nvSpPr>
          <p:spPr>
            <a:xfrm>
              <a:off x="6262560" y="3079800"/>
              <a:ext cx="2687760" cy="14857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n replace with: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 flipH="1">
              <a:off x="5089320" y="3979800"/>
              <a:ext cx="1487160" cy="93816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Oval 31"/>
            <p:cNvSpPr/>
            <p:nvPr/>
          </p:nvSpPr>
          <p:spPr>
            <a:xfrm>
              <a:off x="7161120" y="3600360"/>
              <a:ext cx="895320" cy="900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Bohr Model Activity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1760" y="2057400"/>
            <a:ext cx="892188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4000"/>
          </a:bodyPr>
          <a:p>
            <a:pPr marL="116640" indent="-116640">
              <a:spcBef>
                <a:spcPts val="70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oose a number between 1 &amp; 18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nd your element by the atomic number you picke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raw a Bohr Model diagram for your element on your marker boar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252360" indent="-9684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ound off the mass listed on the table and subtract the atomic # to find the # of neutron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252360" indent="-9684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bbreviate the # of ‘p’ and ‘n’ in the nucleu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ve a partner check your drawing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eat with a new element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9:51:21Z</dcterms:created>
  <dc:creator>Mrs. Johannesson</dc:creator>
  <dc:description/>
  <dc:language>en-US</dc:language>
  <cp:lastModifiedBy>LEGION</cp:lastModifiedBy>
  <dcterms:modified xsi:type="dcterms:W3CDTF">2017-01-26T09:18:35Z</dcterms:modified>
  <cp:revision>92</cp:revision>
  <dc:subject/>
  <dc:title>II. Electron Cloud Model</dc:title>
</cp:coreProperties>
</file>