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6E9C-B869-4FB9-B34E-F52D8320C6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CD5-70A2-42E8-A1D5-0A4EB500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C3E-AD18-4C19-AB41-0F1565F5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F41-A849-42B8-A4E8-42D7970A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C29-A0F6-4083-8CDE-EFC8C085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8A3-4444-4F37-9497-FAF04C57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E29-9143-46C1-A5C5-15EF1B5A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D54-EE12-49F3-A120-B5C1E63E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6E4-B5D7-47A5-95F1-7DBCEEA7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E24-E20E-46A7-A6E8-5E7B74B9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E57-EA9B-47FC-855D-3C689AD5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4A0-0BC7-4C4D-A0F1-5A3F22F7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F86-8AE6-441A-916A-C2FA7078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755D-2931-4B63-89FC-27B78DFCC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4, the Carbo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55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metal carbon exists as an element in several f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re familiar with two of them—diamond and grap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5"/>
          <p:cNvPicPr/>
          <p:nvPr/>
        </p:nvPicPr>
        <p:blipFill>
          <a:blip r:embed="rId1"/>
          <a:stretch/>
        </p:blipFill>
        <p:spPr>
          <a:xfrm>
            <a:off x="3909960" y="1981080"/>
            <a:ext cx="3944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9068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also is found in all living thing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1016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followed by the metalloid silicon, an abundant element contained in s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3520" y="32446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 contains ground up particles of minerals such as quartz, which is composed of silicon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4822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is an important product made from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371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and its Group 14 neighbor, germanium, are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2460600"/>
            <a:ext cx="548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in electronics as semicondu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508200"/>
            <a:ext cx="5105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ond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n’t conduct electricity as well as metal, but does conduct electricity better than a nonme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im27 semiconductor"/>
          <p:cNvPicPr/>
          <p:nvPr/>
        </p:nvPicPr>
        <p:blipFill>
          <a:blip r:embed="rId1"/>
          <a:stretch/>
        </p:blipFill>
        <p:spPr>
          <a:xfrm>
            <a:off x="5715000" y="2057400"/>
            <a:ext cx="2965320" cy="329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873000" y="3962520"/>
            <a:ext cx="4765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and lead are the two heaviest elements in Group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21430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s used to protect your torso during dental X ra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3520" y="3070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8736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is used in pewter, toothpaste, and the coating on steel cans used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7:32Z</dcterms:created>
  <dc:creator>CIC1</dc:creator>
  <dc:description/>
  <dc:language>en-US</dc:language>
  <cp:lastModifiedBy>RomaK</cp:lastModifiedBy>
  <dcterms:modified xsi:type="dcterms:W3CDTF">2015-09-01T16:26:47Z</dcterms:modified>
  <cp:revision>6</cp:revision>
  <dc:subject/>
  <dc:title>Group 14, the Carbon Group</dc:title>
</cp:coreProperties>
</file>