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6476-CE54-4FDF-A8BC-D3B39CE5F7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, 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, 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nmetal carbon exists as an element in several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familiar with two of them—diamond and graph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nmetal carbon exists as an element in several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familiar with two of them—diamond and graph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also is found in all living th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followed by the metalloid silicon, an abundant element contained in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 contains ground up particles of minerals such as quartz, which is composed of silicon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s is an important product made from s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also is found in all living th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followed by the metalloid silicon, an abundant element contained in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 contains ground up particles of minerals such as quartz, which is composed of silicon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s is an important product made from s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icon and its Group 14 neighbor, germanium, are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used in electronics as semicondu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miconductor doesn’t conduct electricity as well as metal, but does conduct electricity better than a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icon and its Group 14 neighbor, germanium, are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used in electronics as semicondu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miconductor doesn’t conduct electricity as well as metal, but does conduct electricity better than a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and lead are the two heaviest elements in Group 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 is used to protect your torso during dental X r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is used in pewter, toothpaste, and the coating on steel cans used for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and lead are the two heaviest elements in Group 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 is used to protect your torso during dental X r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is used in pewter, toothpaste, and the coating on steel cans used for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5C54-1E9E-402D-9CCF-8C520FF3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397C-39C9-4710-AB3B-CF1B7451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64E1-3B7F-4852-B00A-13F3C428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FCBB-29B3-4B61-B1F0-B32D68C1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4484-F3C8-43B7-AF15-12436923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52AB-767B-456D-A5F1-58B1B971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65A5-CE2C-47F2-AC1C-32CA22BE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2ECD-B5E5-488C-9131-DEF54C13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745D-E2FA-4F0E-80BE-ECCD3723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B7A7-4F7C-41C9-B29D-1BC8B033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B792-C442-435A-8B44-A3F16C36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7A00-F128-416D-AE1A-4ADE6E10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7E96-DCD2-4E06-9DEA-0FB42BFF8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4, the Carbo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5576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nmetal carbon exists as an element in several fo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422440"/>
            <a:ext cx="3504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’re familiar with two of them—diamond and graph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25"/>
          <p:cNvPicPr/>
          <p:nvPr/>
        </p:nvPicPr>
        <p:blipFill>
          <a:blip r:embed="rId1"/>
          <a:stretch/>
        </p:blipFill>
        <p:spPr>
          <a:xfrm>
            <a:off x="3909960" y="1981080"/>
            <a:ext cx="3944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390680"/>
            <a:ext cx="739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also is found in all living thing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33520" y="21016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is followed by the metalloid silicon, an abundant element contained in san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33520" y="3244680"/>
            <a:ext cx="8229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nd contains ground up particles of minerals such as quartz, which is composed of silicon and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33520" y="48229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ass is an important product made from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33520" y="137160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icon and its Group 14 neighbor, germanium, are metalloid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33520" y="2460600"/>
            <a:ext cx="5486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used in electronics as semicondu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33520" y="3508200"/>
            <a:ext cx="5105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micondu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esn’t conduct electricity as well as metal, but does conduct electricity better than a nonmeta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im27 semiconductor"/>
          <p:cNvPicPr/>
          <p:nvPr/>
        </p:nvPicPr>
        <p:blipFill>
          <a:blip r:embed="rId1"/>
          <a:stretch/>
        </p:blipFill>
        <p:spPr>
          <a:xfrm>
            <a:off x="5715000" y="2057400"/>
            <a:ext cx="2965320" cy="3298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873000" y="3962520"/>
            <a:ext cx="47656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33520" y="12193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 and lead are the two heaviest elements in Group 1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33520" y="214308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is used to protect your torso during dental X ray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33520" y="307008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3520" y="48736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 is used in pewter, toothpaste, and the coating on steel cans used for f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17:32Z</dcterms:created>
  <dc:creator>CIC1</dc:creator>
  <dc:description/>
  <dc:language>en-US</dc:language>
  <cp:lastModifiedBy>RomaK</cp:lastModifiedBy>
  <dcterms:modified xsi:type="dcterms:W3CDTF">2015-09-01T16:26:47Z</dcterms:modified>
  <cp:revision>6</cp:revision>
  <dc:subject/>
  <dc:title>Group 14, the Carbon Group</dc:title>
</cp:coreProperties>
</file>