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241-1B47-4856-A475-7ABA9AF77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, 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nmetal carbon exists as an element in several 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familiar with two of them—diamond and graph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also is found in all living th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followed by the metalloid silicon, an abundant element contained in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 contains ground up particles of minerals such as quartz, which is composed of silicon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is an important product made from s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and its Group 14 neighbor, germanium, are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used in electronics as semi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miconductor doesn’t conduct electricity as well as metal, but does conduct electricity better than a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4—The Carbo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and lead are the two heaviest elements in Group 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is used to protect your torso during dental X r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 is used in pewter, toothpaste, and the coating on steel cans used for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7A3-013E-45ED-A6F2-FF18BEA9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931-FE09-46F5-B1B9-809D8A19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9CC-834C-487D-8184-8E24B773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1F0-E192-4EB0-9989-617FF136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D0D-2B6D-4AD1-85A3-3620AC58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E94-10B8-456B-A127-5F689E55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AB5-6AC0-4911-A038-C4C5700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31E-B054-4109-AD5B-0686BC05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FC4-4B7A-4B24-A6A5-A945DE7E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5B6-2DA8-40A6-8269-B2F8AB8C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84D-1DD4-4D00-9D96-4140899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55F-D5A5-471F-A862-7D4EAEE2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C68-3B6F-4B72-8F6F-B2B6FD45D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4, the Carbo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557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metal carbon exists as an element in several f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3504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’re familiar with two of them—diamond and graph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5"/>
          <p:cNvPicPr/>
          <p:nvPr/>
        </p:nvPicPr>
        <p:blipFill>
          <a:blip r:embed="rId1"/>
          <a:stretch/>
        </p:blipFill>
        <p:spPr>
          <a:xfrm>
            <a:off x="3909960" y="1981080"/>
            <a:ext cx="3944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90680"/>
            <a:ext cx="739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also is found in all living thing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210168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 is followed by the metalloid silicon, an abundant element contained in san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33520" y="3244680"/>
            <a:ext cx="8229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nd contains ground up particles of minerals such as quartz, which is composed of silicon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3520" y="48229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ss is an important product made from s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3520" y="137160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and its Group 14 neighbor, germanium, are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33520" y="2460600"/>
            <a:ext cx="5486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used in electronics as semicondu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533520" y="3508200"/>
            <a:ext cx="51051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miconduc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esn’t conduct electricity as well as metal, but does conduct electricity better than a nonmetal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im27 semiconductor"/>
          <p:cNvPicPr/>
          <p:nvPr/>
        </p:nvPicPr>
        <p:blipFill>
          <a:blip r:embed="rId1"/>
          <a:stretch/>
        </p:blipFill>
        <p:spPr>
          <a:xfrm>
            <a:off x="5715000" y="2057400"/>
            <a:ext cx="2965320" cy="3298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873000" y="3962520"/>
            <a:ext cx="47656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1569600" y="685800"/>
            <a:ext cx="6290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4—The Carbo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3520" y="121932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and lead are the two heaviest elements in Group 1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21430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is used to protect your torso during dental X ra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3520" y="3070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in car batteries, low-milting alloys, protective shielding around nuclear reactors, and containers used for storing and transporting radioactive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3520" y="48736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n is used in pewter, toothpaste, and the coating on steel cans used for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7:32Z</dcterms:created>
  <dc:creator>CIC1</dc:creator>
  <dc:description/>
  <dc:language>en-US</dc:language>
  <cp:lastModifiedBy>RomaK</cp:lastModifiedBy>
  <dcterms:modified xsi:type="dcterms:W3CDTF">2015-09-01T16:26:47Z</dcterms:modified>
  <cp:revision>6</cp:revision>
  <dc:subject/>
  <dc:title>Group 14, the Carbon Group</dc:title>
</cp:coreProperties>
</file>