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D63F-E9C4-4369-A066-CFB7ACDD63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52B-A19B-4D47-8BE4-696F9E37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AA4-466A-43AB-88EB-809A43F5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D6D-5851-4628-8DFE-76C8F32C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ADE-83C5-4A50-A92D-D11FDA6C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EC6-FC82-44FC-B3DB-9BDEE48A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BCF-C820-4CEF-9095-4145E98D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B5D-E2F0-4041-8CE9-864360DD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1D1-3608-4FF3-86BD-EA808BCB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F63-996F-4F26-B4A4-AA1E3036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570-F8F4-4C8E-8059-89B2DE56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722-D41F-4EFB-91E6-DD2C8040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9E9-57BD-444C-B5B1-BAEB19D6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A04D-3090-499A-8FDA-38F06EC65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4, the Carbo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55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metal carbon exists as an element in several f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’re familiar with two of them—diamond and graph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5"/>
          <p:cNvPicPr/>
          <p:nvPr/>
        </p:nvPicPr>
        <p:blipFill>
          <a:blip r:embed="rId1"/>
          <a:stretch/>
        </p:blipFill>
        <p:spPr>
          <a:xfrm>
            <a:off x="3909960" y="1981080"/>
            <a:ext cx="3944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9068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also is found in all living thing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21016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followed by the metalloid silicon, an abundant element contained in sa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3520" y="324468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 contains ground up particles of minerals such as quartz, which is composed of silicon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4822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 is an important product made from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13716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and its Group 14 neighbor, germanium, are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2460600"/>
            <a:ext cx="548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sed in electronics as semicondu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508200"/>
            <a:ext cx="5105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ond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n’t conduct electricity as well as metal, but does conduct electricity better than a nonme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im27 semiconductor"/>
          <p:cNvPicPr/>
          <p:nvPr/>
        </p:nvPicPr>
        <p:blipFill>
          <a:blip r:embed="rId1"/>
          <a:stretch/>
        </p:blipFill>
        <p:spPr>
          <a:xfrm>
            <a:off x="5715000" y="2057400"/>
            <a:ext cx="2965320" cy="3298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873000" y="3962520"/>
            <a:ext cx="4765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and lead are the two heaviest elements in Group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21430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s used to protect your torso during dental X ray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3520" y="3070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8736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is used in pewter, toothpaste, and the coating on steel cans used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7:32Z</dcterms:created>
  <dc:creator>CIC1</dc:creator>
  <dc:description/>
  <dc:language>en-US</dc:language>
  <cp:lastModifiedBy>RomaK</cp:lastModifiedBy>
  <dcterms:modified xsi:type="dcterms:W3CDTF">2015-09-01T16:26:47Z</dcterms:modified>
  <cp:revision>6</cp:revision>
  <dc:subject/>
  <dc:title>Group 14, the Carbon Group</dc:title>
</cp:coreProperties>
</file>