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wmf" ContentType="image/x-wmf"/>
  <Override PartName="/ppt/media/image34.wmf" ContentType="image/x-wmf"/>
  <Override PartName="/ppt/media/image13.wmf" ContentType="image/x-wmf"/>
  <Override PartName="/ppt/media/image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3.wmf" ContentType="image/x-wmf"/>
  <Override PartName="/ppt/media/image11.wmf" ContentType="image/x-wmf"/>
  <Override PartName="/ppt/media/image3.png" ContentType="image/png"/>
  <Override PartName="/ppt/media/image35.wmf" ContentType="image/x-wmf"/>
  <Override PartName="/ppt/media/image36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29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CHEMICAL REACTIONS</a:t>
            </a:r>
            <a:br>
              <a:rPr sz="1200"/>
            </a:b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Reactants: Zn + I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Product: Zn I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454 g of NH4NO3 decomposes, how much N2O and H2O are formed?  What is the theoretical yield of produ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balanced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4NO3  ---&gt;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O  +  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EP 2 Convert mass reactant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454 g) --&gt; m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EP 3 Convert moles reactant (5.68 mol) --&gt; mole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 Convert moles reactant --&gt; mole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 moles NH4NO3 to moles product expect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 NH4NO3 --&gt;  2 mol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 this relation as the STOICHIOMETRIC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=  11.4 mol H2O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TEP 3 Convert moles reactant (5.68 mol) --&gt; mole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 Convert moles product (11.4 mol) --&gt; mas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the THEORETICAL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FOLLOW THESE STEPS IN SOLVING STOICHIOMETRY PROBLE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PLAN FOR STOICHIOMETRY CALC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 How much N2O is form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of reactants  =   total mass of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NH4NO3 = ___ g N2O + 204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N2O = 250.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 Calculate the percen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isolated only 131 g of N2O, what is the percent y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pares the theoretical (250. g) and actual (131 g) yiel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EP 6 Calculate the percen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 Using 5.00 g of H2O2, what mass of O2 and of H2O can be obtain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H2O2(liq)  ---&gt;  2 H2O(g)  +  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is catalyzed by M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moles of H2O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use STOICHIOMETRIC FACTOR to calculate moles of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mass of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ict the kind of reactants and products and their relative amounts in a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l(s)  +  3 O2(g)  ---&gt;  2 Al2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s in the front are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ic coeffic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tters (s), (g), and (l) are the physical states of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Involving 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given reaction, there is not enough of one reagent to use up the other reagent comple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gent in short supply LIMITS the quantity of product that can b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 = 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reactant = 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of limiting reactants on Screen 4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1:  Balloon inflates fully, some Zn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More than enough Zn to use up the 0.100 mol H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2:  Balloon inflates fully, no Zn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Right amount of each (HCl and Z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3:  Balloon does not inflate fully, no Zn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Not enough Zn to use up 0.100 mol 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 solid Zn with 0.100 mol H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+ 2 HCl ---&gt; Zn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e CD Screen 4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 Zn (g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.0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27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l Zn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7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05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l 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l HCl/mol Zn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93/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00/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.00/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 Reactant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R = 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 LR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R =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act solid Zn with 0.100 mol H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Zn + 2 HCl ---&gt; ZnCl2 + H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to be Stu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 Mix 5.40 g of Al with 8.10 g of Cl2.  What mass of Al2Cl6 can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 of LR problem:  compare actual mole ratio of reactants to theoretical mole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 must be in the mole rat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 of LR problem:  compare actual mole ratio of reactants to theoretical mole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ing on the Limiting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 enough Al to use up all the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 reag =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l(s)  +  3 O2(g)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&gt;  2 Al2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m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l atoms + 3 O2 molecul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give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olecules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moles of Al + 3 moles of O2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give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oles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 enough Cl2 to use up all the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 reag =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ing on the Limiting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5.40 g of Al and 8.10 g of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 of LR problem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moles of each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mole ratio of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gent is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 5.40 g of Al with 8.10 g of Cl2.  What mass of Al2Cl6 can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 =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all calcs. on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calculate mas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Cl6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Calculate moles of Al2Cl6 expected based on L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Calculate mass of Al2Cl6 expected based on L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was the limiting reactan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Al was present                       in excess. But how mu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find how much Al was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ind how much Al  is in ex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of which reactant will remain when reaction is comple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+  3 Cl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00 m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14 mol = L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Excess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Al  =  Al available - Al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0.200 mol  -  0.0760 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0.124 mol Al in ex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Formula of a Hydrocarbon by Combu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R, page 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 0.115 g of a hydrocarbon, CxHy, and produce 0.379 g of CO2 and 0.1035 g of H2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xHy  +  some oxygen ---&gt;  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mpirical formula of Cx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st, recognize that all C in CO2 and all H in H2O is from Cx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xHy  +  some oxygen ---&gt;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79 g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H2O molecule forms for each 2 H atoms in Cx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CO2 molecule forms for each C atom in Cx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same atoms are present in a reaction at the beginning and at the end, the amount of matter in a system does not ch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the Conservation of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of conservation of matter, See Screen 4.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recognize that all C in CO2 and all H in H2O is from Cx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lculate amount of C in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61 x 10-3 mol CO2 --&gt; 8.61 x 10-3 mol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lculate amount of H in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44 x 10-3 mol H2O -- &gt;1.149 x 10-2 mol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xHy  +  some oxygen ---&gt;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w find ratio of mol H/mol C to find values of “x” and “y” in Cx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149 x 10 -2 mol H/ 8.61 x 10-3 mol 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=  1.33 mol H / 1.00 mol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=  4 mol H / 3 mol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mpirical formula = C3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xHy  +  some oxygen ---&gt;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the principle of the conservation of matt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mus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ust have the s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atoms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kind on both sid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 Al(s)  +  ___ Br2(liq) ---&gt; ___ Al2Br6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_C3H8(g)   +   _____  O2(g)   ----&gt;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__CO2(g)   +   _____ H2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_B4H10(g)   +   _____  O2(g)   ----&gt;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  B2O3(g)   +   _____ H2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study of the quantitative aspects of chemical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sts on the principle of the conservation of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(s)  +   3 Br2(liq)  ------&gt;   Al2Br6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8289360" y="1285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8DC6-A88D-43D0-8191-2287ACF1DC38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5m04vd1.mov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5m05vd1.mov" TargetMode="Externa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hyperlink" Target="http://xbeams.chem.yale.edu/~batista/113/movies/05m08an1.mov" TargetMode="External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4m03an1.mo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hyperlink" Target="http://xbeams.chem.yale.edu/~batista/113/movies/04m02vd1.mo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4m04an1.mov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e0043"/>
                </a:solidFill>
                <a:latin typeface="Comic Sans MS"/>
              </a:rPr>
              <a:t>CHEMICAL REACTIONS</a:t>
            </a:r>
            <a:br>
              <a:rPr sz="4800"/>
            </a:br>
            <a:r>
              <a:rPr b="1" lang="en-US" sz="3200" spc="-1" strike="noStrike">
                <a:solidFill>
                  <a:srgbClr val="6e0043"/>
                </a:solidFill>
                <a:latin typeface="Comic Sans MS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027" descr=""/>
          <p:cNvPicPr/>
          <p:nvPr/>
        </p:nvPicPr>
        <p:blipFill>
          <a:blip r:embed="rId1"/>
          <a:stretch/>
        </p:blipFill>
        <p:spPr>
          <a:xfrm>
            <a:off x="4707000" y="2085840"/>
            <a:ext cx="3970440" cy="37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28" descr=""/>
          <p:cNvPicPr/>
          <p:nvPr/>
        </p:nvPicPr>
        <p:blipFill>
          <a:blip r:embed="rId2"/>
          <a:stretch/>
        </p:blipFill>
        <p:spPr>
          <a:xfrm>
            <a:off x="476280" y="2085840"/>
            <a:ext cx="3746520" cy="3726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29"/>
          <p:cNvSpPr/>
          <p:nvPr/>
        </p:nvSpPr>
        <p:spPr>
          <a:xfrm>
            <a:off x="975240" y="5846760"/>
            <a:ext cx="2729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tants: Zn +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30"/>
          <p:cNvSpPr/>
          <p:nvPr/>
        </p:nvSpPr>
        <p:spPr>
          <a:xfrm>
            <a:off x="5470200" y="5846760"/>
            <a:ext cx="216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: Zn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31"/>
          <p:cNvSpPr/>
          <p:nvPr/>
        </p:nvSpPr>
        <p:spPr>
          <a:xfrm>
            <a:off x="3911760" y="6095880"/>
            <a:ext cx="1396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05560" cy="19051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454 g of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composes, how much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are formed?  What is the theoretical yield of produc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43400" y="2514600"/>
            <a:ext cx="40384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the balanced chemical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---&gt;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 +  2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11320" y="2610000"/>
            <a:ext cx="2489040" cy="36194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400" y="609120"/>
            <a:ext cx="807876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mass reacta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454 g) --&gt; m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1409760" y="2959200"/>
          <a:ext cx="6286320" cy="85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2959200"/>
                    <a:ext cx="62863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5"/>
          <p:cNvSpPr/>
          <p:nvPr/>
        </p:nvSpPr>
        <p:spPr>
          <a:xfrm>
            <a:off x="1295280" y="4038480"/>
            <a:ext cx="6705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 moles reactant (5.68 mol) --&gt; mole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00244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3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moles reactant --&gt; moles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 moles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moles product expect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ol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-&gt;  2 mol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 this relation as the </a:t>
            </a:r>
            <a:r>
              <a:rPr b="0" lang="en-US" sz="4000" spc="-1" strike="noStrike">
                <a:solidFill>
                  <a:srgbClr val="fc0128"/>
                </a:solidFill>
                <a:latin typeface="Comic Sans MS"/>
              </a:rPr>
              <a:t>STOICHIOMETRIC 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4343400" y="5372280"/>
          <a:ext cx="3505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5372280"/>
                    <a:ext cx="3505320" cy="876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92648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71643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=  11.4 mol H</a:t>
            </a:r>
            <a:r>
              <a:rPr b="0" lang="en-US" sz="4000" spc="-1" strike="noStrike" baseline="-25000">
                <a:solidFill>
                  <a:srgbClr val="fc0128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O produc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143000" y="2857680"/>
          <a:ext cx="698508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57680"/>
                    <a:ext cx="69850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5"/>
          <p:cNvSpPr/>
          <p:nvPr/>
        </p:nvSpPr>
        <p:spPr>
          <a:xfrm>
            <a:off x="992160" y="1709640"/>
            <a:ext cx="76168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 moles reactant (5.68 mol) --&gt; mole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85016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1333440" y="3949560"/>
          <a:ext cx="64645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3949560"/>
                    <a:ext cx="64645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4"/>
          <p:cNvSpPr/>
          <p:nvPr/>
        </p:nvSpPr>
        <p:spPr>
          <a:xfrm>
            <a:off x="1204920" y="1709640"/>
            <a:ext cx="702324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 moles product (11.4 mol) --&gt; mas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295280" y="2971800"/>
            <a:ext cx="63248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led the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THEORETICAL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838080" y="5181480"/>
            <a:ext cx="7772400" cy="9471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WAYS FOLLOW THESE STEPS IN SOLVING STOICHIOMETRY PROBLEM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162560" cy="175248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518"/>
                </a:solidFill>
                <a:latin typeface="Comic Sans MS"/>
              </a:rPr>
              <a:t>GENERAL PLAN FOR STOICHIOMETRY CALCU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3225960" y="5029200"/>
            <a:ext cx="20826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2133720" y="3606840"/>
            <a:ext cx="0" cy="787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 flipV="1">
            <a:off x="6553080" y="3580920"/>
            <a:ext cx="0" cy="838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1308240" y="2527200"/>
            <a:ext cx="1726920" cy="965160"/>
            <a:chOff x="1308240" y="2527200"/>
            <a:chExt cx="1726920" cy="965160"/>
          </a:xfrm>
        </p:grpSpPr>
        <p:sp>
          <p:nvSpPr>
            <p:cNvPr id="110" name="Rectangle 7"/>
            <p:cNvSpPr/>
            <p:nvPr/>
          </p:nvSpPr>
          <p:spPr>
            <a:xfrm>
              <a:off x="1308240" y="2527200"/>
              <a:ext cx="1726920" cy="965160"/>
            </a:xfrm>
            <a:prstGeom prst="rect">
              <a:avLst/>
            </a:prstGeom>
            <a:solidFill>
              <a:srgbClr val="dbffb8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1433880" y="2570040"/>
              <a:ext cx="1367280" cy="82044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Rectangle 9"/>
          <p:cNvSpPr/>
          <p:nvPr/>
        </p:nvSpPr>
        <p:spPr>
          <a:xfrm>
            <a:off x="3261240" y="4253040"/>
            <a:ext cx="2299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ichi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10"/>
          <p:cNvGrpSpPr/>
          <p:nvPr/>
        </p:nvGrpSpPr>
        <p:grpSpPr>
          <a:xfrm>
            <a:off x="1384200" y="4584600"/>
            <a:ext cx="1650960" cy="965160"/>
            <a:chOff x="1384200" y="4584600"/>
            <a:chExt cx="1650960" cy="965160"/>
          </a:xfrm>
        </p:grpSpPr>
        <p:sp>
          <p:nvSpPr>
            <p:cNvPr id="114" name="Rectangle 11"/>
            <p:cNvSpPr/>
            <p:nvPr/>
          </p:nvSpPr>
          <p:spPr>
            <a:xfrm>
              <a:off x="1384200" y="4584600"/>
              <a:ext cx="1650960" cy="965160"/>
            </a:xfrm>
            <a:prstGeom prst="rect">
              <a:avLst/>
            </a:prstGeom>
            <a:solidFill>
              <a:srgbClr val="c0fef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1510200" y="4627440"/>
              <a:ext cx="1367280" cy="8204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13"/>
          <p:cNvGrpSpPr/>
          <p:nvPr/>
        </p:nvGrpSpPr>
        <p:grpSpPr>
          <a:xfrm>
            <a:off x="5651640" y="4584600"/>
            <a:ext cx="1650960" cy="965160"/>
            <a:chOff x="5651640" y="4584600"/>
            <a:chExt cx="1650960" cy="965160"/>
          </a:xfrm>
        </p:grpSpPr>
        <p:sp>
          <p:nvSpPr>
            <p:cNvPr id="117" name="Rectangle 14"/>
            <p:cNvSpPr/>
            <p:nvPr/>
          </p:nvSpPr>
          <p:spPr>
            <a:xfrm>
              <a:off x="5651640" y="4584600"/>
              <a:ext cx="1650960" cy="965160"/>
            </a:xfrm>
            <a:prstGeom prst="rect">
              <a:avLst/>
            </a:prstGeom>
            <a:solidFill>
              <a:srgbClr val="ffc5c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5776200" y="4627440"/>
              <a:ext cx="1315440" cy="8204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16"/>
          <p:cNvGrpSpPr/>
          <p:nvPr/>
        </p:nvGrpSpPr>
        <p:grpSpPr>
          <a:xfrm>
            <a:off x="5651640" y="2451240"/>
            <a:ext cx="1650960" cy="965160"/>
            <a:chOff x="5651640" y="2451240"/>
            <a:chExt cx="1650960" cy="965160"/>
          </a:xfrm>
        </p:grpSpPr>
        <p:sp>
          <p:nvSpPr>
            <p:cNvPr id="120" name="Rectangle 17"/>
            <p:cNvSpPr/>
            <p:nvPr/>
          </p:nvSpPr>
          <p:spPr>
            <a:xfrm>
              <a:off x="5651640" y="2451240"/>
              <a:ext cx="1650960" cy="96516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5852520" y="2494080"/>
              <a:ext cx="1315440" cy="8204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15508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5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uch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is form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Total mass of reactants  =   total mass of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54 g 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___ g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+ 204 g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ss of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= 250.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00244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6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e the </a:t>
            </a:r>
            <a:r>
              <a:rPr b="0" lang="en-US" sz="4000" spc="-1" strike="noStrike">
                <a:solidFill>
                  <a:srgbClr val="fc0128"/>
                </a:solidFill>
                <a:latin typeface="Comic Sans MS"/>
              </a:rPr>
              <a:t>percent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isolated only 131 g of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, what is the percent yie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ompares the </a:t>
            </a:r>
            <a:r>
              <a:rPr b="0" lang="en-US" sz="3600" spc="-1" strike="noStrike">
                <a:solidFill>
                  <a:srgbClr val="fc0128"/>
                </a:solidFill>
                <a:latin typeface="Comic Sans MS"/>
              </a:rPr>
              <a:t>theoret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250. g) and </a:t>
            </a:r>
            <a:r>
              <a:rPr b="0" lang="en-US" sz="3600" spc="-1" strike="noStrike">
                <a:solidFill>
                  <a:srgbClr val="fc0128"/>
                </a:solidFill>
                <a:latin typeface="Comic Sans MS"/>
              </a:rPr>
              <a:t>act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31 g) yield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400" y="609120"/>
            <a:ext cx="807876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4038480"/>
            <a:ext cx="73152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1231920" y="2705040"/>
          <a:ext cx="6057720" cy="8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2705040"/>
                    <a:ext cx="60577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5"/>
          <p:cNvSpPr/>
          <p:nvPr/>
        </p:nvSpPr>
        <p:spPr>
          <a:xfrm>
            <a:off x="1200240" y="1746360"/>
            <a:ext cx="68414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6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ulate the percent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Object 6"/>
          <p:cNvGraphicFramePr/>
          <p:nvPr/>
        </p:nvGraphicFramePr>
        <p:xfrm>
          <a:off x="1282680" y="4076640"/>
          <a:ext cx="595620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2680" y="4076640"/>
                    <a:ext cx="59562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238880" cy="1752480"/>
          </a:xfrm>
          <a:prstGeom prst="rect">
            <a:avLst/>
          </a:prstGeom>
          <a:solidFill>
            <a:srgbClr val="f6bf6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:  Using 5.00 g of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 what mass of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nd of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 can be obtain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50680" y="2285640"/>
            <a:ext cx="760716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iq)  ---&gt; 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g)  + 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on is catalyzed by 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:  moles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:  use STOICHIOMETRIC FACTOR to calculate moles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3:  mass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pict the kind of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reactan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roduc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eir relative amounts in a re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Al(s)  +  3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g)  ---&gt;  2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umbers in the front are ca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oichiometric coeffic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etters (s), (g), and (l) are the physical states of comp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015920" y="1371600"/>
            <a:ext cx="673092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038480" y="4524480"/>
            <a:ext cx="4114800" cy="19526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61084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5400"/>
                </a:solidFill>
                <a:latin typeface="Comic Sans MS"/>
              </a:rPr>
              <a:t>Reactions Involving a</a:t>
            </a:r>
            <a:br>
              <a:rPr sz="5400"/>
            </a:br>
            <a:r>
              <a:rPr b="0" lang="en-US" sz="6000" spc="-1" strike="noStrike">
                <a:solidFill>
                  <a:srgbClr val="005400"/>
                </a:solidFill>
                <a:latin typeface="Comic Sans MS"/>
              </a:rPr>
              <a:t>LIMITING REACTA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086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given reaction, there is not enough of one reagent to use up the other reagent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gent in short supply 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LIM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quantity of product that can be 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93775"/>
                </a:solidFill>
                <a:latin typeface="Comic Sans MS"/>
              </a:rPr>
              <a:t>LIMITING REACT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907920" y="1162080"/>
            <a:ext cx="7302600" cy="2832120"/>
            <a:chOff x="907920" y="1162080"/>
            <a:chExt cx="7302600" cy="2832120"/>
          </a:xfrm>
        </p:grpSpPr>
        <p:pic>
          <p:nvPicPr>
            <p:cNvPr id="140" name="Picture 4" descr=""/>
            <p:cNvPicPr/>
            <p:nvPr/>
          </p:nvPicPr>
          <p:blipFill>
            <a:blip r:embed="rId1"/>
            <a:stretch/>
          </p:blipFill>
          <p:spPr>
            <a:xfrm>
              <a:off x="907920" y="1162080"/>
              <a:ext cx="7302600" cy="28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5"/>
            <p:cNvSpPr/>
            <p:nvPr/>
          </p:nvSpPr>
          <p:spPr>
            <a:xfrm>
              <a:off x="1003320" y="1231920"/>
              <a:ext cx="3251160" cy="264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965840" y="1231920"/>
              <a:ext cx="3174840" cy="264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7415280" y="3443400"/>
            <a:ext cx="1311120" cy="2549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144" name="Rectangle 8"/>
          <p:cNvSpPr/>
          <p:nvPr/>
        </p:nvSpPr>
        <p:spPr>
          <a:xfrm>
            <a:off x="1740240" y="3978360"/>
            <a:ext cx="1845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5702040" y="3978360"/>
            <a:ext cx="1720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10"/>
          <p:cNvGrpSpPr/>
          <p:nvPr/>
        </p:nvGrpSpPr>
        <p:grpSpPr>
          <a:xfrm>
            <a:off x="1306080" y="4495680"/>
            <a:ext cx="6122160" cy="713160"/>
            <a:chOff x="1306080" y="4495680"/>
            <a:chExt cx="6122160" cy="713160"/>
          </a:xfrm>
        </p:grpSpPr>
        <p:sp>
          <p:nvSpPr>
            <p:cNvPr id="147" name="Rectangle 11"/>
            <p:cNvSpPr/>
            <p:nvPr/>
          </p:nvSpPr>
          <p:spPr>
            <a:xfrm>
              <a:off x="1306080" y="4495680"/>
              <a:ext cx="61221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 NO(g) + O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(g)      2 NO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>
              <a:off x="4965840" y="4800600"/>
              <a:ext cx="50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Rectangle 13"/>
          <p:cNvSpPr/>
          <p:nvPr/>
        </p:nvSpPr>
        <p:spPr>
          <a:xfrm>
            <a:off x="897840" y="5229360"/>
            <a:ext cx="64436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ing reactant = 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ess reactant = 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3152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LIMITING REACT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914400" y="1905120"/>
            <a:ext cx="72388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86720" y="4800600"/>
            <a:ext cx="46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mo of limiting reactants on Screen 4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2971800" y="2070000"/>
          <a:ext cx="320040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070000"/>
                    <a:ext cx="320040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48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Rxn 1:  Balloon inflates fully, some Zn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*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More than enough Zn to use up the 0.100 mol HCl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775"/>
                </a:solidFill>
                <a:latin typeface="Times New Roman"/>
              </a:rPr>
              <a:t>Rxn 2:  Balloon inflates fully, no Zn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77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9377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93775"/>
                </a:solidFill>
                <a:latin typeface="Times New Roman"/>
              </a:rPr>
              <a:t>* Right amount of each (HCl and Z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Rxn 3:  Balloon does not inflate fully, no Zn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Times New Roman"/>
              </a:rPr>
              <a:t>* Not enough Zn to use up 0.100 mol H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3160" y="76320"/>
            <a:ext cx="78483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LIMITING REACT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191120" y="1982880"/>
            <a:ext cx="4647960" cy="14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 solid Zn with 0.100 mol HCl 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775"/>
                </a:solidFill>
                <a:latin typeface="Arial"/>
              </a:rPr>
              <a:t>Zn + 2 HCl ---&gt; ZnCl</a:t>
            </a:r>
            <a:r>
              <a:rPr b="1" lang="en-US" sz="2800" spc="-1" strike="noStrike" baseline="-25000">
                <a:solidFill>
                  <a:srgbClr val="093775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93775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093775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1525680" y="3581280"/>
            <a:ext cx="2283840" cy="520560"/>
            <a:chOff x="1525680" y="3581280"/>
            <a:chExt cx="2283840" cy="520560"/>
          </a:xfrm>
        </p:grpSpPr>
        <p:sp>
          <p:nvSpPr>
            <p:cNvPr id="159" name="Text Box 6"/>
            <p:cNvSpPr/>
            <p:nvPr/>
          </p:nvSpPr>
          <p:spPr>
            <a:xfrm>
              <a:off x="1525680" y="35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0128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7"/>
            <p:cNvSpPr/>
            <p:nvPr/>
          </p:nvSpPr>
          <p:spPr>
            <a:xfrm>
              <a:off x="2440080" y="35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93775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3430800" y="35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c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2" name="Object 9"/>
          <p:cNvGraphicFramePr/>
          <p:nvPr/>
        </p:nvGraphicFramePr>
        <p:xfrm>
          <a:off x="1371600" y="1004760"/>
          <a:ext cx="2666880" cy="26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9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004760"/>
                    <a:ext cx="2666880" cy="26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10"/>
          <p:cNvSpPr/>
          <p:nvPr/>
        </p:nvSpPr>
        <p:spPr>
          <a:xfrm>
            <a:off x="1446480" y="1219320"/>
            <a:ext cx="25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See CD Screen 4.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3520" y="380988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Rxn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Rxn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Rx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Zn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2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 Z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0.10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0.0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0.0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 HC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0.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0.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0.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 HCl/mol Z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0.93/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2.00/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5.00/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im Reactant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R = HCl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no LR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R = Z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80880" y="76320"/>
            <a:ext cx="792504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LIMITING REACT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343400" y="1204920"/>
            <a:ext cx="44956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 solid Zn with 0.100 mol HCl 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n + 2 HCl ---&gt; Zn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2819520" cy="25527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818280" y="549360"/>
            <a:ext cx="6923520" cy="759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Comic Sans MS"/>
              </a:rPr>
              <a:t>Reaction to be Studi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1523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 Al  +  3 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---&gt;   A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868400" y="2868480"/>
            <a:ext cx="5369040" cy="3216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839080" cy="13716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LEM: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ix 5.40 g of Al with 8.10 g of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 What mass of A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can for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3225960" y="4863960"/>
            <a:ext cx="20826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2133720" y="3441600"/>
            <a:ext cx="0" cy="7876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5"/>
          <p:cNvSpPr/>
          <p:nvPr/>
        </p:nvSpPr>
        <p:spPr>
          <a:xfrm flipV="1">
            <a:off x="6553080" y="3416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308240" y="2362320"/>
            <a:ext cx="1726920" cy="965160"/>
            <a:chOff x="1308240" y="2362320"/>
            <a:chExt cx="1726920" cy="965160"/>
          </a:xfrm>
        </p:grpSpPr>
        <p:sp>
          <p:nvSpPr>
            <p:cNvPr id="177" name="Rectangle 7"/>
            <p:cNvSpPr/>
            <p:nvPr/>
          </p:nvSpPr>
          <p:spPr>
            <a:xfrm>
              <a:off x="1308240" y="2362320"/>
              <a:ext cx="1726920" cy="965160"/>
            </a:xfrm>
            <a:prstGeom prst="rect">
              <a:avLst/>
            </a:prstGeom>
            <a:solidFill>
              <a:srgbClr val="dbffb8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1433880" y="2411640"/>
              <a:ext cx="1367280" cy="82044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Rectangle 9"/>
          <p:cNvSpPr/>
          <p:nvPr/>
        </p:nvSpPr>
        <p:spPr>
          <a:xfrm>
            <a:off x="3261240" y="4087800"/>
            <a:ext cx="2299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oichi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10"/>
          <p:cNvGrpSpPr/>
          <p:nvPr/>
        </p:nvGrpSpPr>
        <p:grpSpPr>
          <a:xfrm>
            <a:off x="1384200" y="4419720"/>
            <a:ext cx="1650960" cy="965160"/>
            <a:chOff x="1384200" y="4419720"/>
            <a:chExt cx="1650960" cy="965160"/>
          </a:xfrm>
        </p:grpSpPr>
        <p:sp>
          <p:nvSpPr>
            <p:cNvPr id="181" name="Rectangle 11"/>
            <p:cNvSpPr/>
            <p:nvPr/>
          </p:nvSpPr>
          <p:spPr>
            <a:xfrm>
              <a:off x="1384200" y="4419720"/>
              <a:ext cx="1650960" cy="965160"/>
            </a:xfrm>
            <a:prstGeom prst="rect">
              <a:avLst/>
            </a:prstGeom>
            <a:solidFill>
              <a:srgbClr val="c0fef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1510200" y="4469040"/>
              <a:ext cx="1367280" cy="8204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3"/>
          <p:cNvGrpSpPr/>
          <p:nvPr/>
        </p:nvGrpSpPr>
        <p:grpSpPr>
          <a:xfrm>
            <a:off x="5651640" y="4419720"/>
            <a:ext cx="1650960" cy="965160"/>
            <a:chOff x="5651640" y="4419720"/>
            <a:chExt cx="1650960" cy="965160"/>
          </a:xfrm>
        </p:grpSpPr>
        <p:sp>
          <p:nvSpPr>
            <p:cNvPr id="184" name="Rectangle 14"/>
            <p:cNvSpPr/>
            <p:nvPr/>
          </p:nvSpPr>
          <p:spPr>
            <a:xfrm>
              <a:off x="5651640" y="4419720"/>
              <a:ext cx="1650960" cy="965160"/>
            </a:xfrm>
            <a:prstGeom prst="rect">
              <a:avLst/>
            </a:prstGeom>
            <a:solidFill>
              <a:srgbClr val="ffc5c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5"/>
            <p:cNvSpPr/>
            <p:nvPr/>
          </p:nvSpPr>
          <p:spPr>
            <a:xfrm>
              <a:off x="5776560" y="4469040"/>
              <a:ext cx="1315440" cy="8204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16"/>
          <p:cNvGrpSpPr/>
          <p:nvPr/>
        </p:nvGrpSpPr>
        <p:grpSpPr>
          <a:xfrm>
            <a:off x="5651640" y="2286000"/>
            <a:ext cx="1650960" cy="965160"/>
            <a:chOff x="5651640" y="2286000"/>
            <a:chExt cx="1650960" cy="965160"/>
          </a:xfrm>
        </p:grpSpPr>
        <p:sp>
          <p:nvSpPr>
            <p:cNvPr id="187" name="Rectangle 17"/>
            <p:cNvSpPr/>
            <p:nvPr/>
          </p:nvSpPr>
          <p:spPr>
            <a:xfrm>
              <a:off x="5651640" y="2286000"/>
              <a:ext cx="1650960" cy="96516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5852880" y="2335320"/>
              <a:ext cx="1315440" cy="8204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103400" y="519120"/>
            <a:ext cx="4033800" cy="33336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3"/>
          <p:cNvSpPr/>
          <p:nvPr/>
        </p:nvSpPr>
        <p:spPr>
          <a:xfrm>
            <a:off x="1427040" y="3560760"/>
            <a:ext cx="6413760" cy="2283480"/>
          </a:xfrm>
          <a:prstGeom prst="rect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ep 1 of LR problem:  compare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actu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ole ratio of reactants to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theoretic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ole rat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28191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 Al  +  3 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---&gt;   A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4038120"/>
            <a:ext cx="68580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tants must be in the mole rati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204920" y="290520"/>
            <a:ext cx="6400800" cy="203868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ep 1 of LR problem:  compare actual mole ratio of reactants to theoretical mole rat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2706840" y="4803840"/>
          <a:ext cx="338760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6840" y="4803840"/>
                    <a:ext cx="3387600" cy="1187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68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c00"/>
                </a:solidFill>
                <a:latin typeface="Comic Sans MS"/>
              </a:rPr>
              <a:t>Deciding on the Limiting Reac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91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952560" y="3886200"/>
            <a:ext cx="723888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 not enough Al to use up all the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838080" y="16002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l  +  3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--&gt;   A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6"/>
          <p:cNvGrpSpPr/>
          <p:nvPr/>
        </p:nvGrpSpPr>
        <p:grpSpPr>
          <a:xfrm>
            <a:off x="1676520" y="2362320"/>
            <a:ext cx="3352680" cy="1371600"/>
            <a:chOff x="1676520" y="2362320"/>
            <a:chExt cx="3352680" cy="1371600"/>
          </a:xfrm>
        </p:grpSpPr>
        <p:sp>
          <p:nvSpPr>
            <p:cNvPr id="201" name="Rectangle 7"/>
            <p:cNvSpPr/>
            <p:nvPr/>
          </p:nvSpPr>
          <p:spPr>
            <a:xfrm>
              <a:off x="1676520" y="2362320"/>
              <a:ext cx="3352680" cy="137160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2" name="Object 8"/>
            <p:cNvGraphicFramePr/>
            <p:nvPr/>
          </p:nvGraphicFramePr>
          <p:xfrm>
            <a:off x="1882800" y="2603520"/>
            <a:ext cx="2901960" cy="1015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82800" y="2603520"/>
                      <a:ext cx="2901960" cy="101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4" name="Text Box 9"/>
          <p:cNvSpPr/>
          <p:nvPr/>
        </p:nvSpPr>
        <p:spPr>
          <a:xfrm>
            <a:off x="1066680" y="5199120"/>
            <a:ext cx="556272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0128"/>
                </a:solidFill>
                <a:latin typeface="Comic Sans MS"/>
              </a:rPr>
              <a:t>Lim reag = 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218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51051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Al(s)  +  3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g)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&gt;  2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equation 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4 Al atoms + 3 O</a:t>
            </a:r>
            <a:r>
              <a:rPr b="1" lang="en-US" sz="2800" spc="-1" strike="noStrike" baseline="-25000">
                <a:solidFill>
                  <a:srgbClr val="790015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 molecules 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---give-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2 molecules of Al</a:t>
            </a:r>
            <a:r>
              <a:rPr b="1" lang="en-US" sz="2800" spc="-1" strike="noStrike" baseline="-25000">
                <a:solidFill>
                  <a:srgbClr val="790015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790015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4 moles of Al + 3 moles of 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---give-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2 moles of Al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670720" y="1454040"/>
            <a:ext cx="2819160" cy="35560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440" y="2819160"/>
            <a:ext cx="6620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052640" y="3719520"/>
            <a:ext cx="656568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 not enough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use up all the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838080" y="16002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l  +  3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--&gt;   A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1676520" y="2362320"/>
            <a:ext cx="3352680" cy="1371600"/>
            <a:chOff x="1676520" y="2362320"/>
            <a:chExt cx="3352680" cy="1371600"/>
          </a:xfrm>
        </p:grpSpPr>
        <p:sp>
          <p:nvSpPr>
            <p:cNvPr id="209" name="Rectangle 6"/>
            <p:cNvSpPr/>
            <p:nvPr/>
          </p:nvSpPr>
          <p:spPr>
            <a:xfrm>
              <a:off x="1676520" y="2362320"/>
              <a:ext cx="3352680" cy="1371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0" name="Object 7"/>
            <p:cNvGraphicFramePr/>
            <p:nvPr/>
          </p:nvGraphicFramePr>
          <p:xfrm>
            <a:off x="1882800" y="2527200"/>
            <a:ext cx="2901960" cy="10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1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82800" y="2527200"/>
                      <a:ext cx="2901960" cy="101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2" name="Text Box 8"/>
          <p:cNvSpPr/>
          <p:nvPr/>
        </p:nvSpPr>
        <p:spPr>
          <a:xfrm>
            <a:off x="914400" y="4876920"/>
            <a:ext cx="594360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0128"/>
                </a:solidFill>
                <a:latin typeface="Comic Sans MS"/>
              </a:rPr>
              <a:t>Lim reag = Cl</a:t>
            </a:r>
            <a:r>
              <a:rPr b="1" lang="en-US" sz="6000" spc="-1" strike="noStrike" baseline="-25000">
                <a:solidFill>
                  <a:srgbClr val="fc0128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c00"/>
                </a:solidFill>
                <a:latin typeface="Comic Sans MS"/>
              </a:rPr>
              <a:t>Deciding on the Limiting Reac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064880" y="2225520"/>
            <a:ext cx="6462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have 5.40 g of Al and 8.10 g of 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ep 2 of LR problem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ate moles of each react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1066680" y="2895480"/>
            <a:ext cx="6705720" cy="1219320"/>
            <a:chOff x="1066680" y="2895480"/>
            <a:chExt cx="6705720" cy="1219320"/>
          </a:xfrm>
        </p:grpSpPr>
        <p:sp>
          <p:nvSpPr>
            <p:cNvPr id="217" name="Rectangle 5"/>
            <p:cNvSpPr/>
            <p:nvPr/>
          </p:nvSpPr>
          <p:spPr>
            <a:xfrm>
              <a:off x="1066680" y="2895480"/>
              <a:ext cx="6705720" cy="1219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" name="Object 6"/>
            <p:cNvGraphicFramePr/>
            <p:nvPr/>
          </p:nvGraphicFramePr>
          <p:xfrm>
            <a:off x="1366920" y="3043080"/>
            <a:ext cx="5914800" cy="885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66920" y="3043080"/>
                      <a:ext cx="591480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0" name="Group 7"/>
          <p:cNvGrpSpPr/>
          <p:nvPr/>
        </p:nvGrpSpPr>
        <p:grpSpPr>
          <a:xfrm>
            <a:off x="1066680" y="4495680"/>
            <a:ext cx="6782040" cy="1143000"/>
            <a:chOff x="1066680" y="4495680"/>
            <a:chExt cx="6782040" cy="1143000"/>
          </a:xfrm>
        </p:grpSpPr>
        <p:sp>
          <p:nvSpPr>
            <p:cNvPr id="221" name="Rectangle 8"/>
            <p:cNvSpPr/>
            <p:nvPr/>
          </p:nvSpPr>
          <p:spPr>
            <a:xfrm>
              <a:off x="1066680" y="4495680"/>
              <a:ext cx="6782040" cy="114300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2" name="Object 9"/>
            <p:cNvGraphicFramePr/>
            <p:nvPr/>
          </p:nvGraphicFramePr>
          <p:xfrm>
            <a:off x="1336680" y="4643280"/>
            <a:ext cx="6281640" cy="88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3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36680" y="4643280"/>
                      <a:ext cx="62816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solidFill>
            <a:srgbClr val="dbffb8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mole ratio of react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2957400" y="2819520"/>
            <a:ext cx="5194440" cy="2496960"/>
            <a:chOff x="2957400" y="2819520"/>
            <a:chExt cx="5194440" cy="2496960"/>
          </a:xfrm>
        </p:grpSpPr>
        <p:sp>
          <p:nvSpPr>
            <p:cNvPr id="226" name="Arc 4"/>
            <p:cNvSpPr/>
            <p:nvPr/>
          </p:nvSpPr>
          <p:spPr>
            <a:xfrm>
              <a:off x="4038480" y="2819520"/>
              <a:ext cx="3098880" cy="1041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5"/>
            <p:cNvSpPr/>
            <p:nvPr/>
          </p:nvSpPr>
          <p:spPr>
            <a:xfrm>
              <a:off x="2957400" y="3521160"/>
              <a:ext cx="5194440" cy="17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hi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ould be 3/2, or 1.5/1, if reactants are present in the exact stoichiometric ratio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Rectangle 6"/>
          <p:cNvSpPr/>
          <p:nvPr/>
        </p:nvSpPr>
        <p:spPr>
          <a:xfrm>
            <a:off x="3025800" y="5413320"/>
            <a:ext cx="4348080" cy="1025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Limiting reagent is </a:t>
            </a:r>
            <a:r>
              <a:rPr b="1" lang="en-US" sz="5400" spc="-1" strike="noStrike">
                <a:solidFill>
                  <a:srgbClr val="fc0128"/>
                </a:solidFill>
                <a:latin typeface="Arial"/>
              </a:rPr>
              <a:t>Cl</a:t>
            </a:r>
            <a:r>
              <a:rPr b="1" lang="en-US" sz="5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Object 7"/>
          <p:cNvGraphicFramePr/>
          <p:nvPr/>
        </p:nvGraphicFramePr>
        <p:xfrm>
          <a:off x="1101600" y="2184480"/>
          <a:ext cx="659772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2184480"/>
                    <a:ext cx="65977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Rectangle 8"/>
          <p:cNvSpPr/>
          <p:nvPr/>
        </p:nvSpPr>
        <p:spPr>
          <a:xfrm>
            <a:off x="1523880" y="137160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l  +  3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--&gt;   A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90360" y="2282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233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 5.40 g of Al with 8.10 g of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What mass of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752480" y="1828800"/>
            <a:ext cx="5432400" cy="119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ing reactant =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 all calcs. on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3225960" y="5943600"/>
            <a:ext cx="22348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5"/>
          <p:cNvSpPr/>
          <p:nvPr/>
        </p:nvSpPr>
        <p:spPr>
          <a:xfrm>
            <a:off x="2133720" y="4292640"/>
            <a:ext cx="0" cy="787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6"/>
          <p:cNvSpPr/>
          <p:nvPr/>
        </p:nvSpPr>
        <p:spPr>
          <a:xfrm flipV="1">
            <a:off x="6553080" y="4266720"/>
            <a:ext cx="0" cy="838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7"/>
          <p:cNvGrpSpPr/>
          <p:nvPr/>
        </p:nvGrpSpPr>
        <p:grpSpPr>
          <a:xfrm>
            <a:off x="1371600" y="5257800"/>
            <a:ext cx="1676520" cy="990360"/>
            <a:chOff x="1371600" y="5257800"/>
            <a:chExt cx="1676520" cy="990360"/>
          </a:xfrm>
        </p:grpSpPr>
        <p:sp>
          <p:nvSpPr>
            <p:cNvPr id="238" name="Rectangle 8"/>
            <p:cNvSpPr/>
            <p:nvPr/>
          </p:nvSpPr>
          <p:spPr>
            <a:xfrm>
              <a:off x="1371600" y="5257800"/>
              <a:ext cx="1676520" cy="99036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1509840" y="5319720"/>
              <a:ext cx="1062360" cy="8708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10"/>
          <p:cNvGrpSpPr/>
          <p:nvPr/>
        </p:nvGrpSpPr>
        <p:grpSpPr>
          <a:xfrm>
            <a:off x="5638680" y="5257800"/>
            <a:ext cx="1676160" cy="990360"/>
            <a:chOff x="5638680" y="5257800"/>
            <a:chExt cx="1676160" cy="990360"/>
          </a:xfrm>
        </p:grpSpPr>
        <p:sp>
          <p:nvSpPr>
            <p:cNvPr id="241" name="Rectangle 11"/>
            <p:cNvSpPr/>
            <p:nvPr/>
          </p:nvSpPr>
          <p:spPr>
            <a:xfrm>
              <a:off x="5638680" y="5257800"/>
              <a:ext cx="1676160" cy="99036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2"/>
            <p:cNvSpPr/>
            <p:nvPr/>
          </p:nvSpPr>
          <p:spPr>
            <a:xfrm>
              <a:off x="5775840" y="5319720"/>
              <a:ext cx="1147680" cy="8708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13"/>
          <p:cNvGrpSpPr/>
          <p:nvPr/>
        </p:nvGrpSpPr>
        <p:grpSpPr>
          <a:xfrm>
            <a:off x="1295280" y="3200400"/>
            <a:ext cx="1752480" cy="990360"/>
            <a:chOff x="1295280" y="3200400"/>
            <a:chExt cx="1752480" cy="990360"/>
          </a:xfrm>
        </p:grpSpPr>
        <p:sp>
          <p:nvSpPr>
            <p:cNvPr id="244" name="Rectangle 14"/>
            <p:cNvSpPr/>
            <p:nvPr/>
          </p:nvSpPr>
          <p:spPr>
            <a:xfrm>
              <a:off x="1295280" y="3200400"/>
              <a:ext cx="1752480" cy="99036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5"/>
            <p:cNvSpPr/>
            <p:nvPr/>
          </p:nvSpPr>
          <p:spPr>
            <a:xfrm>
              <a:off x="1586160" y="3262320"/>
              <a:ext cx="109584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a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16"/>
          <p:cNvGrpSpPr/>
          <p:nvPr/>
        </p:nvGrpSpPr>
        <p:grpSpPr>
          <a:xfrm>
            <a:off x="5638680" y="3200400"/>
            <a:ext cx="1676160" cy="990360"/>
            <a:chOff x="5638680" y="3200400"/>
            <a:chExt cx="1676160" cy="990360"/>
          </a:xfrm>
        </p:grpSpPr>
        <p:sp>
          <p:nvSpPr>
            <p:cNvPr id="247" name="Rectangle 17"/>
            <p:cNvSpPr/>
            <p:nvPr/>
          </p:nvSpPr>
          <p:spPr>
            <a:xfrm>
              <a:off x="5638680" y="3200400"/>
              <a:ext cx="1676160" cy="99036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5929200" y="3262320"/>
              <a:ext cx="1181160" cy="8708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am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19"/>
          <p:cNvGrpSpPr/>
          <p:nvPr/>
        </p:nvGrpSpPr>
        <p:grpSpPr>
          <a:xfrm>
            <a:off x="3276720" y="4648320"/>
            <a:ext cx="2057400" cy="1066680"/>
            <a:chOff x="3276720" y="4648320"/>
            <a:chExt cx="2057400" cy="1066680"/>
          </a:xfrm>
        </p:grpSpPr>
        <p:sp>
          <p:nvSpPr>
            <p:cNvPr id="250" name="Rectangle 20"/>
            <p:cNvSpPr/>
            <p:nvPr/>
          </p:nvSpPr>
          <p:spPr>
            <a:xfrm>
              <a:off x="3276720" y="4648320"/>
              <a:ext cx="2057400" cy="10666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1" name="Object 21"/>
            <p:cNvGraphicFramePr/>
            <p:nvPr/>
          </p:nvGraphicFramePr>
          <p:xfrm>
            <a:off x="3429000" y="4800600"/>
            <a:ext cx="1816200" cy="74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2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29000" y="4800600"/>
                      <a:ext cx="1816200" cy="74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3" name="Rectangle 22"/>
          <p:cNvSpPr/>
          <p:nvPr/>
        </p:nvSpPr>
        <p:spPr>
          <a:xfrm>
            <a:off x="2286000" y="11430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2 Al  +  3 Cl</a:t>
            </a:r>
            <a:r>
              <a:rPr b="1" lang="en-US" sz="2800" spc="-1" strike="noStrike" baseline="-25000">
                <a:solidFill>
                  <a:srgbClr val="008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  ---&gt;   Al</a:t>
            </a:r>
            <a:r>
              <a:rPr b="1" lang="en-US" sz="2800" spc="-1" strike="noStrike" baseline="-25000">
                <a:solidFill>
                  <a:srgbClr val="008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8c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1198080" y="276120"/>
            <a:ext cx="7137000" cy="1131120"/>
          </a:xfrm>
          <a:prstGeom prst="rect">
            <a:avLst/>
          </a:prstGeom>
          <a:solidFill>
            <a:srgbClr val="c1cef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LCULATIONS:  calculate mas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exp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976320" y="1616040"/>
            <a:ext cx="732780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tep 1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moles of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pected based on L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901800" y="2743200"/>
          <a:ext cx="731520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2743200"/>
                    <a:ext cx="73152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5"/>
          <p:cNvGraphicFramePr/>
          <p:nvPr/>
        </p:nvGraphicFramePr>
        <p:xfrm>
          <a:off x="838080" y="4952880"/>
          <a:ext cx="753120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952880"/>
                    <a:ext cx="75312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6"/>
          <p:cNvSpPr/>
          <p:nvPr/>
        </p:nvSpPr>
        <p:spPr>
          <a:xfrm>
            <a:off x="1143000" y="3809880"/>
            <a:ext cx="7696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tep 2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mass of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pected based on L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762120" y="228564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the limiting reactan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Al was present                       in excess. But how mu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ind how much Al wa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find how much Al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ex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838080" y="457200"/>
            <a:ext cx="716292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 much of which reactant will remain when reaction is comple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6294600" y="1935000"/>
            <a:ext cx="2087280" cy="2027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1287000" y="1419120"/>
            <a:ext cx="25221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Al + 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"/>
          <p:cNvSpPr/>
          <p:nvPr/>
        </p:nvSpPr>
        <p:spPr>
          <a:xfrm>
            <a:off x="4051440" y="175248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4786200" y="1509840"/>
            <a:ext cx="148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899640" y="2347920"/>
            <a:ext cx="2031480" cy="576360"/>
          </a:xfrm>
          <a:prstGeom prst="rect">
            <a:avLst/>
          </a:prstGeom>
          <a:solidFill>
            <a:srgbClr val="dbffb8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200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3212280" y="2395440"/>
            <a:ext cx="3037320" cy="576360"/>
          </a:xfrm>
          <a:prstGeom prst="rect">
            <a:avLst/>
          </a:prstGeom>
          <a:solidFill>
            <a:srgbClr val="eaec5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114 mol = L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7"/>
          <p:cNvSpPr/>
          <p:nvPr/>
        </p:nvSpPr>
        <p:spPr>
          <a:xfrm flipH="1" flipV="1">
            <a:off x="1752480" y="1905120"/>
            <a:ext cx="7632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8"/>
          <p:cNvSpPr/>
          <p:nvPr/>
        </p:nvSpPr>
        <p:spPr>
          <a:xfrm flipH="1" flipV="1">
            <a:off x="3276360" y="1905120"/>
            <a:ext cx="1522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162560" cy="761760"/>
          </a:xfrm>
          <a:prstGeom prst="rect">
            <a:avLst/>
          </a:prstGeom>
          <a:solidFill>
            <a:srgbClr val="e3bef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culating Excess 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991080" y="4178160"/>
            <a:ext cx="66171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ss Al  =  Al available - Al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Object 11"/>
          <p:cNvGraphicFramePr/>
          <p:nvPr/>
        </p:nvGraphicFramePr>
        <p:xfrm>
          <a:off x="1003320" y="3200400"/>
          <a:ext cx="712476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3200400"/>
                    <a:ext cx="71247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Text Box 12"/>
          <p:cNvSpPr/>
          <p:nvPr/>
        </p:nvSpPr>
        <p:spPr>
          <a:xfrm>
            <a:off x="990720" y="4800600"/>
            <a:ext cx="6705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0.200 mol  -  0.0760 m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990720" y="54864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0.124 mol Al in ex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etermining the Formula of a Hydrocarbon by Combu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0" y="1731960"/>
            <a:ext cx="9144000" cy="32209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4"/>
          <p:cNvSpPr/>
          <p:nvPr/>
        </p:nvSpPr>
        <p:spPr>
          <a:xfrm>
            <a:off x="5257800" y="37339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CR, page 1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Object 5"/>
          <p:cNvGraphicFramePr/>
          <p:nvPr/>
        </p:nvGraphicFramePr>
        <p:xfrm>
          <a:off x="1676520" y="4873680"/>
          <a:ext cx="6172200" cy="19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873680"/>
                    <a:ext cx="617220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320" y="22860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n 0.115 g of a hydrocarbon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produce </a:t>
            </a:r>
            <a:r>
              <a:rPr b="0" lang="en-US" sz="2800" spc="-1" strike="noStrike">
                <a:solidFill>
                  <a:srgbClr val="055200"/>
                </a:solidFill>
                <a:latin typeface="Times New Roman"/>
              </a:rPr>
              <a:t>0.379 g of CO</a:t>
            </a:r>
            <a:r>
              <a:rPr b="0" lang="en-US" sz="2800" spc="-1" strike="noStrike" baseline="-25000">
                <a:solidFill>
                  <a:srgbClr val="0552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0.1035 g of H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 some oxygen ---&gt;  </a:t>
            </a:r>
            <a:r>
              <a:rPr b="0" lang="en-US" sz="2800" spc="-1" strike="noStrike">
                <a:solidFill>
                  <a:srgbClr val="055200"/>
                </a:solidFill>
                <a:latin typeface="Times New Roman"/>
              </a:rPr>
              <a:t>0.379 g CO</a:t>
            </a:r>
            <a:r>
              <a:rPr b="0" lang="en-US" sz="2800" spc="-1" strike="noStrike" baseline="-25000">
                <a:solidFill>
                  <a:srgbClr val="0552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0.1035 g H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empirical formula of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recognize that all C in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ll H i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is from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1433520" y="1774800"/>
            <a:ext cx="6489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some oxygen ---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79 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0.1035 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1279440" y="514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6"/>
          <p:cNvGrpSpPr/>
          <p:nvPr/>
        </p:nvGrpSpPr>
        <p:grpSpPr>
          <a:xfrm>
            <a:off x="380880" y="4419720"/>
            <a:ext cx="2979720" cy="1130040"/>
            <a:chOff x="380880" y="4419720"/>
            <a:chExt cx="2979720" cy="1130040"/>
          </a:xfrm>
        </p:grpSpPr>
        <p:grpSp>
          <p:nvGrpSpPr>
            <p:cNvPr id="289" name="Group 7"/>
            <p:cNvGrpSpPr/>
            <p:nvPr/>
          </p:nvGrpSpPr>
          <p:grpSpPr>
            <a:xfrm>
              <a:off x="380880" y="4419720"/>
              <a:ext cx="2979720" cy="757080"/>
              <a:chOff x="380880" y="4419720"/>
              <a:chExt cx="2979720" cy="757080"/>
            </a:xfrm>
          </p:grpSpPr>
          <p:sp>
            <p:nvSpPr>
              <p:cNvPr id="290" name="Freeform 8"/>
              <p:cNvSpPr/>
              <p:nvPr/>
            </p:nvSpPr>
            <p:spPr>
              <a:xfrm>
                <a:off x="380880" y="4419720"/>
                <a:ext cx="2979720" cy="757080"/>
              </a:xfrm>
              <a:custGeom>
                <a:avLst/>
                <a:gdLst/>
                <a:ahLst/>
                <a:rect l="l" t="t" r="r" b="b"/>
                <a:pathLst>
                  <a:path w="1877" h="477">
                    <a:moveTo>
                      <a:pt x="339" y="37"/>
                    </a:moveTo>
                    <a:cubicBezTo>
                      <a:pt x="461" y="25"/>
                      <a:pt x="581" y="19"/>
                      <a:pt x="705" y="16"/>
                    </a:cubicBezTo>
                    <a:cubicBezTo>
                      <a:pt x="763" y="12"/>
                      <a:pt x="821" y="9"/>
                      <a:pt x="880" y="0"/>
                    </a:cubicBezTo>
                    <a:cubicBezTo>
                      <a:pt x="1105" y="7"/>
                      <a:pt x="1343" y="45"/>
                      <a:pt x="1558" y="122"/>
                    </a:cubicBezTo>
                    <a:cubicBezTo>
                      <a:pt x="1622" y="145"/>
                      <a:pt x="1681" y="169"/>
                      <a:pt x="1743" y="196"/>
                    </a:cubicBezTo>
                    <a:cubicBezTo>
                      <a:pt x="1771" y="208"/>
                      <a:pt x="1809" y="216"/>
                      <a:pt x="1833" y="239"/>
                    </a:cubicBezTo>
                    <a:cubicBezTo>
                      <a:pt x="1862" y="267"/>
                      <a:pt x="1862" y="318"/>
                      <a:pt x="1876" y="355"/>
                    </a:cubicBezTo>
                    <a:cubicBezTo>
                      <a:pt x="1874" y="367"/>
                      <a:pt x="1877" y="381"/>
                      <a:pt x="1870" y="392"/>
                    </a:cubicBezTo>
                    <a:cubicBezTo>
                      <a:pt x="1824" y="455"/>
                      <a:pt x="1719" y="457"/>
                      <a:pt x="1653" y="461"/>
                    </a:cubicBezTo>
                    <a:cubicBezTo>
                      <a:pt x="1591" y="472"/>
                      <a:pt x="1536" y="474"/>
                      <a:pt x="1473" y="477"/>
                    </a:cubicBezTo>
                    <a:cubicBezTo>
                      <a:pt x="1322" y="473"/>
                      <a:pt x="1177" y="461"/>
                      <a:pt x="1028" y="456"/>
                    </a:cubicBezTo>
                    <a:cubicBezTo>
                      <a:pt x="771" y="431"/>
                      <a:pt x="512" y="419"/>
                      <a:pt x="255" y="413"/>
                    </a:cubicBezTo>
                    <a:cubicBezTo>
                      <a:pt x="143" y="403"/>
                      <a:pt x="228" y="415"/>
                      <a:pt x="180" y="403"/>
                    </a:cubicBezTo>
                    <a:cubicBezTo>
                      <a:pt x="157" y="397"/>
                      <a:pt x="112" y="387"/>
                      <a:pt x="112" y="387"/>
                    </a:cubicBezTo>
                    <a:cubicBezTo>
                      <a:pt x="103" y="381"/>
                      <a:pt x="94" y="375"/>
                      <a:pt x="85" y="371"/>
                    </a:cubicBezTo>
                    <a:cubicBezTo>
                      <a:pt x="69" y="363"/>
                      <a:pt x="37" y="350"/>
                      <a:pt x="37" y="350"/>
                    </a:cubicBezTo>
                    <a:cubicBezTo>
                      <a:pt x="21" y="321"/>
                      <a:pt x="8" y="291"/>
                      <a:pt x="0" y="260"/>
                    </a:cubicBezTo>
                    <a:cubicBezTo>
                      <a:pt x="1" y="252"/>
                      <a:pt x="4" y="219"/>
                      <a:pt x="11" y="207"/>
                    </a:cubicBezTo>
                    <a:cubicBezTo>
                      <a:pt x="52" y="123"/>
                      <a:pt x="148" y="119"/>
                      <a:pt x="223" y="85"/>
                    </a:cubicBezTo>
                    <a:cubicBezTo>
                      <a:pt x="266" y="64"/>
                      <a:pt x="292" y="50"/>
                      <a:pt x="339" y="43"/>
                    </a:cubicBezTo>
                    <a:cubicBezTo>
                      <a:pt x="359" y="35"/>
                      <a:pt x="360" y="37"/>
                      <a:pt x="339" y="37"/>
                    </a:cubicBezTo>
                    <a:close/>
                  </a:path>
                </a:pathLst>
              </a:custGeom>
              <a:solidFill>
                <a:srgbClr val="99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9"/>
              <p:cNvSpPr/>
              <p:nvPr/>
            </p:nvSpPr>
            <p:spPr>
              <a:xfrm>
                <a:off x="910080" y="4608360"/>
                <a:ext cx="1764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uddle of C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Text Box 10"/>
            <p:cNvSpPr/>
            <p:nvPr/>
          </p:nvSpPr>
          <p:spPr>
            <a:xfrm>
              <a:off x="1221120" y="518148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.115 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Text Box 11"/>
          <p:cNvSpPr/>
          <p:nvPr/>
        </p:nvSpPr>
        <p:spPr>
          <a:xfrm>
            <a:off x="4876920" y="380988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5200"/>
                </a:solidFill>
                <a:latin typeface="Arial"/>
              </a:rPr>
              <a:t>0.379 g CO</a:t>
            </a:r>
            <a:r>
              <a:rPr b="1" lang="en-US" sz="2800" spc="-1" strike="noStrike" baseline="-25000">
                <a:solidFill>
                  <a:srgbClr val="0552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12"/>
          <p:cNvGrpSpPr/>
          <p:nvPr/>
        </p:nvGrpSpPr>
        <p:grpSpPr>
          <a:xfrm>
            <a:off x="3124080" y="3962520"/>
            <a:ext cx="2286000" cy="1624680"/>
            <a:chOff x="3124080" y="3962520"/>
            <a:chExt cx="2286000" cy="1624680"/>
          </a:xfrm>
        </p:grpSpPr>
        <p:sp>
          <p:nvSpPr>
            <p:cNvPr id="295" name="Line 13"/>
            <p:cNvSpPr/>
            <p:nvPr/>
          </p:nvSpPr>
          <p:spPr>
            <a:xfrm flipV="1">
              <a:off x="3124080" y="4038480"/>
              <a:ext cx="17528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4"/>
            <p:cNvSpPr/>
            <p:nvPr/>
          </p:nvSpPr>
          <p:spPr>
            <a:xfrm>
              <a:off x="3429000" y="5105520"/>
              <a:ext cx="19810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511800" y="396252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16"/>
            <p:cNvSpPr/>
            <p:nvPr/>
          </p:nvSpPr>
          <p:spPr>
            <a:xfrm>
              <a:off x="3998880" y="518148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Text Box 17"/>
          <p:cNvSpPr/>
          <p:nvPr/>
        </p:nvSpPr>
        <p:spPr>
          <a:xfrm>
            <a:off x="5486400" y="519588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.1035 g H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8"/>
          <p:cNvSpPr/>
          <p:nvPr/>
        </p:nvSpPr>
        <p:spPr>
          <a:xfrm>
            <a:off x="4800600" y="5775480"/>
            <a:ext cx="374976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molecule forms for each 2 H atoms in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9"/>
          <p:cNvSpPr/>
          <p:nvPr/>
        </p:nvSpPr>
        <p:spPr>
          <a:xfrm>
            <a:off x="4800600" y="4403880"/>
            <a:ext cx="3749760" cy="7873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 forms for each C atom in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218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cause the same atoms are present in a reaction at the beginning and at the end, the amount of matter in a system does not chan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Law of the Conservation of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876920" y="46944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mo of conservation of matter, See Screen 4.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5"/>
          <p:cNvGraphicFramePr/>
          <p:nvPr/>
        </p:nvGraphicFramePr>
        <p:xfrm>
          <a:off x="4800600" y="1676520"/>
          <a:ext cx="3657600" cy="28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676520"/>
                    <a:ext cx="365760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, recognize that all C in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all H in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is from 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Calculate amount of C in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8.61 x 10</a:t>
            </a:r>
            <a:r>
              <a:rPr b="0" lang="en-US" sz="3600" spc="-1" strike="noStrike" baseline="30000">
                <a:solidFill>
                  <a:srgbClr val="055200"/>
                </a:solidFill>
                <a:latin typeface="Times New Roman"/>
              </a:rPr>
              <a:t>-3 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mol CO</a:t>
            </a:r>
            <a:r>
              <a:rPr b="0" lang="en-US" sz="3600" spc="-1" strike="noStrike" baseline="-25000">
                <a:solidFill>
                  <a:srgbClr val="0552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 --&gt; 8.61 x 10</a:t>
            </a:r>
            <a:r>
              <a:rPr b="0" lang="en-US" sz="3600" spc="-1" strike="noStrike" baseline="30000">
                <a:solidFill>
                  <a:srgbClr val="055200"/>
                </a:solidFill>
                <a:latin typeface="Times New Roman"/>
              </a:rPr>
              <a:t>-3 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mol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Calculate amount of H in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5.744 x 10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-3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mol H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O -- &gt;1.149 x 10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-2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mol 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1433520" y="1590840"/>
            <a:ext cx="6489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some oxygen ---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79 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0.1035 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find ratio of mol H/mol C to find values of “x” and “y” in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.149 x 10 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</a:rPr>
              <a:t>-2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ol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8.61 x 10</a:t>
            </a:r>
            <a:r>
              <a:rPr b="0" lang="en-US" sz="3200" spc="-1" strike="noStrike" baseline="30000">
                <a:solidFill>
                  <a:srgbClr val="055200"/>
                </a:solidFill>
                <a:latin typeface="Times New Roman"/>
              </a:rPr>
              <a:t>-3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mol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.33 mol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1.00 mol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4 mol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3 mol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Empirical formula = C</a:t>
            </a:r>
            <a:r>
              <a:rPr b="0" lang="en-US" sz="32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c0128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1433520" y="1590840"/>
            <a:ext cx="6489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some oxygen ---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79 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0.1035 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cause of the principle of the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conservation of matt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ation must be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balanced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must have the sa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atoms of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e kind on both sides.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90720" y="30492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6032520" y="1714680"/>
            <a:ext cx="2705040" cy="4281840"/>
            <a:chOff x="6032520" y="1714680"/>
            <a:chExt cx="2705040" cy="4281840"/>
          </a:xfrm>
        </p:grpSpPr>
        <p:sp>
          <p:nvSpPr>
            <p:cNvPr id="62" name="Rectangle 5"/>
            <p:cNvSpPr/>
            <p:nvPr/>
          </p:nvSpPr>
          <p:spPr>
            <a:xfrm>
              <a:off x="6227640" y="5541840"/>
              <a:ext cx="2367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avoisier, 178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Picture 6" descr=""/>
            <p:cNvPicPr/>
            <p:nvPr/>
          </p:nvPicPr>
          <p:blipFill>
            <a:blip r:embed="rId1"/>
            <a:stretch/>
          </p:blipFill>
          <p:spPr>
            <a:xfrm>
              <a:off x="6032520" y="1714680"/>
              <a:ext cx="2705040" cy="3606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</p:pic>
      </p:grpSp>
      <p:sp>
        <p:nvSpPr>
          <p:cNvPr id="64" name="Line 7"/>
          <p:cNvSpPr/>
          <p:nvPr/>
        </p:nvSpPr>
        <p:spPr>
          <a:xfrm>
            <a:off x="1015920" y="1295280"/>
            <a:ext cx="673092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19720" y="761760"/>
            <a:ext cx="3581280" cy="1447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218"/>
                </a:solidFill>
                <a:latin typeface="Comic Sans MS"/>
              </a:rPr>
              <a:t>Balancing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304776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 Al(s)  +  ___ 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liq) ---&gt; ___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47640" y="3633840"/>
            <a:ext cx="7658280" cy="290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5"/>
          <p:cNvGraphicFramePr/>
          <p:nvPr/>
        </p:nvGraphicFramePr>
        <p:xfrm>
          <a:off x="914400" y="304920"/>
          <a:ext cx="3048120" cy="252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04920"/>
                    <a:ext cx="304812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24280" y="761760"/>
            <a:ext cx="37339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Comic Sans MS"/>
              </a:rPr>
              <a:t>Balancing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66652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g)   +   _____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g)   ----&gt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g)   +   _____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(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09480" y="4584600"/>
            <a:ext cx="792504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____B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g)   +   _____  O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g)   ----&gt;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___  B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g)   +   _____ H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O(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5"/>
          <p:cNvGraphicFramePr/>
          <p:nvPr/>
        </p:nvGraphicFramePr>
        <p:xfrm>
          <a:off x="762120" y="380880"/>
          <a:ext cx="365760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80880"/>
                    <a:ext cx="365760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7518"/>
                </a:solidFill>
                <a:latin typeface="Comic Sans MS"/>
              </a:rPr>
              <a:t>STOICHIOMET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365904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the study of the quantitative aspects of chemical reac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4191120" y="1562040"/>
            <a:ext cx="4546440" cy="49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16292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7518"/>
                </a:solidFill>
                <a:latin typeface="Comic Sans MS"/>
              </a:rPr>
              <a:t>STOICHIOMET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rests on the principle of the 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conservation of m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523880" y="56386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Al(s)  +   3 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liq)  ------&gt;  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723960" y="2338560"/>
            <a:ext cx="7657920" cy="290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1T16:33:21Z</dcterms:created>
  <dc:creator>J. Kotz</dc:creator>
  <dc:description/>
  <cp:keywords/>
  <dc:language>en-US</dc:language>
  <cp:lastModifiedBy>LEGION</cp:lastModifiedBy>
  <cp:lastPrinted>2002-08-08T15:40:28Z</cp:lastPrinted>
  <dcterms:modified xsi:type="dcterms:W3CDTF">2017-01-26T09:39:28Z</dcterms:modified>
  <cp:revision>56</cp:revision>
  <dc:subject/>
  <dc:title>CHEMICAL REACTIONS Chapter 4</dc:title>
</cp:coreProperties>
</file>