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C799-5260-4C1D-BF7F-67130193DB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52E6-C331-4A5A-8A6C-D431E830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4392-8409-4BE5-AD30-D14D39E6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9D75-354E-400B-89E7-81EDE6CA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0476-C4AD-4C5E-BEF9-F607FD17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676D-3CED-43D4-AD8C-65B8496F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22B3-0D7D-4148-95EC-0D486D53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AAA9-AD60-4F95-8EE0-CA22E409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C5E2-B4A4-4AAC-AC8D-0AE5E2ED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A5FD-22A0-48E9-BDCF-B5057EF3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ACF4-AEF6-435B-B090-D4F700E7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857A-6D2B-4002-AA10-A0BD02FC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ED75-CA52-422B-84C8-61B00D81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FA1C-621E-4B0E-9619-BFEA1340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9B70-EFEA-4146-9CC7-09AAC01C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0C78-9523-4C2D-ABCD-B5248AE9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37C5-124D-462D-B2E5-0496E3FA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4DDE-12CE-456C-9FBC-314F05D3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41CC-159C-4716-B3F0-0D76C028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6484-0FA3-4A8E-995E-694922F3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05A1-FDA0-4C0C-BF4E-696EF195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FEBE-3DE0-4506-AEB8-01082184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2B4D-53C8-41AA-A29F-47DF8A76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8CAC-2FF1-4A60-A7FA-733DADAF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03E7-2434-4C45-92F2-59907177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B039-D7A0-4F95-8757-E64E83CCD3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37B2-989B-414B-A2BD-A6C0DDF04B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C1a Rocks and Met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2 Extracting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utco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y can some metals be extracted using carbon when some can’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do we use to extract i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ow does a blast furnace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chemical reactions take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Extraction of Ir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69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ShockwaveFlash1"/>
          <p:cNvGraphicFramePr/>
          <p:nvPr/>
        </p:nvGraphicFramePr>
        <p:xfrm>
          <a:off x="762120" y="1066680"/>
          <a:ext cx="762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21560" cy="5105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derstand which metals can be extracted using carb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 able to describe how a blast furnace 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 you understan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35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       2       3       4       5       6       7       8       9      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100000">
                          <a:srgbClr val="0099cc"/>
                        </a:gs>
                      </a:gsLst>
                      <a:lin ang="0"/>
                    </a:gra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know nothing                                            I am an exp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would you rate yourself when thinking about extraction of metal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2843280" y="3357720"/>
            <a:ext cx="3600360" cy="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611360" y="863640"/>
            <a:ext cx="2179440" cy="5416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52680" y="3486240"/>
            <a:ext cx="5610240" cy="404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280" y="907920"/>
            <a:ext cx="21765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e Reacti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20800" y="16430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35200" y="20318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78760" y="2355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63640" y="270828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120" y="3078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umi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53360" y="3927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39320" y="4270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863720" y="4979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83960" y="571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60480" y="347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carbo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6"/>
          <p:cNvSpPr/>
          <p:nvPr/>
        </p:nvSpPr>
        <p:spPr>
          <a:xfrm flipV="1">
            <a:off x="746280" y="1788480"/>
            <a:ext cx="691920" cy="4446360"/>
          </a:xfrm>
          <a:prstGeom prst="downArrow">
            <a:avLst>
              <a:gd name="adj1" fmla="val 71565"/>
              <a:gd name="adj2" fmla="val 160653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3962520" y="1279440"/>
            <a:ext cx="669960" cy="2121120"/>
          </a:xfrm>
          <a:custGeom>
            <a:avLst/>
            <a:gdLst>
              <a:gd name="textAreaLeft" fmla="*/ 0 w 669960"/>
              <a:gd name="textAreaRight" fmla="*/ 241920 w 669960"/>
              <a:gd name="textAreaTop" fmla="*/ 55080 h 2121120"/>
              <a:gd name="textAreaBottom" fmla="*/ 2066040 h 21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005360" y="4057560"/>
            <a:ext cx="669960" cy="1195560"/>
          </a:xfrm>
          <a:custGeom>
            <a:avLst/>
            <a:gdLst>
              <a:gd name="textAreaLeft" fmla="*/ 0 w 669960"/>
              <a:gd name="textAreaRight" fmla="*/ 241920 w 669960"/>
              <a:gd name="textAreaTop" fmla="*/ 30960 h 1195560"/>
              <a:gd name="textAreaBottom" fmla="*/ 116460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32480" y="2216160"/>
            <a:ext cx="29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79800" y="4087800"/>
            <a:ext cx="37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948120" y="5567400"/>
            <a:ext cx="669960" cy="504720"/>
          </a:xfrm>
          <a:custGeom>
            <a:avLst/>
            <a:gdLst>
              <a:gd name="textAreaLeft" fmla="*/ 0 w 669960"/>
              <a:gd name="textAreaRight" fmla="*/ 241920 w 6699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790880" y="544356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82520" y="67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719600" y="685800"/>
            <a:ext cx="339588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933560" y="4641840"/>
            <a:ext cx="7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943640" y="53769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l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ron 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–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most common metal in the Earth’s c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und as haemat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ron (III) oxide (F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n be obtained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07280"/>
            <a:ext cx="752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0" y="0"/>
          <a:ext cx="9144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65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duction of iron 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6320" y="4575240"/>
            <a:ext cx="7893000" cy="56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68560" y="3044880"/>
            <a:ext cx="6580080" cy="598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54160" y="1601640"/>
            <a:ext cx="6594480" cy="6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44640" y="160668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+ oxyge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24080" y="311616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dioxide + carbo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mon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88760" y="458316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monoxide + iron oxide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ron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211640" y="2349360"/>
            <a:ext cx="431640" cy="574920"/>
          </a:xfrm>
          <a:prstGeom prst="downArrow">
            <a:avLst>
              <a:gd name="adj1" fmla="val 50000"/>
              <a:gd name="adj2" fmla="val 332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211640" y="3789360"/>
            <a:ext cx="431640" cy="574560"/>
          </a:xfrm>
          <a:prstGeom prst="downArrow">
            <a:avLst>
              <a:gd name="adj1" fmla="val 50000"/>
              <a:gd name="adj2" fmla="val 332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moving impur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0640" y="1890720"/>
            <a:ext cx="7935840" cy="68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49440" y="3809880"/>
            <a:ext cx="7921440" cy="690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86960" y="1982880"/>
            <a:ext cx="7319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carbonat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oxide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1440" y="3902040"/>
            <a:ext cx="6892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oxide + silicon dioxid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silic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51920" y="5429160"/>
            <a:ext cx="28371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5214960" y="4571640"/>
            <a:ext cx="620640" cy="67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y of the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is not found naturally, but in Iron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e can extract iron form iron ore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sing chemistry we can produce pure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mestone (Ca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) is used to remove impu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ke/Carbon gives us the high temperature we need for the reactions to take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45:16Z</dcterms:created>
  <dc:creator>St Lukes Science and Sports College</dc:creator>
  <dc:description/>
  <dc:language>en-US</dc:language>
  <cp:lastModifiedBy>LEGION</cp:lastModifiedBy>
  <dcterms:modified xsi:type="dcterms:W3CDTF">2017-01-26T09:39:45Z</dcterms:modified>
  <cp:revision>6</cp:revision>
  <dc:subject/>
  <dc:title>C1a Rocks and Metals</dc:title>
</cp:coreProperties>
</file>