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1AC6-03E1-4BB7-B1D3-B89F964EEE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gust 27th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hr Diagrams of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sson 3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ugust 27th, 20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ions of the first 20 ions of 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aw the ions of the first 20 ions of the periodic t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sitive and Negative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ngement of outer shell electrons of metals and 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rangement of outer shell electrons of metals and 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have 1, 2, or 3 electrons in the outer orbits (shel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etal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nd to have 1, 2, or 3 electrons in the outer orbits (shell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etal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dium: Na   Na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Metal 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Sodium: Na   Na+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 to form negative ions (ani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 to form negative ions (ani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: F  F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luorine : F  F-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 10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 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346-4D72-49D7-B13A-975398CD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2D1-6907-4AAA-885F-348F2071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9CF-32A4-4D58-BC93-615A4CF6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D4D-E6D6-4E8D-89F9-7754FC1A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3C4D-37D4-45E1-BC40-59A153CD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16D6-EDF5-4F05-BA66-8A81BA3A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6E3D-28E5-48F7-9FDF-B462630C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DEAE-3FD0-4158-92BF-95F4196F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4107-E2BC-4321-BE86-4863729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26C3-8A21-473D-8D1A-EEE2E676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D75C-AB82-4F24-8D38-3688700F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466-7F50-4A2E-B3B3-93AB63D1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A573-D2C3-411E-AF68-28176160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86C1-DCA5-4812-A8E6-2A7C3B1D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82CA-4AEB-47EF-8C95-1983849C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D0F7-6989-4023-96C6-DE6E62F3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3074-A45F-467F-AEBD-8C39B236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E40-9334-4B07-B207-0CF7908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3E2-6CF1-445D-9771-E7EF901E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685-FD55-4570-9085-F00F4325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0D5-3A7C-4B56-8131-C09C6E21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C20-2B27-4E03-B2E7-8888713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7B6-5E56-444D-BF6F-50D6EE46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579-66C9-447C-A57D-24C47B6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2DFD-700E-48FD-A1A9-CEFCD3A13D3E}" type="datetime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B96B-6019-40B8-8790-01B2DB14991B}" type="slidenum"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065B-5A63-4D89-B562-030268627E33}" type="datetime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B0B1-01DA-45B4-9EDF-492A8A4DCA8E}" type="slidenum"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Bohr Diagrams of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Lesson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August 27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raw the ions of the first 20 ions of the periodic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ositive and Negative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85960"/>
            <a:ext cx="79581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Noble gase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o not form compounds because they have 8 electrons in their outer orbit (shell). This electron arrangement makes them very stable and so they do not reac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428920" y="3929040"/>
            <a:ext cx="3785400" cy="2785680"/>
            <a:chOff x="2428920" y="3929040"/>
            <a:chExt cx="3785400" cy="2785680"/>
          </a:xfrm>
        </p:grpSpPr>
        <p:sp>
          <p:nvSpPr>
            <p:cNvPr id="137" name="Oval 4"/>
            <p:cNvSpPr/>
            <p:nvPr/>
          </p:nvSpPr>
          <p:spPr>
            <a:xfrm>
              <a:off x="2570040" y="4064040"/>
              <a:ext cx="3460680" cy="254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2916000" y="4543560"/>
              <a:ext cx="2747520" cy="166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3525840" y="4872600"/>
              <a:ext cx="1506960" cy="9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3786120" y="4940640"/>
              <a:ext cx="1017360" cy="72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0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075560" y="601272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370800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444276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5847120" y="50677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5847120" y="5500800"/>
              <a:ext cx="36720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2428920" y="4992480"/>
              <a:ext cx="36684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428920" y="550080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3873960" y="642996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4524120" y="642996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4156560" y="44755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When elements form compounds, changes occur in the arrangement of electrons in the outer orbit. – Electrons are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gained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los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so that element can have a stable electron arrangement of the closest noble gas. (In other words it will completely fill their outer shell with electrons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In order for a compound to be stable, it must have a completely filled outer electron shell– aka (stable octet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aeaea"/>
                </a:solidFill>
                <a:latin typeface="Times New Roman"/>
              </a:rPr>
              <a:t>Arrangement of outer shell electrons of metals and non-met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end to have 1, 2, or 3 electrons in the outer orbits (sh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 when they combine with other elements to form positive ions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cation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: note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in the word think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, thus they have the same electron arrangement as the Noble gas a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row above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Metal 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Sodium: Na 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Na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85840" y="3857760"/>
            <a:ext cx="2928960" cy="2357280"/>
            <a:chOff x="285840" y="3857760"/>
            <a:chExt cx="2928960" cy="2357280"/>
          </a:xfrm>
        </p:grpSpPr>
        <p:sp>
          <p:nvSpPr>
            <p:cNvPr id="167" name="Oval 3"/>
            <p:cNvSpPr/>
            <p:nvPr/>
          </p:nvSpPr>
          <p:spPr>
            <a:xfrm>
              <a:off x="285840" y="3857760"/>
              <a:ext cx="2928960" cy="235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511560" y="4096800"/>
              <a:ext cx="2405520" cy="193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752400" y="4461480"/>
              <a:ext cx="1909800" cy="126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1176120" y="4710960"/>
              <a:ext cx="10472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18040" y="4858920"/>
              <a:ext cx="70704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1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1557000" y="436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1557000" y="5576760"/>
              <a:ext cx="25524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1303920" y="3994200"/>
              <a:ext cx="25416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1812600" y="399420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2788920" y="4858920"/>
              <a:ext cx="254880" cy="215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278892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12200" y="480276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41220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Oval 16"/>
            <p:cNvSpPr/>
            <p:nvPr/>
          </p:nvSpPr>
          <p:spPr>
            <a:xfrm>
              <a:off x="1418040" y="58960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Oval 17"/>
            <p:cNvSpPr/>
            <p:nvPr/>
          </p:nvSpPr>
          <p:spPr>
            <a:xfrm>
              <a:off x="1869840" y="589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Oval 18"/>
            <p:cNvSpPr/>
            <p:nvPr/>
          </p:nvSpPr>
          <p:spPr>
            <a:xfrm>
              <a:off x="2662200" y="40978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cxnSp>
        <p:nvCxnSpPr>
          <p:cNvPr id="183" name="AutoShape 19"/>
          <p:cNvCxnSpPr/>
          <p:nvPr/>
        </p:nvCxnSpPr>
        <p:spPr>
          <a:xfrm flipV="1">
            <a:off x="2928600" y="3642840"/>
            <a:ext cx="107244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Oval 20"/>
          <p:cNvSpPr/>
          <p:nvPr/>
        </p:nvSpPr>
        <p:spPr>
          <a:xfrm>
            <a:off x="4071960" y="3500280"/>
            <a:ext cx="144360" cy="150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5500800" y="3857760"/>
            <a:ext cx="2642760" cy="2356920"/>
            <a:chOff x="5500800" y="3857760"/>
            <a:chExt cx="2642760" cy="2356920"/>
          </a:xfrm>
        </p:grpSpPr>
        <p:sp>
          <p:nvSpPr>
            <p:cNvPr id="186" name="Oval 36"/>
            <p:cNvSpPr/>
            <p:nvPr/>
          </p:nvSpPr>
          <p:spPr>
            <a:xfrm>
              <a:off x="5599440" y="3971880"/>
              <a:ext cx="2415960" cy="21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5841000" y="4377600"/>
              <a:ext cx="1917720" cy="140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6266880" y="4656240"/>
              <a:ext cx="1051920" cy="77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Oval 40"/>
            <p:cNvSpPr/>
            <p:nvPr/>
          </p:nvSpPr>
          <p:spPr>
            <a:xfrm>
              <a:off x="6650280" y="5621040"/>
              <a:ext cx="257400" cy="239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Oval 41"/>
            <p:cNvSpPr/>
            <p:nvPr/>
          </p:nvSpPr>
          <p:spPr>
            <a:xfrm>
              <a:off x="639504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Oval 42"/>
            <p:cNvSpPr/>
            <p:nvPr/>
          </p:nvSpPr>
          <p:spPr>
            <a:xfrm>
              <a:off x="690660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Oval 43"/>
            <p:cNvSpPr/>
            <p:nvPr/>
          </p:nvSpPr>
          <p:spPr>
            <a:xfrm>
              <a:off x="7886160" y="4821120"/>
              <a:ext cx="25740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Oval 44"/>
            <p:cNvSpPr/>
            <p:nvPr/>
          </p:nvSpPr>
          <p:spPr>
            <a:xfrm>
              <a:off x="788616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Oval 45"/>
            <p:cNvSpPr/>
            <p:nvPr/>
          </p:nvSpPr>
          <p:spPr>
            <a:xfrm>
              <a:off x="5500800" y="47574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Oval 46"/>
            <p:cNvSpPr/>
            <p:nvPr/>
          </p:nvSpPr>
          <p:spPr>
            <a:xfrm>
              <a:off x="550080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Oval 47"/>
            <p:cNvSpPr/>
            <p:nvPr/>
          </p:nvSpPr>
          <p:spPr>
            <a:xfrm>
              <a:off x="651060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Oval 48"/>
            <p:cNvSpPr/>
            <p:nvPr/>
          </p:nvSpPr>
          <p:spPr>
            <a:xfrm>
              <a:off x="696456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Oval 49"/>
            <p:cNvSpPr/>
            <p:nvPr/>
          </p:nvSpPr>
          <p:spPr>
            <a:xfrm>
              <a:off x="6707160" y="43182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" name="Straight Connector 53"/>
          <p:cNvSpPr/>
          <p:nvPr/>
        </p:nvSpPr>
        <p:spPr>
          <a:xfrm flipH="1">
            <a:off x="500076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Straight Connector 55"/>
          <p:cNvSpPr/>
          <p:nvPr/>
        </p:nvSpPr>
        <p:spPr>
          <a:xfrm>
            <a:off x="500076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Straight Connector 57"/>
          <p:cNvSpPr/>
          <p:nvPr/>
        </p:nvSpPr>
        <p:spPr>
          <a:xfrm>
            <a:off x="507204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828684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Straight Connector 59"/>
          <p:cNvSpPr/>
          <p:nvPr/>
        </p:nvSpPr>
        <p:spPr>
          <a:xfrm flipH="1">
            <a:off x="764388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64388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Straight Connector 61"/>
          <p:cNvSpPr/>
          <p:nvPr/>
        </p:nvSpPr>
        <p:spPr>
          <a:xfrm flipH="1">
            <a:off x="8501040" y="3714840"/>
            <a:ext cx="35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Straight Connector 63"/>
          <p:cNvSpPr/>
          <p:nvPr/>
        </p:nvSpPr>
        <p:spPr>
          <a:xfrm>
            <a:off x="8643960" y="3571920"/>
            <a:ext cx="0" cy="285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7" name="AutoShape 19"/>
          <p:cNvCxnSpPr/>
          <p:nvPr/>
        </p:nvCxnSpPr>
        <p:spPr>
          <a:xfrm flipV="1">
            <a:off x="3428640" y="5071320"/>
            <a:ext cx="121500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8" name="Text Box 7"/>
          <p:cNvSpPr/>
          <p:nvPr/>
        </p:nvSpPr>
        <p:spPr>
          <a:xfrm>
            <a:off x="6372360" y="4869000"/>
            <a:ext cx="707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eaeaea"/>
                </a:solidFill>
                <a:latin typeface="Times New Roman"/>
              </a:rPr>
              <a:t>Non-metals –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Tend to have 4, 5, 6, or 7 electrons in their outer orbits (shells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 to form negative ions 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anions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, thus they have the same electron arrangement as the Noble gas in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same row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Fluorine : F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F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428760" y="3571920"/>
            <a:ext cx="2408040" cy="2415600"/>
            <a:chOff x="428760" y="3571920"/>
            <a:chExt cx="2408040" cy="2415600"/>
          </a:xfrm>
        </p:grpSpPr>
        <p:sp>
          <p:nvSpPr>
            <p:cNvPr id="216" name="Oval 3"/>
            <p:cNvSpPr/>
            <p:nvPr/>
          </p:nvSpPr>
          <p:spPr>
            <a:xfrm>
              <a:off x="506880" y="3805920"/>
              <a:ext cx="1921680" cy="209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Oval 4"/>
            <p:cNvSpPr/>
            <p:nvPr/>
          </p:nvSpPr>
          <p:spPr>
            <a:xfrm>
              <a:off x="699480" y="4200840"/>
              <a:ext cx="1525320" cy="13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1037880" y="4471560"/>
              <a:ext cx="83664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0840" y="4632120"/>
              <a:ext cx="56484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10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 10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1342800" y="541008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1137960" y="369576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631960" y="357192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2326680" y="463212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2326680" y="498744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428760" y="45698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28760" y="4987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Oval 14"/>
            <p:cNvSpPr/>
            <p:nvPr/>
          </p:nvSpPr>
          <p:spPr>
            <a:xfrm>
              <a:off x="1230120" y="5752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1545840" y="575244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29" name="AutoShape 16"/>
            <p:cNvCxnSpPr/>
            <p:nvPr/>
          </p:nvCxnSpPr>
          <p:spPr>
            <a:xfrm flipH="1">
              <a:off x="1625400" y="3805560"/>
              <a:ext cx="1006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30" name="AutoShape 16"/>
          <p:cNvCxnSpPr/>
          <p:nvPr/>
        </p:nvCxnSpPr>
        <p:spPr>
          <a:xfrm>
            <a:off x="2714760" y="4642920"/>
            <a:ext cx="10720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Group 17"/>
          <p:cNvGrpSpPr/>
          <p:nvPr/>
        </p:nvGrpSpPr>
        <p:grpSpPr>
          <a:xfrm>
            <a:off x="4357440" y="3642840"/>
            <a:ext cx="3944880" cy="2653560"/>
            <a:chOff x="4357440" y="3642840"/>
            <a:chExt cx="3944880" cy="2653560"/>
          </a:xfrm>
        </p:grpSpPr>
        <p:sp>
          <p:nvSpPr>
            <p:cNvPr id="232" name="Oval 18"/>
            <p:cNvSpPr/>
            <p:nvPr/>
          </p:nvSpPr>
          <p:spPr>
            <a:xfrm>
              <a:off x="4871880" y="3763440"/>
              <a:ext cx="2060640" cy="22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Oval 19"/>
            <p:cNvSpPr/>
            <p:nvPr/>
          </p:nvSpPr>
          <p:spPr>
            <a:xfrm>
              <a:off x="5077800" y="4190760"/>
              <a:ext cx="1635840" cy="147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Oval 20"/>
            <p:cNvSpPr/>
            <p:nvPr/>
          </p:nvSpPr>
          <p:spPr>
            <a:xfrm>
              <a:off x="5440680" y="4483440"/>
              <a:ext cx="897120" cy="81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5769000" y="5499000"/>
              <a:ext cx="21780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Oval 23"/>
            <p:cNvSpPr/>
            <p:nvPr/>
          </p:nvSpPr>
          <p:spPr>
            <a:xfrm>
              <a:off x="55504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59860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6823440" y="465732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8234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Oval 27"/>
            <p:cNvSpPr/>
            <p:nvPr/>
          </p:nvSpPr>
          <p:spPr>
            <a:xfrm>
              <a:off x="4787640" y="459144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47876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Oval 29"/>
            <p:cNvSpPr/>
            <p:nvPr/>
          </p:nvSpPr>
          <p:spPr>
            <a:xfrm>
              <a:off x="564804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603540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5816520" y="412668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45" name="AutoShape 32"/>
            <p:cNvCxnSpPr/>
            <p:nvPr/>
          </p:nvCxnSpPr>
          <p:spPr>
            <a:xfrm flipH="1">
              <a:off x="4357440" y="3642840"/>
              <a:ext cx="720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AutoShape 33"/>
            <p:cNvCxnSpPr/>
            <p:nvPr/>
          </p:nvCxnSpPr>
          <p:spPr>
            <a:xfrm>
              <a:off x="4357440" y="3643200"/>
              <a:ext cx="1080" cy="2652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7" name="AutoShape 34"/>
            <p:cNvCxnSpPr/>
            <p:nvPr/>
          </p:nvCxnSpPr>
          <p:spPr>
            <a:xfrm>
              <a:off x="4357440" y="6295680"/>
              <a:ext cx="88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8" name="AutoShape 35"/>
            <p:cNvCxnSpPr/>
            <p:nvPr/>
          </p:nvCxnSpPr>
          <p:spPr>
            <a:xfrm>
              <a:off x="6932880" y="3642840"/>
              <a:ext cx="712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9" name="AutoShape 36"/>
            <p:cNvCxnSpPr/>
            <p:nvPr/>
          </p:nvCxnSpPr>
          <p:spPr>
            <a:xfrm>
              <a:off x="7644600" y="3643200"/>
              <a:ext cx="1080" cy="256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0" name="AutoShape 37"/>
            <p:cNvCxnSpPr/>
            <p:nvPr/>
          </p:nvCxnSpPr>
          <p:spPr>
            <a:xfrm flipH="1">
              <a:off x="7041240" y="6203160"/>
              <a:ext cx="603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1" name="AutoShape 38"/>
            <p:cNvCxnSpPr/>
            <p:nvPr/>
          </p:nvCxnSpPr>
          <p:spPr>
            <a:xfrm flipH="1">
              <a:off x="7877160" y="4068360"/>
              <a:ext cx="42552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52" name="Text Box 6"/>
          <p:cNvSpPr/>
          <p:nvPr/>
        </p:nvSpPr>
        <p:spPr>
          <a:xfrm>
            <a:off x="5651640" y="4653000"/>
            <a:ext cx="5648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N 10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P 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15:11Z</dcterms:created>
  <dc:creator>David Wesley Hoover</dc:creator>
  <dc:description/>
  <dc:language>en-US</dc:language>
  <cp:lastModifiedBy>LEGION</cp:lastModifiedBy>
  <dcterms:modified xsi:type="dcterms:W3CDTF">2017-01-26T09:19:11Z</dcterms:modified>
  <cp:revision>21</cp:revision>
  <dc:subject/>
  <dc:title>Bohr Diagrams of Ions</dc:title>
</cp:coreProperties>
</file>