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I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15543-48D4-4FF1-B596-E4A008AFAB54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3C2-D648-4591-B976-6A45A3F3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354-C441-4CDE-9938-B6087DC8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97D-3C6B-49C6-89BE-B2251E47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9F8-F565-49D8-9688-41A22A53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EE0-DD6C-460D-A80B-4474C26F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835-FFD6-4527-A2A1-FE57C6D3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1DF-F45C-4FE4-A4E7-A03BA76F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E11-C7BB-4168-9498-F9F047E4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63C-962C-41BD-9740-0EDA7E8B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C5E-C8ED-427F-855A-8F70B0F8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651-AB51-4FCC-8CF9-768059D4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177-3285-4813-A458-7DE02998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CCC5-DEF7-453D-9172-2A599B7D0743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D489-ABC0-4DEE-BAA1-718C1B0C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 Rounded MT Bold"/>
              </a:rPr>
              <a:t>Balancing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765000"/>
            <a:ext cx="83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6000" y="158760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836720" y="2421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29304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343368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276720" y="343368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086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624204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Defin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IL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xida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(in terms of electon transfer) as th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loss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rom a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educ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as th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gain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y a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oxidis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electron accept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reduc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reduc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electron don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oxidis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Identify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" y="475920"/>
            <a:ext cx="173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68360" y="69228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3280" y="112536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71640" y="1550880"/>
            <a:ext cx="705636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 and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reactant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neutr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lcium oxid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product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ionic comp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92360" y="278460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132000" y="3218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05080" y="3649680"/>
            <a:ext cx="23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98560" y="414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, calcium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lose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87280" y="4581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reduc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356000" y="4586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187280" y="537840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gain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rom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187280" y="581040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oxidi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calcium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81040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acts as an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5002920" y="321696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3634560" y="364392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-36360" y="450864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-36360" y="5589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3492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268360" y="981000"/>
            <a:ext cx="403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549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219564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262728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 flipV="1">
            <a:off x="378000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 flipH="1" flipV="1">
            <a:off x="3995640" y="25603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500364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 flipV="1">
            <a:off x="5580000" y="25603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 flipV="1">
            <a:off x="6013440" y="25603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17636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268360" y="291924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421080" y="2919240"/>
            <a:ext cx="5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5640" y="29192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861080" y="291924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2214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6012000" y="29192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4068720" y="429732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in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067280" y="487368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33800" y="56610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8720" y="62420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108000" y="1557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413080" y="2060640"/>
            <a:ext cx="40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-179280" y="35784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7"/>
          <p:cNvGrpSpPr/>
          <p:nvPr/>
        </p:nvGrpSpPr>
        <p:grpSpPr>
          <a:xfrm>
            <a:off x="427680" y="4369320"/>
            <a:ext cx="2830680" cy="429120"/>
            <a:chOff x="427680" y="4369320"/>
            <a:chExt cx="2830680" cy="429120"/>
          </a:xfrm>
        </p:grpSpPr>
        <p:sp>
          <p:nvSpPr>
            <p:cNvPr id="223" name="Rectangle 42"/>
            <p:cNvSpPr/>
            <p:nvPr/>
          </p:nvSpPr>
          <p:spPr>
            <a:xfrm>
              <a:off x="427680" y="436932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>
              <a:off x="2014560" y="458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6"/>
          <p:cNvGrpSpPr/>
          <p:nvPr/>
        </p:nvGrpSpPr>
        <p:grpSpPr>
          <a:xfrm>
            <a:off x="444240" y="5664600"/>
            <a:ext cx="2655720" cy="429120"/>
            <a:chOff x="444240" y="5664600"/>
            <a:chExt cx="2655720" cy="429120"/>
          </a:xfrm>
        </p:grpSpPr>
        <p:sp>
          <p:nvSpPr>
            <p:cNvPr id="226" name="Rectangle 43"/>
            <p:cNvSpPr/>
            <p:nvPr/>
          </p:nvSpPr>
          <p:spPr>
            <a:xfrm>
              <a:off x="444240" y="5664600"/>
              <a:ext cx="265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  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4  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1170000" y="5876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8"/>
          <p:cNvSpPr/>
          <p:nvPr/>
        </p:nvSpPr>
        <p:spPr>
          <a:xfrm>
            <a:off x="4067280" y="350028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3635280" y="342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1738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9280" y="4941720"/>
            <a:ext cx="331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4Fe +3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79640" y="5438880"/>
            <a:ext cx="6696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Fe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9280" y="299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i + 2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i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052720" y="3429000"/>
            <a:ext cx="655164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Si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F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Si 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9280" y="1268280"/>
            <a:ext cx="42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NaBr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Cl + B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79640" y="1700280"/>
            <a:ext cx="6804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2Br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Br 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55548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Balancing redox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360" y="333000"/>
            <a:ext cx="145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36360" y="722160"/>
            <a:ext cx="91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showing the oxidation of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by dichromate ions (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an acidic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54200" y="148896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-36360" y="1916280"/>
            <a:ext cx="89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242100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781440" y="2486160"/>
            <a:ext cx="4535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69840" y="2852640"/>
            <a:ext cx="14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971640" y="3284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203640" y="3649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ron loses one electron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donates one electron to dichromate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ing ag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059280" y="525924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61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romium gains three electrons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gains its electrons from iron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ing a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835280" y="480204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 reaction: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63640" y="638640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 reaction: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179280" y="479736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179280" y="645336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08360" y="836640"/>
            <a:ext cx="69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61920" y="1153800"/>
            <a:ext cx="2386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284720" y="1197000"/>
            <a:ext cx="32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619280"/>
            <a:ext cx="63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xygen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21906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284720" y="2190600"/>
            <a:ext cx="47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7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0" y="2771640"/>
            <a:ext cx="55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71640" y="3348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34332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36360" y="39196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971640" y="442260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442764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 rot="16200000">
            <a:off x="5040000" y="40464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 rot="16200000">
            <a:off x="7524000" y="4220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71636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7380360" y="53071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24000" y="557676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468360" y="615312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635280" y="61578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484360" y="18900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40672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507672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94036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68770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8028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 rot="16200000">
            <a:off x="2520000" y="447264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1"/>
          <p:cNvSpPr/>
          <p:nvPr/>
        </p:nvSpPr>
        <p:spPr>
          <a:xfrm rot="16200000">
            <a:off x="1295280" y="4832280"/>
            <a:ext cx="144720" cy="64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77164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124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16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90000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12400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14640" y="1023840"/>
            <a:ext cx="238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62040"/>
            <a:ext cx="61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164360" y="10573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093080" y="1557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03640" y="24969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403280" y="300204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403280" y="35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39640" y="357840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403280" y="4514760"/>
            <a:ext cx="6193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64000" y="49467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58104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217296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3: Balance the O atoms (using H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4: Balance the H atoms (using H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-252360" y="-27000"/>
            <a:ext cx="195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76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08000" y="1486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252360" y="-27360"/>
            <a:ext cx="195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252360" y="1125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3080" y="148428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844720" y="228132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58920" y="2816280"/>
            <a:ext cx="2879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360" y="3649680"/>
            <a:ext cx="896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. It acts as the oxidising agent as it is re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8920" y="30020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835280" y="4081320"/>
            <a:ext cx="54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916360" y="47242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68360" y="515772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476360" y="580536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47592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8000" y="981000"/>
            <a:ext cx="60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add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8760" y="1743120"/>
            <a:ext cx="736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95640" y="1417680"/>
            <a:ext cx="511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843280" y="1844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-179280" y="234936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411280" y="278136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203640" y="3213000"/>
            <a:ext cx="29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4920" y="3716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060720" y="4149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2484360" y="5013360"/>
            <a:ext cx="446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 rot="16200000">
            <a:off x="3528000" y="4401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 rot="16200000">
            <a:off x="5796000" y="46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00"/>
                </a:lnTo>
                <a:cubicBezTo>
                  <a:pt x="10800" y="10700"/>
                  <a:pt x="5400" y="11600"/>
                  <a:pt x="0" y="11600"/>
                </a:cubicBezTo>
                <a:cubicBezTo>
                  <a:pt x="5400" y="11600"/>
                  <a:pt x="10800" y="12500"/>
                  <a:pt x="10800" y="13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6200000">
            <a:off x="3889440" y="418428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 rot="16200000">
            <a:off x="5039280" y="404064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276720" y="551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5724360" y="55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63528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716360" y="454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22200" y="5805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3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73440" y="1125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1640" y="11304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60" y="18446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2205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0" y="4708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0" y="590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21200" y="907560"/>
            <a:ext cx="2458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74920" y="1488960"/>
            <a:ext cx="453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659640" y="91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732720" y="1413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059280" y="2349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547640" y="2852640"/>
            <a:ext cx="43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18728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95280" y="3357720"/>
            <a:ext cx="734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16000" y="4076640"/>
            <a:ext cx="5904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5640" y="522936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39640" y="558972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4932360" y="458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4560" y="404280"/>
            <a:ext cx="8893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-108000" y="-27360"/>
            <a:ext cx="1811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22560" y="76500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-179280" y="1197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258920" y="1628640"/>
            <a:ext cx="3095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64000" y="1989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44360" y="2857680"/>
            <a:ext cx="882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330200" y="3357720"/>
            <a:ext cx="6266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826920" y="4102200"/>
            <a:ext cx="35290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4500720" y="4102200"/>
            <a:ext cx="302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4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50920" y="545004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2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826920" y="6021360"/>
            <a:ext cx="748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360" y="4759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67280" y="1036800"/>
            <a:ext cx="303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0" y="177336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46200" y="227664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124000" y="2708280"/>
            <a:ext cx="39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3080" y="328464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763640" y="3716280"/>
            <a:ext cx="49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835280" y="422100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-36360" y="46530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5079960"/>
            <a:ext cx="51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rot="16200000">
            <a:off x="2987640" y="49748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6200000">
            <a:off x="5399640" y="5226480"/>
            <a:ext cx="289080" cy="151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771640" y="612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219640" y="605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39640" y="64580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2700360" y="11592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1478160" y="965160"/>
            <a:ext cx="292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681560" y="1397160"/>
            <a:ext cx="2374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378000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716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5724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291636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205092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-27360"/>
            <a:ext cx="511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36480" y="1125000"/>
            <a:ext cx="24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 rot="16200000">
            <a:off x="3288960" y="-12600"/>
            <a:ext cx="144720" cy="1700280"/>
          </a:xfrm>
          <a:custGeom>
            <a:avLst/>
            <a:gdLst>
              <a:gd name="textAreaLeft" fmla="*/ 92520 w 144720"/>
              <a:gd name="textAreaRight" fmla="*/ 145080 w 14472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 rot="16200000">
            <a:off x="5580000" y="-313920"/>
            <a:ext cx="144720" cy="230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987640" y="90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5292720" y="907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158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189080" y="264168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6877080" y="257004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690560" y="3218040"/>
            <a:ext cx="489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94836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332000" y="3938760"/>
            <a:ext cx="57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403280" y="444168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03280" y="49417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360" y="5089680"/>
            <a:ext cx="87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826920" y="5589720"/>
            <a:ext cx="727416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2700360" y="477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356400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71636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550872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630072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221440" y="602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539640" y="638640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108360" y="43920"/>
            <a:ext cx="2158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79280" y="155736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994040"/>
            <a:ext cx="61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6I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3I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 + 4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79280" y="270828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898560" y="3213000"/>
            <a:ext cx="77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5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6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2Mn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10C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9280" y="393372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84360" y="450864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Cl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4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Cl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76720" y="-27360"/>
            <a:ext cx="245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44280"/>
            <a:ext cx="145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333360"/>
            <a:ext cx="914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by permanganate ion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basic solution to yield molecular iodine (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and manganese (IV) oxide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4920" y="1989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47640" y="2565360"/>
            <a:ext cx="10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348000" y="25700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. of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796000" y="256536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 of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08000" y="3146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an electron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835280" y="3573360"/>
            <a:ext cx="6049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50920" y="465768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2556000" y="4632480"/>
            <a:ext cx="3240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012000" y="4632480"/>
            <a:ext cx="29527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Mn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-36360" y="56656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3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44720" y="6170760"/>
            <a:ext cx="691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219960" y="1463400"/>
            <a:ext cx="726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:                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   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5219640" y="17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543564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5219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9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31640" y="1125000"/>
            <a:ext cx="173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7280" y="162864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50920" y="2492280"/>
            <a:ext cx="57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203640" y="29304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268360" y="3362400"/>
            <a:ext cx="41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79280" y="41497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32000" y="472428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79640" y="544500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0" y="44370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 we add an equal number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both sides of the equation.  Where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appear on the same side of the equation, they may be combined to form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7920" y="1484280"/>
            <a:ext cx="634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19280" y="191628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619280" y="234936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4920" y="2857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492360" y="328464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200000">
            <a:off x="3670200" y="3679920"/>
            <a:ext cx="144720" cy="506160"/>
          </a:xfrm>
          <a:custGeom>
            <a:avLst/>
            <a:gdLst>
              <a:gd name="textAreaLeft" fmla="*/ 92520 w 144720"/>
              <a:gd name="textAreaRight" fmla="*/ 145080 w 14472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200000">
            <a:off x="4643280" y="3643200"/>
            <a:ext cx="71280" cy="649080"/>
          </a:xfrm>
          <a:custGeom>
            <a:avLst/>
            <a:gdLst>
              <a:gd name="textAreaLeft" fmla="*/ 45720 w 71280"/>
              <a:gd name="textAreaRight" fmla="*/ 71640 w 71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349236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28292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684360" y="444168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492360" y="49150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979640" y="5348160"/>
            <a:ext cx="52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 rot="16200000">
            <a:off x="3240720" y="4950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6"/>
          <p:cNvSpPr/>
          <p:nvPr/>
        </p:nvSpPr>
        <p:spPr>
          <a:xfrm rot="16200000">
            <a:off x="5545080" y="5167080"/>
            <a:ext cx="287280" cy="165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7"/>
                </a:lnTo>
                <a:cubicBezTo>
                  <a:pt x="10800" y="10117"/>
                  <a:pt x="5400" y="11017"/>
                  <a:pt x="0" y="11017"/>
                </a:cubicBezTo>
                <a:cubicBezTo>
                  <a:pt x="5400" y="11017"/>
                  <a:pt x="10800" y="11917"/>
                  <a:pt x="10800" y="128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3060720" y="606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364000" y="6031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12720" y="63151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3492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421164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4716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4067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5075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6083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13200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19564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188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948360" y="9144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765440" y="14130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3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16436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348000" y="234936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906560" y="2781360"/>
            <a:ext cx="51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169236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63640" y="3284640"/>
            <a:ext cx="5761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221440" y="386064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539640" y="422604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152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06280" y="47592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-1405080" y="1557360"/>
            <a:ext cx="856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162864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8360" y="2205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203640" y="2205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148360" y="2205000"/>
            <a:ext cx="35272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0" y="3068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two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47640" y="3716280"/>
            <a:ext cx="619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95280" y="44416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700360" y="4437000"/>
            <a:ext cx="3024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2(+1) + 2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51640" y="4437000"/>
            <a:ext cx="31683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: 2(+1) + 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551664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one electron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332000" y="6093000"/>
            <a:ext cx="640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3322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(liqu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34936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781360"/>
            <a:ext cx="14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141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338560" y="3500280"/>
            <a:ext cx="424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9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1908000" y="46530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5435640" y="465300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4140360" y="465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116000" y="5229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187280" y="5445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268360" y="54450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3203640" y="5450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260360" y="6021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66920" y="60213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3203640" y="602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572000" y="5450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572436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680400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6021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726160" y="6026040"/>
            <a:ext cx="3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6804000" y="6026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40435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080" y="1417680"/>
            <a:ext cx="56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195640" y="191628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27280" y="2281320"/>
            <a:ext cx="25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08000" y="2924280"/>
            <a:ext cx="52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th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979640" y="342900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82920" y="393228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4360" y="457992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, add equal no.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both sides of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971640" y="508968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16000" y="5594400"/>
            <a:ext cx="56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692360" y="609768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468360" y="404640"/>
            <a:ext cx="26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8880" y="836640"/>
            <a:ext cx="21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526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195280" y="549000"/>
            <a:ext cx="4546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987640" y="981000"/>
            <a:ext cx="25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1280" y="1341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835280" y="170028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"/>
          <p:cNvSpPr/>
          <p:nvPr/>
        </p:nvSpPr>
        <p:spPr>
          <a:xfrm rot="16200000">
            <a:off x="2554920" y="155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8"/>
          <p:cNvSpPr/>
          <p:nvPr/>
        </p:nvSpPr>
        <p:spPr>
          <a:xfrm rot="16200000">
            <a:off x="5039280" y="1087920"/>
            <a:ext cx="216000" cy="2449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241128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85928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843280" y="2708280"/>
            <a:ext cx="252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 rot="16200000">
            <a:off x="3419280" y="285228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 rot="16200000">
            <a:off x="4715640" y="2995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32767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7200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12720" y="371628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916360" y="4149720"/>
            <a:ext cx="30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763640" y="544500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554200" y="5805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1619280" y="6237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1620720" y="6237360"/>
            <a:ext cx="5112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83528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277164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2436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78800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565164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4500720" y="3068640"/>
            <a:ext cx="57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564000" y="306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2987640" y="307008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173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79280" y="1628640"/>
            <a:ext cx="54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755640" y="2138400"/>
            <a:ext cx="806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+ O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9280" y="422604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Bi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826920" y="501804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Bi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2Bi + 3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0640" y="69228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211640" y="1268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1346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27280" y="134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1341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3413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00720" y="1341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690560" y="19162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27280" y="19162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09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43280" y="19162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5087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00720" y="1922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8360" y="2570040"/>
            <a:ext cx="48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627280" y="2997360"/>
            <a:ext cx="410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428472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619280" y="35784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728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492360" y="357336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500720" y="3573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50872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443640" y="35733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27280" y="4149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4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7200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50872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445080" y="41544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95280" y="479736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627280" y="530064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1476360" y="1773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476360" y="40053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591840"/>
            <a:ext cx="42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413000"/>
            <a:ext cx="496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P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24000" y="213372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P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4000" y="299736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22560" y="3860640"/>
            <a:ext cx="64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N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 ½ 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458136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5373720"/>
            <a:ext cx="43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7200" y="-8604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Arial Rounded MT Bold"/>
              </a:rPr>
              <a:t>Balancing redox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360" y="62028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19640" y="17733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2205000"/>
            <a:ext cx="79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21440" y="177336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219640" y="2205000"/>
            <a:ext cx="79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79280" y="3718080"/>
            <a:ext cx="63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7080" y="4657680"/>
            <a:ext cx="75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16000" y="5162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9280" y="564516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number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87280" y="22813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 Rounded MT Bold"/>
              </a:rPr>
              <a:t>OIL  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Whenever oxidation occurs, reduction must als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58680"/>
            <a:ext cx="69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Rules for assigning oxidation numbers (O.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.g.     L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1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they are bonded to a more electonegativ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s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peroxide ion,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of -1), and the compound O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+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bonded to a less electronegative element, i.e. a metal, where it’s O.N. is -1, e.g. LiH, N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81080" y="-1296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480" y="4759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8000" y="98100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L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47640" y="1197000"/>
            <a:ext cx="67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ithium: Group 1 element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xidation number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47640" y="155736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19940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08000" y="235440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76720" y="23544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4000" y="2708280"/>
            <a:ext cx="853272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neu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79640" y="357336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 = +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8000" y="407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6560" y="4508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 the sum equals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68360" y="486900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132000" y="5367240"/>
            <a:ext cx="259236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209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5280" y="1268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Zn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908000" y="162864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565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08000" y="31417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5280" y="43657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08000" y="4797360"/>
            <a:ext cx="50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25:26Z</dcterms:created>
  <dc:creator>Serena Corr</dc:creator>
  <dc:description/>
  <dc:language>en-US</dc:language>
  <cp:lastModifiedBy>LEGION</cp:lastModifiedBy>
  <dcterms:modified xsi:type="dcterms:W3CDTF">2017-01-26T09:38:08Z</dcterms:modified>
  <cp:revision>53</cp:revision>
  <dc:subject/>
  <dc:title>Balancing Chemical Equations</dc:title>
</cp:coreProperties>
</file>