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I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720301-CD1B-4B00-AB3B-F6442D1FD141}" type="slidenum">
              <a:rPr b="0" lang="en-I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chemical reaction is a process by which one set of chemicals 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ransformed into a new set of chemical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chemical equation uses standard chemical symbols to describe the changes occurring during a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neral form: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actants  produc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ample: Wa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keletal equ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 + O2 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ydrogen and oxygen combine to form water.  But the equation is not balanc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re are 2 oxygen atoms on the reactant side of the equation, but only one on the product side.  If we place a 2 in front of the water on the product side, we will balance the oxygen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 + O2 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emical reaction is a process by which one set of chemical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ed into a new set of chemic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emical equation uses standard chemical symbols to describe the changes occurring during a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form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ants 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letal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 + O2 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and oxygen combine to form water.  But the equation is not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 oxygen atoms on the reactant side of the equation, but only one on the product side.  If we place a 2 in front of the water on the product side, we will balance the oxy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 + O2 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ng Oxidising and Reducing a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hat for an oxidation to occur, a reduction must also occ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IL R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can be defined (in terms of electon transfer) as the loss of electrons from a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can be defined as the gain of electrons by a spec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xidising agent (or electron acceptor) must itself be reduc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ducing agent (or electron donor) must itself be oxidis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on of both oxidising and reducing agents can be represented in the form of a half-equ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fining Oxidising and Reducing ag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member that for an oxidation to occur, a reduction must also occu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IL RI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can be defined (in terms of electon transfer) as the loss of electrons from a speci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 can be defined as the gain of electrons by a specie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 oxidising agent (or electron acceptor) must itself be reduce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reducing agent (or electron donor) must itself be oxidised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action of both oxidising and reducing agents can be represented in the form of a half-equation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ing Oxidising and Reducing Ag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rmation of calcium oxide (CaO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Ca(s) + O2(g)  2CaO(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 and O2 (reactants): neutral ato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lcium oxide (product): ionic compou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2+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2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n write the reaction as two half-reaction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Ca   2Ca2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2            2O2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ere, calcium is oxidised; i.e. it loses electrons to oxyg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t reduces the oxyg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t acts as a reduc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ygen is reduced; i.e. it gains electrons from calci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t oxidises the calciu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t acts as an oxidis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 4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 4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I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ing Oxidising and Reducing A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of calcium oxide (Ca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Ca(s) + O2(g)  2CaO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 and O2 (reactants): neutral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oxide (product): ionic comp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2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write the reaction as two half-reac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Ca   2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            2O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, calcium is oxidised; i.e. it loses electrons to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reduces the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cts as a reduc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reduced; i.e. it gains electrons from cal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xidises the calciu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cts as an oxidis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4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4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bO(s) + CO(g)  Pb(s) + CO2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the oxidising and reducing agents in the following reaction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b increases O.N. from +2 to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bO is reduced; acts as oxidis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 decreases O.N. from +2 to +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 is oxidised; acts as reduc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Assign oxidation number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bO(s) + CO(g)  Pb(s) + CO2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2: Write half equation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3: Identify oxidising and reducing agent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bO(s) + CO(g)  Pb(s) + CO2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oxidising and reducing agents in the following rea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b increases O.N. from +2 to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bO is reduced; acts as oxidis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decreases O.N. from +2 to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is oxidised; acts as reduc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Assign oxidation nu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bO(s) + CO(g)  Pb(s) + CO2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: Write half eq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: Identify oxidising and reducing ag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Identify the oxidising and reducing agents and write the half reactions 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the following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c) 4Fe +3O2  2Fe2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 Fe  Fe3+ + 3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O2 + 4e-  2O2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O2 : oxidising agent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Fe: reduc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b) Si + 2F2  SiF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 Si  Si4+ + 4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2 + 2e-  2F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2 : oxidising agent    Si : reduc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a) Cl2 + 2NaBr  2NaCl + Br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 2Br--  Br2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l2 + 2e-  2Cl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l2 : oxidising agent    Br - : reduc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Identify the oxidising and reducing agents and write the half reaction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c) 4Fe +3O2  2Fe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nswer:  Fe  Fe3+ + 3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O2 + 4e-  2O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O2 : oxidising agent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Fe: reduc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b) Si + 2F2  SiF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nswer:  Si  Si4+ + 4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F2 + 2e-  2F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F2 : oxidising agent    Si : reduc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a) Cl2 + 2NaBr  2NaCl + B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nswer:  2Br--  Br2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Cl2 + 2e-  2Cl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Cl2 : oxidising agent    Br - : reduc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ing redox equ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 the equation showing the oxidation of Fe2+ ions to Fe3+ ions by dichromate ions (Cr2O72-) in an acidic medi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2+ + Cr2O72-  Fe3+ + Cr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2+ : 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2O72- : 2Cr + 7(-2) =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Cr = 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 = +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3+ : +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3+ : +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2+  Fe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ron loses one electron, i.e. it is oxidised.  It donates one electron to dichromate, i.e. it is the reducing agen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26+  Cr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romium gains three electrons, i.e. it is reduced.  It gains its electrons from iron, i.e. it is the oxidising agen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reaction: 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 reaction: Cr26+ + 3e-  Cr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alf equation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alf equation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ing redox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the equation showing the oxidation of Fe2+ ions to Fe3+ ions by dichromate ions (Cr2O72-) in an acidic me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2+ + Cr2O72-  Fe3+ + Cr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2+ : 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2O72- : 2Cr + 7(-2)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Cr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 =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3+ : +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3+ : +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2+  Fe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loses one electron, i.e. it is oxidised.  It donates one electron to dichromate, i.e. it is the reducing ag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26+  Cr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ium gains three electrons, i.e. it is reduced.  It gains its electrons from iron, i.e. it is the oxidising ag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reaction: 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reaction: Cr26+ + 3e-  Cr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2: Balance each kind of atom other that H and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r2O72- + 3e-  2Cr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3: Balance oxygen atoms by using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r2O72- + 3e-  2Cr3+ + 7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 3e-  2Cr3+ + 7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3e-  2Cr3+ + 7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d three electrons to the reactant side to balance the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 6e-  2Cr3+ + 7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+ Cr2O72-  Fe3+ + Cr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2: Balance each kind of atom other that H and 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r2O72- + 3e-  2Cr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3: Balance oxygen atoms by using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r2O72- + 3e-  2Cr3+ + 7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 3e-  2Cr3+ + 7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3e-  2Cr3+ + 7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dd three electrons to the reactant side to balance the charg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 6e-  2Cr3+ + 7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+ Cr2O72-  Fe3+ + Cr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1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6: Ensure the number of electrons gained equals the number of electrons lost and add the 2 half reaction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 6e-  2Cr3+ + 7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×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×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Fe2+  6Fe3+ + 6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 6e-  2Cr3+ + 7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 6Fe2+ + 6e-  2Cr3+ + 7H2O + 6Fe3+ + 6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 6Fe2+  2Cr3+ +7H2O + 6Fe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6: Ensure the number of electrons gained equals the number of electrons lost and add the 2 half reactions toget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 6e-  2Cr3+ + 7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×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×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6Fe2+  6Fe3+ + 6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 6e-  2Cr3+ + 7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 6Fe2+ + 6e-  2Cr3+ + 7H2O + 6Fe3+ + 6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 6Fe2+  2Cr3+ +7H2O + 6Fe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dentify the oxidising and reducing agents, then write the half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: Balance each atom, except H and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: Balance the O atoms (using H2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4: Balance the H atoms (using H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5: Check the charges are balanced for each half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6: Ensure the numbers of electrons are equal (i.e. there are the same numbers lost and gain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7: Add the two equation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: check that all the charges and the numbers of atoms balan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the equation for the redox reaction of MnO4- with Fe2+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Mn2+ and Fe3+ in an acidic med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du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Identify the oxidising and reducing agents, then write the half equ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2: Balance each atom, except H and 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3: Balance the O atoms (using H2O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4: Balance the H atoms (using H+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5: Check the charges are balanced for each half equ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6: Ensure the numbers of electrons are equal (i.e. there are the same numbers lost and gaine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7: Add the two equations toget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nally: check that all the charges and the numbers of atoms balance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 the equation for the redox reaction of MnO4- with Fe2+ t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duce Mn2+ and Fe3+ in an acidic medium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cedure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the equation for the redox reaction of MnO4- with Fe2+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Mn2+ and Fe3+ in an acidic med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 Mn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+ 4(-2) =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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gains 5 electrons. It acts as the oxidising agent as it is redu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: 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+ 5e- Mn2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2+  Fe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 loses an electron. It acts as the reducing agent as it is oxidi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 the equation for the redox reaction of MnO4- with Fe2+ t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duce Mn2+ and Fe3+ in an acidic medium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swer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 Mn2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+ 4(-2) =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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gains 5 electrons. It acts as the oxidising agent as it is reduc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: 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+ 5e- Mn2+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2+  Fe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 loses an electron. It acts as the reducing agent as it is oxidis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2: Balance each kind of atom other than H and 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lanced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3: Balance O atoms by adding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e-  Mn2+ + 4H2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e-  Mn2+ + 4H2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2: Balance each kind of atom other than H and O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Balanced in this ca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3: Balance O atoms by adding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e-  Mn2+ + 4H2O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e-  Mn2+ + 4H2O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e now need to balance the hydroge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ace a 2 before the hydrogens on the reactant side of the equ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H2 + O2 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te: Diatomic molecu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quation for formation of water included hydrogens and oxygens with subscript 2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ther elements which occur in this way are Nitrogen, Fluorine, Chlorine, Bromine and Iodin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se elements occur naturally as diatomic (meaning 2 atoms) molecu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toichiometric coefficients multiplying the chemical formulas tell you the relative numbers of moles of each substance that reacts or is produced in a chemical reactio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refore, we can conclude from the balanced equation for water that 2 moles of hydrogen and one mol of oxygen combine to form wate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need to balance the hydr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a 2 before the hydrogens on the reactant side of the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 + O2 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Diatomic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 for formation of water included hydrogens and oxygens with subscript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elements which occur in this way are Nitrogen, Fluorine, Chlorine, Bromine and Iod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occur naturally as diatomic (meaning 2 atoms)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ichiometric coefficients multiplying the chemical formulas tell you the relative numbers of moles of each substance that reacts or is produced in a chemical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we can conclude from the balanced equation for water that 2 moles of hydrogen and one mol of oxygen combine to form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6: Ensure the number of electrons gained equals the number of electrons lost and add the two half reaction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×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×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Fe2+  5Fe3+ + 5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Fe2+ + 5e-  Mn2+ + 5Fe3+ + 4H2O + 5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Fe2+  Mn2+ + 5Fe3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6: Ensure the number of electrons gained equals the number of electrons lost and add the two half reactions toget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×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×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5Fe2+  5Fe3+ + 5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Fe2+ + 5e-  Mn2+ + 5Fe3+ + 4H2O + 5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Fe2+  Mn2+ + 5Fe3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the following equation, which takes place in an acidic medi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+ SO2  Mn2+ + SO4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: Mn +4(-2) =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- 8 =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2+ : 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gains 5 electrons: it acts as the oxidising agent as it is 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+ 5e-  Mn2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2: S + 2(-2)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- 4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=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42-: S + 4(-2)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 - 8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=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2 loses 2 electrons: it acts as the reducing agent as it is oxid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2  SO42- + 2e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 the following equation, which takes place in an acidic medium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uestio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+ SO2  Mn2+ + SO42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: Mn +4(-2) =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- 8 =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2+ : 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gains 5 electrons: it acts as the oxidising agent as it is redu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+ 5e-  Mn2+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2: S + 2(-2) =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 - 4 =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 = +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42-: S + 4(-2) =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  - 8 =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 = +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2 loses 2 electrons: it acts as the reducing agent as it is oxidis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2  SO42- + 2e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2: Balance each kind of atom other than H and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lanced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3: Balance O atoms by using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SO2  SO42-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SO2  SO42- + 2e- + 4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O4- + SO2  Mn2+ + SO4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O4- + 5e-  Mn2+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2  SO42-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2: Balance each kind of atom other than H and 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Balanced in this ca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3: Balance O atoms by using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SO2  SO42-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SO2  SO42- + 2e- + 4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O4- + SO2  Mn2+ + SO42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O4- + 5e-  Mn2+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O2  SO42-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O + SO2  SO42- + 2e- +  4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ready 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6: Ensure number of electrons gained equals number of electro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st and add the two half reaction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×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O + SO2  SO42- + 2e- + 4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×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H+ + 2MnO4- + 10e-  2Mn2+ + 8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H2O + 5SO2  5SO42- + 10e- + 20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H+ + 2MnO4- + 10H2O + 5SO2  2Mn2+ + 8H2O + 5SO42- + 20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nO4- + 2H2O + 5SO2  2Mn2+ + 5SO42- + 4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H2O + SO2  SO42- + 2e- +  4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ready 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6: Ensure number of electrons gained equals number of electrons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lost and add the two half reactions toget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× 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H2O + SO2  SO42- + 2e- + 4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×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6H+ + 2MnO4- + 10e-  2Mn2+ + 8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0H2O + 5SO2  5SO42- + 10e- + 20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6H+ + 2MnO4- + 10H2O + 5SO2  2Mn2+ + 8H2O + 5SO42- + 20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MnO4- + 2H2O + 5SO2  2Mn2+ + 5SO42- + 4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rite balanced equations to represent the following reactions in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ic 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a) I- + SO42-  I2 +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swer: 6I- + 8H+ + SO42-  3I2 + S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) MnO4- + H2C2O4  Mn2+ +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swer: 2MnO4- + 5H2C2O4 + 6H+  2Mn2+ + 10CO2 + 8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c) ClO3- + Cl-  Cl2 + Cl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swer: 2Cl- + 2ClO3- + 4H+  Cl2 + 2ClO2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Write balanced equations to represent the following reactions in 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cidic solution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a) I- + SO42-  I2 + 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6I- + 8H+ + SO42-  3I2 + S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b) MnO4- + H2C2O4  Mn2+ + CO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2MnO4- + 5H2C2O4 + 6H+  2Mn2+ + 10CO2 + 8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c) ClO3- + Cl-  Cl2 + ClO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2Cl- + 2ClO3- + 4H+  Cl2 + 2ClO2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basic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balanced equation to represent the oxidation of iodide ion (I-) by permanganate ion (MnO4-) in basic solution to yield molecular iodine (I2) and manganese (IV) oxide (MnO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-  I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.N. of I- is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.N of I2 is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- loses an electron: it acts as the reducing agent as it is oxid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-  I2 + e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 Mn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: Mn + 4(-2) =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2 : Mn + 2(-2)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=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gains 3 electrons: it acts as the oxidising agent as it is 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+ 3e-  MnO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letal equation:                 I- + MnO4-               I2 + Mn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 basic solu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rite a balanced equation to represent the oxidation of iodide ion (I-) by permanganate ion (MnO4-) in basic solution to yield molecular iodine (I2) and manganese (IV) oxide (MnO2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equ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-  I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.N. of I- is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.N of I2 is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- loses an electron: it acts as the reducing agent as it is oxidis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-  I2 + e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 MnO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: Mn + 4(-2) =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2 : Mn + 2(-2) =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= +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gains 3 electrons: it acts as the oxidising agent as it is redu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+ 3e-  MnO2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keletal equation:                 I- + MnO4-               I2 + MnO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2: Balance each kind of atom other than H and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O4- + 3e-  Mn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3: Balance the O atoms by using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O4- + 3e-  MnO2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H+ + MnO4- + 3e-  MnO2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2: Balance each kind of atom other than H and 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O4- + 3e-  MnO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3: Balance the O atoms by using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O4- + 3e-  MnO2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4H+ + MnO4- + 3e-  MnO2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5: Since the reaction occurs in a basic medium, for each H+ ion we add an equal number of OH- ions to both sides of the equation.  Where H+ and OH- ions appear on the same side of the equation, they may be combined to form H2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H+ + 4OH- + MnO4- + 3e-  MnO2 + 2H2O + 4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H2O + MnO4- + 3e-  MnO2 + 2H2O + 4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O + MnO4- + 3e-  MnO2 + 4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6: Use electrons as needed to obtain a charge that is 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ne electron to the product side to balance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I-  I2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O + MnO4- + 3e-  MnO2 + 4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5: Since the reaction occurs in a basic medium, for each H+ ion we add an equal number of OH- ions to both sides of the equation.  Where H+ and OH- ions appear on the same side of the equation, they may be combined to form H2O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H+ + 4OH- + MnO4- + 3e-  MnO2 + 2H2O + 4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H2O + MnO4- + 3e-  MnO2 + 2H2O + 4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H2O + MnO4- + 3e-  MnO2 + 4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6: Use electrons as needed to obtain a charge that is 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d one electron to the product side to balance charg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I-  I2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H2O + MnO4- + 3e-  MnO2 + 4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7: Ensure the number of electrons gained equals the number of electrons lost and add the two half reaction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I-  I2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×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O + MnO4- + 3e-  MnO2 + 4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×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I-  3I2 + 6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H2O + 2MnO4- + 6e-  2MnO2 + 8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nO4- + 6I- + 4H2O  2MnO2 + 3I2 + 8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7: Ensure the number of electrons gained equals the number of electrons lost and add the two half reactions toget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I-  I2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× 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H2O + MnO4- + 3e-  MnO2 + 4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× 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I-  3I2 + 6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H2O + 2MnO4- + 6e-  2MnO2 + 8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MnO4- + 6I- + 4H2O  2MnO2 + 3I2 + 8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the following redox equation which occurs in basic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2+ + H2O2  MnO2 +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dentify the oxidising and reducing agents and write half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2+  Mn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2+ : 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2: Mn +2(-2)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=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2+ loses two electrons: it acts as the reducing agent as it is oxid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2+  MnO2 + 2e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2 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2: 2(+1) + 2O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=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: 2(+1) + O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2 gains one electron: it acts as the oxidising agent as it is 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2 + e-  H2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uestio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 the following redox equation which occurs in basic solu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2+ + H2O2  MnO2 +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Identify the oxidising and reducing agents and write half rea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2+  MnO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2+ : 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2: Mn +2(-2) =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= +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2+ loses two electrons: it acts as the reducing agent as it is oxidis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2+  MnO2 + 2e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O2 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O2: 2(+1) + 2O =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 =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O: 2(+1) + O =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 =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O2 gains one electron: it acts as the oxidising agent as it is redu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O2 + e-  H2O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chemical equation may also tell you what physical state the reactants and products are in.  The following state symbols are used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 (soli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 (liqui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 (ga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q (aqueous solution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se are found as subscripts after each reactant and produc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 the following equation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(s) + H2O(l)  NaOH(aq) + H2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How many atoms of each element are present on the reactant and product side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actant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emical equation may also tell you what physical state the reactants and products are in.  The following state symbols are us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(sol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(liqu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(g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q (aqueous 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ound as subscripts after each reactant and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the following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(s) + H2O(l)  NaOH(aq) + H2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How many atoms of each element are present on the reactant and product si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2: Balance each kind of atom other than H and 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ready balanced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3: Balance the O atoms by using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Mn2+  MnO2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2 + e- 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4: Balance the H atoms by using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Mn2+  MnO2 + 2e- + 4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+ + H2O2 + e- 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5: For each H+ ion, add equal no. of OH- to both sides of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Mn2+ + 4OH-  MnO2 + 2e- + 4H+  + 4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Mn2+ + 4OH-  MnO2 + 2e-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2+ + 4OH-  MnO2 + 2e-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2+  MnO2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2 + e- 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2: Balance each kind of atom other than H and O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lready balanced in this ca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3: Balance the O atoms by using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Mn2+  MnO2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2O2 + e- 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4: Balance the H atoms by using 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Mn2+  MnO2 + 2e- + 4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+ + H2O2 + e- 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5: For each H+ ion, add equal no. of OH- to both sides of equ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Mn2+ + 4OH-  MnO2 + 2e- + 4H+  + 4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Mn2+ + 4OH-  MnO2 + 2e-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2+ + 4OH-  MnO2 + 2e-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2+  MnO2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2O2 + e- 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+ + 2OH- + H2O2 + e-  2H2O + 2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H2O2 + e-  2H2O + 2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2 + e-  2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6: Use electrons as needed to obtain a charge that is 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2+ + 4OH-  MnO2 + 2e-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2 + e-  2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d one electron to the reactant side to balance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2 + 2e-  2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7: Ensure no. of electrons gained equals no. of electrons lost and add the half reaction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2+ + 4OH-  MnO2 + 2e-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2 + 2e-  2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2+ + H2O2 + 2OH-  MnO2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+ + 2OH- + H2O2 + e-  2H2O + 2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H2O2 + e-  2H2O + 2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2O2 + e-  2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6: Use electrons as needed to obtain a charge that is 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2+ + 4OH-  MnO2 + 2e-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2O2 + e-  2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dd one electron to the reactant side to balance charg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2O2 + 2e-  2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7: Ensure no. of electrons gained equals no. of electrons lost and add the half reactions toget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2+ + 4OH-  MnO2 + 2e-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2O2 + 2e-  2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2+ + H2O2 + 2OH-  MnO2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rite balanced equations to represent the following reactions in a ba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a) Fe(OH)2 + MnO4-  MnO2 + Fe(OH)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swer: 3Fe(OH)2 + MnO4- + 2H2O  MnO2 + 3Fe(OH)3 +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) Bi(OH)3 + SnO22-  SnO32- + 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swer: 2Bi(OH)3 + 3SnO22-  2Bi + 3H2O + 3SnO3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Write balanced equations to represent the following reactions in a basi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a) Fe(OH)2 + MnO4-  MnO2 + Fe(OH)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3Fe(OH)2 + MnO4- + 2H2O  MnO2 + 3Fe(OH)3 + 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b) Bi(OH)3 + SnO22-  SnO32- + B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2Bi(OH)3 + 3SnO22-  2Bi + 3H2O + 3SnO32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Let us balance the hydrogen atoms fir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Na + 2H2O  2NaOH + H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Next we balance the sodium ato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Na + 2H2O  2NaOH + H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Step 2: Add state symbo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Na(s) + 2H2O(l)  2NaOH(aq) + H2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t us balance the hydrogen atoms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a + 2H2O  2NaOH + 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xt we balance the sodium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Na + 2H2O  2NaOH + 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tep 2: Add state symb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Na(s) + 2H2O(l)  2NaOH(aq) + H2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Balance the following equation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a) P2O5(s) + H2O(l)  H3PO4(aq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P2O5(s) + 3H2O(l)  2H3PO4(aq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b) NO2(g) + H2(g)  NH3(g) + H2O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NO2(g) + 3 ½ H2(g)  NH3(g) + 2H2O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c) SO2(g) + O2(g)  SO3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2SO2(g) + O2(g)  2SO3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Balance the following eq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a) P2O5(s) + H2O(l)  H3PO4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nswer: P2O5(s) + 3H2O(l)  2H3PO4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b) NO2(g) + H2(g)  NH3(g) +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nswer: NO2(g) + 3 ½ H2(g)  NH3(g) + 2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c) SO2(g) + O2(g)  SO3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nswer: 2SO2(g) + O2(g)  2SO3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ing redox rea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ox (meaning reduction-oxidation) reactions involves transfer of electr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volves two proces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n split a redox reaction into two half reaction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oxidation reaction which involves a loss of electr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reduction reaction which involves a gain of electr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 keep track of electrons in redox reactions, use oxidation numbe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number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harge an atom has or appears to have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en electrons are distributed according to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ertain ru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IL  RI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enever oxidation occurs, reduction must also occu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ing redox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ox (meaning reduction-oxidation) reactions involves transfer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es two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plit a redox reaction into two half reac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reaction which involves a 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duction reaction which involves a 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track of electrons in redox reactions, use 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rge an atom has or appears to hav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lectrons are distributed according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ain 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IL  R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ever oxidation occurs, reduction must also occ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ules for assigning oxidation numbers (O.N.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free element (or uncombined element) is assigned O.N. of zer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um of O.N.s of atoms in a neutral compound must equal zer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harge of a monoatomic ion is same as its oxidation number,    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.g.     Li+ has O.N. of +1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+3 has O.N. of +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 their compounds, group 1 elements have an O.N. of +1, group 2 elements have an O.N. of +2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um of O.N. of atoms in polyatomic ion equals the charge on the 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O.N. of halogens is usually -1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ception: when they are bonded to a more electonegative el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O.N. of oxygen in most compounds is -2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ceptions: H2O2 and peroxide ion, O2-2 (O.N. of -1), and the compound OF2 (O.N. +2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O.N. of hydrogen is +1,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ception: when bonded to a less electronegative element, i.e. a metal, where it’s O.N. is -1, e.g. LiH, Na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 for assigning oxidation numbers (O.N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ree element (or uncombined element) is assigned O.N. of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m of O.N.s of atoms in a neutral compound must equal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rge of a monoatomic ion is same as its oxidation number,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    Li+ has O.N. of +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+3 has O.N. of +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ir compounds, group 1 elements have an O.N. of +1, group 2 elements have an O.N. of +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m of O.N. of atoms in polyatomic ion equals the charge on the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.N. of halogens is usually -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: when they are bonded to a more electonegative e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.N. of oxygen in most compounds is -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: H2O2 and peroxide ion, O2-2 (O.N. of -1), and the compound OF2 (O.N. 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.N. of hydrogen is +1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: when bonded to a less electronegative element, i.e. a metal, where it’s O.N. is -1, e.g. LiH, N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Example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ssign oxidation numbers to all the elements in the following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a) Li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Lithium: Group 1 element   Oxidation number +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Oxygen: Oxidation number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b) HN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ydrogen: +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Oxygen: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NO3 is neutr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dding the O.N.s of the atoms together must equal zer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+1) + N + 3(-2) = 0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 N = +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c) Cr2O72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um of O.N.s equals charge on ion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 here the sum equals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Oxygen: Oxidation number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Cr + 7(-2) =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Cr -14 =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r = +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Examp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ssign oxidation numbers to all the elements in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a) Li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Lithium: Group 1 element   Oxidation number 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Oxygen: Oxidation number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b) H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Hydrogen: 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Oxygen: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HNO3 is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dding the O.N.s of the atoms together must equal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+1) + N + 3(-2) = 0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 N = +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c) Cr2O7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Sum of O.N.s equals charge on ion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 here the sum equals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Oxygen: Oxidation number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2Cr + 7(-2)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2Cr -14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Cr =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ign oxidation numbers to each of the following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a) ZnCl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Zn: +2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: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b) S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: -2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: +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c) MnO4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: -2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: +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ign oxidation numbers to each of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Zn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n: +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: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) 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: -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: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MnO4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: -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: +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6CD6-84DC-42C2-A7EE-F5A31AFB5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8DB0-E4E2-4B73-849D-ADFC0F38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314F-6B34-4C24-A98E-433205B4D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5DE6-B5AF-4382-AD2B-C18D5A49D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AEDE-477C-4902-B0B4-455EBC26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EB35-65F5-4B85-B590-202335F2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22F3-0542-4391-AF70-FCD9B92E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9EB1-732F-466D-A9BA-C645AD20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E245-AC6F-461E-95B4-44E692C4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92F2-377D-408D-AC94-8814D531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D0FB-F91F-4697-816D-0F3BEF1C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1883-8B7A-42F9-931D-61774FA4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0E7E-44FE-4912-AE07-0A5FD066567A}" type="datetime">
              <a:rPr b="0" lang="en-GB" sz="14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AE4C-F172-418F-A920-C2B87447F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4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0000"/>
                </a:solidFill>
                <a:latin typeface="Arial Rounded MT Bold"/>
              </a:rPr>
              <a:t>Balancing Chemical Eq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31280" y="765000"/>
            <a:ext cx="8317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 chemical reaction is a process by which one set of chemicals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ransformed into a new set of chemica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16000" y="1587600"/>
            <a:ext cx="89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 chemical equation uses standard chemical symbols to describe the changes occurring during a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836720" y="2421000"/>
            <a:ext cx="54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General form: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reactants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prod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08000" y="2930400"/>
            <a:ext cx="23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Example: Wa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250920" y="3433680"/>
            <a:ext cx="244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keletal eq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3276720" y="3433680"/>
            <a:ext cx="2879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0" y="4086360"/>
            <a:ext cx="91440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ydrogen and oxygen combine to form water.  But the equation is not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re are 2 oxygen atoms on the reactant side of the equation, but only one on the product side.  If we place a 2 in front of the water on the product side, we will balance the oxyge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3276720" y="6242040"/>
            <a:ext cx="2305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0000"/>
                </a:solidFill>
                <a:latin typeface="Arial Rounded MT Bold"/>
              </a:rPr>
              <a:t>Defining Oxidising and Reducing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Remember that for an oxidation to occur, a reduction must also occ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0000ff"/>
                </a:solidFill>
                <a:uFillTx/>
                <a:latin typeface="Arial"/>
              </a:rPr>
              <a:t>O</a:t>
            </a:r>
            <a:r>
              <a:rPr b="0" lang="en-IE" sz="2400" spc="-1" strike="noStrike">
                <a:solidFill>
                  <a:srgbClr val="0000ff"/>
                </a:solidFill>
                <a:latin typeface="Arial"/>
              </a:rPr>
              <a:t>IL </a:t>
            </a:r>
            <a:r>
              <a:rPr b="0" lang="en-IE" sz="2400" spc="-1" strike="noStrike" u="sng">
                <a:solidFill>
                  <a:srgbClr val="660066"/>
                </a:solidFill>
                <a:uFillTx/>
                <a:latin typeface="Arial"/>
              </a:rPr>
              <a:t>R</a:t>
            </a:r>
            <a:r>
              <a:rPr b="0" lang="en-IE" sz="2400" spc="-1" strike="noStrike">
                <a:solidFill>
                  <a:srgbClr val="660066"/>
                </a:solidFill>
                <a:latin typeface="Arial"/>
              </a:rPr>
              <a:t>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0000ff"/>
                </a:solidFill>
                <a:uFillTx/>
                <a:latin typeface="Arial"/>
              </a:rPr>
              <a:t>Oxidation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can be defined (in terms of electon transfer) as the </a:t>
            </a:r>
            <a:r>
              <a:rPr b="0" i="1" lang="en-IE" sz="2400" spc="-1" strike="noStrike">
                <a:solidFill>
                  <a:srgbClr val="0000ff"/>
                </a:solidFill>
                <a:latin typeface="Arial"/>
              </a:rPr>
              <a:t>loss of electrons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from a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660066"/>
                </a:solidFill>
                <a:uFillTx/>
                <a:latin typeface="Arial"/>
              </a:rPr>
              <a:t>Reduction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can be defined as the </a:t>
            </a:r>
            <a:r>
              <a:rPr b="0" i="1" lang="en-IE" sz="2400" spc="-1" strike="noStrike">
                <a:solidFill>
                  <a:srgbClr val="660066"/>
                </a:solidFill>
                <a:latin typeface="Arial"/>
              </a:rPr>
              <a:t>gain of electrons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by a spe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IE" sz="2400" spc="-1" strike="noStrike" u="sng">
                <a:solidFill>
                  <a:srgbClr val="660066"/>
                </a:solidFill>
                <a:uFillTx/>
                <a:latin typeface="Arial"/>
              </a:rPr>
              <a:t>oxidising agent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0" lang="en-IE" sz="2400" spc="-1" strike="noStrike">
                <a:solidFill>
                  <a:srgbClr val="660066"/>
                </a:solidFill>
                <a:latin typeface="Arial"/>
              </a:rPr>
              <a:t>electron acceptor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) must itself be </a:t>
            </a:r>
            <a:r>
              <a:rPr b="0" i="1" lang="en-IE" sz="2400" spc="-1" strike="noStrike">
                <a:solidFill>
                  <a:srgbClr val="660066"/>
                </a:solidFill>
                <a:latin typeface="Arial"/>
              </a:rPr>
              <a:t>reduced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IE" sz="2400" spc="-1" strike="noStrike" u="sng">
                <a:solidFill>
                  <a:srgbClr val="0000ff"/>
                </a:solidFill>
                <a:uFillTx/>
                <a:latin typeface="Arial"/>
              </a:rPr>
              <a:t>reducing agent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0" lang="en-IE" sz="2400" spc="-1" strike="noStrike">
                <a:solidFill>
                  <a:srgbClr val="0000ff"/>
                </a:solidFill>
                <a:latin typeface="Arial"/>
              </a:rPr>
              <a:t>electron donor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) must itself be </a:t>
            </a:r>
            <a:r>
              <a:rPr b="0" i="1" lang="en-IE" sz="2400" spc="-1" strike="noStrike">
                <a:solidFill>
                  <a:srgbClr val="0000ff"/>
                </a:solidFill>
                <a:latin typeface="Arial"/>
              </a:rPr>
              <a:t>oxidised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he action of both oxidising and reducing agents can be represented in the form of a half-equa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9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4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9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4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9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4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0000"/>
                </a:solidFill>
                <a:latin typeface="Arial Rounded MT Bold"/>
              </a:rPr>
              <a:t>Identifying Oxidising and Reducing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4560" y="475920"/>
            <a:ext cx="173844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2268360" y="692280"/>
            <a:ext cx="44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ormation of calcium oxide (Ca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2843280" y="1125360"/>
            <a:ext cx="338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a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a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971640" y="1550880"/>
            <a:ext cx="7056360" cy="12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a and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(reactant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neutral at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alcium oxide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(product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ionic compo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692360" y="2784600"/>
            <a:ext cx="568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an write the reaction as two half-reac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3132000" y="3218040"/>
            <a:ext cx="25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a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I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a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3205080" y="3649680"/>
            <a:ext cx="2303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O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898560" y="414972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ere, calcium is </a:t>
            </a:r>
            <a:r>
              <a:rPr b="0" lang="en-IE" sz="2200" spc="-1" strike="noStrike" u="sng">
                <a:solidFill>
                  <a:srgbClr val="0000ff"/>
                </a:solidFill>
                <a:uFillTx/>
                <a:latin typeface="Arial"/>
              </a:rPr>
              <a:t>oxidised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; i.e. it </a:t>
            </a:r>
            <a:r>
              <a:rPr b="0" lang="en-IE" sz="2200" spc="-1" strike="noStrike">
                <a:solidFill>
                  <a:srgbClr val="0000ff"/>
                </a:solidFill>
                <a:latin typeface="Arial"/>
              </a:rPr>
              <a:t>loses electrons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to oxy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1187280" y="4581360"/>
            <a:ext cx="295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i="1" lang="en-IE" sz="2200" spc="-1" strike="noStrike">
                <a:solidFill>
                  <a:srgbClr val="0000ff"/>
                </a:solidFill>
                <a:latin typeface="Arial"/>
              </a:rPr>
              <a:t>reduces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the oxy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4356000" y="4586400"/>
            <a:ext cx="421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acts as a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reduc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1187280" y="5378400"/>
            <a:ext cx="698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xygen is </a:t>
            </a:r>
            <a:r>
              <a:rPr b="0" lang="en-IE" sz="2200" spc="-1" strike="noStrike" u="sng">
                <a:solidFill>
                  <a:srgbClr val="660066"/>
                </a:solidFill>
                <a:uFillTx/>
                <a:latin typeface="Arial"/>
              </a:rPr>
              <a:t>reduced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; i.e. it </a:t>
            </a:r>
            <a:r>
              <a:rPr b="0" lang="en-IE" sz="2200" spc="-1" strike="noStrike">
                <a:solidFill>
                  <a:srgbClr val="660066"/>
                </a:solidFill>
                <a:latin typeface="Arial"/>
              </a:rPr>
              <a:t>gains electrons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rom calc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5"/>
          <p:cNvSpPr/>
          <p:nvPr/>
        </p:nvSpPr>
        <p:spPr>
          <a:xfrm>
            <a:off x="1187280" y="5810400"/>
            <a:ext cx="302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i="1" lang="en-IE" sz="2200" spc="-1" strike="noStrike">
                <a:solidFill>
                  <a:srgbClr val="660066"/>
                </a:solidFill>
                <a:latin typeface="Arial"/>
              </a:rPr>
              <a:t>oxidises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the calcium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6"/>
          <p:cNvSpPr/>
          <p:nvPr/>
        </p:nvSpPr>
        <p:spPr>
          <a:xfrm>
            <a:off x="4356000" y="5810400"/>
            <a:ext cx="424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t acts as an </a:t>
            </a:r>
            <a:r>
              <a:rPr b="0" lang="en-IE" sz="2200" spc="-1" strike="noStrike">
                <a:solidFill>
                  <a:srgbClr val="660066"/>
                </a:solidFill>
                <a:latin typeface="Arial"/>
              </a:rPr>
              <a:t>oxidis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7"/>
          <p:cNvSpPr/>
          <p:nvPr/>
        </p:nvSpPr>
        <p:spPr>
          <a:xfrm>
            <a:off x="5002920" y="3216960"/>
            <a:ext cx="785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4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>
            <a:off x="3634560" y="3643920"/>
            <a:ext cx="785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4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9"/>
          <p:cNvSpPr/>
          <p:nvPr/>
        </p:nvSpPr>
        <p:spPr>
          <a:xfrm>
            <a:off x="-36360" y="4508640"/>
            <a:ext cx="75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 u="sng">
                <a:solidFill>
                  <a:srgbClr val="0000ff"/>
                </a:solidFill>
                <a:uFillTx/>
                <a:latin typeface="Arial"/>
              </a:rPr>
              <a:t>O</a:t>
            </a:r>
            <a:r>
              <a:rPr b="0" lang="en-IE" sz="2200" spc="-1" strike="noStrike">
                <a:solidFill>
                  <a:srgbClr val="0000ff"/>
                </a:solidFill>
                <a:latin typeface="Arial"/>
              </a:rPr>
              <a:t>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0"/>
          <p:cNvSpPr/>
          <p:nvPr/>
        </p:nvSpPr>
        <p:spPr>
          <a:xfrm>
            <a:off x="-36360" y="5589720"/>
            <a:ext cx="75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 u="sng">
                <a:solidFill>
                  <a:srgbClr val="660066"/>
                </a:solidFill>
                <a:uFillTx/>
                <a:latin typeface="Arial"/>
              </a:rPr>
              <a:t>R</a:t>
            </a:r>
            <a:r>
              <a:rPr b="0" lang="en-IE" sz="2200" spc="-1" strike="noStrike">
                <a:solidFill>
                  <a:srgbClr val="660066"/>
                </a:solidFill>
                <a:latin typeface="Arial"/>
              </a:rPr>
              <a:t>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11"/>
          <p:cNvSpPr/>
          <p:nvPr/>
        </p:nvSpPr>
        <p:spPr>
          <a:xfrm>
            <a:off x="34920" y="189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2268360" y="981000"/>
            <a:ext cx="4032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b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Pb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108000" y="54936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dentify the oxidising and reducing agents in the following reac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4"/>
          <p:cNvSpPr/>
          <p:nvPr/>
        </p:nvSpPr>
        <p:spPr>
          <a:xfrm flipV="1">
            <a:off x="2195640" y="256032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8"/>
          <p:cNvSpPr/>
          <p:nvPr/>
        </p:nvSpPr>
        <p:spPr>
          <a:xfrm flipV="1">
            <a:off x="2627280" y="256032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9"/>
          <p:cNvSpPr/>
          <p:nvPr/>
        </p:nvSpPr>
        <p:spPr>
          <a:xfrm flipV="1">
            <a:off x="3780000" y="25603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0"/>
          <p:cNvSpPr/>
          <p:nvPr/>
        </p:nvSpPr>
        <p:spPr>
          <a:xfrm flipH="1" flipV="1">
            <a:off x="3995640" y="2560320"/>
            <a:ext cx="144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1"/>
          <p:cNvSpPr/>
          <p:nvPr/>
        </p:nvSpPr>
        <p:spPr>
          <a:xfrm flipV="1">
            <a:off x="5003640" y="25603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2"/>
          <p:cNvSpPr/>
          <p:nvPr/>
        </p:nvSpPr>
        <p:spPr>
          <a:xfrm flipV="1">
            <a:off x="5580000" y="2560320"/>
            <a:ext cx="144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3"/>
          <p:cNvSpPr/>
          <p:nvPr/>
        </p:nvSpPr>
        <p:spPr>
          <a:xfrm flipH="1" flipV="1">
            <a:off x="6013440" y="256032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1763640" y="291924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2268360" y="2919240"/>
            <a:ext cx="574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3421080" y="2919240"/>
            <a:ext cx="574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7"/>
          <p:cNvSpPr/>
          <p:nvPr/>
        </p:nvSpPr>
        <p:spPr>
          <a:xfrm>
            <a:off x="3995640" y="2919240"/>
            <a:ext cx="50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8"/>
          <p:cNvSpPr/>
          <p:nvPr/>
        </p:nvSpPr>
        <p:spPr>
          <a:xfrm>
            <a:off x="4861080" y="2919240"/>
            <a:ext cx="57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9"/>
          <p:cNvSpPr/>
          <p:nvPr/>
        </p:nvSpPr>
        <p:spPr>
          <a:xfrm>
            <a:off x="5221440" y="291924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0"/>
          <p:cNvSpPr/>
          <p:nvPr/>
        </p:nvSpPr>
        <p:spPr>
          <a:xfrm>
            <a:off x="6012000" y="291924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2"/>
          <p:cNvSpPr/>
          <p:nvPr/>
        </p:nvSpPr>
        <p:spPr>
          <a:xfrm>
            <a:off x="4068720" y="4297320"/>
            <a:ext cx="410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b </a:t>
            </a:r>
            <a:r>
              <a:rPr b="0" i="1" lang="en-IE" sz="2200" spc="-1" strike="noStrike">
                <a:solidFill>
                  <a:srgbClr val="660066"/>
                </a:solidFill>
                <a:latin typeface="Arial"/>
              </a:rPr>
              <a:t>increases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O.N. from +2 to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4"/>
          <p:cNvSpPr/>
          <p:nvPr/>
        </p:nvSpPr>
        <p:spPr>
          <a:xfrm>
            <a:off x="4067280" y="4873680"/>
            <a:ext cx="547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bO is </a:t>
            </a:r>
            <a:r>
              <a:rPr b="0" lang="en-IE" sz="2200" spc="-1" strike="noStrike" u="sng">
                <a:solidFill>
                  <a:srgbClr val="660066"/>
                </a:solidFill>
                <a:uFillTx/>
                <a:latin typeface="Arial"/>
              </a:rPr>
              <a:t>reduced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; acts as </a:t>
            </a:r>
            <a:r>
              <a:rPr b="0" lang="en-IE" sz="2200" spc="-1" strike="noStrike">
                <a:solidFill>
                  <a:srgbClr val="660066"/>
                </a:solidFill>
                <a:latin typeface="Arial"/>
              </a:rPr>
              <a:t>oxidis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5"/>
          <p:cNvSpPr/>
          <p:nvPr/>
        </p:nvSpPr>
        <p:spPr>
          <a:xfrm>
            <a:off x="4033800" y="5661000"/>
            <a:ext cx="421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i="1" lang="en-IE" sz="2200" spc="-1" strike="noStrike">
                <a:solidFill>
                  <a:srgbClr val="0000ff"/>
                </a:solidFill>
                <a:latin typeface="Arial"/>
              </a:rPr>
              <a:t>decreases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O.N. from +2 to +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6"/>
          <p:cNvSpPr/>
          <p:nvPr/>
        </p:nvSpPr>
        <p:spPr>
          <a:xfrm>
            <a:off x="4068720" y="6242040"/>
            <a:ext cx="504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O is </a:t>
            </a:r>
            <a:r>
              <a:rPr b="0" lang="en-IE" sz="2200" spc="-1" strike="noStrike" u="sng">
                <a:solidFill>
                  <a:srgbClr val="0000ff"/>
                </a:solidFill>
                <a:uFillTx/>
                <a:latin typeface="Arial"/>
              </a:rPr>
              <a:t>oxidised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; acts as </a:t>
            </a:r>
            <a:r>
              <a:rPr b="0" lang="en-IE" sz="2200" spc="-1" strike="noStrike">
                <a:solidFill>
                  <a:srgbClr val="0000ff"/>
                </a:solidFill>
                <a:latin typeface="Arial"/>
              </a:rPr>
              <a:t>reduc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9"/>
          <p:cNvSpPr/>
          <p:nvPr/>
        </p:nvSpPr>
        <p:spPr>
          <a:xfrm>
            <a:off x="108000" y="1557360"/>
            <a:ext cx="439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Assign oxidation number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0"/>
          <p:cNvSpPr/>
          <p:nvPr/>
        </p:nvSpPr>
        <p:spPr>
          <a:xfrm>
            <a:off x="2413080" y="2060640"/>
            <a:ext cx="4032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b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Pb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1"/>
          <p:cNvSpPr/>
          <p:nvPr/>
        </p:nvSpPr>
        <p:spPr>
          <a:xfrm>
            <a:off x="-179280" y="3578400"/>
            <a:ext cx="395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Write half equ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47"/>
          <p:cNvGrpSpPr/>
          <p:nvPr/>
        </p:nvGrpSpPr>
        <p:grpSpPr>
          <a:xfrm>
            <a:off x="427680" y="4369320"/>
            <a:ext cx="2830680" cy="429120"/>
            <a:chOff x="427680" y="4369320"/>
            <a:chExt cx="2830680" cy="429120"/>
          </a:xfrm>
        </p:grpSpPr>
        <p:sp>
          <p:nvSpPr>
            <p:cNvPr id="223" name="Rectangle 42"/>
            <p:cNvSpPr/>
            <p:nvPr/>
          </p:nvSpPr>
          <p:spPr>
            <a:xfrm>
              <a:off x="427680" y="4369320"/>
              <a:ext cx="2830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Pb</a:t>
              </a:r>
              <a:r>
                <a:rPr b="0" lang="en-IE" sz="2200" spc="-1" strike="noStrike" baseline="30000">
                  <a:solidFill>
                    <a:srgbClr val="000000"/>
                  </a:solidFill>
                  <a:latin typeface="Arial"/>
                </a:rPr>
                <a:t>+2</a:t>
              </a: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  + 2e</a:t>
              </a:r>
              <a:r>
                <a:rPr b="0" lang="en-IE" sz="22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           Pb</a:t>
              </a:r>
              <a:r>
                <a:rPr b="0" lang="en-IE" sz="22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44"/>
            <p:cNvSpPr/>
            <p:nvPr/>
          </p:nvSpPr>
          <p:spPr>
            <a:xfrm>
              <a:off x="2014560" y="45864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46"/>
          <p:cNvGrpSpPr/>
          <p:nvPr/>
        </p:nvGrpSpPr>
        <p:grpSpPr>
          <a:xfrm>
            <a:off x="444240" y="5664600"/>
            <a:ext cx="2655720" cy="429120"/>
            <a:chOff x="444240" y="5664600"/>
            <a:chExt cx="2655720" cy="429120"/>
          </a:xfrm>
        </p:grpSpPr>
        <p:sp>
          <p:nvSpPr>
            <p:cNvPr id="226" name="Rectangle 43"/>
            <p:cNvSpPr/>
            <p:nvPr/>
          </p:nvSpPr>
          <p:spPr>
            <a:xfrm>
              <a:off x="444240" y="5664600"/>
              <a:ext cx="2655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IE" sz="2200" spc="-1" strike="noStrike" baseline="30000">
                  <a:solidFill>
                    <a:srgbClr val="000000"/>
                  </a:solidFill>
                  <a:latin typeface="Arial"/>
                </a:rPr>
                <a:t>+2</a:t>
              </a: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             C</a:t>
              </a:r>
              <a:r>
                <a:rPr b="0" lang="en-IE" sz="2200" spc="-1" strike="noStrike" baseline="30000">
                  <a:solidFill>
                    <a:srgbClr val="000000"/>
                  </a:solidFill>
                  <a:latin typeface="Arial"/>
                </a:rPr>
                <a:t>+4  </a:t>
              </a: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+ 2e</a:t>
              </a:r>
              <a:r>
                <a:rPr b="0" lang="en-IE" sz="22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45"/>
            <p:cNvSpPr/>
            <p:nvPr/>
          </p:nvSpPr>
          <p:spPr>
            <a:xfrm>
              <a:off x="1170000" y="587664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Rectangle 48"/>
          <p:cNvSpPr/>
          <p:nvPr/>
        </p:nvSpPr>
        <p:spPr>
          <a:xfrm>
            <a:off x="4067280" y="3500280"/>
            <a:ext cx="532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3: Identify oxidising and reducing agen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9"/>
          <p:cNvSpPr/>
          <p:nvPr/>
        </p:nvSpPr>
        <p:spPr>
          <a:xfrm>
            <a:off x="3635280" y="342900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0"/>
          <p:cNvSpPr/>
          <p:nvPr/>
        </p:nvSpPr>
        <p:spPr>
          <a:xfrm>
            <a:off x="0" y="335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360" y="43920"/>
            <a:ext cx="173808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66"/>
                </a:solidFill>
                <a:latin typeface="Arial"/>
              </a:rPr>
              <a:t>Questions</a:t>
            </a:r>
            <a:r>
              <a:rPr b="0" lang="en-IE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dentify the oxidising and reducing agents and write the half reactions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follow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79280" y="4941720"/>
            <a:ext cx="3313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c) 4Fe +3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Fe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979640" y="5438880"/>
            <a:ext cx="669600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 Fe </a:t>
            </a:r>
            <a:r>
              <a:rPr b="1" i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4e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2O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: oxidising agent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  Fe: reduc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179280" y="2997360"/>
            <a:ext cx="280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b) Si + 2F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iF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2052720" y="3429000"/>
            <a:ext cx="655164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 Si </a:t>
            </a:r>
            <a:r>
              <a:rPr b="1" i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Si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4+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4e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2F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: oxidising agent    Si : reduc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179280" y="1268280"/>
            <a:ext cx="424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a) Cl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NaBr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NaCl + B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1979640" y="1700280"/>
            <a:ext cx="6804000" cy="13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 2Br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1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1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2Cl</a:t>
            </a:r>
            <a:r>
              <a:rPr b="1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: oxidising agent    Br </a:t>
            </a:r>
            <a:r>
              <a:rPr b="1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: reduc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19280" y="44280"/>
            <a:ext cx="555480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0000"/>
                </a:solidFill>
                <a:latin typeface="Arial Rounded MT Bold"/>
              </a:rPr>
              <a:t>Balancing redox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-36360" y="333000"/>
            <a:ext cx="1450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-36360" y="722160"/>
            <a:ext cx="91803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 the equation showing the oxidation of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 to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 by dichromate ions (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) in an acidic me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2554200" y="1488960"/>
            <a:ext cx="3889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-36360" y="1916280"/>
            <a:ext cx="89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971640" y="2421000"/>
            <a:ext cx="143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3781440" y="2486160"/>
            <a:ext cx="4535640" cy="12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2Cr + 7(-2) =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r = 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 = +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969840" y="2852640"/>
            <a:ext cx="144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+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971640" y="3284640"/>
            <a:ext cx="143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+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3203640" y="3649680"/>
            <a:ext cx="187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0" y="4005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ron loses one electron, i.e. it is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ised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.  It donates one electron to dichromate, i.e. it is the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reducing agent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3"/>
          <p:cNvSpPr/>
          <p:nvPr/>
        </p:nvSpPr>
        <p:spPr>
          <a:xfrm>
            <a:off x="3059280" y="5259240"/>
            <a:ext cx="2087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6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0" y="5619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hromium gains three electrons, i.e. it is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reduced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.  It gains its electrons from iron, i.e. it is the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ising ag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1835280" y="4802040"/>
            <a:ext cx="590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xidation reaction: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1763640" y="6386400"/>
            <a:ext cx="583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Reduction reaction: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6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7"/>
          <p:cNvSpPr/>
          <p:nvPr/>
        </p:nvSpPr>
        <p:spPr>
          <a:xfrm>
            <a:off x="179280" y="4797360"/>
            <a:ext cx="1297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Half equ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8"/>
          <p:cNvSpPr/>
          <p:nvPr/>
        </p:nvSpPr>
        <p:spPr>
          <a:xfrm>
            <a:off x="179280" y="6453360"/>
            <a:ext cx="1297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Half equ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-108360" y="836640"/>
            <a:ext cx="69944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Balance each kind of atom other that H and 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61920" y="1153800"/>
            <a:ext cx="238608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4284720" y="1197000"/>
            <a:ext cx="3240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0" y="1619280"/>
            <a:ext cx="6372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3: Balance oxygen atoms by using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971640" y="2190600"/>
            <a:ext cx="244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4284720" y="2190600"/>
            <a:ext cx="4751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7H</a:t>
            </a:r>
            <a:r>
              <a:rPr b="0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0" y="2771640"/>
            <a:ext cx="550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4: Balance H atoms by using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971640" y="3348000"/>
            <a:ext cx="23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3851280" y="3343320"/>
            <a:ext cx="5041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-36360" y="3919680"/>
            <a:ext cx="871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971640" y="4422600"/>
            <a:ext cx="252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3"/>
          <p:cNvSpPr/>
          <p:nvPr/>
        </p:nvSpPr>
        <p:spPr>
          <a:xfrm>
            <a:off x="3851280" y="4427640"/>
            <a:ext cx="489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6"/>
          <p:cNvSpPr/>
          <p:nvPr/>
        </p:nvSpPr>
        <p:spPr>
          <a:xfrm rot="16200000">
            <a:off x="5040000" y="404640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5400" y="10799"/>
                  <a:pt x="0" y="10799"/>
                </a:cubicBezTo>
                <a:cubicBezTo>
                  <a:pt x="54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7"/>
          <p:cNvSpPr/>
          <p:nvPr/>
        </p:nvSpPr>
        <p:spPr>
          <a:xfrm rot="16200000">
            <a:off x="7524000" y="4220280"/>
            <a:ext cx="216000" cy="194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5400" y="10799"/>
                  <a:pt x="0" y="10799"/>
                </a:cubicBezTo>
                <a:cubicBezTo>
                  <a:pt x="54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8"/>
          <p:cNvSpPr/>
          <p:nvPr/>
        </p:nvSpPr>
        <p:spPr>
          <a:xfrm>
            <a:off x="4716360" y="530712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9"/>
          <p:cNvSpPr/>
          <p:nvPr/>
        </p:nvSpPr>
        <p:spPr>
          <a:xfrm>
            <a:off x="7380360" y="530712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0"/>
          <p:cNvSpPr/>
          <p:nvPr/>
        </p:nvSpPr>
        <p:spPr>
          <a:xfrm>
            <a:off x="324000" y="5576760"/>
            <a:ext cx="82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dd three electrons to the reactant side to balance the char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1"/>
          <p:cNvSpPr/>
          <p:nvPr/>
        </p:nvSpPr>
        <p:spPr>
          <a:xfrm>
            <a:off x="468360" y="6153120"/>
            <a:ext cx="316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2"/>
          <p:cNvSpPr/>
          <p:nvPr/>
        </p:nvSpPr>
        <p:spPr>
          <a:xfrm>
            <a:off x="3635280" y="6157800"/>
            <a:ext cx="4967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3"/>
          <p:cNvSpPr/>
          <p:nvPr/>
        </p:nvSpPr>
        <p:spPr>
          <a:xfrm>
            <a:off x="2484360" y="189000"/>
            <a:ext cx="3889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4"/>
          <p:cNvSpPr/>
          <p:nvPr/>
        </p:nvSpPr>
        <p:spPr>
          <a:xfrm>
            <a:off x="406728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5"/>
          <p:cNvSpPr/>
          <p:nvPr/>
        </p:nvSpPr>
        <p:spPr>
          <a:xfrm>
            <a:off x="507672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6"/>
          <p:cNvSpPr/>
          <p:nvPr/>
        </p:nvSpPr>
        <p:spPr>
          <a:xfrm>
            <a:off x="594036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7"/>
          <p:cNvSpPr/>
          <p:nvPr/>
        </p:nvSpPr>
        <p:spPr>
          <a:xfrm>
            <a:off x="687708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8"/>
          <p:cNvSpPr/>
          <p:nvPr/>
        </p:nvSpPr>
        <p:spPr>
          <a:xfrm>
            <a:off x="802800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30"/>
          <p:cNvSpPr/>
          <p:nvPr/>
        </p:nvSpPr>
        <p:spPr>
          <a:xfrm rot="16200000">
            <a:off x="2520000" y="4472640"/>
            <a:ext cx="144720" cy="1368720"/>
          </a:xfrm>
          <a:custGeom>
            <a:avLst/>
            <a:gdLst>
              <a:gd name="textAreaLeft" fmla="*/ 92520 w 144720"/>
              <a:gd name="textAreaRight" fmla="*/ 145080 w 14472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5400" y="10799"/>
                  <a:pt x="0" y="10799"/>
                </a:cubicBezTo>
                <a:cubicBezTo>
                  <a:pt x="54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31"/>
          <p:cNvSpPr/>
          <p:nvPr/>
        </p:nvSpPr>
        <p:spPr>
          <a:xfrm rot="16200000">
            <a:off x="1295280" y="4832280"/>
            <a:ext cx="144720" cy="649440"/>
          </a:xfrm>
          <a:custGeom>
            <a:avLst/>
            <a:gdLst>
              <a:gd name="textAreaLeft" fmla="*/ 92520 w 144720"/>
              <a:gd name="textAreaRight" fmla="*/ 145080 w 144720"/>
              <a:gd name="textAreaTop" fmla="*/ 16920 h 649440"/>
              <a:gd name="textAreaBottom" fmla="*/ 632520 h 6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5400" y="10799"/>
                  <a:pt x="0" y="10799"/>
                </a:cubicBezTo>
                <a:cubicBezTo>
                  <a:pt x="54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2"/>
          <p:cNvSpPr/>
          <p:nvPr/>
        </p:nvSpPr>
        <p:spPr>
          <a:xfrm>
            <a:off x="277164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3"/>
          <p:cNvSpPr/>
          <p:nvPr/>
        </p:nvSpPr>
        <p:spPr>
          <a:xfrm>
            <a:off x="212400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4"/>
          <p:cNvSpPr/>
          <p:nvPr/>
        </p:nvSpPr>
        <p:spPr>
          <a:xfrm>
            <a:off x="111600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5"/>
          <p:cNvSpPr/>
          <p:nvPr/>
        </p:nvSpPr>
        <p:spPr>
          <a:xfrm>
            <a:off x="900000" y="530064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6"/>
          <p:cNvSpPr/>
          <p:nvPr/>
        </p:nvSpPr>
        <p:spPr>
          <a:xfrm>
            <a:off x="2124000" y="530712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20268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6: Ensure the number of electrons gained equals the number of electrons lost and add the 2 half reactions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14640" y="1023840"/>
            <a:ext cx="2386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187280" y="1562040"/>
            <a:ext cx="6191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7164360" y="105732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7093080" y="1557360"/>
            <a:ext cx="86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3203640" y="2496960"/>
            <a:ext cx="381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6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6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1403280" y="3002040"/>
            <a:ext cx="583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9"/>
          <p:cNvSpPr/>
          <p:nvPr/>
        </p:nvSpPr>
        <p:spPr>
          <a:xfrm>
            <a:off x="1403280" y="350028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539640" y="3578400"/>
            <a:ext cx="8209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6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6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1403280" y="4514760"/>
            <a:ext cx="6193080" cy="4752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6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6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5364000" y="4946760"/>
            <a:ext cx="324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3"/>
          <p:cNvSpPr/>
          <p:nvPr/>
        </p:nvSpPr>
        <p:spPr>
          <a:xfrm>
            <a:off x="108000" y="5810400"/>
            <a:ext cx="878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0" y="217296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1: Identify the oxidising and reducing agents, then write the half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2: Balance each atom, except H and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3: Balance the O atoms (using H</a:t>
            </a:r>
            <a:r>
              <a:rPr b="0" lang="en-I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4: Balance the H atoms (using H</a:t>
            </a:r>
            <a:r>
              <a:rPr b="0" lang="en-IE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5: Check the charges are balanced for each half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6: Ensure the numbers of electrons are equal (i.e. there are the same numbers lost and gain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7: Add the two equations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Finally: check that all the charges and the numbers of atoms balan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-252360" y="-27000"/>
            <a:ext cx="1954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66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0" y="476280"/>
            <a:ext cx="9144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 the equation for the redox reaction of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with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roduce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and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n an acidic mediu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108000" y="1486080"/>
            <a:ext cx="28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Procedu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3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8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3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8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8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3" dur="5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8" dur="5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252360" y="-27360"/>
            <a:ext cx="1954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66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 the equation for the redox reaction of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with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roduce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and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n an acidic mediu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-252360" y="112536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Answ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73080" y="1484280"/>
            <a:ext cx="88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2844720" y="2281320"/>
            <a:ext cx="2879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258920" y="2816280"/>
            <a:ext cx="287964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+ 4(-2) =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144360" y="3649680"/>
            <a:ext cx="8964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gains 5 electrons. It acts as the oxidising agent as it is redu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4498920" y="3002040"/>
            <a:ext cx="151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: 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1835280" y="4081320"/>
            <a:ext cx="5473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1"/>
          <p:cNvSpPr/>
          <p:nvPr/>
        </p:nvSpPr>
        <p:spPr>
          <a:xfrm>
            <a:off x="2916360" y="4724280"/>
            <a:ext cx="287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2"/>
          <p:cNvSpPr/>
          <p:nvPr/>
        </p:nvSpPr>
        <p:spPr>
          <a:xfrm>
            <a:off x="468360" y="5157720"/>
            <a:ext cx="867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 loses an electron. It acts as the reducing agent as it is oxidis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3"/>
          <p:cNvSpPr/>
          <p:nvPr/>
        </p:nvSpPr>
        <p:spPr>
          <a:xfrm>
            <a:off x="1476360" y="5805360"/>
            <a:ext cx="62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70675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Balance each kind of atom other than H and 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8000" y="475920"/>
            <a:ext cx="2890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d in this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108000" y="981000"/>
            <a:ext cx="604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3: Balance O atoms by adding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158760" y="1743120"/>
            <a:ext cx="7365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2195640" y="1417680"/>
            <a:ext cx="5111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 4H</a:t>
            </a:r>
            <a:r>
              <a:rPr b="0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7"/>
          <p:cNvSpPr/>
          <p:nvPr/>
        </p:nvSpPr>
        <p:spPr>
          <a:xfrm>
            <a:off x="2843280" y="1844640"/>
            <a:ext cx="381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-179280" y="2349360"/>
            <a:ext cx="590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4: Balance H atoms by using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2411280" y="2781360"/>
            <a:ext cx="4681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0"/>
          <p:cNvSpPr/>
          <p:nvPr/>
        </p:nvSpPr>
        <p:spPr>
          <a:xfrm>
            <a:off x="3203640" y="3213000"/>
            <a:ext cx="295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34920" y="3716280"/>
            <a:ext cx="896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2"/>
          <p:cNvSpPr/>
          <p:nvPr/>
        </p:nvSpPr>
        <p:spPr>
          <a:xfrm>
            <a:off x="3060720" y="4149720"/>
            <a:ext cx="324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3"/>
          <p:cNvSpPr/>
          <p:nvPr/>
        </p:nvSpPr>
        <p:spPr>
          <a:xfrm>
            <a:off x="2484360" y="5013360"/>
            <a:ext cx="446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4"/>
          <p:cNvSpPr/>
          <p:nvPr/>
        </p:nvSpPr>
        <p:spPr>
          <a:xfrm rot="16200000">
            <a:off x="3528000" y="4401360"/>
            <a:ext cx="216000" cy="2160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56160 h 2160360"/>
              <a:gd name="textAreaBottom" fmla="*/ 2104200 h 21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5"/>
          <p:cNvSpPr/>
          <p:nvPr/>
        </p:nvSpPr>
        <p:spPr>
          <a:xfrm rot="16200000">
            <a:off x="5796000" y="4652640"/>
            <a:ext cx="289080" cy="1584360"/>
          </a:xfrm>
          <a:custGeom>
            <a:avLst/>
            <a:gdLst>
              <a:gd name="textAreaLeft" fmla="*/ 184680 w 289080"/>
              <a:gd name="textAreaRight" fmla="*/ 289080 w 2890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800"/>
                </a:lnTo>
                <a:cubicBezTo>
                  <a:pt x="10800" y="10700"/>
                  <a:pt x="5400" y="11600"/>
                  <a:pt x="0" y="11600"/>
                </a:cubicBezTo>
                <a:cubicBezTo>
                  <a:pt x="5400" y="11600"/>
                  <a:pt x="10800" y="12500"/>
                  <a:pt x="10800" y="134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6"/>
          <p:cNvSpPr/>
          <p:nvPr/>
        </p:nvSpPr>
        <p:spPr>
          <a:xfrm rot="16200000">
            <a:off x="3889440" y="4184280"/>
            <a:ext cx="142920" cy="647640"/>
          </a:xfrm>
          <a:custGeom>
            <a:avLst/>
            <a:gdLst>
              <a:gd name="textAreaLeft" fmla="*/ 91440 w 142920"/>
              <a:gd name="textAreaRight" fmla="*/ 1432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7"/>
          <p:cNvSpPr/>
          <p:nvPr/>
        </p:nvSpPr>
        <p:spPr>
          <a:xfrm rot="16200000">
            <a:off x="5039280" y="4040640"/>
            <a:ext cx="216000" cy="1008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8"/>
          <p:cNvSpPr/>
          <p:nvPr/>
        </p:nvSpPr>
        <p:spPr>
          <a:xfrm>
            <a:off x="3276720" y="551664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9"/>
          <p:cNvSpPr/>
          <p:nvPr/>
        </p:nvSpPr>
        <p:spPr>
          <a:xfrm>
            <a:off x="5724360" y="5516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0"/>
          <p:cNvSpPr/>
          <p:nvPr/>
        </p:nvSpPr>
        <p:spPr>
          <a:xfrm>
            <a:off x="3635280" y="4508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1"/>
          <p:cNvSpPr/>
          <p:nvPr/>
        </p:nvSpPr>
        <p:spPr>
          <a:xfrm>
            <a:off x="4716360" y="454500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2"/>
          <p:cNvSpPr/>
          <p:nvPr/>
        </p:nvSpPr>
        <p:spPr>
          <a:xfrm>
            <a:off x="322200" y="5805360"/>
            <a:ext cx="83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nodeType="clickEffect" fill="hold">
                      <p:stCondLst>
                        <p:cond delay="indefinite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5338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We now need to balance the hydroge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lace a 2 before the hydrogens on the reactant side of the eq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773440" y="1125360"/>
            <a:ext cx="25905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5651640" y="1130400"/>
            <a:ext cx="158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36360" y="1844640"/>
            <a:ext cx="352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Note: Diatomic molec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0" y="2205000"/>
            <a:ext cx="9144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Equation for formation of water included hydrogens and oxygens with subscript 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ther elements which occur in this way are Nitrogen, Fluorine, Chlorine, Bromine and Iodi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se elements occur naturally as diatomic (meaning 2 atoms) molec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0" y="470844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stoichiometric coefficients multiplying the chemical formulas tell you the relative numbers of moles of each substance that reacts or is produced in a chemical rea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0" y="59072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refore, we can conclude from the balanced equation for water that 2 moles of hydrogen and one mol of oxygen combine to form wa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6: Ensure the number of electrons gained equals the number of electrons lost and add the two half reactions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121200" y="907560"/>
            <a:ext cx="2458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 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5724360" y="907920"/>
            <a:ext cx="1152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1474920" y="1488960"/>
            <a:ext cx="4537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5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6659640" y="91440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6732720" y="141300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9"/>
          <p:cNvSpPr/>
          <p:nvPr/>
        </p:nvSpPr>
        <p:spPr>
          <a:xfrm>
            <a:off x="3059280" y="2349360"/>
            <a:ext cx="273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5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5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5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1"/>
          <p:cNvSpPr/>
          <p:nvPr/>
        </p:nvSpPr>
        <p:spPr>
          <a:xfrm>
            <a:off x="1547640" y="2852640"/>
            <a:ext cx="4391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5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2"/>
          <p:cNvSpPr/>
          <p:nvPr/>
        </p:nvSpPr>
        <p:spPr>
          <a:xfrm>
            <a:off x="1187280" y="3284640"/>
            <a:ext cx="525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3"/>
          <p:cNvSpPr/>
          <p:nvPr/>
        </p:nvSpPr>
        <p:spPr>
          <a:xfrm>
            <a:off x="395280" y="3357720"/>
            <a:ext cx="7345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5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5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1116000" y="4076640"/>
            <a:ext cx="5904000" cy="4752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755640" y="5229360"/>
            <a:ext cx="8388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539640" y="5589720"/>
            <a:ext cx="799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8"/>
          <p:cNvSpPr/>
          <p:nvPr/>
        </p:nvSpPr>
        <p:spPr>
          <a:xfrm>
            <a:off x="4932360" y="4581360"/>
            <a:ext cx="352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3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4"/>
          <p:cNvSpPr/>
          <p:nvPr/>
        </p:nvSpPr>
        <p:spPr>
          <a:xfrm>
            <a:off x="5724360" y="907920"/>
            <a:ext cx="1152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34560" y="404280"/>
            <a:ext cx="889308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Balance the following equation, which takes place in an acidic mediu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-108000" y="-27360"/>
            <a:ext cx="18115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66"/>
                </a:solidFill>
                <a:latin typeface="Arial"/>
              </a:rPr>
              <a:t>Ques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2122560" y="765000"/>
            <a:ext cx="4321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-179280" y="11970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1258920" y="1628640"/>
            <a:ext cx="309564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Mn +4(-2) =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- 8 =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5364000" y="1989000"/>
            <a:ext cx="158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144360" y="2857680"/>
            <a:ext cx="8820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gains 5 electrons: it acts as the oxidising agent as it is redu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4"/>
          <p:cNvSpPr/>
          <p:nvPr/>
        </p:nvSpPr>
        <p:spPr>
          <a:xfrm>
            <a:off x="1330200" y="3357720"/>
            <a:ext cx="62661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5"/>
          <p:cNvSpPr/>
          <p:nvPr/>
        </p:nvSpPr>
        <p:spPr>
          <a:xfrm>
            <a:off x="826920" y="4102200"/>
            <a:ext cx="352908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S + 2(-2)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 - 4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 = +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6"/>
          <p:cNvSpPr/>
          <p:nvPr/>
        </p:nvSpPr>
        <p:spPr>
          <a:xfrm>
            <a:off x="4500720" y="4102200"/>
            <a:ext cx="302400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S + 4(-2) =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  - 8 =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 = +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7"/>
          <p:cNvSpPr/>
          <p:nvPr/>
        </p:nvSpPr>
        <p:spPr>
          <a:xfrm>
            <a:off x="250920" y="5450040"/>
            <a:ext cx="86421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loses 2 electrons: it acts as the reducing agent as it is oxidi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826920" y="6021360"/>
            <a:ext cx="748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6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360" y="475920"/>
            <a:ext cx="7067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Balance each kind of atom other than H and 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867280" y="1036800"/>
            <a:ext cx="303552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d in this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0" y="1773360"/>
            <a:ext cx="529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3: Balance O atoms by using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1546200" y="2276640"/>
            <a:ext cx="5257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4H</a:t>
            </a:r>
            <a:r>
              <a:rPr b="0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2124000" y="2708280"/>
            <a:ext cx="3960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73080" y="3284640"/>
            <a:ext cx="543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4: Balance H atoms by using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1763640" y="3716280"/>
            <a:ext cx="4969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9"/>
          <p:cNvSpPr/>
          <p:nvPr/>
        </p:nvSpPr>
        <p:spPr>
          <a:xfrm>
            <a:off x="1835280" y="4221000"/>
            <a:ext cx="475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4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0"/>
          <p:cNvSpPr/>
          <p:nvPr/>
        </p:nvSpPr>
        <p:spPr>
          <a:xfrm>
            <a:off x="-36360" y="4653000"/>
            <a:ext cx="878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1"/>
          <p:cNvSpPr/>
          <p:nvPr/>
        </p:nvSpPr>
        <p:spPr>
          <a:xfrm>
            <a:off x="1619280" y="5079960"/>
            <a:ext cx="5184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12"/>
          <p:cNvSpPr/>
          <p:nvPr/>
        </p:nvSpPr>
        <p:spPr>
          <a:xfrm rot="16200000">
            <a:off x="2987640" y="4974840"/>
            <a:ext cx="360360" cy="2087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303"/>
                </a:lnTo>
                <a:cubicBezTo>
                  <a:pt x="10800" y="10203"/>
                  <a:pt x="5400" y="11103"/>
                  <a:pt x="0" y="11103"/>
                </a:cubicBezTo>
                <a:cubicBezTo>
                  <a:pt x="5400" y="11103"/>
                  <a:pt x="10800" y="12003"/>
                  <a:pt x="10800" y="1290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13"/>
          <p:cNvSpPr/>
          <p:nvPr/>
        </p:nvSpPr>
        <p:spPr>
          <a:xfrm rot="16200000">
            <a:off x="5399640" y="5226480"/>
            <a:ext cx="289080" cy="1512720"/>
          </a:xfrm>
          <a:custGeom>
            <a:avLst/>
            <a:gdLst>
              <a:gd name="textAreaLeft" fmla="*/ 184680 w 289080"/>
              <a:gd name="textAreaRight" fmla="*/ 289080 w 28908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303"/>
                </a:lnTo>
                <a:cubicBezTo>
                  <a:pt x="10800" y="10203"/>
                  <a:pt x="5400" y="11103"/>
                  <a:pt x="0" y="11103"/>
                </a:cubicBezTo>
                <a:cubicBezTo>
                  <a:pt x="5400" y="11103"/>
                  <a:pt x="10800" y="12003"/>
                  <a:pt x="10800" y="1290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4"/>
          <p:cNvSpPr/>
          <p:nvPr/>
        </p:nvSpPr>
        <p:spPr>
          <a:xfrm>
            <a:off x="2771640" y="612792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5"/>
          <p:cNvSpPr/>
          <p:nvPr/>
        </p:nvSpPr>
        <p:spPr>
          <a:xfrm>
            <a:off x="5219640" y="60548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6"/>
          <p:cNvSpPr/>
          <p:nvPr/>
        </p:nvSpPr>
        <p:spPr>
          <a:xfrm>
            <a:off x="539640" y="645804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8"/>
          <p:cNvSpPr/>
          <p:nvPr/>
        </p:nvSpPr>
        <p:spPr>
          <a:xfrm>
            <a:off x="2700360" y="115920"/>
            <a:ext cx="4321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9"/>
          <p:cNvSpPr/>
          <p:nvPr/>
        </p:nvSpPr>
        <p:spPr>
          <a:xfrm>
            <a:off x="1478160" y="965160"/>
            <a:ext cx="29239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0"/>
          <p:cNvSpPr/>
          <p:nvPr/>
        </p:nvSpPr>
        <p:spPr>
          <a:xfrm>
            <a:off x="1681560" y="1397160"/>
            <a:ext cx="23742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1"/>
          <p:cNvSpPr/>
          <p:nvPr/>
        </p:nvSpPr>
        <p:spPr>
          <a:xfrm>
            <a:off x="3780000" y="551664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2"/>
          <p:cNvSpPr/>
          <p:nvPr/>
        </p:nvSpPr>
        <p:spPr>
          <a:xfrm>
            <a:off x="4716360" y="551664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3"/>
          <p:cNvSpPr/>
          <p:nvPr/>
        </p:nvSpPr>
        <p:spPr>
          <a:xfrm>
            <a:off x="5724360" y="551664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4"/>
          <p:cNvSpPr/>
          <p:nvPr/>
        </p:nvSpPr>
        <p:spPr>
          <a:xfrm>
            <a:off x="2916360" y="551664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5"/>
          <p:cNvSpPr/>
          <p:nvPr/>
        </p:nvSpPr>
        <p:spPr>
          <a:xfrm>
            <a:off x="2050920" y="551664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nodeType="clickEffect" fill="hold">
                      <p:stCondLst>
                        <p:cond delay="indefinite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nodeType="clickEffect" fill="hold">
                      <p:stCondLst>
                        <p:cond delay="indefinite"/>
                      </p:stCondLst>
                      <p:childTnLst>
                        <p:par>
                          <p:cTn id="1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nodeType="clickEffect" fill="hold">
                      <p:stCondLst>
                        <p:cond delay="indefinite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nodeType="clickEffect" fill="hold">
                      <p:stCondLst>
                        <p:cond delay="indefinite"/>
                      </p:stCondLst>
                      <p:childTnLst>
                        <p:par>
                          <p:cTn id="1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nodeType="clickEffect" fill="hold">
                      <p:stCondLst>
                        <p:cond delay="indefinite"/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nodeType="clickEffect" fill="hold">
                      <p:stCondLst>
                        <p:cond delay="indefinite"/>
                      </p:stCondLst>
                      <p:childTnLst>
                        <p:par>
                          <p:cTn id="1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nodeType="clickEffect" fill="hold">
                      <p:stCondLst>
                        <p:cond delay="indefinite"/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195280" y="-27360"/>
            <a:ext cx="5113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 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336480" y="1125000"/>
            <a:ext cx="2459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lready 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4"/>
          <p:cNvSpPr/>
          <p:nvPr/>
        </p:nvSpPr>
        <p:spPr>
          <a:xfrm rot="16200000">
            <a:off x="3288960" y="-12600"/>
            <a:ext cx="144720" cy="1700280"/>
          </a:xfrm>
          <a:custGeom>
            <a:avLst/>
            <a:gdLst>
              <a:gd name="textAreaLeft" fmla="*/ 92520 w 144720"/>
              <a:gd name="textAreaRight" fmla="*/ 145080 w 144720"/>
              <a:gd name="textAreaTop" fmla="*/ 44280 h 1700280"/>
              <a:gd name="textAreaBottom" fmla="*/ 1656000 h 170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5"/>
          <p:cNvSpPr/>
          <p:nvPr/>
        </p:nvSpPr>
        <p:spPr>
          <a:xfrm rot="16200000">
            <a:off x="5580000" y="-313920"/>
            <a:ext cx="144720" cy="2303280"/>
          </a:xfrm>
          <a:custGeom>
            <a:avLst/>
            <a:gdLst>
              <a:gd name="textAreaLeft" fmla="*/ 92520 w 144720"/>
              <a:gd name="textAreaRight" fmla="*/ 145080 w 144720"/>
              <a:gd name="textAreaTop" fmla="*/ 59760 h 2303280"/>
              <a:gd name="textAreaBottom" fmla="*/ 2243520 h 23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6"/>
          <p:cNvSpPr/>
          <p:nvPr/>
        </p:nvSpPr>
        <p:spPr>
          <a:xfrm>
            <a:off x="2987640" y="90792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7"/>
          <p:cNvSpPr/>
          <p:nvPr/>
        </p:nvSpPr>
        <p:spPr>
          <a:xfrm>
            <a:off x="5292720" y="9079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8"/>
          <p:cNvSpPr/>
          <p:nvPr/>
        </p:nvSpPr>
        <p:spPr>
          <a:xfrm>
            <a:off x="0" y="1587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6: Ensure number of electrons gained equals number of electrons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lost and add the two half reactions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1189080" y="2641680"/>
            <a:ext cx="5975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0"/>
          <p:cNvSpPr/>
          <p:nvPr/>
        </p:nvSpPr>
        <p:spPr>
          <a:xfrm>
            <a:off x="6877080" y="2570040"/>
            <a:ext cx="10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1"/>
          <p:cNvSpPr/>
          <p:nvPr/>
        </p:nvSpPr>
        <p:spPr>
          <a:xfrm>
            <a:off x="1690560" y="3218040"/>
            <a:ext cx="4897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2"/>
          <p:cNvSpPr/>
          <p:nvPr/>
        </p:nvSpPr>
        <p:spPr>
          <a:xfrm>
            <a:off x="6948360" y="321300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3"/>
          <p:cNvSpPr/>
          <p:nvPr/>
        </p:nvSpPr>
        <p:spPr>
          <a:xfrm>
            <a:off x="1332000" y="3938760"/>
            <a:ext cx="5761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6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10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8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4"/>
          <p:cNvSpPr/>
          <p:nvPr/>
        </p:nvSpPr>
        <p:spPr>
          <a:xfrm>
            <a:off x="1403280" y="4441680"/>
            <a:ext cx="5616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0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5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5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10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0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5"/>
          <p:cNvSpPr/>
          <p:nvPr/>
        </p:nvSpPr>
        <p:spPr>
          <a:xfrm>
            <a:off x="1403280" y="4941720"/>
            <a:ext cx="554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6"/>
          <p:cNvSpPr/>
          <p:nvPr/>
        </p:nvSpPr>
        <p:spPr>
          <a:xfrm>
            <a:off x="144360" y="5089680"/>
            <a:ext cx="874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6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10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5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8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5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0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7"/>
          <p:cNvSpPr/>
          <p:nvPr/>
        </p:nvSpPr>
        <p:spPr>
          <a:xfrm>
            <a:off x="826920" y="5589720"/>
            <a:ext cx="7274160" cy="4752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5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8"/>
          <p:cNvSpPr/>
          <p:nvPr/>
        </p:nvSpPr>
        <p:spPr>
          <a:xfrm>
            <a:off x="2700360" y="477720"/>
            <a:ext cx="431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9"/>
          <p:cNvSpPr/>
          <p:nvPr/>
        </p:nvSpPr>
        <p:spPr>
          <a:xfrm>
            <a:off x="3564000" y="476280"/>
            <a:ext cx="431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20"/>
          <p:cNvSpPr/>
          <p:nvPr/>
        </p:nvSpPr>
        <p:spPr>
          <a:xfrm>
            <a:off x="4716360" y="476280"/>
            <a:ext cx="4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21"/>
          <p:cNvSpPr/>
          <p:nvPr/>
        </p:nvSpPr>
        <p:spPr>
          <a:xfrm>
            <a:off x="5508720" y="476280"/>
            <a:ext cx="431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22"/>
          <p:cNvSpPr/>
          <p:nvPr/>
        </p:nvSpPr>
        <p:spPr>
          <a:xfrm>
            <a:off x="6300720" y="476280"/>
            <a:ext cx="4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3"/>
          <p:cNvSpPr/>
          <p:nvPr/>
        </p:nvSpPr>
        <p:spPr>
          <a:xfrm>
            <a:off x="5221440" y="6021360"/>
            <a:ext cx="352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4"/>
          <p:cNvSpPr/>
          <p:nvPr/>
        </p:nvSpPr>
        <p:spPr>
          <a:xfrm>
            <a:off x="539640" y="6386400"/>
            <a:ext cx="799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5" dur="indefinite" restart="never" nodeType="tmRoot">
          <p:childTnLst>
            <p:seq>
              <p:cTn id="1336" dur="indefinite" nodeType="mainSeq">
                <p:childTnLst>
                  <p:par>
                    <p:cTn id="1337" nodeType="clickEffect" fill="hold">
                      <p:stCondLst>
                        <p:cond delay="indefinite"/>
                      </p:stCondLst>
                      <p:childTnLst>
                        <p:par>
                          <p:cTn id="1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nodeType="clickEffect" fill="hold">
                      <p:stCondLst>
                        <p:cond delay="indefinite"/>
                      </p:stCondLst>
                      <p:childTnLst>
                        <p:par>
                          <p:cTn id="1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7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nodeType="clickEffect" fill="hold">
                      <p:stCondLst>
                        <p:cond delay="indefinite"/>
                      </p:stCondLst>
                      <p:childTnLst>
                        <p:par>
                          <p:cTn id="1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nodeType="clickEffect" fill="hold">
                      <p:stCondLst>
                        <p:cond delay="indefinite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7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0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6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-108360" y="43920"/>
            <a:ext cx="21589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0066"/>
                </a:solidFill>
                <a:latin typeface="Arial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78920" y="476280"/>
            <a:ext cx="871236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Write balanced equations to represent the following reactions in 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cidic solu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4"/>
          <p:cNvSpPr/>
          <p:nvPr/>
        </p:nvSpPr>
        <p:spPr>
          <a:xfrm>
            <a:off x="179280" y="1557360"/>
            <a:ext cx="302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a) 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5"/>
          <p:cNvSpPr/>
          <p:nvPr/>
        </p:nvSpPr>
        <p:spPr>
          <a:xfrm>
            <a:off x="684360" y="1994040"/>
            <a:ext cx="619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Answer: 6I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8H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S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4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2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3I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S + 4H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6"/>
          <p:cNvSpPr/>
          <p:nvPr/>
        </p:nvSpPr>
        <p:spPr>
          <a:xfrm>
            <a:off x="179280" y="2708280"/>
            <a:ext cx="482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b)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7"/>
          <p:cNvSpPr/>
          <p:nvPr/>
        </p:nvSpPr>
        <p:spPr>
          <a:xfrm>
            <a:off x="898560" y="3213000"/>
            <a:ext cx="7777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Answer: 2Mn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4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5H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C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4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6H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2Mn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2+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10C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8H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8"/>
          <p:cNvSpPr/>
          <p:nvPr/>
        </p:nvSpPr>
        <p:spPr>
          <a:xfrm>
            <a:off x="179280" y="3933720"/>
            <a:ext cx="3816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c) Cl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Cl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l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9"/>
          <p:cNvSpPr/>
          <p:nvPr/>
        </p:nvSpPr>
        <p:spPr>
          <a:xfrm>
            <a:off x="684360" y="4508640"/>
            <a:ext cx="6913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Answer: 2Cl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2Cl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3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4H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Cl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2Cl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2H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3" dur="indefinite" restart="never" nodeType="tmRoot">
          <p:childTnLst>
            <p:seq>
              <p:cTn id="1404" dur="indefinite" nodeType="mainSeq">
                <p:childTnLst>
                  <p:par>
                    <p:cTn id="1405" nodeType="clickEffect" fill="hold">
                      <p:stCondLst>
                        <p:cond delay="indefinite"/>
                      </p:stCondLst>
                      <p:childTnLst>
                        <p:par>
                          <p:cTn id="1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1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nodeType="clickEffect" fill="hold">
                      <p:stCondLst>
                        <p:cond delay="indefinite"/>
                      </p:stCondLst>
                      <p:childTnLst>
                        <p:par>
                          <p:cTn id="1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nodeType="clickEffect" fill="hold">
                      <p:stCondLst>
                        <p:cond delay="indefinite"/>
                      </p:stCondLst>
                      <p:childTnLst>
                        <p:par>
                          <p:cTn id="1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5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276720" y="-27360"/>
            <a:ext cx="2458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In basic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08000" y="44280"/>
            <a:ext cx="14508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4"/>
          <p:cNvSpPr/>
          <p:nvPr/>
        </p:nvSpPr>
        <p:spPr>
          <a:xfrm>
            <a:off x="0" y="333360"/>
            <a:ext cx="9144000" cy="11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Write a balanced equation to represent the oxidation of iodide ion (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) by permanganate ion (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) in basic solution to yield molecular iodine (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) and manganese (IV) oxide (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5"/>
          <p:cNvSpPr/>
          <p:nvPr/>
        </p:nvSpPr>
        <p:spPr>
          <a:xfrm>
            <a:off x="34920" y="1989000"/>
            <a:ext cx="88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equ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1547640" y="2565360"/>
            <a:ext cx="100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7"/>
          <p:cNvSpPr/>
          <p:nvPr/>
        </p:nvSpPr>
        <p:spPr>
          <a:xfrm>
            <a:off x="3348000" y="2570040"/>
            <a:ext cx="22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.N. of 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s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8"/>
          <p:cNvSpPr/>
          <p:nvPr/>
        </p:nvSpPr>
        <p:spPr>
          <a:xfrm>
            <a:off x="5796000" y="2565360"/>
            <a:ext cx="2232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.N of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s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9"/>
          <p:cNvSpPr/>
          <p:nvPr/>
        </p:nvSpPr>
        <p:spPr>
          <a:xfrm>
            <a:off x="108000" y="3146400"/>
            <a:ext cx="88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loses an electron: it acts as the reducing agent as it is oxidi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0"/>
          <p:cNvSpPr/>
          <p:nvPr/>
        </p:nvSpPr>
        <p:spPr>
          <a:xfrm>
            <a:off x="1835280" y="3573360"/>
            <a:ext cx="6049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1"/>
          <p:cNvSpPr/>
          <p:nvPr/>
        </p:nvSpPr>
        <p:spPr>
          <a:xfrm>
            <a:off x="250920" y="4657680"/>
            <a:ext cx="2232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2"/>
          <p:cNvSpPr/>
          <p:nvPr/>
        </p:nvSpPr>
        <p:spPr>
          <a:xfrm>
            <a:off x="2556000" y="4632480"/>
            <a:ext cx="324000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Mn + 4(-2) =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3"/>
          <p:cNvSpPr/>
          <p:nvPr/>
        </p:nvSpPr>
        <p:spPr>
          <a:xfrm>
            <a:off x="6012000" y="4632480"/>
            <a:ext cx="295272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Mn + 2(-2)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= +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4"/>
          <p:cNvSpPr/>
          <p:nvPr/>
        </p:nvSpPr>
        <p:spPr>
          <a:xfrm>
            <a:off x="-36360" y="5665680"/>
            <a:ext cx="914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gains 3 electrons: it acts as the oxidising agent as it is redu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5"/>
          <p:cNvSpPr/>
          <p:nvPr/>
        </p:nvSpPr>
        <p:spPr>
          <a:xfrm>
            <a:off x="1044720" y="6170760"/>
            <a:ext cx="6912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6"/>
          <p:cNvSpPr/>
          <p:nvPr/>
        </p:nvSpPr>
        <p:spPr>
          <a:xfrm>
            <a:off x="219960" y="1463400"/>
            <a:ext cx="72673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keletal equation:                 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            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7"/>
          <p:cNvSpPr/>
          <p:nvPr/>
        </p:nvSpPr>
        <p:spPr>
          <a:xfrm>
            <a:off x="5219640" y="1700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8"/>
          <p:cNvSpPr/>
          <p:nvPr/>
        </p:nvSpPr>
        <p:spPr>
          <a:xfrm>
            <a:off x="5435640" y="2781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9"/>
          <p:cNvSpPr/>
          <p:nvPr/>
        </p:nvSpPr>
        <p:spPr>
          <a:xfrm>
            <a:off x="5219640" y="5229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6" dur="indefinite" restart="never" nodeType="tmRoot">
          <p:childTnLst>
            <p:seq>
              <p:cTn id="1427" dur="indefinite" nodeType="mainSeq">
                <p:childTnLst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nodeType="clickEffect" fill="hold">
                      <p:stCondLst>
                        <p:cond delay="indefinite"/>
                      </p:stCondLst>
                      <p:childTnLst>
                        <p:par>
                          <p:cTn id="1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nodeType="clickEffect" fill="hold">
                      <p:stCondLst>
                        <p:cond delay="indefinite"/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nodeType="clickEffect" fill="hold">
                      <p:stCondLst>
                        <p:cond delay="indefinite"/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nodeType="clickEffect" fill="hold">
                      <p:stCondLst>
                        <p:cond delay="indefinite"/>
                      </p:stCondLst>
                      <p:childTnLst>
                        <p:par>
                          <p:cTn id="1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nodeType="clickEffect" fill="hold">
                      <p:stCondLst>
                        <p:cond delay="indefinite"/>
                      </p:stCondLst>
                      <p:childTnLst>
                        <p:par>
                          <p:cTn id="1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nodeType="clickEffect" fill="hold">
                      <p:stCondLst>
                        <p:cond delay="indefinite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nodeType="clickEffect" fill="hold">
                      <p:stCondLst>
                        <p:cond delay="indefinite"/>
                      </p:stCondLst>
                      <p:childTnLst>
                        <p:par>
                          <p:cTn id="1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nodeType="clickEffect" fill="hold">
                      <p:stCondLst>
                        <p:cond delay="indefinite"/>
                      </p:stCondLst>
                      <p:childTnLst>
                        <p:par>
                          <p:cTn id="1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699444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Balance each kind of atom other than H and 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131640" y="1125000"/>
            <a:ext cx="173844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2627280" y="1628640"/>
            <a:ext cx="280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5"/>
          <p:cNvSpPr/>
          <p:nvPr/>
        </p:nvSpPr>
        <p:spPr>
          <a:xfrm>
            <a:off x="250920" y="2492280"/>
            <a:ext cx="572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3: Balance the O atoms by using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6"/>
          <p:cNvSpPr/>
          <p:nvPr/>
        </p:nvSpPr>
        <p:spPr>
          <a:xfrm>
            <a:off x="3203640" y="2930400"/>
            <a:ext cx="172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7"/>
          <p:cNvSpPr/>
          <p:nvPr/>
        </p:nvSpPr>
        <p:spPr>
          <a:xfrm>
            <a:off x="2268360" y="3362400"/>
            <a:ext cx="410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9"/>
          <p:cNvSpPr/>
          <p:nvPr/>
        </p:nvSpPr>
        <p:spPr>
          <a:xfrm>
            <a:off x="179280" y="4149720"/>
            <a:ext cx="554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4: Balance H atoms by using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0"/>
          <p:cNvSpPr/>
          <p:nvPr/>
        </p:nvSpPr>
        <p:spPr>
          <a:xfrm>
            <a:off x="3132000" y="4724280"/>
            <a:ext cx="17989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1"/>
          <p:cNvSpPr/>
          <p:nvPr/>
        </p:nvSpPr>
        <p:spPr>
          <a:xfrm>
            <a:off x="1979640" y="5445000"/>
            <a:ext cx="482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2"/>
          <p:cNvSpPr/>
          <p:nvPr/>
        </p:nvSpPr>
        <p:spPr>
          <a:xfrm>
            <a:off x="0" y="4437000"/>
            <a:ext cx="914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0" dur="indefinite" restart="never" nodeType="tmRoot">
          <p:childTnLst>
            <p:seq>
              <p:cTn id="1491" dur="indefinite" nodeType="mainSeq">
                <p:childTnLst>
                  <p:par>
                    <p:cTn id="1492" nodeType="clickEffect" fill="hold">
                      <p:stCondLst>
                        <p:cond delay="indefinite"/>
                      </p:stCondLst>
                      <p:childTnLst>
                        <p:par>
                          <p:cTn id="1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nodeType="clickEffect" fill="hold">
                      <p:stCondLst>
                        <p:cond delay="indefinite"/>
                      </p:stCondLst>
                      <p:childTnLst>
                        <p:par>
                          <p:cTn id="1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2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nodeType="clickEffect" fill="hold">
                      <p:stCondLst>
                        <p:cond delay="indefinite"/>
                      </p:stCondLst>
                      <p:childTnLst>
                        <p:par>
                          <p:cTn id="1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nodeType="clickEffect" fill="hold">
                      <p:stCondLst>
                        <p:cond delay="indefinite"/>
                      </p:stCondLst>
                      <p:childTnLst>
                        <p:par>
                          <p:cTn id="1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nodeType="clickEffect" fill="hold">
                      <p:stCondLst>
                        <p:cond delay="indefinite"/>
                      </p:stCondLst>
                      <p:childTnLst>
                        <p:par>
                          <p:cTn id="1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nodeType="clickEffect" fill="hold">
                      <p:stCondLst>
                        <p:cond delay="indefinite"/>
                      </p:stCondLst>
                      <p:childTnLst>
                        <p:par>
                          <p:cTn id="1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5: Since the reaction occurs in a basic medium, for each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 we add an equal number of 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 to both sides of the equation.  Where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and 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 appear on the same side of the equation, they may be combined to form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77920" y="1484280"/>
            <a:ext cx="6346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4H</a:t>
            </a:r>
            <a:r>
              <a:rPr b="0" lang="en-IE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4OH</a:t>
            </a:r>
            <a:r>
              <a:rPr b="0" lang="en-IE" sz="20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O + </a:t>
            </a: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4OH</a:t>
            </a:r>
            <a:r>
              <a:rPr b="0" lang="en-IE" sz="20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1619280" y="1916280"/>
            <a:ext cx="590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4H</a:t>
            </a:r>
            <a:r>
              <a:rPr b="0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1619280" y="2349360"/>
            <a:ext cx="489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6"/>
          <p:cNvSpPr/>
          <p:nvPr/>
        </p:nvSpPr>
        <p:spPr>
          <a:xfrm>
            <a:off x="34920" y="2857680"/>
            <a:ext cx="88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6: Use electrons as needed to obtain a charge that is 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7"/>
          <p:cNvSpPr/>
          <p:nvPr/>
        </p:nvSpPr>
        <p:spPr>
          <a:xfrm>
            <a:off x="3492360" y="3284640"/>
            <a:ext cx="165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8"/>
          <p:cNvSpPr/>
          <p:nvPr/>
        </p:nvSpPr>
        <p:spPr>
          <a:xfrm rot="16200000">
            <a:off x="3670200" y="3679920"/>
            <a:ext cx="144720" cy="506160"/>
          </a:xfrm>
          <a:custGeom>
            <a:avLst/>
            <a:gdLst>
              <a:gd name="textAreaLeft" fmla="*/ 92520 w 144720"/>
              <a:gd name="textAreaRight" fmla="*/ 145080 w 144720"/>
              <a:gd name="textAreaTop" fmla="*/ 12960 h 506160"/>
              <a:gd name="textAreaBottom" fmla="*/ 493200 h 50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9"/>
          <p:cNvSpPr/>
          <p:nvPr/>
        </p:nvSpPr>
        <p:spPr>
          <a:xfrm rot="16200000">
            <a:off x="4643280" y="3643200"/>
            <a:ext cx="71280" cy="649080"/>
          </a:xfrm>
          <a:custGeom>
            <a:avLst/>
            <a:gdLst>
              <a:gd name="textAreaLeft" fmla="*/ 45720 w 71280"/>
              <a:gd name="textAreaRight" fmla="*/ 71640 w 71280"/>
              <a:gd name="textAreaTop" fmla="*/ 16920 h 649080"/>
              <a:gd name="textAreaBottom" fmla="*/ 63216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0"/>
          <p:cNvSpPr/>
          <p:nvPr/>
        </p:nvSpPr>
        <p:spPr>
          <a:xfrm>
            <a:off x="3492360" y="39337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1"/>
          <p:cNvSpPr/>
          <p:nvPr/>
        </p:nvSpPr>
        <p:spPr>
          <a:xfrm>
            <a:off x="4282920" y="393372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2"/>
          <p:cNvSpPr/>
          <p:nvPr/>
        </p:nvSpPr>
        <p:spPr>
          <a:xfrm>
            <a:off x="684360" y="444168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dd one electron to the product side to balance char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3"/>
          <p:cNvSpPr/>
          <p:nvPr/>
        </p:nvSpPr>
        <p:spPr>
          <a:xfrm>
            <a:off x="3492360" y="4915080"/>
            <a:ext cx="1800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4"/>
          <p:cNvSpPr/>
          <p:nvPr/>
        </p:nvSpPr>
        <p:spPr>
          <a:xfrm>
            <a:off x="1979640" y="5348160"/>
            <a:ext cx="5256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15"/>
          <p:cNvSpPr/>
          <p:nvPr/>
        </p:nvSpPr>
        <p:spPr>
          <a:xfrm rot="16200000">
            <a:off x="3240720" y="4950000"/>
            <a:ext cx="215640" cy="2160720"/>
          </a:xfrm>
          <a:custGeom>
            <a:avLst/>
            <a:gdLst>
              <a:gd name="textAreaLeft" fmla="*/ 137880 w 215640"/>
              <a:gd name="textAreaRight" fmla="*/ 216000 w 215640"/>
              <a:gd name="textAreaTop" fmla="*/ 56160 h 2160720"/>
              <a:gd name="textAreaBottom" fmla="*/ 210456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16"/>
          <p:cNvSpPr/>
          <p:nvPr/>
        </p:nvSpPr>
        <p:spPr>
          <a:xfrm rot="16200000">
            <a:off x="5545080" y="5167080"/>
            <a:ext cx="287280" cy="1655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17"/>
                </a:lnTo>
                <a:cubicBezTo>
                  <a:pt x="10800" y="10117"/>
                  <a:pt x="5400" y="11017"/>
                  <a:pt x="0" y="11017"/>
                </a:cubicBezTo>
                <a:cubicBezTo>
                  <a:pt x="5400" y="11017"/>
                  <a:pt x="10800" y="11917"/>
                  <a:pt x="10800" y="1281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7"/>
          <p:cNvSpPr/>
          <p:nvPr/>
        </p:nvSpPr>
        <p:spPr>
          <a:xfrm>
            <a:off x="3060720" y="60609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8"/>
          <p:cNvSpPr/>
          <p:nvPr/>
        </p:nvSpPr>
        <p:spPr>
          <a:xfrm>
            <a:off x="5364000" y="603108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9"/>
          <p:cNvSpPr/>
          <p:nvPr/>
        </p:nvSpPr>
        <p:spPr>
          <a:xfrm>
            <a:off x="612720" y="6315120"/>
            <a:ext cx="79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21"/>
          <p:cNvSpPr/>
          <p:nvPr/>
        </p:nvSpPr>
        <p:spPr>
          <a:xfrm>
            <a:off x="3492360" y="36450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22"/>
          <p:cNvSpPr/>
          <p:nvPr/>
        </p:nvSpPr>
        <p:spPr>
          <a:xfrm>
            <a:off x="4211640" y="36450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3"/>
          <p:cNvSpPr/>
          <p:nvPr/>
        </p:nvSpPr>
        <p:spPr>
          <a:xfrm>
            <a:off x="4716360" y="36450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24"/>
          <p:cNvSpPr/>
          <p:nvPr/>
        </p:nvSpPr>
        <p:spPr>
          <a:xfrm>
            <a:off x="4067280" y="56358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25"/>
          <p:cNvSpPr/>
          <p:nvPr/>
        </p:nvSpPr>
        <p:spPr>
          <a:xfrm>
            <a:off x="5075280" y="56358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6"/>
          <p:cNvSpPr/>
          <p:nvPr/>
        </p:nvSpPr>
        <p:spPr>
          <a:xfrm>
            <a:off x="6083280" y="56358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7"/>
          <p:cNvSpPr/>
          <p:nvPr/>
        </p:nvSpPr>
        <p:spPr>
          <a:xfrm>
            <a:off x="3132000" y="56358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28"/>
          <p:cNvSpPr/>
          <p:nvPr/>
        </p:nvSpPr>
        <p:spPr>
          <a:xfrm>
            <a:off x="2195640" y="56358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4" dur="indefinite" restart="never" nodeType="tmRoot">
          <p:childTnLst>
            <p:seq>
              <p:cTn id="1535" dur="indefinite" nodeType="mainSeq">
                <p:childTnLst>
                  <p:par>
                    <p:cTn id="1536" nodeType="clickEffect" fill="hold">
                      <p:stCondLst>
                        <p:cond delay="indefinite"/>
                      </p:stCondLst>
                      <p:childTnLst>
                        <p:par>
                          <p:cTn id="1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nodeType="clickEffect" fill="hold">
                      <p:stCondLst>
                        <p:cond delay="indefinite"/>
                      </p:stCondLst>
                      <p:childTnLst>
                        <p:par>
                          <p:cTn id="1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6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nodeType="clickEffect" fill="hold">
                      <p:stCondLst>
                        <p:cond delay="indefinite"/>
                      </p:stCondLst>
                      <p:childTnLst>
                        <p:par>
                          <p:cTn id="1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nodeType="clickEffect" fill="hold">
                      <p:stCondLst>
                        <p:cond delay="indefinite"/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nodeType="clickEffect" fill="hold">
                      <p:stCondLst>
                        <p:cond delay="indefinite"/>
                      </p:stCondLst>
                      <p:childTnLst>
                        <p:par>
                          <p:cTn id="1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nodeType="clickEffect" fill="hold">
                      <p:stCondLst>
                        <p:cond delay="indefinite"/>
                      </p:stCondLst>
                      <p:childTnLst>
                        <p:par>
                          <p:cTn id="1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nodeType="clickEffect" fill="hold">
                      <p:stCondLst>
                        <p:cond delay="indefinite"/>
                      </p:stCondLst>
                      <p:childTnLst>
                        <p:par>
                          <p:cTn id="1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nodeType="clickEffect" fill="hold">
                      <p:stCondLst>
                        <p:cond delay="indefinite"/>
                      </p:stCondLst>
                      <p:childTnLst>
                        <p:par>
                          <p:cTn id="1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nodeType="clickEffect" fill="hold">
                      <p:stCondLst>
                        <p:cond delay="indefinite"/>
                      </p:stCondLst>
                      <p:childTnLst>
                        <p:par>
                          <p:cTn id="1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nodeType="clickEffect" fill="hold">
                      <p:stCondLst>
                        <p:cond delay="indefinite"/>
                      </p:stCondLst>
                      <p:childTnLst>
                        <p:par>
                          <p:cTn id="1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nodeType="clickEffect" fill="hold">
                      <p:stCondLst>
                        <p:cond delay="indefinite"/>
                      </p:stCondLst>
                      <p:childTnLst>
                        <p:par>
                          <p:cTn id="1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nodeType="clickEffect" fill="hold">
                      <p:stCondLst>
                        <p:cond delay="indefinite"/>
                      </p:stCondLst>
                      <p:childTnLst>
                        <p:par>
                          <p:cTn id="1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nodeType="clickEffect" fill="hold">
                      <p:stCondLst>
                        <p:cond delay="indefinite"/>
                      </p:stCondLst>
                      <p:childTnLst>
                        <p:par>
                          <p:cTn id="1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nodeType="clickEffect" fill="hold">
                      <p:stCondLst>
                        <p:cond delay="indefinite"/>
                      </p:stCondLst>
                      <p:childTnLst>
                        <p:par>
                          <p:cTn id="1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7: Ensure the number of electrons gained equals the number of electrons lost and add the two half reactions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348000" y="907920"/>
            <a:ext cx="1882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4"/>
          <p:cNvSpPr/>
          <p:nvPr/>
        </p:nvSpPr>
        <p:spPr>
          <a:xfrm>
            <a:off x="6948360" y="914400"/>
            <a:ext cx="115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5"/>
          <p:cNvSpPr/>
          <p:nvPr/>
        </p:nvSpPr>
        <p:spPr>
          <a:xfrm>
            <a:off x="1765440" y="1413000"/>
            <a:ext cx="4967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3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6"/>
          <p:cNvSpPr/>
          <p:nvPr/>
        </p:nvSpPr>
        <p:spPr>
          <a:xfrm>
            <a:off x="7164360" y="1413000"/>
            <a:ext cx="72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7"/>
          <p:cNvSpPr/>
          <p:nvPr/>
        </p:nvSpPr>
        <p:spPr>
          <a:xfrm>
            <a:off x="3348000" y="2349360"/>
            <a:ext cx="2087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6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3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8"/>
          <p:cNvSpPr/>
          <p:nvPr/>
        </p:nvSpPr>
        <p:spPr>
          <a:xfrm>
            <a:off x="1906560" y="2781360"/>
            <a:ext cx="5113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8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9"/>
          <p:cNvSpPr/>
          <p:nvPr/>
        </p:nvSpPr>
        <p:spPr>
          <a:xfrm>
            <a:off x="1692360" y="321300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0"/>
          <p:cNvSpPr/>
          <p:nvPr/>
        </p:nvSpPr>
        <p:spPr>
          <a:xfrm>
            <a:off x="1763640" y="3284640"/>
            <a:ext cx="5761080" cy="4752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6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8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1"/>
          <p:cNvSpPr/>
          <p:nvPr/>
        </p:nvSpPr>
        <p:spPr>
          <a:xfrm>
            <a:off x="5221440" y="3860640"/>
            <a:ext cx="352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2"/>
          <p:cNvSpPr/>
          <p:nvPr/>
        </p:nvSpPr>
        <p:spPr>
          <a:xfrm>
            <a:off x="539640" y="4226040"/>
            <a:ext cx="799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5" dur="indefinite" restart="never" nodeType="tmRoot">
          <p:childTnLst>
            <p:seq>
              <p:cTn id="1636" dur="indefinite" nodeType="mainSeq">
                <p:childTnLst>
                  <p:par>
                    <p:cTn id="1637" nodeType="clickEffect" fill="hold">
                      <p:stCondLst>
                        <p:cond delay="indefinite"/>
                      </p:stCondLst>
                      <p:childTnLst>
                        <p:par>
                          <p:cTn id="1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1" dur="5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nodeType="clickEffect" fill="hold">
                      <p:stCondLst>
                        <p:cond delay="indefinite"/>
                      </p:stCondLst>
                      <p:childTnLst>
                        <p:par>
                          <p:cTn id="1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nodeType="clickEffect" fill="hold">
                      <p:stCondLst>
                        <p:cond delay="indefinite"/>
                      </p:stCondLst>
                      <p:childTnLst>
                        <p:par>
                          <p:cTn id="1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nodeType="clickEffect" fill="hold">
                      <p:stCondLst>
                        <p:cond delay="indefinite"/>
                      </p:stCondLst>
                      <p:childTnLst>
                        <p:par>
                          <p:cTn id="1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nodeType="clickEffect" fill="hold">
                      <p:stCondLst>
                        <p:cond delay="indefinite"/>
                      </p:stCondLst>
                      <p:childTnLst>
                        <p:par>
                          <p:cTn id="1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4560" y="-27360"/>
            <a:ext cx="1522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Ques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06280" y="475920"/>
            <a:ext cx="86868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 the following redox equation which occurs in basic s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4"/>
          <p:cNvSpPr/>
          <p:nvPr/>
        </p:nvSpPr>
        <p:spPr>
          <a:xfrm>
            <a:off x="-1405080" y="1557360"/>
            <a:ext cx="8569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5"/>
          <p:cNvSpPr/>
          <p:nvPr/>
        </p:nvSpPr>
        <p:spPr>
          <a:xfrm>
            <a:off x="0" y="1628640"/>
            <a:ext cx="932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Identify the oxidising and reducing agents and write half re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6"/>
          <p:cNvSpPr/>
          <p:nvPr/>
        </p:nvSpPr>
        <p:spPr>
          <a:xfrm>
            <a:off x="468360" y="2205000"/>
            <a:ext cx="201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7"/>
          <p:cNvSpPr/>
          <p:nvPr/>
        </p:nvSpPr>
        <p:spPr>
          <a:xfrm>
            <a:off x="3203640" y="2205000"/>
            <a:ext cx="15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8"/>
          <p:cNvSpPr/>
          <p:nvPr/>
        </p:nvSpPr>
        <p:spPr>
          <a:xfrm>
            <a:off x="5148360" y="2205000"/>
            <a:ext cx="352728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Mn +2(-2)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= +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9"/>
          <p:cNvSpPr/>
          <p:nvPr/>
        </p:nvSpPr>
        <p:spPr>
          <a:xfrm>
            <a:off x="0" y="3068640"/>
            <a:ext cx="896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loses two electrons: it acts as the reducing agent as it is oxidi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0"/>
          <p:cNvSpPr/>
          <p:nvPr/>
        </p:nvSpPr>
        <p:spPr>
          <a:xfrm>
            <a:off x="1547640" y="3716280"/>
            <a:ext cx="6193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1"/>
          <p:cNvSpPr/>
          <p:nvPr/>
        </p:nvSpPr>
        <p:spPr>
          <a:xfrm>
            <a:off x="395280" y="4441680"/>
            <a:ext cx="1873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2"/>
          <p:cNvSpPr/>
          <p:nvPr/>
        </p:nvSpPr>
        <p:spPr>
          <a:xfrm>
            <a:off x="2700360" y="4437000"/>
            <a:ext cx="302400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2(+1) + 2O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=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3"/>
          <p:cNvSpPr/>
          <p:nvPr/>
        </p:nvSpPr>
        <p:spPr>
          <a:xfrm>
            <a:off x="5651640" y="4437000"/>
            <a:ext cx="316836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: 2(+1) + O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=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4"/>
          <p:cNvSpPr/>
          <p:nvPr/>
        </p:nvSpPr>
        <p:spPr>
          <a:xfrm>
            <a:off x="0" y="5516640"/>
            <a:ext cx="914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gains one electron: it acts as the oxidising agent as it is redu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5"/>
          <p:cNvSpPr/>
          <p:nvPr/>
        </p:nvSpPr>
        <p:spPr>
          <a:xfrm>
            <a:off x="1332000" y="6093000"/>
            <a:ext cx="640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6" dur="indefinite" restart="never" nodeType="tmRoot">
          <p:childTnLst>
            <p:seq>
              <p:cTn id="1687" dur="indefinite" nodeType="mainSeq">
                <p:childTnLst>
                  <p:par>
                    <p:cTn id="1688" nodeType="clickEffect" fill="hold">
                      <p:stCondLst>
                        <p:cond delay="indefinite"/>
                      </p:stCondLst>
                      <p:childTnLst>
                        <p:par>
                          <p:cTn id="1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nodeType="clickEffect" fill="hold">
                      <p:stCondLst>
                        <p:cond delay="indefinite"/>
                      </p:stCondLst>
                      <p:childTnLst>
                        <p:par>
                          <p:cTn id="1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4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7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nodeType="clickEffect" fill="hold">
                      <p:stCondLst>
                        <p:cond delay="indefinite"/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nodeType="clickEffect" fill="hold">
                      <p:stCondLst>
                        <p:cond delay="indefinite"/>
                      </p:stCondLst>
                      <p:childTnLst>
                        <p:par>
                          <p:cTn id="1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nodeType="clickEffect" fill="hold">
                      <p:stCondLst>
                        <p:cond delay="indefinite"/>
                      </p:stCondLst>
                      <p:childTnLst>
                        <p:par>
                          <p:cTn id="1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 chemical equation may also tell you what physical state the reactants and products are in.  The following state symbols are us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33228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 (soli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(liqui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g (g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q (aqueous solu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539640" y="2349360"/>
            <a:ext cx="842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se are found as subscripts after each reactant and produ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0" y="2781360"/>
            <a:ext cx="14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395280" y="3141720"/>
            <a:ext cx="432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 the following equa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2338560" y="3500280"/>
            <a:ext cx="4249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NaO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0" y="3933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How many atoms of each element are present on the reactant and product sid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2"/>
          <p:cNvSpPr/>
          <p:nvPr/>
        </p:nvSpPr>
        <p:spPr>
          <a:xfrm>
            <a:off x="1908000" y="4653000"/>
            <a:ext cx="151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Reactan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3"/>
          <p:cNvSpPr/>
          <p:nvPr/>
        </p:nvSpPr>
        <p:spPr>
          <a:xfrm>
            <a:off x="5435640" y="4653000"/>
            <a:ext cx="136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4"/>
          <p:cNvSpPr/>
          <p:nvPr/>
        </p:nvSpPr>
        <p:spPr>
          <a:xfrm>
            <a:off x="4140360" y="465300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5"/>
          <p:cNvSpPr/>
          <p:nvPr/>
        </p:nvSpPr>
        <p:spPr>
          <a:xfrm>
            <a:off x="1116000" y="522936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6"/>
          <p:cNvSpPr/>
          <p:nvPr/>
        </p:nvSpPr>
        <p:spPr>
          <a:xfrm>
            <a:off x="1187280" y="544500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7"/>
          <p:cNvSpPr/>
          <p:nvPr/>
        </p:nvSpPr>
        <p:spPr>
          <a:xfrm>
            <a:off x="2268360" y="5445000"/>
            <a:ext cx="35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8"/>
          <p:cNvSpPr/>
          <p:nvPr/>
        </p:nvSpPr>
        <p:spPr>
          <a:xfrm>
            <a:off x="3203640" y="545004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9"/>
          <p:cNvSpPr/>
          <p:nvPr/>
        </p:nvSpPr>
        <p:spPr>
          <a:xfrm>
            <a:off x="1260360" y="602136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0"/>
          <p:cNvSpPr/>
          <p:nvPr/>
        </p:nvSpPr>
        <p:spPr>
          <a:xfrm>
            <a:off x="2266920" y="6021360"/>
            <a:ext cx="43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1"/>
          <p:cNvSpPr/>
          <p:nvPr/>
        </p:nvSpPr>
        <p:spPr>
          <a:xfrm>
            <a:off x="3203640" y="6021360"/>
            <a:ext cx="3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2"/>
          <p:cNvSpPr/>
          <p:nvPr/>
        </p:nvSpPr>
        <p:spPr>
          <a:xfrm>
            <a:off x="4572000" y="545004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3"/>
          <p:cNvSpPr/>
          <p:nvPr/>
        </p:nvSpPr>
        <p:spPr>
          <a:xfrm>
            <a:off x="5724360" y="545004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4"/>
          <p:cNvSpPr/>
          <p:nvPr/>
        </p:nvSpPr>
        <p:spPr>
          <a:xfrm>
            <a:off x="6804000" y="545004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5"/>
          <p:cNvSpPr/>
          <p:nvPr/>
        </p:nvSpPr>
        <p:spPr>
          <a:xfrm>
            <a:off x="4572000" y="602136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6"/>
          <p:cNvSpPr/>
          <p:nvPr/>
        </p:nvSpPr>
        <p:spPr>
          <a:xfrm>
            <a:off x="5726160" y="6026040"/>
            <a:ext cx="35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7"/>
          <p:cNvSpPr/>
          <p:nvPr/>
        </p:nvSpPr>
        <p:spPr>
          <a:xfrm>
            <a:off x="6804000" y="602604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70675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Balance each kind of atom other than H and 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0" y="549000"/>
            <a:ext cx="404352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lready balanced in this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73080" y="1417680"/>
            <a:ext cx="5651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3: Balance the O atoms by using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2195640" y="1916280"/>
            <a:ext cx="3816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6"/>
          <p:cNvSpPr/>
          <p:nvPr/>
        </p:nvSpPr>
        <p:spPr>
          <a:xfrm>
            <a:off x="2627280" y="2281320"/>
            <a:ext cx="2519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108000" y="2924280"/>
            <a:ext cx="529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4: Balance the H atoms by using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8"/>
          <p:cNvSpPr/>
          <p:nvPr/>
        </p:nvSpPr>
        <p:spPr>
          <a:xfrm>
            <a:off x="1979640" y="3429000"/>
            <a:ext cx="460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4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2482920" y="3932280"/>
            <a:ext cx="338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0"/>
          <p:cNvSpPr/>
          <p:nvPr/>
        </p:nvSpPr>
        <p:spPr>
          <a:xfrm>
            <a:off x="144360" y="4579920"/>
            <a:ext cx="896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5: For each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, add equal no. of 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to both sides of eq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1"/>
          <p:cNvSpPr/>
          <p:nvPr/>
        </p:nvSpPr>
        <p:spPr>
          <a:xfrm>
            <a:off x="971640" y="5089680"/>
            <a:ext cx="6985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4O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4O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2"/>
          <p:cNvSpPr/>
          <p:nvPr/>
        </p:nvSpPr>
        <p:spPr>
          <a:xfrm>
            <a:off x="1116000" y="5594400"/>
            <a:ext cx="5689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3"/>
          <p:cNvSpPr/>
          <p:nvPr/>
        </p:nvSpPr>
        <p:spPr>
          <a:xfrm>
            <a:off x="1692360" y="6097680"/>
            <a:ext cx="475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4"/>
          <p:cNvSpPr/>
          <p:nvPr/>
        </p:nvSpPr>
        <p:spPr>
          <a:xfrm>
            <a:off x="468360" y="404640"/>
            <a:ext cx="262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5"/>
          <p:cNvSpPr/>
          <p:nvPr/>
        </p:nvSpPr>
        <p:spPr>
          <a:xfrm>
            <a:off x="668880" y="836640"/>
            <a:ext cx="219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3" dur="indefinite" restart="never" nodeType="tmRoot">
          <p:childTnLst>
            <p:seq>
              <p:cTn id="1734" dur="indefinite" nodeType="mainSeq">
                <p:childTnLst>
                  <p:par>
                    <p:cTn id="1735" nodeType="clickEffect" fill="hold">
                      <p:stCondLst>
                        <p:cond delay="indefinite"/>
                      </p:stCondLst>
                      <p:childTnLst>
                        <p:par>
                          <p:cTn id="1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nodeType="clickEffect" fill="hold">
                      <p:stCondLst>
                        <p:cond delay="indefinite"/>
                      </p:stCondLst>
                      <p:childTnLst>
                        <p:par>
                          <p:cTn id="1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nodeType="clickEffect" fill="hold">
                      <p:stCondLst>
                        <p:cond delay="indefinite"/>
                      </p:stCondLst>
                      <p:childTnLst>
                        <p:par>
                          <p:cTn id="1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nodeType="clickEffect" fill="hold">
                      <p:stCondLst>
                        <p:cond delay="indefinite"/>
                      </p:stCondLst>
                      <p:childTnLst>
                        <p:par>
                          <p:cTn id="1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nodeType="clickEffect" fill="hold">
                      <p:stCondLst>
                        <p:cond delay="indefinite"/>
                      </p:stCondLst>
                      <p:childTnLst>
                        <p:par>
                          <p:cTn id="1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nodeType="clickEffect" fill="hold">
                      <p:stCondLst>
                        <p:cond delay="indefinite"/>
                      </p:stCondLst>
                      <p:childTnLst>
                        <p:par>
                          <p:cTn id="1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nodeType="clickEffect" fill="hold">
                      <p:stCondLst>
                        <p:cond delay="indefinite"/>
                      </p:stCondLst>
                      <p:childTnLst>
                        <p:par>
                          <p:cTn id="1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nodeType="clickEffect" fill="hold">
                      <p:stCondLst>
                        <p:cond delay="indefinite"/>
                      </p:stCondLst>
                      <p:childTnLst>
                        <p:par>
                          <p:cTn id="1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nodeType="clickEffect" fill="hold">
                      <p:stCondLst>
                        <p:cond delay="indefinite"/>
                      </p:stCondLst>
                      <p:childTnLst>
                        <p:par>
                          <p:cTn id="1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nodeType="clickEffect" fill="hold">
                      <p:stCondLst>
                        <p:cond delay="indefinite"/>
                      </p:stCondLst>
                      <p:childTnLst>
                        <p:par>
                          <p:cTn id="1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834920" y="43920"/>
            <a:ext cx="526716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O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O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195280" y="549000"/>
            <a:ext cx="454644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2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4"/>
          <p:cNvSpPr/>
          <p:nvPr/>
        </p:nvSpPr>
        <p:spPr>
          <a:xfrm>
            <a:off x="2987640" y="981000"/>
            <a:ext cx="2592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5"/>
          <p:cNvSpPr/>
          <p:nvPr/>
        </p:nvSpPr>
        <p:spPr>
          <a:xfrm>
            <a:off x="71280" y="1341360"/>
            <a:ext cx="87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6: Use electrons as needed to obtain a charge that is 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6"/>
          <p:cNvSpPr/>
          <p:nvPr/>
        </p:nvSpPr>
        <p:spPr>
          <a:xfrm>
            <a:off x="1835280" y="1700280"/>
            <a:ext cx="460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7"/>
          <p:cNvSpPr/>
          <p:nvPr/>
        </p:nvSpPr>
        <p:spPr>
          <a:xfrm rot="16200000">
            <a:off x="2554920" y="1556280"/>
            <a:ext cx="216000" cy="1513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9240 h 1513080"/>
              <a:gd name="textAreaBottom" fmla="*/ 147384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8"/>
          <p:cNvSpPr/>
          <p:nvPr/>
        </p:nvSpPr>
        <p:spPr>
          <a:xfrm rot="16200000">
            <a:off x="5039280" y="1087920"/>
            <a:ext cx="216000" cy="2449800"/>
          </a:xfrm>
          <a:custGeom>
            <a:avLst/>
            <a:gdLst>
              <a:gd name="textAreaLeft" fmla="*/ 137880 w 216000"/>
              <a:gd name="textAreaRight" fmla="*/ 216360 w 216000"/>
              <a:gd name="textAreaTop" fmla="*/ 63720 h 2449800"/>
              <a:gd name="textAreaBottom" fmla="*/ 2386080 h 244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9"/>
          <p:cNvSpPr/>
          <p:nvPr/>
        </p:nvSpPr>
        <p:spPr>
          <a:xfrm>
            <a:off x="2411280" y="23842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0"/>
          <p:cNvSpPr/>
          <p:nvPr/>
        </p:nvSpPr>
        <p:spPr>
          <a:xfrm>
            <a:off x="4859280" y="2349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1"/>
          <p:cNvSpPr/>
          <p:nvPr/>
        </p:nvSpPr>
        <p:spPr>
          <a:xfrm>
            <a:off x="2843280" y="2708280"/>
            <a:ext cx="2520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2"/>
          <p:cNvSpPr/>
          <p:nvPr/>
        </p:nvSpPr>
        <p:spPr>
          <a:xfrm rot="16200000">
            <a:off x="3419280" y="2852280"/>
            <a:ext cx="144360" cy="1008000"/>
          </a:xfrm>
          <a:custGeom>
            <a:avLst/>
            <a:gdLst>
              <a:gd name="textAreaLeft" fmla="*/ 92160 w 144360"/>
              <a:gd name="textAreaRight" fmla="*/ 144360 w 144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13"/>
          <p:cNvSpPr/>
          <p:nvPr/>
        </p:nvSpPr>
        <p:spPr>
          <a:xfrm rot="16200000">
            <a:off x="4715640" y="2995920"/>
            <a:ext cx="144360" cy="720720"/>
          </a:xfrm>
          <a:custGeom>
            <a:avLst/>
            <a:gdLst>
              <a:gd name="textAreaLeft" fmla="*/ 92160 w 144360"/>
              <a:gd name="textAreaRight" fmla="*/ 144360 w 144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4"/>
          <p:cNvSpPr/>
          <p:nvPr/>
        </p:nvSpPr>
        <p:spPr>
          <a:xfrm>
            <a:off x="3276720" y="3357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5"/>
          <p:cNvSpPr/>
          <p:nvPr/>
        </p:nvSpPr>
        <p:spPr>
          <a:xfrm>
            <a:off x="4572000" y="33577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6"/>
          <p:cNvSpPr/>
          <p:nvPr/>
        </p:nvSpPr>
        <p:spPr>
          <a:xfrm>
            <a:off x="612720" y="3716280"/>
            <a:ext cx="770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dd one electron to the reactant side to balance char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8"/>
          <p:cNvSpPr/>
          <p:nvPr/>
        </p:nvSpPr>
        <p:spPr>
          <a:xfrm>
            <a:off x="2916360" y="4149720"/>
            <a:ext cx="3095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9"/>
          <p:cNvSpPr/>
          <p:nvPr/>
        </p:nvSpPr>
        <p:spPr>
          <a:xfrm>
            <a:off x="0" y="4653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7: Ensure no. of electrons gained equals no. of electrons lost and add the half reactions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1"/>
          <p:cNvSpPr/>
          <p:nvPr/>
        </p:nvSpPr>
        <p:spPr>
          <a:xfrm>
            <a:off x="1763640" y="5445000"/>
            <a:ext cx="4753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23"/>
          <p:cNvSpPr/>
          <p:nvPr/>
        </p:nvSpPr>
        <p:spPr>
          <a:xfrm>
            <a:off x="2554200" y="5805360"/>
            <a:ext cx="2665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24"/>
          <p:cNvSpPr/>
          <p:nvPr/>
        </p:nvSpPr>
        <p:spPr>
          <a:xfrm>
            <a:off x="1619280" y="623736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25"/>
          <p:cNvSpPr/>
          <p:nvPr/>
        </p:nvSpPr>
        <p:spPr>
          <a:xfrm>
            <a:off x="1620720" y="6237360"/>
            <a:ext cx="5112000" cy="4752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6"/>
          <p:cNvSpPr/>
          <p:nvPr/>
        </p:nvSpPr>
        <p:spPr>
          <a:xfrm>
            <a:off x="1835280" y="1989000"/>
            <a:ext cx="57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27"/>
          <p:cNvSpPr/>
          <p:nvPr/>
        </p:nvSpPr>
        <p:spPr>
          <a:xfrm>
            <a:off x="2771640" y="1989000"/>
            <a:ext cx="576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28"/>
          <p:cNvSpPr/>
          <p:nvPr/>
        </p:nvSpPr>
        <p:spPr>
          <a:xfrm>
            <a:off x="3924360" y="1989000"/>
            <a:ext cx="576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29"/>
          <p:cNvSpPr/>
          <p:nvPr/>
        </p:nvSpPr>
        <p:spPr>
          <a:xfrm>
            <a:off x="4788000" y="1989000"/>
            <a:ext cx="57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30"/>
          <p:cNvSpPr/>
          <p:nvPr/>
        </p:nvSpPr>
        <p:spPr>
          <a:xfrm>
            <a:off x="5651640" y="1989000"/>
            <a:ext cx="57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31"/>
          <p:cNvSpPr/>
          <p:nvPr/>
        </p:nvSpPr>
        <p:spPr>
          <a:xfrm>
            <a:off x="4500720" y="3068640"/>
            <a:ext cx="57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32"/>
          <p:cNvSpPr/>
          <p:nvPr/>
        </p:nvSpPr>
        <p:spPr>
          <a:xfrm>
            <a:off x="3564000" y="3068640"/>
            <a:ext cx="57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33"/>
          <p:cNvSpPr/>
          <p:nvPr/>
        </p:nvSpPr>
        <p:spPr>
          <a:xfrm>
            <a:off x="2987640" y="3070080"/>
            <a:ext cx="576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0" dur="indefinite" restart="never" nodeType="tmRoot">
          <p:childTnLst>
            <p:seq>
              <p:cTn id="1801" dur="indefinite" nodeType="mainSeq">
                <p:childTnLst>
                  <p:par>
                    <p:cTn id="1802" nodeType="clickEffect" fill="hold">
                      <p:stCondLst>
                        <p:cond delay="indefinite"/>
                      </p:stCondLst>
                      <p:childTnLst>
                        <p:par>
                          <p:cTn id="1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6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nodeType="clickEffect" fill="hold">
                      <p:stCondLst>
                        <p:cond delay="indefinite"/>
                      </p:stCondLst>
                      <p:childTnLst>
                        <p:par>
                          <p:cTn id="1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nodeType="clickEffect" fill="hold">
                      <p:stCondLst>
                        <p:cond delay="indefinite"/>
                      </p:stCondLst>
                      <p:childTnLst>
                        <p:par>
                          <p:cTn id="1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nodeType="clickEffect" fill="hold">
                      <p:stCondLst>
                        <p:cond delay="indefinite"/>
                      </p:stCondLst>
                      <p:childTnLst>
                        <p:par>
                          <p:cTn id="1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nodeType="clickEffect" fill="hold">
                      <p:stCondLst>
                        <p:cond delay="indefinite"/>
                      </p:stCondLst>
                      <p:childTnLst>
                        <p:par>
                          <p:cTn id="1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nodeType="clickEffect" fill="hold">
                      <p:stCondLst>
                        <p:cond delay="indefinite"/>
                      </p:stCondLst>
                      <p:childTnLst>
                        <p:par>
                          <p:cTn id="1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nodeType="clickEffect" fill="hold">
                      <p:stCondLst>
                        <p:cond delay="indefinite"/>
                      </p:stCondLst>
                      <p:childTnLst>
                        <p:par>
                          <p:cTn id="1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nodeType="clickEffect" fill="hold">
                      <p:stCondLst>
                        <p:cond delay="indefinite"/>
                      </p:stCondLst>
                      <p:childTnLst>
                        <p:par>
                          <p:cTn id="1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nodeType="clickEffect" fill="hold">
                      <p:stCondLst>
                        <p:cond delay="indefinite"/>
                      </p:stCondLst>
                      <p:childTnLst>
                        <p:par>
                          <p:cTn id="1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nodeType="clickEffect" fill="hold">
                      <p:stCondLst>
                        <p:cond delay="indefinite"/>
                      </p:stCondLst>
                      <p:childTnLst>
                        <p:par>
                          <p:cTn id="1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nodeType="clickEffect" fill="hold">
                      <p:stCondLst>
                        <p:cond delay="indefinite"/>
                      </p:stCondLst>
                      <p:childTnLst>
                        <p:par>
                          <p:cTn id="1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5" nodeType="clickEffect" fill="hold">
                      <p:stCondLst>
                        <p:cond delay="indefinite"/>
                      </p:stCondLst>
                      <p:childTnLst>
                        <p:par>
                          <p:cTn id="1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nodeType="clickEffect" fill="hold">
                      <p:stCondLst>
                        <p:cond delay="indefinite"/>
                      </p:stCondLst>
                      <p:childTnLst>
                        <p:par>
                          <p:cTn id="1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4560" y="44280"/>
            <a:ext cx="1738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0066"/>
                </a:solidFill>
                <a:latin typeface="Arial"/>
              </a:rPr>
              <a:t>Ques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82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Write balanced equations to represent the following reactions in a ba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179280" y="1628640"/>
            <a:ext cx="5472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a) Fe(OH)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Fe(OH)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755640" y="2138400"/>
            <a:ext cx="806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Answer: 3Fe(OH)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Mn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4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2H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O </a:t>
            </a:r>
            <a:r>
              <a:rPr b="1" i="1" lang="en-IE" sz="22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Mn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3Fe(OH)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3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+ OH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8"/>
          <p:cNvSpPr/>
          <p:nvPr/>
        </p:nvSpPr>
        <p:spPr>
          <a:xfrm>
            <a:off x="179280" y="4226040"/>
            <a:ext cx="4681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b) Bi(OH)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B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9"/>
          <p:cNvSpPr/>
          <p:nvPr/>
        </p:nvSpPr>
        <p:spPr>
          <a:xfrm>
            <a:off x="826920" y="5018040"/>
            <a:ext cx="6985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Answer: 2Bi(OH)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3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3Sn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2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i="1" lang="en-IE" sz="2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2Bi + 3H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O + 3Sn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3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4" dur="indefinite" restart="never" nodeType="tmRoot">
          <p:childTnLst>
            <p:seq>
              <p:cTn id="1885" dur="indefinite" nodeType="mainSeq">
                <p:childTnLst>
                  <p:par>
                    <p:cTn id="1886" nodeType="clickEffect" fill="hold">
                      <p:stCondLst>
                        <p:cond delay="indefinite"/>
                      </p:stCondLst>
                      <p:childTnLst>
                        <p:par>
                          <p:cTn id="1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0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2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nodeType="clickEffect" fill="hold">
                      <p:stCondLst>
                        <p:cond delay="indefinite"/>
                      </p:stCondLst>
                      <p:childTnLst>
                        <p:par>
                          <p:cTn id="1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7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9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26716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Let us balance the hydrogen atoms fir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0640" y="692280"/>
            <a:ext cx="3610080" cy="46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NaOH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4211640" y="126828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619280" y="134604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627280" y="1341360"/>
            <a:ext cx="3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419640" y="1341360"/>
            <a:ext cx="57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572000" y="1341360"/>
            <a:ext cx="64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5508720" y="134136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6300720" y="134136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1690560" y="1916280"/>
            <a:ext cx="43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2627280" y="1916280"/>
            <a:ext cx="3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3490920" y="191628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4643280" y="191628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5508720" y="191628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6300720" y="192240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468360" y="2570040"/>
            <a:ext cx="489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ext we balance the sodium at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2627280" y="2997360"/>
            <a:ext cx="4105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Na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NaOH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9"/>
          <p:cNvSpPr/>
          <p:nvPr/>
        </p:nvSpPr>
        <p:spPr>
          <a:xfrm>
            <a:off x="4284720" y="3500280"/>
            <a:ext cx="0" cy="13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1619280" y="357840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2627280" y="357336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2"/>
          <p:cNvSpPr/>
          <p:nvPr/>
        </p:nvSpPr>
        <p:spPr>
          <a:xfrm>
            <a:off x="3492360" y="3573360"/>
            <a:ext cx="50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3"/>
          <p:cNvSpPr/>
          <p:nvPr/>
        </p:nvSpPr>
        <p:spPr>
          <a:xfrm>
            <a:off x="4500720" y="3573360"/>
            <a:ext cx="57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4"/>
          <p:cNvSpPr/>
          <p:nvPr/>
        </p:nvSpPr>
        <p:spPr>
          <a:xfrm>
            <a:off x="5508720" y="357336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5"/>
          <p:cNvSpPr/>
          <p:nvPr/>
        </p:nvSpPr>
        <p:spPr>
          <a:xfrm>
            <a:off x="6443640" y="357336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6"/>
          <p:cNvSpPr/>
          <p:nvPr/>
        </p:nvSpPr>
        <p:spPr>
          <a:xfrm>
            <a:off x="1692360" y="414972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2627280" y="414972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3492360" y="414972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4572000" y="415440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0"/>
          <p:cNvSpPr/>
          <p:nvPr/>
        </p:nvSpPr>
        <p:spPr>
          <a:xfrm>
            <a:off x="5508720" y="415440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1"/>
          <p:cNvSpPr/>
          <p:nvPr/>
        </p:nvSpPr>
        <p:spPr>
          <a:xfrm>
            <a:off x="6445080" y="415440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2"/>
          <p:cNvSpPr/>
          <p:nvPr/>
        </p:nvSpPr>
        <p:spPr>
          <a:xfrm>
            <a:off x="395280" y="4797360"/>
            <a:ext cx="374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Add state symb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3"/>
          <p:cNvSpPr/>
          <p:nvPr/>
        </p:nvSpPr>
        <p:spPr>
          <a:xfrm>
            <a:off x="2627280" y="5300640"/>
            <a:ext cx="4753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Na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NaO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aq)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4"/>
          <p:cNvSpPr/>
          <p:nvPr/>
        </p:nvSpPr>
        <p:spPr>
          <a:xfrm>
            <a:off x="1476360" y="1773360"/>
            <a:ext cx="554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5"/>
          <p:cNvSpPr/>
          <p:nvPr/>
        </p:nvSpPr>
        <p:spPr>
          <a:xfrm>
            <a:off x="1476360" y="400536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720" y="43920"/>
            <a:ext cx="187164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0066"/>
                </a:solidFill>
                <a:latin typeface="Arial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591840"/>
            <a:ext cx="4259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 the following equ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324000" y="1413000"/>
            <a:ext cx="496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a) P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5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(aq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2124000" y="2133720"/>
            <a:ext cx="5616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P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5(s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3H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(l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4(aq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324000" y="2997360"/>
            <a:ext cx="460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b) 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2122560" y="3860640"/>
            <a:ext cx="6481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N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3 ½ H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3(g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24000" y="4581360"/>
            <a:ext cx="345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c)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2050920" y="5373720"/>
            <a:ext cx="439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2S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2S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3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17200" y="-86040"/>
            <a:ext cx="6994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0000"/>
                </a:solidFill>
                <a:latin typeface="Arial Rounded MT Bold"/>
              </a:rPr>
              <a:t>Balancing redox re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4360" y="620280"/>
            <a:ext cx="896472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Redox (meaning reduction-oxidation) reactions involves transfer of electr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nvolves two proc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419640" y="1773360"/>
            <a:ext cx="136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419640" y="2205000"/>
            <a:ext cx="792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221440" y="1773360"/>
            <a:ext cx="18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5219640" y="2205000"/>
            <a:ext cx="79236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179280" y="3718080"/>
            <a:ext cx="63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an split a redox reaction into two half reac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755640" y="422100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oxidation reaction which involves a loss of electr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757080" y="4657680"/>
            <a:ext cx="756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reduction reaction which involves a gain of electr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216000" y="5162400"/>
            <a:ext cx="88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o keep track of electrons in redox reactions, use oxidation num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179280" y="5645160"/>
            <a:ext cx="856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ation number: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charge an atom has or appears to have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when electrons are distributed according to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ertain r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1187280" y="2281320"/>
            <a:ext cx="144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 Rounded MT Bold"/>
              </a:rPr>
              <a:t>OIL  R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826920" y="3284640"/>
            <a:ext cx="770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80"/>
                </a:solidFill>
                <a:latin typeface="Arial"/>
              </a:rPr>
              <a:t>Whenever oxidation occurs, reduction must also occ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32000" y="58680"/>
            <a:ext cx="69134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Arial"/>
              </a:rPr>
              <a:t>Rules for assigning oxidation numbers (O.N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 free element (or uncombined element) is assigned O.N. of z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sum of O.N.s of atoms in a neutral compound must equal z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charge of a monoatomic ion is same as its oxidation number,           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e.g.     L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as O.N. of +1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as O.N. of +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n their compounds, group 1 elements have an O.N. of +1, group 2 elements have an O.N. of +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sum of O.N. of atoms in polyatomic ion equals the charge on the 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O.N. of halogens is usually -1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Exception: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when they are bonded to a more electonegative el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O.N. of oxygen in most compounds is -2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Exceptions: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and peroxide ion,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O.N. of -1), and the compound OF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O.N. +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O.N. of hydrogen is +1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Exception: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when bonded to a less electronegative element, i.e. a metal, where it’s O.N. is -1, e.g. LiH, Na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181080" y="-12960"/>
            <a:ext cx="2098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Examp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7480" y="47592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ssign oxidation numbers to all the elements in the follow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08000" y="981000"/>
            <a:ext cx="122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a) L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1547640" y="1197000"/>
            <a:ext cx="676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Lithium: Group 1 element 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Oxidation number +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1547640" y="1557360"/>
            <a:ext cx="410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xygen: Oxidation number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08000" y="1994040"/>
            <a:ext cx="158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b) H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1908000" y="2354400"/>
            <a:ext cx="201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ydrogen: +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5076720" y="2354400"/>
            <a:ext cx="180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xygen: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4000" y="2708280"/>
            <a:ext cx="8532720" cy="8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s neut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dding the O.N.s of the atoms together must equal z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1979640" y="3573360"/>
            <a:ext cx="54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+1) + N + 3(-2) = 0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N = +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108000" y="4076640"/>
            <a:ext cx="1944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c)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466560" y="4508640"/>
            <a:ext cx="79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um of O.N.s equals charge on ion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ere the sum equals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468360" y="4869000"/>
            <a:ext cx="432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xygen: Oxidation number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3132000" y="5367240"/>
            <a:ext cx="2592360" cy="17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buClr>
                <a:srgbClr val="000000"/>
              </a:buClr>
              <a:buFont typeface="Symbol" charset="2"/>
              <a:buChar char="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Cr + 7(-2) =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r -14 =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 = +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2098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0066"/>
                </a:solidFill>
                <a:latin typeface="Arial"/>
              </a:rPr>
              <a:t>Questions</a:t>
            </a:r>
            <a:r>
              <a:rPr b="0" lang="en-IE" sz="26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8000" y="54900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ssign oxidation numbers to each of the follow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95280" y="1268280"/>
            <a:ext cx="1873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a) ZnCl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908000" y="1628640"/>
            <a:ext cx="453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Zn: +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Cl: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395280" y="2565360"/>
            <a:ext cx="122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b)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1908000" y="3141720"/>
            <a:ext cx="460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: -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S: +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395280" y="4365720"/>
            <a:ext cx="172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c)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1908000" y="4797360"/>
            <a:ext cx="504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: -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Mn: +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9T18:25:26Z</dcterms:created>
  <dc:creator>Serena Corr</dc:creator>
  <dc:description/>
  <dc:language>en-US</dc:language>
  <cp:lastModifiedBy>LEGION</cp:lastModifiedBy>
  <dcterms:modified xsi:type="dcterms:W3CDTF">2017-01-26T09:38:08Z</dcterms:modified>
  <cp:revision>53</cp:revision>
  <dc:subject/>
  <dc:title>Balancing Chemical Equations</dc:title>
</cp:coreProperties>
</file>