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dt" idx="13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AFCC7-542C-4A17-8B10-D8EA165206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Chemical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N2 +    H2     NH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 +    H2     NH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 by adjusting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ClO3     KCl +   O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 by adjusting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lO3     KCl +  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2H6 +   O2    CO2 +  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2H6 +   O2    CO2 + 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e the following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e +   O2     Fe2O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Balancing Equ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+   O2    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emical equation - Describes a chemical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arts of an equa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hat is a chemical equ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quation - Describes a chemical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n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equ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- The chemical(s) you start with before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ritten on lef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- The new chemical(s) formed by the reac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ight side of equ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s and Prod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- The chemical(s) you start with before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on lef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- The new chemical(s) formed by the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side of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 and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 - shows how many atoms of an element are in a molecu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atoms of hydrogen 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atom of oxygen (O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efficient - shows how many molecules there are of a particular chemic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EX: 3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eans there are 3 water molecu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ubscripts and Coeffic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 - shows how many atoms of an element are in a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atoms of hydrogen (H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tom of oxygen (O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- shows how many molecules there are of a particular chem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3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ere are 3 water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pts and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H2 + O2 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Chemical Re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a chem. rxn, matter is neither created n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n other words, the number and type of atoms going INTO a rxn must be the same as the number and type of atoms coming OU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an equation obeys the Law of Conservation, it is balanc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Law of Conservation of M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. rxn, matter is neither created n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number and type of atoms going INTO a rxn must be the same as the number and type of atoms com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obeys the Law of Conservation, it is bal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O2  CO2 + 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n Un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O2  CO2 +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Balanced Eq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H4 + 2O2  CO2 + 2H2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eactan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oduct 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 carbon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hydro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 oxygen ato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d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4 + 2O2  CO2 + 2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arbo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xy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1. Matter cannot be created or destroy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. Subscripts cannot be added, removed, or 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3. You can only change coeffic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4. Coefficients can only go in front of chem. formulas...NEVER in the middle of a formul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 few extra tip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ry balancing big formulas first; save free elements for la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If the same polyatomic ion appears on both sides of the equation, it’s usually okay to treat it as one uni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here is no one particular way to balance equations.  Some equations are harder to balance than others and might require some creativity to sol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Rules of the G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atter cannot b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ubscripts cannot be added, removed, or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You can only change coeffic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Coefficients can only go in front of chem. formulas...NEVER in the middle of a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tra ti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balancing big formulas first; save free elements for 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ame polyatomic ion appears on both sides of the equation, it’s usually okay to treat it as on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one particular way to balance equations.  Some equations are harder to balance than others and might require some creativity to 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of the 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99E-0046-4849-8980-0C4669B7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33E-4ABD-488B-A26F-9AD05199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78C-A399-4CA1-8617-681C5238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000-42BC-4653-BD21-CFD226AC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FE19F-88B1-4730-8837-02676FC5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EDD9D-7849-48FA-A52C-5DEFAF6D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F340B-F803-4A69-9F59-83E13074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399D1-2BE8-4623-9C7D-162830ED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B81B7-2A0F-42BB-AA4D-5F1E02F9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D01BB-2F9D-4F05-AA95-1897B035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52549-379E-48CE-9DAE-249F82A4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C75-C2AD-4F15-8A31-560AEE74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D102E-522D-4829-9920-417135E3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286DD-10BC-4F08-822F-F065ADA8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0C3C4-4C09-4773-9247-ACC96146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78A1A-F311-498F-8827-BB58886B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21DD4-F354-4858-9A4E-B88B81D3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59910-8033-4C3B-86B4-219BDC18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44F02-544F-4B08-AC5D-A78BA4D4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E209-60AB-4172-831F-5F51AF9B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CF4B7-CFC9-43F3-8BC1-B43CB26F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5D87-2A16-490B-904B-2C32F456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3F0-BBE4-45EB-A7DF-73CB2D55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CDB4-F25A-467E-AEA8-D99A23B2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815B3-A79E-4C47-B833-D3A15BDB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7939-1449-4791-B132-1112476A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48D4-7772-46CA-AD68-72D6E4CB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F5C9E-8D5F-44EA-9762-FF93AB80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E43E-4055-4489-ACBD-090A5491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51B9-FBE5-4B19-BDFF-FF26DC05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A793C-2446-4672-A31E-506F1C40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E34AC-53F8-49BC-B635-9DE09FD9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07E8A-3AE7-42FA-AFED-9D1FCC7D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BDE-DCEE-4B81-BD9D-F4F70CB7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4148CD-6EE7-4365-8630-20CA4639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D1718-58AA-4290-9D33-19FD6542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FB78BD-8EDB-4754-B34B-B2735510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8D1D4-0CD1-431B-9006-4F466263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E2AEC-AD58-4694-AF13-DB84F9CF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DEB909-A10C-4876-84C1-F36F745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BFE589-3749-4124-BE32-24DB70EB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290BB-9CD6-4565-ABBD-D146BD9F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59516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289040"/>
            <a:ext cx="29217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9ED43-96BA-40FA-8691-750C179E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BB0-CB07-4246-A481-8789E957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167760"/>
            <a:ext cx="9074160" cy="62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E50-31AB-43A8-ACE7-334A4F0C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DD8-2741-47B2-B777-3E7B9C5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28904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FB1-7117-4845-AB57-7DFC68B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595160"/>
            <a:ext cx="442800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289040"/>
            <a:ext cx="9074160" cy="2459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9B9-99AC-4403-8957-3F1804DD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67DB7-2676-49D3-9839-D500F1C44CF9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612800" y="3913200"/>
            <a:ext cx="327672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5191200" y="3913200"/>
            <a:ext cx="3276360" cy="144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5005440" y="3887640"/>
            <a:ext cx="50760" cy="4932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-15480" bIns="-1548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B2A01-946F-4638-9387-A29AC09ABE76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755640" y="5419800"/>
            <a:ext cx="873756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27366-CC41-4442-9A2A-86711C03917B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620640" y="2403360"/>
            <a:ext cx="413244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5241960" y="2403360"/>
            <a:ext cx="4132080" cy="180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503280" y="1595160"/>
            <a:ext cx="9074160" cy="5157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663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40976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712880" indent="-250920">
              <a:spcBef>
                <a:spcPts val="663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712880" indent="-250920">
              <a:spcBef>
                <a:spcPts val="663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03280" y="167760"/>
            <a:ext cx="9074160" cy="1343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6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9272520" y="6813720"/>
            <a:ext cx="67176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8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FD018-3D9C-43EE-8489-85A8D20584FA}" type="slidenum">
              <a:rPr b="0" lang="en-GB" sz="18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352240" y="6838560"/>
            <a:ext cx="394812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6384600" y="6838560"/>
            <a:ext cx="2855880" cy="42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9321840" cy="15732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2920" y="1768320"/>
            <a:ext cx="9070920" cy="974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023840" y="4114800"/>
            <a:ext cx="2773080" cy="2284560"/>
            <a:chOff x="1023840" y="4114800"/>
            <a:chExt cx="2773080" cy="2284560"/>
          </a:xfrm>
        </p:grpSpPr>
        <p:sp>
          <p:nvSpPr>
            <p:cNvPr id="261" name="Line 4"/>
            <p:cNvSpPr/>
            <p:nvPr/>
          </p:nvSpPr>
          <p:spPr>
            <a:xfrm>
              <a:off x="2395440" y="4114800"/>
              <a:ext cx="1080" cy="228456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5"/>
            <p:cNvSpPr/>
            <p:nvPr/>
          </p:nvSpPr>
          <p:spPr>
            <a:xfrm>
              <a:off x="1025280" y="4571640"/>
              <a:ext cx="2739960" cy="10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6"/>
            <p:cNvSpPr/>
            <p:nvPr/>
          </p:nvSpPr>
          <p:spPr>
            <a:xfrm>
              <a:off x="102384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2427120" y="4138200"/>
              <a:ext cx="1369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>
              <a:off x="1025280" y="5423400"/>
              <a:ext cx="2739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9"/>
            <p:cNvSpPr/>
            <p:nvPr/>
          </p:nvSpPr>
          <p:spPr>
            <a:xfrm>
              <a:off x="1025280" y="6396120"/>
              <a:ext cx="273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10"/>
          <p:cNvSpPr/>
          <p:nvPr/>
        </p:nvSpPr>
        <p:spPr>
          <a:xfrm>
            <a:off x="506520" y="4680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506520" y="568800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692600" y="2948040"/>
            <a:ext cx="4343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+    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NH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398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39860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2730600" y="469260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2766960" y="562932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730260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2666880" y="46926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666880" y="562932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561168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1374840" y="5629320"/>
            <a:ext cx="60624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Group 22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280" name="AutoShape 23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24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25"/>
            <p:cNvSpPr/>
            <p:nvPr/>
          </p:nvSpPr>
          <p:spPr>
            <a:xfrm>
              <a:off x="5028840" y="457164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531612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7"/>
            <p:cNvSpPr/>
            <p:nvPr/>
          </p:nvSpPr>
          <p:spPr>
            <a:xfrm>
              <a:off x="5281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8"/>
            <p:cNvSpPr/>
            <p:nvPr/>
          </p:nvSpPr>
          <p:spPr>
            <a:xfrm>
              <a:off x="5425200" y="5772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29"/>
            <p:cNvSpPr/>
            <p:nvPr/>
          </p:nvSpPr>
          <p:spPr>
            <a:xfrm>
              <a:off x="6109560" y="598860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30"/>
            <p:cNvSpPr/>
            <p:nvPr/>
          </p:nvSpPr>
          <p:spPr>
            <a:xfrm>
              <a:off x="6073200" y="5844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1"/>
            <p:cNvSpPr/>
            <p:nvPr/>
          </p:nvSpPr>
          <p:spPr>
            <a:xfrm>
              <a:off x="6288840" y="5125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2"/>
            <p:cNvSpPr/>
            <p:nvPr/>
          </p:nvSpPr>
          <p:spPr>
            <a:xfrm>
              <a:off x="6325560" y="526968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3"/>
            <p:cNvSpPr/>
            <p:nvPr/>
          </p:nvSpPr>
          <p:spPr>
            <a:xfrm>
              <a:off x="7907400" y="583128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4"/>
            <p:cNvSpPr/>
            <p:nvPr/>
          </p:nvSpPr>
          <p:spPr>
            <a:xfrm>
              <a:off x="7980480" y="4872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5"/>
            <p:cNvSpPr/>
            <p:nvPr/>
          </p:nvSpPr>
          <p:spPr>
            <a:xfrm>
              <a:off x="8413920" y="4909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6"/>
            <p:cNvSpPr/>
            <p:nvPr/>
          </p:nvSpPr>
          <p:spPr>
            <a:xfrm>
              <a:off x="8088480" y="4642920"/>
              <a:ext cx="456840" cy="4568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7"/>
            <p:cNvSpPr/>
            <p:nvPr/>
          </p:nvSpPr>
          <p:spPr>
            <a:xfrm>
              <a:off x="8124840" y="501732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38"/>
            <p:cNvSpPr/>
            <p:nvPr/>
          </p:nvSpPr>
          <p:spPr>
            <a:xfrm>
              <a:off x="8196480" y="57362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39"/>
            <p:cNvSpPr/>
            <p:nvPr/>
          </p:nvSpPr>
          <p:spPr>
            <a:xfrm>
              <a:off x="7872480" y="602496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0"/>
            <p:cNvSpPr/>
            <p:nvPr/>
          </p:nvSpPr>
          <p:spPr>
            <a:xfrm>
              <a:off x="8269560" y="6098040"/>
              <a:ext cx="228240" cy="2282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Місце для нижнього колонтитула 3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 by adjusting coefficients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4513320" y="2948040"/>
            <a:ext cx="51372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Cl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KCl +   O</a:t>
            </a:r>
            <a:r>
              <a:rPr b="0" lang="en-GB" sz="36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54"/>
          <p:cNvGrpSpPr/>
          <p:nvPr/>
        </p:nvGrpSpPr>
        <p:grpSpPr>
          <a:xfrm>
            <a:off x="1023840" y="3611520"/>
            <a:ext cx="2776680" cy="3246480"/>
            <a:chOff x="1023840" y="3611520"/>
            <a:chExt cx="2776680" cy="3246480"/>
          </a:xfrm>
        </p:grpSpPr>
        <p:sp>
          <p:nvSpPr>
            <p:cNvPr id="303" name="Line 4"/>
            <p:cNvSpPr/>
            <p:nvPr/>
          </p:nvSpPr>
          <p:spPr>
            <a:xfrm>
              <a:off x="2397240" y="3611520"/>
              <a:ext cx="1440" cy="324648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5"/>
            <p:cNvSpPr/>
            <p:nvPr/>
          </p:nvSpPr>
          <p:spPr>
            <a:xfrm>
              <a:off x="1025640" y="4068720"/>
              <a:ext cx="2743200" cy="1800"/>
            </a:xfrm>
            <a:prstGeom prst="line">
              <a:avLst/>
            </a:prstGeom>
            <a:ln w="54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102384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2428920" y="3633840"/>
              <a:ext cx="1371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025640" y="495792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025640" y="5929200"/>
              <a:ext cx="274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025640" y="6829560"/>
              <a:ext cx="274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Text Box 11"/>
          <p:cNvSpPr/>
          <p:nvPr/>
        </p:nvSpPr>
        <p:spPr>
          <a:xfrm>
            <a:off x="506520" y="4176720"/>
            <a:ext cx="457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33440" y="518472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433440" y="6156360"/>
            <a:ext cx="6364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398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139860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730600" y="422424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2766960" y="5160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139860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2766960" y="609588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20"/>
          <p:cNvGrpSpPr/>
          <p:nvPr/>
        </p:nvGrpSpPr>
        <p:grpSpPr>
          <a:xfrm>
            <a:off x="4064040" y="2928960"/>
            <a:ext cx="4557600" cy="657360"/>
            <a:chOff x="4064040" y="2928960"/>
            <a:chExt cx="4557600" cy="657360"/>
          </a:xfrm>
        </p:grpSpPr>
        <p:sp>
          <p:nvSpPr>
            <p:cNvPr id="320" name="Text Box 21"/>
            <p:cNvSpPr/>
            <p:nvPr/>
          </p:nvSpPr>
          <p:spPr>
            <a:xfrm>
              <a:off x="79358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 Box 22"/>
            <p:cNvSpPr/>
            <p:nvPr/>
          </p:nvSpPr>
          <p:spPr>
            <a:xfrm>
              <a:off x="4064040" y="2928960"/>
              <a:ext cx="68580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4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Text Box 23"/>
          <p:cNvSpPr/>
          <p:nvPr/>
        </p:nvSpPr>
        <p:spPr>
          <a:xfrm>
            <a:off x="137160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1376280" y="42354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137160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774880" y="610236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2739960" y="516564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774880" y="4194000"/>
            <a:ext cx="606600" cy="6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11960" y="2928960"/>
            <a:ext cx="685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0"/>
          <p:cNvGrpSpPr/>
          <p:nvPr/>
        </p:nvGrpSpPr>
        <p:grpSpPr>
          <a:xfrm>
            <a:off x="4343400" y="4114800"/>
            <a:ext cx="5176440" cy="2741760"/>
            <a:chOff x="4343400" y="4114800"/>
            <a:chExt cx="5176440" cy="2741760"/>
          </a:xfrm>
        </p:grpSpPr>
        <p:sp>
          <p:nvSpPr>
            <p:cNvPr id="330" name="AutoShape 31"/>
            <p:cNvSpPr/>
            <p:nvPr/>
          </p:nvSpPr>
          <p:spPr>
            <a:xfrm>
              <a:off x="434340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AutoShape 32"/>
            <p:cNvSpPr/>
            <p:nvPr/>
          </p:nvSpPr>
          <p:spPr>
            <a:xfrm>
              <a:off x="7006320" y="4114800"/>
              <a:ext cx="2513520" cy="2741760"/>
            </a:xfrm>
            <a:custGeom>
              <a:avLst/>
              <a:gdLst>
                <a:gd name="textAreaLeft" fmla="*/ 360 w 2513520"/>
                <a:gd name="textAreaRight" fmla="*/ 2513160 w 2513520"/>
                <a:gd name="textAreaTop" fmla="*/ 360 h 2741760"/>
                <a:gd name="textAreaBottom" fmla="*/ 2741400 h 2741760"/>
              </a:gdLst>
              <a:ahLst/>
              <a:rect l="textAreaLeft" t="textAreaTop" r="textAreaRight" b="textAreaBottom"/>
              <a:pathLst>
                <a:path w="21600" h="23561">
                  <a:moveTo>
                    <a:pt x="13" y="0"/>
                  </a:moveTo>
                  <a:arcTo wR="13" hR="13" stAng="16200000" swAng="-5400000"/>
                  <a:lnTo>
                    <a:pt x="0" y="23548"/>
                  </a:lnTo>
                  <a:arcTo wR="13" hR="13" stAng="10800000" swAng="-5400000"/>
                  <a:lnTo>
                    <a:pt x="21587" y="23561"/>
                  </a:lnTo>
                  <a:arcTo wR="13" hR="13" stAng="5400000" swAng="-5400000"/>
                  <a:lnTo>
                    <a:pt x="21600" y="13"/>
                  </a:lnTo>
                  <a:arcTo wR="13" hR="13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5173200" y="5363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4776480" y="5292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957560" y="53269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5138280" y="508896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4884480" y="5578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6109560" y="512532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180840" y="54000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5784120" y="532692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5965200" y="536328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5892120" y="561564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744120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7296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8232840" y="4514400"/>
              <a:ext cx="228240" cy="22824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8088480" y="4752720"/>
              <a:ext cx="456840" cy="456840"/>
            </a:xfrm>
            <a:prstGeom prst="ellipse">
              <a:avLst/>
            </a:prstGeom>
            <a:solidFill>
              <a:srgbClr val="3deb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7260120" y="5974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7512120" y="6082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855468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8843760" y="547128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1"/>
            <p:cNvSpPr/>
            <p:nvPr/>
          </p:nvSpPr>
          <p:spPr>
            <a:xfrm>
              <a:off x="8304480" y="611856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2"/>
            <p:cNvSpPr/>
            <p:nvPr/>
          </p:nvSpPr>
          <p:spPr>
            <a:xfrm>
              <a:off x="8554680" y="6226200"/>
              <a:ext cx="456840" cy="456840"/>
            </a:xfrm>
            <a:prstGeom prst="ellipse">
              <a:avLst/>
            </a:prstGeom>
            <a:solidFill>
              <a:srgbClr val="ff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Місце для нижнього колонтитула 4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C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6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C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+  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54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925560" y="2255760"/>
            <a:ext cx="4114800" cy="546120"/>
            <a:chOff x="925560" y="2255760"/>
            <a:chExt cx="4114800" cy="546120"/>
          </a:xfrm>
        </p:grpSpPr>
        <p:sp>
          <p:nvSpPr>
            <p:cNvPr id="356" name="Text Box 4"/>
            <p:cNvSpPr/>
            <p:nvPr/>
          </p:nvSpPr>
          <p:spPr>
            <a:xfrm>
              <a:off x="3211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4354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2220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Text Box 7"/>
            <p:cNvSpPr/>
            <p:nvPr/>
          </p:nvSpPr>
          <p:spPr>
            <a:xfrm>
              <a:off x="9255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502920" y="1767960"/>
            <a:ext cx="9070920" cy="120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Balance the following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Fe +   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lang="en-GB" sz="2600" spc="-1" strike="noStrike">
                <a:solidFill>
                  <a:srgbClr val="fefac9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    Fe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3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36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3"/>
          <p:cNvGrpSpPr/>
          <p:nvPr/>
        </p:nvGrpSpPr>
        <p:grpSpPr>
          <a:xfrm>
            <a:off x="1077840" y="2255760"/>
            <a:ext cx="2590920" cy="546120"/>
            <a:chOff x="1077840" y="2255760"/>
            <a:chExt cx="2590920" cy="546120"/>
          </a:xfrm>
        </p:grpSpPr>
        <p:sp>
          <p:nvSpPr>
            <p:cNvPr id="364" name="Text Box 4"/>
            <p:cNvSpPr/>
            <p:nvPr/>
          </p:nvSpPr>
          <p:spPr>
            <a:xfrm>
              <a:off x="298296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5"/>
            <p:cNvSpPr/>
            <p:nvPr/>
          </p:nvSpPr>
          <p:spPr>
            <a:xfrm>
              <a:off x="191628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6"/>
            <p:cNvSpPr/>
            <p:nvPr/>
          </p:nvSpPr>
          <p:spPr>
            <a:xfrm>
              <a:off x="1077840" y="2255760"/>
              <a:ext cx="6858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3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Місце для нижнього колонтитула 2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02920" y="1767960"/>
            <a:ext cx="9070920" cy="166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hemical equation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Describes a chemical chang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Parts of an equation: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3"/>
          <p:cNvGrpSpPr/>
          <p:nvPr/>
        </p:nvGrpSpPr>
        <p:grpSpPr>
          <a:xfrm>
            <a:off x="1365120" y="4700520"/>
            <a:ext cx="7467840" cy="787320"/>
            <a:chOff x="1365120" y="4700520"/>
            <a:chExt cx="7467840" cy="787320"/>
          </a:xfrm>
        </p:grpSpPr>
        <p:sp>
          <p:nvSpPr>
            <p:cNvPr id="182" name="AutoShape 3"/>
            <p:cNvSpPr/>
            <p:nvPr/>
          </p:nvSpPr>
          <p:spPr>
            <a:xfrm>
              <a:off x="4260960" y="4853160"/>
              <a:ext cx="1371600" cy="409320"/>
            </a:xfrm>
            <a:prstGeom prst="rightArrow">
              <a:avLst>
                <a:gd name="adj1" fmla="val 23259"/>
                <a:gd name="adj2" fmla="val 7718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1365120" y="4700520"/>
              <a:ext cx="2826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2Ag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5"/>
            <p:cNvSpPr/>
            <p:nvPr/>
          </p:nvSpPr>
          <p:spPr>
            <a:xfrm>
              <a:off x="6013440" y="4700520"/>
              <a:ext cx="28195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Ag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ff00"/>
                  </a:solidFill>
                  <a:latin typeface="Arial"/>
                </a:rPr>
                <a:t>S + H</a:t>
              </a:r>
              <a:r>
                <a:rPr b="1" lang="en-GB" sz="40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1667160" y="3633840"/>
            <a:ext cx="2898360" cy="1083960"/>
            <a:chOff x="1667160" y="3633840"/>
            <a:chExt cx="2898360" cy="1083960"/>
          </a:xfrm>
        </p:grpSpPr>
        <p:sp>
          <p:nvSpPr>
            <p:cNvPr id="186" name="Text Box 7"/>
            <p:cNvSpPr/>
            <p:nvPr/>
          </p:nvSpPr>
          <p:spPr>
            <a:xfrm>
              <a:off x="2050920" y="36338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 rot="5340000">
              <a:off x="2395440" y="3443040"/>
              <a:ext cx="533160" cy="198144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440"/>
                <a:gd name="textAreaBottom" fmla="*/ 188640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Group 15"/>
          <p:cNvGrpSpPr/>
          <p:nvPr/>
        </p:nvGrpSpPr>
        <p:grpSpPr>
          <a:xfrm>
            <a:off x="6086520" y="3633840"/>
            <a:ext cx="1990080" cy="1083960"/>
            <a:chOff x="6086520" y="3633840"/>
            <a:chExt cx="1990080" cy="1083960"/>
          </a:xfrm>
        </p:grpSpPr>
        <p:sp>
          <p:nvSpPr>
            <p:cNvPr id="189" name="Text Box 6"/>
            <p:cNvSpPr/>
            <p:nvPr/>
          </p:nvSpPr>
          <p:spPr>
            <a:xfrm>
              <a:off x="6470640" y="36338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 rot="5340000">
              <a:off x="6814800" y="3443040"/>
              <a:ext cx="533160" cy="198108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95040 h 1981080"/>
                <a:gd name="textAreaBottom" fmla="*/ 188604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59"/>
                    <a:pt x="10800" y="3317"/>
                  </a:cubicBezTo>
                  <a:lnTo>
                    <a:pt x="10800" y="7422"/>
                  </a:lnTo>
                  <a:cubicBezTo>
                    <a:pt x="10800" y="9081"/>
                    <a:pt x="5400" y="10739"/>
                    <a:pt x="0" y="10739"/>
                  </a:cubicBezTo>
                  <a:cubicBezTo>
                    <a:pt x="5400" y="10739"/>
                    <a:pt x="10800" y="12398"/>
                    <a:pt x="10800" y="14056"/>
                  </a:cubicBezTo>
                  <a:lnTo>
                    <a:pt x="10800" y="18283"/>
                  </a:lnTo>
                  <a:cubicBezTo>
                    <a:pt x="10800" y="1994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14"/>
          <p:cNvGrpSpPr/>
          <p:nvPr/>
        </p:nvGrpSpPr>
        <p:grpSpPr>
          <a:xfrm>
            <a:off x="3956040" y="5462640"/>
            <a:ext cx="1987560" cy="1663560"/>
            <a:chOff x="3956040" y="5462640"/>
            <a:chExt cx="1987560" cy="1663560"/>
          </a:xfrm>
        </p:grpSpPr>
        <p:sp>
          <p:nvSpPr>
            <p:cNvPr id="192" name="AutoShape 8"/>
            <p:cNvSpPr/>
            <p:nvPr/>
          </p:nvSpPr>
          <p:spPr>
            <a:xfrm>
              <a:off x="4718160" y="5462640"/>
              <a:ext cx="380880" cy="1143000"/>
            </a:xfrm>
            <a:prstGeom prst="upArrow">
              <a:avLst>
                <a:gd name="adj1" fmla="val 21667"/>
                <a:gd name="adj2" fmla="val 8210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3956040" y="6757920"/>
              <a:ext cx="19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ction symb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Місце для нижнього колонтитула 5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Reacta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chemical(s) you start with before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Written on lef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Produc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The new chemical(s) formed by the reaction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Right side of equation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9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Subscrip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atoms of an element are in a molecule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2 atoms of hydrogen (H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 atom of oxygen (O)</a:t>
            </a:r>
            <a:r>
              <a:rPr b="0" lang="ar-SA" sz="2300" spc="-1" strike="noStrike">
                <a:solidFill>
                  <a:srgbClr val="ffffff"/>
                </a:solidFill>
                <a:latin typeface="Constantia"/>
                <a:ea typeface="Arial"/>
              </a:rPr>
              <a:t>‏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ffff"/>
                </a:solidFill>
                <a:latin typeface="Constantia"/>
              </a:rPr>
              <a:t>Coefficient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- shows how many molecules there are of a particular chemical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EX: 3 H</a:t>
            </a:r>
            <a:r>
              <a:rPr b="0" lang="en-GB" sz="2600" spc="-1" strike="noStrike" baseline="-33000">
                <a:solidFill>
                  <a:srgbClr val="fefac9"/>
                </a:solidFill>
                <a:latin typeface="Constantia"/>
              </a:rPr>
              <a:t>2</a:t>
            </a: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O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2" marL="1108080" indent="-250920">
              <a:spcBef>
                <a:spcPts val="326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Means there are 3 water molecules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2H</a:t>
            </a:r>
            <a:r>
              <a:rPr b="0" lang="en-GB" sz="2900" spc="-1" strike="noStrike" baseline="-33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2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In a chem. rxn, matter is neither created nor destroyed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301680"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efac9"/>
                </a:solidFill>
                <a:latin typeface="Constantia"/>
              </a:rPr>
              <a:t>In other words, the number and type of atoms going INTO a rxn must be the same as the number and type of atoms coming OUT.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If an equation obeys the Law of Conservation, it is </a:t>
            </a:r>
            <a:r>
              <a:rPr b="1" lang="en-GB" sz="2900" spc="-1" strike="noStrike">
                <a:solidFill>
                  <a:srgbClr val="ffff00"/>
                </a:solidFill>
                <a:latin typeface="Constantia"/>
              </a:rPr>
              <a:t>balanced</a:t>
            </a:r>
            <a:r>
              <a:rPr b="0" lang="en-GB" sz="2900" spc="-1" strike="noStrike">
                <a:solidFill>
                  <a:srgbClr val="ffff00"/>
                </a:solidFill>
                <a:latin typeface="Constantia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1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2920" y="1767960"/>
            <a:ext cx="9070920" cy="746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C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CO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 + H</a:t>
            </a:r>
            <a:r>
              <a:rPr b="0" lang="en-GB" sz="2900" spc="-1" strike="noStrike" baseline="-25000">
                <a:solidFill>
                  <a:srgbClr val="ffffff"/>
                </a:solidFill>
                <a:latin typeface="Constantia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Constantia"/>
              </a:rPr>
              <a:t>O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Rectangle 5" descr=""/>
          <p:cNvPicPr/>
          <p:nvPr/>
        </p:nvPicPr>
        <p:blipFill>
          <a:blip r:embed="rId1"/>
          <a:stretch/>
        </p:blipFill>
        <p:spPr>
          <a:xfrm>
            <a:off x="255600" y="347760"/>
            <a:ext cx="9321840" cy="1474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Oval 1"/>
          <p:cNvSpPr/>
          <p:nvPr/>
        </p:nvSpPr>
        <p:spPr>
          <a:xfrm>
            <a:off x="6618240" y="5823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2"/>
          <p:cNvSpPr/>
          <p:nvPr/>
        </p:nvSpPr>
        <p:spPr>
          <a:xfrm>
            <a:off x="6350040" y="391176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76520" y="439272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919080" y="431964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Balanced Eq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280" y="1770120"/>
            <a:ext cx="907092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30968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an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5270400" y="2743200"/>
            <a:ext cx="2743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9"/>
          <p:cNvSpPr/>
          <p:nvPr/>
        </p:nvSpPr>
        <p:spPr>
          <a:xfrm>
            <a:off x="118116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1279440" y="3816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1"/>
          <p:cNvSpPr/>
          <p:nvPr/>
        </p:nvSpPr>
        <p:spPr>
          <a:xfrm>
            <a:off x="1100160" y="460836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2"/>
          <p:cNvSpPr/>
          <p:nvPr/>
        </p:nvSpPr>
        <p:spPr>
          <a:xfrm>
            <a:off x="2514600" y="5486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3"/>
          <p:cNvSpPr/>
          <p:nvPr/>
        </p:nvSpPr>
        <p:spPr>
          <a:xfrm>
            <a:off x="2874960" y="56674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4572000" y="2971800"/>
            <a:ext cx="1440" cy="4114800"/>
          </a:xfrm>
          <a:prstGeom prst="line">
            <a:avLst/>
          </a:prstGeom>
          <a:ln w="9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5"/>
          <p:cNvSpPr/>
          <p:nvPr/>
        </p:nvSpPr>
        <p:spPr>
          <a:xfrm>
            <a:off x="5943600" y="4114800"/>
            <a:ext cx="685800" cy="685800"/>
          </a:xfrm>
          <a:prstGeom prst="ellipse">
            <a:avLst/>
          </a:prstGeom>
          <a:solidFill>
            <a:srgbClr val="4c4c4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522760" y="4343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7"/>
          <p:cNvSpPr/>
          <p:nvPr/>
        </p:nvSpPr>
        <p:spPr>
          <a:xfrm>
            <a:off x="6199200" y="54738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8"/>
          <p:cNvSpPr/>
          <p:nvPr/>
        </p:nvSpPr>
        <p:spPr>
          <a:xfrm>
            <a:off x="6078600" y="593100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22860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861320" y="5486400"/>
            <a:ext cx="2057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arbon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hydro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oxygen a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21"/>
          <p:cNvSpPr/>
          <p:nvPr/>
        </p:nvSpPr>
        <p:spPr>
          <a:xfrm>
            <a:off x="2874960" y="408312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22"/>
          <p:cNvSpPr/>
          <p:nvPr/>
        </p:nvSpPr>
        <p:spPr>
          <a:xfrm>
            <a:off x="3235320" y="426240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23"/>
          <p:cNvSpPr/>
          <p:nvPr/>
        </p:nvSpPr>
        <p:spPr>
          <a:xfrm>
            <a:off x="8489880" y="4456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24"/>
          <p:cNvSpPr/>
          <p:nvPr/>
        </p:nvSpPr>
        <p:spPr>
          <a:xfrm>
            <a:off x="8070840" y="4106880"/>
            <a:ext cx="685800" cy="685800"/>
          </a:xfrm>
          <a:prstGeom prst="ellipse">
            <a:avLst/>
          </a:prstGeom>
          <a:solidFill>
            <a:srgbClr val="ff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25"/>
          <p:cNvSpPr/>
          <p:nvPr/>
        </p:nvSpPr>
        <p:spPr>
          <a:xfrm>
            <a:off x="7950240" y="4564080"/>
            <a:ext cx="457200" cy="457200"/>
          </a:xfrm>
          <a:prstGeom prst="ellipse">
            <a:avLst/>
          </a:pr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1. Matter cannot be created or destroy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2. Subscripts cannot be added, removed, or changed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3. You can only change coefficients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00"/>
                </a:solidFill>
                <a:latin typeface="Constantia"/>
              </a:rPr>
              <a:t>4. Coefficients can only go in front of chem. formulas...NEVER in the middle of a formula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63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nstantia"/>
              </a:rPr>
              <a:t>A few extra tips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y balancing big formulas first; save free elements for las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f the same polyatomic ion appears on both sides of the equation, it’s usually okay to treat it as one unit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93480">
              <a:lnSpc>
                <a:spcPct val="90000"/>
              </a:lnSpc>
              <a:spcBef>
                <a:spcPts val="326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re is no one particular way to balance equations.  Some equations are harder to balance than others and might require some creativity to solve.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56" name="Rectangle 1" descr=""/>
          <p:cNvPicPr/>
          <p:nvPr/>
        </p:nvPicPr>
        <p:blipFill>
          <a:blip r:embed="rId1"/>
          <a:stretch/>
        </p:blipFill>
        <p:spPr>
          <a:xfrm>
            <a:off x="189000" y="298440"/>
            <a:ext cx="9388440" cy="163368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2352600" y="6838920"/>
            <a:ext cx="3948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300" spc="-1" strike="noStrike">
                <a:solidFill>
                  <a:srgbClr val="fefac9"/>
                </a:solidFill>
                <a:latin typeface="Arial"/>
              </a:rPr>
              <a:t>www.sliderbase.co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cas Curtis</dc:creator>
  <dc:description/>
  <dc:language>en-US</dc:language>
  <cp:lastModifiedBy>LEGION</cp:lastModifiedBy>
  <dcterms:modified xsi:type="dcterms:W3CDTF">2017-01-26T09:37:15Z</dcterms:modified>
  <cp:revision>6</cp:revision>
  <dc:subject/>
  <dc:title>Balancing Chemical Equations</dc:title>
</cp:coreProperties>
</file>