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dt" idx="13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0FD50-D216-42F3-8792-98B7A83F3E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Chemical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 by adjusting coeffic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2 +    H2     NH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 by adjusting 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 +    H2     NH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 by adjusting coeffic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ClO3     KCl +   O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 by adjusting 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ClO3     KCl +  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2H6 +   O2    CO2 +  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O2    CO2 +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e +   O2     Fe2O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+   O2     Fe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emical equation - Describes a chemical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arts of an equa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hat is a chemical equation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 - Describes a chemical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n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equ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 - The chemical(s) you start with before the rea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ritten on left side of equ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duct - The new chemical(s) formed by the rea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ight side of equ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s and Produ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 - The chemical(s) you start with before the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on left side of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- The new chemical(s) formed by the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ide of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 and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ubscript - shows how many atoms of an element are in a molecu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X: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atoms of hydrogen (H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atom of oxygen (O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efficient - shows how many molecules there are of a particular chemic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X: 3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eans there are 3 water molecul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ubscripts and Coeffic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pt - shows how many atoms of an element are in a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toms of hydrogen (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atom of oxygen (O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- shows how many molecules there are of a particular chem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3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there are 3 water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pts and Coeffic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H2 + O2  2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Chemical Re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H2 + O2 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a chem. rxn, matter is neither created nor destroy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other words, the number and type of atoms going INTO a rxn must be the same as the number and type of atoms coming OU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f an equation obeys the Law of Conservation, it is balanc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aw of Conservation of M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hem. rxn, matter is neither created n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ther words, the number and type of atoms going INTO a rxn must be the same as the number and type of atoms coming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ation obeys the Law of Conservation, it is bal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4 + O2  CO2 +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n Unbalanced Eq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duc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+ O2  CO2 +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balanced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Balanced Eq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4 + 2O2  CO2 + 2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duc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lanced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+ 2O2  CO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. Matter cannot be created or destroy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. Subscripts cannot be added, removed, or 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. You can only change coeffic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. Coefficients can only go in front of chem. formulas...NEVER in the middle of a formul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few extra tip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ry balancing big formulas first; save free elements for las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f the same polyatomic ion appears on both sides of the equation, it’s usually okay to treat it as one uni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here is no one particular way to balance equations.  Some equations are harder to balance than others and might require some creativity to solv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ules of the G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atter cannot be created 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ubscripts cannot be added, removed, or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You can only change 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Coefficients can only go in front of chem. formulas...NEVER in the middle of a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extra tip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balancing big formulas first; save free elements for 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ame polyatomic ion appears on both sides of the equation, it’s usually okay to treat it as one un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one particular way to balance equations.  Some equations are harder to balance than others and might require some creativity to 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of the 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E894-67E8-4344-A6EF-231733C9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3B2F-5EE3-4782-94E4-F64E21CF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2233-3D7A-4C4E-8873-8B66BBB3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D7FE-D57E-4A4B-B9BF-ADF49F7C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508A4-FB20-44DD-B2B3-C07A421A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5CADA-7F42-4246-AE47-0D6BFB25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F9A95-9BEA-425D-8D6F-EE6F8E20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5A333-BE33-4A68-B7C3-AD847CBA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25235-94F8-4BF9-B0BC-C5295D0A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EF681-D7DD-41FF-86D9-D395404B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517C2-2407-4C69-AACD-16C53857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72B2-26C2-4652-B1F8-B8A8C91A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953C0-4DF2-4FEB-9D74-9AA471F4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2D096-56A1-41ED-961A-CC709E02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0E0BE-3C1C-4495-A2B5-03875AF6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468CC-BD2C-4944-A877-4F6757AA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36B69-1D6E-436C-ABCF-DE3CED54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BA0EE-0E14-4929-9969-BC516249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1AD00-615E-4912-86D4-17740520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B977E-00CF-4DCE-9F24-FDD878B0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FDC2A-78E5-4B1C-A0C3-4B2B3EC4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4A80E-A2E7-42E3-BB06-5DAF3AD4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0172-4A54-43B7-8501-62B91F66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244B2-D034-460A-AF7C-FBE8F2C6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CDFE6-6C3D-4BF6-A2D0-67D04A0C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D8D84-CDD6-4534-9C87-071C998B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7910B-DFEB-4DEB-8704-B564DA25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71B7B-E779-4D37-9806-9E8BDE66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FE9B2-F762-41D5-B8E8-D5E713B9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444A6-CA3C-4712-A0C0-22011CF7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97DEB3-3FF7-4979-B4A3-C8CE735F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FCE1FA-CDC6-45A4-800C-9ABDD75F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B3AF37-5823-4A57-ABCE-2AB74268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87E6-339D-412C-A155-97D65F5F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E3BCE5-2726-41EB-A2E4-4B705EA0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88A5FB-1F69-4D29-9526-63232126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8FB80C-F055-4844-982E-E8417714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224B80-CDBB-4F30-A8B8-A3719934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2B5506-8DA4-4B39-A426-5085C9D6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2A8767-80EC-403A-BA67-01A888FA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BBB58F-9EA8-4A24-9C73-AAF2312F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08224F-F252-4E84-8BB5-985FFE87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65139F-22AD-4D35-B5E4-5433869E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5032-D956-41D6-90A2-35D0ADD7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090-7B77-4E53-A5C4-2AD99AFE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86CA-4134-478D-BBAD-C8CB791F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1458-6F1D-402C-A428-93F40EE8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91E7-299D-4E56-8E69-DC84611E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5B484-711D-4C35-8B1A-80AB81503208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612800" y="3913200"/>
            <a:ext cx="3276720" cy="144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5191200" y="3913200"/>
            <a:ext cx="3276360" cy="144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5005440" y="3887640"/>
            <a:ext cx="50760" cy="4932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-15480" bIns="-15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18962-AE67-4A92-96D9-B6672EBBAF6A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755640" y="5419800"/>
            <a:ext cx="873756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8325A-602B-4A02-98E6-52994461CF91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620640" y="2403360"/>
            <a:ext cx="4132440" cy="180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5241960" y="2403360"/>
            <a:ext cx="4132080" cy="180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78CA1-F910-43F7-8335-68DAF127780C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Rectangle 1" descr=""/>
          <p:cNvPicPr/>
          <p:nvPr/>
        </p:nvPicPr>
        <p:blipFill>
          <a:blip r:embed="rId1"/>
          <a:stretch/>
        </p:blipFill>
        <p:spPr>
          <a:xfrm>
            <a:off x="255600" y="298440"/>
            <a:ext cx="9321840" cy="15732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02920" y="1768320"/>
            <a:ext cx="9070920" cy="97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 by adjusting coefficients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3"/>
          <p:cNvGrpSpPr/>
          <p:nvPr/>
        </p:nvGrpSpPr>
        <p:grpSpPr>
          <a:xfrm>
            <a:off x="1023840" y="4114800"/>
            <a:ext cx="2773080" cy="2284560"/>
            <a:chOff x="1023840" y="4114800"/>
            <a:chExt cx="2773080" cy="2284560"/>
          </a:xfrm>
        </p:grpSpPr>
        <p:sp>
          <p:nvSpPr>
            <p:cNvPr id="261" name="Line 4"/>
            <p:cNvSpPr/>
            <p:nvPr/>
          </p:nvSpPr>
          <p:spPr>
            <a:xfrm>
              <a:off x="2395440" y="4114800"/>
              <a:ext cx="1080" cy="228456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>
              <a:off x="1025280" y="4571640"/>
              <a:ext cx="2739960" cy="108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 Box 6"/>
            <p:cNvSpPr/>
            <p:nvPr/>
          </p:nvSpPr>
          <p:spPr>
            <a:xfrm>
              <a:off x="1023840" y="4138200"/>
              <a:ext cx="1369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7"/>
            <p:cNvSpPr/>
            <p:nvPr/>
          </p:nvSpPr>
          <p:spPr>
            <a:xfrm>
              <a:off x="2427120" y="4138200"/>
              <a:ext cx="1369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8"/>
            <p:cNvSpPr/>
            <p:nvPr/>
          </p:nvSpPr>
          <p:spPr>
            <a:xfrm>
              <a:off x="1025280" y="5423400"/>
              <a:ext cx="2739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9"/>
            <p:cNvSpPr/>
            <p:nvPr/>
          </p:nvSpPr>
          <p:spPr>
            <a:xfrm>
              <a:off x="1025280" y="6396120"/>
              <a:ext cx="2739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Text Box 10"/>
          <p:cNvSpPr/>
          <p:nvPr/>
        </p:nvSpPr>
        <p:spPr>
          <a:xfrm>
            <a:off x="506520" y="4680000"/>
            <a:ext cx="457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06520" y="5688000"/>
            <a:ext cx="457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4692600" y="2948040"/>
            <a:ext cx="4343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NH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1398600" y="469260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1398600" y="562932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2730600" y="469260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2766960" y="562932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7302600" y="2928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2666880" y="469260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2666880" y="562932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20"/>
          <p:cNvSpPr/>
          <p:nvPr/>
        </p:nvSpPr>
        <p:spPr>
          <a:xfrm>
            <a:off x="5611680" y="2928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1"/>
          <p:cNvSpPr/>
          <p:nvPr/>
        </p:nvSpPr>
        <p:spPr>
          <a:xfrm>
            <a:off x="1374840" y="5629320"/>
            <a:ext cx="60624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Group 22"/>
          <p:cNvGrpSpPr/>
          <p:nvPr/>
        </p:nvGrpSpPr>
        <p:grpSpPr>
          <a:xfrm>
            <a:off x="4343400" y="4114800"/>
            <a:ext cx="5176440" cy="2741760"/>
            <a:chOff x="4343400" y="4114800"/>
            <a:chExt cx="5176440" cy="2741760"/>
          </a:xfrm>
        </p:grpSpPr>
        <p:sp>
          <p:nvSpPr>
            <p:cNvPr id="280" name="AutoShape 23"/>
            <p:cNvSpPr/>
            <p:nvPr/>
          </p:nvSpPr>
          <p:spPr>
            <a:xfrm>
              <a:off x="434340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AutoShape 24"/>
            <p:cNvSpPr/>
            <p:nvPr/>
          </p:nvSpPr>
          <p:spPr>
            <a:xfrm>
              <a:off x="700632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25"/>
            <p:cNvSpPr/>
            <p:nvPr/>
          </p:nvSpPr>
          <p:spPr>
            <a:xfrm>
              <a:off x="5028840" y="457164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26"/>
            <p:cNvSpPr/>
            <p:nvPr/>
          </p:nvSpPr>
          <p:spPr>
            <a:xfrm>
              <a:off x="5316120" y="464292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27"/>
            <p:cNvSpPr/>
            <p:nvPr/>
          </p:nvSpPr>
          <p:spPr>
            <a:xfrm>
              <a:off x="5281200" y="58442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28"/>
            <p:cNvSpPr/>
            <p:nvPr/>
          </p:nvSpPr>
          <p:spPr>
            <a:xfrm>
              <a:off x="5425200" y="577260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29"/>
            <p:cNvSpPr/>
            <p:nvPr/>
          </p:nvSpPr>
          <p:spPr>
            <a:xfrm>
              <a:off x="6109560" y="598860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30"/>
            <p:cNvSpPr/>
            <p:nvPr/>
          </p:nvSpPr>
          <p:spPr>
            <a:xfrm>
              <a:off x="6073200" y="58442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31"/>
            <p:cNvSpPr/>
            <p:nvPr/>
          </p:nvSpPr>
          <p:spPr>
            <a:xfrm>
              <a:off x="6288840" y="512532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32"/>
            <p:cNvSpPr/>
            <p:nvPr/>
          </p:nvSpPr>
          <p:spPr>
            <a:xfrm>
              <a:off x="6325560" y="526968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3"/>
            <p:cNvSpPr/>
            <p:nvPr/>
          </p:nvSpPr>
          <p:spPr>
            <a:xfrm>
              <a:off x="7907400" y="583128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4"/>
            <p:cNvSpPr/>
            <p:nvPr/>
          </p:nvSpPr>
          <p:spPr>
            <a:xfrm>
              <a:off x="7980480" y="487296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5"/>
            <p:cNvSpPr/>
            <p:nvPr/>
          </p:nvSpPr>
          <p:spPr>
            <a:xfrm>
              <a:off x="8413920" y="490932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6"/>
            <p:cNvSpPr/>
            <p:nvPr/>
          </p:nvSpPr>
          <p:spPr>
            <a:xfrm>
              <a:off x="8088480" y="464292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7"/>
            <p:cNvSpPr/>
            <p:nvPr/>
          </p:nvSpPr>
          <p:spPr>
            <a:xfrm>
              <a:off x="8124840" y="501732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38"/>
            <p:cNvSpPr/>
            <p:nvPr/>
          </p:nvSpPr>
          <p:spPr>
            <a:xfrm>
              <a:off x="8196480" y="57362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39"/>
            <p:cNvSpPr/>
            <p:nvPr/>
          </p:nvSpPr>
          <p:spPr>
            <a:xfrm>
              <a:off x="7872480" y="602496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0"/>
            <p:cNvSpPr/>
            <p:nvPr/>
          </p:nvSpPr>
          <p:spPr>
            <a:xfrm>
              <a:off x="8269560" y="60980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Місце для нижнього колонтитула 3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 by adjusting coefficients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0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3"/>
          <p:cNvSpPr/>
          <p:nvPr/>
        </p:nvSpPr>
        <p:spPr>
          <a:xfrm>
            <a:off x="4513320" y="2948040"/>
            <a:ext cx="51372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ClO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KCl +   O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54"/>
          <p:cNvGrpSpPr/>
          <p:nvPr/>
        </p:nvGrpSpPr>
        <p:grpSpPr>
          <a:xfrm>
            <a:off x="1023840" y="3611520"/>
            <a:ext cx="2776680" cy="3246480"/>
            <a:chOff x="1023840" y="3611520"/>
            <a:chExt cx="2776680" cy="3246480"/>
          </a:xfrm>
        </p:grpSpPr>
        <p:sp>
          <p:nvSpPr>
            <p:cNvPr id="303" name="Line 4"/>
            <p:cNvSpPr/>
            <p:nvPr/>
          </p:nvSpPr>
          <p:spPr>
            <a:xfrm>
              <a:off x="2397240" y="3611520"/>
              <a:ext cx="1440" cy="324648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5"/>
            <p:cNvSpPr/>
            <p:nvPr/>
          </p:nvSpPr>
          <p:spPr>
            <a:xfrm>
              <a:off x="1025640" y="4068720"/>
              <a:ext cx="2743200" cy="180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1023840" y="3633840"/>
              <a:ext cx="1371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7"/>
            <p:cNvSpPr/>
            <p:nvPr/>
          </p:nvSpPr>
          <p:spPr>
            <a:xfrm>
              <a:off x="2428920" y="3633840"/>
              <a:ext cx="1371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1025640" y="4957920"/>
              <a:ext cx="2743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1025640" y="5929200"/>
              <a:ext cx="2743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1025640" y="6829560"/>
              <a:ext cx="2743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Text Box 11"/>
          <p:cNvSpPr/>
          <p:nvPr/>
        </p:nvSpPr>
        <p:spPr>
          <a:xfrm>
            <a:off x="506520" y="4176720"/>
            <a:ext cx="457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433440" y="5184720"/>
            <a:ext cx="6364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433440" y="6156360"/>
            <a:ext cx="6364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1398600" y="422424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1398600" y="5160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2730600" y="422424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2766960" y="5160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1398600" y="609588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2766960" y="609588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20"/>
          <p:cNvGrpSpPr/>
          <p:nvPr/>
        </p:nvGrpSpPr>
        <p:grpSpPr>
          <a:xfrm>
            <a:off x="4064040" y="2928960"/>
            <a:ext cx="4557600" cy="657360"/>
            <a:chOff x="4064040" y="2928960"/>
            <a:chExt cx="4557600" cy="657360"/>
          </a:xfrm>
        </p:grpSpPr>
        <p:sp>
          <p:nvSpPr>
            <p:cNvPr id="320" name="Text Box 21"/>
            <p:cNvSpPr/>
            <p:nvPr/>
          </p:nvSpPr>
          <p:spPr>
            <a:xfrm>
              <a:off x="7935840" y="2928960"/>
              <a:ext cx="68580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 Box 22"/>
            <p:cNvSpPr/>
            <p:nvPr/>
          </p:nvSpPr>
          <p:spPr>
            <a:xfrm>
              <a:off x="4064040" y="2928960"/>
              <a:ext cx="68580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Text Box 23"/>
          <p:cNvSpPr/>
          <p:nvPr/>
        </p:nvSpPr>
        <p:spPr>
          <a:xfrm>
            <a:off x="1371600" y="516564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1376280" y="423540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1371600" y="610236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774880" y="610236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7"/>
          <p:cNvSpPr/>
          <p:nvPr/>
        </p:nvSpPr>
        <p:spPr>
          <a:xfrm>
            <a:off x="2739960" y="516564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2774880" y="419400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11960" y="2928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Group 30"/>
          <p:cNvGrpSpPr/>
          <p:nvPr/>
        </p:nvGrpSpPr>
        <p:grpSpPr>
          <a:xfrm>
            <a:off x="4343400" y="4114800"/>
            <a:ext cx="5176440" cy="2741760"/>
            <a:chOff x="4343400" y="4114800"/>
            <a:chExt cx="5176440" cy="2741760"/>
          </a:xfrm>
        </p:grpSpPr>
        <p:sp>
          <p:nvSpPr>
            <p:cNvPr id="330" name="AutoShape 31"/>
            <p:cNvSpPr/>
            <p:nvPr/>
          </p:nvSpPr>
          <p:spPr>
            <a:xfrm>
              <a:off x="434340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AutoShape 32"/>
            <p:cNvSpPr/>
            <p:nvPr/>
          </p:nvSpPr>
          <p:spPr>
            <a:xfrm>
              <a:off x="700632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33"/>
            <p:cNvSpPr/>
            <p:nvPr/>
          </p:nvSpPr>
          <p:spPr>
            <a:xfrm>
              <a:off x="5173200" y="536328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34"/>
            <p:cNvSpPr/>
            <p:nvPr/>
          </p:nvSpPr>
          <p:spPr>
            <a:xfrm>
              <a:off x="4776480" y="52920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35"/>
            <p:cNvSpPr/>
            <p:nvPr/>
          </p:nvSpPr>
          <p:spPr>
            <a:xfrm>
              <a:off x="4957560" y="532692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36"/>
            <p:cNvSpPr/>
            <p:nvPr/>
          </p:nvSpPr>
          <p:spPr>
            <a:xfrm>
              <a:off x="5138280" y="508896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37"/>
            <p:cNvSpPr/>
            <p:nvPr/>
          </p:nvSpPr>
          <p:spPr>
            <a:xfrm>
              <a:off x="4884480" y="557892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38"/>
            <p:cNvSpPr/>
            <p:nvPr/>
          </p:nvSpPr>
          <p:spPr>
            <a:xfrm>
              <a:off x="6109560" y="512532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39"/>
            <p:cNvSpPr/>
            <p:nvPr/>
          </p:nvSpPr>
          <p:spPr>
            <a:xfrm>
              <a:off x="6180840" y="54000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0"/>
            <p:cNvSpPr/>
            <p:nvPr/>
          </p:nvSpPr>
          <p:spPr>
            <a:xfrm>
              <a:off x="5784120" y="532692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41"/>
            <p:cNvSpPr/>
            <p:nvPr/>
          </p:nvSpPr>
          <p:spPr>
            <a:xfrm>
              <a:off x="5965200" y="536328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42"/>
            <p:cNvSpPr/>
            <p:nvPr/>
          </p:nvSpPr>
          <p:spPr>
            <a:xfrm>
              <a:off x="5892120" y="561564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43"/>
            <p:cNvSpPr/>
            <p:nvPr/>
          </p:nvSpPr>
          <p:spPr>
            <a:xfrm>
              <a:off x="7441200" y="451440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44"/>
            <p:cNvSpPr/>
            <p:nvPr/>
          </p:nvSpPr>
          <p:spPr>
            <a:xfrm>
              <a:off x="7296480" y="475272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45"/>
            <p:cNvSpPr/>
            <p:nvPr/>
          </p:nvSpPr>
          <p:spPr>
            <a:xfrm>
              <a:off x="8232840" y="451440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46"/>
            <p:cNvSpPr/>
            <p:nvPr/>
          </p:nvSpPr>
          <p:spPr>
            <a:xfrm>
              <a:off x="8088480" y="475272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47"/>
            <p:cNvSpPr/>
            <p:nvPr/>
          </p:nvSpPr>
          <p:spPr>
            <a:xfrm>
              <a:off x="7260120" y="59742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48"/>
            <p:cNvSpPr/>
            <p:nvPr/>
          </p:nvSpPr>
          <p:spPr>
            <a:xfrm>
              <a:off x="7512120" y="60822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49"/>
            <p:cNvSpPr/>
            <p:nvPr/>
          </p:nvSpPr>
          <p:spPr>
            <a:xfrm>
              <a:off x="8554680" y="547128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50"/>
            <p:cNvSpPr/>
            <p:nvPr/>
          </p:nvSpPr>
          <p:spPr>
            <a:xfrm>
              <a:off x="8843760" y="547128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51"/>
            <p:cNvSpPr/>
            <p:nvPr/>
          </p:nvSpPr>
          <p:spPr>
            <a:xfrm>
              <a:off x="8304480" y="611856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52"/>
            <p:cNvSpPr/>
            <p:nvPr/>
          </p:nvSpPr>
          <p:spPr>
            <a:xfrm>
              <a:off x="8554680" y="62262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Місце для нижнього колонтитула 4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: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C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6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+   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fefac9"/>
                </a:solidFill>
                <a:latin typeface="Wingdings"/>
                <a:ea typeface="Wingdings"/>
              </a:rPr>
              <a:t>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 C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+   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354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925560" y="2255760"/>
            <a:ext cx="4114800" cy="546120"/>
            <a:chOff x="925560" y="2255760"/>
            <a:chExt cx="4114800" cy="546120"/>
          </a:xfrm>
        </p:grpSpPr>
        <p:sp>
          <p:nvSpPr>
            <p:cNvPr id="356" name="Text Box 4"/>
            <p:cNvSpPr/>
            <p:nvPr/>
          </p:nvSpPr>
          <p:spPr>
            <a:xfrm>
              <a:off x="32115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 Box 5"/>
            <p:cNvSpPr/>
            <p:nvPr/>
          </p:nvSpPr>
          <p:spPr>
            <a:xfrm>
              <a:off x="43545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6"/>
            <p:cNvSpPr/>
            <p:nvPr/>
          </p:nvSpPr>
          <p:spPr>
            <a:xfrm>
              <a:off x="222084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Text Box 7"/>
            <p:cNvSpPr/>
            <p:nvPr/>
          </p:nvSpPr>
          <p:spPr>
            <a:xfrm>
              <a:off x="9255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Місце для нижнього колонтитула 2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502920" y="1767960"/>
            <a:ext cx="9070920" cy="120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: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 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Fe +   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fefac9"/>
                </a:solidFill>
                <a:latin typeface="Wingdings"/>
                <a:ea typeface="Wingdings"/>
              </a:rPr>
              <a:t>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  Fe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362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3"/>
          <p:cNvGrpSpPr/>
          <p:nvPr/>
        </p:nvGrpSpPr>
        <p:grpSpPr>
          <a:xfrm>
            <a:off x="1077840" y="2255760"/>
            <a:ext cx="2590920" cy="546120"/>
            <a:chOff x="1077840" y="2255760"/>
            <a:chExt cx="2590920" cy="546120"/>
          </a:xfrm>
        </p:grpSpPr>
        <p:sp>
          <p:nvSpPr>
            <p:cNvPr id="364" name="Text Box 4"/>
            <p:cNvSpPr/>
            <p:nvPr/>
          </p:nvSpPr>
          <p:spPr>
            <a:xfrm>
              <a:off x="29829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 Box 5"/>
            <p:cNvSpPr/>
            <p:nvPr/>
          </p:nvSpPr>
          <p:spPr>
            <a:xfrm>
              <a:off x="191628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Text Box 6"/>
            <p:cNvSpPr/>
            <p:nvPr/>
          </p:nvSpPr>
          <p:spPr>
            <a:xfrm>
              <a:off x="107784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7" name="Місце для нижнього колонтитула 2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02920" y="1767960"/>
            <a:ext cx="9070920" cy="166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Chemical equation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Describes a chemical change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Parts of an equation: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13"/>
          <p:cNvGrpSpPr/>
          <p:nvPr/>
        </p:nvGrpSpPr>
        <p:grpSpPr>
          <a:xfrm>
            <a:off x="1365120" y="4700520"/>
            <a:ext cx="7467840" cy="787320"/>
            <a:chOff x="1365120" y="4700520"/>
            <a:chExt cx="7467840" cy="787320"/>
          </a:xfrm>
        </p:grpSpPr>
        <p:sp>
          <p:nvSpPr>
            <p:cNvPr id="182" name="AutoShape 3"/>
            <p:cNvSpPr/>
            <p:nvPr/>
          </p:nvSpPr>
          <p:spPr>
            <a:xfrm>
              <a:off x="4260960" y="4853160"/>
              <a:ext cx="1371600" cy="409320"/>
            </a:xfrm>
            <a:prstGeom prst="rightArrow">
              <a:avLst>
                <a:gd name="adj1" fmla="val 23259"/>
                <a:gd name="adj2" fmla="val 7718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4"/>
            <p:cNvSpPr/>
            <p:nvPr/>
          </p:nvSpPr>
          <p:spPr>
            <a:xfrm>
              <a:off x="1365120" y="4700520"/>
              <a:ext cx="28260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2Ag + H</a:t>
              </a:r>
              <a:r>
                <a:rPr b="1" lang="en-GB" sz="4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5"/>
            <p:cNvSpPr/>
            <p:nvPr/>
          </p:nvSpPr>
          <p:spPr>
            <a:xfrm>
              <a:off x="6013440" y="4700520"/>
              <a:ext cx="28195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Ag</a:t>
              </a:r>
              <a:r>
                <a:rPr b="1" lang="en-GB" sz="4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S + H</a:t>
              </a:r>
              <a:r>
                <a:rPr b="1" lang="en-GB" sz="4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16"/>
          <p:cNvGrpSpPr/>
          <p:nvPr/>
        </p:nvGrpSpPr>
        <p:grpSpPr>
          <a:xfrm>
            <a:off x="1667160" y="3633840"/>
            <a:ext cx="2898360" cy="1083960"/>
            <a:chOff x="1667160" y="3633840"/>
            <a:chExt cx="2898360" cy="1083960"/>
          </a:xfrm>
        </p:grpSpPr>
        <p:sp>
          <p:nvSpPr>
            <p:cNvPr id="186" name="Text Box 7"/>
            <p:cNvSpPr/>
            <p:nvPr/>
          </p:nvSpPr>
          <p:spPr>
            <a:xfrm>
              <a:off x="2050920" y="363384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ctan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AutoShape 9"/>
            <p:cNvSpPr/>
            <p:nvPr/>
          </p:nvSpPr>
          <p:spPr>
            <a:xfrm rot="5340000">
              <a:off x="2395440" y="3443040"/>
              <a:ext cx="533160" cy="198144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95040 h 1981440"/>
                <a:gd name="textAreaBottom" fmla="*/ 188640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59"/>
                    <a:pt x="10800" y="3317"/>
                  </a:cubicBezTo>
                  <a:lnTo>
                    <a:pt x="10800" y="7422"/>
                  </a:lnTo>
                  <a:cubicBezTo>
                    <a:pt x="10800" y="9081"/>
                    <a:pt x="5400" y="10739"/>
                    <a:pt x="0" y="10739"/>
                  </a:cubicBezTo>
                  <a:cubicBezTo>
                    <a:pt x="5400" y="10739"/>
                    <a:pt x="10800" y="12398"/>
                    <a:pt x="10800" y="14056"/>
                  </a:cubicBezTo>
                  <a:lnTo>
                    <a:pt x="10800" y="18283"/>
                  </a:lnTo>
                  <a:cubicBezTo>
                    <a:pt x="10800" y="1994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Group 15"/>
          <p:cNvGrpSpPr/>
          <p:nvPr/>
        </p:nvGrpSpPr>
        <p:grpSpPr>
          <a:xfrm>
            <a:off x="6086520" y="3633840"/>
            <a:ext cx="1990080" cy="1083960"/>
            <a:chOff x="6086520" y="3633840"/>
            <a:chExt cx="1990080" cy="1083960"/>
          </a:xfrm>
        </p:grpSpPr>
        <p:sp>
          <p:nvSpPr>
            <p:cNvPr id="189" name="Text Box 6"/>
            <p:cNvSpPr/>
            <p:nvPr/>
          </p:nvSpPr>
          <p:spPr>
            <a:xfrm>
              <a:off x="6470640" y="36338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utoShape 10"/>
            <p:cNvSpPr/>
            <p:nvPr/>
          </p:nvSpPr>
          <p:spPr>
            <a:xfrm rot="5340000">
              <a:off x="6814800" y="3443040"/>
              <a:ext cx="533160" cy="198108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95040 h 1981080"/>
                <a:gd name="textAreaBottom" fmla="*/ 18860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59"/>
                    <a:pt x="10800" y="3317"/>
                  </a:cubicBezTo>
                  <a:lnTo>
                    <a:pt x="10800" y="7422"/>
                  </a:lnTo>
                  <a:cubicBezTo>
                    <a:pt x="10800" y="9081"/>
                    <a:pt x="5400" y="10739"/>
                    <a:pt x="0" y="10739"/>
                  </a:cubicBezTo>
                  <a:cubicBezTo>
                    <a:pt x="5400" y="10739"/>
                    <a:pt x="10800" y="12398"/>
                    <a:pt x="10800" y="14056"/>
                  </a:cubicBezTo>
                  <a:lnTo>
                    <a:pt x="10800" y="18283"/>
                  </a:lnTo>
                  <a:cubicBezTo>
                    <a:pt x="10800" y="1994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Group 14"/>
          <p:cNvGrpSpPr/>
          <p:nvPr/>
        </p:nvGrpSpPr>
        <p:grpSpPr>
          <a:xfrm>
            <a:off x="3956040" y="5462640"/>
            <a:ext cx="1987560" cy="1663560"/>
            <a:chOff x="3956040" y="5462640"/>
            <a:chExt cx="1987560" cy="1663560"/>
          </a:xfrm>
        </p:grpSpPr>
        <p:sp>
          <p:nvSpPr>
            <p:cNvPr id="192" name="AutoShape 8"/>
            <p:cNvSpPr/>
            <p:nvPr/>
          </p:nvSpPr>
          <p:spPr>
            <a:xfrm>
              <a:off x="4718160" y="5462640"/>
              <a:ext cx="380880" cy="1143000"/>
            </a:xfrm>
            <a:prstGeom prst="upArrow">
              <a:avLst>
                <a:gd name="adj1" fmla="val 21667"/>
                <a:gd name="adj2" fmla="val 8210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1"/>
            <p:cNvSpPr/>
            <p:nvPr/>
          </p:nvSpPr>
          <p:spPr>
            <a:xfrm>
              <a:off x="3956040" y="6757920"/>
              <a:ext cx="198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ction symb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Місце для нижнього колонтитула 5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Reactan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The chemical(s) you start with before the reaction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Written on left side of equation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Produc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The new chemical(s) formed by the reaction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Right side of equation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96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Subscrip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shows how many atoms of an element are in a molecule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EX: 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2" marL="1108080" indent="-250920">
              <a:spcBef>
                <a:spcPts val="326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2 atoms of hydrogen (H)</a:t>
            </a:r>
            <a:r>
              <a:rPr b="0" lang="ar-SA" sz="2300" spc="-1" strike="noStrike">
                <a:solidFill>
                  <a:srgbClr val="ffffff"/>
                </a:solidFill>
                <a:latin typeface="Constantia"/>
                <a:ea typeface="Arial"/>
              </a:rPr>
              <a:t>‏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326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1 atom of oxygen (O)</a:t>
            </a:r>
            <a:r>
              <a:rPr b="0" lang="ar-SA" sz="2300" spc="-1" strike="noStrike">
                <a:solidFill>
                  <a:srgbClr val="ffffff"/>
                </a:solidFill>
                <a:latin typeface="Constantia"/>
                <a:ea typeface="Arial"/>
              </a:rPr>
              <a:t>‏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Coefficien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shows how many molecules there are of a particular chemical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EX: 3 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2" marL="1108080" indent="-250920">
              <a:spcBef>
                <a:spcPts val="326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Means there are 3 water molecules.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02920" y="1767960"/>
            <a:ext cx="9070920" cy="746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2H</a:t>
            </a:r>
            <a:r>
              <a:rPr b="0" lang="en-GB" sz="2900" spc="-1" strike="noStrike" baseline="-33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+ O</a:t>
            </a:r>
            <a:r>
              <a:rPr b="0" lang="en-GB" sz="2900" spc="-1" strike="noStrike" baseline="-33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2H</a:t>
            </a:r>
            <a:r>
              <a:rPr b="0" lang="en-GB" sz="2900" spc="-1" strike="noStrike" baseline="-33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O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3657600" y="29718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In a chem. rxn, matter is neither created nor destroyed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In other words, the number and type of atoms going INTO a rxn must be the same as the number and type of atoms coming OUT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00"/>
                </a:solidFill>
                <a:latin typeface="Constantia"/>
              </a:rPr>
              <a:t>If an equation obeys the Law of Conservation, it is </a:t>
            </a:r>
            <a:r>
              <a:rPr b="1" lang="en-GB" sz="2900" spc="-1" strike="noStrike">
                <a:solidFill>
                  <a:srgbClr val="ffff00"/>
                </a:solidFill>
                <a:latin typeface="Constantia"/>
              </a:rPr>
              <a:t>balanced</a:t>
            </a:r>
            <a:r>
              <a:rPr b="0" lang="en-GB" sz="2900" spc="-1" strike="noStrike">
                <a:solidFill>
                  <a:srgbClr val="ffff00"/>
                </a:solidFill>
                <a:latin typeface="Constanti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Oval 1"/>
          <p:cNvSpPr/>
          <p:nvPr/>
        </p:nvSpPr>
        <p:spPr>
          <a:xfrm>
            <a:off x="6618240" y="5823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2"/>
          <p:cNvSpPr/>
          <p:nvPr/>
        </p:nvSpPr>
        <p:spPr>
          <a:xfrm>
            <a:off x="6350040" y="391176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3"/>
          <p:cNvSpPr/>
          <p:nvPr/>
        </p:nvSpPr>
        <p:spPr>
          <a:xfrm>
            <a:off x="1676520" y="439272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919080" y="431964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02920" y="1767960"/>
            <a:ext cx="9070920" cy="746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CH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4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+ O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CO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+ H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O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Rectangle 5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130968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an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27040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9"/>
          <p:cNvSpPr/>
          <p:nvPr/>
        </p:nvSpPr>
        <p:spPr>
          <a:xfrm>
            <a:off x="118116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1279440" y="3816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11"/>
          <p:cNvSpPr/>
          <p:nvPr/>
        </p:nvSpPr>
        <p:spPr>
          <a:xfrm>
            <a:off x="1100160" y="4608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val 12"/>
          <p:cNvSpPr/>
          <p:nvPr/>
        </p:nvSpPr>
        <p:spPr>
          <a:xfrm>
            <a:off x="2514600" y="5486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13"/>
          <p:cNvSpPr/>
          <p:nvPr/>
        </p:nvSpPr>
        <p:spPr>
          <a:xfrm>
            <a:off x="2874960" y="566748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4572000" y="2971800"/>
            <a:ext cx="1440" cy="4114800"/>
          </a:xfrm>
          <a:prstGeom prst="line">
            <a:avLst/>
          </a:prstGeom>
          <a:ln w="9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15"/>
          <p:cNvSpPr/>
          <p:nvPr/>
        </p:nvSpPr>
        <p:spPr>
          <a:xfrm>
            <a:off x="594360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16"/>
          <p:cNvSpPr/>
          <p:nvPr/>
        </p:nvSpPr>
        <p:spPr>
          <a:xfrm>
            <a:off x="5522760" y="4343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6199200" y="54738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6078600" y="5931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22860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786132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val 1"/>
          <p:cNvSpPr/>
          <p:nvPr/>
        </p:nvSpPr>
        <p:spPr>
          <a:xfrm>
            <a:off x="6618240" y="5823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2"/>
          <p:cNvSpPr/>
          <p:nvPr/>
        </p:nvSpPr>
        <p:spPr>
          <a:xfrm>
            <a:off x="6350040" y="391176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1676520" y="439272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919080" y="431964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Balanced Eq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03280" y="1770120"/>
            <a:ext cx="907092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30968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an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527040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9"/>
          <p:cNvSpPr/>
          <p:nvPr/>
        </p:nvSpPr>
        <p:spPr>
          <a:xfrm>
            <a:off x="118116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1279440" y="3816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1"/>
          <p:cNvSpPr/>
          <p:nvPr/>
        </p:nvSpPr>
        <p:spPr>
          <a:xfrm>
            <a:off x="1100160" y="4608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2"/>
          <p:cNvSpPr/>
          <p:nvPr/>
        </p:nvSpPr>
        <p:spPr>
          <a:xfrm>
            <a:off x="2514600" y="5486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13"/>
          <p:cNvSpPr/>
          <p:nvPr/>
        </p:nvSpPr>
        <p:spPr>
          <a:xfrm>
            <a:off x="2874960" y="566748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4"/>
          <p:cNvSpPr/>
          <p:nvPr/>
        </p:nvSpPr>
        <p:spPr>
          <a:xfrm>
            <a:off x="4572000" y="2971800"/>
            <a:ext cx="1440" cy="4114800"/>
          </a:xfrm>
          <a:prstGeom prst="line">
            <a:avLst/>
          </a:prstGeom>
          <a:ln w="9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15"/>
          <p:cNvSpPr/>
          <p:nvPr/>
        </p:nvSpPr>
        <p:spPr>
          <a:xfrm>
            <a:off x="594360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5522760" y="4343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17"/>
          <p:cNvSpPr/>
          <p:nvPr/>
        </p:nvSpPr>
        <p:spPr>
          <a:xfrm>
            <a:off x="6199200" y="54738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18"/>
          <p:cNvSpPr/>
          <p:nvPr/>
        </p:nvSpPr>
        <p:spPr>
          <a:xfrm>
            <a:off x="6078600" y="5931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22860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786132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Oval 21"/>
          <p:cNvSpPr/>
          <p:nvPr/>
        </p:nvSpPr>
        <p:spPr>
          <a:xfrm>
            <a:off x="2874960" y="408312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Oval 22"/>
          <p:cNvSpPr/>
          <p:nvPr/>
        </p:nvSpPr>
        <p:spPr>
          <a:xfrm>
            <a:off x="3235320" y="4262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Oval 23"/>
          <p:cNvSpPr/>
          <p:nvPr/>
        </p:nvSpPr>
        <p:spPr>
          <a:xfrm>
            <a:off x="8489880" y="445608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Oval 24"/>
          <p:cNvSpPr/>
          <p:nvPr/>
        </p:nvSpPr>
        <p:spPr>
          <a:xfrm>
            <a:off x="8070840" y="410688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25"/>
          <p:cNvSpPr/>
          <p:nvPr/>
        </p:nvSpPr>
        <p:spPr>
          <a:xfrm>
            <a:off x="7950240" y="456408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1. Matter cannot be created or destroyed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2. Subscripts cannot be added, removed, or changed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3. You can only change coefficients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4. Coefficients can only go in front of chem. formulas...NEVER in the middle of a formula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A few extra tips: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1" marL="393480">
              <a:lnSpc>
                <a:spcPct val="90000"/>
              </a:lnSpc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ry balancing big formulas first; save free elements for last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93480">
              <a:lnSpc>
                <a:spcPct val="90000"/>
              </a:lnSpc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f the same polyatomic ion appears on both sides of the equation, it’s usually okay to treat it as one unit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93480">
              <a:lnSpc>
                <a:spcPct val="90000"/>
              </a:lnSpc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re is no one particular way to balance equations.  Some equations are harder to balance than others and might require some creativity to solve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56" name="Rectangle 1" descr=""/>
          <p:cNvPicPr/>
          <p:nvPr/>
        </p:nvPicPr>
        <p:blipFill>
          <a:blip r:embed="rId1"/>
          <a:stretch/>
        </p:blipFill>
        <p:spPr>
          <a:xfrm>
            <a:off x="189000" y="298440"/>
            <a:ext cx="9388440" cy="163368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cas Curtis</dc:creator>
  <dc:description/>
  <dc:language>en-US</dc:language>
  <cp:lastModifiedBy>LEGION</cp:lastModifiedBy>
  <dcterms:modified xsi:type="dcterms:W3CDTF">2017-01-26T09:37:15Z</dcterms:modified>
  <cp:revision>6</cp:revision>
  <dc:subject/>
  <dc:title>Balancing Chemical Equations</dc:title>
</cp:coreProperties>
</file>