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505F0-BF26-4011-A067-D6184EB56A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Chemical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2 +    H2     NH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+    H2     NH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ClO3     KCl +   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lO3     KCl +  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2H6 +   O2    CO2 +  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O2    CO2 +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e +   O2     Fe2O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+   O2    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emical equation - Describes a chemical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rts of an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hat is a chemical equatio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 - Describes a chemical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n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eq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- The chemical(s) you start with before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ritten on lef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- The new chemical(s) formed by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igh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s and 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- The chemical(s) you start with before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on lef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- The new chemical(s) formed by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 - shows how many atoms of an element are in a molecu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atoms of hydrogen (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atom of oxygen (O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efficient - shows how many molecules there are of a particular chemic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3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eans there are 3 water molecu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s and Coeffic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 - shows how many atoms of an element are in a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toms of hydrogen (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tom of oxygen (O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- shows how many molecules there are of a particular chem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3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here are 3 wate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s and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H2 + O2 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Chemical Re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a chem. rxn, matter is neither created n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other words, the number and type of atoms going INTO a rxn must be the same as the number and type of atoms coming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an equation obeys the Law of Conservation, it is balanc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w of Conservation of M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. rxn, matter is neither created n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the number and type of atoms going INTO a rxn must be the same as the number and type of atoms com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obeys the Law of Conservation, it is 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O2  CO2 +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 Un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O2  CO2 +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2O2  CO2 +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2O2  CO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Matter cannot be created 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Subscripts cannot be added, removed, or 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You can only change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Coefficients can only go in front of chem. formulas...NEVER in the middle of a formu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few extra tip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ry balancing big formulas first; save free elements for la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the same polyatomic ion appears on both sides of the equation, it’s usually okay to treat it as one un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re is no one particular way to balance equations.  Some equations are harder to balance than others and might require some creativity to sol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ules of the G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tter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ubscripts cannot be added, removed, or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You can only change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oefficients can only go in front of chem. formulas...NEVER in the middle of a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tra ti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balancing big formulas first; save free elements for 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ame polyatomic ion appears on both sides of the equation, it’s usually okay to treat it as on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one particular way to balance equations.  Some equations are harder to balance than others and might require some creativity to 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of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6A2-7419-4120-A784-6D607715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6BF-D425-493D-8CA4-9417E8FE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351-013A-446B-AEC9-22C3B727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206-C831-4975-8D88-CB17423A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41A32-9D64-4B0F-8281-2F1CB9DD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8483B-3696-4CA3-B7BA-783D3511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F04AE-A278-426B-8D7B-2E471553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9BD33-0857-4F8D-B938-CA2AE53A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2DD68-63DA-4C1D-8BA3-5D9F7F1E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CC3A5-051E-4892-B515-90F4AEAC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415DE-E055-41EA-A9C6-4C306A92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695-2C63-4219-B777-92F0D8FB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8EF50-FBEF-41C1-AED8-E6E6155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3811C-C91F-4105-AA94-F3B20D88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2AE8A-9C9B-40EE-978B-CCFBD51D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81745-3592-4DC5-A88D-ED91A5BF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B34C2-9493-41A9-9FCB-B920A74B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C84D-109D-48E5-BECF-09F0206E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FF07-8A2A-41AA-A035-122D6DE7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7F28-3544-42FF-89B4-033285E3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92CC-0596-43C8-AA55-8A257AC0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E615-E4EE-415C-87E8-ACA4BDEC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3CD-9366-4887-9752-D29F9E0A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B7FB-F972-44CF-BAB9-4B43808D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D2C2-5673-4B27-BC6C-F4030FE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A6B2-F112-410E-83EC-E41BEE14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7A3A3-B4BA-4E51-AD2B-17DD7A98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3363-1DAF-4BD3-8956-AD23028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1CE9-9EC8-471A-9CBC-2D3C9753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BE34-134C-409C-B7D1-156B6BCB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82049-C8E0-4E69-9785-0927691B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67B7CD-D518-4979-BAFC-8B3B83D6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4197D-E4E9-458E-B6C0-1AACCB2C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353-89B6-4757-BC34-A18FEE34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9889A-91F9-4134-825F-00C84DF1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7E844-2906-4D14-BCF1-0C8CDD5D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71CF2-2DF8-41AC-AAD1-72325363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AD2310-C379-4A15-BA2D-4357E16B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BBE190-4CAD-475B-9F11-AD2B507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EE57F-8138-4A02-ACCC-594FE03B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162ED-768E-4427-B1D1-E4CEB42C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9D1EB-DA08-4CA0-9A24-7715C256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45E59-DBD1-47E5-9850-2169114A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21A-3650-4424-B662-DE5E68C5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BAE-0F9F-42DB-8BE6-6C15A852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77C-D3C6-4A73-94C6-E3CD786A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976-E46D-45A9-9DB7-3C1081B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AE1-D508-4D03-8A21-80FED49E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B10D5-D337-43FF-A111-971108A144D2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612800" y="3913200"/>
            <a:ext cx="327672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191200" y="3913200"/>
            <a:ext cx="32763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5005440" y="3887640"/>
            <a:ext cx="50760" cy="493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-15480" bIns="-15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D96BD-5EAE-4A52-A69A-27F24CD30DB6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E3086-9EF1-472B-BF30-7DF242FE33B4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620640" y="2403360"/>
            <a:ext cx="41324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241960" y="2403360"/>
            <a:ext cx="413208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0A40B-965A-427E-A955-A36719E8B0DB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9321840" cy="15732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2920" y="1768320"/>
            <a:ext cx="90709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023840" y="4114800"/>
            <a:ext cx="2773080" cy="2284560"/>
            <a:chOff x="1023840" y="4114800"/>
            <a:chExt cx="2773080" cy="2284560"/>
          </a:xfrm>
        </p:grpSpPr>
        <p:sp>
          <p:nvSpPr>
            <p:cNvPr id="261" name="Line 4"/>
            <p:cNvSpPr/>
            <p:nvPr/>
          </p:nvSpPr>
          <p:spPr>
            <a:xfrm>
              <a:off x="2395440" y="4114800"/>
              <a:ext cx="1080" cy="228456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1025280" y="4571640"/>
              <a:ext cx="2739960" cy="10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6"/>
            <p:cNvSpPr/>
            <p:nvPr/>
          </p:nvSpPr>
          <p:spPr>
            <a:xfrm>
              <a:off x="102384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242712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1025280" y="5423400"/>
              <a:ext cx="2739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1025280" y="6396120"/>
              <a:ext cx="273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10"/>
          <p:cNvSpPr/>
          <p:nvPr/>
        </p:nvSpPr>
        <p:spPr>
          <a:xfrm>
            <a:off x="506520" y="4680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06520" y="5688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92600" y="2948040"/>
            <a:ext cx="4343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N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98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39860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2730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76696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730260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2666880" y="46926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666880" y="562932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561168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1374840" y="5629320"/>
            <a:ext cx="60624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280" name="AutoShape 23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24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5028840" y="457164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531612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5281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5425200" y="5772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6109560" y="5988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6073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6288840" y="5125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6325560" y="526968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7907400" y="583128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980480" y="4872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8413920" y="4909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8848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124840" y="5017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8196480" y="5736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7872480" y="6024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0"/>
            <p:cNvSpPr/>
            <p:nvPr/>
          </p:nvSpPr>
          <p:spPr>
            <a:xfrm>
              <a:off x="8269560" y="60980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Місце для нижнього колонтитула 3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513320" y="2948040"/>
            <a:ext cx="51372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KCl +   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4"/>
          <p:cNvGrpSpPr/>
          <p:nvPr/>
        </p:nvGrpSpPr>
        <p:grpSpPr>
          <a:xfrm>
            <a:off x="1023840" y="3611520"/>
            <a:ext cx="2776680" cy="3246480"/>
            <a:chOff x="1023840" y="3611520"/>
            <a:chExt cx="2776680" cy="3246480"/>
          </a:xfrm>
        </p:grpSpPr>
        <p:sp>
          <p:nvSpPr>
            <p:cNvPr id="303" name="Line 4"/>
            <p:cNvSpPr/>
            <p:nvPr/>
          </p:nvSpPr>
          <p:spPr>
            <a:xfrm>
              <a:off x="2397240" y="3611520"/>
              <a:ext cx="1440" cy="32464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1025640" y="4068720"/>
              <a:ext cx="2743200" cy="180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102384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242892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1025640" y="495792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1025640" y="5929200"/>
              <a:ext cx="274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1025640" y="682956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11"/>
          <p:cNvSpPr/>
          <p:nvPr/>
        </p:nvSpPr>
        <p:spPr>
          <a:xfrm>
            <a:off x="506520" y="417672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33440" y="518472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433440" y="615636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398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39860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730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276696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39860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276696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0"/>
          <p:cNvGrpSpPr/>
          <p:nvPr/>
        </p:nvGrpSpPr>
        <p:grpSpPr>
          <a:xfrm>
            <a:off x="4064040" y="2928960"/>
            <a:ext cx="4557600" cy="657360"/>
            <a:chOff x="4064040" y="2928960"/>
            <a:chExt cx="4557600" cy="657360"/>
          </a:xfrm>
        </p:grpSpPr>
        <p:sp>
          <p:nvSpPr>
            <p:cNvPr id="320" name="Text Box 21"/>
            <p:cNvSpPr/>
            <p:nvPr/>
          </p:nvSpPr>
          <p:spPr>
            <a:xfrm>
              <a:off x="79358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40640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Text Box 23"/>
          <p:cNvSpPr/>
          <p:nvPr/>
        </p:nvSpPr>
        <p:spPr>
          <a:xfrm>
            <a:off x="137160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1376280" y="42354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137160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77488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273996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2774880" y="41940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1196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0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330" name="AutoShape 31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32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5173200" y="5363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4776480" y="5292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957560" y="53269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5138280" y="508896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4884480" y="5578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6109560" y="512532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180840" y="5400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5784120" y="5326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5965200" y="536328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5892120" y="561564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744120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7296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823284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8088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7260120" y="5974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7512120" y="6082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855468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884376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1"/>
            <p:cNvSpPr/>
            <p:nvPr/>
          </p:nvSpPr>
          <p:spPr>
            <a:xfrm>
              <a:off x="8304480" y="611856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2"/>
            <p:cNvSpPr/>
            <p:nvPr/>
          </p:nvSpPr>
          <p:spPr>
            <a:xfrm>
              <a:off x="8554680" y="6226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Місце для нижнього колонтитула 4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C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6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C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54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925560" y="2255760"/>
            <a:ext cx="4114800" cy="546120"/>
            <a:chOff x="925560" y="2255760"/>
            <a:chExt cx="4114800" cy="546120"/>
          </a:xfrm>
        </p:grpSpPr>
        <p:sp>
          <p:nvSpPr>
            <p:cNvPr id="356" name="Text Box 4"/>
            <p:cNvSpPr/>
            <p:nvPr/>
          </p:nvSpPr>
          <p:spPr>
            <a:xfrm>
              <a:off x="3211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354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2220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925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02920" y="1767960"/>
            <a:ext cx="90709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Fe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 Fe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6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3"/>
          <p:cNvGrpSpPr/>
          <p:nvPr/>
        </p:nvGrpSpPr>
        <p:grpSpPr>
          <a:xfrm>
            <a:off x="1077840" y="2255760"/>
            <a:ext cx="2590920" cy="546120"/>
            <a:chOff x="1077840" y="2255760"/>
            <a:chExt cx="2590920" cy="546120"/>
          </a:xfrm>
        </p:grpSpPr>
        <p:sp>
          <p:nvSpPr>
            <p:cNvPr id="364" name="Text Box 4"/>
            <p:cNvSpPr/>
            <p:nvPr/>
          </p:nvSpPr>
          <p:spPr>
            <a:xfrm>
              <a:off x="29829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5"/>
            <p:cNvSpPr/>
            <p:nvPr/>
          </p:nvSpPr>
          <p:spPr>
            <a:xfrm>
              <a:off x="191628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1077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02920" y="1767960"/>
            <a:ext cx="9070920" cy="166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hemical equation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Describes a chemical chang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Parts of an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3"/>
          <p:cNvGrpSpPr/>
          <p:nvPr/>
        </p:nvGrpSpPr>
        <p:grpSpPr>
          <a:xfrm>
            <a:off x="1365120" y="4700520"/>
            <a:ext cx="7467840" cy="787320"/>
            <a:chOff x="1365120" y="4700520"/>
            <a:chExt cx="7467840" cy="787320"/>
          </a:xfrm>
        </p:grpSpPr>
        <p:sp>
          <p:nvSpPr>
            <p:cNvPr id="182" name="AutoShape 3"/>
            <p:cNvSpPr/>
            <p:nvPr/>
          </p:nvSpPr>
          <p:spPr>
            <a:xfrm>
              <a:off x="4260960" y="4853160"/>
              <a:ext cx="1371600" cy="409320"/>
            </a:xfrm>
            <a:prstGeom prst="rightArrow">
              <a:avLst>
                <a:gd name="adj1" fmla="val 23259"/>
                <a:gd name="adj2" fmla="val 7718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1365120" y="4700520"/>
              <a:ext cx="2826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2Ag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6013440" y="4700520"/>
              <a:ext cx="2819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Ag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1667160" y="3633840"/>
            <a:ext cx="2898360" cy="1083960"/>
            <a:chOff x="1667160" y="3633840"/>
            <a:chExt cx="2898360" cy="1083960"/>
          </a:xfrm>
        </p:grpSpPr>
        <p:sp>
          <p:nvSpPr>
            <p:cNvPr id="186" name="Text Box 7"/>
            <p:cNvSpPr/>
            <p:nvPr/>
          </p:nvSpPr>
          <p:spPr>
            <a:xfrm>
              <a:off x="2050920" y="36338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 rot="5340000">
              <a:off x="2395440" y="3443040"/>
              <a:ext cx="533160" cy="198144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440"/>
                <a:gd name="textAreaBottom" fmla="*/ 18864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15"/>
          <p:cNvGrpSpPr/>
          <p:nvPr/>
        </p:nvGrpSpPr>
        <p:grpSpPr>
          <a:xfrm>
            <a:off x="6086520" y="3633840"/>
            <a:ext cx="1990080" cy="1083960"/>
            <a:chOff x="6086520" y="3633840"/>
            <a:chExt cx="1990080" cy="1083960"/>
          </a:xfrm>
        </p:grpSpPr>
        <p:sp>
          <p:nvSpPr>
            <p:cNvPr id="189" name="Text Box 6"/>
            <p:cNvSpPr/>
            <p:nvPr/>
          </p:nvSpPr>
          <p:spPr>
            <a:xfrm>
              <a:off x="6470640" y="3633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10"/>
            <p:cNvSpPr/>
            <p:nvPr/>
          </p:nvSpPr>
          <p:spPr>
            <a:xfrm rot="5340000">
              <a:off x="6814800" y="3443040"/>
              <a:ext cx="533160" cy="19810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080"/>
                <a:gd name="textAreaBottom" fmla="*/ 18860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3956040" y="5462640"/>
            <a:ext cx="1987560" cy="1663560"/>
            <a:chOff x="3956040" y="5462640"/>
            <a:chExt cx="1987560" cy="1663560"/>
          </a:xfrm>
        </p:grpSpPr>
        <p:sp>
          <p:nvSpPr>
            <p:cNvPr id="192" name="AutoShape 8"/>
            <p:cNvSpPr/>
            <p:nvPr/>
          </p:nvSpPr>
          <p:spPr>
            <a:xfrm>
              <a:off x="4718160" y="5462640"/>
              <a:ext cx="380880" cy="1143000"/>
            </a:xfrm>
            <a:prstGeom prst="upArrow">
              <a:avLst>
                <a:gd name="adj1" fmla="val 21667"/>
                <a:gd name="adj2" fmla="val 8210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3956040" y="6757920"/>
              <a:ext cx="19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ion symb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Місце для нижнього колонтитула 5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Reacta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chemical(s) you start with before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Written on lef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Produc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new chemical(s) formed by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Righ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Subscrip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atoms of an element are in a molecul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2 atoms of hydrogen (H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 atom of oxygen (O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oefficie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molecules there are of a particular chemical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3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Means there are 3 water molecules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In a chem. rxn, matter is neither created nor destroyed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In other words, the number and type of atoms going INTO a rxn must be the same as the number and type of atoms coming OUT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If an equation obeys the Law of Conservation, it is </a:t>
            </a:r>
            <a:r>
              <a:rPr b="1" lang="en-GB" sz="2900" spc="-1" strike="noStrike">
                <a:solidFill>
                  <a:srgbClr val="ffff00"/>
                </a:solidFill>
                <a:latin typeface="Constantia"/>
              </a:rPr>
              <a:t>balanced</a:t>
            </a: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C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C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Rectangle 5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Balanced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280" y="1770120"/>
            <a:ext cx="90709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2874960" y="408312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22"/>
          <p:cNvSpPr/>
          <p:nvPr/>
        </p:nvSpPr>
        <p:spPr>
          <a:xfrm>
            <a:off x="3235320" y="4262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8489880" y="4456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24"/>
          <p:cNvSpPr/>
          <p:nvPr/>
        </p:nvSpPr>
        <p:spPr>
          <a:xfrm>
            <a:off x="8070840" y="41068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25"/>
          <p:cNvSpPr/>
          <p:nvPr/>
        </p:nvSpPr>
        <p:spPr>
          <a:xfrm>
            <a:off x="7950240" y="4564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1. Matter cannot be created or destroy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2. Subscripts cannot be added, removed, or chang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3. You can only change coefficients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4. Coefficients can only go in front of chem. formulas...NEVER in the middle of a formula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A few extra tips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y balancing big formulas first; save free elements for las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f the same polyatomic ion appears on both sides of the equation, it’s usually okay to treat it as one uni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re is no one particular way to balance equations.  Some equations are harder to balance than others and might require some creativity to solv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6" name="Rectangle 1" descr=""/>
          <p:cNvPicPr/>
          <p:nvPr/>
        </p:nvPicPr>
        <p:blipFill>
          <a:blip r:embed="rId1"/>
          <a:stretch/>
        </p:blipFill>
        <p:spPr>
          <a:xfrm>
            <a:off x="189000" y="298440"/>
            <a:ext cx="9388440" cy="163368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as Curtis</dc:creator>
  <dc:description/>
  <dc:language>en-US</dc:language>
  <cp:lastModifiedBy>LEGION</cp:lastModifiedBy>
  <dcterms:modified xsi:type="dcterms:W3CDTF">2017-01-26T09:37:15Z</dcterms:modified>
  <cp:revision>6</cp:revision>
  <dc:subject/>
  <dc:title>Balancing Chemical Equations</dc:title>
</cp:coreProperties>
</file>