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drumroll.wav" ContentType="audio/x-wav"/>
  <Override PartName="/ppt/media/applause.wav" ContentType="audio/x-wav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FF47-C218-46F8-B987-9ADD3F2D3C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 Nucleus  Proton  Neutron  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ND ATOMIC STRUCTUR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unit of an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ATO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NUCLE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ntral part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s most of an atom's ma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NUCLE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ains most of an atom's mas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PRO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PROT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NEU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within an atomic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NEU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within an atomic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ly charged partic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in shells that surround an atom's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LECTR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lcome to MATTERVILL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elcome to MATTERVILLE 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9A2-AEC6-42F9-B78B-75542264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88C-21ED-4707-8E35-EAA3D4CD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72B-EB63-4730-BABC-EE5C4525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7F7-7AA5-4465-BAC5-AD38F7BA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A285-40DE-4E18-811A-3949D746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B518-1324-4B57-BC8C-AA4FE3CE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0535-E693-4BC1-8FF1-9F13CEB3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2CD6-A024-4EFA-999D-2E13ED42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22D7-5CF3-46C8-8BA5-553DE189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00EE-2D45-4760-9AE9-B0D48DEC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D557-B50C-4F65-A08D-675BC8FA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598-D303-4DC5-8DFA-01A0E5EF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F36F-F8CD-4779-8569-F8D49678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915C-CC05-4F92-8C40-CEEF63B5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4AD1-4277-4BEF-97A9-588B453C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52CE-92F1-4031-9B5F-DFCB06FF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32E2-6B31-4920-91E2-5D5539BB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93C-BDBA-450A-95F7-AE2DE5CD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7F6-A3BF-4F0F-A598-9CD5E435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EE2-3319-48F1-A8FC-B62043B3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68E-FB33-4211-9E83-E7EF6ED9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884-8250-4D04-A888-B9A0251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B01-E858-48C8-A674-5834CF8A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128-7459-454B-B150-33B17A97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BE46-E386-48B8-9EFA-7B72BB42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C406-07CA-434D-B0F9-817E916BA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drumroll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ATOMS AND ATOMIC STRUCTURE</a:t>
            </a:r>
            <a:br>
              <a:rPr sz="4000"/>
            </a:br>
            <a:br>
              <a:rPr sz="9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om  Nucleus  Proton  Neutron  Electr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atom_animation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AT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5410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smallest unit of an ele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sists of a central nucleus surrounded by one or more elec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Atom1"/>
          <p:cNvPicPr/>
          <p:nvPr/>
        </p:nvPicPr>
        <p:blipFill>
          <a:blip r:embed="rId1"/>
          <a:stretch/>
        </p:blipFill>
        <p:spPr>
          <a:xfrm>
            <a:off x="5607000" y="2057400"/>
            <a:ext cx="3344760" cy="38862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THE NUCLE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entral part of an ato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osed of protons and neutro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ins most of an atom's mas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nucleus1"/>
          <p:cNvPicPr/>
          <p:nvPr/>
        </p:nvPicPr>
        <p:blipFill>
          <a:blip r:embed="rId1"/>
          <a:stretch/>
        </p:blipFill>
        <p:spPr>
          <a:xfrm>
            <a:off x="228600" y="2057400"/>
            <a:ext cx="3048120" cy="30160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PROT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si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proton1"/>
          <p:cNvPicPr/>
          <p:nvPr/>
        </p:nvPicPr>
        <p:blipFill>
          <a:blip r:embed="rId1"/>
          <a:stretch/>
        </p:blipFill>
        <p:spPr>
          <a:xfrm>
            <a:off x="6095880" y="23623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 NEU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90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und within an atomic nucleu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neutron1"/>
          <p:cNvPicPr/>
          <p:nvPr/>
        </p:nvPicPr>
        <p:blipFill>
          <a:blip r:embed="rId1"/>
          <a:stretch/>
        </p:blipFill>
        <p:spPr>
          <a:xfrm>
            <a:off x="533520" y="2286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HAT IS AN ELECTR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gatively charged partic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ocated in shells that surround an atom's nucleu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electron1"/>
          <p:cNvPicPr/>
          <p:nvPr/>
        </p:nvPicPr>
        <p:blipFill>
          <a:blip r:embed="rId1"/>
          <a:stretch/>
        </p:blipFill>
        <p:spPr>
          <a:xfrm>
            <a:off x="6019920" y="289548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Welcome to MATTERVILLE 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3" descr="atompicture3"/>
          <p:cNvPicPr/>
          <p:nvPr/>
        </p:nvPicPr>
        <p:blipFill>
          <a:blip r:embed="rId1"/>
          <a:stretch/>
        </p:blipFill>
        <p:spPr>
          <a:xfrm>
            <a:off x="2543040" y="593640"/>
            <a:ext cx="4057920" cy="410544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02:09:13Z</dcterms:created>
  <dc:creator>Shutty</dc:creator>
  <dc:description/>
  <dc:language>en-US</dc:language>
  <cp:lastModifiedBy>LEGION</cp:lastModifiedBy>
  <dcterms:modified xsi:type="dcterms:W3CDTF">2017-01-26T09:32:58Z</dcterms:modified>
  <cp:revision>5</cp:revision>
  <dc:subject/>
  <dc:title>Slide 1</dc:title>
</cp:coreProperties>
</file>