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to complete the lecture handou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morrow’s quiz, you will be expected t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atomi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scientists to their experiments and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models in chronologic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nucleus surrounded by negativ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d to explain presence of specific colors in hydrogen’s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c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move in circular orbits within specific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ed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: region around the nucleus where e- are likely to be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represent probability of finding an e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ctual elec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particles in the nucleus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liot-Curi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their 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of Rutherford’s Nuclea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that matter was composed of tiny indivisibl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ased on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: ato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y (next 200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ture of science and mysticis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procedures were developed, but alchemists did not perform controlled experiments like true scient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 (18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School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others’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ard Bal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Four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small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.  Atoms of different element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together in simple proportions to create a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ical reaction, atoms are rearranged, but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Becquerel (189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emission of radiation from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-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-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) -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 Ray Tub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of negativ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particles with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phere (pudding)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lectrons (plums) dispersed throug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charge in the center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7BA-05A3-4823-A520-1984F77A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709-1891-409D-888D-E835FA98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4E2-7F19-4E7B-A24F-B41298AA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E4D-1244-488D-8485-9C164B4A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BC45-19AD-4EF9-91CF-2AB3C4C1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C4C6-FAEC-4FDC-AB9E-4369AB1F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69E6-E6A3-4716-9933-1170FECE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E7ED-65DD-4841-81E8-F71FCA47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2B2F-11B2-42B7-B308-791A6DBF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46B2-904B-47EB-AAA8-F2FEA774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CA38-93A6-480C-9161-57D64088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35A-C275-479C-ADF8-CCBF741D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4888-D70B-4917-B88B-4ADFA996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6EFC-FEBA-480A-8310-CC1BB452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56C7-908E-4808-8D71-C98DF80E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0BD4-9D80-4062-AAF1-098E9948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0C4B-3FF6-4C31-9323-9C01D190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E0B-8FB7-457A-A51D-5D6E414E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70E-F6E1-4ADD-8F7C-4C74419E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81A-9002-4A71-A5A2-80567B4E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84B-2C25-49E7-AECD-0960781B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EA0-A39C-4434-9162-9550CB6A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8A9-AF18-4852-82A4-7735C9A5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FA6-C4FA-4747-A2C2-0D9FB70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8E05-EF7D-4FE5-BF9F-59ADF92374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9C94-2DD6-4AFF-AD6A-252F4CC0C8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Atomic Structure Timeline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3480" y="3033720"/>
            <a:ext cx="7817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following information to complete the lecture handout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 tomorrow’s quiz, you will be expected to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the atomic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ch scientists to their experiments and discove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 the models in chronological or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3600" y="5305320"/>
            <a:ext cx="66168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nucleus surrounded by negative electr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5" descr="C:\My Documents\Christy's Stuff\Teaching Stuff\01-02 School Year\Chemistry\Lessons\Atomic Structure\Atomic Structure Timeline\atom_pic3.jpg"/>
          <p:cNvPicPr/>
          <p:nvPr/>
        </p:nvPicPr>
        <p:blipFill>
          <a:blip r:embed="rId1"/>
          <a:stretch/>
        </p:blipFill>
        <p:spPr>
          <a:xfrm>
            <a:off x="1428840" y="1992240"/>
            <a:ext cx="628632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Picture 3" descr="C:\My Documents\Christy's Stuff\Teaching Stuff\00-01 School Year\Both Classes\Atomic Structure Timeline\Bohr.jpg"/>
          <p:cNvPicPr/>
          <p:nvPr/>
        </p:nvPicPr>
        <p:blipFill>
          <a:blip r:embed="rId1"/>
          <a:stretch/>
        </p:blipFill>
        <p:spPr>
          <a:xfrm>
            <a:off x="355680" y="2486160"/>
            <a:ext cx="3024000" cy="370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5800" y="2238480"/>
            <a:ext cx="51829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ied to explain presence of specific colors in hydrogen’s spectru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c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5800" y="4141800"/>
            <a:ext cx="518292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ctrons move in circular orbits within specific energy lev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atom_movie4.avi" descr=""/>
          <p:cNvPicPr/>
          <p:nvPr/>
        </p:nvPicPr>
        <p:blipFill>
          <a:blip r:embed="rId1"/>
          <a:stretch/>
        </p:blipFill>
        <p:spPr>
          <a:xfrm>
            <a:off x="455760" y="3687840"/>
            <a:ext cx="3049560" cy="297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My Documents\Christy's Stuff\Teaching Stuff\01-02 School Year\Chemistry\Lessons\Atomic Structure\Atomic Structure Timeline\atom_pic6.jpg"/>
          <p:cNvPicPr/>
          <p:nvPr/>
        </p:nvPicPr>
        <p:blipFill>
          <a:blip r:embed="rId2"/>
          <a:stretch/>
        </p:blipFill>
        <p:spPr>
          <a:xfrm>
            <a:off x="1938240" y="2036880"/>
            <a:ext cx="5267520" cy="752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1981080" y="2770200"/>
            <a:ext cx="518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uantum mechanic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ed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orbital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: region around the nucleus where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are likely to be f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C:\My Documents\Christy's Stuff\Teaching Stuff\00-01 School Year\Both Classes\Atomic Structure Timeline\Schrodinger.jpg"/>
          <p:cNvPicPr/>
          <p:nvPr/>
        </p:nvPicPr>
        <p:blipFill>
          <a:blip r:embed="rId1"/>
          <a:stretch/>
        </p:blipFill>
        <p:spPr>
          <a:xfrm>
            <a:off x="355680" y="2486160"/>
            <a:ext cx="2997000" cy="41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4120"/>
            <a:ext cx="914400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 (orbit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ots represent probability of finding an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actual electron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Electron Cloud.avi" descr=""/>
          <p:cNvPicPr/>
          <p:nvPr/>
        </p:nvPicPr>
        <p:blipFill>
          <a:blip r:embed="rId1"/>
          <a:stretch/>
        </p:blipFill>
        <p:spPr>
          <a:xfrm>
            <a:off x="2239920" y="2151000"/>
            <a:ext cx="4660920" cy="293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Picture 3" descr="C:\My Documents\Christy's Stuff\Teaching Stuff\00-01 School Year\Both Classes\Atomic Structure Timeline\CHADWICK.GIF"/>
          <p:cNvPicPr/>
          <p:nvPr/>
        </p:nvPicPr>
        <p:blipFill>
          <a:blip r:embed="rId1"/>
          <a:srcRect l="0" t="0" r="0" b="12923"/>
          <a:stretch/>
        </p:blipFill>
        <p:spPr>
          <a:xfrm>
            <a:off x="355680" y="2486160"/>
            <a:ext cx="2898720" cy="3814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iscovered neu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utral particles in the nucleus of an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oliot-Curi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their experimental evid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Picture 3" descr="C:\My Documents\Christy's Stuff\Teaching Stuff\00-01 School Year\Chemistry\Lessons\Atomic Structure\Atomic Structure Timeline\atom_pic1.jpg"/>
          <p:cNvPicPr/>
          <p:nvPr/>
        </p:nvPicPr>
        <p:blipFill>
          <a:blip r:embed="rId1"/>
          <a:stretch/>
        </p:blipFill>
        <p:spPr>
          <a:xfrm>
            <a:off x="1998720" y="2203560"/>
            <a:ext cx="514332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0400" y="5686560"/>
            <a:ext cx="742464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eutron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vision of Rutherford’s Nuclear Mode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mocritus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400 B.C.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3548" t="5862" r="77108" b="62766"/>
          <a:stretch/>
        </p:blipFill>
        <p:spPr>
          <a:xfrm>
            <a:off x="355680" y="2486160"/>
            <a:ext cx="30114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5616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roposed that matter was composed of tiny indivisible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based on experimental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Greek: ato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lchemy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(next 2000 years)</a:t>
            </a:r>
            <a:endParaRPr b="1" i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9680" y="4125960"/>
            <a:ext cx="2266920" cy="18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86280" y="3468600"/>
            <a:ext cx="3098520" cy="32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6595920" y="3479760"/>
            <a:ext cx="2138400" cy="3181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8240" y="20732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xture of science and mysticism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b procedures were developed, but alchemists did not perform controlled experiments like true scientis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07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7753" t="5448" r="60308" b="43342"/>
          <a:stretch/>
        </p:blipFill>
        <p:spPr>
          <a:xfrm>
            <a:off x="341280" y="2676600"/>
            <a:ext cx="2916360" cy="3504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60680" y="2485800"/>
            <a:ext cx="53784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ritish Schoolteac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others’ experimental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illiard Ball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tom is a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form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lid sp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:\My Documents\Christy's Stuff\Teaching Stuff\01-02 School Year\Chemistry\Lessons\Atomic Structure\Atomic Structure Timeline\atom_pic2.jpg"/>
          <p:cNvPicPr/>
          <p:nvPr/>
        </p:nvPicPr>
        <p:blipFill>
          <a:blip r:embed="rId2"/>
          <a:stretch/>
        </p:blipFill>
        <p:spPr>
          <a:xfrm>
            <a:off x="6627960" y="4684680"/>
            <a:ext cx="2133360" cy="20592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88360" y="198612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alton’s Four Postul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5320" y="2687760"/>
            <a:ext cx="79502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are composed of small indivisible particles called ato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the same element are identical.  Atoms of different elements are diffe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different elements combine together in simple proportions to create a comp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 chemical reaction, atoms are rearranged, but not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enri Becquerel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9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6159" t="51357" r="5241" b="4474"/>
          <a:stretch/>
        </p:blipFill>
        <p:spPr>
          <a:xfrm>
            <a:off x="355680" y="2486160"/>
            <a:ext cx="3029040" cy="3508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radio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pontaneous emission of radiation from the nucle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lph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posi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t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g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gamm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u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Picture 1027" descr=""/>
          <p:cNvPicPr/>
          <p:nvPr/>
        </p:nvPicPr>
        <p:blipFill>
          <a:blip r:embed="rId1"/>
          <a:srcRect l="0" t="0" r="80041" b="66314"/>
          <a:stretch/>
        </p:blipFill>
        <p:spPr>
          <a:xfrm>
            <a:off x="357120" y="2482920"/>
            <a:ext cx="3025800" cy="3828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2371320"/>
            <a:ext cx="518328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de Ray Tub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am of negative partic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Elec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particles within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22880" y="3231720"/>
            <a:ext cx="4618080" cy="29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sitive sphere (pudding) wit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electrons (plums) dispersed through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1030" descr="C:\My Documents\Christy's Stuff\Teaching Stuff\01-02 School Year\Chemistry\Lessons\Atomic Structure\Atomic Structure Timeline\atom_pic4.jpg"/>
          <p:cNvPicPr/>
          <p:nvPr/>
        </p:nvPicPr>
        <p:blipFill>
          <a:blip r:embed="rId1"/>
          <a:stretch/>
        </p:blipFill>
        <p:spPr>
          <a:xfrm>
            <a:off x="304920" y="2397240"/>
            <a:ext cx="3809880" cy="4019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Picture 1027" descr=""/>
          <p:cNvPicPr/>
          <p:nvPr/>
        </p:nvPicPr>
        <p:blipFill>
          <a:blip r:embed="rId1"/>
          <a:srcRect l="4321" t="5708" r="75878" b="60150"/>
          <a:stretch/>
        </p:blipFill>
        <p:spPr>
          <a:xfrm>
            <a:off x="355680" y="2486160"/>
            <a:ext cx="3049560" cy="3952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ld Foil Experi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charge in the center of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osn</dc:creator>
  <dc:description/>
  <dc:language>en-US</dc:language>
  <cp:lastModifiedBy>LEGION</cp:lastModifiedBy>
  <dcterms:modified xsi:type="dcterms:W3CDTF">2017-01-26T09:34:23Z</dcterms:modified>
  <cp:revision>56</cp:revision>
  <dc:subject/>
  <dc:title>Atomic Structure Timeline</dc:title>
</cp:coreProperties>
</file>