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19.jpeg" ContentType="image/jpeg"/>
  <Override PartName="/ppt/media/image6.wmf" ContentType="image/x-wmf"/>
  <Override PartName="/ppt/media/image28.jpeg" ContentType="image/jpe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2E6E-E1B9-49E4-977C-F790BD3FAF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not about Dalton any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about Dalton anymo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raction pattern caused by ligh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ing through two adjacent sl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raction pattern caused by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ng through two adjacent sl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falling on alkali metals causes electrons to be released from the me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electrons depends on the intensity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pecific wavelengths of light that cause the release of e-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the photoelectric ef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alling on alkali metals causes electrons to be released from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# of electrons depends on the intensity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pecific wavelengths of light that cause the release of e-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the photoelectric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nstein’s interpretation of the photoelectric effect (1905) was that light is quantized in packets of set energy called photons. (He won the Nobel Prize for thi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t that light had characteristics of partic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interpretation of the photoelectric effect (1905) was that light is quantized in packets of set energy called photons. (He won the Nobel Prize for thi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t that light had characteristics of partic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particles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25, de Broglie stated that all particles have a wavelength described by the equation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λ = h/p where p= momen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show diffraction pattern when passing through a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ight and particles have a du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particles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25, de Broglie stated that all particles have a wavelength described by the equa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λ = h/p where p=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show diffraction pattern when passing through a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light and particles have a d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 to atomic structu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ready know an atom contains a nucleus with p+ and no.  Electrons orbit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known that atoms emit a unique spectrum of lines when excited.  Rydberg derived an equation that related the li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the Rydberg constant = 1.096776x107 m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to atomic struct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an atom contains a nucleus with p+ and no.  Electrons orbit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known that atoms emit a unique spectrum of lines when excited.  Rydberg derived an equation that related the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is the Rydberg constant = 1.096776x107 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me test colors derive from electrons changing 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 colors derive from electrons changing energy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tomic emission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ockwise from lower lef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on, helium, hydroge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, 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ic emission spec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ockwise from lower lef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on, helium, hydroge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rcury,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lo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n electron occupies its usual energy level it is in the ground st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n electron absorbs a photon and moves to a higher energy level it is in an excited st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levels are “quantized”.  Atoms can only transition between set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the levels set where they 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electron occupies its usual energy level it is in the 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electron absorbs a photon and moves to a higher energy level it is in an excite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levels are “quantized”.  Atoms can only transition between set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the levels set where they 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nderstand the electronic structure of the atom we need to review the properties of electromagnetic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electronic structure of the atom we need to review the properties of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enerated regions occupied by an electron of set energy termed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d regions occupied by an electron of set energy termed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tion in restricted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motion in restricted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isenberg stated that in measuring the electron there is uncertainty so we can only calculate a probable location for the electron.  This is called the Heisenberg Uncertainty Princi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senberg stated that in measuring the electron there is uncertainty so we can only calculate a probable location for the electron.  This is called the Heisenberg Uncertainty Principl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probability in the ground-state H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robability in the ground-state H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2p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2p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3d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3d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 orbi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 orb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CAL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particulate, mas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ontinuous, wave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major observations and theories leading from classical theory to quantum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particulate, ma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ntinuous, wave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major observations and theories leading from classical theory to quantum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and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l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=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 Na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and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N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height or amplitude determines radiation int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is related to the energy of the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height or amplitude determines radiation int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length is related to the energy of the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λ, ν, a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λ decreases and ν increases, what happened to the energy of the radi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h = Planck’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6.626 × 10-34 m2 kg/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λ, ν,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λ decreases and ν increases, what happened to the energy of the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h = Planck’s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626 × 10-34 m2 kg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finite number of wavelength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radiation have been classifi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o groups a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inite number of wavelength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magnetic radiation have been classifi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groups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converting Wavelength and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c = 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.00x10-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5x10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73x10-9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x10-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1018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x10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.23x107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4x1014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onverting Wavelength and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 = 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0x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25x10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73x10-9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x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x1018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5x10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.23x107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34x1014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Energy of Radiation from Its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converting cm to m, we can use the energy equation, E = hn combined with n = c/l to find th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hc/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26X10-34J*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.66x10-23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of Radiation from Its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converting cm to m, we can use the energy equation, E = hn combined with n = c/l to find th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hc/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26X10-34J*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66x10-23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or W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behaviors of waves and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 or W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behaviors of waves and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5121-316F-421E-9735-328102C1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741-0552-4B4E-B6A3-B933368B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FAD-F078-4F29-95E7-B1B11F40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85C-0800-40AA-A28A-0EBD6EAA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5C7-DF71-48CD-91E7-9DDCF63C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9F1-46E5-48B9-B33D-32DAC877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F46A-8F06-4234-97F3-4DA8F1E7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3D2-28D6-4541-B114-867FDC74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E3C4-1127-46DF-B4FC-B40DD840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020-051C-48C4-A1B9-75930525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D9B-4824-4501-87B9-FAD58A90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C5A-776D-4FB2-98E6-8FAF4FCC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0913-899E-4094-851E-4261879158D2}" type="datetime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C1B8-F964-45C8-BC41-F4381E2C0641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omic Structure 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1142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It’s not about Dalton anymore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atoms.jpg"/>
          <p:cNvPicPr/>
          <p:nvPr/>
        </p:nvPicPr>
        <p:blipFill>
          <a:blip r:embed="rId1"/>
          <a:stretch/>
        </p:blipFill>
        <p:spPr>
          <a:xfrm>
            <a:off x="2209680" y="1981080"/>
            <a:ext cx="4445280" cy="4216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5680" cy="5213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533520" y="38088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diffraction pattern caused by l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ssing through two adjacent sl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ght is a wave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ight falling on alkali metals causes electrons to be released from the metal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# of electrons depends on the intensity of light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re are specific wavelengths of light that cause the release of 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is called the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photoelectric effect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2872080" cy="4952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ght is a wave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instein’s interpretation of the photoelectric effect (1905) was that light is quantized in packets of set energy call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hot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He won the Nobel Prize for this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ant that light had characteristics of particle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ns are particles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1925, de Broglie stated that all particles have a wavelength described by the equation: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h/p where p= moment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s show diffraction pattern when passing through a sl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 light and particles have a dua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a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3" descr="electrondiffraction.jpg"/>
          <p:cNvPicPr/>
          <p:nvPr/>
        </p:nvPicPr>
        <p:blipFill>
          <a:blip r:embed="rId1"/>
          <a:stretch/>
        </p:blipFill>
        <p:spPr>
          <a:xfrm>
            <a:off x="7548480" y="2666880"/>
            <a:ext cx="1595520" cy="38102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ck to atomic structur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lready know an atom contains a nucleus with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Electrons orbit the nucle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was known that atoms emit a unique spectrum of lines when excited.  Rydberg derived an equation that related the lin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is the Rydberg constant = 1.096776x1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" name="Group 21"/>
          <p:cNvGrpSpPr/>
          <p:nvPr/>
        </p:nvGrpSpPr>
        <p:grpSpPr>
          <a:xfrm>
            <a:off x="1600200" y="5181480"/>
            <a:ext cx="6477120" cy="1295640"/>
            <a:chOff x="1600200" y="5181480"/>
            <a:chExt cx="6477120" cy="1295640"/>
          </a:xfrm>
        </p:grpSpPr>
        <p:sp>
          <p:nvSpPr>
            <p:cNvPr id="179" name="Rectangle 25"/>
            <p:cNvSpPr/>
            <p:nvPr/>
          </p:nvSpPr>
          <p:spPr>
            <a:xfrm>
              <a:off x="1600200" y="5181480"/>
              <a:ext cx="6477120" cy="12956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472428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518184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3"/>
            <p:cNvSpPr/>
            <p:nvPr/>
          </p:nvSpPr>
          <p:spPr>
            <a:xfrm>
              <a:off x="1600200" y="555444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ydberg eq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6"/>
            <p:cNvSpPr/>
            <p:nvPr/>
          </p:nvSpPr>
          <p:spPr>
            <a:xfrm>
              <a:off x="624852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0"/>
            <p:cNvGrpSpPr/>
            <p:nvPr/>
          </p:nvGrpSpPr>
          <p:grpSpPr>
            <a:xfrm>
              <a:off x="4191120" y="5364000"/>
              <a:ext cx="380880" cy="779760"/>
              <a:chOff x="4191120" y="5364000"/>
              <a:chExt cx="380880" cy="779760"/>
            </a:xfrm>
          </p:grpSpPr>
          <p:sp>
            <p:nvSpPr>
              <p:cNvPr id="185" name="Text Box 5"/>
              <p:cNvSpPr/>
              <p:nvPr/>
            </p:nvSpPr>
            <p:spPr>
              <a:xfrm>
                <a:off x="4191120" y="53640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"/>
              <p:cNvSpPr/>
              <p:nvPr/>
            </p:nvSpPr>
            <p:spPr>
              <a:xfrm>
                <a:off x="4191120" y="574488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7"/>
              <p:cNvSpPr/>
              <p:nvPr/>
            </p:nvSpPr>
            <p:spPr>
              <a:xfrm>
                <a:off x="4191120" y="57448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2"/>
            <p:cNvGrpSpPr/>
            <p:nvPr/>
          </p:nvGrpSpPr>
          <p:grpSpPr>
            <a:xfrm>
              <a:off x="6629760" y="5364000"/>
              <a:ext cx="533160" cy="821520"/>
              <a:chOff x="6629760" y="5364000"/>
              <a:chExt cx="533160" cy="821520"/>
            </a:xfrm>
          </p:grpSpPr>
          <p:sp>
            <p:nvSpPr>
              <p:cNvPr id="189" name="Text Box 10"/>
              <p:cNvSpPr/>
              <p:nvPr/>
            </p:nvSpPr>
            <p:spPr>
              <a:xfrm>
                <a:off x="6705720" y="53640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5"/>
              <p:cNvSpPr/>
              <p:nvPr/>
            </p:nvSpPr>
            <p:spPr>
              <a:xfrm>
                <a:off x="6629760" y="5744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8"/>
              <p:cNvSpPr/>
              <p:nvPr/>
            </p:nvSpPr>
            <p:spPr>
              <a:xfrm>
                <a:off x="6667560" y="57448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1"/>
            <p:cNvGrpSpPr/>
            <p:nvPr/>
          </p:nvGrpSpPr>
          <p:grpSpPr>
            <a:xfrm>
              <a:off x="5715000" y="5364000"/>
              <a:ext cx="533160" cy="821520"/>
              <a:chOff x="5715000" y="5364000"/>
              <a:chExt cx="533160" cy="821520"/>
            </a:xfrm>
          </p:grpSpPr>
          <p:sp>
            <p:nvSpPr>
              <p:cNvPr id="193" name="Text Box 9"/>
              <p:cNvSpPr/>
              <p:nvPr/>
            </p:nvSpPr>
            <p:spPr>
              <a:xfrm>
                <a:off x="5790960" y="53640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4"/>
              <p:cNvSpPr/>
              <p:nvPr/>
            </p:nvSpPr>
            <p:spPr>
              <a:xfrm>
                <a:off x="5715000" y="5744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9"/>
              <p:cNvSpPr/>
              <p:nvPr/>
            </p:nvSpPr>
            <p:spPr>
              <a:xfrm>
                <a:off x="5752800" y="57448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ame test colors derive from electrons changing energy lev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4" descr="07_13_figure"/>
          <p:cNvPicPr/>
          <p:nvPr/>
        </p:nvPicPr>
        <p:blipFill>
          <a:blip r:embed="rId1"/>
          <a:stretch/>
        </p:blipFill>
        <p:spPr>
          <a:xfrm>
            <a:off x="298440" y="1411200"/>
            <a:ext cx="8547120" cy="40356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658188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heltube.jpg"/>
          <p:cNvPicPr/>
          <p:nvPr/>
        </p:nvPicPr>
        <p:blipFill>
          <a:blip r:embed="rId1"/>
          <a:stretch/>
        </p:blipFill>
        <p:spPr>
          <a:xfrm>
            <a:off x="0" y="0"/>
            <a:ext cx="2344680" cy="38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hydtube.jpg"/>
          <p:cNvPicPr/>
          <p:nvPr/>
        </p:nvPicPr>
        <p:blipFill>
          <a:blip r:embed="rId2"/>
          <a:stretch/>
        </p:blipFill>
        <p:spPr>
          <a:xfrm>
            <a:off x="3505320" y="0"/>
            <a:ext cx="2576520" cy="3886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mertube.jpg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3882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neoncomp.jpg"/>
          <p:cNvPicPr/>
          <p:nvPr/>
        </p:nvPicPr>
        <p:blipFill>
          <a:blip r:embed="rId4"/>
          <a:stretch/>
        </p:blipFill>
        <p:spPr>
          <a:xfrm>
            <a:off x="0" y="4114800"/>
            <a:ext cx="2533680" cy="251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ittube.jpg"/>
          <p:cNvPicPr/>
          <p:nvPr/>
        </p:nvPicPr>
        <p:blipFill>
          <a:blip r:embed="rId5"/>
          <a:stretch/>
        </p:blipFill>
        <p:spPr>
          <a:xfrm>
            <a:off x="5845320" y="4114800"/>
            <a:ext cx="329868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7"/>
          <p:cNvSpPr/>
          <p:nvPr/>
        </p:nvSpPr>
        <p:spPr>
          <a:xfrm>
            <a:off x="2774880" y="4191120"/>
            <a:ext cx="29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omic emission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ockwise from lower le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on, helium, hydro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rcury, ni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2666880" y="4038480"/>
            <a:ext cx="3124440" cy="2133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07_20_figure"/>
          <p:cNvPicPr/>
          <p:nvPr/>
        </p:nvPicPr>
        <p:blipFill>
          <a:blip r:embed="rId1"/>
          <a:stretch/>
        </p:blipFill>
        <p:spPr>
          <a:xfrm>
            <a:off x="298440" y="1441440"/>
            <a:ext cx="8547120" cy="39751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4" descr="07_11_figure"/>
          <p:cNvPicPr/>
          <p:nvPr/>
        </p:nvPicPr>
        <p:blipFill>
          <a:blip r:embed="rId1"/>
          <a:stretch/>
        </p:blipFill>
        <p:spPr>
          <a:xfrm>
            <a:off x="298440" y="274680"/>
            <a:ext cx="8547120" cy="630864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n lo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electron occupies its usual energy level it is in the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ground s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electron absorbs a photon and moves to a higher energy level it is in a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cited s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nergy levels are “quantized”.  Atoms can only transition between set leve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are the levels set where they a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rst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understand the electronic structure of the atom we need to review the properties of electromagnetic radi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3" descr="heltube.jpg"/>
          <p:cNvPicPr/>
          <p:nvPr/>
        </p:nvPicPr>
        <p:blipFill>
          <a:blip r:embed="rId1"/>
          <a:stretch/>
        </p:blipFill>
        <p:spPr>
          <a:xfrm>
            <a:off x="1676520" y="3575160"/>
            <a:ext cx="5029200" cy="32828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electrons as wa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generated regions occupied by an electron of set energy termed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rbita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5113440" cy="56386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304920" y="2514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ve motion in restricted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electrons as wa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isenberg stated that in measuring the electron there is uncertainty so we can only calculate a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robable loca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the electron.  This is called th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eisenberg Uncertainty Princi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6"/>
          <p:cNvSpPr/>
          <p:nvPr/>
        </p:nvSpPr>
        <p:spPr>
          <a:xfrm>
            <a:off x="4572000" y="54100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ectron probability in the ground-state H at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07_23_figure"/>
          <p:cNvPicPr/>
          <p:nvPr/>
        </p:nvPicPr>
        <p:blipFill>
          <a:blip r:embed="rId1"/>
          <a:stretch/>
        </p:blipFill>
        <p:spPr>
          <a:xfrm>
            <a:off x="2209680" y="3643200"/>
            <a:ext cx="2221200" cy="3214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07_22_figure"/>
          <p:cNvPicPr/>
          <p:nvPr/>
        </p:nvPicPr>
        <p:blipFill>
          <a:blip r:embed="rId2"/>
          <a:stretch/>
        </p:blipFill>
        <p:spPr>
          <a:xfrm>
            <a:off x="228600" y="228600"/>
            <a:ext cx="8547120" cy="334008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7"/>
          <p:cNvSpPr/>
          <p:nvPr/>
        </p:nvSpPr>
        <p:spPr>
          <a:xfrm>
            <a:off x="3657600" y="457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2p orb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07_26_figure"/>
          <p:cNvPicPr/>
          <p:nvPr/>
        </p:nvPicPr>
        <p:blipFill>
          <a:blip r:embed="rId1"/>
          <a:stretch/>
        </p:blipFill>
        <p:spPr>
          <a:xfrm>
            <a:off x="304920" y="1079640"/>
            <a:ext cx="8547120" cy="57783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352680" y="304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3d orb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1" descr="07_27_figure"/>
          <p:cNvPicPr/>
          <p:nvPr/>
        </p:nvPicPr>
        <p:blipFill>
          <a:blip r:embed="rId1"/>
          <a:stretch/>
        </p:blipFill>
        <p:spPr>
          <a:xfrm>
            <a:off x="298440" y="914400"/>
            <a:ext cx="8547120" cy="502920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07_28_figure"/>
          <p:cNvPicPr/>
          <p:nvPr/>
        </p:nvPicPr>
        <p:blipFill>
          <a:blip r:embed="rId1"/>
          <a:stretch/>
        </p:blipFill>
        <p:spPr>
          <a:xfrm>
            <a:off x="298440" y="765000"/>
            <a:ext cx="8547120" cy="532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513600" y="0"/>
            <a:ext cx="160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5"/>
          <p:cNvSpPr/>
          <p:nvPr/>
        </p:nvSpPr>
        <p:spPr>
          <a:xfrm>
            <a:off x="609480" y="3657600"/>
            <a:ext cx="8153640" cy="243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457200" y="838080"/>
            <a:ext cx="3200400" cy="2057400"/>
          </a:xfrm>
          <a:prstGeom prst="downArrowCallout">
            <a:avLst>
              <a:gd name="adj1" fmla="val 38892"/>
              <a:gd name="adj2" fmla="val 38889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685800" y="838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ASSICAL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45720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te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ulate, m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0968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, wave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2057400" y="1219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4"/>
          <p:cNvGrpSpPr/>
          <p:nvPr/>
        </p:nvGrpSpPr>
        <p:grpSpPr>
          <a:xfrm>
            <a:off x="609480" y="2971800"/>
            <a:ext cx="8153640" cy="685800"/>
            <a:chOff x="609480" y="2971800"/>
            <a:chExt cx="8153640" cy="685800"/>
          </a:xfrm>
        </p:grpSpPr>
        <p:sp>
          <p:nvSpPr>
            <p:cNvPr id="249" name="Rectangle 23"/>
            <p:cNvSpPr/>
            <p:nvPr/>
          </p:nvSpPr>
          <p:spPr>
            <a:xfrm>
              <a:off x="609480" y="2971800"/>
              <a:ext cx="815364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"/>
            <p:cNvSpPr/>
            <p:nvPr/>
          </p:nvSpPr>
          <p:spPr>
            <a:xfrm>
              <a:off x="1676520" y="2994120"/>
              <a:ext cx="533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matter is discontinuous and particulate perhaps energy is discontinuous and particula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8"/>
          <p:cNvSpPr/>
          <p:nvPr/>
        </p:nvSpPr>
        <p:spPr>
          <a:xfrm>
            <a:off x="68580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27672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0"/>
          <p:cNvGrpSpPr/>
          <p:nvPr/>
        </p:nvGrpSpPr>
        <p:grpSpPr>
          <a:xfrm>
            <a:off x="685800" y="4191120"/>
            <a:ext cx="8153280" cy="642600"/>
            <a:chOff x="685800" y="4191120"/>
            <a:chExt cx="8153280" cy="642600"/>
          </a:xfrm>
        </p:grpSpPr>
        <p:sp>
          <p:nvSpPr>
            <p:cNvPr id="254" name="Text Box 10"/>
            <p:cNvSpPr/>
            <p:nvPr/>
          </p:nvSpPr>
          <p:spPr>
            <a:xfrm>
              <a:off x="3352680" y="4191120"/>
              <a:ext cx="548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lanck:    Energy is quantized;  only certain valu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llo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3"/>
            <p:cNvSpPr/>
            <p:nvPr/>
          </p:nvSpPr>
          <p:spPr>
            <a:xfrm>
              <a:off x="685800" y="41911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lackbody 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>
              <a:off x="2819520" y="43750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1"/>
          <p:cNvGrpSpPr/>
          <p:nvPr/>
        </p:nvGrpSpPr>
        <p:grpSpPr>
          <a:xfrm>
            <a:off x="685800" y="4800600"/>
            <a:ext cx="8229600" cy="368280"/>
            <a:chOff x="685800" y="4800600"/>
            <a:chExt cx="8229600" cy="368280"/>
          </a:xfrm>
        </p:grpSpPr>
        <p:sp>
          <p:nvSpPr>
            <p:cNvPr id="258" name="Text Box 11"/>
            <p:cNvSpPr/>
            <p:nvPr/>
          </p:nvSpPr>
          <p:spPr>
            <a:xfrm>
              <a:off x="3352680" y="480060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instein:  Light has particulate behavior (photon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6"/>
            <p:cNvSpPr/>
            <p:nvPr/>
          </p:nvSpPr>
          <p:spPr>
            <a:xfrm>
              <a:off x="685800" y="48006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otoelectric eff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2819520" y="4983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2"/>
          <p:cNvGrpSpPr/>
          <p:nvPr/>
        </p:nvGrpSpPr>
        <p:grpSpPr>
          <a:xfrm>
            <a:off x="685800" y="5257800"/>
            <a:ext cx="8229600" cy="642600"/>
            <a:chOff x="685800" y="5257800"/>
            <a:chExt cx="8229600" cy="642600"/>
          </a:xfrm>
        </p:grpSpPr>
        <p:sp>
          <p:nvSpPr>
            <p:cNvPr id="262" name="Text Box 12"/>
            <p:cNvSpPr/>
            <p:nvPr/>
          </p:nvSpPr>
          <p:spPr>
            <a:xfrm>
              <a:off x="3352680" y="5257800"/>
              <a:ext cx="55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ohr:       Energy of atoms is quantized; pho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mitted when electron changes orb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685800" y="52578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omic line spect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2819520" y="5442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27"/>
          <p:cNvSpPr/>
          <p:nvPr/>
        </p:nvSpPr>
        <p:spPr>
          <a:xfrm>
            <a:off x="3962520" y="990720"/>
            <a:ext cx="48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mmary of the major observations and theories leading from classical theory to quantum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2"/>
          <p:cNvSpPr/>
          <p:nvPr/>
        </p:nvSpPr>
        <p:spPr>
          <a:xfrm>
            <a:off x="533520" y="1295280"/>
            <a:ext cx="8153280" cy="16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23"/>
          <p:cNvGrpSpPr/>
          <p:nvPr/>
        </p:nvGrpSpPr>
        <p:grpSpPr>
          <a:xfrm>
            <a:off x="533520" y="762120"/>
            <a:ext cx="8153280" cy="457200"/>
            <a:chOff x="533520" y="762120"/>
            <a:chExt cx="8153280" cy="457200"/>
          </a:xfrm>
        </p:grpSpPr>
        <p:sp>
          <p:nvSpPr>
            <p:cNvPr id="269" name="Rectangle 3"/>
            <p:cNvSpPr/>
            <p:nvPr/>
          </p:nvSpPr>
          <p:spPr>
            <a:xfrm>
              <a:off x="533520" y="762120"/>
              <a:ext cx="81532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"/>
            <p:cNvSpPr/>
            <p:nvPr/>
          </p:nvSpPr>
          <p:spPr>
            <a:xfrm>
              <a:off x="1600200" y="78408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energy is wavelike perhaps matter is wave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5"/>
          <p:cNvSpPr/>
          <p:nvPr/>
        </p:nvSpPr>
        <p:spPr>
          <a:xfrm>
            <a:off x="609480" y="1371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3200400" y="1371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1"/>
          <p:cNvGrpSpPr/>
          <p:nvPr/>
        </p:nvGrpSpPr>
        <p:grpSpPr>
          <a:xfrm>
            <a:off x="609480" y="1828800"/>
            <a:ext cx="8153640" cy="1191240"/>
            <a:chOff x="609480" y="1828800"/>
            <a:chExt cx="8153640" cy="1191240"/>
          </a:xfrm>
        </p:grpSpPr>
        <p:sp>
          <p:nvSpPr>
            <p:cNvPr id="274" name="Text Box 8"/>
            <p:cNvSpPr/>
            <p:nvPr/>
          </p:nvSpPr>
          <p:spPr>
            <a:xfrm>
              <a:off x="3276720" y="1828800"/>
              <a:ext cx="548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eBroglie:  All matter travels in waves; energ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om is quantized due to wave motio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of electr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"/>
            <p:cNvSpPr/>
            <p:nvPr/>
          </p:nvSpPr>
          <p:spPr>
            <a:xfrm>
              <a:off x="609480" y="182880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avisson/Germer: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lectron diffrac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y metal crys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 flipH="1">
              <a:off x="2819520" y="23623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3"/>
          <p:cNvSpPr/>
          <p:nvPr/>
        </p:nvSpPr>
        <p:spPr>
          <a:xfrm>
            <a:off x="457200" y="3505320"/>
            <a:ext cx="82296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24"/>
          <p:cNvGrpSpPr/>
          <p:nvPr/>
        </p:nvGrpSpPr>
        <p:grpSpPr>
          <a:xfrm>
            <a:off x="533520" y="2971800"/>
            <a:ext cx="8153280" cy="457200"/>
            <a:chOff x="533520" y="2971800"/>
            <a:chExt cx="8153280" cy="457200"/>
          </a:xfrm>
        </p:grpSpPr>
        <p:sp>
          <p:nvSpPr>
            <p:cNvPr id="279" name="Rectangle 15"/>
            <p:cNvSpPr/>
            <p:nvPr/>
          </p:nvSpPr>
          <p:spPr>
            <a:xfrm>
              <a:off x="533520" y="2971800"/>
              <a:ext cx="81532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6"/>
            <p:cNvSpPr/>
            <p:nvPr/>
          </p:nvSpPr>
          <p:spPr>
            <a:xfrm>
              <a:off x="1600200" y="299412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matter has mass perhaps energy has m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2"/>
          <p:cNvGrpSpPr/>
          <p:nvPr/>
        </p:nvGrpSpPr>
        <p:grpSpPr>
          <a:xfrm>
            <a:off x="609480" y="3581280"/>
            <a:ext cx="4114800" cy="368280"/>
            <a:chOff x="609480" y="3581280"/>
            <a:chExt cx="4114800" cy="368280"/>
          </a:xfrm>
        </p:grpSpPr>
        <p:sp>
          <p:nvSpPr>
            <p:cNvPr id="282" name="Text Box 17"/>
            <p:cNvSpPr/>
            <p:nvPr/>
          </p:nvSpPr>
          <p:spPr>
            <a:xfrm>
              <a:off x="609480" y="35812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Obser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3200400" y="3581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33"/>
          <p:cNvGrpSpPr/>
          <p:nvPr/>
        </p:nvGrpSpPr>
        <p:grpSpPr>
          <a:xfrm>
            <a:off x="609480" y="4038480"/>
            <a:ext cx="8153640" cy="1465560"/>
            <a:chOff x="609480" y="4038480"/>
            <a:chExt cx="8153640" cy="1465560"/>
          </a:xfrm>
        </p:grpSpPr>
        <p:sp>
          <p:nvSpPr>
            <p:cNvPr id="285" name="Text Box 19"/>
            <p:cNvSpPr/>
            <p:nvPr/>
          </p:nvSpPr>
          <p:spPr>
            <a:xfrm>
              <a:off x="3276720" y="403848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instein/deBroglie:  Mass and energy a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quivalent; particles have wavelength and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otons have momentu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0"/>
            <p:cNvSpPr/>
            <p:nvPr/>
          </p:nvSpPr>
          <p:spPr>
            <a:xfrm>
              <a:off x="609480" y="4038480"/>
              <a:ext cx="2438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mpton:  pho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wavelength increases (momentum decreases) after colliding with 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 flipH="1">
              <a:off x="2971800" y="45720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28"/>
          <p:cNvGrpSpPr/>
          <p:nvPr/>
        </p:nvGrpSpPr>
        <p:grpSpPr>
          <a:xfrm>
            <a:off x="4000680" y="5181480"/>
            <a:ext cx="3695400" cy="1295640"/>
            <a:chOff x="4000680" y="5181480"/>
            <a:chExt cx="3695400" cy="1295640"/>
          </a:xfrm>
        </p:grpSpPr>
        <p:sp>
          <p:nvSpPr>
            <p:cNvPr id="289" name="Rectangle 27"/>
            <p:cNvSpPr/>
            <p:nvPr/>
          </p:nvSpPr>
          <p:spPr>
            <a:xfrm>
              <a:off x="4000680" y="5181480"/>
              <a:ext cx="3657600" cy="1295640"/>
            </a:xfrm>
            <a:prstGeom prst="rect">
              <a:avLst/>
            </a:prstGeom>
            <a:gradFill rotWithShape="0">
              <a:gsLst>
                <a:gs pos="0">
                  <a:srgbClr val="ff3300">
                    <a:alpha val="75294"/>
                  </a:srgbClr>
                </a:gs>
                <a:gs pos="100000">
                  <a:srgbClr val="be2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4610160" y="5334120"/>
              <a:ext cx="30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QUANTUM 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4000680" y="571500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same as Ma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culate, massive, wave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00400" y="457200"/>
            <a:ext cx="4444920" cy="6097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5335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33520" y="28954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equency and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457200" y="4572000"/>
            <a:ext cx="2514600" cy="1432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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ve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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 = speed of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304920" y="609480"/>
            <a:ext cx="29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e Wave N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9"/>
          <p:cNvGrpSpPr/>
          <p:nvPr/>
        </p:nvGrpSpPr>
        <p:grpSpPr>
          <a:xfrm>
            <a:off x="152280" y="0"/>
            <a:ext cx="6553440" cy="5407200"/>
            <a:chOff x="152280" y="0"/>
            <a:chExt cx="6553440" cy="5407200"/>
          </a:xfrm>
        </p:grpSpPr>
        <p:pic>
          <p:nvPicPr>
            <p:cNvPr id="63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685800"/>
              <a:ext cx="5563080" cy="47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3"/>
            <p:cNvSpPr/>
            <p:nvPr/>
          </p:nvSpPr>
          <p:spPr>
            <a:xfrm>
              <a:off x="152280" y="14040"/>
              <a:ext cx="1752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4"/>
            <p:cNvSpPr/>
            <p:nvPr/>
          </p:nvSpPr>
          <p:spPr>
            <a:xfrm>
              <a:off x="2057400" y="0"/>
              <a:ext cx="46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mplitude (intensity) of a wa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7"/>
            <p:cNvSpPr/>
            <p:nvPr/>
          </p:nvSpPr>
          <p:spPr>
            <a:xfrm>
              <a:off x="2361960" y="2971800"/>
              <a:ext cx="4038840" cy="228600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0"/>
            <p:cNvGrpSpPr/>
            <p:nvPr/>
          </p:nvGrpSpPr>
          <p:grpSpPr>
            <a:xfrm>
              <a:off x="1523880" y="990360"/>
              <a:ext cx="3295800" cy="1884240"/>
              <a:chOff x="1523880" y="990360"/>
              <a:chExt cx="3295800" cy="1884240"/>
            </a:xfrm>
          </p:grpSpPr>
          <p:sp>
            <p:nvSpPr>
              <p:cNvPr id="68" name="Rectangle 8"/>
              <p:cNvSpPr/>
              <p:nvPr/>
            </p:nvSpPr>
            <p:spPr>
              <a:xfrm>
                <a:off x="1523880" y="990360"/>
                <a:ext cx="609840" cy="1828800"/>
              </a:xfrm>
              <a:prstGeom prst="rect">
                <a:avLst/>
              </a:pr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9"/>
              <p:cNvSpPr/>
              <p:nvPr/>
            </p:nvSpPr>
            <p:spPr>
              <a:xfrm>
                <a:off x="4210200" y="2133360"/>
                <a:ext cx="609480" cy="741240"/>
              </a:xfrm>
              <a:prstGeom prst="rect">
                <a:avLst/>
              </a:pr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TextBox 10"/>
          <p:cNvSpPr/>
          <p:nvPr/>
        </p:nvSpPr>
        <p:spPr>
          <a:xfrm>
            <a:off x="-21960" y="5715000"/>
            <a:ext cx="88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veheight or amplitude determines radiation inten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velength is related to the energy of the rad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nd Ener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ecrea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increases, what happened to the energy of the radia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here h = Planck’s consta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626 ×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kg/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2038320" y="3225960"/>
            <a:ext cx="3016440" cy="1269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209680" y="200340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gions of the electromagnetic spectr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68440" y="304920"/>
            <a:ext cx="802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finite number of wavelength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magnetic radiation have been classif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o groups as shown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07_05_figure"/>
          <p:cNvPicPr/>
          <p:nvPr/>
        </p:nvPicPr>
        <p:blipFill>
          <a:blip r:embed="rId1"/>
          <a:stretch/>
        </p:blipFill>
        <p:spPr>
          <a:xfrm>
            <a:off x="304920" y="2846520"/>
            <a:ext cx="8547120" cy="40114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14400" y="3352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143000" y="4572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converting Wavelength and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37160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c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8"/>
          <p:cNvGrpSpPr/>
          <p:nvPr/>
        </p:nvGrpSpPr>
        <p:grpSpPr>
          <a:xfrm>
            <a:off x="5181480" y="4114800"/>
            <a:ext cx="838080" cy="672840"/>
            <a:chOff x="5181480" y="4114800"/>
            <a:chExt cx="838080" cy="672840"/>
          </a:xfrm>
        </p:grpSpPr>
        <p:sp>
          <p:nvSpPr>
            <p:cNvPr id="84" name="Text Box 21"/>
            <p:cNvSpPr/>
            <p:nvPr/>
          </p:nvSpPr>
          <p:spPr>
            <a:xfrm>
              <a:off x="5181480" y="4114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2"/>
            <p:cNvSpPr/>
            <p:nvPr/>
          </p:nvSpPr>
          <p:spPr>
            <a:xfrm>
              <a:off x="5295960" y="44193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>
              <a:off x="5219640" y="44589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5181480" y="5181480"/>
            <a:ext cx="838080" cy="673200"/>
            <a:chOff x="5181480" y="5181480"/>
            <a:chExt cx="838080" cy="673200"/>
          </a:xfrm>
        </p:grpSpPr>
        <p:sp>
          <p:nvSpPr>
            <p:cNvPr id="88" name="Text Box 23"/>
            <p:cNvSpPr/>
            <p:nvPr/>
          </p:nvSpPr>
          <p:spPr>
            <a:xfrm>
              <a:off x="5181480" y="51814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9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4"/>
            <p:cNvSpPr/>
            <p:nvPr/>
          </p:nvSpPr>
          <p:spPr>
            <a:xfrm>
              <a:off x="5181480" y="54864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7"/>
            <p:cNvSpPr/>
            <p:nvPr/>
          </p:nvSpPr>
          <p:spPr>
            <a:xfrm>
              <a:off x="5219640" y="54990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31"/>
          <p:cNvSpPr/>
          <p:nvPr/>
        </p:nvSpPr>
        <p:spPr>
          <a:xfrm>
            <a:off x="6019920" y="3124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1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60199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325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6021360" y="534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47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9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5867280" y="373392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6477120" y="3505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6324480" y="3886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>
            <a:off x="6362640" y="3886200"/>
            <a:ext cx="118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ext Box 38"/>
          <p:cNvGrpSpPr/>
          <p:nvPr/>
        </p:nvGrpSpPr>
        <p:grpSpPr>
          <a:xfrm>
            <a:off x="7699320" y="3657600"/>
            <a:ext cx="1218960" cy="368280"/>
            <a:chOff x="7699320" y="3657600"/>
            <a:chExt cx="1218960" cy="368280"/>
          </a:xfrm>
        </p:grpSpPr>
        <p:pic>
          <p:nvPicPr>
            <p:cNvPr id="99" name="Text Box 38" descr=""/>
            <p:cNvPicPr/>
            <p:nvPr/>
          </p:nvPicPr>
          <p:blipFill>
            <a:blip r:embed="rId1"/>
            <a:stretch/>
          </p:blipFill>
          <p:spPr>
            <a:xfrm>
              <a:off x="7702200" y="3657600"/>
              <a:ext cx="121608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699320" y="3657600"/>
              <a:ext cx="12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8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9"/>
          <p:cNvSpPr/>
          <p:nvPr/>
        </p:nvSpPr>
        <p:spPr>
          <a:xfrm>
            <a:off x="5867280" y="472428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5867280" y="579132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6324480" y="4572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2"/>
          <p:cNvSpPr/>
          <p:nvPr/>
        </p:nvSpPr>
        <p:spPr>
          <a:xfrm>
            <a:off x="6324480" y="4952880"/>
            <a:ext cx="102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3"/>
          <p:cNvSpPr/>
          <p:nvPr/>
        </p:nvSpPr>
        <p:spPr>
          <a:xfrm>
            <a:off x="6324480" y="4952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5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Text Box 44"/>
          <p:cNvGrpSpPr/>
          <p:nvPr/>
        </p:nvGrpSpPr>
        <p:grpSpPr>
          <a:xfrm>
            <a:off x="7547040" y="4724280"/>
            <a:ext cx="1517400" cy="368280"/>
            <a:chOff x="7547040" y="4724280"/>
            <a:chExt cx="1517400" cy="368280"/>
          </a:xfrm>
        </p:grpSpPr>
        <p:pic>
          <p:nvPicPr>
            <p:cNvPr id="107" name="Text Box 44" descr=""/>
            <p:cNvPicPr/>
            <p:nvPr/>
          </p:nvPicPr>
          <p:blipFill>
            <a:blip r:embed="rId2"/>
            <a:stretch/>
          </p:blipFill>
          <p:spPr>
            <a:xfrm>
              <a:off x="7549920" y="4724280"/>
              <a:ext cx="1514520" cy="3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547040" y="472428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9.2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7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55"/>
          <p:cNvGrpSpPr/>
          <p:nvPr/>
        </p:nvGrpSpPr>
        <p:grpSpPr>
          <a:xfrm>
            <a:off x="6400800" y="5638680"/>
            <a:ext cx="1371600" cy="749520"/>
            <a:chOff x="6400800" y="5638680"/>
            <a:chExt cx="1371600" cy="749520"/>
          </a:xfrm>
        </p:grpSpPr>
        <p:sp>
          <p:nvSpPr>
            <p:cNvPr id="110" name="Text Box 45"/>
            <p:cNvSpPr/>
            <p:nvPr/>
          </p:nvSpPr>
          <p:spPr>
            <a:xfrm>
              <a:off x="6400800" y="56386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6"/>
            <p:cNvSpPr/>
            <p:nvPr/>
          </p:nvSpPr>
          <p:spPr>
            <a:xfrm>
              <a:off x="6400800" y="6019920"/>
              <a:ext cx="110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7"/>
            <p:cNvSpPr/>
            <p:nvPr/>
          </p:nvSpPr>
          <p:spPr>
            <a:xfrm>
              <a:off x="6400800" y="60199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7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9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Text Box 48"/>
          <p:cNvGrpSpPr/>
          <p:nvPr/>
        </p:nvGrpSpPr>
        <p:grpSpPr>
          <a:xfrm>
            <a:off x="7547040" y="5718240"/>
            <a:ext cx="1517760" cy="368280"/>
            <a:chOff x="7547040" y="5718240"/>
            <a:chExt cx="1517760" cy="368280"/>
          </a:xfrm>
        </p:grpSpPr>
        <p:pic>
          <p:nvPicPr>
            <p:cNvPr id="114" name="Text Box 48" descr=""/>
            <p:cNvPicPr/>
            <p:nvPr/>
          </p:nvPicPr>
          <p:blipFill>
            <a:blip r:embed="rId3"/>
            <a:stretch/>
          </p:blipFill>
          <p:spPr>
            <a:xfrm>
              <a:off x="7549920" y="5721120"/>
              <a:ext cx="151308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547040" y="5718240"/>
              <a:ext cx="151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6.34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4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61"/>
          <p:cNvGrpSpPr/>
          <p:nvPr/>
        </p:nvGrpSpPr>
        <p:grpSpPr>
          <a:xfrm>
            <a:off x="380880" y="914400"/>
            <a:ext cx="8607240" cy="1892160"/>
            <a:chOff x="380880" y="914400"/>
            <a:chExt cx="8607240" cy="1892160"/>
          </a:xfrm>
        </p:grpSpPr>
        <p:grpSp>
          <p:nvGrpSpPr>
            <p:cNvPr id="117" name="Group 51"/>
            <p:cNvGrpSpPr/>
            <p:nvPr/>
          </p:nvGrpSpPr>
          <p:grpSpPr>
            <a:xfrm>
              <a:off x="380880" y="1066680"/>
              <a:ext cx="8607240" cy="1739880"/>
              <a:chOff x="380880" y="1066680"/>
              <a:chExt cx="8607240" cy="1739880"/>
            </a:xfrm>
          </p:grpSpPr>
          <p:sp>
            <p:nvSpPr>
              <p:cNvPr id="118" name="Text Box 3"/>
              <p:cNvSpPr/>
              <p:nvPr/>
            </p:nvSpPr>
            <p:spPr>
              <a:xfrm>
                <a:off x="380880" y="1066680"/>
                <a:ext cx="15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ROBLEM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7"/>
              <p:cNvSpPr/>
              <p:nvPr/>
            </p:nvSpPr>
            <p:spPr>
              <a:xfrm>
                <a:off x="1931760" y="1066680"/>
                <a:ext cx="7056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 dental hygienist uses x-rays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 1.00A) to take a series of dental radiographs while the patient listens to a radio station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= 325 cm) and looks out the window at the blue sky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 473 nm).  What is the frequency (in s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-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) of the electromagnetic radiation from each source? (Assume that the radiation travels at the speed of light, 3.00x1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8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m/s.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56"/>
            <p:cNvSpPr/>
            <p:nvPr/>
          </p:nvSpPr>
          <p:spPr>
            <a:xfrm>
              <a:off x="6019920" y="914400"/>
              <a:ext cx="44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64"/>
          <p:cNvGrpSpPr/>
          <p:nvPr/>
        </p:nvGrpSpPr>
        <p:grpSpPr>
          <a:xfrm>
            <a:off x="4419720" y="3112920"/>
            <a:ext cx="838080" cy="2589480"/>
            <a:chOff x="4419720" y="3112920"/>
            <a:chExt cx="838080" cy="2589480"/>
          </a:xfrm>
        </p:grpSpPr>
        <p:sp>
          <p:nvSpPr>
            <p:cNvPr id="122" name="Text Box 17"/>
            <p:cNvSpPr/>
            <p:nvPr/>
          </p:nvSpPr>
          <p:spPr>
            <a:xfrm>
              <a:off x="4419720" y="4191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25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4419720" y="5334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73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63"/>
            <p:cNvGrpSpPr/>
            <p:nvPr/>
          </p:nvGrpSpPr>
          <p:grpSpPr>
            <a:xfrm>
              <a:off x="4419720" y="3112920"/>
              <a:ext cx="838080" cy="455760"/>
              <a:chOff x="4419720" y="3112920"/>
              <a:chExt cx="838080" cy="455760"/>
            </a:xfrm>
          </p:grpSpPr>
          <p:sp>
            <p:nvSpPr>
              <p:cNvPr id="125" name="Text Box 16"/>
              <p:cNvSpPr/>
              <p:nvPr/>
            </p:nvSpPr>
            <p:spPr>
              <a:xfrm>
                <a:off x="4419720" y="32004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.00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60"/>
              <p:cNvSpPr/>
              <p:nvPr/>
            </p:nvSpPr>
            <p:spPr>
              <a:xfrm>
                <a:off x="4800600" y="3112920"/>
                <a:ext cx="31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66"/>
          <p:cNvGrpSpPr/>
          <p:nvPr/>
        </p:nvGrpSpPr>
        <p:grpSpPr>
          <a:xfrm>
            <a:off x="5105520" y="3124080"/>
            <a:ext cx="990360" cy="673200"/>
            <a:chOff x="5105520" y="3124080"/>
            <a:chExt cx="990360" cy="673200"/>
          </a:xfrm>
        </p:grpSpPr>
        <p:sp>
          <p:nvSpPr>
            <p:cNvPr id="128" name="Text Box 19"/>
            <p:cNvSpPr/>
            <p:nvPr/>
          </p:nvSpPr>
          <p:spPr>
            <a:xfrm>
              <a:off x="5105520" y="31240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0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>
              <a:off x="5257800" y="34290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65"/>
            <p:cNvGrpSpPr/>
            <p:nvPr/>
          </p:nvGrpSpPr>
          <p:grpSpPr>
            <a:xfrm>
              <a:off x="5334120" y="3352680"/>
              <a:ext cx="473040" cy="444600"/>
              <a:chOff x="5334120" y="3352680"/>
              <a:chExt cx="473040" cy="444600"/>
            </a:xfrm>
          </p:grpSpPr>
          <p:sp>
            <p:nvSpPr>
              <p:cNvPr id="131" name="Text Box 20"/>
              <p:cNvSpPr/>
              <p:nvPr/>
            </p:nvSpPr>
            <p:spPr>
              <a:xfrm>
                <a:off x="5334120" y="34290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62"/>
              <p:cNvSpPr/>
              <p:nvPr/>
            </p:nvSpPr>
            <p:spPr>
              <a:xfrm>
                <a:off x="5495760" y="3352680"/>
                <a:ext cx="31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80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71600" y="4572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lculating the Energy of Radiation from Its Wave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3"/>
          <p:cNvGrpSpPr/>
          <p:nvPr/>
        </p:nvGrpSpPr>
        <p:grpSpPr>
          <a:xfrm>
            <a:off x="380880" y="1066680"/>
            <a:ext cx="8458200" cy="916920"/>
            <a:chOff x="380880" y="1066680"/>
            <a:chExt cx="8458200" cy="916920"/>
          </a:xfrm>
        </p:grpSpPr>
        <p:sp>
          <p:nvSpPr>
            <p:cNvPr id="137" name="Text Box 3"/>
            <p:cNvSpPr/>
            <p:nvPr/>
          </p:nvSpPr>
          <p:spPr>
            <a:xfrm>
              <a:off x="380880" y="10666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BLEM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7"/>
            <p:cNvSpPr/>
            <p:nvPr/>
          </p:nvSpPr>
          <p:spPr>
            <a:xfrm>
              <a:off x="1905120" y="1066680"/>
              <a:ext cx="6933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 cook uses a microwave oven to heat a meal.  The wavelength of the radiation is 1.20cm.  What is the energy of one photon of this microwave radiation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10"/>
          <p:cNvSpPr/>
          <p:nvPr/>
        </p:nvSpPr>
        <p:spPr>
          <a:xfrm>
            <a:off x="1295280" y="2133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fter converting cm to m, we can use the energy equation, E = 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mbined 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c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o find th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205740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 hc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21932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90512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.626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8098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228600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2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1828800" y="380988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4"/>
          <p:cNvGrpSpPr/>
          <p:nvPr/>
        </p:nvGrpSpPr>
        <p:grpSpPr>
          <a:xfrm>
            <a:off x="3276720" y="3809880"/>
            <a:ext cx="761760" cy="749520"/>
            <a:chOff x="3276720" y="3809880"/>
            <a:chExt cx="761760" cy="749520"/>
          </a:xfrm>
        </p:grpSpPr>
        <p:sp>
          <p:nvSpPr>
            <p:cNvPr id="147" name="Text Box 16"/>
            <p:cNvSpPr/>
            <p:nvPr/>
          </p:nvSpPr>
          <p:spPr>
            <a:xfrm>
              <a:off x="3352680" y="38098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7"/>
            <p:cNvSpPr/>
            <p:nvPr/>
          </p:nvSpPr>
          <p:spPr>
            <a:xfrm>
              <a:off x="3352680" y="41911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3276720" y="41911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20"/>
          <p:cNvSpPr/>
          <p:nvPr/>
        </p:nvSpPr>
        <p:spPr>
          <a:xfrm>
            <a:off x="3581280" y="34290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Text Box 21"/>
          <p:cNvGrpSpPr/>
          <p:nvPr/>
        </p:nvGrpSpPr>
        <p:grpSpPr>
          <a:xfrm>
            <a:off x="4876920" y="3584520"/>
            <a:ext cx="1523880" cy="368280"/>
            <a:chOff x="4876920" y="3584520"/>
            <a:chExt cx="1523880" cy="368280"/>
          </a:xfrm>
        </p:grpSpPr>
        <p:pic>
          <p:nvPicPr>
            <p:cNvPr id="152" name="Text Box 21" descr=""/>
            <p:cNvPicPr/>
            <p:nvPr/>
          </p:nvPicPr>
          <p:blipFill>
            <a:blip r:embed="rId1"/>
            <a:stretch/>
          </p:blipFill>
          <p:spPr>
            <a:xfrm>
              <a:off x="4876920" y="3587400"/>
              <a:ext cx="152388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876920" y="3584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1.66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3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icle or Wav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3208320" cy="288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5257800" y="1346040"/>
            <a:ext cx="3218040" cy="2948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1981080" y="4317840"/>
            <a:ext cx="320832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7" descr=""/>
          <p:cNvPicPr/>
          <p:nvPr/>
        </p:nvPicPr>
        <p:blipFill>
          <a:blip r:embed="rId4"/>
          <a:stretch/>
        </p:blipFill>
        <p:spPr>
          <a:xfrm>
            <a:off x="5257800" y="4324320"/>
            <a:ext cx="3191040" cy="253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9"/>
          <p:cNvSpPr/>
          <p:nvPr/>
        </p:nvSpPr>
        <p:spPr>
          <a:xfrm>
            <a:off x="380880" y="2597040"/>
            <a:ext cx="167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fferent behaviors of waves and part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9:33:34Z</dcterms:created>
  <dc:creator>Barbara Gage</dc:creator>
  <dc:description/>
  <dc:language>en-US</dc:language>
  <cp:lastModifiedBy>LEGION</cp:lastModifiedBy>
  <dcterms:modified xsi:type="dcterms:W3CDTF">2017-01-26T09:35:03Z</dcterms:modified>
  <cp:revision>49</cp:revision>
  <dc:subject/>
  <dc:title>Atomic Structure</dc:title>
</cp:coreProperties>
</file>