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313C-749E-4B93-A6EC-5E9CBBA49B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A7C-6C3B-4021-B662-6B8EA25B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351-8821-4700-BF1F-7C0AF535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B07-EC33-496F-AECC-F6BEBFCB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DE9-55FB-420A-B7AA-6B214463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E65-4EA5-4752-98EE-4DA59E90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766-981A-449F-A289-7E8565BC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EB5-D62F-43DC-9DBB-A953934F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1C0-D8C7-4F88-8D95-42AFB91B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0FB-1888-432D-82E4-EAEBA7AF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7BA-0374-406B-91D9-BAF26391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8E3-571B-49E3-9B74-49DC3A4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4F6-3730-41CD-9D05-340C207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D219-FB81-46D0-8DCF-62B05CEAA31E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99FE-45AC-4F25-8652-B0045FD12D8E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omic Structure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1142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It’s not about Dalton anym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atoms.jpg"/>
          <p:cNvPicPr/>
          <p:nvPr/>
        </p:nvPicPr>
        <p:blipFill>
          <a:blip r:embed="rId1"/>
          <a:stretch/>
        </p:blipFill>
        <p:spPr>
          <a:xfrm>
            <a:off x="2209680" y="1981080"/>
            <a:ext cx="44452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5680" cy="5213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3520" y="380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iffraction pattern caused by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ssing through two adjacent sl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ght falling on alkali metals causes electrons to be released from the meta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# of electrons depends on the intensity of ligh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specific wavelengths of light that cause the releas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is called th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hotoelectric effec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872080" cy="4952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instein’s interpretation of the photoelectric effect (1905) was that light is quantized in packets of set energy call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ot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He won the Nobel Prize for this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ant that light had characteristics of particl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s are particles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925, de Broglie stated that all particles have a wavelength described by the equation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h/p where p= moment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s show diffraction pattern when passing through a sl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 light and particles have a du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electrondiffraction.jpg"/>
          <p:cNvPicPr/>
          <p:nvPr/>
        </p:nvPicPr>
        <p:blipFill>
          <a:blip r:embed="rId1"/>
          <a:stretch/>
        </p:blipFill>
        <p:spPr>
          <a:xfrm>
            <a:off x="7548480" y="2666880"/>
            <a:ext cx="1595520" cy="3810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 to atomic structur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ready know an atom contains a nucleus with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Electrons orbit the nucle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known that atoms emit a unique spectrum of lines when excited.  Rydberg derived an equation that related the lin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is the Rydberg constant = 1.096776x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1600200" y="5181480"/>
            <a:ext cx="6477120" cy="1295640"/>
            <a:chOff x="1600200" y="5181480"/>
            <a:chExt cx="6477120" cy="1295640"/>
          </a:xfrm>
        </p:grpSpPr>
        <p:sp>
          <p:nvSpPr>
            <p:cNvPr id="179" name="Rectangle 25"/>
            <p:cNvSpPr/>
            <p:nvPr/>
          </p:nvSpPr>
          <p:spPr>
            <a:xfrm>
              <a:off x="1600200" y="5181480"/>
              <a:ext cx="6477120" cy="12956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72428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18184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1600200" y="55544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ydberg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624852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4191120" y="5364000"/>
              <a:ext cx="380880" cy="779760"/>
              <a:chOff x="4191120" y="5364000"/>
              <a:chExt cx="380880" cy="779760"/>
            </a:xfrm>
          </p:grpSpPr>
          <p:sp>
            <p:nvSpPr>
              <p:cNvPr id="185" name="Text Box 5"/>
              <p:cNvSpPr/>
              <p:nvPr/>
            </p:nvSpPr>
            <p:spPr>
              <a:xfrm>
                <a:off x="4191120" y="53640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"/>
              <p:cNvSpPr/>
              <p:nvPr/>
            </p:nvSpPr>
            <p:spPr>
              <a:xfrm>
                <a:off x="4191120" y="57448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4191120" y="57448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2"/>
            <p:cNvGrpSpPr/>
            <p:nvPr/>
          </p:nvGrpSpPr>
          <p:grpSpPr>
            <a:xfrm>
              <a:off x="6629760" y="5364000"/>
              <a:ext cx="533160" cy="821520"/>
              <a:chOff x="6629760" y="5364000"/>
              <a:chExt cx="533160" cy="821520"/>
            </a:xfrm>
          </p:grpSpPr>
          <p:sp>
            <p:nvSpPr>
              <p:cNvPr id="189" name="Text Box 10"/>
              <p:cNvSpPr/>
              <p:nvPr/>
            </p:nvSpPr>
            <p:spPr>
              <a:xfrm>
                <a:off x="670572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5"/>
              <p:cNvSpPr/>
              <p:nvPr/>
            </p:nvSpPr>
            <p:spPr>
              <a:xfrm>
                <a:off x="662976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>
                <a:off x="666756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1"/>
            <p:cNvGrpSpPr/>
            <p:nvPr/>
          </p:nvGrpSpPr>
          <p:grpSpPr>
            <a:xfrm>
              <a:off x="5715000" y="5364000"/>
              <a:ext cx="533160" cy="821520"/>
              <a:chOff x="5715000" y="5364000"/>
              <a:chExt cx="533160" cy="821520"/>
            </a:xfrm>
          </p:grpSpPr>
          <p:sp>
            <p:nvSpPr>
              <p:cNvPr id="193" name="Text Box 9"/>
              <p:cNvSpPr/>
              <p:nvPr/>
            </p:nvSpPr>
            <p:spPr>
              <a:xfrm>
                <a:off x="579096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4"/>
              <p:cNvSpPr/>
              <p:nvPr/>
            </p:nvSpPr>
            <p:spPr>
              <a:xfrm>
                <a:off x="571500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575280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me test colors derive from electrons changing energy lev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07_13_figure"/>
          <p:cNvPicPr/>
          <p:nvPr/>
        </p:nvPicPr>
        <p:blipFill>
          <a:blip r:embed="rId1"/>
          <a:stretch/>
        </p:blipFill>
        <p:spPr>
          <a:xfrm>
            <a:off x="298440" y="1411200"/>
            <a:ext cx="8547120" cy="40356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65818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eltube.jpg"/>
          <p:cNvPicPr/>
          <p:nvPr/>
        </p:nvPicPr>
        <p:blipFill>
          <a:blip r:embed="rId1"/>
          <a:stretch/>
        </p:blipFill>
        <p:spPr>
          <a:xfrm>
            <a:off x="0" y="0"/>
            <a:ext cx="2344680" cy="38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ydtube.jpg"/>
          <p:cNvPicPr/>
          <p:nvPr/>
        </p:nvPicPr>
        <p:blipFill>
          <a:blip r:embed="rId2"/>
          <a:stretch/>
        </p:blipFill>
        <p:spPr>
          <a:xfrm>
            <a:off x="3505320" y="0"/>
            <a:ext cx="25765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ertube.jpg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388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neoncomp.jpg"/>
          <p:cNvPicPr/>
          <p:nvPr/>
        </p:nvPicPr>
        <p:blipFill>
          <a:blip r:embed="rId4"/>
          <a:stretch/>
        </p:blipFill>
        <p:spPr>
          <a:xfrm>
            <a:off x="0" y="411480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ittube.jpg"/>
          <p:cNvPicPr/>
          <p:nvPr/>
        </p:nvPicPr>
        <p:blipFill>
          <a:blip r:embed="rId5"/>
          <a:stretch/>
        </p:blipFill>
        <p:spPr>
          <a:xfrm>
            <a:off x="5845320" y="4114800"/>
            <a:ext cx="329868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774880" y="419112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emission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wise from lower le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on, helium, hydr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cury, 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666880" y="4038480"/>
            <a:ext cx="3124440" cy="2133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07_20_figure"/>
          <p:cNvPicPr/>
          <p:nvPr/>
        </p:nvPicPr>
        <p:blipFill>
          <a:blip r:embed="rId1"/>
          <a:stretch/>
        </p:blipFill>
        <p:spPr>
          <a:xfrm>
            <a:off x="298440" y="1441440"/>
            <a:ext cx="8547120" cy="39751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7_11_figure"/>
          <p:cNvPicPr/>
          <p:nvPr/>
        </p:nvPicPr>
        <p:blipFill>
          <a:blip r:embed="rId1"/>
          <a:stretch/>
        </p:blipFill>
        <p:spPr>
          <a:xfrm>
            <a:off x="298440" y="274680"/>
            <a:ext cx="8547120" cy="63086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 lo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occupies its usual energy level it is in th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groun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absorbs a photon and moves to a higher energy level it is in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cite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nergy levels are “quantized”.  Atoms can only transition between set leve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the levels set where they a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rs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understand the electronic structure of the atom we need to review the properties of electromagnetic radi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heltube.jpg"/>
          <p:cNvPicPr/>
          <p:nvPr/>
        </p:nvPicPr>
        <p:blipFill>
          <a:blip r:embed="rId1"/>
          <a:stretch/>
        </p:blipFill>
        <p:spPr>
          <a:xfrm>
            <a:off x="1676520" y="3575160"/>
            <a:ext cx="5029200" cy="32828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generated regions occupied by an electron of set energy termed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bita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113440" cy="5638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049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motion in restricted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isenberg stated that in measuring the electron there is uncertainty so we can only calculate a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obable loc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electron.  This is called 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isenberg Uncertainty Princi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4572000" y="54100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on probability in the ground-state H a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07_23_figure"/>
          <p:cNvPicPr/>
          <p:nvPr/>
        </p:nvPicPr>
        <p:blipFill>
          <a:blip r:embed="rId1"/>
          <a:stretch/>
        </p:blipFill>
        <p:spPr>
          <a:xfrm>
            <a:off x="2209680" y="3643200"/>
            <a:ext cx="222120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7_22_figure"/>
          <p:cNvPicPr/>
          <p:nvPr/>
        </p:nvPicPr>
        <p:blipFill>
          <a:blip r:embed="rId2"/>
          <a:stretch/>
        </p:blipFill>
        <p:spPr>
          <a:xfrm>
            <a:off x="228600" y="228600"/>
            <a:ext cx="8547120" cy="334008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3657600" y="457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2p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07_26_figure"/>
          <p:cNvPicPr/>
          <p:nvPr/>
        </p:nvPicPr>
        <p:blipFill>
          <a:blip r:embed="rId1"/>
          <a:stretch/>
        </p:blipFill>
        <p:spPr>
          <a:xfrm>
            <a:off x="304920" y="1079640"/>
            <a:ext cx="8547120" cy="57783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352680" y="304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3d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07_27_figure"/>
          <p:cNvPicPr/>
          <p:nvPr/>
        </p:nvPicPr>
        <p:blipFill>
          <a:blip r:embed="rId1"/>
          <a:stretch/>
        </p:blipFill>
        <p:spPr>
          <a:xfrm>
            <a:off x="298440" y="914400"/>
            <a:ext cx="854712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07_28_figure"/>
          <p:cNvPicPr/>
          <p:nvPr/>
        </p:nvPicPr>
        <p:blipFill>
          <a:blip r:embed="rId1"/>
          <a:stretch/>
        </p:blipFill>
        <p:spPr>
          <a:xfrm>
            <a:off x="298440" y="765000"/>
            <a:ext cx="8547120" cy="532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13600" y="0"/>
            <a:ext cx="160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5"/>
          <p:cNvSpPr/>
          <p:nvPr/>
        </p:nvSpPr>
        <p:spPr>
          <a:xfrm>
            <a:off x="609480" y="3657600"/>
            <a:ext cx="815364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457200" y="838080"/>
            <a:ext cx="3200400" cy="2057400"/>
          </a:xfrm>
          <a:prstGeom prst="downArrowCallout">
            <a:avLst>
              <a:gd name="adj1" fmla="val 38892"/>
              <a:gd name="adj2" fmla="val 3888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68580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SS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t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ulate, m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096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, wave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05740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09480" y="2971800"/>
            <a:ext cx="8153640" cy="685800"/>
            <a:chOff x="609480" y="2971800"/>
            <a:chExt cx="8153640" cy="685800"/>
          </a:xfrm>
        </p:grpSpPr>
        <p:sp>
          <p:nvSpPr>
            <p:cNvPr id="249" name="Rectangle 23"/>
            <p:cNvSpPr/>
            <p:nvPr/>
          </p:nvSpPr>
          <p:spPr>
            <a:xfrm>
              <a:off x="609480" y="2971800"/>
              <a:ext cx="815364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1676520" y="2994120"/>
              <a:ext cx="53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is discontinuous and particulate perhaps energy is discontinuous and particul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"/>
          <p:cNvSpPr/>
          <p:nvPr/>
        </p:nvSpPr>
        <p:spPr>
          <a:xfrm>
            <a:off x="6858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767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0"/>
          <p:cNvGrpSpPr/>
          <p:nvPr/>
        </p:nvGrpSpPr>
        <p:grpSpPr>
          <a:xfrm>
            <a:off x="685800" y="4191120"/>
            <a:ext cx="8153280" cy="642600"/>
            <a:chOff x="685800" y="4191120"/>
            <a:chExt cx="8153280" cy="642600"/>
          </a:xfrm>
        </p:grpSpPr>
        <p:sp>
          <p:nvSpPr>
            <p:cNvPr id="254" name="Text Box 10"/>
            <p:cNvSpPr/>
            <p:nvPr/>
          </p:nvSpPr>
          <p:spPr>
            <a:xfrm>
              <a:off x="3352680" y="4191120"/>
              <a:ext cx="54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lanck:    Energy is quantized;  only certain valu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lackbody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19520" y="437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"/>
          <p:cNvGrpSpPr/>
          <p:nvPr/>
        </p:nvGrpSpPr>
        <p:grpSpPr>
          <a:xfrm>
            <a:off x="685800" y="4800600"/>
            <a:ext cx="8229600" cy="368280"/>
            <a:chOff x="685800" y="4800600"/>
            <a:chExt cx="8229600" cy="368280"/>
          </a:xfrm>
        </p:grpSpPr>
        <p:sp>
          <p:nvSpPr>
            <p:cNvPr id="258" name="Text Box 11"/>
            <p:cNvSpPr/>
            <p:nvPr/>
          </p:nvSpPr>
          <p:spPr>
            <a:xfrm>
              <a:off x="3352680" y="480060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:  Light has particulate behavior (photo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685800" y="48006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electric eff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819520" y="4983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2"/>
          <p:cNvGrpSpPr/>
          <p:nvPr/>
        </p:nvGrpSpPr>
        <p:grpSpPr>
          <a:xfrm>
            <a:off x="685800" y="5257800"/>
            <a:ext cx="8229600" cy="642600"/>
            <a:chOff x="685800" y="5257800"/>
            <a:chExt cx="8229600" cy="642600"/>
          </a:xfrm>
        </p:grpSpPr>
        <p:sp>
          <p:nvSpPr>
            <p:cNvPr id="262" name="Text Box 12"/>
            <p:cNvSpPr/>
            <p:nvPr/>
          </p:nvSpPr>
          <p:spPr>
            <a:xfrm>
              <a:off x="3352680" y="525780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ohr:       Energy of atoms is quantized;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mitted when electron changes orb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685800" y="52578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ic line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819520" y="5442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7"/>
          <p:cNvSpPr/>
          <p:nvPr/>
        </p:nvSpPr>
        <p:spPr>
          <a:xfrm>
            <a:off x="3962520" y="99072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mmary of the major observations and theories leading from classical theory to quantum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533520" y="1295280"/>
            <a:ext cx="81532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533520" y="762120"/>
            <a:ext cx="8153280" cy="457200"/>
            <a:chOff x="533520" y="762120"/>
            <a:chExt cx="8153280" cy="457200"/>
          </a:xfrm>
        </p:grpSpPr>
        <p:sp>
          <p:nvSpPr>
            <p:cNvPr id="269" name="Rectangle 3"/>
            <p:cNvSpPr/>
            <p:nvPr/>
          </p:nvSpPr>
          <p:spPr>
            <a:xfrm>
              <a:off x="533520" y="76212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"/>
            <p:cNvSpPr/>
            <p:nvPr/>
          </p:nvSpPr>
          <p:spPr>
            <a:xfrm>
              <a:off x="1600200" y="78408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energy is wavelike perhaps matter is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5"/>
          <p:cNvSpPr/>
          <p:nvPr/>
        </p:nvSpPr>
        <p:spPr>
          <a:xfrm>
            <a:off x="609480" y="1371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2004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1"/>
          <p:cNvGrpSpPr/>
          <p:nvPr/>
        </p:nvGrpSpPr>
        <p:grpSpPr>
          <a:xfrm>
            <a:off x="609480" y="1828800"/>
            <a:ext cx="8153640" cy="1191240"/>
            <a:chOff x="609480" y="1828800"/>
            <a:chExt cx="8153640" cy="1191240"/>
          </a:xfrm>
        </p:grpSpPr>
        <p:sp>
          <p:nvSpPr>
            <p:cNvPr id="274" name="Text Box 8"/>
            <p:cNvSpPr/>
            <p:nvPr/>
          </p:nvSpPr>
          <p:spPr>
            <a:xfrm>
              <a:off x="3276720" y="1828800"/>
              <a:ext cx="548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Broglie:  All matter travels in waves; energ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 is quantized due to wave mo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of elec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609480" y="18288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visson/Germer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lectron diffrac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y metal crys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H="1">
              <a:off x="2819520" y="2362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457200" y="3505320"/>
            <a:ext cx="82296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4"/>
          <p:cNvGrpSpPr/>
          <p:nvPr/>
        </p:nvGrpSpPr>
        <p:grpSpPr>
          <a:xfrm>
            <a:off x="533520" y="2971800"/>
            <a:ext cx="8153280" cy="457200"/>
            <a:chOff x="533520" y="2971800"/>
            <a:chExt cx="8153280" cy="457200"/>
          </a:xfrm>
        </p:grpSpPr>
        <p:sp>
          <p:nvSpPr>
            <p:cNvPr id="279" name="Rectangle 15"/>
            <p:cNvSpPr/>
            <p:nvPr/>
          </p:nvSpPr>
          <p:spPr>
            <a:xfrm>
              <a:off x="533520" y="297180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1600200" y="299412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has mass perhaps energy has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609480" y="3581280"/>
            <a:ext cx="4114800" cy="368280"/>
            <a:chOff x="609480" y="3581280"/>
            <a:chExt cx="4114800" cy="368280"/>
          </a:xfrm>
        </p:grpSpPr>
        <p:sp>
          <p:nvSpPr>
            <p:cNvPr id="282" name="Text Box 17"/>
            <p:cNvSpPr/>
            <p:nvPr/>
          </p:nvSpPr>
          <p:spPr>
            <a:xfrm>
              <a:off x="609480" y="3581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3200400" y="3581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3"/>
          <p:cNvGrpSpPr/>
          <p:nvPr/>
        </p:nvGrpSpPr>
        <p:grpSpPr>
          <a:xfrm>
            <a:off x="609480" y="4038480"/>
            <a:ext cx="8153640" cy="1465560"/>
            <a:chOff x="609480" y="4038480"/>
            <a:chExt cx="8153640" cy="1465560"/>
          </a:xfrm>
        </p:grpSpPr>
        <p:sp>
          <p:nvSpPr>
            <p:cNvPr id="285" name="Text Box 19"/>
            <p:cNvSpPr/>
            <p:nvPr/>
          </p:nvSpPr>
          <p:spPr>
            <a:xfrm>
              <a:off x="3276720" y="40384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/deBroglie:  Mass and energy a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ivalent; particles have wavelength and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ns have momentu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609480" y="4038480"/>
              <a:ext cx="2438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mpton: 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avelength increases (momentum decreases) after colliding with 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2971800" y="45720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4000680" y="5181480"/>
            <a:ext cx="3695400" cy="1295640"/>
            <a:chOff x="4000680" y="5181480"/>
            <a:chExt cx="3695400" cy="1295640"/>
          </a:xfrm>
        </p:grpSpPr>
        <p:sp>
          <p:nvSpPr>
            <p:cNvPr id="289" name="Rectangle 27"/>
            <p:cNvSpPr/>
            <p:nvPr/>
          </p:nvSpPr>
          <p:spPr>
            <a:xfrm>
              <a:off x="4000680" y="5181480"/>
              <a:ext cx="3657600" cy="129564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75294"/>
                  </a:srgbClr>
                </a:gs>
                <a:gs pos="100000">
                  <a:srgbClr val="be2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4610160" y="53341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UM 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4000680" y="571500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same as M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culate, massive,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4444920" cy="609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335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895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equency an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4572000"/>
            <a:ext cx="2514600" cy="14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 = speed of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04920" y="60948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 Wa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9"/>
          <p:cNvGrpSpPr/>
          <p:nvPr/>
        </p:nvGrpSpPr>
        <p:grpSpPr>
          <a:xfrm>
            <a:off x="152280" y="0"/>
            <a:ext cx="6553440" cy="5407200"/>
            <a:chOff x="152280" y="0"/>
            <a:chExt cx="6553440" cy="540720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556308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3"/>
            <p:cNvSpPr/>
            <p:nvPr/>
          </p:nvSpPr>
          <p:spPr>
            <a:xfrm>
              <a:off x="152280" y="1404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057400" y="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mplitude (intensity) of a wa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361960" y="2971800"/>
              <a:ext cx="4038840" cy="22860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523880" y="990360"/>
              <a:ext cx="3295800" cy="1884240"/>
              <a:chOff x="1523880" y="990360"/>
              <a:chExt cx="3295800" cy="1884240"/>
            </a:xfrm>
          </p:grpSpPr>
          <p:sp>
            <p:nvSpPr>
              <p:cNvPr id="68" name="Rectangle 8"/>
              <p:cNvSpPr/>
              <p:nvPr/>
            </p:nvSpPr>
            <p:spPr>
              <a:xfrm>
                <a:off x="1523880" y="990360"/>
                <a:ext cx="609840" cy="182880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"/>
              <p:cNvSpPr/>
              <p:nvPr/>
            </p:nvSpPr>
            <p:spPr>
              <a:xfrm>
                <a:off x="4210200" y="2133360"/>
                <a:ext cx="609480" cy="74124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10"/>
          <p:cNvSpPr/>
          <p:nvPr/>
        </p:nvSpPr>
        <p:spPr>
          <a:xfrm>
            <a:off x="-21960" y="5715000"/>
            <a:ext cx="88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height or amplitude determines radiation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length is related to the energy of the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nd Ener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creases, what happened to the energy of the radi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here h = Planck’s const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626 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g/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2038320" y="3225960"/>
            <a:ext cx="3016440" cy="1269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20034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s of the electromagnetic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68440" y="304920"/>
            <a:ext cx="802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finite number of wavelength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magnetic radiation have been class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o groups as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07_05_figure"/>
          <p:cNvPicPr/>
          <p:nvPr/>
        </p:nvPicPr>
        <p:blipFill>
          <a:blip r:embed="rId1"/>
          <a:stretch/>
        </p:blipFill>
        <p:spPr>
          <a:xfrm>
            <a:off x="304920" y="2846520"/>
            <a:ext cx="8547120" cy="4011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43000" y="457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converting Wavelength an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7160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5181480" y="4114800"/>
            <a:ext cx="838080" cy="672840"/>
            <a:chOff x="5181480" y="4114800"/>
            <a:chExt cx="838080" cy="672840"/>
          </a:xfrm>
        </p:grpSpPr>
        <p:sp>
          <p:nvSpPr>
            <p:cNvPr id="84" name="Text Box 21"/>
            <p:cNvSpPr/>
            <p:nvPr/>
          </p:nvSpPr>
          <p:spPr>
            <a:xfrm>
              <a:off x="5181480" y="4114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2"/>
            <p:cNvSpPr/>
            <p:nvPr/>
          </p:nvSpPr>
          <p:spPr>
            <a:xfrm>
              <a:off x="5295960" y="441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219640" y="4458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5181480" y="5181480"/>
            <a:ext cx="838080" cy="673200"/>
            <a:chOff x="5181480" y="5181480"/>
            <a:chExt cx="838080" cy="673200"/>
          </a:xfrm>
        </p:grpSpPr>
        <p:sp>
          <p:nvSpPr>
            <p:cNvPr id="88" name="Text Box 23"/>
            <p:cNvSpPr/>
            <p:nvPr/>
          </p:nvSpPr>
          <p:spPr>
            <a:xfrm>
              <a:off x="5181480" y="5181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518148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5219640" y="549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1"/>
          <p:cNvSpPr/>
          <p:nvPr/>
        </p:nvSpPr>
        <p:spPr>
          <a:xfrm>
            <a:off x="60199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0199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021360" y="534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47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9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63244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6362640" y="388620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ext Box 38"/>
          <p:cNvGrpSpPr/>
          <p:nvPr/>
        </p:nvGrpSpPr>
        <p:grpSpPr>
          <a:xfrm>
            <a:off x="7699320" y="3657600"/>
            <a:ext cx="1218960" cy="368280"/>
            <a:chOff x="7699320" y="3657600"/>
            <a:chExt cx="1218960" cy="368280"/>
          </a:xfrm>
        </p:grpSpPr>
        <p:pic>
          <p:nvPicPr>
            <p:cNvPr id="99" name="Text Box 38" descr=""/>
            <p:cNvPicPr/>
            <p:nvPr/>
          </p:nvPicPr>
          <p:blipFill>
            <a:blip r:embed="rId1"/>
            <a:stretch/>
          </p:blipFill>
          <p:spPr>
            <a:xfrm>
              <a:off x="7702200" y="3657600"/>
              <a:ext cx="12160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99320" y="365760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9"/>
          <p:cNvSpPr/>
          <p:nvPr/>
        </p:nvSpPr>
        <p:spPr>
          <a:xfrm>
            <a:off x="5867280" y="472428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5867280" y="57913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6324480" y="4952880"/>
            <a:ext cx="10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63244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 Box 44"/>
          <p:cNvGrpSpPr/>
          <p:nvPr/>
        </p:nvGrpSpPr>
        <p:grpSpPr>
          <a:xfrm>
            <a:off x="7547040" y="4724280"/>
            <a:ext cx="1517400" cy="368280"/>
            <a:chOff x="7547040" y="4724280"/>
            <a:chExt cx="1517400" cy="368280"/>
          </a:xfrm>
        </p:grpSpPr>
        <p:pic>
          <p:nvPicPr>
            <p:cNvPr id="107" name="Text Box 44" descr=""/>
            <p:cNvPicPr/>
            <p:nvPr/>
          </p:nvPicPr>
          <p:blipFill>
            <a:blip r:embed="rId2"/>
            <a:stretch/>
          </p:blipFill>
          <p:spPr>
            <a:xfrm>
              <a:off x="7549920" y="4724280"/>
              <a:ext cx="151452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47040" y="472428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9.2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7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5"/>
          <p:cNvGrpSpPr/>
          <p:nvPr/>
        </p:nvGrpSpPr>
        <p:grpSpPr>
          <a:xfrm>
            <a:off x="6400800" y="5638680"/>
            <a:ext cx="1371600" cy="749520"/>
            <a:chOff x="6400800" y="5638680"/>
            <a:chExt cx="1371600" cy="749520"/>
          </a:xfrm>
        </p:grpSpPr>
        <p:sp>
          <p:nvSpPr>
            <p:cNvPr id="110" name="Text Box 45"/>
            <p:cNvSpPr/>
            <p:nvPr/>
          </p:nvSpPr>
          <p:spPr>
            <a:xfrm>
              <a:off x="6400800" y="5638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6400800" y="6019920"/>
              <a:ext cx="11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6400800" y="6019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Text Box 48"/>
          <p:cNvGrpSpPr/>
          <p:nvPr/>
        </p:nvGrpSpPr>
        <p:grpSpPr>
          <a:xfrm>
            <a:off x="7547040" y="5718240"/>
            <a:ext cx="1517760" cy="368280"/>
            <a:chOff x="7547040" y="5718240"/>
            <a:chExt cx="1517760" cy="368280"/>
          </a:xfrm>
        </p:grpSpPr>
        <p:pic>
          <p:nvPicPr>
            <p:cNvPr id="114" name="Text Box 48" descr=""/>
            <p:cNvPicPr/>
            <p:nvPr/>
          </p:nvPicPr>
          <p:blipFill>
            <a:blip r:embed="rId3"/>
            <a:stretch/>
          </p:blipFill>
          <p:spPr>
            <a:xfrm>
              <a:off x="7549920" y="5721120"/>
              <a:ext cx="15130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47040" y="5718240"/>
              <a:ext cx="151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6.34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1"/>
          <p:cNvGrpSpPr/>
          <p:nvPr/>
        </p:nvGrpSpPr>
        <p:grpSpPr>
          <a:xfrm>
            <a:off x="380880" y="914400"/>
            <a:ext cx="8607240" cy="1892160"/>
            <a:chOff x="380880" y="914400"/>
            <a:chExt cx="8607240" cy="1892160"/>
          </a:xfrm>
        </p:grpSpPr>
        <p:grpSp>
          <p:nvGrpSpPr>
            <p:cNvPr id="117" name="Group 51"/>
            <p:cNvGrpSpPr/>
            <p:nvPr/>
          </p:nvGrpSpPr>
          <p:grpSpPr>
            <a:xfrm>
              <a:off x="380880" y="1066680"/>
              <a:ext cx="8607240" cy="1739880"/>
              <a:chOff x="380880" y="1066680"/>
              <a:chExt cx="8607240" cy="1739880"/>
            </a:xfrm>
          </p:grpSpPr>
          <p:sp>
            <p:nvSpPr>
              <p:cNvPr id="118" name="Text Box 3"/>
              <p:cNvSpPr/>
              <p:nvPr/>
            </p:nvSpPr>
            <p:spPr>
              <a:xfrm>
                <a:off x="380880" y="1066680"/>
                <a:ext cx="15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BLEM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1931760" y="1066680"/>
                <a:ext cx="7056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 dental hygienist uses x-rays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1.00A) to take a series of dental radiographs while the patient listens to a radio station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= 325 cm) and looks out the window at the blue sky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473 nm).  What is the frequency (in 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 of the electromagnetic radiation from each source? (Assume that the radiation travels at the speed of light, 3.00x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8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/s.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6"/>
            <p:cNvSpPr/>
            <p:nvPr/>
          </p:nvSpPr>
          <p:spPr>
            <a:xfrm>
              <a:off x="6019920" y="914400"/>
              <a:ext cx="44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4"/>
          <p:cNvGrpSpPr/>
          <p:nvPr/>
        </p:nvGrpSpPr>
        <p:grpSpPr>
          <a:xfrm>
            <a:off x="4419720" y="3112920"/>
            <a:ext cx="838080" cy="2589480"/>
            <a:chOff x="4419720" y="3112920"/>
            <a:chExt cx="838080" cy="2589480"/>
          </a:xfrm>
        </p:grpSpPr>
        <p:sp>
          <p:nvSpPr>
            <p:cNvPr id="122" name="Text Box 17"/>
            <p:cNvSpPr/>
            <p:nvPr/>
          </p:nvSpPr>
          <p:spPr>
            <a:xfrm>
              <a:off x="44197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5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4419720" y="5334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63"/>
            <p:cNvGrpSpPr/>
            <p:nvPr/>
          </p:nvGrpSpPr>
          <p:grpSpPr>
            <a:xfrm>
              <a:off x="4419720" y="3112920"/>
              <a:ext cx="838080" cy="455760"/>
              <a:chOff x="4419720" y="3112920"/>
              <a:chExt cx="838080" cy="455760"/>
            </a:xfrm>
          </p:grpSpPr>
          <p:sp>
            <p:nvSpPr>
              <p:cNvPr id="125" name="Text Box 16"/>
              <p:cNvSpPr/>
              <p:nvPr/>
            </p:nvSpPr>
            <p:spPr>
              <a:xfrm>
                <a:off x="4419720" y="3200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.00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0"/>
              <p:cNvSpPr/>
              <p:nvPr/>
            </p:nvSpPr>
            <p:spPr>
              <a:xfrm>
                <a:off x="4800600" y="3112920"/>
                <a:ext cx="31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6"/>
          <p:cNvGrpSpPr/>
          <p:nvPr/>
        </p:nvGrpSpPr>
        <p:grpSpPr>
          <a:xfrm>
            <a:off x="5105520" y="3124080"/>
            <a:ext cx="990360" cy="673200"/>
            <a:chOff x="5105520" y="3124080"/>
            <a:chExt cx="990360" cy="673200"/>
          </a:xfrm>
        </p:grpSpPr>
        <p:sp>
          <p:nvSpPr>
            <p:cNvPr id="128" name="Text Box 19"/>
            <p:cNvSpPr/>
            <p:nvPr/>
          </p:nvSpPr>
          <p:spPr>
            <a:xfrm>
              <a:off x="5105520" y="3124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0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525780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65"/>
            <p:cNvGrpSpPr/>
            <p:nvPr/>
          </p:nvGrpSpPr>
          <p:grpSpPr>
            <a:xfrm>
              <a:off x="5334120" y="3352680"/>
              <a:ext cx="473040" cy="444600"/>
              <a:chOff x="5334120" y="3352680"/>
              <a:chExt cx="473040" cy="444600"/>
            </a:xfrm>
          </p:grpSpPr>
          <p:sp>
            <p:nvSpPr>
              <p:cNvPr id="131" name="Text Box 20"/>
              <p:cNvSpPr/>
              <p:nvPr/>
            </p:nvSpPr>
            <p:spPr>
              <a:xfrm>
                <a:off x="5334120" y="3429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5495760" y="33526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71600" y="457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lculating the Energy of Radiation from Its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380880" y="1066680"/>
            <a:ext cx="8458200" cy="916920"/>
            <a:chOff x="380880" y="1066680"/>
            <a:chExt cx="8458200" cy="916920"/>
          </a:xfrm>
        </p:grpSpPr>
        <p:sp>
          <p:nvSpPr>
            <p:cNvPr id="137" name="Text Box 3"/>
            <p:cNvSpPr/>
            <p:nvPr/>
          </p:nvSpPr>
          <p:spPr>
            <a:xfrm>
              <a:off x="380880" y="10666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905120" y="1066680"/>
              <a:ext cx="693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cook uses a microwave oven to heat a meal.  The wavelength of the radiation is 1.20cm.  What is the energy of one photon of this microwave radiatio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1295280" y="2133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converting cm to m, we can use the energy equation, E =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mbined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find th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0574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 h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9051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62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98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1828800" y="38098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3276720" y="3809880"/>
            <a:ext cx="761760" cy="749520"/>
            <a:chOff x="3276720" y="3809880"/>
            <a:chExt cx="761760" cy="749520"/>
          </a:xfrm>
        </p:grpSpPr>
        <p:sp>
          <p:nvSpPr>
            <p:cNvPr id="147" name="Text Box 16"/>
            <p:cNvSpPr/>
            <p:nvPr/>
          </p:nvSpPr>
          <p:spPr>
            <a:xfrm>
              <a:off x="3352680" y="3809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52680" y="41911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3276720" y="4191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3581280" y="3429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 Box 21"/>
          <p:cNvGrpSpPr/>
          <p:nvPr/>
        </p:nvGrpSpPr>
        <p:grpSpPr>
          <a:xfrm>
            <a:off x="4876920" y="3584520"/>
            <a:ext cx="1523880" cy="368280"/>
            <a:chOff x="4876920" y="3584520"/>
            <a:chExt cx="1523880" cy="368280"/>
          </a:xfrm>
        </p:grpSpPr>
        <p:pic>
          <p:nvPicPr>
            <p:cNvPr id="152" name="Text Box 21" descr=""/>
            <p:cNvPicPr/>
            <p:nvPr/>
          </p:nvPicPr>
          <p:blipFill>
            <a:blip r:embed="rId1"/>
            <a:stretch/>
          </p:blipFill>
          <p:spPr>
            <a:xfrm>
              <a:off x="4876920" y="3587400"/>
              <a:ext cx="15238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876920" y="3584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.66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3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le or Wav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3208320" cy="28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346040"/>
            <a:ext cx="3218040" cy="294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1981080" y="4317840"/>
            <a:ext cx="320832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5257800" y="4324320"/>
            <a:ext cx="319104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9"/>
          <p:cNvSpPr/>
          <p:nvPr/>
        </p:nvSpPr>
        <p:spPr>
          <a:xfrm>
            <a:off x="380880" y="259704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erent behaviors of waves and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33:34Z</dcterms:created>
  <dc:creator>Barbara Gage</dc:creator>
  <dc:description/>
  <dc:language>en-US</dc:language>
  <cp:lastModifiedBy>LEGION</cp:lastModifiedBy>
  <dcterms:modified xsi:type="dcterms:W3CDTF">2017-01-26T09:35:03Z</dcterms:modified>
  <cp:revision>49</cp:revision>
  <dc:subject/>
  <dc:title>Atomic Structure</dc:title>
</cp:coreProperties>
</file>