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CF20-425F-47D5-A47B-27B890AB6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-Base Neutr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-Base Ti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cid-Base Neutraliz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uffer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cid-Base Titr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N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mL of 2.00 M H2SO4  are required to neutralize 50.0 mL of 1.00 M KO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SO4   + 2KOH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2SO4  +  2H2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500 L x 1.00 mole KOH  x 1 mole H2SO4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2 mole K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L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      1000 mL   =    12.5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ole KO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1 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ution N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ow many mL of 2.00 M H2SO4  are required to neutralize 50.0 mL of 1.00 M KOH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2SO4   + 2KOH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K2SO4  +  2H2O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.0500 L x 1.00 mole KOH  x 1 mole H2SO4 x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L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2 mole KOH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L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x       1000 mL   =    12.5 mL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 mole KOH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1 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N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5 mL sample of phosphoric acid is neutralized by 40. mL of 1.5 M NaOH.  What is the molarity of the phosphoric acid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aOH   +  H3PO4           Na3PO4  +  3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0.45 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0.80 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7.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 N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 25 mL sample of phosphoric acid is neutralized by 40. mL of 1.5 M NaOH.  What is the molarity of the phosphoric acid solution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NaOH   +  H3PO4           Na3PO4  +  3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)  0.45 M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) 0.80 M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)  7.2 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S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40 L x 1.5 mole NaOH x 1 mole H3P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3 mole Na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        1            =    0.80 mol/L  = 0.8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25 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ution S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.040 L x 1.5 mole NaOH x 1 mole H3PO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3 mole NaOH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x        1            =    0.80 mol/L  = 0.80 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.025 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utralization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hen acid and bases with equal amounts of hydrogen ion H+ and hydroxide ions OH- are mixed, the resulting solution is neut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 (aq)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   HCl(aq)          NaCl   +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sal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(OH)2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  2 HC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CaCl2   + 2H2O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sal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eutralization React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hen acid and bases with equal amounts of hydrogen ion H+ and hydroxide ions OH- are mixed, the resulting solution is neutral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aOH (aq)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+   HCl(aq)          NaCl   +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ase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acid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salt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wat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a(OH)2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+  2 HC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CaCl2   + 2H2O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ase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acid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salt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wat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utr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 and OH- combine to produc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          +        OH-                    2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rom acid            from 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t ionic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+               +       OH-                   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eutraliz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3O+ and OH- combine to produce wat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3O+          +        OH-                    2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rom acid            from base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neutral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et ionic equation: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+               +       OH-                   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 Equations for Neutr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strong acids, bases, and salt as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+ +  Cl-   +  Na+ +   OH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 +  Cl-   +  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 out matched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+ +  Cl-   +  Na+ +   OH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 +  Cl-   +  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net ionic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+     +      OH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onic Equations for Neutraliz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strong acids, bases, and salt as 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+ +  Cl-   +  Na+ +   OH-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a+ +  Cl-   +  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ross out matched 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+ +  Cl-   +  Na+ +   OH-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a+ +  Cl-   +  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a net ionic reac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+     +      OH-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ing Neutralization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equation for the neutralization between magnesium hydroxide and nitric aci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rite the formulas of the acid and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(OH)2    +       HNO3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Balance to give equal OH- and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(OH)2    +       2 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alancing Neutralization Equat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the equation for the neutralization between magnesium hydroxide and nitric acid.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.  Write the formulas of the acid and bas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g(OH)2    +       HNO3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.  Balance to give equal OH- and H+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g(OH)2    +       2 HNO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rite the produ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(OH)2    +   2HNO3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Mg(NO3)2  +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etal and nonmetal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Balanc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(OH)2    +   2 HNO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Mg(NO3)2  +  2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. Write the products: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g(OH)2    +   2HNO3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Mg(NO3)2  +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alt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(metal and nonmetal)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4. Balance product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g(OH)2    +   2 HNO3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Mg(NO3)2  +  2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the correct group of coefficients for the following neutralization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 HCl  + __ Al(OH)3              __AlCl3  +  __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1, 3, 3,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3, 1, 1, 1       3)  3, 1, 1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__ Ba(OH)2  + __H3PO4         __Ba3(PO4)2  +  __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3, 2, 2, 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3, 3, 1, 6       3)  2, 3, 1,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 N2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elect the correct group of coefficients for the following neutralization equation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__ HCl  + __ Al(OH)3              __AlCl3  +  __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)  1, 3, 3, 1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)  3, 1, 1, 1       3)  3, 1, 1 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.__ Ba(OH)2  + __H3PO4         __Ba3(PO4)2  +  __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)  3, 2, 2, 2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)  3, 3, 1, 6       3)  2, 3, 1, 6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olution 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 3HCl  +   1Al(OH)3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AlCl3  + 3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 3Ba(OH)2  +  2H3PO4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1Ba3(PO4)2  +  6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Solution N2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A.  3HCl  +   1Al(OH)3 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1AlCl3  + 3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B.  3Ba(OH)2  +  2H3PO4 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  1Ba3(PO4)2  +  6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N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balanced equation and calculate the mL of 2.00 M H2SO4  required to neutralize 50.0 mL of 1.00 M KO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H2SO4   + ___KOH       ___K2SO4  +  H2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5 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2)  50.0 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 200.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 N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a balanced equation and calculate the mL of 2.00 M H2SO4  required to neutralize 50.0 mL of 1.00 M KOH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___H2SO4   + ___KOH       ___K2SO4  +  H2O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)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2.5 m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2)  50.0 m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)   200. mL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BE13-2737-4E8A-8681-87ABCE91F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946D-0DCA-4DC7-B58D-AD678C4C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A1EF-19E8-4F73-8E0B-79C24817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F5CA-78C6-4BB9-8C78-B5E37754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71E9-A14D-40B0-BD9A-EDAA4AE5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F5C8-9997-478E-A155-60F7B052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6220-1030-4E97-998B-3E21A27E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F08E-2EBB-4D33-B85A-4CB6ED75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6781-C1B9-4BC8-9435-E2BA0E37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A0C1-961C-4C13-B68A-FA1DE5FC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2036-F703-441D-ACE1-F5FAC3F1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35A1-1FBF-43E4-AB57-E6BB94BD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2BA4-D972-4257-BF76-A1B9D10FF3BB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04AE-E110-4966-8C2A-01A20E7A7061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A7F7-AF1C-4980-BBD7-D422F9BA059C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Acid-Base Neutraliz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Buffer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Acid-Base Titr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AE5F-375F-4C37-BB19-753E25A18A5C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N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ow many mL of 2.00 M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are required to neutralize 50.0 mL of 1.00 M KOH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+ 2KOH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2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0.0500 L x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1.00 mole KOH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x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1 mole H</a:t>
            </a:r>
            <a:r>
              <a:rPr b="1" lang="en-US" sz="3000" spc="-1" strike="noStrike" u="sng" baseline="-25000">
                <a:solidFill>
                  <a:srgbClr val="ff9900"/>
                </a:solidFill>
                <a:uFillTx/>
                <a:latin typeface="Arial"/>
              </a:rPr>
              <a:t>2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SO</a:t>
            </a:r>
            <a:r>
              <a:rPr b="1" lang="en-US" sz="3000" spc="-1" strike="noStrike" u="sng" baseline="-25000">
                <a:solidFill>
                  <a:srgbClr val="ff9900"/>
                </a:solidFill>
                <a:uFillTx/>
                <a:latin typeface="Arial"/>
              </a:rPr>
              <a:t>4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x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 L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 2 mole KOH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 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1 L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x    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  1000 mL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=    12.5 m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 mole KOH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1 L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4191120" y="350532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CDD2-A088-4514-9944-087F3CA55DD9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N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 25 mL sample of phosphoric acid is neutralized by 40. mL of 1.5 M NaOH.  What is the molarity of the phosphoric acid solution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3NaOH   +  H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PO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         Na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PO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+  3H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0.45 M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0.80 M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 7.2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4114800" y="4267080"/>
            <a:ext cx="6858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B159-09E4-4D03-AC74-82024EA2A869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S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0.040 L x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.5 mole Na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x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 mole H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3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PO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 L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3 mole NaOH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x 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    1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=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0.80 mol/L  = 0.80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0.025 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3B97-22A0-4A1D-B1B9-498E8096314D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eutralization Reac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en acid and bases with equal amounts of hydrogen ion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nd hydroxide ions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re mixed, the resulting solution is neutral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aOH (aq)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   HCl(aq)          NaCl   +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base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 acid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salt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 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  2 HC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Ca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+ 2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base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    acid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salt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    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Line 1028"/>
          <p:cNvSpPr/>
          <p:nvPr/>
        </p:nvSpPr>
        <p:spPr>
          <a:xfrm>
            <a:off x="5105520" y="4038480"/>
            <a:ext cx="6858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Line 1029"/>
          <p:cNvSpPr/>
          <p:nvPr/>
        </p:nvSpPr>
        <p:spPr>
          <a:xfrm>
            <a:off x="4952880" y="5486400"/>
            <a:ext cx="6858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04DB-2405-4E90-8149-A7DAD029632D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10480" cy="1067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utraliz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nd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mbine to produce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+       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en-US" sz="30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2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from acid            from base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neutra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Net ionic equation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     +      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en-US" sz="30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1" name="Object 4" descr=""/>
          <p:cNvPicPr/>
          <p:nvPr/>
        </p:nvPicPr>
        <p:blipFill>
          <a:blip r:embed="rId1"/>
          <a:stretch/>
        </p:blipFill>
        <p:spPr>
          <a:xfrm>
            <a:off x="6629400" y="685800"/>
            <a:ext cx="2286000" cy="13572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F943-2C49-4933-B755-550BD495EB50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1371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onic Equations for Neutraliz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Write strong acids, bases, and salt as 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Cl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  N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Cl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+  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Cross out matched 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</a:t>
            </a:r>
            <a:r>
              <a:rPr b="1" lang="en-US" sz="2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Na</a:t>
            </a:r>
            <a:r>
              <a:rPr b="1" lang="en-US" sz="2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Na</a:t>
            </a:r>
            <a:r>
              <a:rPr b="1" lang="en-US" sz="2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+  Cl</a:t>
            </a:r>
            <a:r>
              <a:rPr b="1" lang="en-US" sz="2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+  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Write a net ionic react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   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1752480" y="4191120"/>
            <a:ext cx="457200" cy="609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>
            <a:off x="2819520" y="4191120"/>
            <a:ext cx="457200" cy="7617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5410080" y="4191120"/>
            <a:ext cx="533520" cy="609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6400800" y="4114800"/>
            <a:ext cx="533520" cy="762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4572000" y="2895480"/>
            <a:ext cx="533520" cy="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4724280" y="4419720"/>
            <a:ext cx="533520" cy="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4114800" y="5867280"/>
            <a:ext cx="533520" cy="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FEAA-E609-4D9E-B9C0-E300BD1A6D10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lancing Neutralization Equa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rite the equation for the neutralization between magnesium hydroxide and nitric acid.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 Write the formulas of the acid and ba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   +       HNO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  Balance to give equal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nd 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   +  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HNO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Line 4"/>
          <p:cNvSpPr/>
          <p:nvPr/>
        </p:nvSpPr>
        <p:spPr>
          <a:xfrm>
            <a:off x="5410080" y="373392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5562720" y="548640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06DC-2EA2-4BBA-B9D6-CCD2A2C0ABDB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4560" y="83808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3. Write the product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 +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N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Mg(N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+  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alt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(metal and nonmeta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4. Balance product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 +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N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 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g(N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+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4419720" y="190512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>
            <a:off x="4343400" y="457200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E142-C21D-4B52-BFA5-2D32BB770D95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N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elect the correct group of coefficients for the following neutralization equations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 HCl  + __ Al(OH)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__AlCl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+  __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1, 3, 3, 1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)  3, 1, 1, 1       3)  3, 1, 1 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2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.__ Ba(OH)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+ __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__Ba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P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  __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3, 2, 2, 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)  3, 3, 1, 6       3)  2, 3, 1, 6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4572000" y="3429000"/>
            <a:ext cx="762120" cy="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4267080" y="4952880"/>
            <a:ext cx="762120" cy="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21A4-EC40-4DF1-8576-3B1B02B25043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N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  +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l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l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P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6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>
            <a:off x="4724280" y="2819520"/>
            <a:ext cx="990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>
            <a:off x="4495680" y="419112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BC5D-2A17-4D49-81FC-46932C2786C8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N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rite a balanced equation and calculate the mL of 2.00 M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required to neutralize 50.0 mL of 1.00 M KOH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+ ___KOH       ___K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2.5 mL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2)  50.0 mL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  200. m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4800600" y="45720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1T16:17:02Z</dcterms:created>
  <dc:creator>Karen Timberlake</dc:creator>
  <dc:description/>
  <dc:language>en-US</dc:language>
  <cp:lastModifiedBy>LEGION</cp:lastModifiedBy>
  <cp:lastPrinted>2009-09-14T23:28:19Z</cp:lastPrinted>
  <dcterms:modified xsi:type="dcterms:W3CDTF">2017-01-26T09:09:34Z</dcterms:modified>
  <cp:revision>28</cp:revision>
  <dc:subject/>
  <dc:title>Electrolytes</dc:title>
</cp:coreProperties>
</file>