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22BB4-BB16-48B5-AE8D-47AC920CA9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uffer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cid-Base Titr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ow many mL of 2.00 M H2SO4  are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SO4   + 2KOH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K2SO4  +  2H2O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500 L x 1.00 mole KOH  x 1 mole H2SO4 x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2 mole K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1000 mL   =    12.5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 mole KOH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NaOH   +  H3PO4           Na3PO4  + 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0.45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0.80 M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7.2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0.025 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40 L x 1.5 mole NaOH x 1 mole H3PO4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3 mole NaOH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x        1            =    0.80 mol/L  = 0.80 M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aOH (aq)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Ca(OH)2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+  2 HCl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CaCl2   + 2H2O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acid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salt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hen acid and bases with equal amounts of hydrogen ion H+ and hydroxide ions OH- are mixed, the resulting solution is neutral.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 HCl(aq)          NaCl 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a(OH)2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CaCl2   + 2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acid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 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from acid            from base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and OH- combine to produce 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3O+          +        OH-                  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from acid            from base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neutra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et ionic equation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          +       OH-                 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strong acids, bases, and salt as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Cross out matched 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+  Cl-   +  Na+ +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Na+ +  Cl-   +  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net ionic reaction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+     +      OH-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1200"/>
            </a:b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HNO3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.  Balance to give equal OH- and H+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    2 HNO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HNO3  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Mg(NO3)2  + 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(metal and nonmetal) 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Mg(OH)2    +   2 HNO3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  Mg(NO3)2  +  2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 HCl  + __ Al(OH)3              __AlCl3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1, 3, 3, 1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1, 1, 1       3)  3, 1, 1 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B.__ Ba(OH)2  + __H3PO4         __Ba3(PO4)2  +  __ 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  3, 2, 2, 2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2)  3, 3, 1, 6       3)  2, 3, 1, 6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A.  3HCl  +   1Al(OH)3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1AlCl3  + 3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B.  3Ba(OH)2  +  2H3PO4 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pt-BR" sz="1200" spc="-1" strike="noStrike">
                <a:solidFill>
                  <a:srgbClr val="ffff00"/>
                </a:solidFill>
                <a:latin typeface="Arial"/>
              </a:rPr>
              <a:t>   1Ba3(PO4)2  +  6H2O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/26/2017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2SO4  required to neutralize 50.0 mL of 1.00 M KOH?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___H2SO4   + ___KOH       ___K2SO4  +  H2O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)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12.5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  2)  50.0 mL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00"/>
                </a:solidFill>
                <a:latin typeface="Arial"/>
              </a:rPr>
              <a:t>3)   200. mL</a:t>
            </a: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2F8-93C5-449C-9CDF-CF3094F65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AAB-D1CF-4132-A184-E86764E8D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A68C-8B35-4C0A-AFB3-38311D1FB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7604-5CE5-447C-90C9-548CD8AB6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D649-D65F-4C1C-B3FA-C3AB8B4D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9A7CC-9D5F-4B70-87E8-777C4B73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8E9F-32B8-435F-87BF-EB52E2EC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EB53-1099-4BC0-A887-EC31D49B9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519C-1B97-4D39-991F-E9543C949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18750-BEA1-4F56-8FCF-AB0F7BE0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E458F-C20D-4196-A519-8252B9E92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6E226-66C5-453A-8D4A-1C0B7B676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ff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CA2B5-D20C-4048-83B5-848A47D943F4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DE8B8-754D-435D-8DB0-890AB90F4402}" type="slidenum">
              <a:rPr b="0" lang="en-US" sz="1400" spc="-1" strike="noStrike">
                <a:solidFill>
                  <a:srgbClr val="ffff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7106E-5ADD-40D6-878A-3C64A84BA3EE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Chapter 9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Acids and Base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Buffer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66ff33"/>
                </a:solidFill>
                <a:latin typeface="Arial"/>
              </a:rPr>
              <a:t>Acid-Base Titr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BE65-3CE0-4482-9099-F653AFE888E1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ow many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are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KOH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0500 L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.00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x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2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SO</a:t>
            </a:r>
            <a:r>
              <a:rPr b="1" lang="en-US" sz="3000" spc="-1" strike="noStrike" u="sng" baseline="-25000">
                <a:solidFill>
                  <a:srgbClr val="ff9900"/>
                </a:solidFill>
                <a:uFillTx/>
                <a:latin typeface="Arial"/>
              </a:rPr>
              <a:t>4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x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 L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2 mole K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1 L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x     </a:t>
            </a:r>
            <a:r>
              <a:rPr b="1" lang="en-US" sz="3000" spc="-1" strike="noStrike" u="sng">
                <a:solidFill>
                  <a:srgbClr val="ff9900"/>
                </a:solidFill>
                <a:uFillTx/>
                <a:latin typeface="Arial"/>
              </a:rPr>
              <a:t>  100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=    12.5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mole KOH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1 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016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5" name="Line 4"/>
          <p:cNvSpPr/>
          <p:nvPr/>
        </p:nvSpPr>
        <p:spPr>
          <a:xfrm>
            <a:off x="4191120" y="350532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8E8EE-958C-4B38-90B4-49D9FE33F232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05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 25 mL sample of phosphoric acid is neutralized by 40. mL of 1.5 M NaOH.  What is the molarity of the phosphoric acid solution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3NaOH   +  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    Na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+  3H</a:t>
            </a:r>
            <a:r>
              <a:rPr b="1" lang="en-US" sz="3000" spc="-1" strike="noStrike" baseline="-25000">
                <a:solidFill>
                  <a:srgbClr val="66ff33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  0.45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) 0.80 M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7.2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0" name="Line 4"/>
          <p:cNvSpPr/>
          <p:nvPr/>
        </p:nvSpPr>
        <p:spPr>
          <a:xfrm>
            <a:off x="4114800" y="4267080"/>
            <a:ext cx="6858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01939-838E-4493-88FD-53A19A712B8C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S4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40 L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.5 mole NaOH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x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1 mole H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3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PO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4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1 L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 mole NaOH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x   </a:t>
            </a:r>
            <a:r>
              <a:rPr b="1" lang="en-US" sz="3000" spc="-1" strike="noStrike" u="sng">
                <a:solidFill>
                  <a:srgbClr val="ffff00"/>
                </a:solidFill>
                <a:uFillTx/>
                <a:latin typeface="Arial"/>
              </a:rPr>
              <a:t>     1 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=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0.80 mol/L  = 0.80 M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0.025 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 u="sng" baseline="-25000">
                <a:solidFill>
                  <a:srgbClr val="ffff00"/>
                </a:solidFill>
                <a:uFillTx/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1094-8E18-4665-91EE-77A1C67C8ED2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Neutralization Reac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28240" y="1828800"/>
            <a:ext cx="85345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hen acid and bases with equal amounts of hydrogen ion 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hydroxide ions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re mixed, the resulting solution is neutral.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NaOH (aq)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 HCl(aq)          NaCl 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  2 HC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Ca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2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base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acid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salt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      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5" name="Line 1028"/>
          <p:cNvSpPr/>
          <p:nvPr/>
        </p:nvSpPr>
        <p:spPr>
          <a:xfrm>
            <a:off x="5105520" y="403848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6" name="Line 1029"/>
          <p:cNvSpPr/>
          <p:nvPr/>
        </p:nvSpPr>
        <p:spPr>
          <a:xfrm>
            <a:off x="4952880" y="5486400"/>
            <a:ext cx="685800" cy="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5BC6D-6984-419A-A272-63BEB3EFF116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609480"/>
            <a:ext cx="8610480" cy="1067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Neutralization</a:t>
            </a:r>
            <a:endParaRPr b="0" lang="en-US" sz="4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and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combine to produce 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+ 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2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from acid            from base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neutra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66ff33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66ff33"/>
                </a:solidFill>
                <a:latin typeface="Arial"/>
              </a:rPr>
              <a:t>Net ionic equation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  +       OH</a:t>
            </a:r>
            <a:r>
              <a:rPr b="1" lang="en-US" sz="30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     </a:t>
            </a:r>
            <a:r>
              <a:rPr b="1" lang="en-US" sz="3000" spc="-1" strike="noStrike">
                <a:solidFill>
                  <a:srgbClr val="ffff00"/>
                </a:solidFill>
                <a:latin typeface="Symbol"/>
                <a:ea typeface="Symbol"/>
              </a:rPr>
              <a:t>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   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3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pic>
        <p:nvPicPr>
          <p:cNvPr id="61" name="Object 4" descr=""/>
          <p:cNvPicPr/>
          <p:nvPr/>
        </p:nvPicPr>
        <p:blipFill>
          <a:blip r:embed="rId1"/>
          <a:stretch/>
        </p:blipFill>
        <p:spPr>
          <a:xfrm>
            <a:off x="6629400" y="685800"/>
            <a:ext cx="2286000" cy="135720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8F28E-F5F6-43E3-BD35-19D58F32F041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Ionic Equations for Neutralization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2120" y="1980720"/>
            <a:ext cx="80769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strong acids, bases, and salt as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Cross out matched ion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Na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+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+  Cl</a:t>
            </a:r>
            <a:r>
              <a:rPr b="1" lang="en-US" sz="2800" spc="-1" strike="noStrike" baseline="30000">
                <a:solidFill>
                  <a:srgbClr val="00ffff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+   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4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Write a net ionic reaction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+     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6" name="Line 5"/>
          <p:cNvSpPr/>
          <p:nvPr/>
        </p:nvSpPr>
        <p:spPr>
          <a:xfrm>
            <a:off x="1752480" y="4191120"/>
            <a:ext cx="45720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7" name="Line 6"/>
          <p:cNvSpPr/>
          <p:nvPr/>
        </p:nvSpPr>
        <p:spPr>
          <a:xfrm>
            <a:off x="2819520" y="4191120"/>
            <a:ext cx="457200" cy="76176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8" name="Line 7"/>
          <p:cNvSpPr/>
          <p:nvPr/>
        </p:nvSpPr>
        <p:spPr>
          <a:xfrm>
            <a:off x="5410080" y="4191120"/>
            <a:ext cx="533520" cy="609480"/>
          </a:xfrm>
          <a:prstGeom prst="line">
            <a:avLst/>
          </a:prstGeom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69" name="Line 8"/>
          <p:cNvSpPr/>
          <p:nvPr/>
        </p:nvSpPr>
        <p:spPr>
          <a:xfrm>
            <a:off x="6400800" y="4114800"/>
            <a:ext cx="533520" cy="76212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0" name="Line 9"/>
          <p:cNvSpPr/>
          <p:nvPr/>
        </p:nvSpPr>
        <p:spPr>
          <a:xfrm>
            <a:off x="4572000" y="28954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4724280" y="441972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4114800" y="5867280"/>
            <a:ext cx="533520" cy="0"/>
          </a:xfrm>
          <a:prstGeom prst="line">
            <a:avLst/>
          </a:prstGeom>
          <a:ln w="2844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B8523-3F9E-4491-AFD8-D32A2EF56A66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Balancing Neutralization Equations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Write the equation for the neutralization between magnesium hydroxide and nitric acid.</a:t>
            </a:r>
            <a:br>
              <a:rPr sz="2800"/>
            </a:b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1.  Write the formulas of the acid and base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2.  Balance to give equal O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and H</a:t>
            </a:r>
            <a:r>
              <a:rPr b="1" lang="en-US" sz="2800" spc="-1" strike="noStrike" baseline="30000">
                <a:solidFill>
                  <a:srgbClr val="ffff00"/>
                </a:solidFill>
                <a:latin typeface="Arial"/>
              </a:rPr>
              <a:t>+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25800" indent="0">
              <a:lnSpc>
                <a:spcPct val="13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   +       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HNO</a:t>
            </a:r>
            <a:r>
              <a:rPr b="1" lang="en-US" sz="28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7" name="Line 4"/>
          <p:cNvSpPr/>
          <p:nvPr/>
        </p:nvSpPr>
        <p:spPr>
          <a:xfrm>
            <a:off x="5410080" y="373392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8" name="Line 5"/>
          <p:cNvSpPr/>
          <p:nvPr/>
        </p:nvSpPr>
        <p:spPr>
          <a:xfrm>
            <a:off x="5562720" y="5486400"/>
            <a:ext cx="114300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C58B-49B0-4E79-85F7-888AAA498232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304560" y="83808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3. Write the products: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alt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ater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(metal and nonmetal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 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4. Balance products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4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OH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H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 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	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    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Mg(NO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 H</a:t>
            </a:r>
            <a:r>
              <a:rPr b="1" lang="en-US" sz="3000" spc="-1" strike="noStrike" baseline="-25000">
                <a:solidFill>
                  <a:srgbClr val="00ffff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00ffff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2" name="Line 4"/>
          <p:cNvSpPr/>
          <p:nvPr/>
        </p:nvSpPr>
        <p:spPr>
          <a:xfrm>
            <a:off x="4419720" y="1905120"/>
            <a:ext cx="76176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3" name="Line 5"/>
          <p:cNvSpPr/>
          <p:nvPr/>
        </p:nvSpPr>
        <p:spPr>
          <a:xfrm>
            <a:off x="4343400" y="4572000"/>
            <a:ext cx="762120" cy="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0D4C3-099C-4AE4-BE91-7E7E30A5E2DF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19051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elect the correct group of coefficients for the following neutralization equations 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__ HCl  + __ Al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       __AlCl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1, 3, 3, 1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1, 1, 1       3)  3, 1, 1 3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2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B.__ Ba(OH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+ __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       __Ba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+  __ H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1)  3, 2, 2, 2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9900"/>
                </a:solidFill>
                <a:latin typeface="Arial"/>
              </a:rPr>
              <a:t>2)  3, 3, 1, 6       3)  2, 3, 1, 6</a:t>
            </a: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8" name="Line 4"/>
          <p:cNvSpPr/>
          <p:nvPr/>
        </p:nvSpPr>
        <p:spPr>
          <a:xfrm>
            <a:off x="4572000" y="342900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89" name="Line 6"/>
          <p:cNvSpPr/>
          <p:nvPr/>
        </p:nvSpPr>
        <p:spPr>
          <a:xfrm>
            <a:off x="4267080" y="4952880"/>
            <a:ext cx="762120" cy="0"/>
          </a:xfrm>
          <a:prstGeom prst="line">
            <a:avLst/>
          </a:prstGeom>
          <a:ln w="38160">
            <a:solidFill>
              <a:srgbClr val="66ff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3AFE6-0D5F-4542-818A-3B2B18EFBC93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Solution N2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Cl  +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Cl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43080" indent="0">
              <a:lnSpc>
                <a:spcPct val="17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.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(OH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Ba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3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(P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  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6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4" name="Line 4"/>
          <p:cNvSpPr/>
          <p:nvPr/>
        </p:nvSpPr>
        <p:spPr>
          <a:xfrm>
            <a:off x="4724280" y="2819520"/>
            <a:ext cx="99072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5" name="Line 5"/>
          <p:cNvSpPr/>
          <p:nvPr/>
        </p:nvSpPr>
        <p:spPr>
          <a:xfrm>
            <a:off x="4495680" y="4191120"/>
            <a:ext cx="685800" cy="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Місце для дати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4F2EA-6E19-48A0-91B3-A5B554C89BC0}" type="datetime">
              <a:rPr b="0" lang="en-US" sz="1400" spc="-1" strike="noStrike">
                <a:solidFill>
                  <a:srgbClr val="ffff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Arial"/>
              </a:rPr>
              <a:t>Learning Check N3</a:t>
            </a:r>
            <a:endParaRPr b="0" lang="en-US" sz="4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Write a balanced equation and calculate the mL of 2.00 M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required to neutralize 50.0 mL of 1.00 M KOH?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___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 + ___KOH       ___K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SO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4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 +  H</a:t>
            </a:r>
            <a:r>
              <a:rPr b="1" lang="en-US" sz="3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O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	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)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12.5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  2)  50.0 mL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	</a:t>
            </a:r>
            <a:r>
              <a:rPr b="1" lang="en-US" sz="3000" spc="-1" strike="noStrike">
                <a:solidFill>
                  <a:srgbClr val="ff9900"/>
                </a:solidFill>
                <a:latin typeface="Arial"/>
              </a:rPr>
              <a:t>3)   200. mL</a:t>
            </a: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  <a:p>
            <a:pPr marL="335880" indent="0">
              <a:lnSpc>
                <a:spcPct val="12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0" name="Line 4"/>
          <p:cNvSpPr/>
          <p:nvPr/>
        </p:nvSpPr>
        <p:spPr>
          <a:xfrm>
            <a:off x="4800600" y="4572000"/>
            <a:ext cx="3808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1T16:17:02Z</dcterms:created>
  <dc:creator>Karen Timberlake</dc:creator>
  <dc:description/>
  <dc:language>en-US</dc:language>
  <cp:lastModifiedBy>LEGION</cp:lastModifiedBy>
  <cp:lastPrinted>2009-09-14T23:28:19Z</cp:lastPrinted>
  <dcterms:modified xsi:type="dcterms:W3CDTF">2017-01-26T09:09:34Z</dcterms:modified>
  <cp:revision>28</cp:revision>
  <dc:subject/>
  <dc:title>Electrolytes</dc:title>
</cp:coreProperties>
</file>