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55B6-B001-4414-BE10-3CAE90BAB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-Base Neutr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ff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-Base Ti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hapter 9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cid-Base Neutraliz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uffer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cid-Base Titr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N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mL of 2.00 M H2SO4  are required to neutralize 50.0 mL of 1.00 M KO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SO4   + 2KOH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2SO4  +  2H2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500 L x 1.00 mole KOH  x 1 mole H2SO4 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2 mole K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L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      1000 mL   =    12.5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ole KO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1 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olution N3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ow many mL of 2.00 M H2SO4  are required to neutralize 50.0 mL of 1.00 M KOH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2SO4   + 2KOH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K2SO4  +  2H2O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0.0500 L x 1.00 mole KOH  x 1 mole H2SO4 x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 L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2 mole KOH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 L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x       1000 mL   =    12.5 mL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 mole KOH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1 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N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5 mL sample of phosphoric acid is neutralized by 40. mL of 1.5 M NaOH.  What is the molarity of the phosphoric acid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NaOH   +  H3PO4           Na3PO4  +  3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0.45 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0.80 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7.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 N4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 25 mL sample of phosphoric acid is neutralized by 40. mL of 1.5 M NaOH.  What is the molarity of the phosphoric acid solution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NaOH   +  H3PO4           Na3PO4  +  3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)  0.45 M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) 0.80 M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)  7.2 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 S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40 L x 1.5 mole NaOH x 1 mole H3P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 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3 mole Na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        1            =    0.80 mol/L  = 0.8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25 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olution S4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0.040 L x 1.5 mole NaOH x 1 mole H3PO4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 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3 mole NaOH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x        1            =    0.80 mol/L  = 0.80 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0.025 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utralization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hen acid and bases with equal amounts of hydrogen ion H+ and hydroxide ions OH- are mixed, the resulting solution is neutr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 (aq)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   HCl(aq)          NaCl   + 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acid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salt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(OH)2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  2 HC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CaCl2   + 2H2O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acid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salt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eutralization React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hen acid and bases with equal amounts of hydrogen ion H+ and hydroxide ions OH- are mixed, the resulting solution is neutral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aOH (aq)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+   HCl(aq)          NaCl   + 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ase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acid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salt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wat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a(OH)2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+  2 HC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CaCl2   + 2H2O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ase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acid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salt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wat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utr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O+ and OH- combine to produc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O+          +        OH-                    2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rom acid            from bas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t ionic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+               +       OH-                    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eutraliz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3O+ and OH- combine to produce wat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3O+          +        OH-                    2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rom acid            from base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neutral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et ionic equation: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+               +       OH-                    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 Equations for Neutr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strong acids, bases, and salt as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+ +  Cl-   +  Na+ +   OH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+ +  Cl-   +   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 out matched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+ +  Cl-   +  Na+ +   OH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+ +  Cl-   +   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net ionic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+     +      OH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onic Equations for Neutraliz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rite strong acids, bases, and salt as 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+ +  Cl-   +  Na+ +   OH-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a+ +  Cl-   +   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ross out matched 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+ +  Cl-   +  Na+ +   OH-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a+ +  Cl-   +   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rite a net ionic reac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+     +      OH-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ing Neutralization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equation for the neutralization between magnesium hydroxide and nitric aci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Write the formulas of the acid and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(OH)2    +       HNO3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Balance to give equal OH- and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(OH)2    +       2 H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alancing Neutralization Equat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rite the equation for the neutralization between magnesium hydroxide and nitric acid.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.  Write the formulas of the acid and bas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g(OH)2    +       HNO3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.  Balance to give equal OH- and H+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g(OH)2    +       2 HNO3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rite the produ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(OH)2    +   2HNO3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Mg(NO3)2  + 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etal and nonmetal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Balanc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(OH)2    +   2 HNO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Mg(NO3)2  +  2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. Write the products: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g(OH)2    +   2HNO3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Mg(NO3)2  + 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alt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(metal and nonmetal)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4. Balance product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g(OH)2    +   2 HNO3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Mg(NO3)2  +  2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the correct group of coefficients for the following neutralization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 HCl  + __ Al(OH)3              __AlCl3  +  __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1, 3, 3,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3, 1, 1, 1       3)  3, 1, 1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__ Ba(OH)2  + __H3PO4         __Ba3(PO4)2  +  __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3, 2, 2, 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3, 3, 1, 6       3)  2, 3, 1,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 N2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elect the correct group of coefficients for the following neutralization equations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.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__ HCl  + __ Al(OH)3              __AlCl3  +  __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)  1, 3, 3, 1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)  3, 1, 1, 1       3)  3, 1, 1 3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.__ Ba(OH)2  + __H3PO4         __Ba3(PO4)2  +  __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)  3, 2, 2, 2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)  3, 3, 1, 6       3)  2, 3, 1, 6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olution 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 3HCl  +   1Al(OH)3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AlCl3  + 3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 3Ba(OH)2  +  2H3PO4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1Ba3(PO4)2  +  6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Solution N2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A.  3HCl  +   1Al(OH)3 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1AlCl3  + 3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B.  3Ba(OH)2  +  2H3PO4 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   1Ba3(PO4)2  +  6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N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balanced equation and calculate the mL of 2.00 M H2SO4  required to neutralize 50.0 mL of 1.00 M KO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H2SO4   + ___KOH       ___K2SO4  +  H2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5 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2)  50.0 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 200.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 N3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rite a balanced equation and calculate the mL of 2.00 M H2SO4  required to neutralize 50.0 mL of 1.00 M KOH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___H2SO4   + ___KOH       ___K2SO4  +  H2O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)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2.5 m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2)  50.0 m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)   200. mL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7871-ABFF-4B3F-AA1B-1502EB865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E9B0-2AAF-437F-9B54-EF436FD4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EECC-DBAF-42C8-828F-437C7DA20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A312-6274-4633-ABBB-DABFED3D5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B846-A4D6-4C91-BF68-406819B0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D8ED-07FF-4D5C-9ECE-6B6128AB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AB3B-7FAA-45D7-B78E-86718DE4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FB6B-0097-47E6-AD31-9AE37288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21C6-74A3-4A5C-9207-5423E20D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9B55-79FE-483A-9488-01F6E29A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AAD2-9221-4046-9FA2-432FF74D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FA52-DE23-4400-AD64-91502790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7A8D-E06A-4518-914D-FD882D982E9D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EE6D-2D81-42EF-8852-D1ECD4DEF2BF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D10E-4A78-478B-B1FC-EAC596A2969E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apter 9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Acid-Base Neutraliz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Buffer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Acid-Base Titr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4D55-2D16-4FBE-A759-BF4B2ABD03A1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N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ow many mL of 2.00 M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are required to neutralize 50.0 mL of 1.00 M KOH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+ 2KOH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2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0.0500 L x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1.00 mole KOH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x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1 mole H</a:t>
            </a:r>
            <a:r>
              <a:rPr b="1" lang="en-US" sz="3000" spc="-1" strike="noStrike" u="sng" baseline="-25000">
                <a:solidFill>
                  <a:srgbClr val="ff9900"/>
                </a:solidFill>
                <a:uFillTx/>
                <a:latin typeface="Arial"/>
              </a:rPr>
              <a:t>2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SO</a:t>
            </a:r>
            <a:r>
              <a:rPr b="1" lang="en-US" sz="3000" spc="-1" strike="noStrike" u="sng" baseline="-25000">
                <a:solidFill>
                  <a:srgbClr val="ff9900"/>
                </a:solidFill>
                <a:uFillTx/>
                <a:latin typeface="Arial"/>
              </a:rPr>
              <a:t>4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x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 L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 2 mole KOH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 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1 L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x    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  1000 mL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=    12.5 m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 mole KOH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1 L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4191120" y="350532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92CB-E656-44BB-BDF0-3204A6812805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N4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 25 mL sample of phosphoric acid is neutralized by 40. mL of 1.5 M NaOH.  What is the molarity of the phosphoric acid solution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3NaOH   +  H</a:t>
            </a:r>
            <a:r>
              <a:rPr b="1" lang="en-US" sz="30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PO</a:t>
            </a:r>
            <a:r>
              <a:rPr b="1" lang="en-US" sz="3000" spc="-1" strike="noStrike" baseline="-25000">
                <a:solidFill>
                  <a:srgbClr val="66ff33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         Na</a:t>
            </a:r>
            <a:r>
              <a:rPr b="1" lang="en-US" sz="30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PO</a:t>
            </a:r>
            <a:r>
              <a:rPr b="1" lang="en-US" sz="3000" spc="-1" strike="noStrike" baseline="-25000">
                <a:solidFill>
                  <a:srgbClr val="66ff33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+  3H</a:t>
            </a:r>
            <a:r>
              <a:rPr b="1" lang="en-US" sz="3000" spc="-1" strike="noStrike" baseline="-25000">
                <a:solidFill>
                  <a:srgbClr val="66ff33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 0.45 M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 0.80 M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 7.2 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4114800" y="4267080"/>
            <a:ext cx="6858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D54F-73F3-4195-93EB-1A08D561BDA6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S4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0.040 L x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1.5 mole Na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x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1 mole H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3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PO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 L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3 mole NaOH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x 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    1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=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0.80 mol/L  = 0.80 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0.025 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90DB-234F-45AF-B3FF-533FE8AE0548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eutralization React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en acid and bases with equal amounts of hydrogen ion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and hydroxide ions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are mixed, the resulting solution is neutral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aOH (aq)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   HCl(aq)          NaCl   +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base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 acid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salt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 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  2 HC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CaCl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+ 2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base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    acid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salt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    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Line 1028"/>
          <p:cNvSpPr/>
          <p:nvPr/>
        </p:nvSpPr>
        <p:spPr>
          <a:xfrm>
            <a:off x="5105520" y="4038480"/>
            <a:ext cx="6858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Line 1029"/>
          <p:cNvSpPr/>
          <p:nvPr/>
        </p:nvSpPr>
        <p:spPr>
          <a:xfrm>
            <a:off x="4952880" y="5486400"/>
            <a:ext cx="6858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515D-EFEE-4F4E-B470-8D0D5661FCA4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610480" cy="1067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utraliza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and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mbine to produce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+       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en-US" sz="3000" spc="-1" strike="noStrike">
                <a:solidFill>
                  <a:srgbClr val="ffff00"/>
                </a:solidFill>
                <a:latin typeface="Symbol"/>
                <a:ea typeface="Symbol"/>
              </a:rPr>
              <a:t>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2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from acid            from base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neutra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Net ionic equation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     +      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en-US" sz="3000" spc="-1" strike="noStrike">
                <a:solidFill>
                  <a:srgbClr val="ffff00"/>
                </a:solidFill>
                <a:latin typeface="Symbol"/>
                <a:ea typeface="Symbol"/>
              </a:rPr>
              <a:t>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1" name="Object 4" descr=""/>
          <p:cNvPicPr/>
          <p:nvPr/>
        </p:nvPicPr>
        <p:blipFill>
          <a:blip r:embed="rId1"/>
          <a:stretch/>
        </p:blipFill>
        <p:spPr>
          <a:xfrm>
            <a:off x="6629400" y="685800"/>
            <a:ext cx="2286000" cy="13572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8A88-ED1A-41F0-B25E-74F3166F6B45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1371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onic Equations for Neutraliz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Write strong acids, bases, and salt as i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Cl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+  N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Cl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+  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Cross out matched i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</a:t>
            </a:r>
            <a:r>
              <a:rPr b="1" lang="en-US" sz="28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+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Na</a:t>
            </a:r>
            <a:r>
              <a:rPr b="1" lang="en-US" sz="28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Na</a:t>
            </a:r>
            <a:r>
              <a:rPr b="1" lang="en-US" sz="28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+  Cl</a:t>
            </a:r>
            <a:r>
              <a:rPr b="1" lang="en-US" sz="28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+  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Write a net ionic react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   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1752480" y="4191120"/>
            <a:ext cx="457200" cy="6094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Line 6"/>
          <p:cNvSpPr/>
          <p:nvPr/>
        </p:nvSpPr>
        <p:spPr>
          <a:xfrm>
            <a:off x="2819520" y="4191120"/>
            <a:ext cx="457200" cy="7617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>
            <a:off x="5410080" y="4191120"/>
            <a:ext cx="533520" cy="6094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>
            <a:off x="6400800" y="4114800"/>
            <a:ext cx="533520" cy="762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4572000" y="2895480"/>
            <a:ext cx="533520" cy="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4724280" y="4419720"/>
            <a:ext cx="533520" cy="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4114800" y="5867280"/>
            <a:ext cx="533520" cy="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7766-A6FE-4C57-9A68-6A62747C0B08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alancing Neutralization Equat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rite the equation for the neutralization between magnesium hydroxide and nitric acid.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  Write the formulas of the acid and ba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   +       HNO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.  Balance to give equal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nd 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   +   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HNO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Line 4"/>
          <p:cNvSpPr/>
          <p:nvPr/>
        </p:nvSpPr>
        <p:spPr>
          <a:xfrm>
            <a:off x="5410080" y="373392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5562720" y="548640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8BB1-E750-49CF-8F44-6A92BA5CF3B5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4560" y="83808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3. Write the products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 +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N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Mg(N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+  H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alt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(metal and nonmeta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4. Balance product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 +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N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 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Mg(N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+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H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Line 4"/>
          <p:cNvSpPr/>
          <p:nvPr/>
        </p:nvSpPr>
        <p:spPr>
          <a:xfrm>
            <a:off x="4419720" y="1905120"/>
            <a:ext cx="7617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Line 5"/>
          <p:cNvSpPr/>
          <p:nvPr/>
        </p:nvSpPr>
        <p:spPr>
          <a:xfrm>
            <a:off x="4343400" y="4572000"/>
            <a:ext cx="7621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F3B1-E1E5-4D56-B0EF-16433833FFE6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N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elect the correct group of coefficients for the following neutralization equations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__ HCl  + __ Al(OH)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 __AlCl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+  __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)  1, 3, 3, 1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)  3, 1, 1, 1       3)  3, 1, 1 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2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.__ Ba(OH)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+ __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__Ba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P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+  __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)  3, 2, 2, 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)  3, 3, 1, 6       3)  2, 3, 1, 6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4572000" y="3429000"/>
            <a:ext cx="762120" cy="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4267080" y="4952880"/>
            <a:ext cx="762120" cy="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2C4C-6D0B-4391-9D68-9589D9DBD678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N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Cl  +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l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lCl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P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6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Line 4"/>
          <p:cNvSpPr/>
          <p:nvPr/>
        </p:nvSpPr>
        <p:spPr>
          <a:xfrm>
            <a:off x="4724280" y="2819520"/>
            <a:ext cx="990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Line 5"/>
          <p:cNvSpPr/>
          <p:nvPr/>
        </p:nvSpPr>
        <p:spPr>
          <a:xfrm>
            <a:off x="4495680" y="419112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3D28-172D-46C3-96ED-08444C795765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N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rite a balanced equation and calculate the mL of 2.00 M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required to neutralize 50.0 mL of 1.00 M KOH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+ ___KOH       ___K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2.5 mL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2)  50.0 mL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  200. m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4800600" y="457200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1T16:17:02Z</dcterms:created>
  <dc:creator>Karen Timberlake</dc:creator>
  <dc:description/>
  <dc:language>en-US</dc:language>
  <cp:lastModifiedBy>LEGION</cp:lastModifiedBy>
  <cp:lastPrinted>2009-09-14T23:28:19Z</cp:lastPrinted>
  <dcterms:modified xsi:type="dcterms:W3CDTF">2017-01-26T09:09:34Z</dcterms:modified>
  <cp:revision>28</cp:revision>
  <dc:subject/>
  <dc:title>Electrolytes</dc:title>
</cp:coreProperties>
</file>