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5FAE-0212-407A-9011-2BE091843B5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Robert McG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Robert McG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e is characteriz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itter taste. (Milk of Magnes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eels slippery.  (Soapy Wa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urns Red Litmus B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e is characteriz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tter taste. (Milk of Magnes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feels slippery.  (Soapy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urns Red Litmus B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Learn about Acids &amp; Bas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is the pH level of NYC tap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of a swimming pool must be checked periodically.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t important for Lakes &amp; Rivers to maintain a certain 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Learn about Acids &amp; Bas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is the pH level of NYC tap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wimming pool must be checked periodically.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important for Lakes &amp; Rivers to maintain a certain 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’s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the pH of Pepsi, tap water, and drain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LUCK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the pH of Pepsi, tap water, and drain clea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oals for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etermine the difference between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the importance of studying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 an experiment dealing with Acids &amp;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Goals for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the difference between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the importance of studying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 an experiment dealing with Acids &amp;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pH sca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 measures how acidic or basic a solution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measures how acidic or basic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 scale is the concentration of hydrogen ions in a given sub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 is the concentration of hydrogen ions in a given sub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have a ph from 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pH value indicates a stronger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s have a pH from 7-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pH value indicates a stronger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ph from 0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pH value indicates a stronger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s have a pH from 7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pH value indicates a stronger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 of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id is a substance that breaks into         ions in an aqueou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e (alkaline) is a substance that breaks into           ions in an aqueou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aqueous solution is any solution where           is the sol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 of 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id is a substance that breaks into         ions in an aqueous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e (alkaline) is a substance that breaks into           ions in an aqueous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aqueous solution is any solution where           is the solv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we Miss something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the pH of a substance is 7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A pH level of 7 indicates a Neutral Substance i.e: Wat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Miss something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the pH of a substance is 7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A pH level of 7 indicates a Neutral Substance i.e: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 Your Know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 of an ACID on the pH sca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0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range of a BASE and what is another name for a BA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: 7-14, Alka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 Your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nge of an ACID on the pH sc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0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range of a BASE and what is another name for a B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: 7-14, Alka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Of Ac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 can be characteriz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ur tas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urns blue litmus paper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stes sour. Try drinking lemon juice (citric aci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can be characteriz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ur tas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urns blue litmus paper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stes sour. Try drinking lemon juice (citric ac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7E5-A926-45C0-8142-97EB20F5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2A5-F3A3-4813-9414-30578111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4B68-0A2E-48C7-A112-DC84C85C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B47-7795-4A2E-A894-94CC9369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FD96-B02B-473D-B0F9-CEB58025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8DAE-7695-4919-8774-1D786DA2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E4E5-1822-4C6F-A146-233BE66F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827D-7F46-4F0D-AE34-95A20BF5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BD25-AD48-4173-9C66-9611AB0F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4EB3-B7F5-4729-A73B-468061B0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E67A-FF83-404A-A9EF-F646B5DD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627-A7B1-45D5-9F58-7E60E35B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6DC5-36E6-4EE4-9513-15348215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CFA4-E647-4EF2-8337-E8423E17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362C-5A7A-4936-AAA9-5795F5B0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1634-2457-47EC-801A-F95807390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6A81-C5A3-45DB-ABCF-8843FF83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0729-D15D-41B7-819B-392B6A92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865-4FDC-4F79-B6C5-1938DC3D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C101-522E-4729-9FC6-C8A3E764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A86-1F24-4EC0-B83B-4282E6C4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70D0-56A0-4730-B703-DF6C6CFC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3D9-F185-405B-B4E8-6CDF7A26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CE27-8917-4A16-869A-37FC325D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8AA4-5B81-418E-80BA-E70D9D564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2A7C-F3D2-4B3F-887F-E243666CAB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480" y="1752480"/>
            <a:ext cx="5639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Acids &amp; Bases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57600" y="46479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Robert McG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s of Bas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ase is characterized b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tter taste. (Milk of Magnes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feels slippery.  (Soapy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urns Red Litmu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98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98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98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98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Learn about Acids &amp; Base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is the pH level of NYC tap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of a swimming pool must be checked periodically.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important for Lakes &amp; Rivers to maintain a certain p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oday’s Experi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he pH of Pepsi, tap water, and drain clea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LUCK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Our Goals for today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difference between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importance of studying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an experiment dealing with Acids &amp;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pH scale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371240"/>
            <a:ext cx="2895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measures how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idi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asi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lution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phscale"/>
          <p:cNvPicPr/>
          <p:nvPr/>
        </p:nvPicPr>
        <p:blipFill>
          <a:blip r:embed="rId1"/>
          <a:stretch/>
        </p:blipFill>
        <p:spPr>
          <a:xfrm>
            <a:off x="4572000" y="1295280"/>
            <a:ext cx="4419720" cy="55627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H scale is the concentration of hydrogen ions in a given subst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2895480" y="3886200"/>
                <a:ext cx="3886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Identifying Acids and Bas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167652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cid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ph from 0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er pH value indicates a stronger ac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as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ve a pH from 7-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gher pH value indicates a stronger b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98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98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s of Acids and Bas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5120" y="1599840"/>
            <a:ext cx="6781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cid is a substance that breaks into         ions in an aqueous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se (alkaline) is a substance that breaks into           ions in an aqueous s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aqueous solution is any solution where           is the solv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3124080" y="2057400"/>
                <a:ext cx="685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0" y="0"/>
                <a:ext cx="428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8"/>
              <p:cNvSpPr txBox="1"/>
              <p:nvPr/>
            </p:nvSpPr>
            <p:spPr>
              <a:xfrm>
                <a:off x="5334120" y="4038480"/>
                <a:ext cx="91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5105520" y="5410080"/>
                <a:ext cx="838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d we Miss something??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 the pH of a substance is 7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A pH level of 7 indicates a Neutral Substance i.e: Wa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est Your Knowledge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ange of an ACID on the pH sc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0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range of a BASE and what is another name for a B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: 7-14, Alka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s Of Acid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ids can be characterized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our ta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urns blue litmus paper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stes sour. Try drinking lemon juice (citr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5:23:08Z</dcterms:created>
  <dc:creator>Polytechnic University</dc:creator>
  <dc:description/>
  <cp:keywords/>
  <dc:language>en-US</dc:language>
  <cp:lastModifiedBy>LEGION</cp:lastModifiedBy>
  <dcterms:modified xsi:type="dcterms:W3CDTF">2017-01-26T09:10:26Z</dcterms:modified>
  <cp:revision>8</cp:revision>
  <dc:subject/>
  <dc:title>Acids &amp;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