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7416-D626-44AF-B1A1-1BA8215366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9C26-9D19-47D1-A510-9A337E3D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12F-00C7-46B0-8765-AE77C5C4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D7DC-1CFB-4367-B0CD-2765439B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C262-349D-4E58-86DB-DD0E933E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344-A616-4FC6-A736-0BC5A306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14E4-F69B-49CF-8657-9B972540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1C5-3742-417E-8915-757A0566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13B-4C6D-45C1-B0FF-104A8AC7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2488-FC12-4218-B39B-2C0E1678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93E4-C99C-4E26-84AD-41F9FA69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F4D-4B47-458C-B6C5-8C5978E0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2E2-4FDB-4441-BB91-8D0D802B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CEBF-77EE-466F-83F0-7725C9106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an%2Box%26fr%3Dyfp-t-304%26toggle%3D1%26cop%3Dmss%26ei%3DUTF-8%26vm%3Dr&amp;w=325&amp;h=396&amp;imgurl=www.paulnoll.com%2FChina%2FZodiac%2Fzodiac-ox-pic.gif&amp;rurl=http%3A%2F%2Fwww.paulnoll.com%2FChina%2FZodiac%2Fzodiac-ox-pic.html&amp;size=7kB&amp;name=zodiac-ox-pic.gif&amp;p=an+ox&amp;type=gif&amp;no=8&amp;tt=454,392&amp;oid=195425518ca19bf6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4876560" cy="3725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990720" y="6019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791320" y="6019920"/>
            <a:ext cx="207648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89548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Go to fullsize image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3886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8380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5715000" y="5867280"/>
            <a:ext cx="236232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3048120" y="10666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141720" y="106200"/>
            <a:ext cx="6002280" cy="675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7924680" y="41911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2971800" y="57150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1295280" y="47242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7"/>
          <a:stretch/>
        </p:blipFill>
        <p:spPr>
          <a:xfrm>
            <a:off x="3124080" y="45720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8"/>
          <a:stretch/>
        </p:blipFill>
        <p:spPr>
          <a:xfrm>
            <a:off x="2286000" y="16002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9"/>
          <a:stretch/>
        </p:blipFill>
        <p:spPr>
          <a:xfrm>
            <a:off x="2819520" y="22096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10"/>
          <a:stretch/>
        </p:blipFill>
        <p:spPr>
          <a:xfrm>
            <a:off x="2514600" y="43434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11"/>
          <a:stretch/>
        </p:blipFill>
        <p:spPr>
          <a:xfrm>
            <a:off x="8001000" y="53341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/>
          <p:cNvPicPr/>
          <p:nvPr/>
        </p:nvPicPr>
        <p:blipFill>
          <a:blip r:embed="rId12"/>
          <a:stretch/>
        </p:blipFill>
        <p:spPr>
          <a:xfrm>
            <a:off x="8153280" y="10666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13"/>
          <a:stretch/>
        </p:blipFill>
        <p:spPr>
          <a:xfrm>
            <a:off x="4038480" y="23623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"/>
          <p:cNvPicPr/>
          <p:nvPr/>
        </p:nvPicPr>
        <p:blipFill>
          <a:blip r:embed="rId14"/>
          <a:stretch/>
        </p:blipFill>
        <p:spPr>
          <a:xfrm>
            <a:off x="3886200" y="44197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"/>
          <p:cNvPicPr/>
          <p:nvPr/>
        </p:nvPicPr>
        <p:blipFill>
          <a:blip r:embed="rId15"/>
          <a:stretch/>
        </p:blipFill>
        <p:spPr>
          <a:xfrm>
            <a:off x="8229600" y="2286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6"/>
          <a:stretch/>
        </p:blipFill>
        <p:spPr>
          <a:xfrm>
            <a:off x="4800600" y="0"/>
            <a:ext cx="628560" cy="552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8"/>
          <p:cNvSpPr/>
          <p:nvPr/>
        </p:nvSpPr>
        <p:spPr>
          <a:xfrm>
            <a:off x="1752480" y="29718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304920" y="304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2743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ion s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, for shor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2362320" y="1324080"/>
            <a:ext cx="4572000" cy="55339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943080" cy="419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6"/>
          <a:stretch/>
        </p:blipFill>
        <p:spPr>
          <a:xfrm>
            <a:off x="685800" y="289548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7"/>
          <a:stretch/>
        </p:blipFill>
        <p:spPr>
          <a:xfrm>
            <a:off x="533520" y="5335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8"/>
          <a:stretch/>
        </p:blipFill>
        <p:spPr>
          <a:xfrm>
            <a:off x="7162920" y="46483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9"/>
          <a:stretch/>
        </p:blipFill>
        <p:spPr>
          <a:xfrm>
            <a:off x="6553080" y="2743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10"/>
          <a:stretch/>
        </p:blipFill>
        <p:spPr>
          <a:xfrm>
            <a:off x="4800600" y="9907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2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cript MT Bold"/>
              </a:rPr>
              <a:t>a negatively charged 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352680" y="228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9:55:37Z</dcterms:created>
  <dc:creator>Student</dc:creator>
  <dc:description/>
  <dc:language>en-US</dc:language>
  <cp:lastModifiedBy>LEGION</cp:lastModifiedBy>
  <dcterms:modified xsi:type="dcterms:W3CDTF">2017-01-26T09:43:13Z</dcterms:modified>
  <cp:revision>10</cp:revision>
  <dc:subject/>
  <dc:title>Simple way to remember ions</dc:title>
</cp:coreProperties>
</file>