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DD9B-54B0-42B6-9366-2AEE2AD408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A69-07E6-4545-B1C9-68DA8F5D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A23-C94D-4BCB-B449-95F9DDA2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EF7-EB8F-452B-89D0-BE8A40F4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867-97BA-4EE7-8DBD-0F5FAA39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338-D19D-4A7B-A323-671F5F63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4DC-BD19-45A9-B543-4EE4574C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728-CDB8-45AB-8C71-E8AEE50A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4BD-C196-4136-B856-79A71CB8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443-91BF-495B-933D-FCF9D299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6B2-2D86-40B1-9C8B-6F376BCA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D0F-6C25-4117-8FD2-7AF59209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199-4739-4CA7-8B1B-3DDA04D7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9840-6309-4EBD-B285-9AE7EDE46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LEGION</cp:lastModifiedBy>
  <dcterms:modified xsi:type="dcterms:W3CDTF">2017-01-26T09:43:13Z</dcterms:modified>
  <cp:revision>10</cp:revision>
  <dc:subject/>
  <dc:title>Simple way to remember ions</dc:title>
</cp:coreProperties>
</file>