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665E-A37C-4FC2-9E35-900FF3436D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010-90B5-48F3-A6F4-F008B00F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42B-2A36-4C01-B14D-48F54E23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F86-1CA4-41D2-ACD0-9C68086C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B238-702B-45B0-8DAD-7DE8F39C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728-6239-4EA0-844D-D9095B10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CF1-DF3F-4AF3-B625-514A62E2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2B9-6ED3-4B67-8871-6E62A46A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126-6866-4806-BF42-6672C7B3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D34-088C-49ED-9AC8-9A5E6925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4F3-6142-4C3C-9C0A-B129210B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2CD-29C5-4697-AF85-923C3B3F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B55-FF5F-4D48-A421-2141F447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F109-4843-4EAD-879F-BBF0EC984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LEGION</cp:lastModifiedBy>
  <dcterms:modified xsi:type="dcterms:W3CDTF">2017-01-26T09:43:13Z</dcterms:modified>
  <cp:revision>10</cp:revision>
  <dc:subject/>
  <dc:title>Simple way to remember ions</dc:title>
</cp:coreProperties>
</file>