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715A-382D-49A8-B87F-22025F257A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4E69-B442-4863-A66C-F1D20309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F5C3-3813-48AA-9E72-AAEBCDB5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4093-2313-470B-9AC3-5779EEBA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1B5D-8E28-4C22-A8D7-37B4716B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3A73-A928-46BF-AB44-7710CD8B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10B0-B811-4A45-823D-C82584B1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F098-E135-4E99-A84C-2B25B473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6E23-4EEB-40E0-8EB8-24D3742D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5EE7-4344-4CB4-9FA9-A7B8CE20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2A83-1DF9-4F0C-8ED3-B1FBAEBD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43A3-FF0A-4DDD-8052-FCFF73F7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79C6-56DA-40E2-B946-14371D88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0934-6B5C-4EFE-9806-A0D2F9087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%3A%2F%2Fimages.search.yahoo.com%2Fsearch%2Fimages%3Fp%3Dan%2Box%26fr%3Dyfp-t-304%26toggle%3D1%26cop%3Dmss%26ei%3DUTF-8%26vm%3Dr&amp;w=325&amp;h=396&amp;imgurl=www.paulnoll.com%2FChina%2FZodiac%2Fzodiac-ox-pic.gif&amp;rurl=http%3A%2F%2Fwww.paulnoll.com%2FChina%2FZodiac%2Fzodiac-ox-pic.html&amp;size=7kB&amp;name=zodiac-ox-pic.gif&amp;p=an+ox&amp;type=gif&amp;no=8&amp;tt=454,392&amp;oid=195425518ca19bf6&amp;ei=UTF-8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676520"/>
            <a:ext cx="4876560" cy="3725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990720" y="60199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5791320" y="6019920"/>
            <a:ext cx="2076480" cy="457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2895480" y="10666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a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Go to fullsize image"/>
          <p:cNvPicPr/>
          <p:nvPr/>
        </p:nvPicPr>
        <p:blipFill>
          <a:blip r:embed="rId1"/>
          <a:stretch/>
        </p:blipFill>
        <p:spPr>
          <a:xfrm>
            <a:off x="1295280" y="1676520"/>
            <a:ext cx="6096240" cy="3886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8380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n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5715000" y="5867280"/>
            <a:ext cx="236232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3048120" y="10666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141720" y="106200"/>
            <a:ext cx="6002280" cy="6751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7924680" y="41911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4"/>
          <a:stretch/>
        </p:blipFill>
        <p:spPr>
          <a:xfrm>
            <a:off x="2971800" y="57150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5"/>
          <a:stretch/>
        </p:blipFill>
        <p:spPr>
          <a:xfrm>
            <a:off x="762120" y="2895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6"/>
          <a:stretch/>
        </p:blipFill>
        <p:spPr>
          <a:xfrm>
            <a:off x="1295280" y="47242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7"/>
          <a:stretch/>
        </p:blipFill>
        <p:spPr>
          <a:xfrm>
            <a:off x="3124080" y="45720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8"/>
          <a:stretch/>
        </p:blipFill>
        <p:spPr>
          <a:xfrm>
            <a:off x="2286000" y="16002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9"/>
          <a:stretch/>
        </p:blipFill>
        <p:spPr>
          <a:xfrm>
            <a:off x="2819520" y="22096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10"/>
          <a:stretch/>
        </p:blipFill>
        <p:spPr>
          <a:xfrm>
            <a:off x="2514600" y="43434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"/>
          <p:cNvPicPr/>
          <p:nvPr/>
        </p:nvPicPr>
        <p:blipFill>
          <a:blip r:embed="rId11"/>
          <a:stretch/>
        </p:blipFill>
        <p:spPr>
          <a:xfrm>
            <a:off x="8001000" y="53341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"/>
          <p:cNvPicPr/>
          <p:nvPr/>
        </p:nvPicPr>
        <p:blipFill>
          <a:blip r:embed="rId12"/>
          <a:stretch/>
        </p:blipFill>
        <p:spPr>
          <a:xfrm>
            <a:off x="8153280" y="10666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13"/>
          <a:stretch/>
        </p:blipFill>
        <p:spPr>
          <a:xfrm>
            <a:off x="4038480" y="23623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"/>
          <p:cNvPicPr/>
          <p:nvPr/>
        </p:nvPicPr>
        <p:blipFill>
          <a:blip r:embed="rId14"/>
          <a:stretch/>
        </p:blipFill>
        <p:spPr>
          <a:xfrm>
            <a:off x="3886200" y="44197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"/>
          <p:cNvPicPr/>
          <p:nvPr/>
        </p:nvPicPr>
        <p:blipFill>
          <a:blip r:embed="rId15"/>
          <a:stretch/>
        </p:blipFill>
        <p:spPr>
          <a:xfrm>
            <a:off x="8229600" y="2286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16"/>
          <a:stretch/>
        </p:blipFill>
        <p:spPr>
          <a:xfrm>
            <a:off x="4800600" y="0"/>
            <a:ext cx="628560" cy="5526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8"/>
          <p:cNvSpPr/>
          <p:nvPr/>
        </p:nvSpPr>
        <p:spPr>
          <a:xfrm>
            <a:off x="1752480" y="297180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304920" y="30492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27432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ion say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, for short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1"/>
          <a:stretch/>
        </p:blipFill>
        <p:spPr>
          <a:xfrm>
            <a:off x="2362320" y="1324080"/>
            <a:ext cx="4572000" cy="55339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3943080" cy="4191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1523880" y="1600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4"/>
          <a:stretch/>
        </p:blipFill>
        <p:spPr>
          <a:xfrm>
            <a:off x="6629400" y="36576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5"/>
          <a:stretch/>
        </p:blipFill>
        <p:spPr>
          <a:xfrm>
            <a:off x="1219320" y="4191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6"/>
          <a:stretch/>
        </p:blipFill>
        <p:spPr>
          <a:xfrm>
            <a:off x="685800" y="289548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7"/>
          <a:stretch/>
        </p:blipFill>
        <p:spPr>
          <a:xfrm>
            <a:off x="533520" y="5335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8"/>
          <a:stretch/>
        </p:blipFill>
        <p:spPr>
          <a:xfrm>
            <a:off x="7162920" y="46483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9"/>
          <a:stretch/>
        </p:blipFill>
        <p:spPr>
          <a:xfrm>
            <a:off x="6553080" y="2743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10"/>
          <a:stretch/>
        </p:blipFill>
        <p:spPr>
          <a:xfrm>
            <a:off x="4800600" y="990720"/>
            <a:ext cx="1619280" cy="8665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2"/>
          <p:cNvSpPr/>
          <p:nvPr/>
        </p:nvSpPr>
        <p:spPr>
          <a:xfrm>
            <a:off x="45720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cript MT Bold"/>
              </a:rPr>
              <a:t>a negatively charged 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352680" y="228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9:55:37Z</dcterms:created>
  <dc:creator>Student</dc:creator>
  <dc:description/>
  <dc:language>en-US</dc:language>
  <cp:lastModifiedBy>LEGION</cp:lastModifiedBy>
  <dcterms:modified xsi:type="dcterms:W3CDTF">2017-01-26T09:43:13Z</dcterms:modified>
  <cp:revision>10</cp:revision>
  <dc:subject/>
  <dc:title>Simple way to remember ions</dc:title>
</cp:coreProperties>
</file>