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wmf" ContentType="image/x-wmf"/>
  <Override PartName="/ppt/media/image16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72C-1B80-4BB7-AAE8-A3A355EEE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, &amp;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&amp; Sal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acid – produces hydrogen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base – produce hydroxide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pes of Acids and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acid – produces hydrogen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base – produce hydroxide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acid- donates a hydrogen io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 – Lowry base – accepts a hydroge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-Lowry acid- donates a hydrogen io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 – Lowry base – accepts a hydroge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berlake, Chemistry 7th Edition, page 3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of Common Substa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berlake, Chemistry 7th Edition, page 33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ctions with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tions with indicat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 changes color to indicate a specific pH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s in which pH is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bur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ing vegetables an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Tanks and P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tuations in which pH is contro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 H20     H3O +    +   Cl-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nium ions, more acid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in water    Na+   +   OH-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xide ions, more basic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+  HCl    NaCl   +  HOH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+ Base yields type of salt and water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  +   H20     H3O +    +   Cl-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in water    Na+   +   OH-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+  HCl    NaCl   +  HOH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CI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less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H +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-reacts with most metals to form hydroge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ACI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H +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Ra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pH is affected and can kill plants and create sink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SAL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oducts of a Neutraliza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KCl,  MgSO4,  Na3P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SAL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  KCl,  MgSO4,  Na3PO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ation Re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SO4 + NaOH  NaHSO4 +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ation Re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 + NaOH  NaHSO4 + H2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d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 and p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in the 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in the 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ophag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cids Generat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NO3  +  H2O       H3O+    +  N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Acids Generat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HNO3  +  H2O       H3O+    +  NO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- hydrochloric- stomach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- sulfuric acid - car batt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NO3 – nitric acid - explos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2H3O2- acetic acid - vin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CO3-carbonic acid – so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3PO4- phosphoric acid -flavor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Aci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- sulfuric acid - car batter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NO3 – nitric acid - explosi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2H3O2- acetic acid - vineg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CO3-carbonic acid – sod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3PO4- phosphoric acid -flavor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els slipp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s fats and 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forms OH-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forms OH-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Bases:  ammonia; potassium carbonate, sod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- sodium hydroxide (LYE) soaps,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g (OH)2 - magnesium hydroxide-ant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(OH)3-aluminum hydroxide-antacids, deodo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4OH-ammonium hydroxide- “ammon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g (OH)2 - magnesium hydroxide-ant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(OH)3-aluminum hydroxide-antacids, deodo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4OH-ammonium hydroxide- “ammonia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D5F-A4BD-474B-BAEC-E7B11027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BE3-27A4-482A-844F-55333D28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BF4-73D8-41F8-9E13-F5E1FD1E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CDC-A998-428A-921F-872ED13C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5BF2-50F4-4FB6-820F-0E66EE69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A279-029A-4475-9012-F64A0881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FFC5-2239-45E7-823F-BCDEE941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7C69-AC0E-4180-AFFC-E2F8F509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CE10-E247-4C96-8EC2-5896918F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E3A2-F80B-4F3D-9159-DC1766DE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0386-5CAD-43F2-92EB-A6A84EDF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CE5-74A3-40D4-B0B3-232FAEDB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53D8-6DA6-42D8-ACED-C52057D0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76A8-769D-41A2-A24D-B7B624C4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AB52-01C1-40E7-8F10-CB00B275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6FD3-A6AD-49AE-9019-55CAD7EC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CC36-CE5E-4E17-8ED0-1BB9FB2B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A2B-79B7-4E02-9EA0-4C85E4D5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310-E02E-426E-948B-7DD3BB61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A8D-A415-4FBF-A835-18123729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877-B0C7-432E-BE2F-024B4D5B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EB6-3C8C-4F29-B025-361A5D5D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333-EEC0-4825-A90F-E2D69C42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206-D64F-42B5-94C3-1221CD70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9CBC-7091-4E1B-9593-4588924AF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0F01-D66D-4B8C-8969-52ED1A917A7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cn.boulder.co.us/basin/data/COBWQ/info/pH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em.ucla.edu/~gchemlab/ph-paper.jpg&amp;imgrefurl=http://www.chem.ucla.edu/~gchemlab/lab_hardware_web.htm&amp;h=315&amp;w=375&amp;sz=11&amp;hl=en&amp;start=2&amp;tbnid=M6BvJEJBykPVhM:&amp;tbnh=102&amp;tbnw=122&amp;prev=/images%3Fq%3DpH%2Bpaper%26gbv%3D2%26hl%3Den%26safe%3Dactive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llv2.terc.edu/acidrain/content_students/session02/session02_01/images/s02_page02a_pic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plugged-in.org/images/parthenon2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ermontsoap.com/images/bathsalts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bonaire-travelguide.com/sights/photos/salt-index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genhealth.com/salt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sers.erols.com/interlac/homehy/vinegar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funset.com/images/pepsi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agitator.dynip.com/agitator/Generator/interstate.jpg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bird.org/store/clean/internal/acidsam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dbushtea.com/soap/images/soap.jpg&amp;imgrefurl=http://www.redbushtea.com/soap/soap.html&amp;h=203&amp;w=257&amp;prev=/images%3Fq%3Dsoap%26svnum%3D10%26hl%3Den%26lr%3D%26ie%3DUTF-8%26o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nn.com/HEALTH/9708/15/nfm.heartburn.hiding/antacid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epa.gov/grtlakes/seahome/housewaste/images/hhwp18.gif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images.google.com/imgres?imgurl=www.speedstick.com/images/deodorants/products.jpg&amp;imgrefurl=http://www.speedstick.com/deodorants.html&amp;h=279&amp;w=325&amp;prev=/images%3Fq%3Ddeodorants%26svnum%3D10%26hl%3Den%26lr%3D%26ie%3DUTF-8%26oe%3DUTF-8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Jester"/>
              </a:rPr>
              <a:t>Acids, Bases, &amp; Salts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wnter_01.mid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8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Acids and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aci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s hydrogen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ba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 hydroxide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-Lowry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onates a hydrogen io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 – Lowry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accepts a hydroge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ound formed when an base gain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compound formed when an acid lose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5" name="Picture 4" descr="pH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66680" y="1371600"/>
            <a:ext cx="6400800" cy="54039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86364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pH of Common Substan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pH of common substances"/>
          <p:cNvPicPr/>
          <p:nvPr/>
        </p:nvPicPr>
        <p:blipFill>
          <a:blip r:embed="rId1"/>
          <a:stretch/>
        </p:blipFill>
        <p:spPr>
          <a:xfrm>
            <a:off x="176040" y="1143000"/>
            <a:ext cx="8967960" cy="5562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280080" y="6248520"/>
            <a:ext cx="21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Timberlake, </a:t>
            </a:r>
            <a:r>
              <a:rPr b="0" lang="en-US" sz="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Chemistry 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0" lang="en-US" sz="8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th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 Edition, page 335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2">
            <a:hlinkClick r:id="rId2" action="ppaction://hlinksldjump"/>
          </p:cNvPr>
          <p:cNvSpPr/>
          <p:nvPr/>
        </p:nvSpPr>
        <p:spPr>
          <a:xfrm>
            <a:off x="177840" y="581508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with indicat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752480"/>
          <a:ext cx="7467840" cy="4267440"/>
        </p:xfrm>
        <a:graphic>
          <a:graphicData uri="http://schemas.openxmlformats.org/drawingml/2006/table">
            <a:tbl>
              <a:tblPr/>
              <a:tblGrid>
                <a:gridCol w="2590920"/>
                <a:gridCol w="1557360"/>
                <a:gridCol w="1660680"/>
                <a:gridCol w="1658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t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cid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eutral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se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henolphthalei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orles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aint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rk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romthymol 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tmu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pap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2" descr="http://tbn0.google.com/images?q=tbn:M6BvJEJBykPVhM:http://www.chem.ucla.edu/~gchemlab/ph-pap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09680"/>
            <a:ext cx="3047760" cy="2667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uffer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ituations in which pH is controlle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s and Bases in Solut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  + 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+  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in water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N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+  HCl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aCl   +  HOH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monia gas + water yields ammonium and hydroxide 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n ACID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orms H </a:t>
            </a:r>
            <a:r>
              <a:rPr b="0" lang="en-US" sz="4000" spc="-1" strike="noStrike" baseline="56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2631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 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j0322362.wav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www.chemistry.wustl.edu/~edudev/LabTutorials/Water/FreshWater/images/Eqn1.jpg"/>
          <p:cNvPicPr/>
          <p:nvPr/>
        </p:nvPicPr>
        <p:blipFill>
          <a:blip r:embed="rId2"/>
          <a:stretch/>
        </p:blipFill>
        <p:spPr>
          <a:xfrm>
            <a:off x="685800" y="3886200"/>
            <a:ext cx="2857680" cy="3333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10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286000" y="24591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cidraindamage"/>
          <p:cNvPicPr/>
          <p:nvPr/>
        </p:nvPicPr>
        <p:blipFill>
          <a:blip r:embed="rId1"/>
          <a:stretch/>
        </p:blipFill>
        <p:spPr>
          <a:xfrm>
            <a:off x="152280" y="2286000"/>
            <a:ext cx="2971800" cy="211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s02_page02a_pic">
            <a:hlinkClick r:id="rId2"/>
          </p:cNvPr>
          <p:cNvPicPr/>
          <p:nvPr/>
        </p:nvPicPr>
        <p:blipFill>
          <a:blip r:embed="rId3"/>
          <a:srcRect l="9343" t="0" r="0" b="9383"/>
          <a:stretch/>
        </p:blipFill>
        <p:spPr>
          <a:xfrm>
            <a:off x="3200400" y="220968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parthenon2">
            <a:hlinkClick r:id="rId4"/>
          </p:cNvPr>
          <p:cNvPicPr/>
          <p:nvPr/>
        </p:nvPicPr>
        <p:blipFill>
          <a:blip r:embed="rId5"/>
          <a:srcRect l="4689" t="7617" r="6118" b="8576"/>
          <a:stretch/>
        </p:blipFill>
        <p:spPr>
          <a:xfrm>
            <a:off x="609480" y="4800600"/>
            <a:ext cx="289584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burlington"/>
          <p:cNvPicPr/>
          <p:nvPr/>
        </p:nvPicPr>
        <p:blipFill>
          <a:blip r:embed="rId6"/>
          <a:stretch/>
        </p:blipFill>
        <p:spPr>
          <a:xfrm>
            <a:off x="5072040" y="3268800"/>
            <a:ext cx="4071960" cy="3589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542880" y="246852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12" descr="STOPTRANSPARK.ORG"/>
          <p:cNvPicPr/>
          <p:nvPr/>
        </p:nvPicPr>
        <p:blipFill>
          <a:blip r:embed="rId7"/>
          <a:stretch/>
        </p:blipFill>
        <p:spPr>
          <a:xfrm>
            <a:off x="304920" y="152280"/>
            <a:ext cx="8515080" cy="1920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image12"/>
          <p:cNvPicPr/>
          <p:nvPr/>
        </p:nvPicPr>
        <p:blipFill>
          <a:blip r:embed="rId1"/>
          <a:srcRect l="3919" t="13645" r="4641" b="1917"/>
          <a:stretch/>
        </p:blipFill>
        <p:spPr>
          <a:xfrm>
            <a:off x="-380880" y="-42840"/>
            <a:ext cx="9677160" cy="6997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media.miamiherald.com/smedia/2008/05/07/22/Texas_Sinkhole.sff.embedded.prod_affiliate.56.jpg"/>
          <p:cNvPicPr/>
          <p:nvPr/>
        </p:nvPicPr>
        <p:blipFill>
          <a:blip r:embed="rId1"/>
          <a:stretch/>
        </p:blipFill>
        <p:spPr>
          <a:xfrm>
            <a:off x="2362320" y="1143000"/>
            <a:ext cx="4190760" cy="46483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is a SAL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:  KCl,  Mg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 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5" descr="bathsal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181480"/>
            <a:ext cx="1981440" cy="133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alt-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5029200"/>
            <a:ext cx="223992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sa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4572000"/>
            <a:ext cx="1257120" cy="20001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tralization Reactio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4 + NaOH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aH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gestion and p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7" descr="Eating"/>
          <p:cNvPicPr/>
          <p:nvPr/>
        </p:nvPicPr>
        <p:blipFill>
          <a:blip r:embed="rId1"/>
          <a:stretch/>
        </p:blipFill>
        <p:spPr>
          <a:xfrm>
            <a:off x="6400800" y="4883040"/>
            <a:ext cx="1494000" cy="146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990720" y="510552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in the Digestive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SN002378.wav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j0092378.wav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9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359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digestive_sys"/>
          <p:cNvPicPr/>
          <p:nvPr/>
        </p:nvPicPr>
        <p:blipFill>
          <a:blip r:embed="rId1"/>
          <a:stretch/>
        </p:blipFill>
        <p:spPr>
          <a:xfrm>
            <a:off x="609480" y="533520"/>
            <a:ext cx="4643640" cy="6019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7010280" y="12193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919560" y="1946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99160" y="30891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848200" y="39276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72600" y="49942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3657240" y="1447920"/>
            <a:ext cx="3429000" cy="3045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2819520" y="2209680"/>
            <a:ext cx="4114800" cy="4572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3200040" y="3429000"/>
            <a:ext cx="2438280" cy="6094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3276360" y="4267080"/>
            <a:ext cx="2514600" cy="11430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 flipH="1" flipV="1">
            <a:off x="3048120" y="5105160"/>
            <a:ext cx="2666880" cy="759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80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cids Generate Ions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00760" y="3179880"/>
            <a:ext cx="8224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+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    </a:t>
            </a:r>
            <a:r>
              <a:rPr b="0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+  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Acids, Bases, and Salts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The End 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SN002378.wav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35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Aci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Acid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049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sulfuric acid - car bat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3200" spc="-1" strike="noStrike" baseline="-34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nitric acid - explos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acetic acid - vineg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carbonic acid – so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phosphoric acid -flavo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32080" y="293688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9320" y="350532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9" descr="ph02814j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5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vineg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02920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pepsi">
            <a:hlinkClick r:id="rId4"/>
          </p:cNvPr>
          <p:cNvPicPr/>
          <p:nvPr/>
        </p:nvPicPr>
        <p:blipFill>
          <a:blip r:embed="rId5"/>
          <a:srcRect l="-4150" t="-4148" r="4168" b="11777"/>
          <a:stretch/>
        </p:blipFill>
        <p:spPr>
          <a:xfrm>
            <a:off x="3352680" y="510552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intersta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914400"/>
            <a:ext cx="1904760" cy="1782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acids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65280" y="380880"/>
            <a:ext cx="400392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 BASE?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ly forms OH</a:t>
            </a:r>
            <a:r>
              <a:rPr b="0" lang="en-US" sz="4400" spc="-1" strike="noStrike" baseline="52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g 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 magnesium hydroxide-ant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aluminum hydroxide-antacids, deodor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H-ammonium hydroxide- “ammoni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7" descr="so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952880"/>
            <a:ext cx="1371600" cy="11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tacids">
            <a:hlinkClick r:id="rId3"/>
          </p:cNvPr>
          <p:cNvPicPr/>
          <p:nvPr/>
        </p:nvPicPr>
        <p:blipFill>
          <a:blip r:embed="rId4"/>
          <a:srcRect l="0" t="0" r="0" b="8540"/>
          <a:stretch/>
        </p:blipFill>
        <p:spPr>
          <a:xfrm>
            <a:off x="380880" y="4876920"/>
            <a:ext cx="2438640" cy="170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hhwp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464832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roduc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80880"/>
            <a:ext cx="127944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0:14:55Z</dcterms:created>
  <dc:creator>Kellye McDowell</dc:creator>
  <dc:description/>
  <dc:language>en-US</dc:language>
  <cp:lastModifiedBy>LEGION</cp:lastModifiedBy>
  <dcterms:modified xsi:type="dcterms:W3CDTF">2017-01-26T09:10:09Z</dcterms:modified>
  <cp:revision>24</cp:revision>
  <dc:subject/>
  <dc:title>Acids, Bases, &amp; Salts</dc:title>
</cp:coreProperties>
</file>