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9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8.jpeg" ContentType="image/jpeg"/>
  <Override PartName="/ppt/media/image6.png" ContentType="image/png"/>
  <Override PartName="/ppt/media/image10.jpeg" ContentType="image/jpeg"/>
  <Override PartName="/ppt/media/image8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7.wmf" ContentType="image/x-wmf"/>
  <Override PartName="/ppt/media/image16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14.png" ContentType="image/png"/>
  <Override PartName="/ppt/media/image21.png" ContentType="image/png"/>
  <Override PartName="/ppt/media/image18.jpeg" ContentType="image/jpeg"/>
  <Override PartName="/ppt/media/image2.jpeg" ContentType="image/jpeg"/>
  <Override PartName="/ppt/media/image23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456F6-FB50-4FFA-A97F-1DB1FE4CDE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s, Bases, &amp; Sa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ids, Bases, &amp; Sal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Acids and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the 1800’s chemical concepts were based on the reactions of aqueous solu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vante Arrhenius developed a concept of acids and bases relevant to reactions in H2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henius acid – produces hydrogen ions in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rhenius base – produce hydroxide ions in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ypes of Acids and B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 the 1800’s chemical concepts were based on the reactions of aqueous solutio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vante Arrhenius developed a concept of acids and bases relevant to reactions in H2O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rhenius acid – produces hydrogen ions in wa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rhenius base – produce hydroxide ions in wa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roader ,more modern concept of acids and bases was developed l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nsted-Lowry acid- donates a hydrogen ion in a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nsted – Lowry base – accepts a hydrogen in a rea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roader ,more modern concept of acids and bases was developed la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onsted-Lowry acid- donates a hydrogen ion in a reac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onsted – Lowry base – accepts a hydrogen in a reac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gate acid- compound formed when an base gains a hydrogen 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jugate base – compound formed when an acid loses a hydrogen 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jugate acid- compound formed when an base gains a hydrogen 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jugate base – compound formed when an acid loses a hydrogen 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pH Sca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Sca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of Common Substan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imberlake, Chemistry 7th Edition, page 33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of Common Substanc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imberlake, Chemistry 7th Edition, page 33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Reactions with indicato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actions with indicato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pap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paper changes color to indicate a specific pH val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pap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paper changes color to indicate a specific pH valu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ffer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uffer is a solution that resists changes in pH when small amounts of acids and bases are ad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uffers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uffer is a solution that resists changes in pH when small amounts of acids and bases are add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tuations in which pH is controll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rtburn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anting vegetables and flow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sh Tanks and Pon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oo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mming poo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tuations in which pH is controll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rtburn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anting vegetables and flower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sh Tanks and Pon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oo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wimming poo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s and Bases in Solu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l  +   H20     H3O +    +   Cl-   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more hydronium ions, more acidic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OH  in water    Na+   +   OH-           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(more hydroxide ions, more basic)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OH  +  HCl    NaCl   +  HOH            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cid + Base yields type of salt and water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H3 + H20    NH4+   +   OH-                  ammonia gas + water yields ammonium and hydroxide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ids and Bases in Solution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Cl  +   H20     H3O +    +   Cl-           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more hydronium ions, more acidic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OH  in water    Na+   +   OH-        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more hydroxide ions, more basic)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OH  +  HCl    NaCl   +  HOH        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id + Base yields type of salt and water            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H3 + H20    NH4+   +   OH-                  ammonia gas + water yields ammonium and hydroxide 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n ACI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less than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izes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s H + ions in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osive-reacts with most metals to form hydrogen 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od conductors of electricity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an ACID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less than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utralizes b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ms H + ions in solu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rrosive-reacts with most metals to form hydrogen ga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ood conductors of electricity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 Rai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llution in the air (sulfur dioxide, carbon dioxide, nitrogen dioxide) combines with water to form various acid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id Rai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ollution in the air (sulfur dioxide, carbon dioxide, nitrogen dioxide) combines with water to form various acid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apid changes in pH can kill fish and other organisms in lakes and strea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il pH is affected and can kill plants and create sinkho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apid changes in pH can kill fish and other organisms in lakes and stream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il pH is affected and can kill plants and create sinkhol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SAL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salt is a neutral substance produced from the reaction of an acid and a b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osed of the negative ion of an acid and the positive ion of a b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products of a Neutralization Re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:  KCl,  MgSO4,  Na3PO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a SALT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salt is a neutral substance produced from the reaction of an acid and a b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osed of the negative ion of an acid and the positive ion of a b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ne of the products of a Neutralization Re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amples:  KCl,  MgSO4,  Na3PO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ization Rea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eutralization reaction is the reaction of an acid with a base to produce salt and wa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2SO4 + NaOH  NaHSO4 + H2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utralization Reaction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neutralization reaction is the reaction of an acid with a base to produce salt and wat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ample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2SO4 + NaOH  NaHSO4 + H2O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on and p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on-process by which foods are broken down into simpler substan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chanical digestion-physical process in which food is torn apart (mouth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 digestion- chemical reactions in which large molecules are broken down into smaller molecules. (stomach and small intestine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gestion and p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gestion-process by which foods are broken down into simpler substanc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chanical digestion-physical process in which food is torn apart (mouth)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hemical digestion- chemical reactions in which large molecules are broken down into smaller molecules. (stomach and small intestines)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in the Digestive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uth-pH around 7.  Saliva contains amylase, an enzyme which begins to break carbohydrates into suga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- pH around 2. Proteins are broken down into amino acids by the enzyme peps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all intestine-pH around 8.  Most digestion ends.  Small molecules move to bloodstream toward cells that use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in the Digestive Syst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uth-pH around 7.  Saliva contains amylase, an enzyme which begins to break carbohydrates into sugars.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omach- pH around 2. Proteins are broken down into amino acids by the enzyme pepsi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mall intestine-pH around 8.  Most digestion ends.  Small molecules move to bloodstream toward cells that use th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u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sophag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oma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mall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rge intestin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gestive syst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ut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sophag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omach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mall intesti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arge intestin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gestive syste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Acids Generate 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HNO3  +  H2O       H3O+    +  NO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Acids Generate 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cc"/>
                </a:solidFill>
                <a:latin typeface="Times New Roman"/>
              </a:rPr>
              <a:t>HNO3  +  H2O       H3O+    +  NO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cids, Bases, and Salts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nd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cids, Bases, and Salts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End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eak vs. Strong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eak Acids do not ionize completely: Acetic, Boric, Nitrous, Phosphoric, Sulfuro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rong Acids ionize completely: Hydrochloric, Nitric; Sulfuric, Hydriod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eak vs. Strong Aci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eak Acids do not ionize completely: Acetic, Boric, Nitrous, Phosphoric, Sulfuro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rong Acids ionize completely: Hydrochloric, Nitric; Sulfuric, Hydriodic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mon Acid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l- hydrochloric- stomach aci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2SO4- sulfuric acid - car batt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NO3 – nitric acid - explosiv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C2H3O2- acetic acid - vinega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2CO3-carbonic acid – sod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H3PO4- phosphoric acid -flavoring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mon Acid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Cl- hydrochloric- stomach aci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2SO4- sulfuric acid - car batteri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NO3 – nitric acid - explosiv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C2H3O2- acetic acid - vinega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2CO3-carbonic acid – soda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3PO4- phosphoric acid -flavoring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BASE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 greater than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els slipper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solves fats and oi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ually forms OH- ions in solu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utralizes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is a BASE?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 greater than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eels slippe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ssolves fats and oi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ually forms OH- ions in solu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utralizes aci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eak vs. Strong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Weak Bases:  ammonia; potassium carbonate, sodium carbon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Strong Bases:  sodium hydroxide; sodium phosphate; barium hydroxide; calcium hydroxid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eak vs. Strong B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eak Bases:  ammonia; potassium carbonate, sodium carbonat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rong Bases:  sodium hydroxide; sodium phosphate; barium hydroxide; calcium hydroxid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Common B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aOH- sodium hydroxide (LYE) soaps, drain clean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Mg (OH)2 - magnesium hydroxide-ant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Al(OH)3-aluminum hydroxide-antacids, deodora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Calibri"/>
              </a:rPr>
              <a:t>NH4OH-ammonium hydroxide- “ammonia”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mon B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aOH- sodium hydroxide (LYE) soaps, drain clean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g (OH)2 - magnesium hydroxide-antaci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(OH)3-aluminum hydroxide-antacids, deodora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H4OH-ammonium hydroxide- “ammonia”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5534-83C4-4592-B5B8-86694151C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67EB-81E1-4761-9942-1800757E8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5AB5-7AAF-4321-8644-0FA78D0A63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FD3B3-BECF-41EC-BB3A-065603988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A7654-F093-40C5-8706-A867F0490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F2403-6BA5-42AE-A5ED-4B83D00D6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D93B4-F3FA-455D-AB98-FE3C55861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78C2F-BBA1-4E11-A920-7B9CC4222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D73EA-A160-46E4-B9E0-875B84D7D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BDC3A-4A9E-4032-B854-41C41DEF8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40BD5-A8C8-4B38-BAF5-5D265407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05855-8708-48F7-BB52-DE8265457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ECB4E-BCD5-431F-89DE-CCDD52CDD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28A9-ABA4-4691-99A5-CA33C0DCC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38804-6215-40CF-8FAF-0119E0D39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21AF1-D972-4068-A491-1B7919765D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AD7D0-BE9A-4DC6-BC40-187069AF9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1C038-6434-43FD-8708-64E61BCA8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AC9C-031D-4C63-9866-6095AEE45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7A76B-090F-4853-BFF5-19C1770F6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B9AD7-73D3-46BE-9EAE-69A0B6208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B7B1F-2B11-4885-AEE2-91582B462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2BC6-9F51-493C-856D-7CAAEBEF8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0D9F-3F69-40F0-95EE-F1B7A3209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F6F5F-24C3-4294-8D09-7A3CE57B9D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20011"/>
            </a:gs>
            <a:gs pos="50000">
              <a:srgbClr val="660033"/>
            </a:gs>
            <a:gs pos="100000">
              <a:srgbClr val="220011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918480"/>
            <a:chOff x="0" y="0"/>
            <a:chExt cx="9144000" cy="6918480"/>
          </a:xfrm>
        </p:grpSpPr>
        <p:sp>
          <p:nvSpPr>
            <p:cNvPr id="51" name="Rectangle 3"/>
            <p:cNvSpPr/>
            <p:nvPr/>
          </p:nvSpPr>
          <p:spPr>
            <a:xfrm>
              <a:off x="8783640" y="444600"/>
              <a:ext cx="360360" cy="3152520"/>
            </a:xfrm>
            <a:prstGeom prst="rect">
              <a:avLst/>
            </a:prstGeom>
            <a:gradFill rotWithShape="0">
              <a:gsLst>
                <a:gs pos="0">
                  <a:srgbClr val="220011"/>
                </a:gs>
                <a:gs pos="50000">
                  <a:srgbClr val="9c004e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0" y="0"/>
              <a:ext cx="9144000" cy="2133720"/>
            </a:xfrm>
            <a:custGeom>
              <a:avLst/>
              <a:gdLst/>
              <a:ahLst/>
              <a:rect l="l" t="t" r="r" b="b"/>
              <a:pathLst>
                <a:path w="5760" h="1104">
                  <a:moveTo>
                    <a:pt x="0" y="0"/>
                  </a:moveTo>
                  <a:lnTo>
                    <a:pt x="5760" y="0"/>
                  </a:lnTo>
                  <a:lnTo>
                    <a:pt x="5760" y="720"/>
                  </a:lnTo>
                  <a:cubicBezTo>
                    <a:pt x="5400" y="824"/>
                    <a:pt x="4560" y="577"/>
                    <a:pt x="3600" y="624"/>
                  </a:cubicBezTo>
                  <a:cubicBezTo>
                    <a:pt x="2640" y="671"/>
                    <a:pt x="600" y="1104"/>
                    <a:pt x="0" y="1000"/>
                  </a:cubicBez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0" y="1163520"/>
              <a:ext cx="9144000" cy="5694480"/>
            </a:xfrm>
            <a:custGeom>
              <a:avLst/>
              <a:gdLst/>
              <a:ahLst/>
              <a:rect l="l" t="t" r="r" b="b"/>
              <a:pathLst>
                <a:path w="5760" h="3587">
                  <a:moveTo>
                    <a:pt x="0" y="582"/>
                  </a:moveTo>
                  <a:cubicBezTo>
                    <a:pt x="1027" y="680"/>
                    <a:pt x="1960" y="387"/>
                    <a:pt x="2640" y="267"/>
                  </a:cubicBezTo>
                  <a:cubicBezTo>
                    <a:pt x="2640" y="267"/>
                    <a:pt x="3268" y="180"/>
                    <a:pt x="3373" y="160"/>
                  </a:cubicBezTo>
                  <a:cubicBezTo>
                    <a:pt x="4120" y="0"/>
                    <a:pt x="5280" y="358"/>
                    <a:pt x="5760" y="358"/>
                  </a:cubicBezTo>
                  <a:lnTo>
                    <a:pt x="5760" y="3587"/>
                  </a:lnTo>
                  <a:lnTo>
                    <a:pt x="0" y="3587"/>
                  </a:lnTo>
                  <a:cubicBezTo>
                    <a:pt x="0" y="3587"/>
                    <a:pt x="0" y="582"/>
                    <a:pt x="0" y="582"/>
                  </a:cubicBezTo>
                  <a:close/>
                </a:path>
              </a:pathLst>
            </a:custGeom>
            <a:gradFill rotWithShape="0">
              <a:gsLst>
                <a:gs pos="0">
                  <a:srgbClr val="220011"/>
                </a:gs>
                <a:gs pos="50000">
                  <a:srgbClr val="660033"/>
                </a:gs>
                <a:gs pos="100000">
                  <a:srgbClr val="220011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0" y="291960"/>
              <a:ext cx="9144000" cy="854280"/>
            </a:xfrm>
            <a:custGeom>
              <a:avLst/>
              <a:gdLst/>
              <a:ahLst/>
              <a:rect l="l" t="t" r="r" b="b"/>
              <a:pathLst>
                <a:path w="5760" h="538">
                  <a:moveTo>
                    <a:pt x="0" y="163"/>
                  </a:moveTo>
                  <a:lnTo>
                    <a:pt x="0" y="403"/>
                  </a:lnTo>
                  <a:cubicBezTo>
                    <a:pt x="295" y="450"/>
                    <a:pt x="1011" y="481"/>
                    <a:pt x="1773" y="443"/>
                  </a:cubicBezTo>
                  <a:cubicBezTo>
                    <a:pt x="2535" y="405"/>
                    <a:pt x="3909" y="161"/>
                    <a:pt x="4573" y="176"/>
                  </a:cubicBezTo>
                  <a:cubicBezTo>
                    <a:pt x="5237" y="191"/>
                    <a:pt x="5562" y="538"/>
                    <a:pt x="5760" y="536"/>
                  </a:cubicBezTo>
                  <a:lnTo>
                    <a:pt x="5760" y="163"/>
                  </a:lnTo>
                  <a:cubicBezTo>
                    <a:pt x="5560" y="79"/>
                    <a:pt x="5189" y="0"/>
                    <a:pt x="4560" y="29"/>
                  </a:cubicBezTo>
                  <a:cubicBezTo>
                    <a:pt x="3931" y="58"/>
                    <a:pt x="2747" y="314"/>
                    <a:pt x="1987" y="336"/>
                  </a:cubicBezTo>
                  <a:cubicBezTo>
                    <a:pt x="1227" y="358"/>
                    <a:pt x="414" y="199"/>
                    <a:pt x="0" y="163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220011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0" y="2405160"/>
              <a:ext cx="9144000" cy="1069920"/>
            </a:xfrm>
            <a:custGeom>
              <a:avLst/>
              <a:gdLst/>
              <a:ahLst/>
              <a:rect l="l" t="t" r="r" b="b"/>
              <a:pathLst>
                <a:path w="5760" h="674">
                  <a:moveTo>
                    <a:pt x="0" y="246"/>
                  </a:moveTo>
                  <a:lnTo>
                    <a:pt x="0" y="406"/>
                  </a:lnTo>
                  <a:cubicBezTo>
                    <a:pt x="213" y="463"/>
                    <a:pt x="1009" y="616"/>
                    <a:pt x="1280" y="645"/>
                  </a:cubicBezTo>
                  <a:cubicBezTo>
                    <a:pt x="1551" y="674"/>
                    <a:pt x="1092" y="669"/>
                    <a:pt x="1627" y="580"/>
                  </a:cubicBezTo>
                  <a:cubicBezTo>
                    <a:pt x="2162" y="491"/>
                    <a:pt x="3804" y="109"/>
                    <a:pt x="4493" y="113"/>
                  </a:cubicBezTo>
                  <a:cubicBezTo>
                    <a:pt x="5182" y="117"/>
                    <a:pt x="5549" y="586"/>
                    <a:pt x="5760" y="606"/>
                  </a:cubicBezTo>
                  <a:lnTo>
                    <a:pt x="5760" y="233"/>
                  </a:lnTo>
                  <a:cubicBezTo>
                    <a:pt x="5471" y="158"/>
                    <a:pt x="4818" y="0"/>
                    <a:pt x="4040" y="33"/>
                  </a:cubicBezTo>
                  <a:cubicBezTo>
                    <a:pt x="3262" y="66"/>
                    <a:pt x="1766" y="398"/>
                    <a:pt x="1093" y="433"/>
                  </a:cubicBezTo>
                  <a:cubicBezTo>
                    <a:pt x="420" y="468"/>
                    <a:pt x="228" y="285"/>
                    <a:pt x="0" y="246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2476440" y="1522440"/>
              <a:ext cx="6667560" cy="5335560"/>
            </a:xfrm>
            <a:custGeom>
              <a:avLst/>
              <a:gdLst/>
              <a:ahLst/>
              <a:rect l="l" t="t" r="r" b="b"/>
              <a:pathLst>
                <a:path w="4200" h="3361">
                  <a:moveTo>
                    <a:pt x="0" y="3361"/>
                  </a:moveTo>
                  <a:cubicBezTo>
                    <a:pt x="118" y="2850"/>
                    <a:pt x="354" y="590"/>
                    <a:pt x="1054" y="295"/>
                  </a:cubicBezTo>
                  <a:cubicBezTo>
                    <a:pt x="1754" y="0"/>
                    <a:pt x="3676" y="1299"/>
                    <a:pt x="4200" y="1588"/>
                  </a:cubicBezTo>
                  <a:lnTo>
                    <a:pt x="4200" y="2028"/>
                  </a:lnTo>
                  <a:cubicBezTo>
                    <a:pt x="3700" y="1837"/>
                    <a:pt x="1842" y="220"/>
                    <a:pt x="1200" y="442"/>
                  </a:cubicBezTo>
                  <a:cubicBezTo>
                    <a:pt x="558" y="664"/>
                    <a:pt x="547" y="2875"/>
                    <a:pt x="347" y="3361"/>
                  </a:cubicBezTo>
                  <a:lnTo>
                    <a:pt x="0" y="3361"/>
                  </a:ln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7" name="Freeform 9"/>
            <p:cNvSpPr/>
            <p:nvPr/>
          </p:nvSpPr>
          <p:spPr>
            <a:xfrm>
              <a:off x="0" y="3443400"/>
              <a:ext cx="9144000" cy="3055680"/>
            </a:xfrm>
            <a:custGeom>
              <a:avLst/>
              <a:gdLst/>
              <a:ahLst/>
              <a:rect l="l" t="t" r="r" b="b"/>
              <a:pathLst>
                <a:path w="5760" h="1925">
                  <a:moveTo>
                    <a:pt x="0" y="804"/>
                  </a:moveTo>
                  <a:lnTo>
                    <a:pt x="0" y="991"/>
                  </a:lnTo>
                  <a:cubicBezTo>
                    <a:pt x="258" y="1160"/>
                    <a:pt x="1005" y="1925"/>
                    <a:pt x="1547" y="1818"/>
                  </a:cubicBezTo>
                  <a:cubicBezTo>
                    <a:pt x="2089" y="1711"/>
                    <a:pt x="2551" y="398"/>
                    <a:pt x="3253" y="351"/>
                  </a:cubicBezTo>
                  <a:cubicBezTo>
                    <a:pt x="3955" y="304"/>
                    <a:pt x="5342" y="1404"/>
                    <a:pt x="5760" y="1537"/>
                  </a:cubicBezTo>
                  <a:lnTo>
                    <a:pt x="5760" y="1151"/>
                  </a:lnTo>
                  <a:cubicBezTo>
                    <a:pt x="5405" y="1124"/>
                    <a:pt x="3982" y="0"/>
                    <a:pt x="3240" y="84"/>
                  </a:cubicBezTo>
                  <a:cubicBezTo>
                    <a:pt x="2542" y="171"/>
                    <a:pt x="2113" y="1551"/>
                    <a:pt x="1573" y="1671"/>
                  </a:cubicBezTo>
                  <a:cubicBezTo>
                    <a:pt x="1033" y="1791"/>
                    <a:pt x="262" y="826"/>
                    <a:pt x="0" y="804"/>
                  </a:cubicBezTo>
                  <a:close/>
                </a:path>
              </a:pathLst>
            </a:custGeom>
            <a:gradFill rotWithShape="0">
              <a:gsLst>
                <a:gs pos="0">
                  <a:srgbClr val="660033"/>
                </a:gs>
                <a:gs pos="50000">
                  <a:srgbClr val="56002b"/>
                </a:gs>
                <a:gs pos="100000">
                  <a:srgbClr val="660033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3552840"/>
              <a:ext cx="6237360" cy="3365640"/>
            </a:xfrm>
            <a:custGeom>
              <a:avLst/>
              <a:gdLst/>
              <a:ahLst/>
              <a:rect l="l" t="t" r="r" b="b"/>
              <a:pathLst>
                <a:path w="4196" h="2120">
                  <a:moveTo>
                    <a:pt x="0" y="415"/>
                  </a:moveTo>
                  <a:lnTo>
                    <a:pt x="0" y="508"/>
                  </a:lnTo>
                  <a:cubicBezTo>
                    <a:pt x="160" y="577"/>
                    <a:pt x="1280" y="138"/>
                    <a:pt x="1933" y="229"/>
                  </a:cubicBezTo>
                  <a:cubicBezTo>
                    <a:pt x="2586" y="320"/>
                    <a:pt x="3644" y="746"/>
                    <a:pt x="3920" y="1055"/>
                  </a:cubicBezTo>
                  <a:cubicBezTo>
                    <a:pt x="4196" y="1364"/>
                    <a:pt x="3583" y="2120"/>
                    <a:pt x="3587" y="2082"/>
                  </a:cubicBezTo>
                  <a:lnTo>
                    <a:pt x="3947" y="829"/>
                  </a:lnTo>
                  <a:cubicBezTo>
                    <a:pt x="3725" y="494"/>
                    <a:pt x="2911" y="138"/>
                    <a:pt x="2253" y="69"/>
                  </a:cubicBezTo>
                  <a:cubicBezTo>
                    <a:pt x="1595" y="0"/>
                    <a:pt x="469" y="343"/>
                    <a:pt x="0" y="415"/>
                  </a:cubicBezTo>
                  <a:close/>
                </a:path>
              </a:pathLst>
            </a:custGeom>
            <a:gradFill rotWithShape="0">
              <a:gsLst>
                <a:gs pos="0">
                  <a:srgbClr val="56002b"/>
                </a:gs>
                <a:gs pos="50000">
                  <a:srgbClr val="660033"/>
                </a:gs>
                <a:gs pos="100000">
                  <a:srgbClr val="56002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036A3-AE16-4DCD-8144-5480DBA81767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bcn.boulder.co.us/basin/data/COBWQ/info/pH.gif" TargetMode="External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chem.ucla.edu/~gchemlab/ph-paper.jpg&amp;imgrefurl=http://www.chem.ucla.edu/~gchemlab/lab_hardware_web.htm&amp;h=315&amp;w=375&amp;sz=11&amp;hl=en&amp;start=2&amp;tbnid=M6BvJEJBykPVhM:&amp;tbnh=102&amp;tbnw=122&amp;prev=/images%3Fq%3DpH%2Bpaper%26gbv%3D2%26hl%3Den%26safe%3Dactive%26sa%3DG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hyperlink" Target="http://llv2.terc.edu/acidrain/content_students/session02/session02_01/images/s02_page02a_pic.jpg" TargetMode="External"/><Relationship Id="rId3" Type="http://schemas.openxmlformats.org/officeDocument/2006/relationships/image" Target="../media/image17.jpeg"/><Relationship Id="rId4" Type="http://schemas.openxmlformats.org/officeDocument/2006/relationships/hyperlink" Target="http://www.plugged-in.org/images/parthenon2.jpg" TargetMode="External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www.vermontsoap.com/images/bathsalts.jpg" TargetMode="External"/><Relationship Id="rId2" Type="http://schemas.openxmlformats.org/officeDocument/2006/relationships/image" Target="../media/image23.jpeg"/><Relationship Id="rId3" Type="http://schemas.openxmlformats.org/officeDocument/2006/relationships/hyperlink" Target="http://www.bonaire-travelguide.com/sights/photos/salt-index.jpg" TargetMode="External"/><Relationship Id="rId4" Type="http://schemas.openxmlformats.org/officeDocument/2006/relationships/image" Target="../media/image24.jpeg"/><Relationship Id="rId5" Type="http://schemas.openxmlformats.org/officeDocument/2006/relationships/hyperlink" Target="http://www.genhealth.com/salt.jpg" TargetMode="External"/><Relationship Id="rId6" Type="http://schemas.openxmlformats.org/officeDocument/2006/relationships/image" Target="../media/image25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users.erols.com/interlac/homehy/vinegar.jpg" TargetMode="External"/><Relationship Id="rId3" Type="http://schemas.openxmlformats.org/officeDocument/2006/relationships/image" Target="../media/image3.jpeg"/><Relationship Id="rId4" Type="http://schemas.openxmlformats.org/officeDocument/2006/relationships/hyperlink" Target="http://www.funset.com/images/pepsi.gif" TargetMode="External"/><Relationship Id="rId5" Type="http://schemas.openxmlformats.org/officeDocument/2006/relationships/image" Target="../media/image4.png"/><Relationship Id="rId6" Type="http://schemas.openxmlformats.org/officeDocument/2006/relationships/hyperlink" Target="http://agitator.dynip.com/agitator/Generator/interstate.jpg" TargetMode="External"/><Relationship Id="rId7" Type="http://schemas.openxmlformats.org/officeDocument/2006/relationships/image" Target="../media/image5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hebird.org/store/clean/internal/acidsam.gif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www.redbushtea.com/soap/images/soap.jpg&amp;imgrefurl=http://www.redbushtea.com/soap/soap.html&amp;h=203&amp;w=257&amp;prev=/images%3Fq%3Dsoap%26svnum%3D10%26hl%3Den%26lr%3D%26ie%3DUTF-8%26oe%3DUTF-8%26sa%3DG" TargetMode="External"/><Relationship Id="rId2" Type="http://schemas.openxmlformats.org/officeDocument/2006/relationships/image" Target="../media/image7.jpeg"/><Relationship Id="rId3" Type="http://schemas.openxmlformats.org/officeDocument/2006/relationships/hyperlink" Target="http://www.cnn.com/HEALTH/9708/15/nfm.heartburn.hiding/antacids.jpg" TargetMode="External"/><Relationship Id="rId4" Type="http://schemas.openxmlformats.org/officeDocument/2006/relationships/image" Target="../media/image8.jpeg"/><Relationship Id="rId5" Type="http://schemas.openxmlformats.org/officeDocument/2006/relationships/hyperlink" Target="http://www.epa.gov/grtlakes/seahome/housewaste/images/hhwp18.gif" TargetMode="External"/><Relationship Id="rId6" Type="http://schemas.openxmlformats.org/officeDocument/2006/relationships/image" Target="../media/image9.png"/><Relationship Id="rId7" Type="http://schemas.openxmlformats.org/officeDocument/2006/relationships/hyperlink" Target="http://images.google.com/imgres?imgurl=www.speedstick.com/images/deodorants/products.jpg&amp;imgrefurl=http://www.speedstick.com/deodorants.html&amp;h=279&amp;w=325&amp;prev=/images%3Fq%3Ddeodorants%26svnum%3D10%26hl%3Den%26lr%3D%26ie%3DUTF-8%26oe%3DUTF-8" TargetMode="External"/><Relationship Id="rId8" Type="http://schemas.openxmlformats.org/officeDocument/2006/relationships/image" Target="../media/image10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09480" y="13716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cc00"/>
                </a:solidFill>
                <a:latin typeface="Jester"/>
              </a:rPr>
              <a:t>Acids, Bases, &amp; Salts</a:t>
            </a:r>
            <a:endParaRPr b="0" lang="en-US" sz="9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08" name="wnter_01.mid" descr=""/>
          <p:cNvPicPr/>
          <p:nvPr/>
        </p:nvPicPr>
        <p:blipFill>
          <a:blip r:embed="rId1"/>
          <a:stretch/>
        </p:blipFill>
        <p:spPr>
          <a:xfrm>
            <a:off x="380880" y="6248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50089" fill="hold"/>
                                        <p:tgtEl>
                                          <p:spTgt spid="1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Types of Acids and Bas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 the 1800’s chemical concepts were based on the reactions of aqueous solution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vante Arrhenius developed a concept of acids and bases relevant to reactions in H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Arrhenius aci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– produces hydrogen ions in wa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cc"/>
                </a:solidFill>
                <a:uFillTx/>
                <a:latin typeface="Times New Roman"/>
              </a:rPr>
              <a:t>Arrhenius base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– produce hydroxide ions in wate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broader ,more modern concept of acids and bases was developed lat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Bronsted-Lowry acid-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donates a hydrogen ion in a reac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Bronsted – Lowry bas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– accepts a hydrogen in a reac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Conjugate acid-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compound formed when an base gains a hydrogen 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ffcc"/>
                </a:solidFill>
                <a:uFillTx/>
                <a:latin typeface="Times New Roman"/>
              </a:rPr>
              <a:t>Conjugate bas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– compound formed when an acid loses a hydrogen 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H Scale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55" name="Picture 4" descr="pH">
            <a:hlinkClick r:id="rId1"/>
          </p:cNvPr>
          <p:cNvPicPr/>
          <p:nvPr/>
        </p:nvPicPr>
        <p:blipFill>
          <a:blip r:embed="rId2">
            <a:lum bright="6000"/>
          </a:blip>
          <a:stretch/>
        </p:blipFill>
        <p:spPr>
          <a:xfrm>
            <a:off x="1066680" y="1371600"/>
            <a:ext cx="6400800" cy="5403960"/>
          </a:xfrm>
          <a:prstGeom prst="rect">
            <a:avLst/>
          </a:prstGeom>
          <a:ln w="0">
            <a:noFill/>
          </a:ln>
        </p:spPr>
      </p:pic>
      <p:sp>
        <p:nvSpPr>
          <p:cNvPr id="1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863640" y="30492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"/>
                <a:ea typeface="Arial"/>
              </a:rPr>
              <a:t>pH of Common Substanc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58" name="Picture 4" descr="pH of common substances"/>
          <p:cNvPicPr/>
          <p:nvPr/>
        </p:nvPicPr>
        <p:blipFill>
          <a:blip r:embed="rId1"/>
          <a:stretch/>
        </p:blipFill>
        <p:spPr>
          <a:xfrm>
            <a:off x="176040" y="1143000"/>
            <a:ext cx="8967960" cy="5562720"/>
          </a:xfrm>
          <a:prstGeom prst="rect">
            <a:avLst/>
          </a:prstGeom>
          <a:ln w="0">
            <a:noFill/>
          </a:ln>
        </p:spPr>
      </p:pic>
      <p:sp>
        <p:nvSpPr>
          <p:cNvPr id="159" name="Rectangle 3"/>
          <p:cNvSpPr/>
          <p:nvPr/>
        </p:nvSpPr>
        <p:spPr>
          <a:xfrm>
            <a:off x="280080" y="6248520"/>
            <a:ext cx="21621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cc"/>
                </a:solidFill>
                <a:latin typeface="Arial"/>
                <a:ea typeface="Arial"/>
              </a:rPr>
              <a:t>Timberlake, </a:t>
            </a:r>
            <a:r>
              <a:rPr b="0" lang="en-US" sz="800" spc="-1" strike="noStrike" u="sng">
                <a:solidFill>
                  <a:srgbClr val="ffffcc"/>
                </a:solidFill>
                <a:uFillTx/>
                <a:latin typeface="Arial"/>
                <a:ea typeface="Arial"/>
              </a:rPr>
              <a:t>Chemistry </a:t>
            </a:r>
            <a:r>
              <a:rPr b="0" lang="en-US" sz="800" spc="-1" strike="noStrike">
                <a:solidFill>
                  <a:srgbClr val="ffffcc"/>
                </a:solidFill>
                <a:latin typeface="Arial"/>
                <a:ea typeface="Arial"/>
              </a:rPr>
              <a:t>7</a:t>
            </a:r>
            <a:r>
              <a:rPr b="0" lang="en-US" sz="800" spc="-1" strike="noStrike" baseline="30000">
                <a:solidFill>
                  <a:srgbClr val="ffffcc"/>
                </a:solidFill>
                <a:latin typeface="Arial"/>
                <a:ea typeface="Arial"/>
              </a:rPr>
              <a:t>th</a:t>
            </a:r>
            <a:r>
              <a:rPr b="0" lang="en-US" sz="800" spc="-1" strike="noStrike">
                <a:solidFill>
                  <a:srgbClr val="ffffcc"/>
                </a:solidFill>
                <a:latin typeface="Arial"/>
                <a:ea typeface="Arial"/>
              </a:rPr>
              <a:t> Edition, page 335</a:t>
            </a: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AutoShape 2">
            <a:hlinkClick r:id="rId2" action="ppaction://hlinksldjump"/>
          </p:cNvPr>
          <p:cNvSpPr/>
          <p:nvPr/>
        </p:nvSpPr>
        <p:spPr>
          <a:xfrm>
            <a:off x="177840" y="5815080"/>
            <a:ext cx="609480" cy="357120"/>
          </a:xfrm>
          <a:custGeom>
            <a:avLst/>
            <a:gdLst>
              <a:gd name="textAreaLeft" fmla="*/ 23040 w 609480"/>
              <a:gd name="textAreaRight" fmla="*/ 586440 w 609480"/>
              <a:gd name="textAreaTop" fmla="*/ 23040 h 357120"/>
              <a:gd name="textAreaBottom" fmla="*/ 334080 h 357120"/>
            </a:gdLst>
            <a:ahLst/>
            <a:rect l="textAreaLeft" t="textAreaTop" r="textAreaRight" b="textAreaBottom"/>
            <a:pathLst>
              <a:path w="36848" h="21600">
                <a:moveTo>
                  <a:pt x="0" y="0"/>
                </a:moveTo>
                <a:lnTo>
                  <a:pt x="36848" y="0"/>
                </a:lnTo>
                <a:lnTo>
                  <a:pt x="36848" y="21600"/>
                </a:lnTo>
                <a:lnTo>
                  <a:pt x="0" y="21600"/>
                </a:lnTo>
                <a:close/>
              </a:path>
              <a:path fill="lightenLess" w="36848" h="21600">
                <a:moveTo>
                  <a:pt x="0" y="0"/>
                </a:moveTo>
                <a:lnTo>
                  <a:pt x="36848" y="0"/>
                </a:lnTo>
                <a:lnTo>
                  <a:pt x="35448" y="1400"/>
                </a:lnTo>
                <a:lnTo>
                  <a:pt x="1400" y="1400"/>
                </a:lnTo>
                <a:close/>
              </a:path>
              <a:path fill="darken" w="36848" h="21600">
                <a:moveTo>
                  <a:pt x="36848" y="0"/>
                </a:moveTo>
                <a:lnTo>
                  <a:pt x="36848" y="21600"/>
                </a:lnTo>
                <a:lnTo>
                  <a:pt x="35448" y="20200"/>
                </a:lnTo>
                <a:lnTo>
                  <a:pt x="35448" y="1400"/>
                </a:lnTo>
                <a:close/>
              </a:path>
              <a:path fill="darkenLess" w="36848" h="21600">
                <a:moveTo>
                  <a:pt x="368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448" y="20200"/>
                </a:lnTo>
                <a:close/>
              </a:path>
              <a:path fill="lighten" w="368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6848" h="21600">
                <a:moveTo>
                  <a:pt x="14925" y="10800"/>
                </a:moveTo>
                <a:lnTo>
                  <a:pt x="25431" y="3794"/>
                </a:lnTo>
                <a:lnTo>
                  <a:pt x="25431" y="17806"/>
                </a:lnTo>
                <a:close/>
              </a:path>
              <a:path fill="darken" w="36848" h="21600">
                <a:moveTo>
                  <a:pt x="11418" y="3794"/>
                </a:moveTo>
                <a:lnTo>
                  <a:pt x="13080" y="3794"/>
                </a:lnTo>
                <a:lnTo>
                  <a:pt x="13080" y="17806"/>
                </a:lnTo>
                <a:lnTo>
                  <a:pt x="11418" y="17806"/>
                </a:lnTo>
                <a:close/>
              </a:path>
            </a:pathLst>
          </a:custGeom>
          <a:solidFill>
            <a:srgbClr val="ff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Reactions with indicator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609480" y="1752480"/>
          <a:ext cx="7467840" cy="4267440"/>
        </p:xfrm>
        <a:graphic>
          <a:graphicData uri="http://schemas.openxmlformats.org/drawingml/2006/table">
            <a:tbl>
              <a:tblPr/>
              <a:tblGrid>
                <a:gridCol w="2590920"/>
                <a:gridCol w="1557360"/>
                <a:gridCol w="1660680"/>
                <a:gridCol w="1658880"/>
              </a:tblGrid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Indicato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Acid colo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Neutral colo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ase color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Phenolphthalei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Colorless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Faint pink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Dark pink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66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romthymol blu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Yellow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Green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lu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1067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Litmus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Red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-----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Blue</a:t>
                      </a:r>
                      <a:endParaRPr b="0" lang="en-US" sz="28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H paper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166" name="Picture 2" descr="http://tbn0.google.com/images?q=tbn:M6BvJEJBykPVhM:http://www.chem.ucla.edu/~gchemlab/ph-paper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2209680"/>
            <a:ext cx="3047760" cy="266724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 txBox="1"/>
          <p:nvPr/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H paper changes color to indicate a specific pH valu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imes New Roman"/>
              </a:rPr>
              <a:t>Buffers</a:t>
            </a:r>
            <a:br>
              <a:rPr sz="4000"/>
            </a:br>
            <a:endParaRPr b="0" lang="en-US" sz="4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buffer is a solution that resists changes in pH when small amounts of acids and bases are add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00"/>
                </a:solidFill>
                <a:latin typeface="Times New Roman"/>
              </a:rPr>
              <a:t>Situations in which pH is controlled</a:t>
            </a:r>
            <a:endParaRPr b="0" lang="en-US" sz="36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eartburn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lanting vegetables and flower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sh Tanks and Pond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loo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wimming poo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ids and Bases in Solution</a:t>
            </a:r>
            <a:br>
              <a:rPr sz="4400"/>
            </a:b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Cl  +   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0  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 +   Cl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-          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more hydronium ions, more acidic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aOH  in water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Na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+   OH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-                  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(more hydroxide ions, more basic)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aOH  +  HCl 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NaCl   +  HOH  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cid + Base yields type of salt and water          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N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+ 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0 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N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+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  +   OH</a:t>
            </a:r>
            <a:r>
              <a:rPr b="0" lang="en-US" sz="3200" spc="-1" strike="noStrike" baseline="30000">
                <a:solidFill>
                  <a:srgbClr val="ffffcc"/>
                </a:solidFill>
                <a:latin typeface="Times New Roman"/>
              </a:rPr>
              <a:t>-                 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mmonia gas + water yields ammonium and hydroxide io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is an ACID?</a:t>
            </a: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pH less than 7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Neutralizes bas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Forms H </a:t>
            </a:r>
            <a:r>
              <a:rPr b="0" lang="en-US" sz="4000" spc="-1" strike="noStrike" baseline="56000">
                <a:solidFill>
                  <a:srgbClr val="ffffcc"/>
                </a:solidFill>
                <a:latin typeface="Times New Roman"/>
              </a:rPr>
              <a:t>+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ions in solution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Corrosive-reacts with most metals to form hydrogen ga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Good conductors of electricity 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1523880" y="263196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Acid Rain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560" y="182880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llution in the air (sulfur dioxide, carbon dioxide, nitrogen dioxide) combines with water to form various acid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0" name="j0322362.wav" descr=""/>
          <p:cNvPicPr/>
          <p:nvPr/>
        </p:nvPicPr>
        <p:blipFill>
          <a:blip r:embed="rId1"/>
          <a:stretch/>
        </p:blipFill>
        <p:spPr>
          <a:xfrm>
            <a:off x="7772400" y="762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" descr="http://www.chemistry.wustl.edu/~edudev/LabTutorials/Water/FreshWater/images/Eqn1.jpg"/>
          <p:cNvPicPr/>
          <p:nvPr/>
        </p:nvPicPr>
        <p:blipFill>
          <a:blip r:embed="rId2"/>
          <a:stretch/>
        </p:blipFill>
        <p:spPr>
          <a:xfrm>
            <a:off x="685800" y="3886200"/>
            <a:ext cx="2857680" cy="333360"/>
          </a:xfrm>
          <a:prstGeom prst="rect">
            <a:avLst/>
          </a:prstGeom>
          <a:ln w="0">
            <a:noFill/>
          </a:ln>
        </p:spPr>
      </p:pic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9104" fill="hold"/>
                                        <p:tgtEl>
                                          <p:spTgt spid="1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4"/>
          <p:cNvSpPr/>
          <p:nvPr/>
        </p:nvSpPr>
        <p:spPr>
          <a:xfrm>
            <a:off x="2286000" y="2459160"/>
            <a:ext cx="4572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apid changes in pH can kill fish and other organisms in lakes and stream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oil pH is affected and can kill plants and create sinkhole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Picture 4" descr="acidraindamage"/>
          <p:cNvPicPr/>
          <p:nvPr/>
        </p:nvPicPr>
        <p:blipFill>
          <a:blip r:embed="rId1"/>
          <a:stretch/>
        </p:blipFill>
        <p:spPr>
          <a:xfrm>
            <a:off x="152280" y="2286000"/>
            <a:ext cx="2971800" cy="21178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6" descr="s02_page02a_pic">
            <a:hlinkClick r:id="rId2"/>
          </p:cNvPr>
          <p:cNvPicPr/>
          <p:nvPr/>
        </p:nvPicPr>
        <p:blipFill>
          <a:blip r:embed="rId3"/>
          <a:srcRect l="9343" t="0" r="0" b="9383"/>
          <a:stretch/>
        </p:blipFill>
        <p:spPr>
          <a:xfrm>
            <a:off x="3200400" y="2209680"/>
            <a:ext cx="1981080" cy="205740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8" descr="parthenon2">
            <a:hlinkClick r:id="rId4"/>
          </p:cNvPr>
          <p:cNvPicPr/>
          <p:nvPr/>
        </p:nvPicPr>
        <p:blipFill>
          <a:blip r:embed="rId5"/>
          <a:srcRect l="4689" t="7617" r="6118" b="8576"/>
          <a:stretch/>
        </p:blipFill>
        <p:spPr>
          <a:xfrm>
            <a:off x="609480" y="4800600"/>
            <a:ext cx="2895840" cy="167652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0" descr="burlington"/>
          <p:cNvPicPr/>
          <p:nvPr/>
        </p:nvPicPr>
        <p:blipFill>
          <a:blip r:embed="rId6"/>
          <a:stretch/>
        </p:blipFill>
        <p:spPr>
          <a:xfrm>
            <a:off x="5072040" y="3268800"/>
            <a:ext cx="4071960" cy="3589200"/>
          </a:xfrm>
          <a:prstGeom prst="rect">
            <a:avLst/>
          </a:prstGeom>
          <a:ln w="0">
            <a:noFill/>
          </a:ln>
        </p:spPr>
      </p:pic>
      <p:sp>
        <p:nvSpPr>
          <p:cNvPr id="189" name="Rectangle 11"/>
          <p:cNvSpPr/>
          <p:nvPr/>
        </p:nvSpPr>
        <p:spPr>
          <a:xfrm>
            <a:off x="542880" y="2468520"/>
            <a:ext cx="86868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0" name="Picture 12" descr="STOPTRANSPARK.ORG"/>
          <p:cNvPicPr/>
          <p:nvPr/>
        </p:nvPicPr>
        <p:blipFill>
          <a:blip r:embed="rId7"/>
          <a:stretch/>
        </p:blipFill>
        <p:spPr>
          <a:xfrm>
            <a:off x="304920" y="152280"/>
            <a:ext cx="8515080" cy="1920960"/>
          </a:xfrm>
          <a:prstGeom prst="rect">
            <a:avLst/>
          </a:prstGeom>
          <a:ln w="0">
            <a:noFill/>
          </a:ln>
        </p:spPr>
      </p:pic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3" descr="image12"/>
          <p:cNvPicPr/>
          <p:nvPr/>
        </p:nvPicPr>
        <p:blipFill>
          <a:blip r:embed="rId1"/>
          <a:srcRect l="3919" t="13645" r="4641" b="1917"/>
          <a:stretch/>
        </p:blipFill>
        <p:spPr>
          <a:xfrm>
            <a:off x="-380880" y="-42840"/>
            <a:ext cx="9677160" cy="699768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2" descr="http://media.miamiherald.com/smedia/2008/05/07/22/Texas_Sinkhole.sff.embedded.prod_affiliate.56.jpg"/>
          <p:cNvPicPr/>
          <p:nvPr/>
        </p:nvPicPr>
        <p:blipFill>
          <a:blip r:embed="rId1"/>
          <a:stretch/>
        </p:blipFill>
        <p:spPr>
          <a:xfrm>
            <a:off x="2362320" y="1143000"/>
            <a:ext cx="4190760" cy="464832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hat is a SALT?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543800" cy="32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salt is a neutral substance produced from the reaction of an acid and a ba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mposed of the negative ion of an acid and the positive ion of a bas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ne of the products of a Neutralization Rea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amples:  KCl,  MgS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,  Na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O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98" name="Picture 5" descr="bathsalt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480" y="5181480"/>
            <a:ext cx="1981440" cy="133848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salt-index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809880" y="5029200"/>
            <a:ext cx="2239920" cy="1600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9" descr="salt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7620120" y="4572000"/>
            <a:ext cx="1257120" cy="200016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Neutralization Reaction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 neutralization reaction is the reaction of an acid with a base to produce salt and wat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Exampl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4 + NaOH </a:t>
            </a:r>
            <a:r>
              <a:rPr b="0" lang="en-US" sz="32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NaHS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 + H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Digestion and pH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28240" y="1676520"/>
            <a:ext cx="83818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igestion-process by which foods are broken down into simpler substance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chanical digestion-physical process in which food is torn apart (mouth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hemical digestion- chemical reactions in which large molecules are broken down into smaller molecules. (stomach and small intestines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07" name="Picture 7" descr="Eating"/>
          <p:cNvPicPr/>
          <p:nvPr/>
        </p:nvPicPr>
        <p:blipFill>
          <a:blip r:embed="rId1"/>
          <a:stretch/>
        </p:blipFill>
        <p:spPr>
          <a:xfrm>
            <a:off x="6400800" y="4883040"/>
            <a:ext cx="1494000" cy="1463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8" descr=""/>
          <p:cNvPicPr/>
          <p:nvPr/>
        </p:nvPicPr>
        <p:blipFill>
          <a:blip r:embed="rId2"/>
          <a:stretch/>
        </p:blipFill>
        <p:spPr>
          <a:xfrm>
            <a:off x="990720" y="5105520"/>
            <a:ext cx="1562040" cy="1562040"/>
          </a:xfrm>
          <a:prstGeom prst="rect">
            <a:avLst/>
          </a:prstGeom>
          <a:ln w="0">
            <a:noFill/>
          </a:ln>
        </p:spPr>
      </p:pic>
      <p:sp>
        <p:nvSpPr>
          <p:cNvPr id="2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pH in the Digestive System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outh-pH around 7.  Saliva contains amylase, an enzyme which begins to break carbohydrates into sugars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omach- pH around 2. Proteins are broken down into amino acids by the enzyme pepsi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mall intestine-pH around 8.  Most digestion ends.  Small molecules move to bloodstream toward cells that use the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12" name="SN002378.wav" descr=""/>
          <p:cNvPicPr/>
          <p:nvPr/>
        </p:nvPicPr>
        <p:blipFill>
          <a:blip r:embed="rId1"/>
          <a:stretch/>
        </p:blipFill>
        <p:spPr>
          <a:xfrm>
            <a:off x="685800" y="21337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13" name="j0092378.wav" descr=""/>
          <p:cNvPicPr/>
          <p:nvPr/>
        </p:nvPicPr>
        <p:blipFill>
          <a:blip r:embed="rId2"/>
          <a:stretch/>
        </p:blipFill>
        <p:spPr>
          <a:xfrm>
            <a:off x="457200" y="35053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499" fill="hold"/>
                                        <p:tgtEl>
                                          <p:spTgt spid="21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" restart="whenNotActive" nodeType="interactiveSeq" fill="hold">
                <p:stCondLst>
                  <p:cond evt="onClick">
                    <p:tgtEl>
                      <p:spTgt spid="212"/>
                    </p:tgtEl>
                  </p:cond>
                </p:stCondLst>
                <p:childTnLst>
                  <p:par>
                    <p:cTn id="49" nodeType="clickEffect" fill="hold">
                      <p:stCondLst>
                        <p:cond evt="onClick">
                          <p:tgtEl>
                            <p:spTgt spid="212"/>
                          </p:tgtEl>
                        </p:cond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2359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Picture 5" descr="digestive_sys"/>
          <p:cNvPicPr/>
          <p:nvPr/>
        </p:nvPicPr>
        <p:blipFill>
          <a:blip r:embed="rId1"/>
          <a:stretch/>
        </p:blipFill>
        <p:spPr>
          <a:xfrm>
            <a:off x="609480" y="533520"/>
            <a:ext cx="4643640" cy="601956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6"/>
          <p:cNvSpPr/>
          <p:nvPr/>
        </p:nvSpPr>
        <p:spPr>
          <a:xfrm>
            <a:off x="7010280" y="121932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mout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Text Box 7"/>
          <p:cNvSpPr/>
          <p:nvPr/>
        </p:nvSpPr>
        <p:spPr>
          <a:xfrm>
            <a:off x="6919560" y="1946160"/>
            <a:ext cx="145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sophagu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Text Box 8"/>
          <p:cNvSpPr/>
          <p:nvPr/>
        </p:nvSpPr>
        <p:spPr>
          <a:xfrm>
            <a:off x="5699160" y="308916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tomach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Text Box 9"/>
          <p:cNvSpPr/>
          <p:nvPr/>
        </p:nvSpPr>
        <p:spPr>
          <a:xfrm>
            <a:off x="5848200" y="3927600"/>
            <a:ext cx="1956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small intesti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Text Box 10"/>
          <p:cNvSpPr/>
          <p:nvPr/>
        </p:nvSpPr>
        <p:spPr>
          <a:xfrm>
            <a:off x="5772600" y="499428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large intestin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Line 11"/>
          <p:cNvSpPr/>
          <p:nvPr/>
        </p:nvSpPr>
        <p:spPr>
          <a:xfrm flipH="1">
            <a:off x="3657240" y="1447920"/>
            <a:ext cx="3429000" cy="304560"/>
          </a:xfrm>
          <a:prstGeom prst="line">
            <a:avLst/>
          </a:prstGeom>
          <a:ln w="936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Line 12"/>
          <p:cNvSpPr/>
          <p:nvPr/>
        </p:nvSpPr>
        <p:spPr>
          <a:xfrm flipH="1">
            <a:off x="2819520" y="2209680"/>
            <a:ext cx="4114800" cy="457200"/>
          </a:xfrm>
          <a:prstGeom prst="line">
            <a:avLst/>
          </a:prstGeom>
          <a:ln w="936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Line 13"/>
          <p:cNvSpPr/>
          <p:nvPr/>
        </p:nvSpPr>
        <p:spPr>
          <a:xfrm flipH="1">
            <a:off x="3200040" y="3429000"/>
            <a:ext cx="2438280" cy="609480"/>
          </a:xfrm>
          <a:prstGeom prst="line">
            <a:avLst/>
          </a:prstGeom>
          <a:ln w="936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Line 14"/>
          <p:cNvSpPr/>
          <p:nvPr/>
        </p:nvSpPr>
        <p:spPr>
          <a:xfrm flipH="1">
            <a:off x="3276360" y="4267080"/>
            <a:ext cx="2514600" cy="1143000"/>
          </a:xfrm>
          <a:prstGeom prst="line">
            <a:avLst/>
          </a:prstGeom>
          <a:ln w="936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Line 15"/>
          <p:cNvSpPr/>
          <p:nvPr/>
        </p:nvSpPr>
        <p:spPr>
          <a:xfrm flipH="1" flipV="1">
            <a:off x="3048120" y="5105160"/>
            <a:ext cx="2666880" cy="75960"/>
          </a:xfrm>
          <a:prstGeom prst="line">
            <a:avLst/>
          </a:prstGeom>
          <a:ln w="9360">
            <a:solidFill>
              <a:srgbClr val="2200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Text Box 16"/>
          <p:cNvSpPr/>
          <p:nvPr/>
        </p:nvSpPr>
        <p:spPr>
          <a:xfrm>
            <a:off x="5562720" y="38088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gestive syst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Times New Roman"/>
              </a:rPr>
              <a:t>Acids Generate Ions</a:t>
            </a:r>
            <a:endParaRPr b="0" lang="en-US" sz="60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5" name="Text Box 4"/>
          <p:cNvSpPr/>
          <p:nvPr/>
        </p:nvSpPr>
        <p:spPr>
          <a:xfrm>
            <a:off x="500760" y="3179880"/>
            <a:ext cx="822492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NO</a:t>
            </a:r>
            <a:r>
              <a:rPr b="0" lang="en-US" sz="44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 +  H</a:t>
            </a:r>
            <a:r>
              <a:rPr b="0" lang="en-US" sz="44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    </a:t>
            </a:r>
            <a:r>
              <a:rPr b="0" lang="en-US" sz="4400" spc="-1" strike="noStrike">
                <a:solidFill>
                  <a:srgbClr val="ffffcc"/>
                </a:solidFill>
                <a:latin typeface="Wingdings"/>
                <a:ea typeface="Wingdings"/>
              </a:rPr>
              <a:t>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  H</a:t>
            </a:r>
            <a:r>
              <a:rPr b="0" lang="en-US" sz="44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O</a:t>
            </a:r>
            <a:r>
              <a:rPr b="0" lang="en-US" sz="4400" spc="-1" strike="noStrike" baseline="30000">
                <a:solidFill>
                  <a:srgbClr val="ffffcc"/>
                </a:solidFill>
                <a:latin typeface="Times New Roman"/>
              </a:rPr>
              <a:t>+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   +  NO</a:t>
            </a:r>
            <a:r>
              <a:rPr b="0" lang="en-US" sz="44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305920" cy="342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r>
              <a:rPr b="0" lang="en-US" sz="6600" spc="-1" strike="noStrike">
                <a:solidFill>
                  <a:srgbClr val="ffcc00"/>
                </a:solidFill>
                <a:latin typeface="Times New Roman"/>
              </a:rPr>
              <a:t>Acids, Bases, and Salts 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ffcc00"/>
                </a:solidFill>
                <a:latin typeface="Times New Roman"/>
              </a:rPr>
              <a:t>The End </a:t>
            </a:r>
            <a:endParaRPr b="0" lang="en-US" sz="6600" spc="-1" strike="noStrike">
              <a:solidFill>
                <a:srgbClr val="ffcc00"/>
              </a:solidFill>
              <a:latin typeface="Times New Roman"/>
            </a:endParaRPr>
          </a:p>
        </p:txBody>
      </p:sp>
      <p:pic>
        <p:nvPicPr>
          <p:cNvPr id="229" name="SN002378.wav" descr=""/>
          <p:cNvPicPr/>
          <p:nvPr/>
        </p:nvPicPr>
        <p:blipFill>
          <a:blip r:embed="rId1"/>
          <a:stretch/>
        </p:blipFill>
        <p:spPr>
          <a:xfrm>
            <a:off x="4343400" y="510552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23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2359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eak vs. Strong Acid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ak Acids do not ionize completely: Acetic, Boric, Nitrous, Phosphoric, Sulfuro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rong Acids ionize completely: Hydrochloric, Nitric; Sulfuric, Hydriodi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mmon Acids 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1143000" y="220968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Rectangle 4"/>
          <p:cNvSpPr/>
          <p:nvPr/>
        </p:nvSpPr>
        <p:spPr>
          <a:xfrm>
            <a:off x="304920" y="1447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19000"/>
          </a:bodyPr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Cl- hydrochloric- stomach acid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 sulfuric acid - car batter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NO</a:t>
            </a:r>
            <a:r>
              <a:rPr b="0" lang="en-US" sz="3200" spc="-1" strike="noStrike" baseline="-34000">
                <a:solidFill>
                  <a:srgbClr val="ffffcc"/>
                </a:solidFill>
                <a:latin typeface="Times New Roman"/>
              </a:rPr>
              <a:t>3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– nitric acid - explosiv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C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 acetic acid - vinegar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carbonic acid – soda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en-US" sz="3200" spc="-1" strike="noStrike" baseline="-28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O</a:t>
            </a:r>
            <a:r>
              <a:rPr b="0" lang="en-US" sz="32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- phosphoric acid -flavoring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141120" indent="-540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1432080" y="2936880"/>
            <a:ext cx="5425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219320" y="3505320"/>
            <a:ext cx="4359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5" name="Picture 9" descr="ph02814j"/>
          <p:cNvPicPr/>
          <p:nvPr/>
        </p:nvPicPr>
        <p:blipFill>
          <a:blip r:embed="rId1"/>
          <a:stretch/>
        </p:blipFill>
        <p:spPr>
          <a:xfrm>
            <a:off x="6705720" y="4952880"/>
            <a:ext cx="2133360" cy="16527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2" descr="vinegar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04920" y="5029200"/>
            <a:ext cx="1600200" cy="159228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4" descr="pepsi">
            <a:hlinkClick r:id="rId4"/>
          </p:cNvPr>
          <p:cNvPicPr/>
          <p:nvPr/>
        </p:nvPicPr>
        <p:blipFill>
          <a:blip r:embed="rId5"/>
          <a:srcRect l="-4150" t="-4148" r="4168" b="11777"/>
          <a:stretch/>
        </p:blipFill>
        <p:spPr>
          <a:xfrm>
            <a:off x="3352680" y="5105520"/>
            <a:ext cx="1828800" cy="1349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6" descr="interstate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6934320" y="914400"/>
            <a:ext cx="1904760" cy="178272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9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2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8" dur="500"/>
                                        <p:tgtEl>
                                          <p:spTgt spid="1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5" descr="acidsam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465280" y="380880"/>
            <a:ext cx="4003920" cy="5791320"/>
          </a:xfrm>
          <a:prstGeom prst="rect">
            <a:avLst/>
          </a:prstGeom>
          <a:ln w="0">
            <a:noFill/>
          </a:ln>
        </p:spPr>
      </p:pic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cc00"/>
                </a:solidFill>
                <a:latin typeface="Times New Roman"/>
              </a:rPr>
              <a:t>What is a BASE?</a:t>
            </a:r>
            <a:br>
              <a:rPr sz="5400"/>
            </a:br>
            <a:endParaRPr b="0" lang="en-US" sz="5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H greater than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eels slippery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issolves fats and oil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Usually forms OH</a:t>
            </a:r>
            <a:r>
              <a:rPr b="0" lang="en-US" sz="4400" spc="-1" strike="noStrike" baseline="52000">
                <a:solidFill>
                  <a:srgbClr val="ffffcc"/>
                </a:solidFill>
                <a:latin typeface="Times New Roman"/>
              </a:rPr>
              <a:t>-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ions in solutio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Neutralizes acid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Weak vs. Strong Bas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eak Bases:  ammonia; potassium carbonate, sodium carbonat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trong Bases:  sodium hydroxide; sodium phosphate; barium hydroxide; calcium hydroxid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</a:rPr>
              <a:t>Common Bases</a:t>
            </a:r>
            <a:endParaRPr b="0" lang="en-US" sz="4400" spc="-1" strike="noStrike">
              <a:solidFill>
                <a:srgbClr val="ffcc00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aOH- sodium hydroxide (LYE) soaps, drain clean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g (OH)</a:t>
            </a:r>
            <a:r>
              <a:rPr b="0" lang="en-US" sz="2800" spc="-1" strike="noStrike" baseline="-28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- magnesium hydroxide-antaci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l(OH)</a:t>
            </a:r>
            <a:r>
              <a:rPr b="0" lang="en-US" sz="2800" spc="-1" strike="noStrike" baseline="-28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-aluminum hydroxide-antacids, deodora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H</a:t>
            </a:r>
            <a:r>
              <a:rPr b="0" lang="en-US" sz="28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OH-ammonium hydroxide- “ammonia”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0" name="Picture 7" descr="soap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657600" y="4952880"/>
            <a:ext cx="1371600" cy="1113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9" descr="antacids">
            <a:hlinkClick r:id="rId3"/>
          </p:cNvPr>
          <p:cNvPicPr/>
          <p:nvPr/>
        </p:nvPicPr>
        <p:blipFill>
          <a:blip r:embed="rId4"/>
          <a:srcRect l="0" t="0" r="0" b="8540"/>
          <a:stretch/>
        </p:blipFill>
        <p:spPr>
          <a:xfrm>
            <a:off x="380880" y="4876920"/>
            <a:ext cx="2438640" cy="17064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1" descr="hhwp18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5715000" y="4648320"/>
            <a:ext cx="3200400" cy="1942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products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533520" y="380880"/>
            <a:ext cx="1279440" cy="1108080"/>
          </a:xfrm>
          <a:prstGeom prst="rect">
            <a:avLst/>
          </a:prstGeom>
          <a:ln w="0">
            <a:noFill/>
          </a:ln>
        </p:spPr>
      </p:pic>
      <p:sp>
        <p:nvSpPr>
          <p:cNvPr id="1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4T00:14:55Z</dcterms:created>
  <dc:creator>Kellye McDowell</dc:creator>
  <dc:description/>
  <dc:language>en-US</dc:language>
  <cp:lastModifiedBy>LEGION</cp:lastModifiedBy>
  <dcterms:modified xsi:type="dcterms:W3CDTF">2017-01-26T09:10:09Z</dcterms:modified>
  <cp:revision>24</cp:revision>
  <dc:subject/>
  <dc:title>Acids, Bases, &amp; Salts</dc:title>
</cp:coreProperties>
</file>