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wmf" ContentType="image/x-wmf"/>
  <Override PartName="/ppt/media/image16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596F-1A9D-4D93-B85E-4F1327784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, &amp;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, Bases, &amp; Sal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1800’s chemical concepts were based on the reactions of aqueous solu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vante Arrhenius developed a concept of acids and bases relevant to reactions in H2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acid – produces hydrogen ions i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base – produce hydroxide ions i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pes of Acids and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the 1800’s chemical concepts were based on the reactions of aqueous solu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vante Arrhenius developed a concept of acids and bases relevant to reactions in H2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rhenius acid – produces hydrogen ions in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rhenius base – produce hydroxide ions in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oader ,more modern concept of acids and bases was developed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 acid- donates a hydrogen ion in a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 – Lowry base – accepts a hydrogen in a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roader ,more modern concept of acids and bases was developed l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onsted-Lowry acid- donates a hydrogen ion in a rea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onsted – Lowry base – accepts a hydrogen in a rea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- compound formed when an base gains a hydrogen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base – compound formed when an acid loses a hydrogen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jugate acid- compound formed when an base gains a hydrogen 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jugate base – compound formed when an acid loses a hydrogen 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berlake, Chemistry 7th Edition, page 3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of Common Substa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berlake, Chemistry 7th Edition, page 33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ctions with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tions with indicat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paper changes color to indicate a specific pH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pap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paper changes color to indicate a specific pH valu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ffer is a solution that resists changes in pH when small amounts of acids and bases are ad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uffers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uffer is a solution that resists changes in pH when small amounts of acids and bases are add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uations in which pH is contro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bur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ing vegetables and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 Tanks and P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tuations in which pH is contro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burn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ting vegetables and flow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sh Tanks and Po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imming po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 and Bases in Solu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  +   H20     H3O +    +   Cl-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more hydronium ions, more acid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  in water    Na+   +   OH-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more hydroxide ions, more basic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  +  HCl    NaCl   +  HOH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+ Base yields type of salt and water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H3 + H20    NH4+   +   OH-                  ammonia gas + water yields ammonium and hydroxid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 and Bases in Solution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l  +   H20     H3O +    +   Cl-   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more hydronium ions, more acidic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  in water    Na+   +   OH-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more hydroxide ions, more basic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  +  HCl    NaCl   +  HOH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 + Base yields type of salt and water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H3 + H20    NH4+   +   OH-                  ammonia gas + water yields ammonium and hydroxide 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CI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less than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es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H + ions in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ve-reacts with most metals to form hydroge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s of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n ACI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less than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es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H + ions in so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rrosive-reacts with most metals to form hydrogen g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ood conductors of electricit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 in the air (sulfur dioxide, carbon dioxide, nitrogen dioxide) combines with water to form various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 Ra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ion in the air (sulfur dioxide, carbon dioxide, nitrogen dioxide) combines with water to form various aci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changes in pH can kill fish and other organisms in lakes and stre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pH is affected and can kill plants and create sink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pid changes in pH can kill fish and other organisms in lakes and strea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il pH is affected and can kill plants and create sinkho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SAL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lt is a neutral substance produced from the reaction of an acid and a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the negative ion of an acid and the positive ion of a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products of a Neutraliza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KCl,  MgSO4,  Na3PO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 SAL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alt is a neutral substance produced from the reaction of an acid and a b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sed of the negative ion of an acid and the positive ion of a b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of the products of a Neutralization Re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s:  KCl,  MgSO4,  Na3PO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ation Re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alization reaction is the reaction of an acid with a base to produce salt and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SO4 + NaOH  NaHSO4 +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ation Re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eutralization reaction is the reaction of an acid with a base to produce salt and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SO4 + NaOH  NaHSO4 + H2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d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-process by which foods are broken down into simpler sub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l digestion-physical process in which food is torn apart (mou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digestion- chemical reactions in which large molecules are broken down into smaller molecules. (stomach and small intestin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on and p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on-process by which foods are broken down into simpler substanc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chanical digestion-physical process in which food is torn apart (mouth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emical digestion- chemical reactions in which large molecules are broken down into smaller molecules. (stomach and small intestines)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in the Digestiv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-pH around 7.  Saliva contains amylase, an enzyme which begins to break carbohydrates into sug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- pH around 2. Proteins are broken down into amino acids by the enzyme pep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intestine-pH around 8.  Most digestion ends.  Small molecules move to bloodstream toward cells that us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in the Digestiv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uth-pH around 7.  Saliva contains amylase, an enzyme which begins to break carbohydrates into suga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- pH around 2. Proteins are broken down into amino acids by the enzyme peps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all intestine-pH around 8.  Most digestion ends.  Small molecules move to bloodstream toward cells that use th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ophag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ophag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all intest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 intest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v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cids Generat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HNO3  +  H2O       H3O+    +  N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Acids Generate 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HNO3  +  H2O       H3O+    +  NO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, Bases, and Salt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, Bases, and Salt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vs. Strong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Acids do not ionize completely: Acetic, Boric, Nitrous, Phosphoric, Sulfu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 Acids ionize completely: Hydrochloric, Nitric; Sulfuric, Hyd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vs. Strong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Acids do not ionize completely: Acetic, Boric, Nitrous, Phosphoric, Sulfur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ong Acids ionize completely: Hydrochloric, Nitric; Sulfuric, Hydriod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on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- hydrochloric- stomach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SO4- sulfuric acid - car batt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NO3 – nitric acid - explos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2H3O2- acetic acid - vine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CO3-carbonic acid – so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3PO4- phosphoric acid -flavor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Aci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l- hydrochloric- stomach ac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SO4- sulfuric acid - car batteri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NO3 – nitric acid - explosi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2H3O2- acetic acid - vineg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CO3-carbonic acid – sod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3PO4- phosphoric acid -flavoring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AS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els slipp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s fats and 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forms OH- ions in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es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 BASE?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greater than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els slipp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solves fats and oi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ually forms OH- ions in so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es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vs. Strong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Bases:  ammonia; potassium carbonate, sod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 Bases:  sodium hydroxide; sodium phosphate; barium hydroxide;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vs. Strong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Bases:  ammonia; potassium carbonate, sodium carbona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ong Bases:  sodium hydroxide; sodium phosphate; barium hydroxide; calcium hydr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on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- sodium hydroxide (LYE) soaps,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g (OH)2 - magnesium hydroxide-ant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(OH)3-aluminum hydroxide-antacids, deodo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H4OH-ammonium hydroxide- “ammoni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- sodium hydroxide (LYE) soaps, drain clea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g (OH)2 - magnesium hydroxide-ant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(OH)3-aluminum hydroxide-antacids, deodora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H4OH-ammonium hydroxide- “ammonia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DD9A-9A72-4B2E-BAF2-597B5D42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C7D-5A15-474F-B799-9BAF80D9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59F-8CEB-4B93-8983-B9CA4365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502-D4DB-423B-AE6A-154427CA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34B8-E95B-4452-8AD8-A216DDFA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CED0-2326-44F7-892C-F817604A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A777-6782-4005-B1A2-1C6AA5DD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7B39-E217-4D5E-9357-ECEE9619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4FD7-BF45-4EE8-A56B-44D8ED9C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8D83-DA70-4D93-95B3-A4232A93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7DB8-A829-47D0-A61D-6411B4BE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0487-1EE5-4C03-9B84-56B8D4AB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DB71-3BC4-44EE-9D11-93AE8929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88E2-6C75-4652-B709-7140D283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EF7A-67CC-4DEF-BEA0-1A1E81C7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AE30-1034-4AD1-BFFF-40EB4278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98FA-D911-4BB2-BEFE-6525E240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815-1983-4A77-9569-7F163067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56E-D800-4711-9431-8F4B97C5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3DE-0019-416C-94CB-1D725D36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0036-C306-4D94-A97C-09690553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8E33-1D38-4BC0-91C5-8C02DDF5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C7E-1CC1-4B78-A3A4-C2FA6340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254-9400-40CC-AEA8-86B92A50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B7A3-9A67-49D4-AD68-D06EB83DF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CAE3-F059-4A4B-AA59-4B666BEACF4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cn.boulder.co.us/basin/data/COBWQ/info/pH.gif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em.ucla.edu/~gchemlab/ph-paper.jpg&amp;imgrefurl=http://www.chem.ucla.edu/~gchemlab/lab_hardware_web.htm&amp;h=315&amp;w=375&amp;sz=11&amp;hl=en&amp;start=2&amp;tbnid=M6BvJEJBykPVhM:&amp;tbnh=102&amp;tbnw=122&amp;prev=/images%3Fq%3DpH%2Bpaper%26gbv%3D2%26hl%3Den%26safe%3Dactive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llv2.terc.edu/acidrain/content_students/session02/session02_01/images/s02_page02a_pic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www.plugged-in.org/images/parthenon2.jpg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vermontsoap.com/images/bathsalts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bonaire-travelguide.com/sights/photos/salt-index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www.genhealth.com/salt.jpg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sers.erols.com/interlac/homehy/vinegar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funset.com/images/pepsi.gif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agitator.dynip.com/agitator/Generator/interstate.jpg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hebird.org/store/clean/internal/acidsam.gi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redbushtea.com/soap/images/soap.jpg&amp;imgrefurl=http://www.redbushtea.com/soap/soap.html&amp;h=203&amp;w=257&amp;prev=/images%3Fq%3Dsoap%26svnum%3D10%26hl%3Den%26lr%3D%26ie%3DUTF-8%26o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cnn.com/HEALTH/9708/15/nfm.heartburn.hiding/antacid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epa.gov/grtlakes/seahome/housewaste/images/hhwp18.gif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images.google.com/imgres?imgurl=www.speedstick.com/images/deodorants/products.jpg&amp;imgrefurl=http://www.speedstick.com/deodorants.html&amp;h=279&amp;w=325&amp;prev=/images%3Fq%3Ddeodorants%26svnum%3D10%26hl%3Den%26lr%3D%26ie%3DUTF-8%26oe%3DUTF-8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Jester"/>
              </a:rPr>
              <a:t>Acids, Bases, &amp; Salts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wnter_01.mid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8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ypes of Acids and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the 1800’s chemical concepts were based on the reactions of aqueous solu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vante Arrhenius developed a concept of acids and bases relevant to reactions in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rrhenius aci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roduces hydrogen ions in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rrhenius bas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roduce hydroxide ions in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roader ,more modern concept of acids and bases was developed l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onsted-Lowry acid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onates a hydrogen ion in a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onsted – Lowry b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accepts a hydrogen in a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jugate acid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pound formed when an base gains a hydrogen 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jugate b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compound formed when an acid loses a hydrogen 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Sca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5" name="Picture 4" descr="pH">
            <a:hlinkClick r:id="rId1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066680" y="1371600"/>
            <a:ext cx="6400800" cy="54039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86364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Arial"/>
              </a:rPr>
              <a:t>pH of Common Substanc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pH of common substances"/>
          <p:cNvPicPr/>
          <p:nvPr/>
        </p:nvPicPr>
        <p:blipFill>
          <a:blip r:embed="rId1"/>
          <a:stretch/>
        </p:blipFill>
        <p:spPr>
          <a:xfrm>
            <a:off x="176040" y="1143000"/>
            <a:ext cx="8967960" cy="5562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280080" y="6248520"/>
            <a:ext cx="21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Timberlake, </a:t>
            </a:r>
            <a:r>
              <a:rPr b="0" lang="en-US" sz="8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Chemistry </a:t>
            </a: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7</a:t>
            </a:r>
            <a:r>
              <a:rPr b="0" lang="en-US" sz="8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th</a:t>
            </a: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 Edition, page 335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AutoShape 2">
            <a:hlinkClick r:id="rId2" action="ppaction://hlinksldjump"/>
          </p:cNvPr>
          <p:cNvSpPr/>
          <p:nvPr/>
        </p:nvSpPr>
        <p:spPr>
          <a:xfrm>
            <a:off x="177840" y="581508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ctions with indicato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752480"/>
          <a:ext cx="7467840" cy="4267440"/>
        </p:xfrm>
        <a:graphic>
          <a:graphicData uri="http://schemas.openxmlformats.org/drawingml/2006/table">
            <a:tbl>
              <a:tblPr/>
              <a:tblGrid>
                <a:gridCol w="2590920"/>
                <a:gridCol w="1557360"/>
                <a:gridCol w="1660680"/>
                <a:gridCol w="1658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dicat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cid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eutral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ase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henolphthalei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lorles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aint pin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ark pin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romthymol 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ellow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itmu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R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---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pap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6" name="Picture 2" descr="http://tbn0.google.com/images?q=tbn:M6BvJEJBykPVhM:http://www.chem.ucla.edu/~gchemlab/ph-pap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209680"/>
            <a:ext cx="3047760" cy="2667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 paper changes color to indicate a specific pH valu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Buffers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uffer is a solution that resists changes in pH when small amounts of acids and bases are add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ituations in which pH is controlle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artburn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ting vegetables and flow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sh Tanks and Po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wimming po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ids and Bases in Solution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l  +  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 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+   C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ore hydronium ions, more acidi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OH  in water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Na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+   O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ore hydroxide ions, more basic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OH  +  HCl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NaCl   +  HOH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id + Base yields type of salt and water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N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+   O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mmonia gas + water yields ammonium and hydroxide 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n ACID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H less than 7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eutralizes bas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orms H </a:t>
            </a:r>
            <a:r>
              <a:rPr b="0" lang="en-US" sz="4000" spc="-1" strike="noStrike" baseline="56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ions in solu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orrosive-reacts with most metals to form hydrogen g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ood conductors of electricity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523880" y="2631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id 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llution in the air (sulfur dioxide, carbon dioxide, nitrogen dioxide) combines with water to form various aci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j0322362.wav" descr=""/>
          <p:cNvPicPr/>
          <p:nvPr/>
        </p:nvPicPr>
        <p:blipFill>
          <a:blip r:embed="rId1"/>
          <a:stretch/>
        </p:blipFill>
        <p:spPr>
          <a:xfrm>
            <a:off x="7772400" y="762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www.chemistry.wustl.edu/~edudev/LabTutorials/Water/FreshWater/images/Eqn1.jpg"/>
          <p:cNvPicPr/>
          <p:nvPr/>
        </p:nvPicPr>
        <p:blipFill>
          <a:blip r:embed="rId2"/>
          <a:stretch/>
        </p:blipFill>
        <p:spPr>
          <a:xfrm>
            <a:off x="685800" y="3886200"/>
            <a:ext cx="2857680" cy="3333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910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2286000" y="24591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apid changes in pH can kill fish and other organisms in lakes and stream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il pH is affected and can kill plants and create sinkho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acidraindamage"/>
          <p:cNvPicPr/>
          <p:nvPr/>
        </p:nvPicPr>
        <p:blipFill>
          <a:blip r:embed="rId1"/>
          <a:stretch/>
        </p:blipFill>
        <p:spPr>
          <a:xfrm>
            <a:off x="152280" y="2286000"/>
            <a:ext cx="2971800" cy="211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s02_page02a_pic">
            <a:hlinkClick r:id="rId2"/>
          </p:cNvPr>
          <p:cNvPicPr/>
          <p:nvPr/>
        </p:nvPicPr>
        <p:blipFill>
          <a:blip r:embed="rId3"/>
          <a:srcRect l="9343" t="0" r="0" b="9383"/>
          <a:stretch/>
        </p:blipFill>
        <p:spPr>
          <a:xfrm>
            <a:off x="3200400" y="220968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parthenon2">
            <a:hlinkClick r:id="rId4"/>
          </p:cNvPr>
          <p:cNvPicPr/>
          <p:nvPr/>
        </p:nvPicPr>
        <p:blipFill>
          <a:blip r:embed="rId5"/>
          <a:srcRect l="4689" t="7617" r="6118" b="8576"/>
          <a:stretch/>
        </p:blipFill>
        <p:spPr>
          <a:xfrm>
            <a:off x="609480" y="4800600"/>
            <a:ext cx="2895840" cy="1676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burlington"/>
          <p:cNvPicPr/>
          <p:nvPr/>
        </p:nvPicPr>
        <p:blipFill>
          <a:blip r:embed="rId6"/>
          <a:stretch/>
        </p:blipFill>
        <p:spPr>
          <a:xfrm>
            <a:off x="5072040" y="3268800"/>
            <a:ext cx="4071960" cy="35892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1"/>
          <p:cNvSpPr/>
          <p:nvPr/>
        </p:nvSpPr>
        <p:spPr>
          <a:xfrm>
            <a:off x="542880" y="246852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12" descr="STOPTRANSPARK.ORG"/>
          <p:cNvPicPr/>
          <p:nvPr/>
        </p:nvPicPr>
        <p:blipFill>
          <a:blip r:embed="rId7"/>
          <a:stretch/>
        </p:blipFill>
        <p:spPr>
          <a:xfrm>
            <a:off x="304920" y="152280"/>
            <a:ext cx="8515080" cy="19209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image12"/>
          <p:cNvPicPr/>
          <p:nvPr/>
        </p:nvPicPr>
        <p:blipFill>
          <a:blip r:embed="rId1"/>
          <a:srcRect l="3919" t="13645" r="4641" b="1917"/>
          <a:stretch/>
        </p:blipFill>
        <p:spPr>
          <a:xfrm>
            <a:off x="-380880" y="-42840"/>
            <a:ext cx="9677160" cy="6997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media.miamiherald.com/smedia/2008/05/07/22/Texas_Sinkhole.sff.embedded.prod_affiliate.56.jpg"/>
          <p:cNvPicPr/>
          <p:nvPr/>
        </p:nvPicPr>
        <p:blipFill>
          <a:blip r:embed="rId1"/>
          <a:stretch/>
        </p:blipFill>
        <p:spPr>
          <a:xfrm>
            <a:off x="2362320" y="1143000"/>
            <a:ext cx="4190760" cy="46483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is a SAL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salt is a neutral substance produced from the reaction of an acid and a ba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osed of the negative ion of an acid and the positive ion of a ba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ne of the products of a Neutralization Re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s:  KCl,  Mg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 Na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5" descr="bathsal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5181480"/>
            <a:ext cx="1981440" cy="1338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salt-inde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5029200"/>
            <a:ext cx="2239920" cy="1600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sal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0120" y="4572000"/>
            <a:ext cx="1257120" cy="20001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tralization Reaction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neutralization reaction is the reaction of an acid with a base to produce salt and w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4 + NaOH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NaH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gestion and p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gestion-process by which foods are broken down into simpler substanc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chanical digestion-physical process in which food is torn apart (mouth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emical digestion- chemical reactions in which large molecules are broken down into smaller molecules. (stomach and small intestin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7" name="Picture 7" descr="Eating"/>
          <p:cNvPicPr/>
          <p:nvPr/>
        </p:nvPicPr>
        <p:blipFill>
          <a:blip r:embed="rId1"/>
          <a:stretch/>
        </p:blipFill>
        <p:spPr>
          <a:xfrm>
            <a:off x="6400800" y="4883040"/>
            <a:ext cx="1494000" cy="1463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2"/>
          <a:stretch/>
        </p:blipFill>
        <p:spPr>
          <a:xfrm>
            <a:off x="990720" y="5105520"/>
            <a:ext cx="1562040" cy="15620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in the Digestive Syst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th-pH around 7.  Saliva contains amylase, an enzyme which begins to break carbohydrates into sugar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mach- pH around 2. Proteins are broken down into amino acids by the enzyme peps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mall intestine-pH around 8.  Most digestion ends.  Small molecules move to bloodstream toward cells that use th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2" name="SN002378.wav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j0092378.wav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49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359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digestive_sys"/>
          <p:cNvPicPr/>
          <p:nvPr/>
        </p:nvPicPr>
        <p:blipFill>
          <a:blip r:embed="rId1"/>
          <a:stretch/>
        </p:blipFill>
        <p:spPr>
          <a:xfrm>
            <a:off x="609480" y="533520"/>
            <a:ext cx="4643640" cy="60195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7010280" y="12193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u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919560" y="19461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ophag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699160" y="30891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oma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848200" y="392760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mall intes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5772600" y="49942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rge intes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H="1">
            <a:off x="3657240" y="1447920"/>
            <a:ext cx="3429000" cy="30456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 flipH="1">
            <a:off x="2819520" y="2209680"/>
            <a:ext cx="4114800" cy="45720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 flipH="1">
            <a:off x="3200040" y="3429000"/>
            <a:ext cx="2438280" cy="60948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3276360" y="4267080"/>
            <a:ext cx="2514600" cy="114300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 flipH="1" flipV="1">
            <a:off x="3048120" y="5105160"/>
            <a:ext cx="2666880" cy="7596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562720" y="3808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estive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cids Generate Ions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00760" y="3179880"/>
            <a:ext cx="8224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N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+  H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    </a:t>
            </a:r>
            <a:r>
              <a:rPr b="0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H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 +  N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imes New Roman"/>
              </a:rPr>
              <a:t>Acids, Bases, and Salts 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imes New Roman"/>
              </a:rPr>
              <a:t>The End 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9" name="SN002378.wav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359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eak vs. Strong Aci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k Acids do not ionize completely: Acetic, Boric, Nitrous, Phosphoric, Sulfuro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ong Acids ionize completely: Hydrochloric, Nitric; Sulfuric, Hydriod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n Acid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43000" y="22096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0492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l- hydrochloric- stomach ac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sulfuric acid - car batte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NO</a:t>
            </a:r>
            <a:r>
              <a:rPr b="0" lang="en-US" sz="3200" spc="-1" strike="noStrike" baseline="-34000">
                <a:solidFill>
                  <a:srgbClr val="ffffcc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nitric acid - explos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acetic acid - vineg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carbonic acid – so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phosphoric acid -flavo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32080" y="2936880"/>
            <a:ext cx="542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19320" y="3505320"/>
            <a:ext cx="435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9" descr="ph02814j"/>
          <p:cNvPicPr/>
          <p:nvPr/>
        </p:nvPicPr>
        <p:blipFill>
          <a:blip r:embed="rId1"/>
          <a:stretch/>
        </p:blipFill>
        <p:spPr>
          <a:xfrm>
            <a:off x="6705720" y="4952880"/>
            <a:ext cx="2133360" cy="1652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vineg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502920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pepsi">
            <a:hlinkClick r:id="rId4"/>
          </p:cNvPr>
          <p:cNvPicPr/>
          <p:nvPr/>
        </p:nvPicPr>
        <p:blipFill>
          <a:blip r:embed="rId5"/>
          <a:srcRect l="-4150" t="-4148" r="4168" b="11777"/>
          <a:stretch/>
        </p:blipFill>
        <p:spPr>
          <a:xfrm>
            <a:off x="3352680" y="5105520"/>
            <a:ext cx="1828800" cy="1349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interstat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914400"/>
            <a:ext cx="1904760" cy="1782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acids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65280" y="380880"/>
            <a:ext cx="4003920" cy="5791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 BASE?</a:t>
            </a:r>
            <a:br>
              <a:rPr sz="5400"/>
            </a:b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H greater than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eels slippe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ssolves fats and oi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ually forms OH</a:t>
            </a:r>
            <a:r>
              <a:rPr b="0" lang="en-US" sz="4400" spc="-1" strike="noStrike" baseline="52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ions in so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eutralizes aci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eak vs. Strong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k Bases:  ammonia; potassium carbonate, sodium carbon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ong Bases:  sodium hydroxide; sodium phosphate; barium hydroxide; calcium hydrox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n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OH- sodium hydroxide (LYE) soaps, drain clean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g (OH)</a:t>
            </a:r>
            <a:r>
              <a:rPr b="0" lang="en-US" sz="28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- magnesium hydroxide-ant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(OH)</a:t>
            </a:r>
            <a:r>
              <a:rPr b="0" lang="en-US" sz="28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aluminum hydroxide-antacids, deodora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H-ammonium hydroxide- “ammoni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Picture 7" descr="so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952880"/>
            <a:ext cx="1371600" cy="111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antacids">
            <a:hlinkClick r:id="rId3"/>
          </p:cNvPr>
          <p:cNvPicPr/>
          <p:nvPr/>
        </p:nvPicPr>
        <p:blipFill>
          <a:blip r:embed="rId4"/>
          <a:srcRect l="0" t="0" r="0" b="8540"/>
          <a:stretch/>
        </p:blipFill>
        <p:spPr>
          <a:xfrm>
            <a:off x="380880" y="4876920"/>
            <a:ext cx="2438640" cy="170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hhwp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4648320"/>
            <a:ext cx="3200400" cy="19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product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380880"/>
            <a:ext cx="1279440" cy="1108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0:14:55Z</dcterms:created>
  <dc:creator>Kellye McDowell</dc:creator>
  <dc:description/>
  <dc:language>en-US</dc:language>
  <cp:lastModifiedBy>LEGION</cp:lastModifiedBy>
  <dcterms:modified xsi:type="dcterms:W3CDTF">2017-01-26T09:10:09Z</dcterms:modified>
  <cp:revision>24</cp:revision>
  <dc:subject/>
  <dc:title>Acids, Bases, &amp; Salts</dc:title>
</cp:coreProperties>
</file>