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B4C4-5D6B-415F-9AFB-77FEDECCD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594DA-6F52-4EEB-9A2E-CC978AA20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A32A8-2BFC-47F3-AEE9-005B1384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C0A4D-8FBC-4B5B-986B-E5B010B1C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30A35-9ECA-45B4-8E7E-9EF68FB3D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F060F-E163-4D30-9372-5522DF470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409A8-3518-42EA-B3BA-1203E6308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0E174-EF90-48CD-8202-98400D503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8B6D8-8660-4F8E-84BF-B1E6393D9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96019-A81D-4C18-BD41-EE6CADA5B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9389B-213B-421F-AD4B-EB99C57F8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5E32C-E245-4BA5-8FCE-933B80676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A9DDE-35E5-4271-AF4D-302127A4D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A4ABB-AAD8-4BCA-BF84-B1A50C2D0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5A14A-C75D-4AC3-A117-C984C8FD6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BFBB8-5B21-4A60-A678-50A9B3EB1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435FE-7C12-471C-9A06-CCB2BD0C71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7F3FF-52B6-4487-AF1C-78ED22131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C2CFF-4165-41F1-8930-BE395FC43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6865D-7FC8-4D51-AEAA-D81E42D28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9DE9-FB11-4DA7-8A26-DD3A267C9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6C2D-B554-436A-B271-762B4F0D1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89C7-1379-4D0E-A2F0-C72E1D88A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12FE5-DA92-43C2-87E6-1248C730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D760-8DC6-4B64-A40F-003878E27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0356-761E-4BDB-9B1A-EB8E00E9B7A0}" type="datetime2">
              <a:rPr b="0" lang="ur-PK" sz="1400" spc="-1" strike="noStrike">
                <a:solidFill>
                  <a:srgbClr val="000000"/>
                </a:solidFill>
                <a:latin typeface="Times New Roman"/>
              </a:rPr>
              <a:t>بده, 29,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3C0F-AF08-4DD0-9323-FBCAF8267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F362-CFA9-4B0A-B797-58AB4867F38B}" type="datetime2">
              <a:rPr b="0" lang="ur-PK" sz="1400" spc="-1" strike="noStrike">
                <a:solidFill>
                  <a:srgbClr val="ffffff"/>
                </a:solidFill>
                <a:latin typeface="Times New Roman"/>
              </a:rPr>
              <a:t>بده, 29,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22B7-C4C6-457D-BE3E-B95D462753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