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arning Check A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ive the names of the follow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 HBr (aq)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 bromic 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  bromous aci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 hydrobrom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 H2CO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 carbon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  hydrocarbon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 carbon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B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hydrobrom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e of a nonoxy acid begins with the prefix hydro- and ends with -ic acid. In a nonoxy acid, the negative anion end in -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H2CO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carbon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e of an oxyacid is named with the stem of the anion (carbonate) changed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me Common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tass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(OH)2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g(OH)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_______  Al(OH)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umin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arning Check AB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tch the formulas with the na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) 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(OH)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) 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 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. 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) nit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. 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) 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AB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tch the formulas with the na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_4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) 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_5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(OH)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) 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_2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 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. _1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) nit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. _3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) 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arning Check AB5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, Base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 S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l2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(OH)2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B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AB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, Base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 S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l2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l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c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tassiui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(OH)2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r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B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brom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ronsted-Lowry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s are hydrogen ion (H+) do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 are hydrogen ion (H+) accep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           +      H2O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H3O+         +       C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onor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cepto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+                  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rrhenius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s produce H+ in aqueous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H+(aq)  + Cl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 produce OH- in aqueous solution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Na+(aq)  + 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H+ (as H3O+) ion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a negative ion (-)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te sour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ode met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 with bases to form salts and wa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OH- ion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te bitter, chal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electrol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 soapy, slipp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 with acids to form salts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solution in each of the following as: 1) acid   2) base  or 3)neu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___s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___soa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___coff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___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 ___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   ___ grape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each solution a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acid   2) base  or 3) neu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_1_  s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_2_  soa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_1_  coff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_1_ 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 _3_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   _1_ grape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 Check 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each as characteristic of an A) acid  or B)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1.  Sour ta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2.  Produces OH- in aqueous solutions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3.  Chalky t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4.  Is an electrol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5.  Produces H+ in aqueous solu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each as a characteristic of an A) acid  or B)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A_  1. Sour t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B_  2. Produces OH- in aqueous solutions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B_  3. Chalky t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, B  4. Is an electrol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A_  5. Produces H+ in aqueous solu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me Common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chlor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tr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P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osphor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lfur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3COOH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et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824B-59BC-4317-B748-F02C28D2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F121-7FA9-458A-9F0B-44D5E2F0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8FC6-F062-45CD-B8BC-7900714E5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419B-1241-4CD8-886E-5B0804B1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094D-AC3F-4BF2-94F1-7422613D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838D-5D11-4D56-BFAB-D8882D0F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031F-F7FF-4D44-9954-0765AD84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CD4E-BF60-4A10-84B6-BA032932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956A-58F4-48A2-8D03-6C143228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3267-015C-4223-A6B2-DEABABC2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233C-98E7-4E58-9771-D5D193E5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9F51-817F-4381-BBDF-6CE2A1D9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0100-F10F-48B6-9C5E-1E76909ED687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ff33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AB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Give the names of the following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 HBr (aq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  bromic acid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.  bromous acid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.  hydrobrom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  carbon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.  hydrocarbon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.  carbonous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.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Br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. hydrobrom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name of a nonoxy acid begins with the prefix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hydro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nd ends with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-ic acid.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 a nonoxy acid, the negative anion end in -</a:t>
            </a:r>
            <a:r>
              <a:rPr b="1" i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ide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B.</a:t>
            </a:r>
            <a:r>
              <a:rPr b="1" i="1" lang="en-US" sz="3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 carbon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name of an oxyacid is named with the stem of the anion (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carbonate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changed to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c acid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me Common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Na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d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K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tass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Ba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_______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Al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umin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AB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atch the formulas with the name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___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ydrochlo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sulfu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sod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4) nitrous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. 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5) calc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atch the formulas with the name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4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ydrochlo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5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sulfu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2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sod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4) nitrous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3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5) calc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AB5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cid, Base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Nam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r Sal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   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K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B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________________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5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80880" y="1905120"/>
            <a:ext cx="8382240" cy="53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cid, Base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Nam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r Sal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   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alt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lcium chlor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K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tassiui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r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B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id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ydrobrom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id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ulfu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Oval 2"/>
          <p:cNvSpPr/>
          <p:nvPr/>
        </p:nvSpPr>
        <p:spPr>
          <a:xfrm>
            <a:off x="5638680" y="5029200"/>
            <a:ext cx="38124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Oval 3"/>
          <p:cNvSpPr/>
          <p:nvPr/>
        </p:nvSpPr>
        <p:spPr>
          <a:xfrm>
            <a:off x="6248520" y="510552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Oval 4"/>
          <p:cNvSpPr/>
          <p:nvPr/>
        </p:nvSpPr>
        <p:spPr>
          <a:xfrm>
            <a:off x="2743200" y="49528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3429000" y="502920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onsted-Lowry 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ids are hydrogen ion (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donor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ses are hydrogen ion (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acceptor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           +    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+       Cl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donor         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acceptor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      +                   -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3962520" y="3733920"/>
            <a:ext cx="1066680" cy="0"/>
          </a:xfrm>
          <a:prstGeom prst="line">
            <a:avLst/>
          </a:prstGeom>
          <a:ln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Oval 9"/>
          <p:cNvSpPr/>
          <p:nvPr/>
        </p:nvSpPr>
        <p:spPr>
          <a:xfrm>
            <a:off x="533520" y="4724280"/>
            <a:ext cx="761760" cy="685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1219320" y="487692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2971800" y="4419720"/>
            <a:ext cx="762120" cy="7617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2"/>
          <p:cNvSpPr/>
          <p:nvPr/>
        </p:nvSpPr>
        <p:spPr>
          <a:xfrm>
            <a:off x="4343400" y="4876920"/>
            <a:ext cx="6094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5715000" y="4495680"/>
            <a:ext cx="762120" cy="762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Oval 14"/>
          <p:cNvSpPr/>
          <p:nvPr/>
        </p:nvSpPr>
        <p:spPr>
          <a:xfrm>
            <a:off x="5715000" y="434340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Oval 15"/>
          <p:cNvSpPr/>
          <p:nvPr/>
        </p:nvSpPr>
        <p:spPr>
          <a:xfrm>
            <a:off x="7772400" y="4419720"/>
            <a:ext cx="762120" cy="8380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rrhenius 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ffff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ids produce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aqueous solut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wate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Cl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H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aq)  + Cl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ffff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ses produce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aqueous solutions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water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NaOH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Na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  +  O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438280" y="3124080"/>
            <a:ext cx="18288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2514600" y="5791320"/>
            <a:ext cx="16765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roduce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(as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ions in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roduce a negative ion (-) to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aste sour  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rrode metals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act with bases to form salts and wate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" name="Object 4" descr=""/>
          <p:cNvPicPr/>
          <p:nvPr/>
        </p:nvPicPr>
        <p:blipFill>
          <a:blip r:embed="rId1"/>
          <a:stretch/>
        </p:blipFill>
        <p:spPr>
          <a:xfrm>
            <a:off x="6477120" y="2438280"/>
            <a:ext cx="205740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roduce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ons in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aste bitter, chalky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re electrolyt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eel soapy, slippery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act with acids to form salts and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9" name="Object 6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996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AB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escribe the solution in each of the following as: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acid   2) base  or 3)neutral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 ___soda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 ___soap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 ___coffe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 ___ win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.  ___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.   ___ grapefrui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escribe each solution as: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acid   2) base  or 3) neutral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soda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2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soap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coffe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win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3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. 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grapefrui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2193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 Check AB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dentify each as characteristic of an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) acid  or B) bas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1.  Sour taste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2.  Produces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aqueous solutions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3.  Chalky tast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4.  Is an electrolyt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5.  Produces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aqueous solution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2193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2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dentify each as a characteristic of an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A) acid  or B) ba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1. Sour tas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B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2. Produces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n aqueous solutions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B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3. Chalky tas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A, B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. Is an electroly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5. Produces 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n aqueous solution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me Common 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1" marL="6984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hydr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hlor</a:t>
            </a: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6984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itr</a:t>
            </a: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lnSpc>
                <a:spcPct val="13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hosphor</a:t>
            </a:r>
            <a:r>
              <a:rPr b="1" lang="en-US" sz="34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lnSpc>
                <a:spcPct val="16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ulfur</a:t>
            </a:r>
            <a:r>
              <a:rPr b="1" lang="en-US" sz="34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lnSpc>
                <a:spcPct val="16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OH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et</a:t>
            </a:r>
            <a:r>
              <a:rPr b="1" lang="en-US" sz="34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21:59:49Z</dcterms:created>
  <dc:creator>Karen Timberlake</dc:creator>
  <dc:description/>
  <dc:language>en-US</dc:language>
  <cp:lastModifiedBy>LEGION</cp:lastModifiedBy>
  <dcterms:modified xsi:type="dcterms:W3CDTF">2017-01-26T09:09:07Z</dcterms:modified>
  <cp:revision>12</cp:revision>
  <dc:subject/>
  <dc:title>Chapter 9 Acids and 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9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