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8.wmf" ContentType="image/x-wmf"/>
  <Override PartName="/ppt/media/image30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9.jpeg" ContentType="image/jpeg"/>
  <Override PartName="/ppt/media/image2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82C3-A31B-46AC-951F-9BD61F005B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C8E-78AA-44D7-919F-DE44FF3D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10F-1E70-40F1-9EFA-8A84E95C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86A-B66E-49FF-8767-23C961AF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C4F-4325-4903-A886-1637E0A5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BA8-F3A9-4F1F-B1A0-90AD7041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0B9-4FE2-4AE7-B38A-A9CAF145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740-9D04-4E15-B34A-A530C218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B7C-B16D-41AB-913C-5C1CBB05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2FA-FAE3-4147-996B-411DBD78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DA6-DC8C-4DD0-846D-3C69E6C0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371-1C45-48CF-8578-7AC3DEC5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F9D-793F-4453-B3CC-D88D0148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1B83-71FA-419E-B820-678A4A211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763120" cy="6588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20080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11764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n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22482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me Acid-B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ttp://wps.prenhall.com/wps/media/objects/340/348272/Instructor_Resources/Chapter_01/Text_Images/FG01_07-038UN.JPG"/>
          <p:cNvPicPr/>
          <p:nvPr/>
        </p:nvPicPr>
        <p:blipFill>
          <a:blip r:embed="rId1"/>
          <a:stretch/>
        </p:blipFill>
        <p:spPr>
          <a:xfrm>
            <a:off x="533520" y="1400040"/>
            <a:ext cx="7696080" cy="54579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wps.prenhall.com/wps/media/objects/340/348272/Instructor_Resources/Chapter_01/Text_Images/FG01_07-052UN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wps.prenhall.com/wps/media/objects/340/348272/Instructor_Resources/Chapter_01/Text_Images/FG01_07-053UN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0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Effect of Resonance on p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12589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Favors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772400" cy="28843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rboxylic Acids can be Separated from non-acid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86960" cy="48135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3260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mation of a new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816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ps.prenhall.com/wps/media/objects/340/348272/Instructor_Resources/Chapter_01/Text_Images/FG01_07-055UN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2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wis Base = </a:t>
            </a:r>
            <a:r>
              <a:rPr b="1" lang="en-US" sz="4400" spc="-1" strike="noStrike">
                <a:solidFill>
                  <a:srgbClr val="33cccc"/>
                </a:solidFill>
                <a:latin typeface="Times New Roman"/>
              </a:rPr>
              <a:t>Nucleophile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wis Acid =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Electrop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Acid-Base Comp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58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7315200" cy="75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934320" cy="6001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5358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29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Conjugate Base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i.e. Which H is most acidic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458200" cy="2568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asuring Acid Streng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Rectangle 3"/>
          <p:cNvGrpSpPr/>
          <p:nvPr/>
        </p:nvGrpSpPr>
        <p:grpSpPr>
          <a:xfrm>
            <a:off x="0" y="2200320"/>
            <a:ext cx="9144000" cy="1542960"/>
            <a:chOff x="0" y="2200320"/>
            <a:chExt cx="9144000" cy="1542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0" y="2200320"/>
              <a:ext cx="91440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2200320"/>
              <a:ext cx="914400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362320" y="2362320"/>
            <a:ext cx="624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deprotonating one of the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tons, one can distribute the charge onto three atoms and give a major resonance structure with the charge on the Oxygen (the third structu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Strength defined by pK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19320" y="1282680"/>
            <a:ext cx="7086600" cy="4592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on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3600"/>
            </a:br>
            <a:r>
              <a:rPr b="0" lang="en-US" sz="3600" spc="-1" strike="noStrike" u="sng">
                <a:solidFill>
                  <a:srgbClr val="009900"/>
                </a:solidFill>
                <a:uFillTx/>
                <a:latin typeface="Times New Roman"/>
              </a:rPr>
              <a:t>Arrhenius Acid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forms H</a:t>
            </a:r>
            <a:r>
              <a:rPr b="0" lang="en-US" sz="36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Bronsted-Lowry Acid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onates a H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ps.prenhall.com/wps/media/objects/340/348272/Instructor_Resources/Chapter_01/Text_Images/FG01_07-035U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652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onance Sta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onger Acid Controls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action Described with Arrows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Cl donates a proto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 accepts 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02p31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My Documents\My Pictures\Chapter 1\acid strengths.bmp"/>
          <p:cNvPicPr/>
          <p:nvPr/>
        </p:nvPicPr>
        <p:blipFill>
          <a:blip r:embed="rId1"/>
          <a:stretch/>
        </p:blipFill>
        <p:spPr>
          <a:xfrm>
            <a:off x="457200" y="41400"/>
            <a:ext cx="7620120" cy="675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50:37Z</dcterms:created>
  <dc:creator>WILLIAM PRICE</dc:creator>
  <dc:description/>
  <dc:language>en-US</dc:language>
  <cp:lastModifiedBy>LEGION</cp:lastModifiedBy>
  <dcterms:modified xsi:type="dcterms:W3CDTF">2017-01-26T09:10:41Z</dcterms:modified>
  <cp:revision>26</cp:revision>
  <dc:subject/>
  <dc:title>Acids and Bases</dc:title>
</cp:coreProperties>
</file>