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D2D1C-E62A-4AFF-80DD-CDCE80160A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CIDS AND BASE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CIDS AND BASES</a:t>
            </a:r>
            <a:br>
              <a:rPr sz="1200"/>
            </a:b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HAPTER 15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. Strong vs. Weak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Strong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ssentially go to 100% io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xn normally shown with single headed ar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rong Acids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rong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Li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Br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a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I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NO3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2SO4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O4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r(OH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NO3  →  H+  +  NO3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. Strong vs. Weak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Strong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ssentially go to 100% ioniza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xn normally shown with single headed arrow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trong Acids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trong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l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LiOH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Br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NaOH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I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OH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NO3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a(OH)2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SO4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(OH)2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lO4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r(OH)2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NO3  →  H+  +  NO3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Weak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ially dissociate or ionize, reaching som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namic equilibrium stat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xn normally shown with double headed ar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N ⇌  H+  +  CN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ak acids and bases significant in biological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stem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Weak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artially dissociate or ionize, reaching some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ynamic equilibrium stat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xn normally shown with double headed arrow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N ⇌  H+  +  CN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eak acids and bases significant in biological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ystems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         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. Examples of Organic Weak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rboxylic Acids: (weak acid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CO2H or RCOO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ion formed by ionization is resonance stabiliz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xamples: pyruvic acid, lactic acid, ace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mines: (weak bas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ed on ammonia, with differing # of “R” grou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rimary, secondary, terti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F. Examples of Organic Weak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arboxylic Acids: (weak acids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CO2H or RCOOH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nion formed by ionization is resonance stabilize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s: pyruvic acid, lactic acid, acetic aci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mines: (weak bases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d on ammonia, with differing # of “R” group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rimary, secondary, tertiary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. Polyprotic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rotic acids can donate more than one proton     sequenti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S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3P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protic bases can accept more than one proton sequential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4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43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G. Polyprotic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olyprotic acids can donate more than one proton     sequentially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SO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3PO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olyprotic bases can accept more than one proton sequentially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O42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O43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2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II. Self-Ionization of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scri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ure water slightly ionizes on its own (autoioniz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ith equilibrium reactant favo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2O(l)  +  H2O(l) ⇌ H3O+(aq)  +  OH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termine the Kc val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II. Self-Ionization of Wate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escrip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ure water slightly ionizes on its own (autoionizes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ith equilibrium reactant favored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O(l)  +  H2O(l) ⇌ H3O+(aq)  +  OH-(aq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etermine the Kc valu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c  for water ionization = Kw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w = ionization constant for water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ion product constant for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w = [H+] [OH-] = 1 x 10-14  at 25o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are [H+] and [OH-] for pure water at 25o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c  for water ionization = Kw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w = ionization constant for water 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= ion product constant for wate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w = [H+] [OH-] = 1 x 10-14  at 25oC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at are [H+] and [OH-] for pure water at 25oC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ue for Water and Dilute Aqueous Solu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cluding Acid and Base Solutions of Intere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[OH-] = 1 x 10-14        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3O+] [OH-] = 1 x 10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utral Solu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= [OH-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ic Solutio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&gt; [OH-]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Solutio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&lt; [OH-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[H3O+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rue for Water and Dilute Aqueous Solu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Including Acid and Base Solutions of Interest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[OH-] = 1 x 10-14         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3O+] [OH-] = 1 x 10-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Neutral Solution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= [OH-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cidic Solution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&gt; [OH-]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ic Solution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&lt; [OH-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or [H3O+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V. pH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most aqueous weak acid and base solutions, the H+ concentrations are very small.  Easier to express concentrations using a logarithmic relationship.       p = - 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= -log [H+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H = -log [OH-]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V. pH Scale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n most aqueous weak acid and base solutions, the H+ concentrations are very small.  Easier to express concentrations using a logarithmic relationship.       p = - log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us: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H = -log [H+]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OH = -log [OH-]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the relationship between pH and pO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[H+] [OH-]  =  1 x 10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-log [H+]) + (-log [OH-]) = -log (1 x 10-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      +      pOH       =     14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 +  pOH =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at is the relationship between pH and pOH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[H+] [OH-]  =  1 x 10-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-log [H+]) + (-log [OH-]) = -log (1 x 10-14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H       +      pOH       =     14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H  +  pOH = 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nce pH is a logarithmic scale, cola drinks (pH about 2.5) are about ____ times as acidic as tomatoes (pH about 4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pH Scale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ince pH is a logarithmic scale, cola drinks (pH about 2.5) are about ____ times as acidic as tomatoes (pH about 4.5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. Arrhenius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hat we have been using to this po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henius Acid is a substance that, when dissolved in water, increases the concentration of  hydrogen ion, H+ or (hydronium ion H3O+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henius Base is a substance that, when dissolved in water, increases the concentration of hydroxide ions, OH-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. Arrhenius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What we have been using to this point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rrhenius Acid is a substance that, when dissolved in water, increases the concentration of  hydrogen ion, H+ or (hydronium ion H3O+)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rrhenius Base is a substance that, when dissolved in water, increases the concentration of hydroxide ions, OH-.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Recall for problem solv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****[H+] is the same as [H3O+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)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H = -log [H+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2)  [H+] = 10-pH  or    antilog (-pH) = [H+]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3)  pOH = -log [OH-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4)  [OH-] = 10-pOH 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ntilog (-pOH-) = [OH-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5)  [H+] [OH-] = 1 x 10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6)  pH + pOH =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ecall for problem solving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**[H+] is the same as [H3O+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)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H = -log [H+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)  [H+] = 10-pH  or    antilog (-pH) = [H+]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)  pOH = -log [OH-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4)  [OH-] = 10-pOH or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ntilog (-pOH-) = [OH-]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5)  [H+] [OH-] = 1 x 10-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6)  pH + pOH = 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 Solv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A blood sample (considered a dilute aqueous solution) contains 7.2 x 10-8 mol H+ per lit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What is the pH of the blood samp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What is the [OH-] of the blood sampl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Is the blood sample acidic, basic, or neutr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The pH of an aqueous solution is 8.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What is the [H+]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What is the pOH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roblem Solving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) A blood sample (considered a dilute aqueous solution) contains 7.2 x 10-8 mol H+ per liter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 What is the pH of the blood sampl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What is the [OH-] of the blood sampl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 Is the blood sample acidic, basic, or neutral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) The pH of an aqueous solution is 8.7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 What is the [H+]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What is the pOH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. Strong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ng acids and bas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go essentially complet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sociation (ionization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librium expressions no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ed for problem sol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What is the pH and [H+] for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.05 M HCl 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V. Strong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trong acids and bases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undergo essentially complete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issociation (ionization)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quilibrium expressions not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needed for problem solving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:  What is the pH and [H+] for a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0.05 M HCl solution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 Solving for Weak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only dissociate or ionize partially in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we have an equilibriu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tuation, and can solve problems using th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chniques we learned earlier for deal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equilibrium problems.  (ICE tables…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ilibrium Constants (K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for weak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b for weak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roblem Solving for Weak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y only dissociate or ionize partially in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olut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is means we have an equilibrium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ituation, and can solve problems using the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echniques we learned earlier for dealing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ith equilibrium problems.  (ICE tables…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quilibrium Constants (Kc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 for weak acid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b for weak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I.  Weak Acid Equilibrium Rxn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Acid Ionization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ive the acid ionization constant expression for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e acid:    HA(aq)  +  H2O(l) ⇌ H3O+(aq)  +  A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or       HA(aq)  ⇌ H+(aq)  +  A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a =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VI.  Weak Acid Equilibrium Rxns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Acid Ionization Constant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Defini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Give the acid ionization constant expression for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acid:    HA(aq)  +  H2O(l) ⇌ H3O+(aq)  +  A-(aq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or       HA(aq)  ⇌ H+(aq)  +  A-(aq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 = 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What does the Ka tell you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r Ka      stronger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more of the acid ionizes in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water to form H+)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e Table 15.5, for exam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s the strongest ac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etic acid   Ka = 1.8 x 10-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ric Acid   Ka = 7.3 x 10-1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 What does the Ka tell you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Larger Ka      stronger aci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more of the acid ionizes in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water to form H+)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ee Table 15.5, for exampl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ich is the strongest acid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cetic acid   Ka = 1.8 x 10-5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oric Acid   Ka = 7.3 x 10-10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Ka From Equilibrium Concent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0.10 M solution of phenol (weak acid)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H of 5.43.  Calculate the Ka for phen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Ka From Equilibrium Concentra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0.10 M solution of phenol (weak acid) ha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pH of 5.43.  Calculate the Ka for phenol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pH Calculations from Ka of Weak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ak monoprotic acid, parahydroxybenzoic acid, has a Ka of 2.6 x 10-5.  Answer the follow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for a 0.200 M solution of parahydroxybenzoic aci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What is the pH of the 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What percent of the parahydroxybenzoic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acid has ionized in this 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pH Calculations from Ka of Weak Aci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weak monoprotic acid, parahydroxybenzoic acid, has a Ka of 2.6 x 10-5.  Answer the following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questions for a 0.200 M solution of parahydroxybenzoic acid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What is the pH of the solution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What percent of the parahydroxybenzoic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acid has ionized in this solution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Comment on Polyprotic Ac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 H3PO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’s =  7.5 x 10-3,  6.2 x 10-8,   3.6 x 10-13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Show the three acid ionization equations with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their accompanying Ka valu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Which is the strongest aci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How would you go about calculating the pH of 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given H3PO4 solu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. Comment on Polyprotic Acid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:  H3PO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’s =  7.5 x 10-3,  6.2 x 10-8,   3.6 x 10-13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 Show the three acid ionization equations with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their accompanying Ka values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 Which is the strongest acid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.  How would you go about calculating the pH of a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given H3PO4 solution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VII. Weak Base Equilibrium Rx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e Ionization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(base will accept proton from H2O, forming OH-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1. 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ive the base ionization constant expression for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the base:    B(aq)  +  H2O(l) ⇌ BH+(aq)  +  OH-(a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Kb =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VII. Weak Base Equilibrium Rx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 Ionization Constant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base will accept proton from H2O, forming OH-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Defini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Give the base ionization constant expression for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the base:    B(aq)  +  H2O(l) ⇌ BH+(aq)  +  OH-(aq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b = 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Relative Strength of Weak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The Kb for ammonia is 1.8 x 10-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Kb for phosphate ion is 2.8 x 10-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ich is the strongest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Which will have a higher pH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1.0 M ammonia solution,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1.0 M phosphate ion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Relative Strength of Weak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The Kb for ammonia is 1.8 x 10-5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Kb for phosphate ion is 2.8 x 10-2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ich is the strongest bas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Which will have a higher pH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1.0 M ammonia solution, 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1.0 M phosphate ion solu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Kb From Equilibrium Concentr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ain killer, morphine, is a weak base.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0.01 M morphine solution has a pH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.1.  Calculate the Kb for morph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Kb From Equilibrium Concentra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pain killer, morphine, is a weak base.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0.01 M morphine solution has a pH of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0.1.  Calculate the Kb for morphin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pH Calculations from Kb of Weak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eak base methylamine (CH3NH2)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Kb of 5.0 x 10-4.  Answer the following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stions for a 0.080 M aqueous solution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hylami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Write the chemical equ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Write the base ionization equilibrium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express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Calculate the [OH-], pOH, and pH for solu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pH Calculations from Kb of Weak Base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weak base methylamine (CH3NH2) ha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Kb of 5.0 x 10-4.  Answer the following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questions for a 0.080 M aqueous solution of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methylamin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 Write the chemical equat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Write the base ionization equilibrium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express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 Calculate the [OH-], pOH, and pH for solut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II. Relationship of Ka and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 Conjugate Acid and Base Reaction May Be           Written in Both Directions. For Exampl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  +  H2O ⇌ H3O+  +  A-          Ka 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-  +  H2O ⇌ HA  +  OH-          Kb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 Reaction will go in direction of stronger acid and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to the weaker acid and b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 Compare Ka and Kb to decide direction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VIII. Relationship of Ka and Kb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 Conjugate Acid and Base Reaction May Be           Written in Both Directions. For Example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A  +  H2O ⇌ H3O+  +  A-          Ka  =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-  +  H2O ⇌ HA  +  OH-          Kb =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  Reaction will go in direction of stronger acid and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 to the weaker acid and base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  Compare Ka and Kb to decide direction.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Mathematical Relationship of Ka and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for previous equation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u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x Kb = [H+] [OH-] = K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a x Kb = 1 x 10-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Ka + pKb = 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Mathematical Relationship of Ka and Kb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for previous equations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us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 x Kb = [H+] [OH-] = Kw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Ka x Kb = 1 x 10-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nd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Ka + pKb = 14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Exampl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der the dihydrogen phosphate ion, H2PO41-.  Ka = 6.2 x 10-8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What is its conjugate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Show the chemical reaction to which Ka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applies for H2PO41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Determine the Kb value for HPO42-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.  Which direction is the reaction favor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Example Problem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sider the dihydrogen phosphate ion, H2PO41-.  Ka = 6.2 x 10-8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What is its conjugate bas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Show the chemical reaction to which Ka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applies for H2PO41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4. Determine the Kb value for HPO42-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5.  Which direction is the reaction favored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X. Acid-Base Reactions of Sa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ons as Acids and Bas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Ionic compounds (salts) formed from acid-base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ction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   +   MOH       M+A-   +   H2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id        base              salt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salt (MA) could leave the resulting aqueou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ution to be neutral, acidic, or basic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X. Acid-Base Reactions of Salts</a:t>
            </a:r>
            <a:br>
              <a:rPr sz="1200"/>
            </a:b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Ions as Acids and Bases)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Salt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Ionic compounds (salts) formed from acid-base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eaction.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A   +   MOH       M+A-   +   H2O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cid        base              salt                                 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The salt (MA) could leave the resulting aqueou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olution to be neutral, acidic, or basic.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Hydrolysis of Sa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s may react with water (hydrolysis reaction      involving the splitting of a water molecule) to produce acidic or basic soluti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 hypothetical ionic compound MA, consisting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x+ cation and Ax- anion, consider possibl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reactions and possible consequen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x+ +  H2O     M(OH)(x-1)+  +  H+    acidic solu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-  +  H2O    HA(x+1)-  +  OH-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basic s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both cation and anion hydrolyze, compare Ka and K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Hydrolysis of Salt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alts may react with water (hydrolysis reaction      involving the splitting of a water molecule) to produce acidic or basic solutions.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For hypothetical ionic compound MA, consisting of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Mx+ cation and Ax- anion, consider possible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ydrolysis reactions and possible consequences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Mx+ +  H2O     M(OH)(x-1)+  +  H+    acidic solution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x-  +  H2O    HA(x+1)-  +  OH-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basic soluti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f both cation and anion hydrolyze, compare Ka and Kb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Predicting If Hydrolysis Occu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 Write the hypothetical hydrolysis rxns for sal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one for cation and one for an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  Look at the hypothetical hydrolysis products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 If a strong acid or strong base was hypothetic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, these hydrolysis reactions DO N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cur.   No acid or base properties up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.   Recall Table of Strong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.  If a weak acid or base was produced, the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reactions DO occur and produce acid or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properties.  For hydrolysis produc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+ : acidic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H-  : 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Predicting If Hydrolysis Occur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 Write the hypothetical hydrolysis rxns for salt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one for cation and one for anion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  Look at the hypothetical hydrolysis products.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.  If a strong acid or strong base was hypothetically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produced, these hydrolysis reactions DO NOT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occur.   No acid or base properties upo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ydrolysis.   Recall Table of Strong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4.  If a weak acid or base was produced, these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ydrolysis reactions DO occur and produce acid or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 properties.  For hydrolysis products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+ : acidic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OH-  : Basic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Exampl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an aqueous solution of the salt be acidic,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, or neutral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) N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) NH4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) NH4C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. Example Problem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ill an aqueous solution of the salt be acidic,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ic, or neutral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) NaCl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) NH4Cl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) NH4C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mulative Exampl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yanate ion, OCN-, is a weak base.  The Ka for HOCN (cyanic acid) is 3.4 x 10-8.  Calculate the pH of a 0.200 M solution of NaOC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umulative Example Problem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The cyanate ion, OCN-, is a weak base.  The Ka for HOCN (cyanic acid) is 3.4 x 10-8.  Calculate the pH of a 0.200 M solution of NaOC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X.  Lewis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. Some Acid-Base Reactions Do Not F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ither Arrehenius or Bronsted –Low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efini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d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Cl  +  NaOH   NaCl  +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Al3+  + 6 H2O    Al (H2O)63+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X.  Lewis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Some Acid-Base Reactions Do Not Fit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ither Arrehenius or Bronsted –Lowry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efinitions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sider: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l  +  NaOH   NaCl  +  H2O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l3+  + 6 H2O    Al (H2O)63+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  Lewis Acids and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Lewis Acid: electron pair 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Accepts a pair of electrons to form a new bo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Usually has an incomplete octet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Lewis Base: electron pair don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Donates a pair of electrons to form a new bond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** Must have at least one lone pair of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 Identify as Lewis acid or Lewis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O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3+  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F3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 Lewis Acids and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Lewis Acid: electron pair accept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Accepts a pair of electrons to form a new bond)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 Usually has an incomplete octet of electr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Lewis Base: electron pair don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(Donates a pair of electrons to form a new bond)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** Must have at least one lone pair of electr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 Identify as Lewis acid or Lewis base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O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r3+     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F3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XI.  Acid R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Section 15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cid rain and what are its environmental effect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XI.  Acid Rain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Read Section 15.12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What is acid rain and what are its environmental effects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I. Bronsted-Lowry Acids &amp; Ba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 Defini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Bronsted Acid: H+ (proton) don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nizable hydrogen in the acid structure i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bonded to an electronegative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Bronsted Base: H+ (proton) 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 structure must have an unshared pair of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I. Bronsted-Lowry Acids &amp; Base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. Defini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Bronsted Acid: H+ (proton) don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Ionizable hydrogen in the acid structure i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usually bonded to an electronegative atom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Bronsted Base: H+ (proton) accepto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ase structure must have an unshared pair of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lectrons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. Broader Definition For Acid-Base Rea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der:   HCl + NH4OH    NH4Cl  +  H2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der:   HF  +  HCO3-    H2CO3  +  F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B. Broader Definition For Acid-Base Reaction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sider:   HCl + NH4OH    NH4Cl  +  H2O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sider:   HF  +  HCO3-    H2CO3  +  F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. Amphiprotic Compou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compounds can act as a Bronsted acid         in one case and a Bronsted base in another case.  It depends on the molecules the amphiprotic compound is reacting wit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Cl  +  H2O    H3O+  +  Cl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H3  +  H2O    NH4+  +  OH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. Amphiprotic Compound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Some compounds can act as a Bronsted acid         in one case and a Bronsted base in another case.  It depends on the molecules the amphiprotic compound is reacting with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: Water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Cl  +  H2O    H3O+  +  Cl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NH3  +  H2O    NH4+  +  OH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 Conjugate Acid-Base Pai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jugate acid-base pair consists of two species in an acid-base reaction, one acid and one base, that differ by the loss or gain of a pr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acid- species formed when a base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accepted a pr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base- species formed when an acid has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 donated or removed a prot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: Acetic Ac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COOH  ⇌ CH3COO-  +  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3COOH  +  H2O ⇌ CH3COO-  +  H3O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D. Conjugate Acid-Base Pair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A conjugate acid-base pair consists of two species in an acid-base reaction, one acid and one base, that differ by the loss or gain of a prot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jugate acid- species formed when a base ha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accepted a prot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onjugate base- species formed when an acid has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    donated or removed a prot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: Acetic Acid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H3COOH  ⇌ CH3COO-  +  H+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CH3COOH  +  H2O ⇌ CH3COO-  +  H3O+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What is the conjugate base of HNO3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What is the conjugate acid of NH2-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 Label all species in the following reac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2PO4-  +  HCO3- ⇌ H2CO3  +  HPO42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Example Problems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1. What is the conjugate base of HNO3 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2. What is the conjugate acid of NH2- ?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3. Label all species in the following reaction.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99ffcc"/>
                </a:solidFill>
                <a:latin typeface="Times New Roman"/>
              </a:rPr>
              <a:t>H2PO4-  +  HCO3- ⇌ H2CO3  +  HPO42-</a:t>
            </a: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8AE7-6C5D-409E-9234-E096A28AD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B6D1-FE62-4A5E-8899-5F9EAA8AA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C01C-D02A-4E09-BF84-DE268295C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4B17-1CED-4B9F-AA60-59C09D87C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3910-9749-453E-88FC-F2D240985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A237-7E81-4A5B-9CF3-66CD9B4F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E8EBD-6629-49FC-9A02-13E81E34F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CE32-0823-47E1-B172-A74A90118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EA26-15EC-4869-B132-EA18E1F3A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E6D2-E82D-4954-9A68-69935295C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F223-FA85-4A76-AFCA-56B9CE13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CE21-68DC-4C2C-BA7E-17B7057B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99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C762-A035-4524-A97E-4B4DAF7E6540}" type="slidenum"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imes New Roman"/>
              </a:rPr>
              <a:t>ACIDS AND BASES</a:t>
            </a:r>
            <a:br>
              <a:rPr sz="4400"/>
            </a:b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CHAPTER 15</a:t>
            </a:r>
            <a:endParaRPr b="0" lang="en-US" sz="40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0492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E. Strong vs. Weak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. Strong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ssentially go to 100% ionization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xn normally shown with single headed arrow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66ffff"/>
                </a:solidFill>
                <a:uFillTx/>
                <a:latin typeface="Times New Roman"/>
              </a:rPr>
              <a:t>Strong Acids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66ffff"/>
                </a:solidFill>
                <a:uFillTx/>
                <a:latin typeface="Times New Roman"/>
              </a:rPr>
              <a:t>Strong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Cl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LiOH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Br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NaOH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I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KOH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NO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a(OH)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4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a(OH)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ClO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Sr(OH)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NO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→  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 +  NO</a:t>
            </a:r>
            <a:r>
              <a:rPr b="1" lang="en-US" sz="2400" spc="-1" strike="noStrike" baseline="-25000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2. Weak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tially dissociate or ionize, reaching som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ynamic equilibrium state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xn normally shown with double headed arrow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CN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⇌  H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Arial Unicode MS"/>
              </a:rPr>
              <a:t>+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Arial Unicode MS"/>
              </a:rPr>
              <a:t>  +  CN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  <a:ea typeface="Arial Unicode MS"/>
              </a:rPr>
              <a:t>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eak acids and bases significant in biological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ystems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F. Examples of Organic Weak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Carboxylic Acids: (weak acids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 or RCOOH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nion formed by ionization is resonance stabilized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xamples: pyruvic acid, lactic acid, acetic acid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 u="sng">
                <a:solidFill>
                  <a:srgbClr val="ffff99"/>
                </a:solidFill>
                <a:uFillTx/>
                <a:latin typeface="Times New Roman"/>
              </a:rPr>
              <a:t>Amines: (weak bases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sed on ammonia, with differing # of “R” group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imary, secondary, tertiary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G. Polyprotic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olyprotic acids can donate more than one proton     sequentially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olyprotic bases can accept more than one proton sequentially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3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III. Self-Ionization of Water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Description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ure water slightly ionizes on its own (autoionizes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with equilibrium reactant favored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(l)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(l)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q)  + 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aq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etermine the K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value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90360" y="685800"/>
            <a:ext cx="7467480" cy="53352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txBody>
          <a:bodyPr anchor="t">
            <a:normAutofit fontScale="7000"/>
          </a:bodyPr>
          <a:p>
            <a:pPr marL="23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99ffcc"/>
                </a:solidFill>
                <a:latin typeface="Times New Roman"/>
              </a:rPr>
              <a:t>c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for water ionization =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w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= ionization constant for water o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= ion product constant for wate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w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= [H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] [OH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] = 1 x 10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14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at 25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at are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 and [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 for pure water at 25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23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1752480" y="838080"/>
            <a:ext cx="8082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True for Water and Dilute Aqueous Solution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(Including Acid and Base Solutions of Interest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[H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= 1 x 10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-14     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[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O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= 1 x 10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-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Neutral Solution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[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 = [O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cidic Solution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[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 &gt; [O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asic Solutio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[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 &lt; [OH</a:t>
            </a:r>
            <a:r>
              <a:rPr b="1" lang="en-US" sz="2800" spc="-1" strike="noStrike" baseline="30000">
                <a:solidFill>
                  <a:srgbClr val="99ffcc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                     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or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[H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O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IV. pH Scale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n most aqueous weak acid and base solutions, the 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concentrations are very small.  Easier to express concentrations using a logarithmic relationship.       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p = - log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us:</a:t>
            </a:r>
            <a:r>
              <a:rPr b="1" lang="en-US" sz="32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pH = -log [H</a:t>
            </a:r>
            <a:r>
              <a:rPr b="1" lang="en-US" sz="3600" spc="-1" strike="noStrike" baseline="30000">
                <a:solidFill>
                  <a:srgbClr val="ffff99"/>
                </a:solidFill>
                <a:latin typeface="Times New Roman"/>
              </a:rPr>
              <a:t>+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] </a:t>
            </a:r>
            <a:endParaRPr b="0" lang="en-US" sz="36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pOH = -log [OH</a:t>
            </a:r>
            <a:r>
              <a:rPr b="1" lang="en-US" sz="3600" spc="-1" strike="noStrike" baseline="30000">
                <a:solidFill>
                  <a:srgbClr val="ffff99"/>
                </a:solidFill>
                <a:latin typeface="Times New Roman"/>
              </a:rPr>
              <a:t>-</a:t>
            </a:r>
            <a:r>
              <a:rPr b="1" lang="en-US" sz="3600" spc="-1" strike="noStrike">
                <a:solidFill>
                  <a:srgbClr val="ffff99"/>
                </a:solidFill>
                <a:latin typeface="Times New Roman"/>
              </a:rPr>
              <a:t>]</a:t>
            </a:r>
            <a:r>
              <a:rPr b="1" lang="en-US" sz="36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600" spc="-1" strike="noStrike">
                <a:solidFill>
                  <a:srgbClr val="99ffcc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What is the relationship between pH and pOH?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  =  1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14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-log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) + (-log [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) = -log (1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1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H       +      pOH       =     14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pH  +  pOH = 14</a:t>
            </a:r>
            <a:endParaRPr b="0" lang="en-US" sz="36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685800" y="457200"/>
            <a:ext cx="7772400" cy="99072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99"/>
                </a:solidFill>
                <a:latin typeface="Times New Roman"/>
              </a:rPr>
              <a:t>The pH Scale</a:t>
            </a:r>
            <a:endParaRPr b="0" lang="en-US" sz="4400" spc="-1" strike="noStrike">
              <a:solidFill>
                <a:srgbClr val="99ffcc"/>
              </a:solidFill>
              <a:latin typeface="Times New Roman"/>
            </a:endParaRPr>
          </a:p>
        </p:txBody>
      </p:sp>
      <p:pic>
        <p:nvPicPr>
          <p:cNvPr id="102" name="Picture 3" descr="FG15_04"/>
          <p:cNvPicPr/>
          <p:nvPr/>
        </p:nvPicPr>
        <p:blipFill>
          <a:blip r:embed="rId1"/>
          <a:stretch/>
        </p:blipFill>
        <p:spPr>
          <a:xfrm>
            <a:off x="152280" y="3100320"/>
            <a:ext cx="8813880" cy="246240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4"/>
          <p:cNvSpPr/>
          <p:nvPr/>
        </p:nvSpPr>
        <p:spPr>
          <a:xfrm>
            <a:off x="2895480" y="1676520"/>
            <a:ext cx="3200400" cy="1218960"/>
          </a:xfrm>
          <a:prstGeom prst="wedgeRectCallout">
            <a:avLst>
              <a:gd name="adj1" fmla="val -75148"/>
              <a:gd name="adj2" fmla="val 73305"/>
            </a:avLst>
          </a:prstGeom>
          <a:solidFill>
            <a:srgbClr val="c6f4ca"/>
          </a:solidFill>
          <a:ln w="9360">
            <a:solidFill>
              <a:srgbClr val="99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ince pH is a </a:t>
            </a: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logarithmic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 scale, cola drinks (pH about 2.5) are about ____ times as acidic as tomatoes (pH about 4.5)</a:t>
            </a:r>
            <a:endParaRPr b="0" lang="en-US" sz="1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imes New Roman"/>
              </a:rPr>
              <a:t>I. Arrhenius Acids and Bases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   </a:t>
            </a:r>
            <a:r>
              <a:rPr b="0" i="1" lang="en-US" sz="32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(What we have been using to this point)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rrhenius Acid</a:t>
            </a:r>
            <a:r>
              <a:rPr b="0" lang="en-US" sz="3200" spc="-1" strike="noStrike">
                <a:solidFill>
                  <a:srgbClr val="1dfa06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 substance that, when dissolved in water, increases the concentration of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drogen ion, 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or (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dronium ion H</a:t>
            </a:r>
            <a:r>
              <a:rPr b="1" lang="en-US" sz="2800" spc="-1" strike="noStrike" baseline="-30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rrhenius Base</a:t>
            </a:r>
            <a:r>
              <a:rPr b="0" lang="en-US" sz="32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a substance that, when dissolved in water,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crease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the concentration of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ydroxide ions,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0" lang="en-US" sz="3200" spc="-1" strike="noStrike">
                <a:solidFill>
                  <a:srgbClr val="99ffcc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Recall for problem solving: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****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[H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 is the same as [H</a:t>
            </a:r>
            <a:r>
              <a:rPr b="1" lang="en-US" sz="3200" spc="-1" strike="noStrike" baseline="-25000">
                <a:solidFill>
                  <a:srgbClr val="ff3399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O</a:t>
            </a:r>
            <a:r>
              <a:rPr b="1" lang="en-US" sz="3200" spc="-1" strike="noStrike" baseline="30000">
                <a:solidFill>
                  <a:srgbClr val="ff33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3399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1)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pH = -log [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2)  [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= 10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pH  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or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antilog (-pH) = [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3)  pOH = -log [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4)  [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= 10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pOH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 or 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antilog (-p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) = [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5)  [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] = 1 x 10</a:t>
            </a: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-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baseline="30000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ccccff"/>
                </a:solidFill>
                <a:latin typeface="Times New Roman"/>
              </a:rPr>
              <a:t>6)  pH + pOH = 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Problem Solving: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) A blood sample (considered a dilute aqueous solution) contains 7.2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8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ol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per liter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  What is the pH of the blood sample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.  What is the [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 of the blood sample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.  Is the blood sample acidic, basic, or neutral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) The pH of an aqueous solution is 8.7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  What is the [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]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.  What is the pOH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imes New Roman"/>
              </a:rPr>
              <a:t>V. Strong Acids and Bases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Strong acids and bases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undergo essentially complete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ssociation (ionization)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60c99c"/>
                </a:solidFill>
                <a:latin typeface="Times New Roman"/>
              </a:rPr>
              <a:t>Equilibrium expressions not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0c99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60c99c"/>
                </a:solidFill>
                <a:latin typeface="Times New Roman"/>
              </a:rPr>
              <a:t>needed for problem solving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Example: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hat is the pH and [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] for a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0.05 M HCl solution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pic>
        <p:nvPicPr>
          <p:cNvPr id="113" name="Picture 4" descr="D:\Chapter_15\B_Images\15_04_Figure.jpg"/>
          <p:cNvPicPr/>
          <p:nvPr/>
        </p:nvPicPr>
        <p:blipFill>
          <a:blip r:embed="rId1"/>
          <a:stretch/>
        </p:blipFill>
        <p:spPr>
          <a:xfrm>
            <a:off x="5867280" y="1600200"/>
            <a:ext cx="3078360" cy="274968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 u="sng">
                <a:solidFill>
                  <a:srgbClr val="99ffcc"/>
                </a:solidFill>
                <a:uFillTx/>
                <a:latin typeface="Times New Roman"/>
              </a:rPr>
              <a:t>Problem Solving for Weak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y only dissociate or ionize partially in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olution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is means we have an equilibrium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situation, and can solve problems using the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echniques we learned earlier for deali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th equilibrium problems.  (ICE tables…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Equilibrium Constants (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 for weak acid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 for weak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VI.  Weak Acid Equilibrium Rxns</a:t>
            </a:r>
            <a:r>
              <a:rPr b="0" lang="en-US" sz="4000" spc="-1" strike="noStrike">
                <a:solidFill>
                  <a:srgbClr val="ffcc99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A. Acid Ionization Constant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. Definition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ive the acid ionization constant expression f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acid:    HA(aq)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(l)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  +  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r       HA(aq)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  +  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66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 =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2.  What does the K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tell you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arger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stronger acid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(more of the acid ionizes i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water to form 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)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See Table 15.5, for exampl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Which is the strongest acid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cetic acid  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1.8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oric Acid  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7.3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10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" descr="D:\Chapter_15\B_Images\15_05_Table.jpg"/>
          <p:cNvPicPr/>
          <p:nvPr/>
        </p:nvPicPr>
        <p:blipFill>
          <a:blip r:embed="rId1"/>
          <a:stretch/>
        </p:blipFill>
        <p:spPr>
          <a:xfrm>
            <a:off x="1225440" y="0"/>
            <a:ext cx="6831000" cy="6719760"/>
          </a:xfrm>
          <a:prstGeom prst="rect">
            <a:avLst/>
          </a:prstGeom>
          <a:ln w="0">
            <a:noFill/>
          </a:ln>
        </p:spPr>
      </p:pic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B. 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From Equilibrium Concentrations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0.10 M solution of phenol (weak acid) ha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pH of 5.43.  Calculate th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or phenol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C. pH Calculations from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of Weak Acid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weak monoprotic acid, parahydroxybenzoic acid, has a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of 2.6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Answer the followi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uestions for a 0.200 M solution of parahydroxybenzoic acid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1. What is the pH of the solution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2. What percent of the parahydroxybenzoic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acid has ionized in this solution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D. Comment on Polyprotic Acids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Example:  H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PO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’s =  7.5 x 10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3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,  6.2 x 10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8,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3.6 x 10</a:t>
            </a:r>
            <a:r>
              <a:rPr b="1" lang="en-US" sz="2800" spc="-1" strike="noStrike" baseline="30000">
                <a:solidFill>
                  <a:srgbClr val="ffff99"/>
                </a:solidFill>
                <a:latin typeface="Times New Roman"/>
              </a:rPr>
              <a:t>-13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 baseline="-25000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how the three acid ionization equations with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their accompanying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values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 Which is the strongest acid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 How would you go about calculating the pH of a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given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solution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D:\Chapter_15\B_Images\15_01_Table.jpg"/>
          <p:cNvPicPr/>
          <p:nvPr/>
        </p:nvPicPr>
        <p:blipFill>
          <a:blip r:embed="rId1"/>
          <a:stretch/>
        </p:blipFill>
        <p:spPr>
          <a:xfrm>
            <a:off x="298440" y="642960"/>
            <a:ext cx="8547120" cy="5572080"/>
          </a:xfrm>
          <a:prstGeom prst="rect">
            <a:avLst/>
          </a:prstGeom>
          <a:ln w="0">
            <a:noFill/>
          </a:ln>
        </p:spPr>
      </p:pic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VII. Weak Base Equilibrium Rxns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cc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Base Ionization Constant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(base will accept proton from H</a:t>
            </a:r>
            <a:r>
              <a:rPr b="1" lang="en-US" sz="2400" spc="-1" strike="noStrike" baseline="-25000">
                <a:solidFill>
                  <a:srgbClr val="99ffcc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O, forming OH</a:t>
            </a:r>
            <a:r>
              <a:rPr b="1" lang="en-US" sz="2400" spc="-1" strike="noStrike" baseline="30000">
                <a:solidFill>
                  <a:srgbClr val="99ffcc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. Definition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Give the base ionization constant expression f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the base:    B(aq)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(l)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B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  + 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q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K</a:t>
            </a:r>
            <a:r>
              <a:rPr b="1" lang="en-US" sz="2800" spc="-1" strike="noStrike" baseline="-25000">
                <a:solidFill>
                  <a:srgbClr val="66ff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66ffff"/>
                </a:solidFill>
                <a:latin typeface="Times New Roman"/>
              </a:rPr>
              <a:t> = 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D:\Chapter_15\B_Images\15_08_Table.jpg"/>
          <p:cNvPicPr/>
          <p:nvPr/>
        </p:nvPicPr>
        <p:blipFill>
          <a:blip r:embed="rId1"/>
          <a:stretch/>
        </p:blipFill>
        <p:spPr>
          <a:xfrm>
            <a:off x="298440" y="380880"/>
            <a:ext cx="8547120" cy="59436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2. Relative Strength of Weak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. The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or ammonia is 1.8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5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for phosphate ion is 2.8 x 10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Which is the strongest base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. Which will have a higher pH: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1.0 M ammonia solution, or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1.0 M phosphate ion solution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cc"/>
                </a:solidFill>
                <a:latin typeface="Times New Roman"/>
              </a:rPr>
              <a:t>         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B. 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b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From Equilibrium Concentrations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pain killer, morphine, is a weak base.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0.01 M morphine solution has a pH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0.1.  Calculate th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or morphine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C. pH Calculations from K</a:t>
            </a:r>
            <a:r>
              <a:rPr b="1" lang="en-US" sz="3200" spc="-1" strike="noStrike" baseline="-25000">
                <a:solidFill>
                  <a:srgbClr val="99ffcc"/>
                </a:solidFill>
                <a:latin typeface="Times New Roman"/>
              </a:rPr>
              <a:t>b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of Weak Base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weak base methylamine (C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) has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of 5.0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Answer the following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questions for a 0.080 M aqueous solution of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methylamine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a.  Write the chemical equati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b.  Write the base ionization equilibrium 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     expressi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c.  Calculate the [OH</a:t>
            </a:r>
            <a:r>
              <a:rPr b="1" lang="en-US" sz="2400" spc="-1" strike="noStrike" baseline="30000">
                <a:solidFill>
                  <a:srgbClr val="66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], pOH, and pH for soluti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VIII. Relationship of K</a:t>
            </a:r>
            <a:r>
              <a:rPr b="1" lang="en-US" sz="4000" spc="-1" strike="noStrike" baseline="-25000">
                <a:solidFill>
                  <a:srgbClr val="ffcc99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 and K</a:t>
            </a:r>
            <a:r>
              <a:rPr b="1" lang="en-US" sz="4000" spc="-1" strike="noStrike" baseline="-25000">
                <a:solidFill>
                  <a:srgbClr val="ffcc99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.  Conjugate Acid and Base Reaction May Be           Written in Both Directions. For Example: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H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b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**  Reaction will go in direction of stronger acid and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base to the weaker acid and base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*  Compare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d K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to decide direction.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. Mathematical Relationship of K</a:t>
            </a:r>
            <a:r>
              <a:rPr b="1" lang="en-US" sz="2800" spc="-1" strike="noStrike" baseline="-25000">
                <a:solidFill>
                  <a:srgbClr val="99ffcc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and K</a:t>
            </a:r>
            <a:r>
              <a:rPr b="1" lang="en-US" sz="2800" spc="-1" strike="noStrike" baseline="-25000">
                <a:solidFill>
                  <a:srgbClr val="99ffcc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for previous equations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Thus: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x 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= [H</a:t>
            </a:r>
            <a:r>
              <a:rPr b="1" lang="en-US" sz="3200" spc="-1" strike="noStrike" baseline="30000">
                <a:solidFill>
                  <a:srgbClr val="ffff99"/>
                </a:solidFill>
                <a:latin typeface="Times New Roman"/>
              </a:rPr>
              <a:t>+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] [OH</a:t>
            </a:r>
            <a:r>
              <a:rPr b="1" lang="en-US" sz="3200" spc="-1" strike="noStrike" baseline="30000">
                <a:solidFill>
                  <a:srgbClr val="ffff99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] = 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w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x 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= 1 x 10</a:t>
            </a:r>
            <a:r>
              <a:rPr b="1" lang="en-US" sz="3200" spc="-1" strike="noStrike" baseline="30000">
                <a:solidFill>
                  <a:srgbClr val="ffff99"/>
                </a:solidFill>
                <a:latin typeface="Times New Roman"/>
              </a:rPr>
              <a:t>-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and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p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+ pK</a:t>
            </a:r>
            <a:r>
              <a:rPr b="1" lang="en-US" sz="3200" spc="-1" strike="noStrike" baseline="-25000">
                <a:solidFill>
                  <a:srgbClr val="ffff99"/>
                </a:solidFill>
                <a:latin typeface="Times New Roman"/>
              </a:rPr>
              <a:t>b</a:t>
            </a: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 = 14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</p:txBody>
      </p:sp>
      <p:graphicFrame>
        <p:nvGraphicFramePr>
          <p:cNvPr id="154" name="Object 5"/>
          <p:cNvGraphicFramePr/>
          <p:nvPr/>
        </p:nvGraphicFramePr>
        <p:xfrm>
          <a:off x="685800" y="1447920"/>
          <a:ext cx="7772400" cy="169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447920"/>
                    <a:ext cx="7772400" cy="169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C. Example Problems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sider the dihydrogen phosphate ion,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1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= 6.2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8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. What is its conjugate base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. Show the chemical reaction to which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applies for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1-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4. Determine th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value for HPO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2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5.  Which direction is the reaction favored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IX. Acid-Base Reactions of Salts</a:t>
            </a:r>
            <a:br>
              <a:rPr sz="4000"/>
            </a:b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(Ions as Acids and Bases) 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. Salt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Ionic compounds (salts) formed from acid-base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action.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   +   MOH   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+ 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acid        base              salt                                   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66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The salt (MA)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could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leave the resulting aqueous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lution to be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neutral, acidic, or basi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 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9360">
            <a:solidFill>
              <a:srgbClr val="ffff99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. Hydrolysis of Salt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alts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may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react with water (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hydrolysis react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involving the splitting of a water molecule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) to produce acidic or basic solutions.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or hypothetical ionic compound MA, consisting of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x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cation and 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x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anion, consider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possibl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ydrolysis reactions and possible consequences: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x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M(OH)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(x-1)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acidic solution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x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HA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(x+1)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O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basic solution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If both cation and anion hydrolyze, compare K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and K</a:t>
            </a:r>
            <a:r>
              <a:rPr b="1" lang="en-US" sz="2400" spc="-1" strike="noStrike" baseline="-25000">
                <a:solidFill>
                  <a:srgbClr val="ffff99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D:\Chapter_15\B_Images\15_02_Table.jpg"/>
          <p:cNvPicPr/>
          <p:nvPr/>
        </p:nvPicPr>
        <p:blipFill>
          <a:blip r:embed="rId1"/>
          <a:stretch/>
        </p:blipFill>
        <p:spPr>
          <a:xfrm>
            <a:off x="298440" y="1703520"/>
            <a:ext cx="8547120" cy="34495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C. Predicting If Hydrolysis Occur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 Write the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ypothetica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ydrolysis rxns for salt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one for cation and one for anion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  Look at the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hypothetica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hydrolysis products.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 If a strong acid or strong base was hypothetically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roduced, these hydrolysis reactions </a:t>
            </a:r>
            <a:r>
              <a:rPr b="1" lang="en-US" sz="2400" spc="-1" strike="noStrike">
                <a:solidFill>
                  <a:srgbClr val="ff3399"/>
                </a:solidFill>
                <a:latin typeface="Times New Roman"/>
              </a:rPr>
              <a:t>DO NOT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ccur.   No acid or base properties upon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ydrolysis.   </a:t>
            </a:r>
            <a:r>
              <a:rPr b="1" i="1" lang="en-US" sz="2400" spc="-1" strike="noStrike">
                <a:solidFill>
                  <a:srgbClr val="66ffff"/>
                </a:solidFill>
                <a:latin typeface="Times New Roman"/>
              </a:rPr>
              <a:t>Recall Table of Strong Acids and Base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66ffff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.  If a weak acid or base was produced, these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ydrolysis reactions </a:t>
            </a:r>
            <a:r>
              <a:rPr b="1" i="1" lang="en-US" sz="2400" spc="-1" strike="noStrike">
                <a:solidFill>
                  <a:srgbClr val="ff3399"/>
                </a:solidFill>
                <a:latin typeface="Times New Roman"/>
              </a:rPr>
              <a:t>DO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ccur and produce acid or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ase properties.  For hydrolysis products: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H</a:t>
            </a:r>
            <a:r>
              <a:rPr b="1" lang="en-US" sz="2400" spc="-1" strike="noStrike" baseline="30000">
                <a:solidFill>
                  <a:srgbClr val="ccccff"/>
                </a:solidFill>
                <a:latin typeface="Times New Roman"/>
              </a:rPr>
              <a:t>+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 : acidic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OH</a:t>
            </a:r>
            <a:r>
              <a:rPr b="1" lang="en-US" sz="2400" spc="-1" strike="noStrike" baseline="30000">
                <a:solidFill>
                  <a:srgbClr val="cccc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  : Basic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D. Example Problem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ill an aqueous solution of the salt be acidic,   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basic, or neutral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1) NaCl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2)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l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3)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N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cc99"/>
                </a:solidFill>
                <a:uFillTx/>
                <a:latin typeface="Times New Roman"/>
              </a:rPr>
              <a:t>Cumulative Example Problem</a:t>
            </a:r>
            <a:endParaRPr b="0" lang="en-US" sz="32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The cyanate ion, OCN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, is a weak base.  The K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for HOCN (cyanic acid) is 3.4 x 10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8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.  Calculate the pH of a 0.200 M solution of NaOCN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X.  Lewis Acids and Bases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. Some Acid-Base Reactions Do Not Fit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Either Arrehenius or Bronsted –Lowry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Definitions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Consider: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Cl  +  NaOH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NaCl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l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3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+ 6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Al (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)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3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.  Lewis Acids and Base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1.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Lewis Acid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electron pair acceptor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Accepts a pair of electrons to form a new bond)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* Usually has an incomplete octet of electron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2. </a:t>
            </a:r>
            <a:r>
              <a:rPr b="1" lang="en-US" sz="2400" spc="-1" strike="noStrike" u="sng">
                <a:solidFill>
                  <a:srgbClr val="ffff99"/>
                </a:solidFill>
                <a:uFillTx/>
                <a:latin typeface="Times New Roman"/>
              </a:rPr>
              <a:t>Lewis Base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ccccff"/>
                </a:solidFill>
                <a:latin typeface="Times New Roman"/>
              </a:rPr>
              <a:t>electron pair donor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(Donates a pair of electrons to form a new bond)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** Must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ave at least one lone pair of electrons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C.  Identify as Lewis acid or Lewis base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O  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3+               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BF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99"/>
                </a:solidFill>
                <a:latin typeface="Times New Roman"/>
              </a:rPr>
              <a:t>XI.  Acid Rain</a:t>
            </a: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e6e6e6"/>
                </a:solidFill>
                <a:latin typeface="Times New Roman"/>
              </a:rPr>
              <a:t>Read Section 15.12</a:t>
            </a:r>
            <a:endParaRPr b="0" lang="en-US" sz="32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6e6e6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What is acid rain and what are its environmental effects?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99"/>
                </a:solidFill>
                <a:latin typeface="Times New Roman"/>
              </a:rPr>
              <a:t>II. Bronsted-Lowry Acids &amp; Bases</a:t>
            </a:r>
            <a:endParaRPr b="0" lang="en-US" sz="40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9360">
            <a:solidFill>
              <a:srgbClr val="99ffcc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A.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Definition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1. Bronsted Acid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+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proton) dono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Ionizable hydrogen in the acid structure is 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usually bonded to an electronegative atom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2. Bronsted Base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0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proton) accepto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Base structure must have an unshared pair of 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66ffff"/>
                </a:solidFill>
                <a:latin typeface="Times New Roman"/>
              </a:rPr>
              <a:t>electrons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B. Broader Definition For Acid-Base Reaction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Consider: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e6681a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HCl + NH</a:t>
            </a:r>
            <a:r>
              <a:rPr b="1" lang="en-US" sz="2800" spc="-1" strike="noStrike" baseline="-30000">
                <a:solidFill>
                  <a:srgbClr val="ccccff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OH  </a:t>
            </a:r>
            <a:r>
              <a:rPr b="1" lang="en-US" sz="2800" spc="-1" strike="noStrike">
                <a:solidFill>
                  <a:srgbClr val="ccccff"/>
                </a:solidFill>
                <a:latin typeface="Symbol"/>
                <a:ea typeface="Symbol"/>
              </a:rPr>
              <a:t>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NH</a:t>
            </a:r>
            <a:r>
              <a:rPr b="1" lang="en-US" sz="2800" spc="-1" strike="noStrike" baseline="-30000">
                <a:solidFill>
                  <a:srgbClr val="ccccff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Cl  +  H</a:t>
            </a:r>
            <a:r>
              <a:rPr b="1" lang="en-US" sz="2800" spc="-1" strike="noStrike" baseline="-30000">
                <a:solidFill>
                  <a:srgbClr val="cccc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O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sider:   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HF  +  HCO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 baseline="30000">
                <a:solidFill>
                  <a:srgbClr val="ccccff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H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CO</a:t>
            </a:r>
            <a:r>
              <a:rPr b="1" lang="en-US" sz="2800" spc="-1" strike="noStrike" baseline="-25000">
                <a:solidFill>
                  <a:srgbClr val="ccccff"/>
                </a:solidFill>
                <a:latin typeface="Times New Roman"/>
                <a:ea typeface="Times New Roman"/>
              </a:rPr>
              <a:t>3 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+  F</a:t>
            </a:r>
            <a:r>
              <a:rPr b="1" lang="en-US" sz="2800" spc="-1" strike="noStrike" baseline="30000">
                <a:solidFill>
                  <a:srgbClr val="ccccff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e6681a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e6681a"/>
                </a:solidFill>
                <a:latin typeface="Times New Roman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e6681a"/>
                </a:solidFill>
                <a:latin typeface="Times New Roman"/>
                <a:ea typeface="Times New Roman"/>
              </a:rPr>
              <a:t>     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C. Amphiprotic Compound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      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Some compounds can act as a Bronsted acid         in one case and a Bronsted base in another case.  It depends on the molecules the amphiprotic compound is reacting with.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Example: Water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99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HCl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+  Cl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+  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O  </a:t>
            </a:r>
            <a:r>
              <a:rPr b="1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NH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 +  OH</a:t>
            </a:r>
            <a:r>
              <a:rPr b="1" lang="en-US" sz="28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420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99ffcc"/>
                </a:solidFill>
                <a:latin typeface="Times New Roman"/>
              </a:rPr>
              <a:t>D. Conjugate Acid-Base Pair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99ffcc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A conjugate acid-base pair consists of two species in an acid-base reaction, one acid and one base, that differ by the loss or gain of a prot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   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jugate acid- 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species formed when a base has 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         accepted a prot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onjugate base- 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species formed when an acid has 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e6e6e6"/>
                </a:solidFill>
                <a:latin typeface="Times New Roman"/>
                <a:ea typeface="Times New Roman"/>
              </a:rPr>
              <a:t>         donated or removed a prot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Example: Acetic Acid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H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+  H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H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+  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+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65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99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ffcc"/>
                </a:solidFill>
                <a:latin typeface="Times New Roman"/>
              </a:rPr>
              <a:t>     </a:t>
            </a:r>
            <a:r>
              <a:rPr b="1" lang="en-US" sz="2800" spc="-1" strike="noStrike" u="sng">
                <a:solidFill>
                  <a:srgbClr val="ccccff"/>
                </a:solidFill>
                <a:uFillTx/>
                <a:latin typeface="Times New Roman"/>
              </a:rPr>
              <a:t>Example Problems</a:t>
            </a:r>
            <a:endParaRPr b="0" lang="en-US" sz="28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cccc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. What is the conjugate base of HN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2. What is the conjugate acid of N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3. Label all species in the following reaction.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+  H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Arial Unicode MS"/>
              </a:rPr>
              <a:t>⇌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+  HPO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r>
              <a:rPr b="1" lang="en-US" sz="2400" spc="-1" strike="noStrike" baseline="30000">
                <a:solidFill>
                  <a:srgbClr val="ffffff"/>
                </a:solidFill>
                <a:latin typeface="Times New Roman"/>
                <a:ea typeface="Times New Roman"/>
              </a:rPr>
              <a:t>2-</a:t>
            </a:r>
            <a:endParaRPr b="0" lang="en-US" sz="2400" spc="-1" strike="noStrike">
              <a:solidFill>
                <a:srgbClr val="99ffcc"/>
              </a:solidFill>
              <a:latin typeface="Times New Roman"/>
            </a:endParaRPr>
          </a:p>
        </p:txBody>
      </p:sp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99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03T23:16:08Z</dcterms:created>
  <dc:creator>Senkbeil</dc:creator>
  <dc:description/>
  <dc:language>en-US</dc:language>
  <cp:lastModifiedBy>LEGION</cp:lastModifiedBy>
  <dcterms:modified xsi:type="dcterms:W3CDTF">2017-01-26T09:11:09Z</dcterms:modified>
  <cp:revision>47</cp:revision>
  <dc:subject/>
  <dc:title>ACIDS AND BASES</dc:title>
</cp:coreProperties>
</file>