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A27-7363-4803-9B85-75060569A1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rrhenius Concept:  Acids produce H+ in solution, bases produce OH 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ønsted-Lowry:  Acids are H+ donors, bases are proton accep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H2O            Cl  + 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noprotic acid: One acidic proton (HC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Cl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rotic acid: Two acidic protons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HSO4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SO4- (aq)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H+(aq) + SO4 2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acids: Acidic proton is attached to an oxygen atom (H2SO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ganic acids: Those with a carbon atom backbone, contain the carboxyl group (-COOH).   CH3-COOH, C6H5-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s an Acid and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bstance is said to be amphoteric if it can behave either as an acid or as a base. Water is amphoteric (it can behave either as an acid or a 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+ H2O    H3O+ + OH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3O+][OH-] = [H+][OH-] = 1  1014 at 25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w is the ion-product constant or dissociation constant for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 = 1.0 x 10-7 M at 25oC in pur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3O+ and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 log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+]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w = 1.00  1014 = [H+] [OH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Kw = -log Kw = 14.00 = pH + p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pH of Strong Acid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+, Cl-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+. The acid is completely dissociates in water producing H+ and water also furnishes H+ by autoionization by th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(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(aq) +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ure water at 25oC, [H+] is 10-7M and in acidic solution even less than that. So the amount of H+ contributed by water is negligible compared with the 1.0M H+ from the dissociation of H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= -log (1.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ose species that can produce H+ and writ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ing Weak Acid Equilibrium Problem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e change at equilibrium (as “x”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rite equilibrium concentrations in terms of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 for x the “easy w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culate [H+] and 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Dissociation (Ioniz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 The Reaction of HCI and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3 The Reaction of NH3 with HCI to Form NH4+ and C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concept: A base is a substance that produces OH- ions in aqueous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nsted-Lowry concept: A base is a proton accep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” and “weak” are used in the same sense for bases as for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= complete dissociation (hydroxide ion supplied to 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(s)    Na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= very little dissociation (or reaction with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(aq) + H2O(l)   H3CNH3+(aq) + OH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CNH2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can furnish more than one proton (H+) to the solution. A polyprotic acid always dissociates in a stepwise manner, one proton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1 &gt; Ka2 &gt; Ka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-Base Propertie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and Acid-Bas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(high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Strength (low is goo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11 The Effect of the Number of Attached Oxygens on the O-H Bond in a Series of of Chlorine Oxy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ic Oxides (Acid Anhydrides): When a covalent oxide dissolves in water an acidic solution 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strong and coval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2, NO2, CO2, Cr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Oxides (Basic Anhydrides): When an ionic oxide dissolves in water a basic solution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X bond is io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2O,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: 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: 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gure 14.13 The AI(H2O)63+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/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:  everything that remains of the acid molecule after a proton is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:  formed when the proton is transferred to th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ubstances related to each other by the donating and accepting of a single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Dissociation Constant (K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    H3O+(aq) + A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Ka is the acid dissociation constant. In dilute solution we can assume that the concentration of liquid water remains essentially constant when an acid is dis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(aq) +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O+(aq) +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(HN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weak conjugate base. (NO3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trong acids are H2SO4, HCl, HNO3, HCl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Streng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quilibrium lies far to the left. (CH3COO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(CH3COO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weak acids are H3PO4, HNO2, HOCl, organic acids (-COO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0EE-C944-40CE-9AFC-7E090DE5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452-8155-4E62-BC8D-3A9E5CD5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2318-AA88-4ECF-9B8B-AF5092A6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C0C-F4C1-436F-9F98-DDA1555B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F62-C896-4810-B5AA-2F6B0D95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E49-DBDC-4F5E-8718-30B6326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2F3-DECE-4920-AEB0-B0318CD7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40A-8EB7-4DF9-83A4-F31CF969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BF0-B736-41F2-BCBE-0210F98A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F8A-5F5E-4B32-88BC-288F573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0CB-974B-46C3-9B0D-D4D72A0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A32-5E2E-4000-9D36-FBE2D1FE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315-BD5D-4A49-9FF7-FFD2145CC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hapter 14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olution, bases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ønsted-Low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cids ar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nors, bases are proton accep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    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conjugate   conju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         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n is transferred from the HCl molecule to the water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ono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acidic proton (HC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prot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acidic protons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xy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cidic proton is attached to an oxygen atom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Organic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ose with a carbon atom backbone, contain the carboxyl group (-COOH). 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,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581280" y="1676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580920" y="1752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35268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 flipH="1">
            <a:off x="335232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3429000" y="3352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 flipH="1">
            <a:off x="342864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Water as an Acid and a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aid to be amphoteric if it can behave either as an acid or as a base. Water i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mphote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t can behave either as an acid or a ba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      con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1   base 2      acid 2    b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2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on-product constant or dissociation constant for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n pure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chem5eart\ch14\fig14_07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066680" y="411480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7 Two Water Molecules React to Form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pH S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 scale provides a convenient way to represent solution acidity. The pH is a log scale based on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in water ranges from 0 to 14. The pH decreases as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0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log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14.00 = pH + p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pH rises, pOH falls (sum = 14.0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H = -log 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chem5eart\ch14\fig14_08"/>
          <p:cNvPicPr/>
          <p:nvPr/>
        </p:nvPicPr>
        <p:blipFill>
          <a:blip r:embed="rId1"/>
          <a:stretch/>
        </p:blipFill>
        <p:spPr>
          <a:xfrm>
            <a:off x="3124080" y="304920"/>
            <a:ext cx="257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9480" y="60958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8 The pH Scale and pH Values of Some Common Sub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Calculating the pH of Strong Aci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e the pH of 1.0 M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HCl is a strong acid, the major species in solution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alculate the pH we will focus on major species that can furnish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acid is completely dissociates in water producing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water also furnishes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autoionization by the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ure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and in acidic solution even less than that. So the amount of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ibuted by water is negligible compared with the 1.0M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dissociation of HC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 = -log [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= -log (1.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05320" y="43434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3505320" y="4419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major species in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species that can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rite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 values, decide o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expression for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initial concentrations in dominant equilib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olving Weak Acid Equilibrium Problems (continu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change at equilibrium (as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equilibrium concentrations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equilibrium concentrations into equilibrium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“easy w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 assumptions using 5%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rcent Dissociation (Ioniza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ful to specify the amount of weak acid that has dissociated in achieving equilibrium in an aqueous solution. The percent dissociation is defined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given weak acid, the percent dissociation increases as the acid becomes more dil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685800" y="3733920"/>
          <a:ext cx="79246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79246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chem5eart\ch14\fig14_10"/>
          <p:cNvPicPr/>
          <p:nvPr/>
        </p:nvPicPr>
        <p:blipFill>
          <a:blip r:embed="rId1"/>
          <a:stretch/>
        </p:blipFill>
        <p:spPr>
          <a:xfrm>
            <a:off x="1600200" y="22860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457200" y="601992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14.10 The Effect of Dilution on the Percent Dissociation and (H+) of a Weak Aci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chem5eart\ch14\fig14_01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102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362320" y="167652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 The Reaction of HCI and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chem5eart\ch14\fig14_02"/>
          <p:cNvPicPr/>
          <p:nvPr/>
        </p:nvPicPr>
        <p:blipFill>
          <a:blip r:embed="rId2"/>
          <a:stretch/>
        </p:blipFill>
        <p:spPr>
          <a:xfrm>
            <a:off x="457200" y="2438280"/>
            <a:ext cx="7848720" cy="104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62320" y="37339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2 The Reaction of an Acid with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C:\chem5eart\ch14\fig14_03"/>
          <p:cNvPicPr/>
          <p:nvPr/>
        </p:nvPicPr>
        <p:blipFill>
          <a:blip r:embed="rId3"/>
          <a:stretch/>
        </p:blipFill>
        <p:spPr>
          <a:xfrm>
            <a:off x="533520" y="4419720"/>
            <a:ext cx="7924680" cy="105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1219320" y="5867280"/>
            <a:ext cx="693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3 The Reaction of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I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C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rrhenius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substance that produces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in aqueous solu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ronsted-Lowry conc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base is a proton accep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are used in the same sense for bases as for ac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mplete disso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ydroxide ion supplied to sol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Bases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ea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very little 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r reaction with wa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 accepts a proton and thus functions as a base. Water is the acid in this reaction. Methyl amine contains no hydroxide ion, it still increases the concentration of hydroxide ion to yield a basic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olyprot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. . can furnish more than one proton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the solution. A polyprotic acid always dissociates in a stepwise manner, one proton at a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ypical weak polyprotic aci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523880" y="3352680"/>
          <a:ext cx="6019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019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-Base Properties of Sa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6"/>
          <p:cNvGraphicFramePr/>
          <p:nvPr/>
        </p:nvGraphicFramePr>
        <p:xfrm>
          <a:off x="504720" y="1219320"/>
          <a:ext cx="813276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219320"/>
                    <a:ext cx="81327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Structure and Acid-Base Prope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ubstance is dissolved in water, it produces an acidic solution if it can donate protons and produces a basic solution if it can accept prot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actors for acidity in binary compou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Polarit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igh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cc99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ond Strength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 is g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chem5eart\ch14\fig14_11"/>
          <p:cNvPicPr/>
          <p:nvPr/>
        </p:nvPicPr>
        <p:blipFill>
          <a:blip r:embed="rId1"/>
          <a:stretch/>
        </p:blipFill>
        <p:spPr>
          <a:xfrm>
            <a:off x="3352680" y="304920"/>
            <a:ext cx="2019600" cy="579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04920" y="617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4.1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of the Number of Attached Oxygens on the O-H Bond in a Series of of Chlorine Oxyac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x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Acidic Oxides (Acid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valent oxide dissolves in water an acidic solution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strong and coval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N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, CrO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Basic Oxides (Basic Anhydrides):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onic oxide dissolves in water a basic solution resul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99"/>
              </a:spcBef>
              <a:buClr>
                <a:srgbClr val="33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X bond is ion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0" lang="en-US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,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Lewis Acids and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ac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Lewis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ectron pair </a:t>
            </a:r>
            <a:r>
              <a:rPr b="0" lang="en-US" sz="3200" spc="-1" strike="noStrike">
                <a:solidFill>
                  <a:srgbClr val="f39fd1"/>
                </a:solidFill>
                <a:latin typeface="Times New Roman"/>
              </a:rPr>
              <a:t>do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wis acid has an empty atomic orbital that it can use to accept an electron pair from a molecule that has a lone pair of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wis        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143000" y="3962520"/>
          <a:ext cx="6400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62520"/>
                    <a:ext cx="6400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chem5eart\ch14\7522n14_12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3311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590920" y="5410080"/>
            <a:ext cx="434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13 The AI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onjugate Acid/Base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           conj               conj               con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1        base 2            acid 2            bas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verything that remains of the acid molecule after a proton is lo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ormed when the proton is transferred to th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njugate acid-base pa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sts of two substances related to each other by the donating and accepting of a single pro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Dissociation Constant (</a:t>
            </a: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K</a:t>
            </a:r>
            <a:r>
              <a:rPr b="0" lang="en-US" sz="4000" spc="-1" strike="noStrike" baseline="-25000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acid dissociation constant. In dilute solution we can assume that the concentration of liquid water remains essentially constant when an acid is dis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1600200" y="2590920"/>
          <a:ext cx="5715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590920"/>
                    <a:ext cx="5715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ength of an acid is defined by the equilibrium position of its dissoci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onization)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position lies far to the righ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weak conjugate base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strong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Cl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388584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chem5eart\ch14\fig14_04"/>
          <p:cNvPicPr/>
          <p:nvPr/>
        </p:nvPicPr>
        <p:blipFill>
          <a:blip r:embed="rId1"/>
          <a:stretch/>
        </p:blipFill>
        <p:spPr>
          <a:xfrm>
            <a:off x="2286000" y="380880"/>
            <a:ext cx="4471920" cy="5715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457200" y="609588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gure 14.4 Graphic Representation of the Behavior of Acids of Different Strengths in Aqueous Solu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chem5eart\ch14\fig14_05"/>
          <p:cNvPicPr/>
          <p:nvPr/>
        </p:nvPicPr>
        <p:blipFill>
          <a:blip r:embed="rId1"/>
          <a:stretch/>
        </p:blipFill>
        <p:spPr>
          <a:xfrm>
            <a:off x="2971800" y="304920"/>
            <a:ext cx="3311640" cy="5867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219320" y="6248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5 Acid Strength Versus Conjugate Base 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cid Strength</a:t>
            </a:r>
            <a:br>
              <a:rPr sz="4000"/>
            </a:b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equilibrium lies far to the left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a much stronger (it is relatively strong) conjugate base than water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C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COO</a:t>
            </a:r>
            <a:r>
              <a:rPr b="0" lang="en-US" sz="3200" spc="-1" strike="noStrike" baseline="30000">
                <a:solidFill>
                  <a:srgbClr val="cc33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weak acids are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 HNO</a:t>
            </a:r>
            <a:r>
              <a:rPr b="0" lang="en-US" sz="3200" spc="-1" strike="noStrike" baseline="-25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OCl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ganic acids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-COOH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chem5eart\ch14\fig14_06"/>
          <p:cNvPicPr/>
          <p:nvPr/>
        </p:nvPicPr>
        <p:blipFill>
          <a:blip r:embed="rId1"/>
          <a:stretch/>
        </p:blipFill>
        <p:spPr>
          <a:xfrm>
            <a:off x="762120" y="533520"/>
            <a:ext cx="7467480" cy="540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1143000" y="60958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14.6 A Strong Acid (a) and a Weak Acid (b) in Wa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7:25:12Z</dcterms:created>
  <dc:creator>Anwar A. Bhuiyan</dc:creator>
  <dc:description/>
  <dc:language>en-US</dc:language>
  <cp:lastModifiedBy>LEGION</cp:lastModifiedBy>
  <dcterms:modified xsi:type="dcterms:W3CDTF">2017-01-26T09:10:55Z</dcterms:modified>
  <cp:revision>9</cp:revision>
  <dc:subject/>
  <dc:title>Acids and Bases</dc:title>
</cp:coreProperties>
</file>