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5C22-2CCB-432B-A99F-5ED08B50E44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pter 1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rhenius Concept:  Acids produce H+ in solution, bases produce OH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ønsted-Lowry:  Acids are H+ donors, bases are proton accep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  +  H2O            Cl  +   H3O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     bas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conjugate   conjug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e          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on is transferred from the HCl molecule to the water molec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1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rhenius Concept:  Acids produce H+ in solution, bases produce OH 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ønsted-Lowry:  Acids are H+ donors, bases are proton accep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 +  H2O            Cl  +   H3O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      base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conjugate   conju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          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 is transferred from the HCl molecule to the water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protic acid: One acidic proton (HC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Cl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protic acid: Two acidic protons (H2SO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SO4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HSO4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SO4- 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SO4 2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yacids: Acidic proton is attached to an oxygen atom (H2SO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ganic acids: Those with a carbon atom backbone, contain the carboxyl group (-COOH).   CH3-COOH, C6H5-CO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noprotic acid: One acidic proton (HC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Cl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protic acid: Two acidic protons (H2SO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SO4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HSO4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SO4- 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SO4 2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yacids: Acidic proton is attached to an oxygen atom (H2SO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ganic acids: Those with a carbon atom backbone, contain the carboxyl group (-COOH).   CH3-COOH, C6H5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as an Acid and a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bstance is said to be amphoteric if it can behave either as an acid or as a base. Water is amphoteric (it can behave either as an acid or a bas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+ H2O    H3O+ + OH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      con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1   base 2      acid 2    b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w = [H3O+][OH-] = [H+][OH-] = 1  1014 at 25°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, Kw is the ion-product constant or dissociation constant for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H+] = [OH-] = 1.0 x 10-7 M at 25oC in pur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s an Acid and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bstance is said to be amphoteric if it can behave either as an acid or as a base. Water is amphoteric (it can behave either as an acid or a 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+ H2O    H3O+ + OH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      con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1   base 2      acid 2    b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[H3O+][OH-] = [H+][OH-] = 1  1014 at 25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Kw is the ion-product constant or dissociation constant for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= [OH-] = 1.0 x 10-7 M at 25oC in pur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7 Two Water Molecules React to Form H3O+ and O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7 Two Water Molecules React to Form H3O+ and O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H scale provides a convenient way to represent solution acidity. The pH is a log scale based on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 log[H+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in water ranges from 0 to 14. The pH decreases as [H+] incre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w = 1.00  1014 = [H+] [OH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Kw = -log Kw = 14.00 = pH + p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s pH rises, pOH falls (sum = 14.0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H = -log [OH-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pH scale provides a convenient way to represent solution acidity. The pH is a log scale based on 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 log[H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in water ranges from 0 to 14. The pH decreases as [H+]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w = 1.00  1014 = [H+] [OH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Kw = -log Kw = 14.00 = pH + p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 pH rises, pOH falls (sum = 14.0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H = -log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8 The pH Scale and pH Values of Some Common Sub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8 The pH Scale and pH Values of Some Common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pH of Strong Aci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pH of 1.0 M H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HCl is a strong acid, the major species in solution are H+, Cl- and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lculate the pH we will focus on major species that can furnish H+. The acid is completely dissociates in water producing H+ and water also furnishes H+ by autoionization by the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(l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+(aq) + OH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ure water at 25oC, [H+] is 10-7M and in acidic solution even less than that. So the amount of H+ contributed by water is negligible compared with the 1.0M H+ from the dissociation of H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= -log [H+] = -log (1.0)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pH of Strong Acid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H of 1.0 M H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HCl is a strong acid, the major species in solution are H+, Cl- and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the pH we will focus on major species that can furnish H+. The acid is completely dissociates in water producing H+ and water also furnishes H+ by autoionization by th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(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(aq) +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ure water at 25oC, [H+] is 10-7M and in acidic solution even less than that. So the amount of H+ contributed by water is negligible compared with the 1.0M H+ from the dissociation of H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= -log [H+] = -log (1.0)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ing Weak Acid Equilibrium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st major species in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oose species that can produce H+ and write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ed on K values, decide on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e equilibrium expression for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st initial concentrations in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ing Weak Acid Equilibrium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st major species in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ose species that can produce H+ and writ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d on K values, decide on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rite equilibrium expression for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st initial concentrations in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ing Weak Acid Equilibrium Proble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e change at equilibrium (as “x”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e equilibrium concentrations in terms of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bstitute equilibrium concentrations into equilibrium ex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e for x the “easy way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ify assumptions using 5% r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ulate [H+] and p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ing Weak Acid Equilibrium Problem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e change at equilibrium (as “x”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rite equilibrium concentrations in terms of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bstitute equilibrium concentrations into equilibrium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 for x the “easy w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ify assumptions using 5% r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culate [H+] and 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cent Dissociation (Ioniz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given weak acid, the percent dissociation increases as the acid becomes more dil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Dissociation (Ioniz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given weak acid, the percent dissociation increases as the acid becomes more di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0 The Effect of Dilution on the Percent Dissociation and (H+) of a Weak Acid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0 The Effect of Dilution on the Percent Dissociation and (H+) of a Weak Acid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 The Reaction of HCI and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2 The Reaction of an Acid with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3 The Reaction of NH3 with HCI to Form NH4+ and CI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 The Reaction of HCI and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2 The Reaction of an Acid wit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3 The Reaction of NH3 with HCI to Form NH4+ and C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concept: A base is a substance that produces OH- ions in aqueous solu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 concept: A base is a proton accep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” and “weak” are used in the same sense for bases as for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= complete dissociation (hydroxide ion supplied to solu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OH(s)    Na+(aq) + OH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concept: A base is a substance that produces OH- ions in aqueous solu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sted-Lowry concept: A base is a proton accep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” and “weak” are used in the same sense for bases as for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= complete dissociation (hydroxide ion supplied to 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(s)    Na+(aq) + OH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= very little dissociation (or reaction with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CNH2(aq) + H2O(l)   H3CNH3+(aq) + OH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CNH2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= very little dissociation (or reaction with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CNH2(aq) + H2O(l)   H3CNH3+(aq) + OH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CNH2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protic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. . can furnish more than one proton (H+) to the solution. A polyprotic acid always dissociates in a stepwise manner, one proton at a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typical weak polyprotic aci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1 &gt; Ka2 &gt; Ka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can furnish more than one proton (H+) to the solution. A polyprotic acid always dissociates in a stepwise manner, one proton at a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typical weak polyprotic aci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1 &gt; Ka2 &gt; Ka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-Base Properties of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-Base Properties of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and Acid-Base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substance is dissolved in water, it produces an acidic solution if it can donate protons and produces a basic solution if it can accept pro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actors for acidity in binary compoun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d Polarity (high is go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d Strength (low is go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and Acid-Base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substance is dissolved in water, it produces an acidic solution if it can donate protons and produces a basic solution if it can accept pr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actors for acidity in binary compoun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(high is goo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Strength (low is goo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1 The Effect of the Number of Attached Oxygens on the O-H Bond in a Series of of Chlorine Oxy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1 The Effect of the Number of Attached Oxygens on the O-H Bond in a Series of of Chlorine Oxy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ic Oxides (Acid Anhydrides): When a covalent oxide dissolves in water an acidic solution fo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X bond is strong and coval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2, NO2, CO2, Cr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ic Oxides (Basic Anhydrides): When an ionic oxide dissolves in water a basic solution resul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X bond is ion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2O, Ca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ic Oxides (Acid Anhydrides): When a covalent oxide dissolves in water an acidic solution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X bond is strong and coval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2, NO2, CO2, Cr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Oxides (Basic Anhydrides): When an ionic oxide dissolves in water a basic solution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X bond is io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2O, C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:  electron pair accep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Base:  electron pair don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 has an empty atomic orbital that it can use to accept an electron pair from a molecule that has a lone pai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        Lew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:  electron pair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:  electron pair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 has an empty atomic orbital that it can use to accept an electron pair from a molecule that has a lone pair of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        Lew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igure 14.13 The AI(H2O)63+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igure 14.13 The AI(H2O)63+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/Base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           conj               conj               con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1        base 2            acid 2            b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base:  everything that remains of the acid molecule after a proton is l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:  formed when the proton is transferred to the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jugate acid-base pair consists of two substances related to each other by the donating and accepting of a single pro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/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           conj               conj               con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1        base 2            acid 2            b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base:  everything that remains of the acid molecule after a proton is l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:  formed when the proton is transferred to th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jugate acid-base pair consists of two substances related to each other by the donating and accepting of a single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Dissociation Constant (K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, Ka is the acid dissociation constant. In dilute solution we can assume that the concentration of liquid water remains essentially constant when an acid is dissol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Dissociation Constant (K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Ka is the acid dissociation constant. In dilute solution we can assume that the concentration of liquid water remains essentially constant when an acid is dis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ength of an acid is defined by the equilibrium position of its dissoci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onization)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O+(aq) + A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Aci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quilibrium position lies far to the right. (HNO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ields a weak conjugate base. (NO3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strong acids are H2SO4, HCl, HNO3, HClO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of an acid is defined by the equilibrium position of its dissoc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onization)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O+(aq) +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quilibrium position lies far to the right. (HNO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ields a weak conjugate base. (NO3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trong acids are H2SO4, HCl, HNO3, HCl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4 Graphic Representation of the Behavior of Acids of Different Strengths in Aqueous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4 Graphic Representation of the Behavior of Acids of Different Strengths in Aqueous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5 Acid Strength Versus Conjugate Base Str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5 Acid Strength Versus Conjugate Bas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quilibrium lies far to the left. (CH3COO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ields a much stronger (it is relatively strong) conjugate base than water. (CH3COO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weak acids are H3PO4, HNO2, HOCl, organic acids (-COO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quilibrium lies far to the left. (CH3COO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ields a much stronger (it is relatively strong) conjugate base than water. (CH3COO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weak acids are H3PO4, HNO2, HOCl, organic acids (-COO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6 A Strong Acid (a) and a Weak Acid (b) in Wa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6 A Strong Acid (a) and a Weak Acid (b) in Wa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3FA-E926-48E9-BA0B-D703AC49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28BA-F548-49FC-947F-B7A180C3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CC1-2604-44DB-8AB3-DEDFDA0D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CE25-E3A0-4E8A-B118-A3DF88F8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4F92-9F43-4F06-BA9A-362B84CB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19F-D12C-44CE-BDFA-B90E0B32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535-C339-4B76-9DCF-E11597B9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205-A44F-420C-A25A-A0E1E4D0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042C-AF5D-4264-8E37-450EA5CB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FBE4-8590-4527-8CAD-C2F2FDA9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BDE-7ADB-402B-887B-C2BBCDC1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E45-E396-421A-A7EB-5559A2BC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6D1E-586E-44DE-ABEB-FA6B3E195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hapter 14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rrhenius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cids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solution, bases produce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rønsted-Low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cids ar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nors, bases are proton accep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  +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    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conjugate   conju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         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n is transferred from the HCl molecule to the water molec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848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Monoprotic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acidic proton (HC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iprotic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acidic protons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xyac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idic proton is attached to an oxygen atom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rganic ac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ose with a carbon atom backbone, contain the carboxyl group (-COOH).  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H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>
            <a:off x="3581280" y="1676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 flipH="1">
            <a:off x="3580920" y="1752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>
            <a:off x="3352680" y="2819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 flipH="1">
            <a:off x="3352320" y="2895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3429000" y="3352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 flipH="1">
            <a:off x="342864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Water as an Acid and a 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aid to be amphoteric if it can behave either as an acid or as a base. Water is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mphoter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t can behave either as an acid or a ba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      con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1   base 2      acid 2    b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25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ion-product constant or dissociation constant for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1.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at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in pure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chem5eart\ch14\fig14_07"/>
          <p:cNvPicPr/>
          <p:nvPr/>
        </p:nvPicPr>
        <p:blipFill>
          <a:blip r:embed="rId1"/>
          <a:stretch/>
        </p:blipFill>
        <p:spPr>
          <a:xfrm>
            <a:off x="457200" y="2590920"/>
            <a:ext cx="8229600" cy="947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066680" y="4114800"/>
            <a:ext cx="708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7 Two Water Molecules React to Form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The pH Sc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 scale provides a convenient way to represent solution acidity. The pH is a log scale based on 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in water ranges from 0 to 14. The pH decreases as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0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-log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14.00 = pH + p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pH rises, pOH falls (sum = 14.0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H = -log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chem5eart\ch14\fig14_08"/>
          <p:cNvPicPr/>
          <p:nvPr/>
        </p:nvPicPr>
        <p:blipFill>
          <a:blip r:embed="rId1"/>
          <a:stretch/>
        </p:blipFill>
        <p:spPr>
          <a:xfrm>
            <a:off x="3124080" y="304920"/>
            <a:ext cx="257976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609480" y="6095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8 The pH Scale and pH Values of Some Common Sub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alculating the pH of Strong Acid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he pH of 1.0 M H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HCl is a strong acid, the major species in solution ar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alculate the pH we will focus on major species that can furnish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acid is completely dissociates in water producing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water also furnishes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utoionization by the 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ure water at 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is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and in acidic solution even less than that. So the amount of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ibuted by water is negligible compared with the 1.0M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e dissociation of H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 = -log 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= -log (1.0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505320" y="43434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3505320" y="44197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olving Weak Acid Equilibrium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major species in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species that can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rite re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K values, decide on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quilibrium expression for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initial concentrations in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olving Weak Acid Equilibrium Problems (continue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change at equilibrium (as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quilibrium concentrations in term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e equilibrium concentrations into equilibrium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“easy w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y assumptions using 5%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and 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ercent Dissociation (Ioniza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given weak acid, the percent dissociation increases as the acid becomes more dil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5"/>
          <p:cNvGraphicFramePr/>
          <p:nvPr/>
        </p:nvGraphicFramePr>
        <p:xfrm>
          <a:off x="685800" y="3733920"/>
          <a:ext cx="792468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33920"/>
                    <a:ext cx="79246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chem5eart\ch14\fig14_10"/>
          <p:cNvPicPr/>
          <p:nvPr/>
        </p:nvPicPr>
        <p:blipFill>
          <a:blip r:embed="rId1"/>
          <a:stretch/>
        </p:blipFill>
        <p:spPr>
          <a:xfrm>
            <a:off x="1600200" y="228600"/>
            <a:ext cx="609588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457200" y="601992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14.10 The Effect of Dilution on the Percent Dissociation and (H+) of a Weak Aci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chem5eart\ch14\fig14_01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1025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2362320" y="1676520"/>
            <a:ext cx="480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1 The Reaction of HCI and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C:\chem5eart\ch14\fig14_02"/>
          <p:cNvPicPr/>
          <p:nvPr/>
        </p:nvPicPr>
        <p:blipFill>
          <a:blip r:embed="rId2"/>
          <a:stretch/>
        </p:blipFill>
        <p:spPr>
          <a:xfrm>
            <a:off x="457200" y="2438280"/>
            <a:ext cx="7848720" cy="10400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362320" y="37339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2 The Reaction of an Acid with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C:\chem5eart\ch14\fig14_03"/>
          <p:cNvPicPr/>
          <p:nvPr/>
        </p:nvPicPr>
        <p:blipFill>
          <a:blip r:embed="rId3"/>
          <a:stretch/>
        </p:blipFill>
        <p:spPr>
          <a:xfrm>
            <a:off x="533520" y="4419720"/>
            <a:ext cx="7924680" cy="105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1219320" y="5867280"/>
            <a:ext cx="6933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3 The Reaction of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HCI to Form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C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rrhenius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base is a substance that produces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ons in aqueous solu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ronsted-Lowry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base is a proton accep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and “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are used in the same sense for bases as for ac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mplete dissoci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ydroxide ion supplied to solu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O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Bases</a:t>
            </a:r>
            <a:br>
              <a:rPr sz="4000"/>
            </a:b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ea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very little dissoci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r reaction with wat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olyprotic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. . can furnish more than one proton (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o the solution. A polyprotic acid always dissociates in a stepwise manner, one proton at a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ypical weak polyprotic aci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523880" y="3352680"/>
          <a:ext cx="60199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0199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-Base Properties of Sa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6"/>
          <p:cNvGraphicFramePr/>
          <p:nvPr/>
        </p:nvGraphicFramePr>
        <p:xfrm>
          <a:off x="504720" y="1219320"/>
          <a:ext cx="813276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1219320"/>
                    <a:ext cx="813276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tructure and Acid-Base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substance is dissolved in water, it produces an acidic solution if it can donate protons and produces a basic solution if it can accept prot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factors for acidity in binary compoun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cc99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ond Polarit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igh is g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cc99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ond Strength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w is g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chem5eart\ch14\fig14_11"/>
          <p:cNvPicPr/>
          <p:nvPr/>
        </p:nvPicPr>
        <p:blipFill>
          <a:blip r:embed="rId1"/>
          <a:stretch/>
        </p:blipFill>
        <p:spPr>
          <a:xfrm>
            <a:off x="3352680" y="304920"/>
            <a:ext cx="2019600" cy="57909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304920" y="6172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14.1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ffect of the Number of Attached Oxygens on the O-H Bond in a Series of of Chlorine Oxyac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x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cidic Oxides (Acid Anhydrides):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covalent oxide dissolves in water an acidic solution fo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99"/>
              </a:spcBef>
              <a:buClr>
                <a:srgbClr val="339933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X bond is strong and coval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N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C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Cr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asic Oxides (Basic Anhydrides):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ionic oxide dissolves in water a basic solution resul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99"/>
              </a:spcBef>
              <a:buClr>
                <a:srgbClr val="339933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X bond is ion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, C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Lewis Acids and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ewis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lectron pair </a:t>
            </a:r>
            <a:r>
              <a:rPr b="0" lang="en-US" sz="3200" spc="-1" strike="noStrike">
                <a:solidFill>
                  <a:srgbClr val="f39fd1"/>
                </a:solidFill>
                <a:latin typeface="Times New Roman"/>
              </a:rPr>
              <a:t>ac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ewis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lectron pair </a:t>
            </a:r>
            <a:r>
              <a:rPr b="0" lang="en-US" sz="3200" spc="-1" strike="noStrike">
                <a:solidFill>
                  <a:srgbClr val="f39fd1"/>
                </a:solidFill>
                <a:latin typeface="Times New Roman"/>
              </a:rPr>
              <a:t>don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wis acid has an empty atomic orbital that it can use to accept an electron pair from a molecule that has a lone pair of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wis         Lew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1143000" y="3962520"/>
          <a:ext cx="64008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962520"/>
                    <a:ext cx="64008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chem5eart\ch14\7522n14_12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3311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2590920" y="5410080"/>
            <a:ext cx="434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13 The AI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onjugate Acid/Base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           conj               conj               con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 1        base 2            acid 2            bas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verything that remains of the acid molecule after a proton is l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formed when the proton is transferred to th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acid-base pa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sts of two substances related to each other by the donating and accepting of a single pro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Dissociation Constant (</a:t>
            </a:r>
            <a:r>
              <a:rPr b="1" i="1" lang="en-US" sz="40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acid dissociation constant. In dilute solution we can assume that the concentration of liquid water remains essentially constant when an acid is dissol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1600200" y="2590920"/>
          <a:ext cx="57150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90920"/>
                    <a:ext cx="5715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Streng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ength of an acid is defined by the equilibrium position of its dissoci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onization)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equilibrium position lies far to the right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elds a weak conjugate base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strong acids ar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Cl, 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Cl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 flipH="1">
            <a:off x="3885840" y="2895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chem5eart\ch14\fig14_04"/>
          <p:cNvPicPr/>
          <p:nvPr/>
        </p:nvPicPr>
        <p:blipFill>
          <a:blip r:embed="rId1"/>
          <a:stretch/>
        </p:blipFill>
        <p:spPr>
          <a:xfrm>
            <a:off x="2286000" y="380880"/>
            <a:ext cx="447192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457200" y="609588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gure 14.4 Graphic Representation of the Behavior of Acids of Different Strengths in Aqueous 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chem5eart\ch14\fig14_05"/>
          <p:cNvPicPr/>
          <p:nvPr/>
        </p:nvPicPr>
        <p:blipFill>
          <a:blip r:embed="rId1"/>
          <a:stretch/>
        </p:blipFill>
        <p:spPr>
          <a:xfrm>
            <a:off x="2971800" y="304920"/>
            <a:ext cx="3311640" cy="5867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219320" y="62485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5 Acid Strength Versus Conjugate Base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Strength</a:t>
            </a:r>
            <a:br>
              <a:rPr sz="4000"/>
            </a:b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eak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equilibrium lies far to the left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C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O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elds a much stronger (it is relatively strong) conjugate base than water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C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O</a:t>
            </a:r>
            <a:r>
              <a:rPr b="0" lang="en-US" sz="32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weak acids ar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OCl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ganic acids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-COOH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chem5eart\ch14\fig14_06"/>
          <p:cNvPicPr/>
          <p:nvPr/>
        </p:nvPicPr>
        <p:blipFill>
          <a:blip r:embed="rId1"/>
          <a:stretch/>
        </p:blipFill>
        <p:spPr>
          <a:xfrm>
            <a:off x="762120" y="533520"/>
            <a:ext cx="7467480" cy="5406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1143000" y="60958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6 A Strong Acid (a) and a Weak Acid (b) in Wat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7:25:12Z</dcterms:created>
  <dc:creator>Anwar A. Bhuiyan</dc:creator>
  <dc:description/>
  <dc:language>en-US</dc:language>
  <cp:lastModifiedBy>LEGION</cp:lastModifiedBy>
  <dcterms:modified xsi:type="dcterms:W3CDTF">2017-01-26T09:10:55Z</dcterms:modified>
  <cp:revision>9</cp:revision>
  <dc:subject/>
  <dc:title>Acids and Bases</dc:title>
</cp:coreProperties>
</file>