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B06D-9CC9-4093-BD01-4C6B6C1CA3E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99D-AFAC-4391-BCDF-84EC53BE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D03-2DC9-4AA3-8D2F-A19B5648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89B-51B0-439F-8CA5-224C6B30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6CA-050D-4DE3-89B2-239ECD8C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B3A-F2D8-46C1-9325-7157CB9D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8A0-C826-42C3-A5CC-9D83C646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FD0-5D82-4456-97EC-F41DB728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A99-8065-481D-86B6-FF50A5F1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DD1-D08D-4829-958B-F1108835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55B-096F-44B7-B590-042E0EC5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318-3A1A-40D2-93DC-C7DCE81C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DDB-D52B-49E5-B594-B8351459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BBB1-51A7-41A7-9B30-D40904FC6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hapter 14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solution, bases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ønsted-Low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ar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nors, bases are proton accep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 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848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ono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acidic proton (H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acidic protons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xy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idic proton is attached to an oxygen atom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rganic 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ose with a carbon atom backbone, contain the carboxyl group (-COOH).  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581280" y="1676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 flipH="1">
            <a:off x="3580920" y="1752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335268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 flipH="1">
            <a:off x="335232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3429000" y="3352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342864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Water as an Acid and a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aid to be amphoteric if it can behave either as an acid or as a base. Water i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mphote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t can behave either as an acid or a ba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25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ion-product constant or dissociation constant for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at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n pure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chem5eart\ch14\fig14_07"/>
          <p:cNvPicPr/>
          <p:nvPr/>
        </p:nvPicPr>
        <p:blipFill>
          <a:blip r:embed="rId1"/>
          <a:stretch/>
        </p:blipFill>
        <p:spPr>
          <a:xfrm>
            <a:off x="457200" y="2590920"/>
            <a:ext cx="8229600" cy="947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066680" y="4114800"/>
            <a:ext cx="708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pH Sc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0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log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14.00 = pH + p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H = -log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chem5eart\ch14\fig14_08"/>
          <p:cNvPicPr/>
          <p:nvPr/>
        </p:nvPicPr>
        <p:blipFill>
          <a:blip r:embed="rId1"/>
          <a:stretch/>
        </p:blipFill>
        <p:spPr>
          <a:xfrm>
            <a:off x="3124080" y="304920"/>
            <a:ext cx="257976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6094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alculating the pH of Strong Aci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acid is completely dissociates in water producing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water also furnishes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utoionization by the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ure water at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is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and in acidic solution even less than that. So the amount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ibuted by water is negligible compared with the 1.0M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dissociation of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 = -log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= -log (1.0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05320" y="43434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3505320" y="44197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species that can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rite re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 (continu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change at equilibrium (as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concentrations in term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“easy w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ercent Dissociation (Ioniz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685800" y="3733920"/>
          <a:ext cx="792468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79246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chem5eart\ch14\fig14_10"/>
          <p:cNvPicPr/>
          <p:nvPr/>
        </p:nvPicPr>
        <p:blipFill>
          <a:blip r:embed="rId1"/>
          <a:stretch/>
        </p:blipFill>
        <p:spPr>
          <a:xfrm>
            <a:off x="1600200" y="22860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457200" y="60199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chem5eart\ch14\fig14_01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1025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362320" y="16765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 The Reaction of HCI and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chem5eart\ch14\fig14_02"/>
          <p:cNvPicPr/>
          <p:nvPr/>
        </p:nvPicPr>
        <p:blipFill>
          <a:blip r:embed="rId2"/>
          <a:stretch/>
        </p:blipFill>
        <p:spPr>
          <a:xfrm>
            <a:off x="457200" y="2438280"/>
            <a:ext cx="7848720" cy="10400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362320" y="37339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:\chem5eart\ch14\fig14_03"/>
          <p:cNvPicPr/>
          <p:nvPr/>
        </p:nvPicPr>
        <p:blipFill>
          <a:blip r:embed="rId3"/>
          <a:stretch/>
        </p:blipFill>
        <p:spPr>
          <a:xfrm>
            <a:off x="533520" y="4419720"/>
            <a:ext cx="792468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1219320" y="5867280"/>
            <a:ext cx="693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3 The Reaction of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HCI to Form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C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substance that produces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s in aqueous solu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onsted-Lowry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proton accep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re used in the same sense for bases as for ac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mplete dissoc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ydroxide ion supplied to solu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O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very little dissoci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r reaction with wa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olyprot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 can furnish more than one proton (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the solution. A polyprotic acid always dissociates in a stepwise manner, one proton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523880" y="3352680"/>
          <a:ext cx="6019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019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-Base Properties of Sa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504720" y="1219320"/>
          <a:ext cx="813276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219320"/>
                    <a:ext cx="81327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tructure and Acid-Base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Polarit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igh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Strength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w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chem5eart\ch14\fig14_11"/>
          <p:cNvPicPr/>
          <p:nvPr/>
        </p:nvPicPr>
        <p:blipFill>
          <a:blip r:embed="rId1"/>
          <a:stretch/>
        </p:blipFill>
        <p:spPr>
          <a:xfrm>
            <a:off x="3352680" y="304920"/>
            <a:ext cx="2019600" cy="5790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304920" y="617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14.1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ffect of the Number of Attached Oxygens on the O-H Bond in a Series of of Chlorine Oxyac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x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cidic Oxides (Acid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valent oxide dissolves in water an acidic solution 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strong and coval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N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r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asic Oxides (Basic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ionic oxide dissolves in water a basic solution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ion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, C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Lewis 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ac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do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143000" y="3962520"/>
          <a:ext cx="6400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62520"/>
                    <a:ext cx="6400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chem5eart\ch14\7522n14_12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3311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2590920" y="541008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3 The AI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onjugate Acid/Base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verything that remains of the acid molecule after a proton is l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formed when the proton is transferred to th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-base p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two substances related to each other by the donating and accepting of a single pro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Dissociation Constant (</a:t>
            </a:r>
            <a:r>
              <a:rPr b="1" i="1" lang="en-US" sz="40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acid dissociation constant. In dilute solution we can assume that the concentration of liquid water remains essentially constant when an acid is dis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1600200" y="2590920"/>
          <a:ext cx="5715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90920"/>
                    <a:ext cx="5715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weak conjugate base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strong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 flipH="1">
            <a:off x="388584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chem5eart\ch14\fig14_04"/>
          <p:cNvPicPr/>
          <p:nvPr/>
        </p:nvPicPr>
        <p:blipFill>
          <a:blip r:embed="rId1"/>
          <a:stretch/>
        </p:blipFill>
        <p:spPr>
          <a:xfrm>
            <a:off x="2286000" y="380880"/>
            <a:ext cx="447192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57200" y="609588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chem5eart\ch14\fig14_05"/>
          <p:cNvPicPr/>
          <p:nvPr/>
        </p:nvPicPr>
        <p:blipFill>
          <a:blip r:embed="rId1"/>
          <a:stretch/>
        </p:blipFill>
        <p:spPr>
          <a:xfrm>
            <a:off x="2971800" y="304920"/>
            <a:ext cx="3311640" cy="5867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219320" y="62485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lies far to the lef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weak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OCl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ganic acid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-COOH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chem5eart\ch14\fig14_06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40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1143000" y="60958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7:25:12Z</dcterms:created>
  <dc:creator>Anwar A. Bhuiyan</dc:creator>
  <dc:description/>
  <dc:language>en-US</dc:language>
  <cp:lastModifiedBy>LEGION</cp:lastModifiedBy>
  <dcterms:modified xsi:type="dcterms:W3CDTF">2017-01-26T09:10:55Z</dcterms:modified>
  <cp:revision>9</cp:revision>
  <dc:subject/>
  <dc:title>Acids and Bases</dc:title>
</cp:coreProperties>
</file>