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gif" ContentType="image/gif"/>
  <Override PartName="/ppt/media/image15.png" ContentType="image/png"/>
  <Override PartName="/ppt/media/image14.png" ContentType="image/png"/>
  <Override PartName="/ppt/media/image5.gif" ContentType="image/gif"/>
  <Override PartName="/ppt/media/image9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12.png" ContentType="image/png"/>
  <Override PartName="/ppt/media/image1.jpeg" ContentType="image/jpeg"/>
  <Override PartName="/ppt/media/image7.png" ContentType="image/png"/>
  <Override PartName="/ppt/media/image4.gif" ContentType="image/gif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B57B-3C6B-4F32-960A-F51785AB9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DP, ATP and Cellular Respir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P, ATP and Cellular Respi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en is ATP Made in the Body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uring a Process called Cellular Respiration that takes place in both Plants &amp; Anim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is ATP Made in the Bod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uring a Process called Cellular Respiration that takes place in both Plants &amp; Anim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ellular Respir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ncludes pathways that require oxy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ucose is oxidized and O2 is reduc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ucose breakdown is therefore an oxidation-reduction rea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reakdown of one glucose results in 36 to 38 ATP molecule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cludes pathways that require oxyg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ucose is oxidized and O2 is reduc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ucose breakdown is therefore an oxidation-reduction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eakdown of one glucose results in 36 to 38 ATP molecule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verall Equation for Cellular Respir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6CO2 + 6H20 + e- + 36-38ATP’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6H12O6    + 6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YIEL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verall Equation for Cellular Respi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CO2 + 6H20 + e- + 36-38ATP’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6H12O6    + 6O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Type of Process is Cellular Respiration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n Oxidation-Reduction Process or REDOX Rea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xidation of GLUCOSE --&gt; CO2 + H2O (e- removed from C6H12O6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duction  O2  to  H2O (e- passed to O2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Type of Process is Cellular Respira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 Oxidation-Reduction Process or REDOX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xidation of GLUCOSE --&gt; CO2 + H2O (e- removed from C6H12O6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uction  O2  to  H2O (e- passed to 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Carries the Electrons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AD+ (nicotinadenine dinucleotide) acts as the energy carrie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AD+ is a coenzym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t’s Reduced to NADH when it picks up two electrons and one hydrogen 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Carries the Electron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D+ (nicotinadenine dinucleotide) acts as the energy carri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D+ is a coenzy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Reduced to NADH when it picks up two electrons and one hydrogen 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re There Any Other Electron Carriers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YES! Another Coenzyme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AD+ (Flavin adenine dinucleotide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duced to FADH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e There Any Other Electron Carrier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ES! Another Coenzym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D+ (Flavin adenine dinucleotid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uced to FADH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ther Cellular Respiration Fac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Metabolic Pathway that breaks down carbohydr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Process is Exergonic as High-energy Glucose is broken into CO2 and H2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Process is also Catabolic because larger Glucose breaks into smaller molecul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ther Cellular Respiration F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tabolic Pathway that breaks down 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cess is Exergonic as High-energy Glucose is broken into CO2 and 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cess is also Catabolic because larger Glucose breaks into smaller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are the Stages of Cellular Respiration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Krebs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Electron Transport Chai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re the Stages of Cellular Respira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ycoly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Krebs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Electron Transport Ch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ere Does Cellular Respiration Take Place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t actually takes place in two parts of the cell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 occurs in the Cytopla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Krebs Cycle &amp; ETC Take place in the Mitochondri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re Does Cellular Respiration Take Plac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 actually takes place in two parts of the cell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ycolysis occurs in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rebs Cycle &amp; ETC Take place in the Mitochond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view of Mitochondria Structu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Smooth outer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olded inner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olds called Crista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Space inside cristae called the Matrix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view of Mitochondri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mooth outer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olded inner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olds called Crista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pace inside cristae called the Matr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Is ATP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nergy used by all Cel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denosine Triphospha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rganic molecule containing high-energy Phosphate bon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ATP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ergy used by all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osine Triphosph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ganic molecule containing high-energy Phosphate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iagram of the Proces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in Cytopla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in Matrix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across Crista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agram of the Proce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ccurs in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ccurs in Matr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ccurs across Crista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akes place in the Cytopla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naerobic (Doesn’t Use Oxygen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quires input of 2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ucose split into two molecules of Pyruvate or Pyruvic Ac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ycolysis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akes place in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naerobic (Doesn’t Use Oxyge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quires input of 2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ucose split into two molecules of Pyruvate or Pyruvic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lso produces 2 NADH and 4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Pyruvate is oxidized to Acetyl CoA and CO2 is remov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ycolysis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so produces 2 NADH and 4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ruvate is oxidized to Acetyl CoA and CO2 is remov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 Diagra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ycolysis Dia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erment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when O2 NOT present (anaerobic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alled Lactic Acid fermentation in muscle cells (makes muscles tired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alled Alcoholic fermentation in yeast (produces ethanol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ets only 2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ccurs when O2 NOT present (anaerobi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lled Lactic Acid fermentation in muscle cells (makes muscles tire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lled Alcoholic fermentation in yeast (produces ethano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ts only 2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 Little Krebs Cycle Histo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iscovered by Hans Krebs in 1937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e received the Nobel Prize in physiology or medicine in 1953 for his discove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orced to leave Germany prior to WWII because he was Jewish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Little Krebs Cycle His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covered by Hans Krebs in 193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 received the Nobel Prize in physiology or medicine in 1953 for his discov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ced to leave Germany prior to WWII because he was Jewis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Krebs Cycle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quires Oxygen (Aerobic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yclical series of oxidation reactions that give off CO2 and produce one ATP per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urns twice per glucose molecu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Produces two ATP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akes place in matrix of mitochondri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Krebs Cycle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quires Oxygen (Aerobi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yclical series of oxidation reactions that give off CO2 and produce one ATP per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urns twice per glucose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roduces two ATP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akes place in matrix of mitochond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Krebs Cycle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ach turn of the Krebs Cycle also produces 3NADH, 1FADH2, and 2C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refore, For each Glucose molecule, the Krebs Cycle produces 6NADH, 2FADH2, 4CO2, and 2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rebs Cycle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ch turn of the Krebs Cycle also produces 3NADH, 1FADH2, and 2CO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fore, For each Glucose molecule, the Krebs Cycle produces 6NADH, 2FADH2, 4CO2, and 2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Krebs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ETS: 3NADH, 1ATP, 1FADH2, &amp; 2C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Krebs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ETS: 3NADH, 1ATP, 1FADH2, &amp; 2CO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lectron Transport Chain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4 ATP Produc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2O Produc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Across Inner Mitochondrial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Uses coenzymes NAD+ and FAD+ to accept e- from gluco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ADH = 3 ATP’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ADH2 = 2 ATP’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lectron Transport Chain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4 ATP Produc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2O Produc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Occurs Across Inner Mitochondrial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Uses coenzymes NAD+ and FAD+ to accept e- from gluc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ADH = 3 ATP’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ADH2 = 2 ATP’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hemical Structure of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 Phosph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ibose Suga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denine B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 Structure of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Phosph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ibose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lectron Transport Chain Anim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lectron Transport Chain Ani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Does ATP Do for You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t supplies YOU with ENERGY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es ATP Do for You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 supplies YOU with ENERGY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ow Do We Get Energy From ATP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y breaking the high- energy bonds between the last two phosphates in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 We Get Energy From ATP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y breaking the high- energy bonds between the last two phosphates in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is the Process Calle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YDROLYSIS (Adding H2O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the Process Call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LYSIS (Adding H2O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ow Does That Happen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n Enzyme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That Happe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 Enzym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ow is ATP Re-Made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reverse of the previous process occurs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nother Enzyme is used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 Synthet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is ATP Re-Mad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reverse of the previous process occu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other Enzyme is used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 Synthet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ADP-ATP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-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 Synthet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e ADP-ATP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P-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P Synthet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193A-3091-4D6E-A2C0-684E2E28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BECD-4B80-4E0A-9ECF-73FC7635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33AE-A6FB-48AA-8955-BE4E27BA4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D037-255A-4F03-B97A-7A24A590E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BE04-A570-49AB-B73C-567C10E57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85DA-0781-4A1A-B802-0F4F4D1E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A426-90BA-4540-A67A-9CD946BC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1236-FCD9-437D-9FC1-54C1853D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9CCC-6084-4121-9C53-02034FAE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7DD7-4CF0-45F3-91E3-A09825F3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6F3B-2354-4295-AF09-DE360F32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AEFD-2B1A-4E0F-95ED-20C0070D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09D5-449A-4F6D-B1BF-3CDB3B0D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174F-E4E8-4967-8FFD-F1CCBE88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9883-3E71-4A0B-9C18-D0EB70D1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37AE-B314-4E5F-B8BC-852FF8B2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D3DE-EB8E-4C4B-9894-2F577FFF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AF82-BA74-4904-A81D-76E6D3D1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B407-3DCF-48AD-8A3B-475AD88E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3DEB-B0A8-475C-8E7E-ADE3ACBD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5454-DB54-4B1B-82FC-69B18CC1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5A29-B8C2-4C64-8866-3DC23C26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E8BF-1625-4BB7-9361-EBFBBF5A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0A3D-1A9E-4587-AE0E-D19A6FD5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1C06-25EA-45A3-AF69-29190ECB6D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51A7-59E4-405E-B932-48E3101EB1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science.smith.edu/departments/Biology/Bio231/etc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Comic Sans MS"/>
              </a:rPr>
              <a:t>ADP, ATP and Cellular Respiration</a:t>
            </a:r>
            <a:endParaRPr b="0" lang="en-US" sz="72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When is ATP Made in the Body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uring a Process called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Cellular Respiration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that takes place in both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Plants &amp; Animal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4" name="Picture 11" descr="Copy of heart[1]"/>
          <p:cNvPicPr/>
          <p:nvPr/>
        </p:nvPicPr>
        <p:blipFill>
          <a:blip r:embed="rId1"/>
          <a:stretch/>
        </p:blipFill>
        <p:spPr>
          <a:xfrm>
            <a:off x="4572000" y="2511360"/>
            <a:ext cx="4191120" cy="38131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Cellular Respiration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ncludes pathways that require oxyge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lucose is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oxidized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and O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is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reduce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lucose breakdown is therefore an </a:t>
            </a:r>
            <a:r>
              <a:rPr b="1" i="1" lang="en-US" sz="3600" spc="-1" strike="noStrike">
                <a:solidFill>
                  <a:srgbClr val="ffcc66"/>
                </a:solidFill>
                <a:latin typeface="Comic Sans MS"/>
              </a:rPr>
              <a:t>oxidation-reduction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reactio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reakdown of one glucose results in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36 to 38 ATP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molecules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5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5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Overall Equation for Cellular Respiration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0773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 marL="85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0" y="5791320"/>
            <a:ext cx="91440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6CO</a:t>
            </a:r>
            <a:r>
              <a:rPr b="1" lang="en-US" sz="4400" spc="-1" strike="noStrike" baseline="-30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 + 6H</a:t>
            </a:r>
            <a:r>
              <a:rPr b="1" lang="en-US" sz="4400" spc="-1" strike="noStrike" baseline="-30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0 + e</a:t>
            </a:r>
            <a:r>
              <a:rPr b="1" lang="en-US" sz="4400" spc="-1" strike="noStrike" baseline="30000">
                <a:solidFill>
                  <a:srgbClr val="ffcc66"/>
                </a:solidFill>
                <a:latin typeface="Comic Sans MS"/>
              </a:rPr>
              <a:t>-</a:t>
            </a: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 + 36-38</a:t>
            </a:r>
            <a:r>
              <a:rPr b="1" lang="en-US" sz="4000" spc="-1" strike="noStrike">
                <a:solidFill>
                  <a:srgbClr val="ffcc66"/>
                </a:solidFill>
                <a:latin typeface="Comic Sans MS"/>
              </a:rPr>
              <a:t>ATP’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1219320" y="2430360"/>
            <a:ext cx="601956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C</a:t>
            </a:r>
            <a:r>
              <a:rPr b="1" lang="en-US" sz="4800" spc="-1" strike="noStrike" baseline="-30000">
                <a:solidFill>
                  <a:srgbClr val="ffcc66"/>
                </a:solidFill>
                <a:latin typeface="Comic Sans MS"/>
              </a:rPr>
              <a:t>6</a:t>
            </a: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H</a:t>
            </a:r>
            <a:r>
              <a:rPr b="1" lang="en-US" sz="4800" spc="-1" strike="noStrike" baseline="-30000">
                <a:solidFill>
                  <a:srgbClr val="ffcc66"/>
                </a:solidFill>
                <a:latin typeface="Comic Sans MS"/>
              </a:rPr>
              <a:t>12</a:t>
            </a: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O</a:t>
            </a:r>
            <a:r>
              <a:rPr b="1" lang="en-US" sz="4800" spc="-1" strike="noStrike" baseline="-30000">
                <a:solidFill>
                  <a:srgbClr val="ffcc66"/>
                </a:solidFill>
                <a:latin typeface="Comic Sans MS"/>
              </a:rPr>
              <a:t>6    </a:t>
            </a: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+ 6O</a:t>
            </a:r>
            <a:r>
              <a:rPr b="1" lang="en-US" sz="4800" spc="-1" strike="noStrike" baseline="-30000">
                <a:solidFill>
                  <a:srgbClr val="ffcc66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3276720" y="419112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YIELD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4495680" y="3429000"/>
            <a:ext cx="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Line 12"/>
          <p:cNvSpPr/>
          <p:nvPr/>
        </p:nvSpPr>
        <p:spPr>
          <a:xfrm>
            <a:off x="4572000" y="5029200"/>
            <a:ext cx="0" cy="838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What Type of Process is Cellular Respiration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79250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n Oxidation-Reduction Process or REDOX Reactio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xidation of GLUCOSE --&gt; CO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+ H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(e</a:t>
            </a:r>
            <a:r>
              <a:rPr b="1" lang="en-US" sz="3600" spc="-1" strike="noStrike" baseline="30000">
                <a:solidFill>
                  <a:srgbClr val="ffcc66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removed from C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6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H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12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O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6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Reduction  O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  to  H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(e</a:t>
            </a:r>
            <a:r>
              <a:rPr b="1" lang="en-US" sz="3600" spc="-1" strike="noStrike" baseline="30000">
                <a:solidFill>
                  <a:srgbClr val="ffcc66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passed to O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9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What Carries the Electrons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AD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(nicotinadenine dinucleotide) acts as the energy carri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AD</a:t>
            </a:r>
            <a:r>
              <a:rPr b="1" lang="en-US" sz="29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a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enzym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t’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duce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ADH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when it picks up two electrons and one hydrogen 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365760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3" name="Picture 7" descr="alcferm"/>
          <p:cNvPicPr/>
          <p:nvPr/>
        </p:nvPicPr>
        <p:blipFill>
          <a:blip r:embed="rId1"/>
          <a:srcRect l="27119" t="27458" r="36729" b="0"/>
          <a:stretch/>
        </p:blipFill>
        <p:spPr>
          <a:xfrm>
            <a:off x="480960" y="1600200"/>
            <a:ext cx="3889440" cy="48769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3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Are There Any Other Electron Carriers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288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YES! Another Coenzyme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AD+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(Flavin adenine dinucleotide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Reduced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to FADH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7" name="Picture 6" descr="etransport[1]"/>
          <p:cNvPicPr/>
          <p:nvPr/>
        </p:nvPicPr>
        <p:blipFill>
          <a:blip r:embed="rId1"/>
          <a:stretch/>
        </p:blipFill>
        <p:spPr>
          <a:xfrm>
            <a:off x="228600" y="1905120"/>
            <a:ext cx="4572000" cy="441936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Other Cellular Respiration Facts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Metabolic Pathway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that breaks down carbohydrat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rocess is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Exergonic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s High-energy Glucose is broken into C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rocess is also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Catabolic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because larger Glucose breaks into smaller molecul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What are the Stages of Cellular Respiration?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lycolysi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Krebs Cycl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Electron Transport Chai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Where Does Cellular Respiration Take Place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38098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t actually takes place in two parts of the cell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228600" y="380988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Glycolysis occurs in the Cytoplas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228600" y="4952880"/>
            <a:ext cx="373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Krebs Cycle &amp; ETC Tak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place in the Mitochondri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9" name="Picture 14" descr="mitochondria[1]"/>
          <p:cNvPicPr/>
          <p:nvPr/>
        </p:nvPicPr>
        <p:blipFill>
          <a:blip r:embed="rId1"/>
          <a:stretch/>
        </p:blipFill>
        <p:spPr>
          <a:xfrm>
            <a:off x="4245120" y="1676520"/>
            <a:ext cx="4765680" cy="4876560"/>
          </a:xfrm>
          <a:prstGeom prst="rect">
            <a:avLst/>
          </a:prstGeom>
          <a:ln w="0">
            <a:noFill/>
          </a:ln>
        </p:spPr>
      </p:pic>
      <p:sp>
        <p:nvSpPr>
          <p:cNvPr id="180" name="Line 15"/>
          <p:cNvSpPr/>
          <p:nvPr/>
        </p:nvSpPr>
        <p:spPr>
          <a:xfrm flipV="1">
            <a:off x="3733920" y="5714640"/>
            <a:ext cx="27432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Review of Mitochondria Structure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mooth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outer Membran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lded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inner membran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Folds called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rista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Space inside cristae called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atrix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4" name="Picture 5" descr="mitochondria[1]"/>
          <p:cNvPicPr/>
          <p:nvPr/>
        </p:nvPicPr>
        <p:blipFill>
          <a:blip r:embed="rId1"/>
          <a:stretch/>
        </p:blipFill>
        <p:spPr>
          <a:xfrm>
            <a:off x="4648320" y="1905120"/>
            <a:ext cx="4190760" cy="449568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What Is ATP?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04920" y="21337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Energy used by all Cell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28600" y="32004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denosine Triphosphat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457200" y="44956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Organic molecule containing high-energy Phosphate bond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Diagram of the Process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87" name="Picture 7" descr="Overview[1]"/>
          <p:cNvPicPr/>
          <p:nvPr/>
        </p:nvPicPr>
        <p:blipFill>
          <a:blip r:embed="rId1"/>
          <a:stretch/>
        </p:blipFill>
        <p:spPr>
          <a:xfrm>
            <a:off x="533520" y="1600200"/>
            <a:ext cx="8153280" cy="48769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>
            <a:off x="533520" y="4800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228600" y="4724280"/>
            <a:ext cx="175248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ccurs in Cytoplas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Line 10"/>
          <p:cNvSpPr/>
          <p:nvPr/>
        </p:nvSpPr>
        <p:spPr>
          <a:xfrm flipV="1">
            <a:off x="1143000" y="4266720"/>
            <a:ext cx="76212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200400" y="5715000"/>
            <a:ext cx="175248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ccurs in Matrix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Line 12"/>
          <p:cNvSpPr/>
          <p:nvPr/>
        </p:nvSpPr>
        <p:spPr>
          <a:xfrm flipV="1">
            <a:off x="4267080" y="4343400"/>
            <a:ext cx="99072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7467480" y="1600200"/>
            <a:ext cx="167652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ccurs across Crista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Line 14"/>
          <p:cNvSpPr/>
          <p:nvPr/>
        </p:nvSpPr>
        <p:spPr>
          <a:xfrm flipH="1">
            <a:off x="7162560" y="2819520"/>
            <a:ext cx="99036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Glycolysis Summary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685800" y="2209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Takes place in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ytoplas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762120" y="30481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aerobic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(Doesn’t Use Oxygen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762120" y="39625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Requires input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2 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914400" y="518148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Glucose split into two molecules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yruvate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yruvic Aci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Glycolysis Summary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lso produc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2 NADH and 4 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Pyruvate is oxidized to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cetyl CoA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is remove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1447920"/>
            <a:ext cx="27432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Glycolysis Diagram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206" name="Picture 7" descr="glyco[1]"/>
          <p:cNvPicPr/>
          <p:nvPr/>
        </p:nvPicPr>
        <p:blipFill>
          <a:blip r:embed="rId1"/>
          <a:stretch/>
        </p:blipFill>
        <p:spPr>
          <a:xfrm>
            <a:off x="2895480" y="380880"/>
            <a:ext cx="5972400" cy="61628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Fermentation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457200" y="1752480"/>
            <a:ext cx="845820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Occurs when O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NOT present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(anaerobic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Called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actic Acid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fermentation in muscle cells (mak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uscles tired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Called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lcoholic fermentation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in yeast (produc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thanol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Nets only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2 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A Little Krebs Cycle History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1640" y="17521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Discovered by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ns Krebs</a:t>
            </a: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 in 1937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He received th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obel Prize</a:t>
            </a: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 in physiology or medicine in 1953 for his discover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Forced to leave Germany prior to WWII because he was Jewis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3" name="Picture 6" descr="krebs"/>
          <p:cNvPicPr/>
          <p:nvPr/>
        </p:nvPicPr>
        <p:blipFill>
          <a:blip r:embed="rId1"/>
          <a:stretch/>
        </p:blipFill>
        <p:spPr>
          <a:xfrm>
            <a:off x="762120" y="1828800"/>
            <a:ext cx="3284280" cy="46483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Krebs Cycle Summary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quires Oxygen (Aerobic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yclical series of oxidation reactions that give off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CO</a:t>
            </a:r>
            <a:r>
              <a:rPr b="1" lang="en-US" sz="32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produce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one ATP per cyc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urns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twic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per glucose molecu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roduces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two ATP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akes place in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matrix of mitochondri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Krebs Cycle Summary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Each turn of the Krebs Cycle also produc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3NADH, 1FAD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and 2C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Therefore, For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ach Glucose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molecule, the Krebs Cycle produc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6NADH, 2FAD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4C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and 2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Krebs Cycle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222" name="Object 3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324480" cy="48006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8"/>
          <p:cNvSpPr/>
          <p:nvPr/>
        </p:nvSpPr>
        <p:spPr>
          <a:xfrm>
            <a:off x="4419720" y="57913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4267080" y="5791320"/>
            <a:ext cx="8384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TP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380880" y="6469200"/>
            <a:ext cx="876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NETS: 3NADH, 1ATP, 1FADH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, &amp; 2C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Electron Transport Chain Summary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34 ATP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Produc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Produc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Occurs Acros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ner Mitochondrial membran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Uses coenzyme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AD+ and FAD+ to accept e- from glucos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ADH = 3 ATP’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AD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= 2 ATP’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Chemical Structure of ATP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03" name="Picture 10" descr="atp"/>
          <p:cNvPicPr/>
          <p:nvPr/>
        </p:nvPicPr>
        <p:blipFill>
          <a:blip r:embed="rId1"/>
          <a:stretch/>
        </p:blipFill>
        <p:spPr>
          <a:xfrm>
            <a:off x="685800" y="1523880"/>
            <a:ext cx="7696080" cy="4535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1"/>
          <p:cNvSpPr/>
          <p:nvPr/>
        </p:nvSpPr>
        <p:spPr>
          <a:xfrm>
            <a:off x="1066680" y="54100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 Phosphat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4648320" y="55627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ibose Suga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4572000" y="16765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enine Ba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Comic Sans MS"/>
                <a:hlinkClick r:id="rId1"/>
              </a:rPr>
              <a:t>Electron Transport Chain Animation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What Does ATP Do for You?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It supplies YOU with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ENERGY!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0" name="Picture 11" descr="ag00019_"/>
          <p:cNvPicPr/>
          <p:nvPr/>
        </p:nvPicPr>
        <p:blipFill>
          <a:blip r:embed="rId1"/>
          <a:stretch/>
        </p:blipFill>
        <p:spPr>
          <a:xfrm>
            <a:off x="2666880" y="2819520"/>
            <a:ext cx="3810240" cy="352404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Comic Sans MS"/>
              </a:rPr>
              <a:t>How Do We Get Energy From ATP?</a:t>
            </a:r>
            <a:endParaRPr b="0" lang="en-US" sz="40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3505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By breaking the high- energy bonds between the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ast two phosphates in 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4" name="Picture 11" descr="Copy (3) of atp[1]"/>
          <p:cNvPicPr/>
          <p:nvPr/>
        </p:nvPicPr>
        <p:blipFill>
          <a:blip r:embed="rId1"/>
          <a:stretch/>
        </p:blipFill>
        <p:spPr>
          <a:xfrm>
            <a:off x="4267080" y="190512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What is the Process Called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17" name="Picture 4" descr="option2[1]"/>
          <p:cNvPicPr/>
          <p:nvPr/>
        </p:nvPicPr>
        <p:blipFill>
          <a:blip r:embed="rId1"/>
          <a:stretch/>
        </p:blipFill>
        <p:spPr>
          <a:xfrm>
            <a:off x="1066680" y="2057400"/>
            <a:ext cx="7315200" cy="4454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LYSIS (Adding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0" y="34290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457200" y="3962520"/>
            <a:ext cx="6094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How Does That Happen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23" name="Picture 6" descr="bd13684_"/>
          <p:cNvPicPr/>
          <p:nvPr/>
        </p:nvPicPr>
        <p:blipFill>
          <a:blip r:embed="rId1"/>
          <a:stretch/>
        </p:blipFill>
        <p:spPr>
          <a:xfrm>
            <a:off x="380880" y="1447920"/>
            <a:ext cx="2590920" cy="4114800"/>
          </a:xfrm>
          <a:prstGeom prst="rect">
            <a:avLst/>
          </a:prstGeom>
          <a:ln w="0">
            <a:noFill/>
          </a:ln>
        </p:spPr>
      </p:pic>
      <p:sp>
        <p:nvSpPr>
          <p:cNvPr id="124" name="WordArt 11"/>
          <p:cNvSpPr txBox="1"/>
          <p:nvPr/>
        </p:nvSpPr>
        <p:spPr>
          <a:xfrm>
            <a:off x="304920" y="5791320"/>
            <a:ext cx="2209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ATPa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125" name="Picture 16" descr="Copy of C7_atp_2[1]"/>
          <p:cNvPicPr/>
          <p:nvPr/>
        </p:nvPicPr>
        <p:blipFill>
          <a:blip r:embed="rId2"/>
          <a:stretch/>
        </p:blipFill>
        <p:spPr>
          <a:xfrm>
            <a:off x="3429000" y="1447920"/>
            <a:ext cx="5181480" cy="51814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7"/>
          <p:cNvSpPr/>
          <p:nvPr/>
        </p:nvSpPr>
        <p:spPr>
          <a:xfrm>
            <a:off x="228600" y="17524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n Enzyme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How is ATP Re-Made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reverse of the previous process occurs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0" name="Picture 6" descr="equil[1]"/>
          <p:cNvPicPr/>
          <p:nvPr/>
        </p:nvPicPr>
        <p:blipFill>
          <a:blip r:embed="rId1"/>
          <a:stretch/>
        </p:blipFill>
        <p:spPr>
          <a:xfrm>
            <a:off x="5486400" y="2819520"/>
            <a:ext cx="3173400" cy="3809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838080" y="32767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nother Enzyme is used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838080" y="49528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TP Syntheta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The ADP-ATP Cycle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35" name="Picture 3" descr="ATP-ADP Cycle"/>
          <p:cNvPicPr/>
          <p:nvPr/>
        </p:nvPicPr>
        <p:blipFill>
          <a:blip r:embed="rId1"/>
          <a:stretch/>
        </p:blipFill>
        <p:spPr>
          <a:xfrm>
            <a:off x="2057400" y="160020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8"/>
          <p:cNvSpPr/>
          <p:nvPr/>
        </p:nvSpPr>
        <p:spPr>
          <a:xfrm>
            <a:off x="304920" y="3048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TP-a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Line 9"/>
          <p:cNvSpPr/>
          <p:nvPr/>
        </p:nvSpPr>
        <p:spPr>
          <a:xfrm flipV="1">
            <a:off x="1676520" y="2057040"/>
            <a:ext cx="19047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6400800" y="26668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TP Syntheta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Line 11"/>
          <p:cNvSpPr/>
          <p:nvPr/>
        </p:nvSpPr>
        <p:spPr>
          <a:xfrm flipH="1">
            <a:off x="4723920" y="3809880"/>
            <a:ext cx="205740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Line 12"/>
          <p:cNvSpPr/>
          <p:nvPr/>
        </p:nvSpPr>
        <p:spPr>
          <a:xfrm flipH="1">
            <a:off x="3657240" y="3809880"/>
            <a:ext cx="3048120" cy="1676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5:36:14Z</dcterms:created>
  <dc:creator>Cheryl massengale</dc:creator>
  <dc:description/>
  <dc:language>en-US</dc:language>
  <cp:lastModifiedBy>LEGION</cp:lastModifiedBy>
  <dcterms:modified xsi:type="dcterms:W3CDTF">2016-12-07T12:34:45Z</dcterms:modified>
  <cp:revision>36</cp:revision>
  <dc:subject/>
  <dc:title>ADP, ATP and Cellular Respiration Powerpoint</dc:title>
</cp:coreProperties>
</file>