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6.gif" ContentType="image/gif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E99C-9CC5-4BFB-A180-D1603E7C2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2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Rep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karyot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ukaryot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ts &amp; anim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karyot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ts &amp;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2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between DNA synthesis &amp;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continues gr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ed protein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2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between DNA synthesis &amp;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continues grow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ed proteins produc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growth &amp; protein production 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’s energy used to make 2 daughter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mitosis or karyokinesis (nuclear divi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growth &amp; protein production sto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’s energy used to make 2 daughter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lled mitosis or karyokinesis (nuclear divis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Cycle of a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is a cycle with no beginning or 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fe Cycle of a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tosis is a cycle with no beginning or en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 – Resting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carrying on normal ac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en’t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metabolism is occur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before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phase – Resting St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s carrying on normal activi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mosomes aren’t visi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metabolism is occur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s before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ges of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ges of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s Undergoing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s Undergoing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coils tightly &amp; becomes visible as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embrane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eolus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migrate to 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begins to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Pr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NA coils tightly &amp; becomes visible as chromosom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clear membrane disapp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ceolus disapp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ioles migrate to po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dle begins to fo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ukaryotic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ukaryotic Chromoso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k a nucle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single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 by binary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kary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ck a nucleu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ve a single chromoso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produce by binary fi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clude bac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uman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man Chromosom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ers from centrioles attach to each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reparing to separate its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aligns its chromosomes in the middle of th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Met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dle fibers from centrioles attach to each chromoso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preparing to separate its chromosom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aligns its chromosomes in the middle of the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chromosomes ar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ers shorten so chromosomes pulled to ends of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An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chromosomes are sepa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dle fibers shorten so chromosomes pulled to ends of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totic Spi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totic Spind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of chromosomes 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late forms (pla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furrow forms(anim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 &amp; nucleolus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unc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Tel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paration of chromosomes comple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Plate forms (plant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eavage furrow forms(animal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cleus &amp; nucleolus refo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mosomes uncoi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       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t          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       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t           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im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after chromosomes sepa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s two, identical daughter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s after chromosomes separ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s two, identical daughter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late Forming in Plant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Plate Forming in Plant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in Binary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by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increase their cell mass sligh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&amp; cell components are re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ell divides into 2 daughter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ps in Binary Fi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d by bac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s increase their cell mass slight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NA &amp; cell components are replic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cell divides into 2 daughter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Fission of Bacterial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inary Fission of Bacterial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Coli Dividing by Binary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 Coli Dividing by Binary Fi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a nucleus &amp; membrane bound organel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ly reproduce cells by 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ukary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ain a nucleus &amp; membrane bound organel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exually reproduce cells by mit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ges in growth &amp;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1 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2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Cyc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ges in growth &amp; di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1 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2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ytokine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1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growth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increases in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repares to copy its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1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rst growth st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increases in siz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ll prepares to copy its D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 of all of DNA’s 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du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ynthesis Ph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ying of all of DNA’s instru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mosomes duplic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36B0-9194-4C47-9BA5-A352F590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AD88-B9D6-4999-B473-40E5238A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F7486-232C-4073-B27B-93D5C1F8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121CA-7B15-4443-BBDF-22F88E03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F75CA-AE35-4767-8BD8-462E5635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85177-7D6A-4DB0-A7CE-89DBF2C6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12337-87AB-4369-BE1F-0EE9DA23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B2EDC-2316-42CA-BC30-7D9EFC89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CE54F-E2F2-444A-A72F-7990F8E6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753B03-0CC4-4603-89ED-45F442D09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36564-6F4B-4240-9584-E705C8F34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185FA6-D93E-4ABE-A8C8-82CEC1C13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C63B-02C3-49DD-84D0-EC038160F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BF532-8AE7-4BA5-B93E-6F48AC59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DA3E44-0839-48CB-BDC5-98008991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FA362-4AAF-42DF-9105-F40DB3FC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63554-D343-4B67-A4AF-6EE7143E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406E8-59C5-4076-9482-B4778363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E5FB4-436A-4104-B43F-EF74E229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56A45-2065-4312-9B94-EE9BE00B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218F9-E1CF-4F06-A73F-02D00C9A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184897-F40C-4655-941A-2B0BE804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D7108-9268-4282-B836-AF08A5E9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F004-B8B8-4CB1-93D5-8F8A4AA41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D8CED-2F3A-495D-BE84-7D5AAB81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6D60C-1589-4BF4-9851-AE66B645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A0F4F-5F5B-4A0F-834B-77FD9E39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9E098-5ABD-427A-A339-BD68F2C3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66D12-7F7C-42EC-91F6-F77A7638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3F6BD-A99E-4283-A316-56C68E7B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4AEF8-7698-406E-BF76-1A041881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EE198-A8BA-40D9-A19F-7911ABAA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1B5A8-FB69-4D62-A229-8CFD8DBC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DE35C-1065-4563-988F-3662D967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BAAA-35F3-4EFC-8476-EED8062BE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D638E-5B89-42EB-80E5-24924260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F312D-BC68-4602-A9E2-072261AE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DA57B-8F43-4A93-B0FF-8F074691B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20EFBA-A1D4-4F46-93F9-3353F8C2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E3C14B-D883-4FB8-BD27-8361104C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839352-9063-4389-953B-38E9E939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0A8A82-D0D9-4934-85DA-826FEBB1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4CFB1F-209D-4A12-A174-E1993723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AD9677-9BCA-4E4A-8260-68188F2D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89A906-DC5D-4672-940D-82B0229F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B3C1-70A3-4838-802F-B11054B7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ABD66-7BD6-4FDC-AF37-098F2EFA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989CD7-E39C-4337-A522-181555A8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A59F9-6755-4963-B3CD-66939501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F0FEE0-6997-4F25-AF2E-748A962B1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4B3BF3-A2CF-4761-8D60-7BABFECDB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CA7B9F-6FAB-48ED-93F4-ADC36877A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11D747-A498-4CA8-911E-5E79AFA0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05DA48-16E7-4F2C-8069-697D3776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66EC34-5228-4632-A556-B03E6CA9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383AFE-876A-47F5-80D0-1B33B6F6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860E-21D4-430B-85B2-86B93125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823842-EACE-4C60-8033-E1BD276C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1B05D8-471A-4577-A635-BDCFCC4A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AAE9F9-DF19-481D-BC31-32961F82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CD9009-45FB-4955-BF68-58CF74C4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603CB6-8429-4739-91F0-E209F7CD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361CCC-3310-4918-ADC1-2CD751D15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CFA0E1-AF87-4C94-B983-777C3CD82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5968CB-0E35-40A3-A563-65C77EBE0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CA7CBA-2089-4704-A462-550A1BE5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B9D950-9299-4647-9531-303C24C2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A5FE-9018-4C6B-830D-AD0B9375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7699E4-6314-4DAB-AD4F-7ADBC9F0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4C95E3-A058-457D-ACC8-A4B82E28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9D6D28-C9B2-420D-803B-A688F3D6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79543D-98DD-424A-87A8-B9BE487D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1F786C-FF41-4628-A637-C0779167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CDA50C-CA5D-41D4-8CDB-96D07C62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3DE29D-79E6-4B0B-B669-667C3244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2C0E7B-BFD7-423B-835F-744E82ED8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8B5B44-F13F-4132-82A2-C34B65F4D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16AA-EA72-48A7-A15D-D3D56383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8460-BCE2-49FD-B97B-1EDD5B35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5153-F739-49F7-B402-BE973CE7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3628-4887-4DBE-892F-A695D707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8423-975D-42AB-BB64-9AC31BF3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FE7C-EA76-4ADF-9082-D0FF7FF4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F3A1-67B4-445F-900E-D7172B68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AB62-6D16-4F64-854F-6D4A2F537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A5C2-222C-4228-906E-9373B9AC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2C0A2-FF90-4A40-863C-5693257E1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A0760-1DE9-40CA-A214-6FCA4F8C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82361-C93B-4C3C-9162-512AB3EE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815F4-26A2-4A01-96D9-DEBBCAA0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F0519-84A5-4751-93D0-E8ADE203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622D-3D57-4742-835D-9F5870FD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4350C-0A05-4A4C-9BFB-53488198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30FEB-90DC-49D8-AE05-5E03ADB7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FDCF0-677D-4244-9586-90333E62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8A86D-4A81-4FE5-9809-3DC396A4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25A98-AAA6-4F92-A21B-BF0B3A7F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1A97B-F646-4193-82BE-59470A3C0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B1F47-0E02-422A-ABF8-C4A28F6CD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BBFC7-526D-4B0F-A3B7-EF1EC2870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FCA70-06C7-4BB9-B4F4-5A7F6602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4C141-25B0-4B65-A36D-527E5AE6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1CB0-9896-4332-9865-E723BEE6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2BD1A-FF0B-409C-B849-1D066D15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39CAF-F874-4164-BC17-027DCE93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86416-4D78-4F4B-95CB-A434C43A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D86A3-6C04-4C3F-852B-6A2084FD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7AECE-B956-40D6-9F2F-6DD6C0C6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5D753-7EB9-49B7-B43C-E83F987E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3F0BA-2B23-4A78-94C7-92F25249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29247-2BBC-4279-990F-D7CA44C44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B59DE-EE01-4307-BAC6-FE0EAD7D8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AF393-2030-42A9-A463-C997F354E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736F-0C71-4983-9816-7490A216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BDC35-C58C-4B7C-A7F2-DE04A4BC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B62EE-301F-4B47-9D6A-EAA8C8C8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FF58D-3D02-48B2-98E1-C54D858E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CEB3C-A883-4C05-9EAD-CF203C00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96064-E352-4418-92A9-6ED8D873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99537-8955-450F-A4D1-4B1C54F2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BF5E4-5191-4CFF-B53C-1CB5E6E5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935AE-8A74-48DA-A904-B3755551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927AC-6B3F-4F4D-B4C9-0C65812D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E2643-A76F-4565-8A62-988B6EED1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164F-5D1E-4743-93CA-592BEC86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A3488-18DB-4FB8-98F7-763DCAAA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D2E1B-036E-43A8-911D-30D50BBA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ACA69-91E9-46A4-AEC7-E121F8C0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11892-E678-4FC6-9A4F-22F8801A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B4982-0B57-4F61-83B2-A8E321C0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B8947-4F43-4438-A5EB-01AB91D1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B0D4F-0ABB-4E89-8499-A1283ACA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BEF1C-E9E0-4908-BF2E-820241C1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5C4A7-9796-4999-8B7F-3C24DE6B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14237-70B5-4183-AE30-1956684C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65C2-FB6C-41D8-9C62-123618E3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0E718-D96D-4A34-9786-A2A12045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1CF50-75DA-4F99-926D-20A290644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016CB-E049-47A6-A59E-B1BF36C46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B6DBA-9FA1-4389-8664-56806FB1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6D658-DE96-474E-9AFB-0D9F550B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41537-3704-41AC-8655-0FD98BB1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8E5B4-A7B0-46D5-B166-5B95A5F3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30EA5-BE32-49A4-8ADA-7057387F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42302-A93C-4F27-9AB8-9213316E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F580F-6063-4BF0-96D7-ED7B9BDD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809C-B2E1-49B7-B63F-566F0429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E175A-6B61-467C-A200-AE41CE34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4C8DB-84BB-47F4-ADE3-2060373A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4519F-8EA1-4399-B139-261260D5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282D0-0CC2-437E-9A12-BD17C88A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40043-1D63-4492-BC47-DF8C618C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3D2E6-CBED-4287-864B-9BFC89F03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D4EFD-19F4-4D07-9759-B58576E5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6B747-AF82-4AE3-92FD-AAF19817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B332A-3EBB-4FFD-B4E5-A9482852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7A06B-87F6-4795-840C-34DFE228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D211-7BBA-4840-AEF7-EFD57D7C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D3D84-BBA2-4103-9097-FF3D7746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6012F-7250-44E6-9442-E3D26CE3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BC5B6-B60E-48C3-B7C8-AFD09D78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3E7D7-1D60-4691-B268-AEAB1F6E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05830-BAB1-4334-8914-284B4177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C683A-09B8-44F5-9872-0BDEE02A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1F3D1-0CA4-4861-9EF6-15857A20D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D6367-09F8-420C-8FB2-9F780FB94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947E2-A820-442F-97D5-F9072BE9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699B4-3B1E-40D3-A7CA-5A8FEFED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1317-9266-42CA-9FB8-A8F850BE41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9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91B8-B036-48DB-8830-826B957D90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4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528C-1298-42A4-B3F0-3FBE5742FC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8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943D-6391-4005-9BE8-3388AECB8C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52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2B71-1303-4339-8F76-0B00116E87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57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FB7E-790D-43D9-BA08-3BBD1378CF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9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8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1B44-A0CF-4338-944B-87690F1588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4C81-A95F-499D-BB94-E97535CB80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3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CF03-DA90-449B-98AF-B39DB1C44B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7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3522-B119-4A7C-9540-6C1C2F342B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22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D517-9EA7-45ED-A85A-658BCADECE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26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560A-3664-4501-B3BA-651184F2CC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0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907C-AC27-4E30-86B4-D1DF31A656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5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AEC6-60DE-4CCA-B89E-6A25742931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indquest.net/biology/images/histology/anaphase-allium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ell Reprod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Prokaryotes</a:t>
            </a:r>
            <a:br>
              <a:rPr sz="3600"/>
            </a:b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	</a:t>
            </a: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Bacte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    </a:t>
            </a: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Eukaryotes</a:t>
            </a:r>
            <a:br>
              <a:rPr sz="3600"/>
            </a:b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	</a:t>
            </a: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Plants &amp; anim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5" name="Picture 7" descr="plant"/>
          <p:cNvPicPr/>
          <p:nvPr/>
        </p:nvPicPr>
        <p:blipFill>
          <a:blip r:embed="rId1"/>
          <a:stretch/>
        </p:blipFill>
        <p:spPr>
          <a:xfrm>
            <a:off x="5867280" y="2286000"/>
            <a:ext cx="2895840" cy="3548160"/>
          </a:xfrm>
          <a:prstGeom prst="rect">
            <a:avLst/>
          </a:prstGeom>
          <a:ln w="0">
            <a:noFill/>
          </a:ln>
        </p:spPr>
      </p:pic>
      <p:sp>
        <p:nvSpPr>
          <p:cNvPr id="6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2 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Time between DNA synthesis &amp; mito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 continues grow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Needed proteins produc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 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 growth &amp; protein production 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’s energy used to make 2 daughter cel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alled mitosis or karyokinesis (nuclear division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fe Cycle of a Cel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60" name="Picture 4" descr="mitosis"/>
          <p:cNvPicPr/>
          <p:nvPr/>
        </p:nvPicPr>
        <p:blipFill>
          <a:blip r:embed="rId1"/>
          <a:stretch/>
        </p:blipFill>
        <p:spPr>
          <a:xfrm>
            <a:off x="2438280" y="1752480"/>
            <a:ext cx="4343400" cy="365760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9"/>
          <p:cNvSpPr/>
          <p:nvPr/>
        </p:nvSpPr>
        <p:spPr>
          <a:xfrm>
            <a:off x="709560" y="5715000"/>
            <a:ext cx="77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 Rounded MT Bold"/>
              </a:rPr>
              <a:t>Mitosis is a cycle with n</a:t>
            </a: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o</a:t>
            </a:r>
            <a:r>
              <a:rPr b="1" lang="en-US" sz="2800" spc="-1" strike="noStrike">
                <a:solidFill>
                  <a:srgbClr val="ffcc66"/>
                </a:solidFill>
                <a:latin typeface="Arial Rounded MT Bold"/>
              </a:rPr>
              <a:t> beginning or en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phase – Resting Sta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s carrying on normal activ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hromosomes aren’t visi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metabolism is occurr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Occurs before mito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2" descr="allium2"/>
          <p:cNvPicPr/>
          <p:nvPr/>
        </p:nvPicPr>
        <p:blipFill>
          <a:blip r:embed="rId1"/>
          <a:stretch/>
        </p:blipFill>
        <p:spPr>
          <a:xfrm>
            <a:off x="1447920" y="1981080"/>
            <a:ext cx="6667560" cy="357372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er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ages of Mit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 Rounded MT Bold"/>
              </a:rPr>
              <a:t>Proph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 Rounded MT Bold"/>
              </a:rPr>
              <a:t>Metaph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 Rounded MT Bold"/>
              </a:rPr>
              <a:t>Anaph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Arial Rounded MT Bold"/>
              </a:rPr>
              <a:t>Telopha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ells Undergoing Mit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73" name="Picture 4" descr="Onion root tip cells undergoing mitosi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2133720"/>
            <a:ext cx="5867280" cy="4014720"/>
          </a:xfrm>
          <a:prstGeom prst="rect">
            <a:avLst/>
          </a:prstGeom>
          <a:ln w="0">
            <a:noFill/>
          </a:ln>
        </p:spPr>
      </p:pic>
      <p:sp>
        <p:nvSpPr>
          <p:cNvPr id="6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Pro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DNA coils tightly &amp; becomes visible as chromoso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Nuclear membrane disapp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Nuceolus disapp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Centrioles migrate to po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Spindle begins to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79" name="Picture 4" descr="56844b"/>
          <p:cNvPicPr/>
          <p:nvPr/>
        </p:nvPicPr>
        <p:blipFill>
          <a:blip r:embed="rId1"/>
          <a:stretch/>
        </p:blipFill>
        <p:spPr>
          <a:xfrm>
            <a:off x="1905120" y="1981080"/>
            <a:ext cx="5486400" cy="4324320"/>
          </a:xfrm>
          <a:prstGeom prst="rect">
            <a:avLst/>
          </a:prstGeom>
          <a:ln w="0">
            <a:noFill/>
          </a:ln>
        </p:spPr>
      </p:pic>
      <p:sp>
        <p:nvSpPr>
          <p:cNvPr id="6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ukaryotic Chromoso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82" name="Picture 0" descr="chromosome1"/>
          <p:cNvPicPr/>
          <p:nvPr/>
        </p:nvPicPr>
        <p:blipFill>
          <a:blip r:embed="rId1"/>
          <a:stretch/>
        </p:blipFill>
        <p:spPr>
          <a:xfrm>
            <a:off x="1523880" y="2743200"/>
            <a:ext cx="6058080" cy="2811600"/>
          </a:xfrm>
          <a:prstGeom prst="rect">
            <a:avLst/>
          </a:prstGeom>
          <a:ln w="0">
            <a:noFill/>
          </a:ln>
        </p:spPr>
      </p:pic>
      <p:sp>
        <p:nvSpPr>
          <p:cNvPr id="6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karyo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Lack a nucleu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Have a single chromos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Reproduce by binary fiss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 Rounded MT Bold"/>
              </a:rPr>
              <a:t>Include bacte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uman Chromosom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85" name="Picture 0" descr="karyotyp"/>
          <p:cNvPicPr/>
          <p:nvPr/>
        </p:nvPicPr>
        <p:blipFill>
          <a:blip r:embed="rId1"/>
          <a:stretch/>
        </p:blipFill>
        <p:spPr>
          <a:xfrm>
            <a:off x="1143000" y="2590920"/>
            <a:ext cx="6477120" cy="3047760"/>
          </a:xfrm>
          <a:prstGeom prst="rect">
            <a:avLst/>
          </a:prstGeom>
          <a:ln w="0">
            <a:noFill/>
          </a:ln>
        </p:spPr>
      </p:pic>
      <p:sp>
        <p:nvSpPr>
          <p:cNvPr id="6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Meta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Spindle fibers from centrioles attach to each chromoso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preparing to separate its chromosom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aligns its chromosomes in the middle of the c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3" descr="allium1"/>
          <p:cNvPicPr/>
          <p:nvPr/>
        </p:nvPicPr>
        <p:blipFill>
          <a:blip r:embed="rId1"/>
          <a:stretch/>
        </p:blipFill>
        <p:spPr>
          <a:xfrm>
            <a:off x="1028880" y="1828800"/>
            <a:ext cx="7086600" cy="425772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ta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Ana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chromosomes are separa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Spindle fibers shorten so chromosomes pulled to ends of ce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itotic Spind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97" name="Picture 4" descr="spindle"/>
          <p:cNvPicPr/>
          <p:nvPr/>
        </p:nvPicPr>
        <p:blipFill>
          <a:blip r:embed="rId1"/>
          <a:stretch/>
        </p:blipFill>
        <p:spPr>
          <a:xfrm>
            <a:off x="1752480" y="2286000"/>
            <a:ext cx="5635800" cy="3965400"/>
          </a:xfrm>
          <a:prstGeom prst="rect">
            <a:avLst/>
          </a:prstGeom>
          <a:ln w="0">
            <a:noFill/>
          </a:ln>
        </p:spPr>
      </p:pic>
      <p:sp>
        <p:nvSpPr>
          <p:cNvPr id="6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3" descr="allium3"/>
          <p:cNvPicPr/>
          <p:nvPr/>
        </p:nvPicPr>
        <p:blipFill>
          <a:blip r:embed="rId1"/>
          <a:stretch/>
        </p:blipFill>
        <p:spPr>
          <a:xfrm>
            <a:off x="1066680" y="1828800"/>
            <a:ext cx="7086600" cy="425772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na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Telo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Separation of chromosomes comple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ell Plate forms (plant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leavage furrow forms(animal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Nucleus &amp; nucleolus refo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Rounded MT Bold"/>
              </a:rPr>
              <a:t>Chromosomes uncoi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elo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7" name="Picture 7" descr="daughtercells"/>
          <p:cNvPicPr/>
          <p:nvPr/>
        </p:nvPicPr>
        <p:blipFill>
          <a:blip r:embed="rId1"/>
          <a:stretch/>
        </p:blipFill>
        <p:spPr>
          <a:xfrm>
            <a:off x="4876920" y="2133720"/>
            <a:ext cx="3886200" cy="380988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19" descr="Telophase (in center)"/>
          <p:cNvPicPr/>
          <p:nvPr/>
        </p:nvPicPr>
        <p:blipFill>
          <a:blip r:embed="rId2"/>
          <a:stretch/>
        </p:blipFill>
        <p:spPr>
          <a:xfrm>
            <a:off x="609480" y="2133720"/>
            <a:ext cx="3810240" cy="380988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20"/>
          <p:cNvSpPr/>
          <p:nvPr/>
        </p:nvSpPr>
        <p:spPr>
          <a:xfrm>
            <a:off x="1732680" y="6093000"/>
            <a:ext cx="24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</a:t>
            </a:r>
            <a:r>
              <a:rPr b="1" lang="en-US" sz="2400" spc="-1" strike="noStrike">
                <a:solidFill>
                  <a:srgbClr val="ffcc66"/>
                </a:solidFill>
                <a:latin typeface="Arial Rounded MT Bold"/>
              </a:rPr>
              <a:t>Pla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Text Box 22"/>
          <p:cNvSpPr/>
          <p:nvPr/>
        </p:nvSpPr>
        <p:spPr>
          <a:xfrm>
            <a:off x="6509160" y="6132600"/>
            <a:ext cx="12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 Rounded MT Bold"/>
              </a:rPr>
              <a:t>Ani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ytokine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Occurs after chromosomes separ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Forms two, identical daughter cel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ytokine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716" name="Picture 3" descr="teloph"/>
          <p:cNvPicPr/>
          <p:nvPr/>
        </p:nvPicPr>
        <p:blipFill>
          <a:blip r:embed="rId1"/>
          <a:stretch/>
        </p:blipFill>
        <p:spPr>
          <a:xfrm>
            <a:off x="1600200" y="1679400"/>
            <a:ext cx="5638680" cy="383544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0"/>
          <p:cNvSpPr/>
          <p:nvPr/>
        </p:nvSpPr>
        <p:spPr>
          <a:xfrm flipH="1">
            <a:off x="1219320" y="571644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Rounded MT Bold"/>
              </a:rPr>
              <a:t>Cell Plate Forming in Plant C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eps in Binary Fi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Used by bacte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Cells increase their cell mass sligh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DNA &amp; cell components are replic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Each cell divides into 2 daughter ce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2" name="Picture 8" descr="Binary Fission of rod-shaped bacterial cell"/>
          <p:cNvPicPr/>
          <p:nvPr/>
        </p:nvPicPr>
        <p:blipFill>
          <a:blip r:embed="rId1"/>
          <a:stretch/>
        </p:blipFill>
        <p:spPr>
          <a:xfrm>
            <a:off x="5105520" y="266688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6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inary Fission of Bacterial Cel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35" name="Picture 4" descr="69091a"/>
          <p:cNvPicPr/>
          <p:nvPr/>
        </p:nvPicPr>
        <p:blipFill>
          <a:blip r:embed="rId1"/>
          <a:stretch/>
        </p:blipFill>
        <p:spPr>
          <a:xfrm>
            <a:off x="1600200" y="2133720"/>
            <a:ext cx="5257800" cy="4173480"/>
          </a:xfrm>
          <a:prstGeom prst="rect">
            <a:avLst/>
          </a:prstGeom>
          <a:ln w="0">
            <a:noFill/>
          </a:ln>
        </p:spPr>
      </p:pic>
      <p:sp>
        <p:nvSpPr>
          <p:cNvPr id="6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. Coli Dividing by Binary Fi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38" name="Picture 5" descr="96444c"/>
          <p:cNvPicPr/>
          <p:nvPr/>
        </p:nvPicPr>
        <p:blipFill>
          <a:blip r:embed="rId1"/>
          <a:stretch/>
        </p:blipFill>
        <p:spPr>
          <a:xfrm>
            <a:off x="1143000" y="2068560"/>
            <a:ext cx="7086600" cy="4253040"/>
          </a:xfrm>
          <a:prstGeom prst="rect">
            <a:avLst/>
          </a:prstGeom>
          <a:ln w="0">
            <a:noFill/>
          </a:ln>
        </p:spPr>
      </p:pic>
      <p:sp>
        <p:nvSpPr>
          <p:cNvPr id="6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ukaryo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ontain a nucleus &amp; membrane bound organel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Asexually reproduce cells by mito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ell Cyc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Stages in growth &amp; div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G1 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S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G2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M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 Rounded MT Bold"/>
              </a:rPr>
              <a:t>Cytokin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5" name="Picture 7" descr="cellcycle"/>
          <p:cNvPicPr/>
          <p:nvPr/>
        </p:nvPicPr>
        <p:blipFill>
          <a:blip r:embed="rId1"/>
          <a:stretch/>
        </p:blipFill>
        <p:spPr>
          <a:xfrm>
            <a:off x="4648320" y="2286000"/>
            <a:ext cx="3809880" cy="3611520"/>
          </a:xfrm>
          <a:prstGeom prst="rect">
            <a:avLst/>
          </a:prstGeom>
          <a:ln w="0">
            <a:noFill/>
          </a:ln>
        </p:spPr>
      </p:pic>
      <p:sp>
        <p:nvSpPr>
          <p:cNvPr id="6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1 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First growth st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 increases in siz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ell prepares to copy its DN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ynthesis Ph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opying of all of DNA’s instruc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 Rounded MT Bold"/>
              </a:rPr>
              <a:t>Chromosomes duplicat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8T22:28:00Z</dcterms:created>
  <dc:creator>Cheryl Massengale</dc:creator>
  <dc:description/>
  <dc:language>en-US</dc:language>
  <cp:lastModifiedBy>LEGION</cp:lastModifiedBy>
  <dcterms:modified xsi:type="dcterms:W3CDTF">2016-12-07T12:34:55Z</dcterms:modified>
  <cp:revision>26</cp:revision>
  <dc:subject/>
  <dc:title>cell reproduction</dc:title>
</cp:coreProperties>
</file>