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6.gif" ContentType="image/gif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2682-035D-4A3A-8A5B-77AC3DA7B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2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Rep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karyot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ukaryot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ts &amp; anim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karyot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ts &amp;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2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between DNA synthesis &amp;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continues gr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ed protein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2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 between DNA synthesis &amp;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continues grow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eded proteins produc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growth &amp; protein production 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’s energy used to make 2 daughter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mitosis or karyokinesis (nuclear divi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growth &amp; protein production sto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’s energy used to make 2 daughter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lled mitosis or karyokinesis (nuclear divis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Cycle of a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is a cycle with no beginning or 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fe Cycle of a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tosis is a cycle with no beginning or en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 – Resting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carrying on normal acti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aren’t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metabolism is occur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before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phase – Resting St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s carrying on normal activi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mosomes aren’t visi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metabolism is occur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s before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ges of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ges of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ls Undergoing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s Undergoing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coils tightly &amp; becomes visible as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embrane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eolus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migrate to 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begins to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Pr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NA coils tightly &amp; becomes visible as chromosom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clear membrane disapp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ceolus disapp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ntrioles migrate to po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indle begins to for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ukaryotic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ukaryotic Chromoso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k a nucle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single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e by binary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kary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ck a nucleu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ve a single chromoso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produce by binary fis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clude bac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uman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man Chromosom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ers from centrioles attach to each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reparing to separate its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aligns its chromosomes in the middle of th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Met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indle fibers from centrioles attach to each chromoso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preparing to separate its chromosom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aligns its chromosomes in the middle of the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chromosomes ar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ers shorten so chromosomes pulled to ends of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An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chromosomes are sepa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indle fibers shorten so chromosomes pulled to ends of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totic Spi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totic Spind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of chromosomes 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late forms (pla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furrow forms(anim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 &amp; nucleolus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unc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Tel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paration of chromosomes comple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Plate forms (plant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eavage furrow forms(animal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cleus &amp; nucleolus refor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mosomes uncoi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       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t           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       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t           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im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after chromosomes sepa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s two, identical daughter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s after chromosomes separ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s two, identical daughter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late Forming in Plant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Plate Forming in Plant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Binary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by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increase their cell mass sligh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&amp; cell components are re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ell divides into 2 daughter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Binary Fis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d by bac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s increase their cell mass slight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NA &amp; cell components are replic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cell divides into 2 daughter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Fission of Bacterial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inary Fission of Bacterial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 Coli Dividing by Binary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 Coli Dividing by Binary Fis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a nucleus &amp; membrane bound organel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ly reproduce cells by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ukary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ain a nucleus &amp; membrane bound organel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exually reproduce cells by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ges in growth &amp;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1 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2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Cyc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ges in growth &amp; di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1 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2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1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growth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increases in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repares to copy its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1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rst growth st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increases in siz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prepares to copy its D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 of all of DNA’s 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du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ynthesis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ing of all of DNA’s instru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mosomes duplic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902B-FA57-436F-AB52-FB539E544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2BFA-CCC9-4740-AC91-A96F3F2C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A8255-AD5D-4DAC-98C4-1E900355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BFF04-3F04-43CA-B026-B7DAA51E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DBAC1-852C-4654-8DDB-AD33295B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E8CA4A-C03C-4D9A-9635-52C76A76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BC681-F7DC-4F24-98EB-97DE8F72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E4974-B8E7-4A03-89CF-0E4A1D04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1BBBC-FF2F-4B82-BFAD-0B94F687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F8EE8-8E13-47E9-8A45-D41E595DB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F5BCAD-02DE-4BB9-976F-CE7AB560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AC0355-08F1-4974-9B25-0C44A24A2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A48A-8D4F-4883-B723-4724E7266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43F5C1-B3EE-45AB-BA36-96ED81CE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82214-B7AC-4495-953A-39B64541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A3FE03-77D5-4F7D-88D9-BA6F8CA4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2043EB-1F26-43AB-A513-B453B965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53051-8577-444D-BCF5-0B370E26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CC107-6027-4D39-B59C-F6FA3847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6B8BD5-5E80-4F82-926A-3688CA13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9C3FF-77AD-4925-934A-D50393B6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B8DFB-01BA-4F48-AFBF-363583A8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F9A9F4-016B-4B9E-BE56-3AAF3349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B791-4385-4CB0-842E-60A80A5F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021A6F-3A7C-4298-B377-86064DBAC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5B4E9-502D-4535-9F52-6BF4CC2E9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E53BC-66F9-46F5-9362-6422D02C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E119F-2D84-472A-A701-6F948FC9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2BE33-B852-4967-AD50-E811F34B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BD608-9BAB-442E-AC08-E63304E2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E2806-E46E-4400-8332-31363CB8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398AA-30BF-4B07-BF33-3B3AA11A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E354A-60D9-4C2E-AD95-F8CB022F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201D5-20BE-4705-B8C0-35714393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D5D1-3376-43A6-8362-56131CDF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2B240-8FEA-481D-8363-6B60F270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A52C3-F7DA-453C-9226-71D4B109A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48823-5342-4CC6-A188-FC79A5246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A624F9-D669-4400-9735-E92A9A5C1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00A5F2-22D3-4242-9583-6533F16F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F6DDDF-2185-4D42-9FDF-92A17C34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194741-80F5-40E9-BEAE-3E4C5C36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BED024-ED5D-4E2B-95F8-A0EA48A1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E3937C-C9ED-4F1B-9FAA-3CFE5D5F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938E0B-F89B-47C1-8F7A-4ACE4641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401D-BC22-4B99-8B62-3788B6C5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C6AADE-78D1-4D4F-86AF-97C3AA00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2D4DE9-AADF-488E-B194-313B53C7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72A4AE-AF4D-4E97-B513-8C6363BD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0C0A83-1F64-4A8B-A37A-52FE791BB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E8F8A2-BAC8-412D-8AD1-88A5B5195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019FDA-FBA6-42B9-858F-DAFB2E7F8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3BBA40-57F4-485A-8C7B-F18D93A0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C89EA5-A095-4686-89B9-7202221E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23E4D6-3E5A-4D63-BC94-79D8AA47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8445F6-DA5A-4A93-99CF-B02DBF3D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F54F-0310-4C52-AE6B-F8EA90E1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045C27-55B1-49AB-99E3-FB8BD8C1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B3276D-9392-45B1-9183-08ADA38F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66A056-AE25-4016-9DFA-EABCDFBA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A0E77E-2B8E-4C02-B130-EACFA45C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4E5A9A-CE36-4F65-A94E-58366D70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75DCBF-0115-4456-B48A-1BEF8803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AE8A10-55F0-4260-A2AD-455734D12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98751F-648E-4D5C-98D0-EA0F58A61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476F24-AA50-4820-A5BC-8D795735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C70331-BE3C-431C-A00D-906A3704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58E3-F7DC-497A-AB22-18B6B28F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D077DD-C609-4D08-AA3C-B8F84225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82ECC1-5EA9-4124-8016-4AF91080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38C50F-60B5-4364-8538-F149941A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6EF806-EB64-46FD-9F02-8994D9C4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A790D8-8781-4D58-BDE5-5FF04F10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471C0A-0872-4F60-A4CB-9935FA49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402B49-1E00-4DE2-AFFC-E6168360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DECC2A-980F-4306-BEE2-EAC5CF09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2BC76A-6F65-4EBD-BC70-133C202CF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9FBA-9EAE-4EB3-B22D-E05BF15C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E5A9-BBC9-45DC-8CE1-8E5A195B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01E8-A7E1-4F7C-8ECC-131EFF88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19A3-626B-4BE1-AEAC-D24AB01D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35A9-3E40-497E-9D9A-05B50AF2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BBF7-D657-4A4D-8381-BEAC7100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43C1-3AD5-497A-BA49-FB841DC0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6D5E-73B2-4F16-88A9-B51B62A49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2D62-5369-4ABE-9951-71CD0ECA1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5981B-B6CF-4CEF-B895-E50DF43D4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DA069-22D4-4AEA-9489-2DE61F4D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B955B-58E5-4EFF-9818-0B5B1A6C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90883-339D-4C59-946B-6B109058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4B560-824D-43DF-AF5E-7211480C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7CA8-8F6E-47D6-B33C-11F10831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E884F-D2F0-4550-BA74-4D8B4A38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E5412-80FD-42DA-8912-F2CF424B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F067D-8FD9-4C41-9873-B5CCB39F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99F5D-6DE0-42DB-AA5D-4912B7FD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44F8B-17EA-474A-846E-89874DAD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7E0C6-C084-47F8-905D-099591219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D9BA0-3572-47B9-97E2-6370210BC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4B292-5552-44DD-A15E-AEDBBC25E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B8690-8818-4D81-B4A8-009788E0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D274E-5C81-4CC1-B529-346B8E1D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1E96-D77C-48FF-B744-7B227214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4312D-AD88-4AF5-B692-D931ABDE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FB598-3B78-4CF5-BD59-ADFDB465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041E2-3290-4C2E-B3EC-D2ECA684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41A65-6995-4C63-8837-317A7B58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9242B-C0BF-4C67-BE4E-14C851DE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1CA39-E5E2-417D-A826-A76CCB93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361E1-F8A6-472E-BA2F-8A2D4BDB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E5D05-205D-4E62-A901-A60A6CF6E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6E703-E91B-45B0-B6BA-E134A7989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F166F-0FBE-43B3-9467-CB101D836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67BF-0ABE-40E3-81D5-B4FC3899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57F34-C512-4AED-8D56-9E571DAE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6E0C8-AB51-4041-A1AE-4B7FBC5B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B2267-A354-4385-9D43-F29227EA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AEE47-CE20-46BB-8561-BC76D2E7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272EE-09A1-4E04-BA88-71508EF9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0E33D-DC4A-4E49-96A4-D85F263C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919F5-2574-4DD3-A74F-C83E4D79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2A16A-12B2-4626-BB8C-EF278376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487F4-E9A5-4762-9590-F73C1859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FC3C6-5131-4987-8A14-61B058EEF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713B-BFC0-485A-84AB-2244E455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085C0-B2C6-481D-A587-6601DCDA5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F1FAC-C018-47A4-8E1C-FE36133E5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8CC13-2763-4CA2-805C-743BA54B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B7CAB-D9E3-4796-8236-0BF284F1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B88F2-25A1-4104-971C-7BBE4952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CCDCF-892C-450A-AFDF-270E8472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CA9D3-8B1E-4BBD-A283-E1730456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CFA58-D864-4371-AE9D-F32A843F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C7EBD-EA23-4E36-86CE-849AC8CF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489CC-0DCF-47FB-A5A5-0B8C669B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5BEB-3B5A-4412-9795-DB251BBE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D0AF5-582B-4AB9-A4FE-D8BC1E3E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C5D4D-FF3A-4CFE-958A-40446C6C6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CB438-B46A-40FC-8220-46F2954F6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97788-DDE1-43E6-899C-8F4C87AA4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A3F1B-727F-4D88-ABE2-F9D1A6CC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617F1-D201-4991-96CC-C6821667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A1EC0-9D82-43DE-83C5-60486FB7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0B144-6681-4D87-9827-F406583A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7F973-A499-4D3E-B846-C0536FE8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B14B7-D15E-43A6-AB32-88E95B6B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8984-B15A-4859-AA8C-E3268D91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FEC57-A8FB-4B5E-8601-4DE0DC4E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F1556-DD43-49C9-AA4D-C974483B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4ABF1-A456-4FA3-8AB8-328ABCEE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DCFCC-61EC-44A4-B11B-BD02DB54C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3F743-16A7-422D-A3E5-C7E29DC6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15E39-3E45-4667-88FC-AEED204A7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2C0FE-2CDA-4B27-823B-8B6AA2F5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554BA-6FD4-445E-90B5-56590542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30276-A87A-4C20-9B8F-5062FF96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5F730-8368-4813-8238-7275643D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8EEE-86CB-4B2F-A6FD-3FB59B68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7FAD5-7BD5-4FE4-8937-9022EB64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23E85-E6D6-41ED-92FD-155FB3E1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E9C8D-C1AC-4F5A-B602-FBB6D741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ADFB5-E4B2-4F42-B458-9357CE95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2A96A-5CBA-40CF-8B1E-1B69959A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8ECC9-5E6E-4E17-BEF5-8E1A0E33D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70F89-165F-40CD-8BF3-B9EFF942B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9217B-392F-4F19-8138-21CD4F4E2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11346-9F31-4AB2-8D5C-DD75BF19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933DDC-FAC5-4F36-A452-49C145D5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4154-0FA2-4E0F-A757-31611D59BB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9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3393-9D24-4380-AD7A-651A35F469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4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BBD6-FCD6-4B51-8413-CBD42AC309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8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4266-C03E-42B1-AA7E-A78F660150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52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3A1A-E58E-49EF-A03E-41BC160F1E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57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5B1C-EEBF-4442-A9C7-59F5099A6B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9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8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8680-899F-4D15-A351-B940E20D1C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E197-C36F-4F97-B4E5-2788BEB49C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3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54BA-694B-40D3-9893-66F42C1B77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7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3153-1111-451E-A2E2-878965C1B7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22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626B-6C4B-4E06-9A7F-A8B7F72586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26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9C66-0A10-403C-81C3-B58D02177B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0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E1E5-3065-482B-AE93-107DD2A40A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5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1E79-A907-4BB5-8722-08BA6C74C5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indquest.net/biology/images/histology/anaphase-allium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ell Reprod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Prokaryotes</a:t>
            </a:r>
            <a:br>
              <a:rPr sz="3600"/>
            </a:b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	</a:t>
            </a: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Bacte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    </a:t>
            </a: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Eukaryotes</a:t>
            </a:r>
            <a:br>
              <a:rPr sz="3600"/>
            </a:b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	</a:t>
            </a: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Plants &amp; anim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5" name="Picture 7" descr="plant"/>
          <p:cNvPicPr/>
          <p:nvPr/>
        </p:nvPicPr>
        <p:blipFill>
          <a:blip r:embed="rId1"/>
          <a:stretch/>
        </p:blipFill>
        <p:spPr>
          <a:xfrm>
            <a:off x="5867280" y="2286000"/>
            <a:ext cx="2895840" cy="3548160"/>
          </a:xfrm>
          <a:prstGeom prst="rect">
            <a:avLst/>
          </a:prstGeom>
          <a:ln w="0">
            <a:noFill/>
          </a:ln>
        </p:spPr>
      </p:pic>
      <p:sp>
        <p:nvSpPr>
          <p:cNvPr id="6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2 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Time between DNA synthesis &amp; mito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 continues grow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Needed proteins produc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 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 growth &amp; protein production 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’s energy used to make 2 daughter cel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alled mitosis or karyokinesis (nuclear division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fe Cycle of a Cel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60" name="Picture 4" descr="mitosis"/>
          <p:cNvPicPr/>
          <p:nvPr/>
        </p:nvPicPr>
        <p:blipFill>
          <a:blip r:embed="rId1"/>
          <a:stretch/>
        </p:blipFill>
        <p:spPr>
          <a:xfrm>
            <a:off x="2438280" y="1752480"/>
            <a:ext cx="4343400" cy="365760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9"/>
          <p:cNvSpPr/>
          <p:nvPr/>
        </p:nvSpPr>
        <p:spPr>
          <a:xfrm>
            <a:off x="709560" y="5715000"/>
            <a:ext cx="77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 Rounded MT Bold"/>
              </a:rPr>
              <a:t>Mitosis is a cycle with n</a:t>
            </a: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o</a:t>
            </a:r>
            <a:r>
              <a:rPr b="1" lang="en-US" sz="2800" spc="-1" strike="noStrike">
                <a:solidFill>
                  <a:srgbClr val="ffcc66"/>
                </a:solidFill>
                <a:latin typeface="Arial Rounded MT Bold"/>
              </a:rPr>
              <a:t> beginning or en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phase – Resting Sta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s carrying on normal activ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hromosomes aren’t visi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metabolism is occurr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Occurs before mito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2" descr="allium2"/>
          <p:cNvPicPr/>
          <p:nvPr/>
        </p:nvPicPr>
        <p:blipFill>
          <a:blip r:embed="rId1"/>
          <a:stretch/>
        </p:blipFill>
        <p:spPr>
          <a:xfrm>
            <a:off x="1447920" y="1981080"/>
            <a:ext cx="6667560" cy="357372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ages of Mit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Arial Rounded MT Bold"/>
              </a:rPr>
              <a:t>Proph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Arial Rounded MT Bold"/>
              </a:rPr>
              <a:t>Metaph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Arial Rounded MT Bold"/>
              </a:rPr>
              <a:t>Anaph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Arial Rounded MT Bold"/>
              </a:rPr>
              <a:t>Teloph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ells Undergoing Mit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73" name="Picture 4" descr="Onion root tip cells undergoing mitosi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2133720"/>
            <a:ext cx="5867280" cy="4014720"/>
          </a:xfrm>
          <a:prstGeom prst="rect">
            <a:avLst/>
          </a:prstGeom>
          <a:ln w="0">
            <a:noFill/>
          </a:ln>
        </p:spPr>
      </p:pic>
      <p:sp>
        <p:nvSpPr>
          <p:cNvPr id="6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Pro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DNA coils tightly &amp; becomes visible as chromoso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Nuclear membrane disapp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Nuceolus disapp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Centrioles migrate to po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Spindle begins to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79" name="Picture 4" descr="56844b"/>
          <p:cNvPicPr/>
          <p:nvPr/>
        </p:nvPicPr>
        <p:blipFill>
          <a:blip r:embed="rId1"/>
          <a:stretch/>
        </p:blipFill>
        <p:spPr>
          <a:xfrm>
            <a:off x="1905120" y="1981080"/>
            <a:ext cx="5486400" cy="4324320"/>
          </a:xfrm>
          <a:prstGeom prst="rect">
            <a:avLst/>
          </a:prstGeom>
          <a:ln w="0">
            <a:noFill/>
          </a:ln>
        </p:spPr>
      </p:pic>
      <p:sp>
        <p:nvSpPr>
          <p:cNvPr id="6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ukaryotic Chromoso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82" name="Picture 0" descr="chromosome1"/>
          <p:cNvPicPr/>
          <p:nvPr/>
        </p:nvPicPr>
        <p:blipFill>
          <a:blip r:embed="rId1"/>
          <a:stretch/>
        </p:blipFill>
        <p:spPr>
          <a:xfrm>
            <a:off x="1523880" y="2743200"/>
            <a:ext cx="6058080" cy="2811600"/>
          </a:xfrm>
          <a:prstGeom prst="rect">
            <a:avLst/>
          </a:prstGeom>
          <a:ln w="0">
            <a:noFill/>
          </a:ln>
        </p:spPr>
      </p:pic>
      <p:sp>
        <p:nvSpPr>
          <p:cNvPr id="6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karyo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Lack a nucleu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Have a single chromoso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Reproduce by binary fis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Include bacte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uman Chromosom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85" name="Picture 0" descr="karyotyp"/>
          <p:cNvPicPr/>
          <p:nvPr/>
        </p:nvPicPr>
        <p:blipFill>
          <a:blip r:embed="rId1"/>
          <a:stretch/>
        </p:blipFill>
        <p:spPr>
          <a:xfrm>
            <a:off x="1143000" y="2590920"/>
            <a:ext cx="6477120" cy="3047760"/>
          </a:xfrm>
          <a:prstGeom prst="rect">
            <a:avLst/>
          </a:prstGeom>
          <a:ln w="0">
            <a:noFill/>
          </a:ln>
        </p:spPr>
      </p:pic>
      <p:sp>
        <p:nvSpPr>
          <p:cNvPr id="6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Meta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Spindle fibers from centrioles attach to each chromoso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preparing to separate its chromosom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aligns its chromosomes in the middle of the c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3" descr="allium1"/>
          <p:cNvPicPr/>
          <p:nvPr/>
        </p:nvPicPr>
        <p:blipFill>
          <a:blip r:embed="rId1"/>
          <a:stretch/>
        </p:blipFill>
        <p:spPr>
          <a:xfrm>
            <a:off x="1028880" y="1828800"/>
            <a:ext cx="7086600" cy="425772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eta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Ana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chromosomes are separa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Spindle fibers shorten so chromosomes pulled to ends of c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itotic Spind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97" name="Picture 4" descr="spindle"/>
          <p:cNvPicPr/>
          <p:nvPr/>
        </p:nvPicPr>
        <p:blipFill>
          <a:blip r:embed="rId1"/>
          <a:stretch/>
        </p:blipFill>
        <p:spPr>
          <a:xfrm>
            <a:off x="1752480" y="2286000"/>
            <a:ext cx="5635800" cy="3965400"/>
          </a:xfrm>
          <a:prstGeom prst="rect">
            <a:avLst/>
          </a:prstGeom>
          <a:ln w="0">
            <a:noFill/>
          </a:ln>
        </p:spPr>
      </p:pic>
      <p:sp>
        <p:nvSpPr>
          <p:cNvPr id="6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3" descr="allium3"/>
          <p:cNvPicPr/>
          <p:nvPr/>
        </p:nvPicPr>
        <p:blipFill>
          <a:blip r:embed="rId1"/>
          <a:stretch/>
        </p:blipFill>
        <p:spPr>
          <a:xfrm>
            <a:off x="1066680" y="1828800"/>
            <a:ext cx="7086600" cy="425772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na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Telo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Separation of chromosomes comple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Plate forms (plant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leavage furrow forms(animal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Nucleus &amp; nucleolus refo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hromosomes uncoi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elo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7" name="Picture 7" descr="daughtercells"/>
          <p:cNvPicPr/>
          <p:nvPr/>
        </p:nvPicPr>
        <p:blipFill>
          <a:blip r:embed="rId1"/>
          <a:stretch/>
        </p:blipFill>
        <p:spPr>
          <a:xfrm>
            <a:off x="4876920" y="2133720"/>
            <a:ext cx="3886200" cy="380988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19" descr="Telophase (in center)"/>
          <p:cNvPicPr/>
          <p:nvPr/>
        </p:nvPicPr>
        <p:blipFill>
          <a:blip r:embed="rId2"/>
          <a:stretch/>
        </p:blipFill>
        <p:spPr>
          <a:xfrm>
            <a:off x="609480" y="2133720"/>
            <a:ext cx="3810240" cy="380988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20"/>
          <p:cNvSpPr/>
          <p:nvPr/>
        </p:nvSpPr>
        <p:spPr>
          <a:xfrm>
            <a:off x="1732680" y="6093000"/>
            <a:ext cx="24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</a:t>
            </a:r>
            <a:r>
              <a:rPr b="1" lang="en-US" sz="2400" spc="-1" strike="noStrike">
                <a:solidFill>
                  <a:srgbClr val="ffcc66"/>
                </a:solidFill>
                <a:latin typeface="Arial Rounded MT Bold"/>
              </a:rPr>
              <a:t>Pla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Text Box 22"/>
          <p:cNvSpPr/>
          <p:nvPr/>
        </p:nvSpPr>
        <p:spPr>
          <a:xfrm>
            <a:off x="6509160" y="6132600"/>
            <a:ext cx="12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 Rounded MT Bold"/>
              </a:rPr>
              <a:t>Ani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ytokine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Occurs after chromosomes separ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Forms two, identical daughter cel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ytokine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716" name="Picture 3" descr="teloph"/>
          <p:cNvPicPr/>
          <p:nvPr/>
        </p:nvPicPr>
        <p:blipFill>
          <a:blip r:embed="rId1"/>
          <a:stretch/>
        </p:blipFill>
        <p:spPr>
          <a:xfrm>
            <a:off x="1600200" y="1679400"/>
            <a:ext cx="5638680" cy="3835440"/>
          </a:xfrm>
          <a:prstGeom prst="rect">
            <a:avLst/>
          </a:prstGeom>
          <a:ln w="0">
            <a:noFill/>
          </a:ln>
        </p:spPr>
      </p:pic>
      <p:sp>
        <p:nvSpPr>
          <p:cNvPr id="717" name="Text Box 0"/>
          <p:cNvSpPr/>
          <p:nvPr/>
        </p:nvSpPr>
        <p:spPr>
          <a:xfrm flipH="1">
            <a:off x="1219320" y="571644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Cell Plate Forming in Plant Ce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Binary Fi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Used by bacte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Cells increase their cell mass sligh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DNA &amp; cell components are replic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Each cell divides into 2 daughter ce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2" name="Picture 8" descr="Binary Fission of rod-shaped bacterial cell"/>
          <p:cNvPicPr/>
          <p:nvPr/>
        </p:nvPicPr>
        <p:blipFill>
          <a:blip r:embed="rId1"/>
          <a:stretch/>
        </p:blipFill>
        <p:spPr>
          <a:xfrm>
            <a:off x="5105520" y="266688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6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inary Fission of Bacterial Cel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35" name="Picture 4" descr="69091a"/>
          <p:cNvPicPr/>
          <p:nvPr/>
        </p:nvPicPr>
        <p:blipFill>
          <a:blip r:embed="rId1"/>
          <a:stretch/>
        </p:blipFill>
        <p:spPr>
          <a:xfrm>
            <a:off x="1600200" y="2133720"/>
            <a:ext cx="5257800" cy="4173480"/>
          </a:xfrm>
          <a:prstGeom prst="rect">
            <a:avLst/>
          </a:prstGeom>
          <a:ln w="0">
            <a:noFill/>
          </a:ln>
        </p:spPr>
      </p:pic>
      <p:sp>
        <p:nvSpPr>
          <p:cNvPr id="6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. Coli Dividing by Binary Fi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38" name="Picture 5" descr="96444c"/>
          <p:cNvPicPr/>
          <p:nvPr/>
        </p:nvPicPr>
        <p:blipFill>
          <a:blip r:embed="rId1"/>
          <a:stretch/>
        </p:blipFill>
        <p:spPr>
          <a:xfrm>
            <a:off x="1143000" y="2068560"/>
            <a:ext cx="7086600" cy="4253040"/>
          </a:xfrm>
          <a:prstGeom prst="rect">
            <a:avLst/>
          </a:prstGeom>
          <a:ln w="0">
            <a:noFill/>
          </a:ln>
        </p:spPr>
      </p:pic>
      <p:sp>
        <p:nvSpPr>
          <p:cNvPr id="6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ukaryo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ontain a nucleus &amp; membrane bound organel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Asexually reproduce cells by mito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ell Cyc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Stages in growth &amp; div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G1 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S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G2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M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Cytokin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5" name="Picture 7" descr="cellcycle"/>
          <p:cNvPicPr/>
          <p:nvPr/>
        </p:nvPicPr>
        <p:blipFill>
          <a:blip r:embed="rId1"/>
          <a:stretch/>
        </p:blipFill>
        <p:spPr>
          <a:xfrm>
            <a:off x="4648320" y="2286000"/>
            <a:ext cx="3809880" cy="3611520"/>
          </a:xfrm>
          <a:prstGeom prst="rect">
            <a:avLst/>
          </a:prstGeom>
          <a:ln w="0">
            <a:noFill/>
          </a:ln>
        </p:spPr>
      </p:pic>
      <p:sp>
        <p:nvSpPr>
          <p:cNvPr id="6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1 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First growth st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 increases in siz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 prepares to copy its DN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ynthesis 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opying of all of DNA’s instruc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hromosomes duplicat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8T22:28:00Z</dcterms:created>
  <dc:creator>Cheryl Massengale</dc:creator>
  <dc:description/>
  <dc:language>en-US</dc:language>
  <cp:lastModifiedBy>LEGION</cp:lastModifiedBy>
  <dcterms:modified xsi:type="dcterms:W3CDTF">2016-12-07T12:34:55Z</dcterms:modified>
  <cp:revision>26</cp:revision>
  <dc:subject/>
  <dc:title>cell reproduction</dc:title>
</cp:coreProperties>
</file>