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D0E3-D853-4DD1-A595-54EA4D9E8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4B2-6C22-4EFF-94E6-FDF520B4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AA7-AEB9-4E79-A14A-56918563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E2E85-E323-4EDF-9CEB-145D13DB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F149D-D907-44BC-9997-29D0EADC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BC8CE-D7E0-4437-A0A7-C38CAE9F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A28A3-2E60-4D66-B858-A7818CF9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1BFC4-6BAF-4A4C-B6F4-67FD02E2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22025-E159-4E4A-92A7-9CF19973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36292-C647-464F-B9E4-68224D69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84075-D2DF-4130-B156-8450079E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47F20-D54E-429E-8BCC-362C273F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CFA73-5B30-4FAB-B11E-41A587E5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9C6-E3B1-4742-A687-6AAC55F2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E16F3-9B9F-41D3-98D8-BF0AADFE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B7990-9A54-47B8-853D-765ADA6B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3E98F-0CF5-42F7-9132-973C9478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3D29F-BEE1-48B9-A71D-B1DB732A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ADFE5-21D5-4B52-9C1E-F7F710BD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1AFF4-FDC4-44A3-8F43-E0413433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B8E62-58CA-4481-ACC1-7A700D61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46DB9-F489-4BE2-B2D3-F66E8DA5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BF341-5202-42C5-9046-AEBCA949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1BA9A-F612-429E-A02F-B6D546D0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419-AA5A-4040-833C-DF3549B4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8F892-7312-46DA-AB55-91758B5A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69D21-FB61-489A-BDE7-48C94694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42309-3186-4C9C-8CE1-A8463622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354B6-D55A-4A73-8287-BFF64F3D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ECDA3-0727-4693-B7BB-E38936C3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4E92E-3E0D-47F7-A54B-98F03BBC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C5855-034C-4A90-BEFD-1686C6E9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F1673-6D23-48E5-9AA4-6706C432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EA6F2-570B-47D6-9AE0-9C866638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BF7BA-910D-4A1B-B342-BB30F65C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9818-5293-4937-B8A4-98F71A4C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142EF-8762-4AE1-9477-C35C5419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8AB2A-DA3C-48E6-9CFA-007A08C3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53B1C-D5EC-4C05-9445-4EE70B9F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F73AE-89AB-4B28-8CDB-4E8486F5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EC834-98CF-4EE3-905B-89736463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EB82A-C064-463A-B7E7-FA79E054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9C78E-6014-4B6F-AD7B-40BE6DE0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4DFFE-05CD-4FD8-A785-DB1B29ED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1F34E-EB2A-452F-846C-CBB6583B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C9554-A3F8-4A01-BA1B-D2A851B5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EC7D-0A46-48FB-9647-F2727E8A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A5615-40CB-4858-9E81-34AAA8EF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67201-AAAD-4AF9-BA48-B23A0CA6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E5F8A-88AE-4633-AF2D-7E65DB37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6DEA1-15A2-4A02-B7D8-84CAB9E1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18EF5-5F57-4622-A8C1-5830C545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BABCC-6393-43CF-8598-EDA6D453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9A6C4-DF5E-449A-920F-5C14B7BF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34DBB-9368-4DEC-ACBA-23B2912B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2C0C0-5F4D-46B7-A895-69E21160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9D788-0560-441C-9AE4-B1F62FC5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FDA5-23D4-4846-8494-624D9B95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69B5B-D79E-475E-AA81-48B21447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1F3A6-8161-4156-A8D6-8F42BC27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489DA-D351-430C-9D10-E49902E0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58288-542D-447E-B679-5D299C49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F3AC5-ACF0-42D8-B067-4DD1B591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EAC34-0F8C-4F00-A289-118BD2C3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038BE-3F45-4418-A966-F31C69A8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CB944-8FBE-4C98-904F-62287E8A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8866E-AE4E-4AF6-9DF8-99F708B7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43851-587E-4F08-931E-78AA5952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AE0C-0E9B-44B3-A7BB-C29D4117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AD37C-6762-4AA0-A470-8A870AE5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4A4F0-392C-4DC6-9183-39F058BE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DAC09-4E60-4969-8587-A902F294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03C3B-11B8-4AE2-900A-01352C53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7433B-CA28-47F8-8714-6C64E74E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CFCD9-C0BF-4FD7-A9A0-7AD15CF5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213D2-AFCF-4B55-9E65-860A25A0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680C0-EF44-47AA-BBB9-8A0EC25F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8797F0-FE83-4813-A9EE-1B93FD2D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6F05-6BB0-4EDB-98BC-F81E1106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1C3E-986E-4E88-8377-C4951A90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FAA7-F727-4FD9-9D01-3489ADB6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2D3-1000-4146-BC9A-CA199FE0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6860-3473-459B-A811-991358D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2CC2-9BCF-46DE-8D89-71151C5B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DD92-945E-46C1-8EE1-C5CF8F91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6DD4-3135-4CC9-9809-9FAC223B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6520-D933-4044-9372-031185FE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BF0E-9305-4EF7-9E43-BA898C46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06EF4-EC38-44DE-AA63-4FF64A71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6675C-4263-47F0-B1AC-419F2E5F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0519A-CE4D-4ADA-9C4F-7EB5F610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AB0B-347A-4420-A7AE-01470805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5CC-7494-410F-8E1A-605BB937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528C4-EA92-40D8-A4D3-8FEE5614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9F897-DB38-4CB4-AEB1-D58699F0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08E5-EFA5-4E01-977F-76C24E53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39301-4164-444C-B27F-AA988F35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F40B-1D80-4AC0-98E9-9D7A3656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E48E2-2A88-40FB-8C8D-8293F273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7B4D-CD5E-41A2-BF42-AD224788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9AA5-3CBD-4351-BC60-E2C34741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218BE-E982-46BB-8CF2-3B335770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3C9C1-55AB-4AC3-BC3F-6CFE4299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B44-9109-4606-8AD5-6C288A58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C47E9-26A7-4F03-B1A7-A6DAF36C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56BF3-C6BD-4BB6-BD69-0A4D8DC7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FB900-E06A-4BE2-BDC5-C065573C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EDC68-092D-4431-9803-DE46BD41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9F841-20B1-49D3-826A-E0F6CD0B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1EF46-518D-43D5-B227-116D4C38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DACA-8CC7-4F96-88C2-08AD436F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61E81-10B3-4635-A6EB-A2F7BECE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859EC-4FD7-497F-967A-6CF625F9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4781A-CD32-4992-BB2C-A3F2A59E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B2A-41AD-4555-8868-390BCC8B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44865-2CCA-43CB-9A61-0462768A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C8840-241F-4E20-A392-447356F7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85EA5-462F-490F-B05E-A9787870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AB260-745F-4B19-A4A0-78ED7217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ADDAF-DF0F-4A8F-83F2-902C00FC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D4ADE-7098-4930-8B5B-30BFD8EF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80A76-258A-4F58-926C-BA0F8CBF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D02CB-9D55-4717-9004-F9DD26EF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3EC6B-2C35-4072-A58B-FACB6B6E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BF4AA-018F-4C59-867E-027E2B8E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FE9-077F-4C9C-A1F8-A0941F48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03C46-DC11-4E1F-A1B2-19214B8A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FE7C6-99FB-4899-A6BF-0C5A89B6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F0B2D-A954-4B64-A9A9-6534E67F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C117B-FA05-478D-AB3C-1F7DCFDC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30579-2D21-46EB-9611-9F404629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9ACD4-399C-41D4-8CE7-246EA2E8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80DE8-355F-4F25-9B73-C2F72128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5F94E-40DD-45CA-8EA0-E6A6A198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F910E-8DBE-4E97-AAF3-E626FB54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F9017-20E1-49F6-92EF-BB538B5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755-7B76-4B48-B0E3-E4CF0DCD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82169-CEE5-4FD2-8F55-0A79D5B0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FA5B1-7EF3-449F-B76D-E7883E6A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3112D-65B9-497D-ABDE-F9593EE5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7AF9E-F369-4C8F-9FF8-D9E18D91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F1BAE-837E-4FA0-8ADB-4936C5BE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E184D-9A6D-4DDF-9D8B-AA71A18E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6807B-D311-4230-8B4D-BF31F56C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8F0BF-E6DA-4C0F-9E7C-C3A90D14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6CF08-9B22-4C11-9D27-80BC567D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8687A-824C-4791-A254-22560837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80E-3A8A-4A66-84FA-6B2866F6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98146-559A-468A-97C1-AD3F71F1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E2D49-04CC-46DF-99A3-0A456754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0EFB3-1BC0-486B-81E5-5110922C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E6B85-E26F-4815-A6FA-B02119BB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C6CCD-69F8-4495-9517-ECEA6F9F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EB3C5-DFF0-47B8-9A82-1A4CE169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9E7FF-0297-490F-A6AE-FD3D0B1C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4CC3C-5D4C-4820-A1D3-716D7ABA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66270-6F4E-40D6-B10B-DCF27F36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51621-7244-4F27-A01C-F04DDAC1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1BD-BAB1-4066-A88E-E7AC44F5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8329A-A64B-463B-B34B-F09BB245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8767A-0664-4387-B0AD-8F1FC085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938CF-5E67-4A00-A96E-094264D0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B59F6-8115-4E0F-9BFE-33E11DC2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035E1-232B-49B5-B243-45199D91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4BBB9-DE13-45AF-B67D-FE9497A5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24324-2179-4B57-B490-C690BD1F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6EAF1-4054-4394-AE82-8B256112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8E8E8-9213-418A-8CA6-6E808F2A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BEBD6-EE56-4C04-B910-56FC07AC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2A40-12C8-4F58-8A7A-43FB77B3E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851F-9D91-490F-A5F3-8E13EFB62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C9FF-0EFB-433D-BE6B-47F49290F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47F4-C7B7-4A3B-BFE3-02585C14D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319A-93D9-4F13-A2F1-7B1EEAF9F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7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A2B6-4240-4AC6-AA6A-2F1D87DD59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9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134B-82C0-4F69-B771-CA98DDD14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7CF3-437B-4722-891B-8CE216DE3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6619-4DDE-4029-8B65-2D85B6009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4415-AD03-4CE4-9012-8FDCE50377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C4E1-5D54-4A87-94D8-A7611C00F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2CCB-BA22-40FC-9066-4C04521D9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E95B-7D6B-4D1F-900F-C2C0B8A65B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FF07-0D22-4A3F-AB2D-2A1391B9B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quest.net/biology/images/histology/anaphase-allium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Rep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ro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Eu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5" name="Picture 7" descr="plant"/>
          <p:cNvPicPr/>
          <p:nvPr/>
        </p:nvPicPr>
        <p:blipFill>
          <a:blip r:embed="rId1"/>
          <a:stretch/>
        </p:blipFill>
        <p:spPr>
          <a:xfrm>
            <a:off x="5867280" y="2286000"/>
            <a:ext cx="2895840" cy="354816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2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Time between DNA synthesis &amp;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continues grow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Needed proteins produc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growth &amp; protein production 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’s energy used to make 2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alled mitosis or karyokinesis (nuclear divis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fe Cycle of a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60" name="Picture 4" descr="mitosis"/>
          <p:cNvPicPr/>
          <p:nvPr/>
        </p:nvPicPr>
        <p:blipFill>
          <a:blip r:embed="rId1"/>
          <a:stretch/>
        </p:blipFill>
        <p:spPr>
          <a:xfrm>
            <a:off x="2438280" y="175248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9"/>
          <p:cNvSpPr/>
          <p:nvPr/>
        </p:nvSpPr>
        <p:spPr>
          <a:xfrm>
            <a:off x="709560" y="5715000"/>
            <a:ext cx="77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Mitosis is a cycle with n</a:t>
            </a: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o</a:t>
            </a: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 beginning or e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 – Resting St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s carrying on normal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aren’t vi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metabolism is occur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Occurs before mit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allium2"/>
          <p:cNvPicPr/>
          <p:nvPr/>
        </p:nvPicPr>
        <p:blipFill>
          <a:blip r:embed="rId1"/>
          <a:stretch/>
        </p:blipFill>
        <p:spPr>
          <a:xfrm>
            <a:off x="1447920" y="1981080"/>
            <a:ext cx="6667560" cy="35737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ges of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Pr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Met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An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Tel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s Undergoing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3" name="Picture 4" descr="Onion root tip cells undergoing mito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133720"/>
            <a:ext cx="5867280" cy="401472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DNA coils tightly &amp; becomes visible as chromos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lear membrane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eolus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ntrioles migrate to po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Spindle begins to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9" name="Picture 4" descr="56844b"/>
          <p:cNvPicPr/>
          <p:nvPr/>
        </p:nvPicPr>
        <p:blipFill>
          <a:blip r:embed="rId1"/>
          <a:stretch/>
        </p:blipFill>
        <p:spPr>
          <a:xfrm>
            <a:off x="1905120" y="1981080"/>
            <a:ext cx="5486400" cy="4324320"/>
          </a:xfrm>
          <a:prstGeom prst="rect">
            <a:avLst/>
          </a:prstGeom>
          <a:ln w="0">
            <a:noFill/>
          </a:ln>
        </p:spPr>
      </p:pic>
      <p:sp>
        <p:nvSpPr>
          <p:cNvPr id="6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ic Chromos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2" name="Picture 0" descr="chromosome1"/>
          <p:cNvPicPr/>
          <p:nvPr/>
        </p:nvPicPr>
        <p:blipFill>
          <a:blip r:embed="rId1"/>
          <a:stretch/>
        </p:blipFill>
        <p:spPr>
          <a:xfrm>
            <a:off x="1523880" y="2743200"/>
            <a:ext cx="6058080" cy="2811600"/>
          </a:xfrm>
          <a:prstGeom prst="rect">
            <a:avLst/>
          </a:prstGeom>
          <a:ln w="0">
            <a:noFill/>
          </a:ln>
        </p:spPr>
      </p:pic>
      <p:sp>
        <p:nvSpPr>
          <p:cNvPr id="6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Lack a nucle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Have a single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Reproduce by binary f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Include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uman Chromoso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5" name="Picture 0" descr="karyotyp"/>
          <p:cNvPicPr/>
          <p:nvPr/>
        </p:nvPicPr>
        <p:blipFill>
          <a:blip r:embed="rId1"/>
          <a:stretch/>
        </p:blipFill>
        <p:spPr>
          <a:xfrm>
            <a:off x="1143000" y="2590920"/>
            <a:ext cx="6477120" cy="304776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from centrioles attach to each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reparing to separate its chromoso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aligns its chromosomes in the middle of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3" descr="allium1"/>
          <p:cNvPicPr/>
          <p:nvPr/>
        </p:nvPicPr>
        <p:blipFill>
          <a:blip r:embed="rId1"/>
          <a:stretch/>
        </p:blipFill>
        <p:spPr>
          <a:xfrm>
            <a:off x="10288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chromosomes are separ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shorten so chromosomes pulled to ends of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totic Spind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7" name="Picture 4" descr="spindle"/>
          <p:cNvPicPr/>
          <p:nvPr/>
        </p:nvPicPr>
        <p:blipFill>
          <a:blip r:embed="rId1"/>
          <a:stretch/>
        </p:blipFill>
        <p:spPr>
          <a:xfrm>
            <a:off x="1752480" y="2286000"/>
            <a:ext cx="5635800" cy="3965400"/>
          </a:xfrm>
          <a:prstGeom prst="rect">
            <a:avLst/>
          </a:prstGeom>
          <a:ln w="0">
            <a:noFill/>
          </a:ln>
        </p:spPr>
      </p:pic>
      <p:sp>
        <p:nvSpPr>
          <p:cNvPr id="6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3" descr="allium3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eparation of chromosomes comple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late forms (plan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leavage furrow forms(animal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Nucleus &amp; nucleolus re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unco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7" name="Picture 7" descr="daughtercells"/>
          <p:cNvPicPr/>
          <p:nvPr/>
        </p:nvPicPr>
        <p:blipFill>
          <a:blip r:embed="rId1"/>
          <a:stretch/>
        </p:blipFill>
        <p:spPr>
          <a:xfrm>
            <a:off x="4876920" y="2133720"/>
            <a:ext cx="3886200" cy="38098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9" descr="Telophase (in center)"/>
          <p:cNvPicPr/>
          <p:nvPr/>
        </p:nvPicPr>
        <p:blipFill>
          <a:blip r:embed="rId2"/>
          <a:stretch/>
        </p:blipFill>
        <p:spPr>
          <a:xfrm>
            <a:off x="609480" y="21337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20"/>
          <p:cNvSpPr/>
          <p:nvPr/>
        </p:nvSpPr>
        <p:spPr>
          <a:xfrm>
            <a:off x="1732680" y="6093000"/>
            <a:ext cx="24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Pla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Text Box 22"/>
          <p:cNvSpPr/>
          <p:nvPr/>
        </p:nvSpPr>
        <p:spPr>
          <a:xfrm>
            <a:off x="6509160" y="61326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Occurs after chromosomes sepa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orms two, identical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16" name="Picture 3" descr="teloph"/>
          <p:cNvPicPr/>
          <p:nvPr/>
        </p:nvPicPr>
        <p:blipFill>
          <a:blip r:embed="rId1"/>
          <a:stretch/>
        </p:blipFill>
        <p:spPr>
          <a:xfrm>
            <a:off x="1600200" y="1679400"/>
            <a:ext cx="5638680" cy="38354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0"/>
          <p:cNvSpPr/>
          <p:nvPr/>
        </p:nvSpPr>
        <p:spPr>
          <a:xfrm flipH="1">
            <a:off x="1219320" y="5716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ll Plate Forming in Plant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Used by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ells increase their cell mass sligh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DNA &amp; cell components are replic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Each cell divides into 2 daughter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Picture 8" descr="Binary Fission of rod-shaped bacterial cell"/>
          <p:cNvPicPr/>
          <p:nvPr/>
        </p:nvPicPr>
        <p:blipFill>
          <a:blip r:embed="rId1"/>
          <a:stretch/>
        </p:blipFill>
        <p:spPr>
          <a:xfrm>
            <a:off x="5105520" y="26668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nary Fission of Bacterial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5" name="Picture 4" descr="69091a"/>
          <p:cNvPicPr/>
          <p:nvPr/>
        </p:nvPicPr>
        <p:blipFill>
          <a:blip r:embed="rId1"/>
          <a:stretch/>
        </p:blipFill>
        <p:spPr>
          <a:xfrm>
            <a:off x="1600200" y="2133720"/>
            <a:ext cx="5257800" cy="4173480"/>
          </a:xfrm>
          <a:prstGeom prst="rect">
            <a:avLst/>
          </a:prstGeom>
          <a:ln w="0">
            <a:noFill/>
          </a:ln>
        </p:spPr>
      </p:pic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. Coli Dividing by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8" name="Picture 5" descr="96444c"/>
          <p:cNvPicPr/>
          <p:nvPr/>
        </p:nvPicPr>
        <p:blipFill>
          <a:blip r:embed="rId1"/>
          <a:stretch/>
        </p:blipFill>
        <p:spPr>
          <a:xfrm>
            <a:off x="1143000" y="2068560"/>
            <a:ext cx="7086600" cy="4253040"/>
          </a:xfrm>
          <a:prstGeom prst="rect">
            <a:avLst/>
          </a:prstGeom>
          <a:ln w="0">
            <a:noFill/>
          </a:ln>
        </p:spPr>
      </p:pic>
      <p:sp>
        <p:nvSpPr>
          <p:cNvPr id="6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ntain a nucleus &amp; membrane bound organel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Asexually reproduce cells by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tages in growth &amp; di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1 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2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M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ytokin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7" descr="cellcycle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3611520"/>
          </a:xfrm>
          <a:prstGeom prst="rect">
            <a:avLst/>
          </a:prstGeom>
          <a:ln w="0">
            <a:noFill/>
          </a:ln>
        </p:spPr>
      </p:pic>
      <p:sp>
        <p:nvSpPr>
          <p:cNvPr id="6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1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irst growth st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increases in s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prepares to copy its D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ynthesis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pying of all of DNA’s instruc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hromosomes duplic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22:28:00Z</dcterms:created>
  <dc:creator>Cheryl Massengale</dc:creator>
  <dc:description/>
  <dc:language>en-US</dc:language>
  <cp:lastModifiedBy>LEGION</cp:lastModifiedBy>
  <dcterms:modified xsi:type="dcterms:W3CDTF">2016-12-07T12:34:55Z</dcterms:modified>
  <cp:revision>26</cp:revision>
  <dc:subject/>
  <dc:title>cell reproduction</dc:title>
</cp:coreProperties>
</file>