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EC5C-E1C6-4E71-BB29-995A7E7F7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ET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ETIC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ROBLEM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WW    W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F2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1/4 or 25% chance for smooth-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/4 or 75% chance for wire-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WW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F2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/4 or 25% chance for smooth-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3/4 or 75% chance for wire-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ire-haired male is mated with a smooth-haired female.  The mother of the wire-haired male was smooth-hai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henotypes and genotypes of the pups they could produ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results of crossing: Ww  x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wire-haired male is mated with a smooth-haired female.  The mother of the wire-haired male was smooth-haire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phenotypes and genotypes of the pups they could produc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Show the results of crossing: Ww  x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2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napdragons, red flower (R) color is incompletely dominant over white flower (r)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terozygous (Rr) plants have pink flo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red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pink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white flow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snapdragons, red flower (R) color is incompletely dominant over white flower (r) color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 heterozygous (Rr) plants have pink flower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red flower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pink flower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white flowers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red-flowered plant is crossed with a white-flowered plant, what are the genotypes and phenotypes of the plants F1 gen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a red-flowered plant is crossed with a white-flowered plant, what are the genotypes and phenotypes of the plants F1 generati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R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pin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heterozyg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R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1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00% pink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00% heterozygo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genotypes and phenotypes will be produced in the F2 gen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genotypes and phenotypes will be produced in the F2 generati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3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RR     R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2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r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s: 1:2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s:   1:2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RR     R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2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r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s: 1:2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s:   1:2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offspring can be produced if a red-flowered plant is crossed with a pink-flowered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kinds of offspring can be produced if a red-flowered plant is crossed with a pink-flowered plan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 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0%: red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0%: pink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red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pink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different kinds of gametes could the following individuals produ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B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Dd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BbCc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mNnOoPpQ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UVVWWXXYYZ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How many different kinds of gametes could the following individuals produc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Dde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Cc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mNnOoPpQq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UUVVWWXXYYZz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ffspring is/are produced if a pink-flowered plant is crossed with a white-flowered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 x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kind of offspring is/are produced if a pink-flowered plant is crossed with a white-flowered plan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r  x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3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Rr      r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white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pink flow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3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 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        Rr      r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white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pink flowe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humans, colorblindness (cc) is a recessive sex-linked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 - fe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Y - 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humans, colorblindness (cc) is a recessive sex-linked trait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emember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X - femal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Y - mal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ormal people have a colorblind 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genotypes of the par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X_?  x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genotypes and phenotypes possible among their other childr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wo normal people have a colorblind son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genotypes of the parents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X_?  x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genotypes and phenotypes possible among their other childre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        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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     XCXC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c     XCXc 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female (one normal, one a carri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%: male (one normal, one colorbli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   Y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 parent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female (one normal, one a carrier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0%: male (one normal, one colorblind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4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ple has a colorblind dau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ossible genotypes and phenotypes of the parents and the daugh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couple has a colorblind daughter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possible genotypes and phenotypes of the parents and the daughter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4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c        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C     XCXc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c     XcXc     X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ents: XcY and XCXc or XcX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ther colorbl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ther carrier or colorbl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ughter: XcXc - colorbl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4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   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Xc     XcXc     XcY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arents: XcY and XCXc or XcX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ather colorbli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other carrier or colorbli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daughter: XcXc - colorbli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humans, the presence of freckles is due to a dominant gene (F) and the non-freckled condition is due to its recessive allele (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pled cheeks (D) are dominant to non-dimpled cheeks (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humans, the presence of freckles is due to a dominant gene (F) and the non-freckled condition is due to its recessive allele (f)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Dimpled cheeks (D) are dominant to non-dimpled cheeks (d)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persons with freckles and dimpled cheeks have two children:  one has freckles but no dimples and one has dimples but no freck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genotypes of the parents?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__D__  x  F__D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ren:  F__dd  x  ffD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wo persons with freckles and dimpled cheeks have two children:  one has freckles but no dimples and one has dimples but no freckle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genotypes of the parents?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arent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__D__  x  F__D__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hildren:  F__dd  x  ffD__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ossible phenotypes and genotypes of the children that they could produ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:   FfDd  x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dihybrid 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possible phenotypes and genotypes of the children that they could produc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ross:   FfDd  x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is is a dihybrid cros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member the formula 2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here n = # of heterozyg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Bb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CDde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BbCc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mNnOoPpQq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UVVWWXXYYZz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emember the formula 2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ere n = # of heterozygo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Ddee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ABbCc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mNnOoPpQq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3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UUVVWWXXYYZz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ssible gametes for both:  FD  Fd  fD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Fd     fD   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FFDd 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d 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ossible gametes for both:  FD  Fd  fD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Fd     fD   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FFDd 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reckles/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reckles/no 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 freckles/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 freckles/no dimples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ic ratio will always been 9:3:3:1 for all F1 dihybrid cros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reckles/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reckles/no 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 freckles/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 freckles/no dimple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ic ratio will always been 9:3:3:1 for all F1 dihybrid crosse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5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ic ratio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fdd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ic ratio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1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hild will have a genotype of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is child will have a genotype of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nswer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/1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ith freckles and dimples whose mother lacked both freckles and dimples marries a person with freckles but not dimples whose father did not have freckles or di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Dd  x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game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Fd  fD  fd  x  Fd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person with freckles and dimples whose mother lacked both freckles and dimples marries a person with freckles but not dimples whose father did not have freckles or dimple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ross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fDd  x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ossible gametes: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Fd  fD  fd  x  Fd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5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    Fd     fD      f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  FFDd   FFdd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     FfDd  Ffdd   ffDd  ff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5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  Fd     fD      f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FFDd   FFdd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d     FfDd  Ffdd   ffDd  ffd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nswer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/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teen percent of the human population is known to be able to wiggle their 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rait is determined to be a recessive ge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is a population genetics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following equation: 1 = p2 + 2pq + 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Sixteen percent of the human population is known to be able to wiggle their ear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is trait is determined to be a recessive gen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se is a population genetics question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Use the following equation: 1 = p2 + 2pq + q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6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f the population is homozygous dominant for this tra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 = 16% or .16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q2 = .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= 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us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 + 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 + 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.4 = 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use p2  for answer:  .62 = .36 or 3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6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of the population is homozygous dominant for this trai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2 = 16% or .16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q2 = .1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 = .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n use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 = p + q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 = p + .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1- .4 = p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 = .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w use p2  for answer:  .62 = .36 or 36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6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f the population is heterozygous for this tra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that  q = .4  and  p = 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use 2pq for answer:  2(.6)(.4) = .48 or 48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6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of the population is heterozygous for this trai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e know that  q = .4  and  p = .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Now use 2pq for answer:  2(.6)(.4) = .48 or 48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ogs, the inheritance of hair color involves a gene B for black hair and gene b for brown hair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ominant C is also involved.  It must be present for the color to be synthes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is gene is not present, a blond condition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, B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lack hai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, C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rown hai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l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7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dogs, the inheritance of hair color involves a gene B for black hair and gene b for brown hair b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dominant C is also involved.  It must be present for the color to be synthesize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this gene is not present, a blond condition results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B, B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black hai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, C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colo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brown hair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c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- blon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ogs, wire-haired is due to a dominant gene (W), smooth-haired is due to its recessive allele (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, Ww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wire 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mooth ha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n dogs, wire-haired is due to a dominant gene (W), smooth-haired is due to its recessive allele (w)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W, Ww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wire 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= smooth hai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7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own haired male, whose father was a blond, is mated with a black haired female, whose mother was brown haired and her father was bl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e:   bbCc (gametes:  bC  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ale: BbCc (gametes:  BC  Bc  bC  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xpected ratios of their offspr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7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A brown haired male, whose father was a blond, is mated with a black haired female, whose mother was brown haired and her father was blon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ale:   bbCc (gametes:  bC  bc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emale: BbCc (gametes:  BC  Bc  bC  bc)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is the expected ratios of their offspring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7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Bc     b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  BbCC   BbCc   bbCC  bb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c   BbCc   Bbcc   bbCc  bb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fspring rati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lack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own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lond: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/8 or 1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7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Bc     bC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  BbCC   BbCc   bbCC  bbC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c   BbCc   Bbcc   bbCc  bbc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Offspring ratios: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lack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/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rown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3/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Blond: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2/8 or 1/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Anonymous, a film star, was involved in a paternity case.  The woman bringing suit had two children, on whose blood type was A and the other whose blood type was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 blood type was O, the same as Henry’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udge in the case awarded damages to the woman damages to the woman, saying that Henry had to be the father of at least one of the child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8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Henry Anonymous, a film star, was involved in a paternity case.  The woman bringing suit had two children, on whose blood type was A and the other whose blood type was B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Her blood type was O, the same as Henry’s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he judge in the case awarded damages to the woman damages to the woman, saying that Henry had to be the father of at least one of the children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8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viously, the judge should be sentenced to Biology.  For Henry to have been the father of both children, his blood type would have had to be wh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      I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  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i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I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i     I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8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Obviously, the judge should be sentenced to Biology.  For Henry to have been the father of both children, his blood type would have had to be what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A      IB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   Answe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Ai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IBi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Ai     IBi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homozygous wire-haired dog is mated with a smooth-haired dog, what type of offspring could be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a homozygous wire-haired dog is mated with a smooth-haired dog, what type of offspring could be produced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Ww    W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g                                   F1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Ww     W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all heterozyg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A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Ww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fg                                   F1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Ww 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all heterozygo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(s) of offspring could be produced in the F2 gen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reed the F1 generation to get the F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of F1 Cross:  Ww  x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type(s) of offspring could be produced in the F2 generati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Must breed the F1 generation to get the F2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Results of F1 Cross:  Ww  x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estion #2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    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WW    W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F2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   Ww     w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otype: 1:2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enotype:  3:1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B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     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WW    Ww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      F2 genera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    Ww     ww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genotype: 1:2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phenotype:  3:1 ratio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 #2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wire-haired dogs are mated.  Among the offspring of their first litter is a smooth-haired p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se, two wire-haired dogs mate again, what are the chances that they will produce another smooth-haired p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chances that the pup will wire-haired p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Question #2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Two wire-haired dogs are mated.  Among the offspring of their first litter is a smooth-haired pup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If these, two wire-haired dogs mate again, what are the chances that they will produce another smooth-haired pup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What are the chances that the pup will wire-haired pup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998-5347-4392-98D9-05C0BEFC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FE6-5CB3-4274-B66B-22177DE1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BF9-1DAD-4B1B-B2D8-0C47C43D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F7DB-566B-4C83-9052-7727C756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CA29-E2A4-4F10-9DC0-22D37950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5714-97B8-4FF4-AF65-478F9518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FC22-DDB6-4975-9E72-0F382D28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0EE0-9112-46EE-A969-80A0BB3D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F51E-A776-45F1-9AC2-459BA983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AA2D-23C7-4D0B-B53D-9149EE5E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09C6-5233-4694-ADD7-D1BDD811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004-4CE6-453C-A572-47F8A8EF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CECF-8B49-4C12-8D13-AED2D287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60E5-0164-4327-B46E-156707C9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B941-74DC-490E-9DC1-CE03FE5E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A93D-BCA0-4A9D-906D-5F7EFD3C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2F95-267E-43BB-87D4-9526653D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4ADA-4942-4D8F-B351-05A2A394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F90-BC08-47A5-8FEA-A1CAB130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446C-8B80-4772-8177-A6EE73D2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FFC-9720-4CAB-BF97-E9DD6B16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F6D4-C410-446F-A127-907EE9D9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F2FB-2187-4DCA-8BA3-5BA08908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438-F9FB-467C-9486-96CC7E90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B93B-6023-4C04-977C-0290D5A0B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38E2-75E4-44BD-B5BC-7400D8D373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GENETIC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PROBLEMS</a:t>
            </a:r>
            <a:endParaRPr b="0" lang="en-US" sz="6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WW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1/4 or 25% chance for smooth-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3/4 or 75% chance for wire-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51" name="Group 11"/>
          <p:cNvGrpSpPr/>
          <p:nvPr/>
        </p:nvGrpSpPr>
        <p:grpSpPr>
          <a:xfrm>
            <a:off x="2057400" y="2666880"/>
            <a:ext cx="3048120" cy="2286000"/>
            <a:chOff x="2057400" y="2666880"/>
            <a:chExt cx="3048120" cy="2286000"/>
          </a:xfrm>
        </p:grpSpPr>
        <p:grpSp>
          <p:nvGrpSpPr>
            <p:cNvPr id="152" name="Group 5"/>
            <p:cNvGrpSpPr/>
            <p:nvPr/>
          </p:nvGrpSpPr>
          <p:grpSpPr>
            <a:xfrm>
              <a:off x="2057400" y="2666880"/>
              <a:ext cx="2514600" cy="2286000"/>
              <a:chOff x="2057400" y="2666880"/>
              <a:chExt cx="2514600" cy="2286000"/>
            </a:xfrm>
          </p:grpSpPr>
          <p:sp>
            <p:nvSpPr>
              <p:cNvPr id="153" name="Rectangle 6"/>
              <p:cNvSpPr/>
              <p:nvPr/>
            </p:nvSpPr>
            <p:spPr>
              <a:xfrm>
                <a:off x="2057400" y="266688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4" name="Line 7"/>
              <p:cNvSpPr/>
              <p:nvPr/>
            </p:nvSpPr>
            <p:spPr>
              <a:xfrm>
                <a:off x="3276720" y="266688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55" name="Line 8"/>
              <p:cNvSpPr/>
              <p:nvPr/>
            </p:nvSpPr>
            <p:spPr>
              <a:xfrm>
                <a:off x="2057400" y="380988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56" name="AutoShape 10"/>
            <p:cNvSpPr/>
            <p:nvPr/>
          </p:nvSpPr>
          <p:spPr>
            <a:xfrm>
              <a:off x="4648320" y="266688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5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wire-haired male is mated with a smooth-haired female.  The mother of the wire-haired male was smooth-hair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h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f the pups they could produc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how the results of crossing: Ww  x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1981080" y="2666880"/>
            <a:ext cx="2514600" cy="2286000"/>
            <a:chOff x="1981080" y="2666880"/>
            <a:chExt cx="2514600" cy="2286000"/>
          </a:xfrm>
        </p:grpSpPr>
        <p:sp>
          <p:nvSpPr>
            <p:cNvPr id="164" name="Rectangle 6"/>
            <p:cNvSpPr/>
            <p:nvPr/>
          </p:nvSpPr>
          <p:spPr>
            <a:xfrm>
              <a:off x="198108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>
              <a:off x="320040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198108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6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 snapdragons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d flower (R)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color i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completely dominant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ve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ite flower (r)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colo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heterozygous (Rr) plants have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flower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- red flower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6699"/>
                </a:solidFill>
                <a:latin typeface="Comic Sans MS"/>
              </a:rPr>
              <a:t>Rr </a:t>
            </a:r>
            <a:r>
              <a:rPr b="1" lang="en-US" sz="36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6699"/>
                </a:solidFill>
                <a:latin typeface="Comic Sans MS"/>
              </a:rPr>
              <a:t>- pink flower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r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white flower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f a </a:t>
            </a:r>
            <a:r>
              <a:rPr b="1" lang="en-US" sz="3200" spc="-1" strike="noStrike">
                <a:solidFill>
                  <a:srgbClr val="d60029"/>
                </a:solidFill>
                <a:latin typeface="Comic Sans MS"/>
              </a:rPr>
              <a:t>red-flowere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plant is crossed with 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ite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, what are the genotypes and phenotypes of the plants 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genera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x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     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     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00%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s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00%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heterozygou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981080" y="2590920"/>
            <a:ext cx="2971800" cy="2286000"/>
            <a:chOff x="1981080" y="2590920"/>
            <a:chExt cx="2971800" cy="2286000"/>
          </a:xfrm>
        </p:grpSpPr>
        <p:grpSp>
          <p:nvGrpSpPr>
            <p:cNvPr id="177" name="Group 4"/>
            <p:cNvGrpSpPr/>
            <p:nvPr/>
          </p:nvGrpSpPr>
          <p:grpSpPr>
            <a:xfrm>
              <a:off x="1981080" y="2590920"/>
              <a:ext cx="2514600" cy="2286000"/>
              <a:chOff x="1981080" y="2590920"/>
              <a:chExt cx="2514600" cy="2286000"/>
            </a:xfrm>
          </p:grpSpPr>
          <p:sp>
            <p:nvSpPr>
              <p:cNvPr id="178" name="Rectangle 5"/>
              <p:cNvSpPr/>
              <p:nvPr/>
            </p:nvSpPr>
            <p:spPr>
              <a:xfrm>
                <a:off x="1981080" y="259092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79" name="Line 6"/>
              <p:cNvSpPr/>
              <p:nvPr/>
            </p:nvSpPr>
            <p:spPr>
              <a:xfrm>
                <a:off x="3200400" y="259092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80" name="Line 7"/>
              <p:cNvSpPr/>
              <p:nvPr/>
            </p:nvSpPr>
            <p:spPr>
              <a:xfrm>
                <a:off x="1981080" y="373392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81" name="AutoShape 8"/>
            <p:cNvSpPr/>
            <p:nvPr/>
          </p:nvSpPr>
          <p:spPr>
            <a:xfrm>
              <a:off x="4572000" y="2590920"/>
              <a:ext cx="380880" cy="2286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8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genotypes and phenotypes will be produced in the F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genera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210000"/>
              </a:lnSpc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x 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 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s: 1:2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s:   1:2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1981080" y="2666880"/>
            <a:ext cx="2971800" cy="2286000"/>
            <a:chOff x="1981080" y="2666880"/>
            <a:chExt cx="2971800" cy="2286000"/>
          </a:xfrm>
        </p:grpSpPr>
        <p:grpSp>
          <p:nvGrpSpPr>
            <p:cNvPr id="189" name="Group 5"/>
            <p:cNvGrpSpPr/>
            <p:nvPr/>
          </p:nvGrpSpPr>
          <p:grpSpPr>
            <a:xfrm>
              <a:off x="1981080" y="2666880"/>
              <a:ext cx="2514600" cy="2286000"/>
              <a:chOff x="1981080" y="2666880"/>
              <a:chExt cx="2514600" cy="2286000"/>
            </a:xfrm>
          </p:grpSpPr>
          <p:sp>
            <p:nvSpPr>
              <p:cNvPr id="190" name="Rectangle 6"/>
              <p:cNvSpPr/>
              <p:nvPr/>
            </p:nvSpPr>
            <p:spPr>
              <a:xfrm>
                <a:off x="1981080" y="266688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1" name="Line 7"/>
              <p:cNvSpPr/>
              <p:nvPr/>
            </p:nvSpPr>
            <p:spPr>
              <a:xfrm>
                <a:off x="3200400" y="266688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92" name="Line 8"/>
              <p:cNvSpPr/>
              <p:nvPr/>
            </p:nvSpPr>
            <p:spPr>
              <a:xfrm>
                <a:off x="1981080" y="380988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93" name="AutoShape 9"/>
            <p:cNvSpPr/>
            <p:nvPr/>
          </p:nvSpPr>
          <p:spPr>
            <a:xfrm>
              <a:off x="4572000" y="2666880"/>
              <a:ext cx="380880" cy="2286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9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kinds of offspring can be produced if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d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s crossed with a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pink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x 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R      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        Rr      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d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00" name="Group 5"/>
          <p:cNvGrpSpPr/>
          <p:nvPr/>
        </p:nvGrpSpPr>
        <p:grpSpPr>
          <a:xfrm>
            <a:off x="2209680" y="2666880"/>
            <a:ext cx="2514600" cy="2286000"/>
            <a:chOff x="2209680" y="2666880"/>
            <a:chExt cx="2514600" cy="2286000"/>
          </a:xfrm>
        </p:grpSpPr>
        <p:sp>
          <p:nvSpPr>
            <p:cNvPr id="201" name="Rectangle 6"/>
            <p:cNvSpPr/>
            <p:nvPr/>
          </p:nvSpPr>
          <p:spPr>
            <a:xfrm>
              <a:off x="220968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2" name="Line 7"/>
            <p:cNvSpPr/>
            <p:nvPr/>
          </p:nvSpPr>
          <p:spPr>
            <a:xfrm>
              <a:off x="342900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3" name="Line 8"/>
            <p:cNvSpPr/>
            <p:nvPr/>
          </p:nvSpPr>
          <p:spPr>
            <a:xfrm>
              <a:off x="220968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0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ow many different kinds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amet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could the following individuals produce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1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aaBb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CCDde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AABbCc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MmNnOoPpQq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UUVVWWXXYYZz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kind of offspring is/are produced if a </a:t>
            </a: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pink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s crossed with 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ite-flowered plant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R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x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r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3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         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R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ite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99"/>
                </a:solidFill>
                <a:latin typeface="Comic Sans MS"/>
              </a:rPr>
              <a:t>pink flowe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2133720" y="2666880"/>
            <a:ext cx="2514600" cy="2286000"/>
            <a:chOff x="2133720" y="2666880"/>
            <a:chExt cx="2514600" cy="2286000"/>
          </a:xfrm>
        </p:grpSpPr>
        <p:sp>
          <p:nvSpPr>
            <p:cNvPr id="211" name="Rectangle 6"/>
            <p:cNvSpPr/>
            <p:nvPr/>
          </p:nvSpPr>
          <p:spPr>
            <a:xfrm>
              <a:off x="213372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335304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>
              <a:off x="213372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humans, colorblindness (cc) is a recessive sex-linked trait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member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X - femal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Y - mal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wo normal people have a colorblind s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f the parent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_?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x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ph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possible among their other children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Y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parent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 female (one normal, one a carrie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50%: male (one normal, one colorblind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1981080" y="2666880"/>
            <a:ext cx="2514600" cy="2286000"/>
            <a:chOff x="1981080" y="2666880"/>
            <a:chExt cx="2514600" cy="2286000"/>
          </a:xfrm>
        </p:grpSpPr>
        <p:sp>
          <p:nvSpPr>
            <p:cNvPr id="224" name="Rectangle 5"/>
            <p:cNvSpPr/>
            <p:nvPr/>
          </p:nvSpPr>
          <p:spPr>
            <a:xfrm>
              <a:off x="1981080" y="2666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5" name="Line 6"/>
            <p:cNvSpPr/>
            <p:nvPr/>
          </p:nvSpPr>
          <p:spPr>
            <a:xfrm>
              <a:off x="3200400" y="2666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6" name="Line 7"/>
            <p:cNvSpPr/>
            <p:nvPr/>
          </p:nvSpPr>
          <p:spPr>
            <a:xfrm>
              <a:off x="1981080" y="3809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2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 couple has 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lorblin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daughter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are the possibl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genotyp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enotyp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of the parents and the daughter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4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arents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athe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lorbli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othe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rrie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lorbli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aughter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- colorbli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3" name="Group 4"/>
          <p:cNvGrpSpPr/>
          <p:nvPr/>
        </p:nvGrpSpPr>
        <p:grpSpPr>
          <a:xfrm>
            <a:off x="2057400" y="1676520"/>
            <a:ext cx="2514600" cy="2286000"/>
            <a:chOff x="2057400" y="1676520"/>
            <a:chExt cx="2514600" cy="2286000"/>
          </a:xfrm>
        </p:grpSpPr>
        <p:sp>
          <p:nvSpPr>
            <p:cNvPr id="234" name="Rectangle 5"/>
            <p:cNvSpPr/>
            <p:nvPr/>
          </p:nvSpPr>
          <p:spPr>
            <a:xfrm>
              <a:off x="2057400" y="167652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>
              <a:off x="3276720" y="167652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>
              <a:off x="2057400" y="281952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3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humans, the presence of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reckl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s due to a dominant gen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F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th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n-freckle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condition is due to its recessive allel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f)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mpled cheeks (D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re dominant to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n-dimpled cheeks (d)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wo persons with freckles and dimpled cheeks have two children:  one has freckles but no dimples and one has dimples but no freckl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enotype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of the parents?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arents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_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x  F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hildren:  F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d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x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ff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are the possible phenotypes and genotypes of the children that they could produce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ross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  x  Ff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is is 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dihybrid cros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member the formul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er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 = # of heterozygou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aaBb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CCDdee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AABbCcDD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MmNnOoPpQq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3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UUVVWWXXYYZz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ossible gametes for both:  FD  Fd  fD  f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Fd     fD     f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FDD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FFDd 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FfDD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FfDd  Ffdd 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49" name="Group 11"/>
          <p:cNvGrpSpPr/>
          <p:nvPr/>
        </p:nvGrpSpPr>
        <p:grpSpPr>
          <a:xfrm>
            <a:off x="1295280" y="2971800"/>
            <a:ext cx="4800600" cy="3048120"/>
            <a:chOff x="1295280" y="2971800"/>
            <a:chExt cx="4800600" cy="3048120"/>
          </a:xfrm>
        </p:grpSpPr>
        <p:sp>
          <p:nvSpPr>
            <p:cNvPr id="250" name="Rectangle 4"/>
            <p:cNvSpPr/>
            <p:nvPr/>
          </p:nvSpPr>
          <p:spPr>
            <a:xfrm>
              <a:off x="1295280" y="2971800"/>
              <a:ext cx="4800600" cy="304812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1" name="Line 5"/>
            <p:cNvSpPr/>
            <p:nvPr/>
          </p:nvSpPr>
          <p:spPr>
            <a:xfrm>
              <a:off x="3733920" y="2971800"/>
              <a:ext cx="0" cy="3048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2" name="Line 6"/>
            <p:cNvSpPr/>
            <p:nvPr/>
          </p:nvSpPr>
          <p:spPr>
            <a:xfrm>
              <a:off x="2438280" y="2971800"/>
              <a:ext cx="0" cy="3048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3" name="Line 7"/>
            <p:cNvSpPr/>
            <p:nvPr/>
          </p:nvSpPr>
          <p:spPr>
            <a:xfrm>
              <a:off x="4952880" y="2971800"/>
              <a:ext cx="0" cy="3048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4" name="Line 8"/>
            <p:cNvSpPr/>
            <p:nvPr/>
          </p:nvSpPr>
          <p:spPr>
            <a:xfrm>
              <a:off x="1295280" y="449568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5" name="Line 9"/>
            <p:cNvSpPr/>
            <p:nvPr/>
          </p:nvSpPr>
          <p:spPr>
            <a:xfrm>
              <a:off x="1295280" y="373392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6" name="Line 10"/>
            <p:cNvSpPr/>
            <p:nvPr/>
          </p:nvSpPr>
          <p:spPr>
            <a:xfrm>
              <a:off x="1295280" y="525780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5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enotyp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reckles/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reckles/no 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 freckles/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 freckles/no dimples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ic ratio will always been 9:3:3:1 for all F1 dihybrid cross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Genotypic ratio: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4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2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s child will have a genotype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swer: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/16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person with freckles and dimples whose mother lacked both freckles and dimples marries a person with freckles but not dimples whose father did not have freckles or dimpl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ross: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fDd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x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fd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ossible gametes: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D  Fd  fD  fd  x  Fd  f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5D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chances that they would have a child whom lacks both freckles and dimple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D      Fd     fD      f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FFDd   FFdd  FfDd  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d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FfDd  Ffdd   ffDd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fd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swer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/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72" name="Group 12"/>
          <p:cNvGrpSpPr/>
          <p:nvPr/>
        </p:nvGrpSpPr>
        <p:grpSpPr>
          <a:xfrm>
            <a:off x="1371600" y="3581280"/>
            <a:ext cx="4800600" cy="1523880"/>
            <a:chOff x="1371600" y="3581280"/>
            <a:chExt cx="4800600" cy="1523880"/>
          </a:xfrm>
        </p:grpSpPr>
        <p:sp>
          <p:nvSpPr>
            <p:cNvPr id="273" name="Rectangle 5"/>
            <p:cNvSpPr/>
            <p:nvPr/>
          </p:nvSpPr>
          <p:spPr>
            <a:xfrm>
              <a:off x="1371600" y="3581280"/>
              <a:ext cx="4800600" cy="15238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4" name="Line 6"/>
            <p:cNvSpPr/>
            <p:nvPr/>
          </p:nvSpPr>
          <p:spPr>
            <a:xfrm>
              <a:off x="3810240" y="358128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5" name="Line 7"/>
            <p:cNvSpPr/>
            <p:nvPr/>
          </p:nvSpPr>
          <p:spPr>
            <a:xfrm>
              <a:off x="2514600" y="358128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5029200" y="358128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7" name="Line 10"/>
            <p:cNvSpPr/>
            <p:nvPr/>
          </p:nvSpPr>
          <p:spPr>
            <a:xfrm>
              <a:off x="1371600" y="434340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7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6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ixteen percent of the human population is known to be able to wiggle their ear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is trait is determined to be a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cessive gen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se is 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opulation genetics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ques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Use the following equation: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 = p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+ 2pq + q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6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of the population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omozygous dominant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for this trai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= 16% or .16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2 =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1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 = .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n us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1 = p + 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1 = p + .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1- .4 = 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 = .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ow use p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 answer:  .6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= .36 or 36%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6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of the population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eterozygou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 this trai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e know that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q = .4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nd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 = .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ow use 2pq for answer:  2(.6)(.4) = .48 or 48%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7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 dogs, the inheritance of hair color involves a gene B for black hair and gene b for brown hair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dominant 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is also involved.  It must be present for th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colo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to be synthesiz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f this gene is not present, 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blond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condition resul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, Bb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black hai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C, C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 col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brown hai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c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 blo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dogs, wire-haired is due to a dominant gene (W), smooth-haired is due to its recessive allele (w)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, Ww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wire 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smooth hair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7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 brown haired male, whose father was a blond, is mated with a black haired female, whose mother was brown haired and her father was blon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ale: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Cc (gametes:  bC  b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emale: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bCc (gametes:  BC  Bc  bC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hat is the expected ratios of their offspring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7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Bc     bC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BbCC   BbCc   bbCC  bbC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c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BbCc   Bbcc   bbCc  bbc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ffspring ratios: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lack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/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rown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/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lond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/8 or 1/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96" name="Group 2"/>
          <p:cNvGrpSpPr/>
          <p:nvPr/>
        </p:nvGrpSpPr>
        <p:grpSpPr>
          <a:xfrm>
            <a:off x="1447920" y="2514600"/>
            <a:ext cx="4800600" cy="1523880"/>
            <a:chOff x="1447920" y="2514600"/>
            <a:chExt cx="4800600" cy="1523880"/>
          </a:xfrm>
        </p:grpSpPr>
        <p:sp>
          <p:nvSpPr>
            <p:cNvPr id="297" name="Rectangle 7"/>
            <p:cNvSpPr/>
            <p:nvPr/>
          </p:nvSpPr>
          <p:spPr>
            <a:xfrm>
              <a:off x="1447920" y="2514600"/>
              <a:ext cx="4800600" cy="15238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8" name="Line 6"/>
            <p:cNvSpPr/>
            <p:nvPr/>
          </p:nvSpPr>
          <p:spPr>
            <a:xfrm>
              <a:off x="3886560" y="251460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9" name="Line 5"/>
            <p:cNvSpPr/>
            <p:nvPr/>
          </p:nvSpPr>
          <p:spPr>
            <a:xfrm>
              <a:off x="2590920" y="251460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0" name="Line 4"/>
            <p:cNvSpPr/>
            <p:nvPr/>
          </p:nvSpPr>
          <p:spPr>
            <a:xfrm>
              <a:off x="5105520" y="2514600"/>
              <a:ext cx="0" cy="1523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1" name="Line 3"/>
            <p:cNvSpPr/>
            <p:nvPr/>
          </p:nvSpPr>
          <p:spPr>
            <a:xfrm>
              <a:off x="1447920" y="3276720"/>
              <a:ext cx="48006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0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8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enry Anonymous, a film star, was involved in a paternity case.  The woman bringing suit had two children, on whos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as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and the other whos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as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B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8520" indent="-308520">
              <a:lnSpc>
                <a:spcPct val="1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e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wa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, the same as Henry’s!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judge in the case awarded damages to the woman damages to the woman, saying that Henry had to be the father of at least one of the childre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8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viously, the judge should be sentenced to Biology.  For Henry to have been the father of both children, h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lood typ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would have had to be wha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   I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Answe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     I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08" name="Group 5"/>
          <p:cNvGrpSpPr/>
          <p:nvPr/>
        </p:nvGrpSpPr>
        <p:grpSpPr>
          <a:xfrm>
            <a:off x="3581280" y="3809880"/>
            <a:ext cx="2514600" cy="2286000"/>
            <a:chOff x="3581280" y="3809880"/>
            <a:chExt cx="2514600" cy="2286000"/>
          </a:xfrm>
        </p:grpSpPr>
        <p:sp>
          <p:nvSpPr>
            <p:cNvPr id="309" name="Rectangle 6"/>
            <p:cNvSpPr/>
            <p:nvPr/>
          </p:nvSpPr>
          <p:spPr>
            <a:xfrm>
              <a:off x="3581280" y="380988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0" name="Line 7"/>
            <p:cNvSpPr/>
            <p:nvPr/>
          </p:nvSpPr>
          <p:spPr>
            <a:xfrm>
              <a:off x="4800600" y="380988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>
              <a:off x="3581280" y="495288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1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f a homozygous wire-haired dog is mated with a smooth-haired dog, what type of offspring could be produc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0" name="Group 7"/>
          <p:cNvGrpSpPr/>
          <p:nvPr/>
        </p:nvGrpSpPr>
        <p:grpSpPr>
          <a:xfrm>
            <a:off x="3581280" y="4114800"/>
            <a:ext cx="2514600" cy="2286000"/>
            <a:chOff x="3581280" y="4114800"/>
            <a:chExt cx="2514600" cy="2286000"/>
          </a:xfrm>
        </p:grpSpPr>
        <p:sp>
          <p:nvSpPr>
            <p:cNvPr id="121" name="Rectangle 4"/>
            <p:cNvSpPr/>
            <p:nvPr/>
          </p:nvSpPr>
          <p:spPr>
            <a:xfrm>
              <a:off x="3581280" y="4114800"/>
              <a:ext cx="2514600" cy="228600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>
              <a:off x="4800600" y="4114800"/>
              <a:ext cx="0" cy="228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3" name="Line 6"/>
            <p:cNvSpPr/>
            <p:nvPr/>
          </p:nvSpPr>
          <p:spPr>
            <a:xfrm>
              <a:off x="3581280" y="5257800"/>
              <a:ext cx="2514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A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g                                 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w 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ll heterozygou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2743200" y="2743200"/>
            <a:ext cx="3048120" cy="2286000"/>
            <a:chOff x="2743200" y="2743200"/>
            <a:chExt cx="3048120" cy="2286000"/>
          </a:xfrm>
        </p:grpSpPr>
        <p:grpSp>
          <p:nvGrpSpPr>
            <p:cNvPr id="128" name="Group 4"/>
            <p:cNvGrpSpPr/>
            <p:nvPr/>
          </p:nvGrpSpPr>
          <p:grpSpPr>
            <a:xfrm>
              <a:off x="2743200" y="2743200"/>
              <a:ext cx="2514600" cy="2286000"/>
              <a:chOff x="2743200" y="2743200"/>
              <a:chExt cx="2514600" cy="2286000"/>
            </a:xfrm>
          </p:grpSpPr>
          <p:sp>
            <p:nvSpPr>
              <p:cNvPr id="129" name="Rectangle 5"/>
              <p:cNvSpPr/>
              <p:nvPr/>
            </p:nvSpPr>
            <p:spPr>
              <a:xfrm>
                <a:off x="2743200" y="274320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30" name="Line 6"/>
              <p:cNvSpPr/>
              <p:nvPr/>
            </p:nvSpPr>
            <p:spPr>
              <a:xfrm>
                <a:off x="3962520" y="274320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31" name="Line 7"/>
              <p:cNvSpPr/>
              <p:nvPr/>
            </p:nvSpPr>
            <p:spPr>
              <a:xfrm>
                <a:off x="2743200" y="388620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32" name="AutoShape 8"/>
            <p:cNvSpPr/>
            <p:nvPr/>
          </p:nvSpPr>
          <p:spPr>
            <a:xfrm>
              <a:off x="5334120" y="274320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type(s) of offspring could be produced in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ust breed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to get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sults of F1 Cross:  Ww  x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B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         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WW    W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gener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Ww     w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enotype: 1:2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henotype:  3:1 rati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1752480" y="2743200"/>
            <a:ext cx="3048120" cy="2286000"/>
            <a:chOff x="1752480" y="2743200"/>
            <a:chExt cx="3048120" cy="2286000"/>
          </a:xfrm>
        </p:grpSpPr>
        <p:grpSp>
          <p:nvGrpSpPr>
            <p:cNvPr id="140" name="Group 5"/>
            <p:cNvGrpSpPr/>
            <p:nvPr/>
          </p:nvGrpSpPr>
          <p:grpSpPr>
            <a:xfrm>
              <a:off x="1752480" y="2743200"/>
              <a:ext cx="2514600" cy="2286000"/>
              <a:chOff x="1752480" y="2743200"/>
              <a:chExt cx="2514600" cy="2286000"/>
            </a:xfrm>
          </p:grpSpPr>
          <p:sp>
            <p:nvSpPr>
              <p:cNvPr id="141" name="Rectangle 6"/>
              <p:cNvSpPr/>
              <p:nvPr/>
            </p:nvSpPr>
            <p:spPr>
              <a:xfrm>
                <a:off x="1752480" y="2743200"/>
                <a:ext cx="2514600" cy="228600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2" name="Line 7"/>
              <p:cNvSpPr/>
              <p:nvPr/>
            </p:nvSpPr>
            <p:spPr>
              <a:xfrm>
                <a:off x="2971800" y="2743200"/>
                <a:ext cx="0" cy="2286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143" name="Line 8"/>
              <p:cNvSpPr/>
              <p:nvPr/>
            </p:nvSpPr>
            <p:spPr>
              <a:xfrm>
                <a:off x="1752480" y="3886200"/>
                <a:ext cx="251460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144" name="AutoShape 9"/>
            <p:cNvSpPr/>
            <p:nvPr/>
          </p:nvSpPr>
          <p:spPr>
            <a:xfrm>
              <a:off x="4343400" y="274320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4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mic Sans MS"/>
              </a:rPr>
              <a:t>Question #2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wo wire-haired dogs are mated.  Among the offspring of their first litter is a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smooth-haired pu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f these, two wire-haired dogs mate again, what are the chances that they will produce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another smooth-haired pup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are the chances that the pup will </a:t>
            </a:r>
            <a:r>
              <a:rPr b="1" lang="en-US" sz="2800" spc="-1" strike="noStrike">
                <a:solidFill>
                  <a:srgbClr val="d60029"/>
                </a:solidFill>
                <a:latin typeface="Comic Sans MS"/>
              </a:rPr>
              <a:t>wire-haired pup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05:02:52Z</dcterms:created>
  <dc:creator>Cheryl Massengale</dc:creator>
  <dc:description/>
  <dc:language>en-US</dc:language>
  <cp:lastModifiedBy>LEGION</cp:lastModifiedBy>
  <dcterms:modified xsi:type="dcterms:W3CDTF">2016-12-07T12:35:06Z</dcterms:modified>
  <cp:revision>28</cp:revision>
  <dc:subject/>
  <dc:title>GENETIC PROBLEMS</dc:title>
</cp:coreProperties>
</file>