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CFFE-36C0-47DD-8925-A39722330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T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WW    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1/4 or 25% chance for smooth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 or 75% chance for wire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/4 or 25% chance for smooth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3/4 or 75% chance for wire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results of crossing: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terozygous (Rr) plants have pink fl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e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ink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hite flow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heterozygous (Rr) plants have pink flowe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red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pink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white flowers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pin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pink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  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  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red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red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white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white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colorblindness (cc) is a recessive sex-linked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Y - 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rmal people have a colorblind 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X_?  x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X_?  x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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female (one normal, one a carr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male (one normal, one colorbli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 pare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female (one normal, one a carrier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male (one normal, one colorblind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ple has a colorblind dau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couple has a colorblind daughte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ents: XcY and XCXc or XcX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the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ther carrier o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ughter: XcXc -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 XcY and XCXc or XcX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athe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other carrier o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aughter: XcXc -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pled cheeks (D) are dominant to non-dimpled cheeks (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impled cheeks (D) are dominant to non-dimpled cheeks (d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__D__  x  F__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:  F__dd  x  ff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__D__  x  F__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hildren:  F__dd  x  ff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   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dihybrid 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   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is a dihybrid cros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e formula 2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ere n = # of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 the formula 2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ere n = # of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3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sible gametes for both:  FD  Fd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Fd     fD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ic ratio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hild will have a genotype of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child will have a genotype of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game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Fd  fD  fd  x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Fd  fD  fd  x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 Fd     fD 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FFDd   FFdd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 Fd     fD 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 FFdd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rait is determined to be a recessive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s a population genetics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following equation: 1 = p2 + 2pq +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trait is determined to be a recessive gen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se is a population genetics questi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se the following equation: 1 = p2 + 2pq + q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omozygous dominant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 = 16% or .16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q2 = .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=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u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.4 = 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p2  for answer:  .62 = .36 or 3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omozygous dominant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2 = 16% or .16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q2 = .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p2  for answer:  .62 = .36 or 36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eterozygous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 q = .4  and  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2pq for answer:  2(.6)(.4) = .48 or 4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eterozygous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e know that  q = .4  and  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2pq for answer:  2(.6)(.4) = .48 or 48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is gene is not present, a blond condition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, 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ack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, 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wn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is gene is not present, a blond condition result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, 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ack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, 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colo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rown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o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, Ww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wire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mooth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, Ww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wire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smooth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e:   bbCc (gametes: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: BbCc (gametes:  BC  Bc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xpected ratios of their offspr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ale:   bbCc (gametes: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emale: BbCc (gametes:  BC  Bc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is the expected ratios of their offspring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Bc     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fspring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ack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wn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ond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/8 or 1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Bc     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ffspring ratio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ack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rown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ond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/8 or 1/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blood type was O, the same as Henry’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r blood type was O, the same as Henry’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     I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  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 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      I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   Answe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 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g                                   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all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g                                   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all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reed the F1 generation to get the F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F1 Cross: 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ust breed the F1 generation to get the F2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:  3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:  3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 pup will wire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 pup will wire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F54-5489-4CC9-9E57-62831018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9FA-E395-4854-9803-68DFEEF3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ADE-F564-4D8B-B623-77252E14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302-F416-48E4-8ED9-7BEE42DB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E6A4-6457-4927-9C52-7077A2DF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1591-FF3B-4BEE-8019-40AFAFDD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4C38-793C-449D-B495-61925054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E630-C4E2-4D37-A69B-015C61A8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D90F-682D-4F8F-A8B2-D7874224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2891-84DF-4392-8DC4-CCEDB97F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292E-7735-44EF-A4EF-45B94986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298-DEF8-4FDB-8ACB-60ACCB2F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8BD8-12E8-4708-A719-CA5C9B27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DDE2-08FE-401E-B762-8F268759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2B74-F4EF-4189-83A6-F4C4070F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9251-9036-48EC-BC66-D8FB2B2C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7DF9-66E5-4E14-B0CA-DF5C01AA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3B5-1388-4BD9-ABE0-D9DBFD09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460-2175-4C96-95AC-32B992C3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233-2D37-4913-BA6E-57CAE045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F26-55BF-4C52-AA57-3D76A777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061-0326-4FAD-ACE2-BC80ADB8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31F-252B-4DF0-8ED0-A6BE542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9E5-7291-4CB9-BD7F-EC280F38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57D5-A737-4858-AF84-BE1BF0207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B1A5-C536-4898-8587-BC2F0E6D76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1/4 or 25% chance for smooth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3/4 or 75% chance for wire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2057400" y="2666880"/>
            <a:ext cx="3048120" cy="2286000"/>
            <a:chOff x="2057400" y="2666880"/>
            <a:chExt cx="3048120" cy="2286000"/>
          </a:xfrm>
        </p:grpSpPr>
        <p:grpSp>
          <p:nvGrpSpPr>
            <p:cNvPr id="152" name="Group 5"/>
            <p:cNvGrpSpPr/>
            <p:nvPr/>
          </p:nvGrpSpPr>
          <p:grpSpPr>
            <a:xfrm>
              <a:off x="2057400" y="2666880"/>
              <a:ext cx="2514600" cy="2286000"/>
              <a:chOff x="2057400" y="2666880"/>
              <a:chExt cx="2514600" cy="2286000"/>
            </a:xfrm>
          </p:grpSpPr>
          <p:sp>
            <p:nvSpPr>
              <p:cNvPr id="153" name="Rectangle 6"/>
              <p:cNvSpPr/>
              <p:nvPr/>
            </p:nvSpPr>
            <p:spPr>
              <a:xfrm>
                <a:off x="205740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4" name="Line 7"/>
              <p:cNvSpPr/>
              <p:nvPr/>
            </p:nvSpPr>
            <p:spPr>
              <a:xfrm>
                <a:off x="327672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5" name="Line 8"/>
              <p:cNvSpPr/>
              <p:nvPr/>
            </p:nvSpPr>
            <p:spPr>
              <a:xfrm>
                <a:off x="205740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56" name="AutoShape 10"/>
            <p:cNvSpPr/>
            <p:nvPr/>
          </p:nvSpPr>
          <p:spPr>
            <a:xfrm>
              <a:off x="4648320" y="266688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ups they could produc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164" name="Rectangle 6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snapdragons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 i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ompletely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v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heterozygous (Rr) plants have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low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- red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- pink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white flower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f a </a:t>
            </a:r>
            <a:r>
              <a:rPr b="1" lang="en-US" sz="3200" spc="-1" strike="noStrike">
                <a:solidFill>
                  <a:srgbClr val="d60029"/>
                </a:solidFill>
                <a:latin typeface="Comic Sans MS"/>
              </a:rPr>
              <a:t>red-flower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lant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what are the genotypes and phenotypes of the plants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981080" y="2590920"/>
            <a:ext cx="2971800" cy="2286000"/>
            <a:chOff x="1981080" y="2590920"/>
            <a:chExt cx="2971800" cy="2286000"/>
          </a:xfrm>
        </p:grpSpPr>
        <p:grpSp>
          <p:nvGrpSpPr>
            <p:cNvPr id="177" name="Group 4"/>
            <p:cNvGrpSpPr/>
            <p:nvPr/>
          </p:nvGrpSpPr>
          <p:grpSpPr>
            <a:xfrm>
              <a:off x="1981080" y="2590920"/>
              <a:ext cx="2514600" cy="2286000"/>
              <a:chOff x="1981080" y="2590920"/>
              <a:chExt cx="2514600" cy="2286000"/>
            </a:xfrm>
          </p:grpSpPr>
          <p:sp>
            <p:nvSpPr>
              <p:cNvPr id="178" name="Rectangle 5"/>
              <p:cNvSpPr/>
              <p:nvPr/>
            </p:nvSpPr>
            <p:spPr>
              <a:xfrm>
                <a:off x="1981080" y="259092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79" name="Line 6"/>
              <p:cNvSpPr/>
              <p:nvPr/>
            </p:nvSpPr>
            <p:spPr>
              <a:xfrm>
                <a:off x="3200400" y="259092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0" name="Line 7"/>
              <p:cNvSpPr/>
              <p:nvPr/>
            </p:nvSpPr>
            <p:spPr>
              <a:xfrm>
                <a:off x="1981080" y="373392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1" name="AutoShape 8"/>
            <p:cNvSpPr/>
            <p:nvPr/>
          </p:nvSpPr>
          <p:spPr>
            <a:xfrm>
              <a:off x="4572000" y="259092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  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981080" y="2666880"/>
            <a:ext cx="2971800" cy="2286000"/>
            <a:chOff x="1981080" y="2666880"/>
            <a:chExt cx="2971800" cy="2286000"/>
          </a:xfrm>
        </p:grpSpPr>
        <p:grpSp>
          <p:nvGrpSpPr>
            <p:cNvPr id="189" name="Group 5"/>
            <p:cNvGrpSpPr/>
            <p:nvPr/>
          </p:nvGrpSpPr>
          <p:grpSpPr>
            <a:xfrm>
              <a:off x="1981080" y="2666880"/>
              <a:ext cx="2514600" cy="2286000"/>
              <a:chOff x="1981080" y="2666880"/>
              <a:chExt cx="2514600" cy="22860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98108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320040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" name="Line 8"/>
              <p:cNvSpPr/>
              <p:nvPr/>
            </p:nvSpPr>
            <p:spPr>
              <a:xfrm>
                <a:off x="198108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93" name="AutoShape 9"/>
            <p:cNvSpPr/>
            <p:nvPr/>
          </p:nvSpPr>
          <p:spPr>
            <a:xfrm>
              <a:off x="4572000" y="266688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s of offspring can be produced if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d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2209680" y="2666880"/>
            <a:ext cx="2514600" cy="2286000"/>
            <a:chOff x="2209680" y="2666880"/>
            <a:chExt cx="2514600" cy="2286000"/>
          </a:xfrm>
        </p:grpSpPr>
        <p:sp>
          <p:nvSpPr>
            <p:cNvPr id="201" name="Rectangle 6"/>
            <p:cNvSpPr/>
            <p:nvPr/>
          </p:nvSpPr>
          <p:spPr>
            <a:xfrm>
              <a:off x="22096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Line 7"/>
            <p:cNvSpPr/>
            <p:nvPr/>
          </p:nvSpPr>
          <p:spPr>
            <a:xfrm>
              <a:off x="34290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22096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many different kind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amet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uld the following individuals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CCDde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 of offspring is/are produced if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2133720" y="2666880"/>
            <a:ext cx="2514600" cy="2286000"/>
            <a:chOff x="2133720" y="2666880"/>
            <a:chExt cx="2514600" cy="2286000"/>
          </a:xfrm>
        </p:grpSpPr>
        <p:sp>
          <p:nvSpPr>
            <p:cNvPr id="211" name="Rectangle 6"/>
            <p:cNvSpPr/>
            <p:nvPr/>
          </p:nvSpPr>
          <p:spPr>
            <a:xfrm>
              <a:off x="213372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335304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213372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memb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_?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possible among their other childre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aren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female (one normal, one a carri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male (one normal, one colorblind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224" name="Rectangle 5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couple has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daughter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of the parents and the daughter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a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o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rie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aughter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- 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2057400" y="1676520"/>
            <a:ext cx="2514600" cy="2286000"/>
            <a:chOff x="2057400" y="1676520"/>
            <a:chExt cx="2514600" cy="2286000"/>
          </a:xfrm>
        </p:grpSpPr>
        <p:sp>
          <p:nvSpPr>
            <p:cNvPr id="234" name="Rectangle 5"/>
            <p:cNvSpPr/>
            <p:nvPr/>
          </p:nvSpPr>
          <p:spPr>
            <a:xfrm>
              <a:off x="2057400" y="167652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3276720" y="167652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2057400" y="281952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the presence of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reckl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due to a dominant gen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freckl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ndition is due to its recessive alle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mpled cheeks (D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re dominant to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dimpled cheeks (d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_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x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hildren: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ff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  x  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ihybrid cros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member the formul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 = # of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CCDdee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3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FFDd 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49" name="Group 11"/>
          <p:cNvGrpSpPr/>
          <p:nvPr/>
        </p:nvGrpSpPr>
        <p:grpSpPr>
          <a:xfrm>
            <a:off x="1295280" y="2971800"/>
            <a:ext cx="4800600" cy="3048120"/>
            <a:chOff x="1295280" y="2971800"/>
            <a:chExt cx="4800600" cy="3048120"/>
          </a:xfrm>
        </p:grpSpPr>
        <p:sp>
          <p:nvSpPr>
            <p:cNvPr id="250" name="Rectangle 4"/>
            <p:cNvSpPr/>
            <p:nvPr/>
          </p:nvSpPr>
          <p:spPr>
            <a:xfrm>
              <a:off x="1295280" y="2971800"/>
              <a:ext cx="4800600" cy="30481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>
              <a:off x="373392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24382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49528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1295280" y="449568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1295280" y="37339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>
              <a:off x="1295280" y="52578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ic ratio will always been 9:3:3:1 for all F1 dihybrid cross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4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s child will have a genotype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/16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ssible gamete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D  Fd  fD  fd  x  Fd  f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D      Fd     fD 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FFDd   FFdd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FfDd  Ffdd   ffDd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1371600" y="3581280"/>
            <a:ext cx="4800600" cy="1523880"/>
            <a:chOff x="1371600" y="3581280"/>
            <a:chExt cx="4800600" cy="1523880"/>
          </a:xfrm>
        </p:grpSpPr>
        <p:sp>
          <p:nvSpPr>
            <p:cNvPr id="273" name="Rectangle 5"/>
            <p:cNvSpPr/>
            <p:nvPr/>
          </p:nvSpPr>
          <p:spPr>
            <a:xfrm>
              <a:off x="1371600" y="358128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381024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"/>
            <p:cNvSpPr/>
            <p:nvPr/>
          </p:nvSpPr>
          <p:spPr>
            <a:xfrm>
              <a:off x="25146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50292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>
              <a:off x="1371600" y="43434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trait is determined to be a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cessive gen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se is 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pulation genetic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ques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se the following equation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= p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+ 2pq + q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mozygous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16% or .16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2 =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1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w use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answer:  .6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.36 or 36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terozygou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e know that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 = .4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d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use 2pq for answer:  2(.6)(.4) = .48 or 48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ominant 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is also involved.  It must be present for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colo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be synthesiz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this gene is not present,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blon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ndition resul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, 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lack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, 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col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rown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blo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, Ww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wire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smooth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le: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emale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  bC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at is the expected ratios of their offspring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Bc     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fspring ratio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ack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rown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ond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/8 or 1/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1447920" y="2514600"/>
            <a:ext cx="4800600" cy="1523880"/>
            <a:chOff x="1447920" y="2514600"/>
            <a:chExt cx="4800600" cy="1523880"/>
          </a:xfrm>
        </p:grpSpPr>
        <p:sp>
          <p:nvSpPr>
            <p:cNvPr id="297" name="Rectangle 7"/>
            <p:cNvSpPr/>
            <p:nvPr/>
          </p:nvSpPr>
          <p:spPr>
            <a:xfrm>
              <a:off x="1447920" y="251460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Line 6"/>
            <p:cNvSpPr/>
            <p:nvPr/>
          </p:nvSpPr>
          <p:spPr>
            <a:xfrm>
              <a:off x="388656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>
              <a:off x="25909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4"/>
            <p:cNvSpPr/>
            <p:nvPr/>
          </p:nvSpPr>
          <p:spPr>
            <a:xfrm>
              <a:off x="51055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3"/>
            <p:cNvSpPr/>
            <p:nvPr/>
          </p:nvSpPr>
          <p:spPr>
            <a:xfrm>
              <a:off x="1447920" y="32767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the other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a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, the same as Henry’s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ould have had to be wha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Answ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 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3581280" y="3809880"/>
            <a:ext cx="2514600" cy="2286000"/>
            <a:chOff x="3581280" y="3809880"/>
            <a:chExt cx="2514600" cy="2286000"/>
          </a:xfrm>
        </p:grpSpPr>
        <p:sp>
          <p:nvSpPr>
            <p:cNvPr id="309" name="Rectangle 6"/>
            <p:cNvSpPr/>
            <p:nvPr/>
          </p:nvSpPr>
          <p:spPr>
            <a:xfrm>
              <a:off x="3581280" y="3809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Line 7"/>
            <p:cNvSpPr/>
            <p:nvPr/>
          </p:nvSpPr>
          <p:spPr>
            <a:xfrm>
              <a:off x="4800600" y="3809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>
              <a:off x="3581280" y="4952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581280" y="4114800"/>
            <a:ext cx="2514600" cy="2286000"/>
            <a:chOff x="3581280" y="4114800"/>
            <a:chExt cx="2514600" cy="2286000"/>
          </a:xfrm>
        </p:grpSpPr>
        <p:sp>
          <p:nvSpPr>
            <p:cNvPr id="121" name="Rectangle 4"/>
            <p:cNvSpPr/>
            <p:nvPr/>
          </p:nvSpPr>
          <p:spPr>
            <a:xfrm>
              <a:off x="3581280" y="411480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>
              <a:off x="4800600" y="411480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3581280" y="525780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g                                 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l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2743200" y="2743200"/>
            <a:ext cx="3048120" cy="2286000"/>
            <a:chOff x="2743200" y="2743200"/>
            <a:chExt cx="3048120" cy="2286000"/>
          </a:xfrm>
        </p:grpSpPr>
        <p:grpSp>
          <p:nvGrpSpPr>
            <p:cNvPr id="128" name="Group 4"/>
            <p:cNvGrpSpPr/>
            <p:nvPr/>
          </p:nvGrpSpPr>
          <p:grpSpPr>
            <a:xfrm>
              <a:off x="2743200" y="2743200"/>
              <a:ext cx="2514600" cy="2286000"/>
              <a:chOff x="2743200" y="2743200"/>
              <a:chExt cx="2514600" cy="2286000"/>
            </a:xfrm>
          </p:grpSpPr>
          <p:sp>
            <p:nvSpPr>
              <p:cNvPr id="129" name="Rectangle 5"/>
              <p:cNvSpPr/>
              <p:nvPr/>
            </p:nvSpPr>
            <p:spPr>
              <a:xfrm>
                <a:off x="274320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0" name="Line 6"/>
              <p:cNvSpPr/>
              <p:nvPr/>
            </p:nvSpPr>
            <p:spPr>
              <a:xfrm>
                <a:off x="396252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1" name="Line 7"/>
              <p:cNvSpPr/>
              <p:nvPr/>
            </p:nvSpPr>
            <p:spPr>
              <a:xfrm>
                <a:off x="274320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32" name="AutoShape 8"/>
            <p:cNvSpPr/>
            <p:nvPr/>
          </p:nvSpPr>
          <p:spPr>
            <a:xfrm>
              <a:off x="533412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ust breed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get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:  3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1752480" y="2743200"/>
            <a:ext cx="3048120" cy="2286000"/>
            <a:chOff x="1752480" y="2743200"/>
            <a:chExt cx="3048120" cy="2286000"/>
          </a:xfrm>
        </p:grpSpPr>
        <p:grpSp>
          <p:nvGrpSpPr>
            <p:cNvPr id="140" name="Group 5"/>
            <p:cNvGrpSpPr/>
            <p:nvPr/>
          </p:nvGrpSpPr>
          <p:grpSpPr>
            <a:xfrm>
              <a:off x="1752480" y="2743200"/>
              <a:ext cx="2514600" cy="2286000"/>
              <a:chOff x="1752480" y="2743200"/>
              <a:chExt cx="2514600" cy="2286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175248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2" name="Line 7"/>
              <p:cNvSpPr/>
              <p:nvPr/>
            </p:nvSpPr>
            <p:spPr>
              <a:xfrm>
                <a:off x="297180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3" name="Line 8"/>
              <p:cNvSpPr/>
              <p:nvPr/>
            </p:nvSpPr>
            <p:spPr>
              <a:xfrm>
                <a:off x="175248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4" name="AutoShape 9"/>
            <p:cNvSpPr/>
            <p:nvPr/>
          </p:nvSpPr>
          <p:spPr>
            <a:xfrm>
              <a:off x="434340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smooth-haired pu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these, two wire-haired dogs mate again, what are the chances that they will produc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another smooth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 pup will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ire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05:02:52Z</dcterms:created>
  <dc:creator>Cheryl Massengale</dc:creator>
  <dc:description/>
  <dc:language>en-US</dc:language>
  <cp:lastModifiedBy>LEGION</cp:lastModifiedBy>
  <dcterms:modified xsi:type="dcterms:W3CDTF">2016-12-07T12:35:06Z</dcterms:modified>
  <cp:revision>28</cp:revision>
  <dc:subject/>
  <dc:title>GENETIC PROBLEMS</dc:title>
</cp:coreProperties>
</file>