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8F61-1378-4AF6-8F85-1563B366C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ETIC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GENETIC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ROBLEM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2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       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    WW    Ww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F2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     Ww     w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1/4 or 25% chance for smooth-ha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3/4 or 75% chance for wire-ha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   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WW    Ww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F2 generatio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Ww     w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1/4 or 25% chance for smooth-hai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3/4 or 75% chance for wire-hai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2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ire-haired male is mated with a smooth-haired female.  The mother of the wire-haired male was smooth-hai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phenotypes and genotypes of the pups they could produ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the results of crossing: Ww  x  w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 wire-haired male is mated with a smooth-haired female.  The mother of the wire-haired male was smooth-haired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phenotypes and genotypes of the pups they could produce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Show the results of crossing: Ww  x  w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2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     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   Ww     w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   Ww     w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enotyp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:1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otyp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:1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   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Ww     w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Ww     w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henotyp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:1 ratio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genotyp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:1 ratio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snapdragons, red flower (R) color is incompletely dominant over white flower (r) col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terozygous (Rr) plants have pink flow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red fl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pink fl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white flow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n snapdragons, red flower (R) color is incompletely dominant over white flower (r) color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he heterozygous (Rr) plants have pink flowers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R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red flower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r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pink flower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r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white flowers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3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red-flowered plant is crossed with a white-flowered plant, what are the genotypes and phenotypes of the plants F1 gener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 x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f a red-flowered plant is crossed with a white-flowered plant, what are the genotypes and phenotypes of the plants F1 generation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R  x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3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 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 Rr     Rr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1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 Rr   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enotyp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0% pink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otyp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0% heterozyg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 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Rr     Rr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1 generatio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Rr   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henotyp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00% pink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genotyp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00% heterozygou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3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genotypes and phenotypes will be produced in the F2 gener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 x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genotypes and phenotypes will be produced in the F2 generation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r  x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3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 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RR     Rr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2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 Rr     rr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enotypes: 1:2:1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otypes:   1:2:1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 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RR     Rr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2 generatio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Rr     rr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henotypes: 1:2:1 ratio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genotypes:   1:2:1 ratio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3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kinds of offspring can be produced if a red-flowered plant is crossed with a pink-flowered pl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 x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kinds of offspring can be produced if a red-flowered plant is crossed with a pink-flowered plant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R  x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3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 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RR    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 Rr    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0%: red flow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0%: pink flow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 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RR    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Rr    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0%: red flowe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0%: pink flowe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different kinds of gametes could the following individuals produ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aB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CDd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ABbCc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mNnOoPpQ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UVVWWXXYYZ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How many different kinds of gametes could the following individuals produce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aB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CCDde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ABbCc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4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MmNnOoPpQq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UUVVWWXXYYZz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3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kind of offspring is/are produced if a pink-flowered plant is crossed with a white-flowered pl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 x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kind of offspring is/are produced if a pink-flowered plant is crossed with a white-flowered plant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r  x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3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       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       Rr    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       Rr    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%: white flow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%: pink flow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 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Rr    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Rr    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0%: white flowe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0%: pink flowe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humans, colorblindness (cc) is a recessive sex-linked tr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 - fem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Y - m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n humans, colorblindness (cc) is a recessive sex-linked trait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emember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X - femal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Y - mal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normal people have a colorblind 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genotypes of the par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CX_?  x  X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genotypes and phenotypes possible among their other childre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4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wo normal people have a colorblind son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genotypes of the parents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CX_?  x  XCY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genotypes and phenotypes possible among their other children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C        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 pa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C     XCXC    X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c     XCXc     X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%: female (one normal, one a carri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%: male (one normal, one colorblin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4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C        Y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 parent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C     XCXC    XCY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c     XCXc     XcY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0%: female (one normal, one a carrier)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0%: male (one normal, one colorblind)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4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uple has a colorblind daugh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possible genotypes and phenotypes of the parents and the daugh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4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 couple has a colorblind daughter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possible genotypes and phenotypes of the parents and the daughter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4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c        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C     XCXc    X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c     XcXc     X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rents: XcY and XCXc or XcX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ther colorbl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ther carrier or colorbl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ughter: XcXc - colorbl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4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c        Y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C     XCXc    XCY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c     XcXc     XcY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arents: XcY and XCXc or XcX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ather colorblin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mother carrier or colorblin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daughter: XcXc - colorblin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humans, the presence of freckles is due to a dominant gene (F) and the non-freckled condition is due to its recessive allele (f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pled cheeks (D) are dominant to non-dimpled cheeks (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n humans, the presence of freckles is due to a dominant gene (F) and the non-freckled condition is due to its recessive allele (f)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Dimpled cheeks (D) are dominant to non-dimpled cheeks (d)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5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persons with freckles and dimpled cheeks have two children:  one has freckles but no dimples and one has dimples but no freck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genotypes of the parents?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ents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__D__  x  F__D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dren:  F__dd  x  ffD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wo persons with freckles and dimpled cheeks have two children:  one has freckles but no dimples and one has dimples but no freckles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genotypes of the parents?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arent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__D__  x  F__D__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Children:  F__dd  x  ffD__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5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possible phenotypes and genotypes of the children that they could produ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ss:   FfDd  x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dihybrid cro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possible phenotypes and genotypes of the children that they could produce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Cross:   FfDd  x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his is a dihybrid cros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member the formula 2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here n = # of heterozyg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aBb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CDdee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ABbCc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mNnOoPpQq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UUVVWWXXYYZz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emember the formula 2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ere n = # of heterozygou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aBb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= 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CCDdee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= 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ABbCc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= 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4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MmNnOoPpQq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= 3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UUVVWWXXYYZz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= 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5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ssible gametes for both:  FD  Fd  fD  f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D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Fd     fD     f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D   FFDD  FFDd   FfDD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d   FFDd   FFdd   FfDd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D   FfDD  FfDd   ffDD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d    FfDd  Ffdd   ffDd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ossible gametes for both:  FD  Fd  fD  f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Fd     fD     f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 FFDD  FFDd   FfDD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 FFDd   FFdd   FfDd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 FfDD  FfDd   ffDD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  FfDd  Ffdd   ffDd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5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enotype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reckles/Dimpl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reckles/no dimpl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 freckles/Dimpl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 freckles/no dimpl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enotypic ratio will always been 9:3:3:1 for all F1 dihybrid cros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henotype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reckles/Dimpl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reckles/no dimpl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no freckles/Dimpl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no freckles/no dimpl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henotypic ratio will always been 9:3:3:1 for all F1 dihybrid crosses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5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otypic ratio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Genotypic ratio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5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chances that they would have a child whom lacks both freckles and dimp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hild will have a genotype of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/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chances that they would have a child whom lacks both freckles and dimples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his child will have a genotype of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nswer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/1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5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erson with freckles and dimples whose mother lacked both freckles and dimples marries a person with freckles but not dimples whose father did not have freckles or dimp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ss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fDd  x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e game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  Fd  fD  fd  x  Fd  f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 person with freckles and dimples whose mother lacked both freckles and dimples marries a person with freckles but not dimples whose father did not have freckles or dimples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Cros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  x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ossible gametes: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Fd  fD  fd  x  Fd  f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5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chances that they would have a child whom lacks both freckles and dimp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      Fd     fD      f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    FFDd   FFdd  FfDd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     FfDd  Ffdd   ffDd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/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chances that they would have a child whom lacks both freckles and dimples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    Fd     fD      f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  FFDd   FFdd  FfDd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   FfDd  Ffdd   ffDd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nswer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/8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xteen percent of the human population is known to be able to wiggle their 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rait is determined to be a recessive ge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is a population genetics ques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following equation: 1 = p2 + 2pq + 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Sixteen percent of the human population is known to be able to wiggle their ears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his trait is determined to be a recessive gene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hese is a population genetics question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Use the following equation: 1 = p2 + 2pq + q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6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f the population is homozygous dominant for this tra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2 = 16% or .16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q2 = .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 = 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us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= p + 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= p + 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- .4 = 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= 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use p2  for answer:  .62 = .36 or 36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6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of the population is homozygous dominant for this trait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2 = 16% or .16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q2 = .1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 = .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hen use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 = p + q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 = p + .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- .4 = p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 = .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Now use p2  for answer:  .62 = .36 or 36%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6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f the population is heterozygous for this tra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that  q = .4  and  p = 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use 2pq for answer:  2(.6)(.4) = .48 or 48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6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of the population is heterozygous for this trait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e know that  q = .4  and  p = .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Now use 2pq for answer:  2(.6)(.4) = .48 or 48%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dogs, the inheritance of hair color involves a gene B for black hair and gene b for brown hair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ominant C is also involved.  It must be present for the color to be synthesiz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is gene is not present, a blond condition res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B, Bb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black hai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C, Cc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b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brown hai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c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bl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7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n dogs, the inheritance of hair color involves a gene B for black hair and gene b for brown hair b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 dominant C is also involved.  It must be present for the color to be synthesized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f this gene is not present, a blond condition results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B, Bb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black hair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CC, Cc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colo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b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brown hair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cc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blon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dogs, wire-haired is due to a dominant gene (W), smooth-haired is due to its recessive allele (w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, Ww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wire ha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smooth ha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n dogs, wire-haired is due to a dominant gene (W), smooth-haired is due to its recessive allele (w)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W, Ww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= wire hai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w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= smooth hai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7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rown haired male, whose father was a blond, is mated with a black haired female, whose mother was brown haired and her father was blo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e:   bbCc (gametes:  bC  b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male: BbCc (gametes:  BC  Bc  bC  b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expected ratios of their offspr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7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 brown haired male, whose father was a blond, is mated with a black haired female, whose mother was brown haired and her father was blond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Male:   bbCc (gametes:  bC  bc)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emale: BbCc (gametes:  BC  Bc  bC  bc)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is the expected ratios of their offspring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7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C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Bc     bC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C  BbCC   BbCc   bbCC  bbC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c   BbCc   Bbcc   bbCc  bbc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ffspring ratio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lack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/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rown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/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lond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/8 or 1/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7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C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Bc     bC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C  BbCC   BbCc   bbCC  bbC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c   BbCc   Bbcc   bbCc  bbc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Offspring ratios: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lack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3/8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rown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3/8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lond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2/8 or 1/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nry Anonymous, a film star, was involved in a paternity case.  The woman bringing suit had two children, on whose blood type was A and the other whose blood type was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 blood type was O, the same as Henry’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judge in the case awarded damages to the woman damages to the woman, saying that Henry had to be the father of at least one of the childr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8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Henry Anonymous, a film star, was involved in a paternity case.  The woman bringing suit had two children, on whose blood type was A and the other whose blood type was B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Her blood type was O, the same as Henry’s!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he judge in the case awarded damages to the woman damages to the woman, saying that Henry had to be the father of at least one of the children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8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viously, the judge should be sentenced to Biology.  For Henry to have been the father of both children, his blood type would have had to be wh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      IB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   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i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IB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i     IB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8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Obviously, the judge should be sentenced to Biology.  For Henry to have been the father of both children, his blood type would have had to be what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A      IB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   Answe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Ai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IBi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Ai     IBi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homozygous wire-haired dog is mated with a smooth-haired dog, what type of offspring could be produ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       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f a homozygous wire-haired dog is mated with a smooth-haired dog, what type of offspring could be produced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   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     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Ww    Ww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g                                   F1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 Ww     Ww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all heterozyg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   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Ww    Ww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g                                   F1 generatio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Ww     Ww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all heterozygou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2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ype(s) of offspring could be produced in the F2 gener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t breed the F1 generation to get the F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s of F1 Cross:  Ww  x  W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type(s) of offspring could be produced in the F2 generation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Must breed the F1 generation to get the F2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esults of F1 Cross:  Ww  x  W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2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     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WW    Ww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  F2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 Ww     w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otype: 1:2:1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enotype:  3:1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   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WW    Ww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  F2 generatio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Ww     w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genotype: 1:2:1 ratio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henotype:  3:1 ratio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2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wire-haired dogs are mated.  Among the offspring of their first litter is a smooth-haired p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se, two wire-haired dogs mate again, what are the chances that they will produce another smooth-haired pu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chances that the pup will wire-haired pu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wo wire-haired dogs are mated.  Among the offspring of their first litter is a smooth-haired pup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f these, two wire-haired dogs mate again, what are the chances that they will produce another smooth-haired pup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chances that the pup will wire-haired pup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A9CC-16AA-44ED-83C3-FA88392D8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83F4-2C45-43E0-885E-AB1164BF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3CB6-E71F-4D65-8482-635185AC4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73FF-6C73-448E-A2AC-C17519259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8DD0-496B-40C6-A081-F74331358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D9BE-8CD3-4F30-88D3-6960C60F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B9CA-9A92-47FB-BB44-AD742C8D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CD20-1C54-4FA3-90D1-F2496B7A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2BCA-C4BB-46EF-91D7-7DCF8966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C397-A4CE-495A-9C25-BE436561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9CD4-CA18-40A5-B242-1C5FE891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8879-619A-493F-826D-7B666087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50EB-F937-4158-A160-88C94938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7B2E-9FD3-423B-8E6E-3D72C4A5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C0C8-3E46-470D-9BB1-61FA9B64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6A36-57E1-4D7D-81EE-A4E623946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BFED-B708-4012-BD86-2DF991D9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2AF7-EA14-4579-94A9-F393225A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4A91-D040-463E-8A23-7648D93C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0EA7-3B76-45FE-9C34-DC40A0D2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4B79-F821-497D-B0E5-38D4E70D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CCF0-6562-4E35-92F3-168C4D67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C1AC-AD7A-4851-AC46-E71508B3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D61B-92AA-4966-97CC-FDC9CC1D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A9DE-67E6-48EC-9CA7-6AF37E503A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01F5-95B0-4A2B-94DA-6173F1ABEF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GENETIC</a:t>
            </a:r>
            <a:br>
              <a:rPr sz="6000"/>
            </a:b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PROBLEMS</a:t>
            </a:r>
            <a:endParaRPr b="0" lang="en-US" sz="6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C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         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WW    W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gener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Ww     w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 1/4 or 25% chance for smooth-hai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 3/4 or 75% chance for wire-hai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51" name="Group 11"/>
          <p:cNvGrpSpPr/>
          <p:nvPr/>
        </p:nvGrpSpPr>
        <p:grpSpPr>
          <a:xfrm>
            <a:off x="2057400" y="2666880"/>
            <a:ext cx="3048120" cy="2286000"/>
            <a:chOff x="2057400" y="2666880"/>
            <a:chExt cx="3048120" cy="2286000"/>
          </a:xfrm>
        </p:grpSpPr>
        <p:grpSp>
          <p:nvGrpSpPr>
            <p:cNvPr id="152" name="Group 5"/>
            <p:cNvGrpSpPr/>
            <p:nvPr/>
          </p:nvGrpSpPr>
          <p:grpSpPr>
            <a:xfrm>
              <a:off x="2057400" y="2666880"/>
              <a:ext cx="2514600" cy="2286000"/>
              <a:chOff x="2057400" y="2666880"/>
              <a:chExt cx="2514600" cy="2286000"/>
            </a:xfrm>
          </p:grpSpPr>
          <p:sp>
            <p:nvSpPr>
              <p:cNvPr id="153" name="Rectangle 6"/>
              <p:cNvSpPr/>
              <p:nvPr/>
            </p:nvSpPr>
            <p:spPr>
              <a:xfrm>
                <a:off x="2057400" y="2666880"/>
                <a:ext cx="2514600" cy="2286000"/>
              </a:xfrm>
              <a:prstGeom prst="rect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54" name="Line 7"/>
              <p:cNvSpPr/>
              <p:nvPr/>
            </p:nvSpPr>
            <p:spPr>
              <a:xfrm>
                <a:off x="3276720" y="2666880"/>
                <a:ext cx="0" cy="22860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55" name="Line 8"/>
              <p:cNvSpPr/>
              <p:nvPr/>
            </p:nvSpPr>
            <p:spPr>
              <a:xfrm>
                <a:off x="2057400" y="3809880"/>
                <a:ext cx="25146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56" name="AutoShape 10"/>
            <p:cNvSpPr/>
            <p:nvPr/>
          </p:nvSpPr>
          <p:spPr>
            <a:xfrm>
              <a:off x="4648320" y="2666880"/>
              <a:ext cx="457200" cy="22860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5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D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 wire-haired male is mated with a smooth-haired female.  The mother of the wire-haired male was smooth-haired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are t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henotype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enotype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of the pups they could produc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Show the results of crossing: Ww  x  w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D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         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Ww     w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Ww     w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henotypes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:1 rati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enotypes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:1 rati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63" name="Group 5"/>
          <p:cNvGrpSpPr/>
          <p:nvPr/>
        </p:nvGrpSpPr>
        <p:grpSpPr>
          <a:xfrm>
            <a:off x="1981080" y="2666880"/>
            <a:ext cx="2514600" cy="2286000"/>
            <a:chOff x="1981080" y="2666880"/>
            <a:chExt cx="2514600" cy="2286000"/>
          </a:xfrm>
        </p:grpSpPr>
        <p:sp>
          <p:nvSpPr>
            <p:cNvPr id="164" name="Rectangle 6"/>
            <p:cNvSpPr/>
            <p:nvPr/>
          </p:nvSpPr>
          <p:spPr>
            <a:xfrm>
              <a:off x="1981080" y="2666880"/>
              <a:ext cx="2514600" cy="22860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5" name="Line 7"/>
            <p:cNvSpPr/>
            <p:nvPr/>
          </p:nvSpPr>
          <p:spPr>
            <a:xfrm>
              <a:off x="3200400" y="266688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6" name="Line 8"/>
            <p:cNvSpPr/>
            <p:nvPr/>
          </p:nvSpPr>
          <p:spPr>
            <a:xfrm>
              <a:off x="1981080" y="380988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6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n snapdragons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ed flower (R)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color i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completely dominant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over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ite flower (r)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color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heterozygous (Rr) plants have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pink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flower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RR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- red flower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6699"/>
                </a:solidFill>
                <a:latin typeface="Comic Sans MS"/>
              </a:rPr>
              <a:t>Rr </a:t>
            </a:r>
            <a:r>
              <a:rPr b="1" lang="en-US" sz="3600" spc="-1" strike="noStrike">
                <a:solidFill>
                  <a:srgbClr val="ff66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6699"/>
                </a:solidFill>
                <a:latin typeface="Comic Sans MS"/>
              </a:rPr>
              <a:t>- pink flower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r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white flower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f a </a:t>
            </a:r>
            <a:r>
              <a:rPr b="1" lang="en-US" sz="3200" spc="-1" strike="noStrike">
                <a:solidFill>
                  <a:srgbClr val="d60029"/>
                </a:solidFill>
                <a:latin typeface="Comic Sans MS"/>
              </a:rPr>
              <a:t>red-flowered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plant is crossed with a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ite-flowered plant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, what are the genotypes and phenotypes of the plants F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genera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R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 x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rr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         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r     R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ener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r     R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henotypes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00%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pink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enotypes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00%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heterozygou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76" name="Group 9"/>
          <p:cNvGrpSpPr/>
          <p:nvPr/>
        </p:nvGrpSpPr>
        <p:grpSpPr>
          <a:xfrm>
            <a:off x="1981080" y="2590920"/>
            <a:ext cx="2971800" cy="2286000"/>
            <a:chOff x="1981080" y="2590920"/>
            <a:chExt cx="2971800" cy="2286000"/>
          </a:xfrm>
        </p:grpSpPr>
        <p:grpSp>
          <p:nvGrpSpPr>
            <p:cNvPr id="177" name="Group 4"/>
            <p:cNvGrpSpPr/>
            <p:nvPr/>
          </p:nvGrpSpPr>
          <p:grpSpPr>
            <a:xfrm>
              <a:off x="1981080" y="2590920"/>
              <a:ext cx="2514600" cy="2286000"/>
              <a:chOff x="1981080" y="2590920"/>
              <a:chExt cx="2514600" cy="2286000"/>
            </a:xfrm>
          </p:grpSpPr>
          <p:sp>
            <p:nvSpPr>
              <p:cNvPr id="178" name="Rectangle 5"/>
              <p:cNvSpPr/>
              <p:nvPr/>
            </p:nvSpPr>
            <p:spPr>
              <a:xfrm>
                <a:off x="1981080" y="2590920"/>
                <a:ext cx="2514600" cy="2286000"/>
              </a:xfrm>
              <a:prstGeom prst="rect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79" name="Line 6"/>
              <p:cNvSpPr/>
              <p:nvPr/>
            </p:nvSpPr>
            <p:spPr>
              <a:xfrm>
                <a:off x="3200400" y="2590920"/>
                <a:ext cx="0" cy="22860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0" name="Line 7"/>
              <p:cNvSpPr/>
              <p:nvPr/>
            </p:nvSpPr>
            <p:spPr>
              <a:xfrm>
                <a:off x="1981080" y="3733920"/>
                <a:ext cx="25146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81" name="AutoShape 8"/>
            <p:cNvSpPr/>
            <p:nvPr/>
          </p:nvSpPr>
          <p:spPr>
            <a:xfrm>
              <a:off x="4572000" y="2590920"/>
              <a:ext cx="380880" cy="22860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8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hat genotypes and phenotypes will be produced in the F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genera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210000"/>
              </a:lnSpc>
              <a:spcBef>
                <a:spcPts val="799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Comic Sans MS"/>
              </a:rPr>
              <a:t>Rr 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x  </a:t>
            </a:r>
            <a:r>
              <a:rPr b="1" lang="en-US" sz="3200" spc="-1" strike="noStrike">
                <a:solidFill>
                  <a:srgbClr val="ff6699"/>
                </a:solidFill>
                <a:latin typeface="Comic Sans MS"/>
              </a:rPr>
              <a:t>Rr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         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 R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ener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henotypes: 1:2:1 rati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enotypes:   1:2:1 rati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88" name="Group 4"/>
          <p:cNvGrpSpPr/>
          <p:nvPr/>
        </p:nvGrpSpPr>
        <p:grpSpPr>
          <a:xfrm>
            <a:off x="1981080" y="2666880"/>
            <a:ext cx="2971800" cy="2286000"/>
            <a:chOff x="1981080" y="2666880"/>
            <a:chExt cx="2971800" cy="2286000"/>
          </a:xfrm>
        </p:grpSpPr>
        <p:grpSp>
          <p:nvGrpSpPr>
            <p:cNvPr id="189" name="Group 5"/>
            <p:cNvGrpSpPr/>
            <p:nvPr/>
          </p:nvGrpSpPr>
          <p:grpSpPr>
            <a:xfrm>
              <a:off x="1981080" y="2666880"/>
              <a:ext cx="2514600" cy="2286000"/>
              <a:chOff x="1981080" y="2666880"/>
              <a:chExt cx="2514600" cy="2286000"/>
            </a:xfrm>
          </p:grpSpPr>
          <p:sp>
            <p:nvSpPr>
              <p:cNvPr id="190" name="Rectangle 6"/>
              <p:cNvSpPr/>
              <p:nvPr/>
            </p:nvSpPr>
            <p:spPr>
              <a:xfrm>
                <a:off x="1981080" y="2666880"/>
                <a:ext cx="2514600" cy="2286000"/>
              </a:xfrm>
              <a:prstGeom prst="rect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1" name="Line 7"/>
              <p:cNvSpPr/>
              <p:nvPr/>
            </p:nvSpPr>
            <p:spPr>
              <a:xfrm>
                <a:off x="3200400" y="2666880"/>
                <a:ext cx="0" cy="22860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2" name="Line 8"/>
              <p:cNvSpPr/>
              <p:nvPr/>
            </p:nvSpPr>
            <p:spPr>
              <a:xfrm>
                <a:off x="1981080" y="3809880"/>
                <a:ext cx="25146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93" name="AutoShape 9"/>
            <p:cNvSpPr/>
            <p:nvPr/>
          </p:nvSpPr>
          <p:spPr>
            <a:xfrm>
              <a:off x="4572000" y="2666880"/>
              <a:ext cx="380880" cy="22860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9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C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hat kinds of offspring can be produced if 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ed-flowered plant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is crossed with a </a:t>
            </a:r>
            <a:r>
              <a:rPr b="1" lang="en-US" sz="3200" spc="-1" strike="noStrike">
                <a:solidFill>
                  <a:srgbClr val="ff6699"/>
                </a:solidFill>
                <a:latin typeface="Comic Sans MS"/>
              </a:rPr>
              <a:t>pink-flowered plant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R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 x  </a:t>
            </a:r>
            <a:r>
              <a:rPr b="1" lang="en-US" sz="3200" spc="-1" strike="noStrike">
                <a:solidFill>
                  <a:srgbClr val="ff6699"/>
                </a:solidFill>
                <a:latin typeface="Comic Sans MS"/>
              </a:rPr>
              <a:t>Rr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C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         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R      R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        Rr      R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0%: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ed flowe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0%: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pink flowe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00" name="Group 5"/>
          <p:cNvGrpSpPr/>
          <p:nvPr/>
        </p:nvGrpSpPr>
        <p:grpSpPr>
          <a:xfrm>
            <a:off x="2209680" y="2666880"/>
            <a:ext cx="2514600" cy="2286000"/>
            <a:chOff x="2209680" y="2666880"/>
            <a:chExt cx="2514600" cy="2286000"/>
          </a:xfrm>
        </p:grpSpPr>
        <p:sp>
          <p:nvSpPr>
            <p:cNvPr id="201" name="Rectangle 6"/>
            <p:cNvSpPr/>
            <p:nvPr/>
          </p:nvSpPr>
          <p:spPr>
            <a:xfrm>
              <a:off x="2209680" y="2666880"/>
              <a:ext cx="2514600" cy="22860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2" name="Line 7"/>
            <p:cNvSpPr/>
            <p:nvPr/>
          </p:nvSpPr>
          <p:spPr>
            <a:xfrm>
              <a:off x="3429000" y="266688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3" name="Line 8"/>
            <p:cNvSpPr/>
            <p:nvPr/>
          </p:nvSpPr>
          <p:spPr>
            <a:xfrm>
              <a:off x="2209680" y="380988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0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1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ow many different kinds of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gametes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could the following individuals produce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1.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aaBb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2.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CCDde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3.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AABbCcDD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4.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MmNnOoPpQq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5.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UUVVWWXXYYZz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D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hat kind of offspring is/are produced if a </a:t>
            </a:r>
            <a:r>
              <a:rPr b="1" lang="en-US" sz="3200" spc="-1" strike="noStrike">
                <a:solidFill>
                  <a:srgbClr val="ff6699"/>
                </a:solidFill>
                <a:latin typeface="Comic Sans MS"/>
              </a:rPr>
              <a:t>pink-flowered plant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is crossed with a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ite-flowered plant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Comic Sans MS"/>
              </a:rPr>
              <a:t>Rr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x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rr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D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         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0%: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ite flowe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0%: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pink flowe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10" name="Group 5"/>
          <p:cNvGrpSpPr/>
          <p:nvPr/>
        </p:nvGrpSpPr>
        <p:grpSpPr>
          <a:xfrm>
            <a:off x="2133720" y="2666880"/>
            <a:ext cx="2514600" cy="2286000"/>
            <a:chOff x="2133720" y="2666880"/>
            <a:chExt cx="2514600" cy="2286000"/>
          </a:xfrm>
        </p:grpSpPr>
        <p:sp>
          <p:nvSpPr>
            <p:cNvPr id="211" name="Rectangle 6"/>
            <p:cNvSpPr/>
            <p:nvPr/>
          </p:nvSpPr>
          <p:spPr>
            <a:xfrm>
              <a:off x="2133720" y="2666880"/>
              <a:ext cx="2514600" cy="22860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2" name="Line 7"/>
            <p:cNvSpPr/>
            <p:nvPr/>
          </p:nvSpPr>
          <p:spPr>
            <a:xfrm>
              <a:off x="3353040" y="266688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3" name="Line 8"/>
            <p:cNvSpPr/>
            <p:nvPr/>
          </p:nvSpPr>
          <p:spPr>
            <a:xfrm>
              <a:off x="2133720" y="380988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1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4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 humans, colorblindness (cc) is a recessive sex-linked trait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emember: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XX - femal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XY - mal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4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wo normal people have a colorblind so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are the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genotype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of the parents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_?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x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are the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genotype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phenotype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possible among their other children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4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    Y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parent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0%: female (one normal, one a carrier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0%: male (one normal, one colorblind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1981080" y="2666880"/>
            <a:ext cx="2514600" cy="2286000"/>
            <a:chOff x="1981080" y="2666880"/>
            <a:chExt cx="2514600" cy="2286000"/>
          </a:xfrm>
        </p:grpSpPr>
        <p:sp>
          <p:nvSpPr>
            <p:cNvPr id="224" name="Rectangle 5"/>
            <p:cNvSpPr/>
            <p:nvPr/>
          </p:nvSpPr>
          <p:spPr>
            <a:xfrm>
              <a:off x="1981080" y="2666880"/>
              <a:ext cx="2514600" cy="22860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5" name="Line 6"/>
            <p:cNvSpPr/>
            <p:nvPr/>
          </p:nvSpPr>
          <p:spPr>
            <a:xfrm>
              <a:off x="3200400" y="266688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6" name="Line 7"/>
            <p:cNvSpPr/>
            <p:nvPr/>
          </p:nvSpPr>
          <p:spPr>
            <a:xfrm>
              <a:off x="1981080" y="380988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2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4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 couple has a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lorblind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daughter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hat are the possible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genotypes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enotypes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of the parents and the daughter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4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    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   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arents: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r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ather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olorbli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mother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arrie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olorbli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aughter: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- colorbli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33" name="Group 4"/>
          <p:cNvGrpSpPr/>
          <p:nvPr/>
        </p:nvGrpSpPr>
        <p:grpSpPr>
          <a:xfrm>
            <a:off x="2057400" y="1676520"/>
            <a:ext cx="2514600" cy="2286000"/>
            <a:chOff x="2057400" y="1676520"/>
            <a:chExt cx="2514600" cy="2286000"/>
          </a:xfrm>
        </p:grpSpPr>
        <p:sp>
          <p:nvSpPr>
            <p:cNvPr id="234" name="Rectangle 5"/>
            <p:cNvSpPr/>
            <p:nvPr/>
          </p:nvSpPr>
          <p:spPr>
            <a:xfrm>
              <a:off x="2057400" y="1676520"/>
              <a:ext cx="2514600" cy="22860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5" name="Line 6"/>
            <p:cNvSpPr/>
            <p:nvPr/>
          </p:nvSpPr>
          <p:spPr>
            <a:xfrm>
              <a:off x="3276720" y="167652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6" name="Line 7"/>
            <p:cNvSpPr/>
            <p:nvPr/>
          </p:nvSpPr>
          <p:spPr>
            <a:xfrm>
              <a:off x="2057400" y="281952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3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 humans, the presence of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reckles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is due to a dominant gene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F)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nd the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non-freckled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condition is due to its recessive allele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f)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impled cheeks (D)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re dominant to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non-dimpled cheeks (d)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wo persons with freckles and dimpled cheeks have two children:  one has freckles but no dimples and one has dimples but no freckl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are t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enotype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of the parents?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arents: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_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_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__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x  F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__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hildren:  F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__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d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x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ff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hat are the possible phenotypes and genotypes of the children that they could produce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ross: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  x  FfDd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is is a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dihybrid cros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1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emember the formula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er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n = # of heterozygou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aaBb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= 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CCDdee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= 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3.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AABbCcDD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= 4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4.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MmNnOoPpQq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= 3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5.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UUVVWWXXYYZz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= 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ossible gametes for both:  FD  Fd  fD  f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D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Fd     fD     f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D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FDD  FFDd   FfDD  FfD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d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FFDd   FFdd   FfDd  Ffd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FfDD  FfDd   ffDD  ffD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FfDd  Ffdd   ffDd  ffd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49" name="Group 11"/>
          <p:cNvGrpSpPr/>
          <p:nvPr/>
        </p:nvGrpSpPr>
        <p:grpSpPr>
          <a:xfrm>
            <a:off x="1295280" y="2971800"/>
            <a:ext cx="4800600" cy="3048120"/>
            <a:chOff x="1295280" y="2971800"/>
            <a:chExt cx="4800600" cy="3048120"/>
          </a:xfrm>
        </p:grpSpPr>
        <p:sp>
          <p:nvSpPr>
            <p:cNvPr id="250" name="Rectangle 4"/>
            <p:cNvSpPr/>
            <p:nvPr/>
          </p:nvSpPr>
          <p:spPr>
            <a:xfrm>
              <a:off x="1295280" y="2971800"/>
              <a:ext cx="4800600" cy="304812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1" name="Line 5"/>
            <p:cNvSpPr/>
            <p:nvPr/>
          </p:nvSpPr>
          <p:spPr>
            <a:xfrm>
              <a:off x="3733920" y="2971800"/>
              <a:ext cx="0" cy="3048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2" name="Line 6"/>
            <p:cNvSpPr/>
            <p:nvPr/>
          </p:nvSpPr>
          <p:spPr>
            <a:xfrm>
              <a:off x="2438280" y="2971800"/>
              <a:ext cx="0" cy="3048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3" name="Line 7"/>
            <p:cNvSpPr/>
            <p:nvPr/>
          </p:nvSpPr>
          <p:spPr>
            <a:xfrm>
              <a:off x="4952880" y="2971800"/>
              <a:ext cx="0" cy="3048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4" name="Line 8"/>
            <p:cNvSpPr/>
            <p:nvPr/>
          </p:nvSpPr>
          <p:spPr>
            <a:xfrm>
              <a:off x="1295280" y="4495680"/>
              <a:ext cx="48006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5" name="Line 9"/>
            <p:cNvSpPr/>
            <p:nvPr/>
          </p:nvSpPr>
          <p:spPr>
            <a:xfrm>
              <a:off x="1295280" y="3733920"/>
              <a:ext cx="48006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6" name="Line 10"/>
            <p:cNvSpPr/>
            <p:nvPr/>
          </p:nvSpPr>
          <p:spPr>
            <a:xfrm>
              <a:off x="1295280" y="5257800"/>
              <a:ext cx="48006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5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enotype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: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reckles/Dimples: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reckles/no dimples: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no freckles/Dimples: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no freckles/no dimples: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henotypic ratio will always been 9:3:3:1 for all F1 dihybrid cross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Genotypic ratio: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1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2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1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2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4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2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1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2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1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5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C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hat are the chances that they would have a child whom lacks both freckles and dimples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is child will have a genotype of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nswer: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/16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D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 person with freckles and dimples whose mother lacked both freckles and dimples marries a person with freckles but not dimples whose father did not have freckles or dimpl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ross: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 x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ossible gametes: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D  Fd  fD  fd  x  Fd  fd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D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are the chances that they would have a child whom lacks both freckles and dimples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D      Fd     fD      f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d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FFDd   FFdd  FfDd  Ffd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d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FfDd  Ffdd   ffDd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fd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swer: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/8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72" name="Group 12"/>
          <p:cNvGrpSpPr/>
          <p:nvPr/>
        </p:nvGrpSpPr>
        <p:grpSpPr>
          <a:xfrm>
            <a:off x="1371600" y="3581280"/>
            <a:ext cx="4800600" cy="1523880"/>
            <a:chOff x="1371600" y="3581280"/>
            <a:chExt cx="4800600" cy="1523880"/>
          </a:xfrm>
        </p:grpSpPr>
        <p:sp>
          <p:nvSpPr>
            <p:cNvPr id="273" name="Rectangle 5"/>
            <p:cNvSpPr/>
            <p:nvPr/>
          </p:nvSpPr>
          <p:spPr>
            <a:xfrm>
              <a:off x="1371600" y="3581280"/>
              <a:ext cx="4800600" cy="152388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4" name="Line 6"/>
            <p:cNvSpPr/>
            <p:nvPr/>
          </p:nvSpPr>
          <p:spPr>
            <a:xfrm>
              <a:off x="3810240" y="3581280"/>
              <a:ext cx="0" cy="1523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5" name="Line 7"/>
            <p:cNvSpPr/>
            <p:nvPr/>
          </p:nvSpPr>
          <p:spPr>
            <a:xfrm>
              <a:off x="2514600" y="3581280"/>
              <a:ext cx="0" cy="1523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6" name="Line 8"/>
            <p:cNvSpPr/>
            <p:nvPr/>
          </p:nvSpPr>
          <p:spPr>
            <a:xfrm>
              <a:off x="5029200" y="3581280"/>
              <a:ext cx="0" cy="1523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7" name="Line 10"/>
            <p:cNvSpPr/>
            <p:nvPr/>
          </p:nvSpPr>
          <p:spPr>
            <a:xfrm>
              <a:off x="1371600" y="4343400"/>
              <a:ext cx="48006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7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5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6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ixteen percent of the human population is known to be able to wiggle their ear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is trait is determined to be a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ecessive gen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se is a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opulation genetic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questio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Use the following equation: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 = p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+ 2pq + q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6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of the population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homozygous dominant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for this trait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-28116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= 16% or .16: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q2 =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.16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q = .4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-28116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n use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: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1 = p + 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1 = p + .4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1- .4 = p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 = .6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-28116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ow use p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2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or answer:  .6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= .36 or 36%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6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6" dur="500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6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of the population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heterozygou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or this trait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e know that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q = .4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nd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 = .6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ow use 2pq for answer:  2(.6)(.4) = .48 or 48%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7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n dogs, the inheritance of hair color involves a gene B for black hair and gene b for brown hair b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dominant 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is also involved.  It must be present for the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colo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to be synthesized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f this gene is not present, a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blond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condition result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B, Bb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 black hai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C, C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- colo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b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 brown hai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- blo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9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4" dur="5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500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500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 dogs, wire-haired is due to a dominant gene (W), smooth-haired is due to its recessive allele (w)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W, Ww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= wire hai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w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= smooth hai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7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 brown haired male, whose father was a blond, is mated with a black haired female, whose mother was brown haired and her father was blond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Male: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bCc (gametes:  bC  bc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emale: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bCc (gametes:  BC  Bc  bC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c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hat is the expected ratios of their offspring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6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1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6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7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C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Bc     bC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c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BbCC   BbCc   bbCC  bbCc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c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BbCc   Bbcc   bbCc  bbcc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ffspring ratios: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lack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/8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rown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/8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lond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/8 or 1/4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96" name="Group 2"/>
          <p:cNvGrpSpPr/>
          <p:nvPr/>
        </p:nvGrpSpPr>
        <p:grpSpPr>
          <a:xfrm>
            <a:off x="1447920" y="2514600"/>
            <a:ext cx="4800600" cy="1523880"/>
            <a:chOff x="1447920" y="2514600"/>
            <a:chExt cx="4800600" cy="1523880"/>
          </a:xfrm>
        </p:grpSpPr>
        <p:sp>
          <p:nvSpPr>
            <p:cNvPr id="297" name="Rectangle 7"/>
            <p:cNvSpPr/>
            <p:nvPr/>
          </p:nvSpPr>
          <p:spPr>
            <a:xfrm>
              <a:off x="1447920" y="2514600"/>
              <a:ext cx="4800600" cy="152388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8" name="Line 6"/>
            <p:cNvSpPr/>
            <p:nvPr/>
          </p:nvSpPr>
          <p:spPr>
            <a:xfrm>
              <a:off x="3886560" y="2514600"/>
              <a:ext cx="0" cy="1523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9" name="Line 5"/>
            <p:cNvSpPr/>
            <p:nvPr/>
          </p:nvSpPr>
          <p:spPr>
            <a:xfrm>
              <a:off x="2590920" y="2514600"/>
              <a:ext cx="0" cy="1523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0" name="Line 4"/>
            <p:cNvSpPr/>
            <p:nvPr/>
          </p:nvSpPr>
          <p:spPr>
            <a:xfrm>
              <a:off x="5105520" y="2514600"/>
              <a:ext cx="0" cy="1523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1" name="Line 3"/>
            <p:cNvSpPr/>
            <p:nvPr/>
          </p:nvSpPr>
          <p:spPr>
            <a:xfrm>
              <a:off x="1447920" y="3276720"/>
              <a:ext cx="48006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0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8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8" dur="5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500"/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8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enry Anonymous, a film star, was involved in a paternity case.  The woman bringing suit had two children, on whos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lood typ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as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A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and the other whos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lood typ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as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B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8520" indent="-308520">
              <a:lnSpc>
                <a:spcPct val="1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er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lood type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wa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, the same as Henry’s!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8520" indent="-30852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judge in the case awarded damages to the woman damages to the woman, saying that Henry had to be the father of at least one of the childre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nodeType="clickEffect" fill="hold">
                      <p:stCondLst>
                        <p:cond delay="indefinite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0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8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bviously, the judge should be sentenced to Biology.  For Henry to have been the father of both children, h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lood type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would have had to be what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    I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 Answe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I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B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     I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B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08" name="Group 5"/>
          <p:cNvGrpSpPr/>
          <p:nvPr/>
        </p:nvGrpSpPr>
        <p:grpSpPr>
          <a:xfrm>
            <a:off x="3581280" y="3809880"/>
            <a:ext cx="2514600" cy="2286000"/>
            <a:chOff x="3581280" y="3809880"/>
            <a:chExt cx="2514600" cy="2286000"/>
          </a:xfrm>
        </p:grpSpPr>
        <p:sp>
          <p:nvSpPr>
            <p:cNvPr id="309" name="Rectangle 6"/>
            <p:cNvSpPr/>
            <p:nvPr/>
          </p:nvSpPr>
          <p:spPr>
            <a:xfrm>
              <a:off x="3581280" y="3809880"/>
              <a:ext cx="2514600" cy="22860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0" name="Line 7"/>
            <p:cNvSpPr/>
            <p:nvPr/>
          </p:nvSpPr>
          <p:spPr>
            <a:xfrm>
              <a:off x="4800600" y="380988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1" name="Line 8"/>
            <p:cNvSpPr/>
            <p:nvPr/>
          </p:nvSpPr>
          <p:spPr>
            <a:xfrm>
              <a:off x="3581280" y="495288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1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7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7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nodeType="clickEffect" fill="hold">
                      <p:stCondLst>
                        <p:cond delay="indefinite"/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7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2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f a homozygous wire-haired dog is mated with a smooth-haired dog, what type of offspring could be produced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         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20" name="Group 7"/>
          <p:cNvGrpSpPr/>
          <p:nvPr/>
        </p:nvGrpSpPr>
        <p:grpSpPr>
          <a:xfrm>
            <a:off x="3581280" y="4114800"/>
            <a:ext cx="2514600" cy="2286000"/>
            <a:chOff x="3581280" y="4114800"/>
            <a:chExt cx="2514600" cy="2286000"/>
          </a:xfrm>
        </p:grpSpPr>
        <p:sp>
          <p:nvSpPr>
            <p:cNvPr id="121" name="Rectangle 4"/>
            <p:cNvSpPr/>
            <p:nvPr/>
          </p:nvSpPr>
          <p:spPr>
            <a:xfrm>
              <a:off x="3581280" y="4114800"/>
              <a:ext cx="2514600" cy="22860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2" name="Line 5"/>
            <p:cNvSpPr/>
            <p:nvPr/>
          </p:nvSpPr>
          <p:spPr>
            <a:xfrm>
              <a:off x="4800600" y="411480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3" name="Line 6"/>
            <p:cNvSpPr/>
            <p:nvPr/>
          </p:nvSpPr>
          <p:spPr>
            <a:xfrm>
              <a:off x="3581280" y="525780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2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         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w    W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g                                   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gener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w     W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ll heterozygou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2743200" y="2743200"/>
            <a:ext cx="3048120" cy="2286000"/>
            <a:chOff x="2743200" y="2743200"/>
            <a:chExt cx="3048120" cy="2286000"/>
          </a:xfrm>
        </p:grpSpPr>
        <p:grpSp>
          <p:nvGrpSpPr>
            <p:cNvPr id="128" name="Group 4"/>
            <p:cNvGrpSpPr/>
            <p:nvPr/>
          </p:nvGrpSpPr>
          <p:grpSpPr>
            <a:xfrm>
              <a:off x="2743200" y="2743200"/>
              <a:ext cx="2514600" cy="2286000"/>
              <a:chOff x="2743200" y="2743200"/>
              <a:chExt cx="2514600" cy="2286000"/>
            </a:xfrm>
          </p:grpSpPr>
          <p:sp>
            <p:nvSpPr>
              <p:cNvPr id="129" name="Rectangle 5"/>
              <p:cNvSpPr/>
              <p:nvPr/>
            </p:nvSpPr>
            <p:spPr>
              <a:xfrm>
                <a:off x="2743200" y="2743200"/>
                <a:ext cx="2514600" cy="2286000"/>
              </a:xfrm>
              <a:prstGeom prst="rect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30" name="Line 6"/>
              <p:cNvSpPr/>
              <p:nvPr/>
            </p:nvSpPr>
            <p:spPr>
              <a:xfrm>
                <a:off x="3962520" y="2743200"/>
                <a:ext cx="0" cy="22860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31" name="Line 7"/>
              <p:cNvSpPr/>
              <p:nvPr/>
            </p:nvSpPr>
            <p:spPr>
              <a:xfrm>
                <a:off x="2743200" y="3886200"/>
                <a:ext cx="25146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32" name="AutoShape 8"/>
            <p:cNvSpPr/>
            <p:nvPr/>
          </p:nvSpPr>
          <p:spPr>
            <a:xfrm>
              <a:off x="5334120" y="2743200"/>
              <a:ext cx="457200" cy="22860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3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type(s) of offspring could be produced in t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generation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Must breed t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generation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to get t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esults of F1 Cross:  Ww  x  W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         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WW    W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gener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Ww     w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enotype: 1:2:1 rati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henotype:  3:1 rati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39" name="Group 4"/>
          <p:cNvGrpSpPr/>
          <p:nvPr/>
        </p:nvGrpSpPr>
        <p:grpSpPr>
          <a:xfrm>
            <a:off x="1752480" y="2743200"/>
            <a:ext cx="3048120" cy="2286000"/>
            <a:chOff x="1752480" y="2743200"/>
            <a:chExt cx="3048120" cy="2286000"/>
          </a:xfrm>
        </p:grpSpPr>
        <p:grpSp>
          <p:nvGrpSpPr>
            <p:cNvPr id="140" name="Group 5"/>
            <p:cNvGrpSpPr/>
            <p:nvPr/>
          </p:nvGrpSpPr>
          <p:grpSpPr>
            <a:xfrm>
              <a:off x="1752480" y="2743200"/>
              <a:ext cx="2514600" cy="2286000"/>
              <a:chOff x="1752480" y="2743200"/>
              <a:chExt cx="2514600" cy="2286000"/>
            </a:xfrm>
          </p:grpSpPr>
          <p:sp>
            <p:nvSpPr>
              <p:cNvPr id="141" name="Rectangle 6"/>
              <p:cNvSpPr/>
              <p:nvPr/>
            </p:nvSpPr>
            <p:spPr>
              <a:xfrm>
                <a:off x="1752480" y="2743200"/>
                <a:ext cx="2514600" cy="2286000"/>
              </a:xfrm>
              <a:prstGeom prst="rect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2" name="Line 7"/>
              <p:cNvSpPr/>
              <p:nvPr/>
            </p:nvSpPr>
            <p:spPr>
              <a:xfrm>
                <a:off x="2971800" y="2743200"/>
                <a:ext cx="0" cy="22860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3" name="Line 8"/>
              <p:cNvSpPr/>
              <p:nvPr/>
            </p:nvSpPr>
            <p:spPr>
              <a:xfrm>
                <a:off x="1752480" y="3886200"/>
                <a:ext cx="25146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44" name="AutoShape 9"/>
            <p:cNvSpPr/>
            <p:nvPr/>
          </p:nvSpPr>
          <p:spPr>
            <a:xfrm>
              <a:off x="4343400" y="2743200"/>
              <a:ext cx="457200" cy="22860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4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C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wo wire-haired dogs are mated.  Among the offspring of their first litter is a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smooth-haired pup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f these, two wire-haired dogs mate again, what are the chances that they will produce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another smooth-haired pup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are the chances that the pup will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ire-haired pup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9T05:02:52Z</dcterms:created>
  <dc:creator>Cheryl Massengale</dc:creator>
  <dc:description/>
  <dc:language>en-US</dc:language>
  <cp:lastModifiedBy>LEGION</cp:lastModifiedBy>
  <dcterms:modified xsi:type="dcterms:W3CDTF">2016-12-07T12:35:06Z</dcterms:modified>
  <cp:revision>28</cp:revision>
  <dc:subject/>
  <dc:title>GENETIC PROBLEMS</dc:title>
</cp:coreProperties>
</file>