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CE21-59EE-4162-8FA0-F99E796B0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ET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ETIC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ROBLEM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    WW    W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F2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     Ww   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1/4 or 25% chance for smooth-ha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/4 or 75% chance for wire-ha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WW    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F2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Ww   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/4 or 25% chance for smooth-hai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3/4 or 75% chance for wire-hai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ire-haired male is mated with a smooth-haired female.  The mother of the wire-haired male was smooth-hai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phenotypes and genotypes of the pups they could produ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the results of crossing: Ww  x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wire-haired male is mated with a smooth-haired female.  The mother of the wire-haired male was smooth-haired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phenotypes and genotypes of the pups they could produce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Show the results of crossing: Ww  x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2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Ww   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Ww   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Ww   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Ww   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napdragons, red flower (R) color is incompletely dominant over white flower (r)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terozygous (Rr) plants have pink flow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red 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pink 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white flow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snapdragons, red flower (R) color is incompletely dominant over white flower (r) color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e heterozygous (Rr) plants have pink flower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red flower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pink flower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white flowers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red-flowered plant is crossed with a white-flowered plant, what are the genotypes and phenotypes of the plants F1 gen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 x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f a red-flowered plant is crossed with a white-flowered plant, what are the genotypes and phenotypes of the plants F1 generatio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 x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Rr     R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Rr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% pink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% heterozyg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 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R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1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00% pink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00% heterozygou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genotypes and phenotypes will be produced in the F2 gen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 x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genotypes and phenotypes will be produced in the F2 generatio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 x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3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RR     R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2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Rr     r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s: 1:2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es:   1:2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 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RR     R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2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r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s: 1:2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es:   1:2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s of offspring can be produced if a red-flowered plant is crossed with a pink-flowered pl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 x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kinds of offspring can be produced if a red-flowered plant is crossed with a pink-flowered plan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 x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3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RR 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Rr 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0%: red flow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0%: pink flow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 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RR 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red flowe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pink flowe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different kinds of gametes could the following individuals produ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B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Dd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BbCc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mNnOoPpQ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UVVWWXXYYZ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How many different kinds of gametes could the following individuals produce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aB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CDde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ABbCc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mNnOoPpQq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UUVVWWXXYYZz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 of offspring is/are produced if a pink-flowered plant is crossed with a white-flowered pl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 x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kind of offspring is/are produced if a pink-flowered plant is crossed with a white-flowered plan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 x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      Rr 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      Rr 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%: white flow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%: pink flow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 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white flowe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pink flowe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humans, colorblindness (cc) is a recessive sex-linked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 - fem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Y - m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humans, colorblindness (cc) is a recessive sex-linked trait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emember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X - femal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Y - mal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ormal people have a colorblind 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genotypes of the par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CX_?  x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genotypes and phenotypes possible among their other childr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wo normal people have a colorblind son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genotypes of the parents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X_?  x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genotypes and phenotypes possible among their other childre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C        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 pa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C     XCXC  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c     XCXc   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%: female (one normal, one a carri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%: male (one normal, one colorbli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   Y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 parent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XCXC  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XCXc   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female (one normal, one a carrier)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male (one normal, one colorblind)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4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uple has a colorblind daugh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possible genotypes and phenotypes of the parents and the daugh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couple has a colorblind daughter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possible genotypes and phenotypes of the parents and the daughter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4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c        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C     XCXc  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c     XcXc   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rents: XcY and XCXc or XcX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ther colorbl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ther carrier or colorbl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ughter: XcXc - colorbl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   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XCXc  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XcXc   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arents: XcY and XCXc or XcX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ather colorblin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other carrier or colorblin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daughter: XcXc - colorblin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humans, the presence of freckles is due to a dominant gene (F) and the non-freckled condition is due to its recessive allele (f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pled cheeks (D) are dominant to non-dimpled cheeks (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humans, the presence of freckles is due to a dominant gene (F) and the non-freckled condition is due to its recessive allele (f)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Dimpled cheeks (D) are dominant to non-dimpled cheeks (d)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persons with freckles and dimpled cheeks have two children:  one has freckles but no dimples and one has dimples but no freck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genotypes of the parents?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__D__  x  F__D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ren:  F__dd  x  ffD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wo persons with freckles and dimpled cheeks have two children:  one has freckles but no dimples and one has dimples but no freckle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genotypes of the parents?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arent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__D__  x  F__D__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hildren:  F__dd  x  ffD__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possible phenotypes and genotypes of the children that they could produ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:   FfDd  x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dihybrid cr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possible phenotypes and genotypes of the children that they could produce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ross:   FfDd  x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is is a dihybrid cros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member the formula 2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here n = # of heterozyg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aBb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CDdee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ABbCc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mNnOoPpQq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UVVWWXXYYZz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emember the formula 2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ere n = # of heterozygou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aBb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CDdee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ABbCc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mNnOoPpQq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3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UUVVWWXXYYZz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5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ssible gametes for both:  FD  Fd  fD  f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Fd     fD     f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 FFDD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 FFDd 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 FfDD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  FfDd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ossible gametes for both:  FD  Fd  fD  f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Fd     fD     f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FFDD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FFDd 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FfDD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 FfDd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5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reckles/Dimpl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reckles/no dimpl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 freckles/Dimpl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 freckles/no dimpl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ic ratio will always been 9:3:3:1 for all F1 dihybrid cros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reckles/Dimpl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reckles/no dimpl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no freckles/Dimpl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no freckles/no dimpl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ic ratio will always been 9:3:3:1 for all F1 dihybrid crosse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5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ic ratio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ic ratio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chances that they would have a child whom lacks both freckles and dimp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hild will have a genotype of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chances that they would have a child whom lacks both freckles and dimples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is child will have a genotype of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nswer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/1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ith freckles and dimples whose mother lacked both freckles and dimples marries a person with freckles but not dimples whose father did not have freckles or dimp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fDd  x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game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  Fd  fD  fd  x  Fd  f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person with freckles and dimples whose mother lacked both freckles and dimples marries a person with freckles but not dimples whose father did not have freckles or dimple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ros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  x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ossible gametes: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Fd  fD  fd  x  Fd  f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chances that they would have a child whom lacks both freckles and dimp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      Fd     fD      f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    FFDd   FFdd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     FfDd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chances that they would have a child whom lacks both freckles and dimples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   Fd     fD      f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 FFDd   FFdd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  FfDd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nswer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/8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teen percent of the human population is known to be able to wiggle their 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rait is determined to be a recessive ge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is a population genetics ques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following equation: 1 = p2 + 2pq + 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Sixteen percent of the human population is known to be able to wiggle their ear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is trait is determined to be a recessive gene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ese is a population genetics question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Use the following equation: 1 = p2 + 2pq + q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6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f the population is homozygous dominant for this tra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2 = 16% or .16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q2 = .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 = 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us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 + 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 + 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 .4 = 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use p2  for answer:  .62 = .36 or 3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6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of the population is homozygous dominant for this trai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2 = 16% or .16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q2 = .1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 = .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en use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 = p + q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 = p + .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- .4 = p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 = .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Now use p2  for answer:  .62 = .36 or 36%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6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f the population is heterozygous for this tra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that  q = .4  and  p = 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use 2pq for answer:  2(.6)(.4) = .48 or 48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6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of the population is heterozygous for this trai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e know that  q = .4  and  p = .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Now use 2pq for answer:  2(.6)(.4) = .48 or 48%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dogs, the inheritance of hair color involves a gene B for black hair and gene b for brown hair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ominant C is also involved.  It must be present for the color to be synthes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is gene is not present, a blond condition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B, B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lack hai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, C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rown hai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l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7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dogs, the inheritance of hair color involves a gene B for black hair and gene b for brown hair b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dominant C is also involved.  It must be present for the color to be synthesized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f this gene is not present, a blond condition result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B, Bb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black hai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C, Cc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colo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b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brown hai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c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blon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dogs, wire-haired is due to a dominant gene (W), smooth-haired is due to its recessive allele (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, Ww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wire ha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smooth ha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dogs, wire-haired is due to a dominant gene (W), smooth-haired is due to its recessive allele (w)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W, Ww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wire hai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smooth hai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7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own haired male, whose father was a blond, is mated with a black haired female, whose mother was brown haired and her father was blo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e:   bbCc (gametes:  bC  b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ale: BbCc (gametes:  BC  Bc  bC  b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xpected ratios of their offspr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7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brown haired male, whose father was a blond, is mated with a black haired female, whose mother was brown haired and her father was blond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ale:   bbCc (gametes:  bC  bc)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emale: BbCc (gametes:  BC  Bc  bC  bc)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is the expected ratios of their offspring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7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C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Bc     bC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C  BbCC   BbCc   bbCC  bbC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c   BbCc   Bbcc   bbCc  bbc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ffspring rati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lack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/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own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/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lond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/8 or 1/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7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C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Bc     bC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C  BbCC   BbCc   bbCC  bbC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c   BbCc   Bbcc   bbCc  bbc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Offspring ratios: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lack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/8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rown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/8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lond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2/8 or 1/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ry Anonymous, a film star, was involved in a paternity case.  The woman bringing suit had two children, on whose blood type was A and the other whose blood type was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 blood type was O, the same as Henry’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udge in the case awarded damages to the woman damages to the woman, saying that Henry had to be the father of at least one of the child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8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Henry Anonymous, a film star, was involved in a paternity case.  The woman bringing suit had two children, on whose blood type was A and the other whose blood type was B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Her blood type was O, the same as Henry’s!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e judge in the case awarded damages to the woman damages to the woman, saying that Henry had to be the father of at least one of the children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8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viously, the judge should be sentenced to Biology.  For Henry to have been the father of both children, his blood type would have had to be wh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      I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  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i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I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i     I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8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Obviously, the judge should be sentenced to Biology.  For Henry to have been the father of both children, his blood type would have had to be wha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A      IB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   Answe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Ai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IBi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Ai     IBi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homozygous wire-haired dog is mated with a smooth-haired dog, what type of offspring could be pro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f a homozygous wire-haired dog is mated with a smooth-haired dog, what type of offspring could be produced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Ww    W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g                                   F1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Ww     W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all heterozyg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Ww    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g                                   F1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Ww     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all heterozygou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ype(s) of offspring could be produced in the F2 gen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breed the F1 generation to get the F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s of F1 Cross:  Ww  x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type(s) of offspring could be produced in the F2 generatio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ust breed the F1 generation to get the F2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esults of F1 Cross:  Ww  x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2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WW    W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F2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Ww   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e: 1:2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:  3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WW    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  F2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Ww   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e: 1:2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:  3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wire-haired dogs are mated.  Among the offspring of their first litter is a smooth-haired p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se, two wire-haired dogs mate again, what are the chances that they will produce another smooth-haired pu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chances that the pup will wire-haired pu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wo wire-haired dogs are mated.  Among the offspring of their first litter is a smooth-haired pup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f these, two wire-haired dogs mate again, what are the chances that they will produce another smooth-haired pup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chances that the pup will wire-haired pup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D6DE-611F-452C-AC33-1BFE40CA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02C2-BCB3-4B9C-8A9E-9FA4DA8E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B4FC-E964-42EF-A02D-86CF18A0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05E4-D297-481C-8CB5-F9C4E237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1327-5D1E-424E-8BBC-90EB6DCB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836B-4632-44A1-A7DA-6092DCFB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A302-CE9D-4266-925C-6AF26809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19C9-0FFB-4061-9619-5A98687F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6FB1-F3B7-4591-80C6-CC8C115C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AA78-E630-4DD6-B5BA-186D1C03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FDFE-1579-444C-B03A-1368AABC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929B-3C08-45E7-80F9-470F6C6C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B4F2-5A43-45D9-BDB7-40C033F9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068D-56AE-4CDF-98B1-8EB98DF4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9251-64ED-430F-8684-6B88FA54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E4D1-44BC-4F5F-85A8-A4EA8289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D68D-AB05-4CB5-908E-37630E1C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6644-351B-42B5-8466-B0886D55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30B7-628B-4A4F-9EF2-2E66A82D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ADF5-EFE0-49C8-BDD7-2749F81B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275-F073-4073-BA37-FBB9259F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320D-C711-4BB5-8C59-650773C1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1ADE-7480-47B3-AF58-C4F1ED5A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7320-15A1-4DE1-AB88-8B1A44E9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C355-A870-443A-AB0F-EF1C6F4A5F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8245-B14E-4BE5-8277-6FF889639B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GENETIC</a:t>
            </a: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PROBLEMS</a:t>
            </a:r>
            <a:endParaRPr b="0" lang="en-US" sz="6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WW    W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Ww   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1/4 or 25% chance for smooth-hai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3/4 or 75% chance for wire-hai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51" name="Group 11"/>
          <p:cNvGrpSpPr/>
          <p:nvPr/>
        </p:nvGrpSpPr>
        <p:grpSpPr>
          <a:xfrm>
            <a:off x="2057400" y="2666880"/>
            <a:ext cx="3048120" cy="2286000"/>
            <a:chOff x="2057400" y="2666880"/>
            <a:chExt cx="3048120" cy="2286000"/>
          </a:xfrm>
        </p:grpSpPr>
        <p:grpSp>
          <p:nvGrpSpPr>
            <p:cNvPr id="152" name="Group 5"/>
            <p:cNvGrpSpPr/>
            <p:nvPr/>
          </p:nvGrpSpPr>
          <p:grpSpPr>
            <a:xfrm>
              <a:off x="2057400" y="2666880"/>
              <a:ext cx="2514600" cy="2286000"/>
              <a:chOff x="2057400" y="2666880"/>
              <a:chExt cx="2514600" cy="2286000"/>
            </a:xfrm>
          </p:grpSpPr>
          <p:sp>
            <p:nvSpPr>
              <p:cNvPr id="153" name="Rectangle 6"/>
              <p:cNvSpPr/>
              <p:nvPr/>
            </p:nvSpPr>
            <p:spPr>
              <a:xfrm>
                <a:off x="2057400" y="266688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4" name="Line 7"/>
              <p:cNvSpPr/>
              <p:nvPr/>
            </p:nvSpPr>
            <p:spPr>
              <a:xfrm>
                <a:off x="3276720" y="266688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5" name="Line 8"/>
              <p:cNvSpPr/>
              <p:nvPr/>
            </p:nvSpPr>
            <p:spPr>
              <a:xfrm>
                <a:off x="2057400" y="380988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56" name="AutoShape 10"/>
            <p:cNvSpPr/>
            <p:nvPr/>
          </p:nvSpPr>
          <p:spPr>
            <a:xfrm>
              <a:off x="4648320" y="2666880"/>
              <a:ext cx="457200" cy="22860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5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 wire-haired male is mated with a smooth-haired female.  The mother of the wire-haired male was smooth-haire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h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f the pups they could produc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Show the results of crossing: Ww  x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Ww   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Ww   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es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otypes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63" name="Group 5"/>
          <p:cNvGrpSpPr/>
          <p:nvPr/>
        </p:nvGrpSpPr>
        <p:grpSpPr>
          <a:xfrm>
            <a:off x="1981080" y="2666880"/>
            <a:ext cx="2514600" cy="2286000"/>
            <a:chOff x="1981080" y="2666880"/>
            <a:chExt cx="2514600" cy="2286000"/>
          </a:xfrm>
        </p:grpSpPr>
        <p:sp>
          <p:nvSpPr>
            <p:cNvPr id="164" name="Rectangle 6"/>
            <p:cNvSpPr/>
            <p:nvPr/>
          </p:nvSpPr>
          <p:spPr>
            <a:xfrm>
              <a:off x="1981080" y="2666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5" name="Line 7"/>
            <p:cNvSpPr/>
            <p:nvPr/>
          </p:nvSpPr>
          <p:spPr>
            <a:xfrm>
              <a:off x="3200400" y="2666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6" name="Line 8"/>
            <p:cNvSpPr/>
            <p:nvPr/>
          </p:nvSpPr>
          <p:spPr>
            <a:xfrm>
              <a:off x="1981080" y="3809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6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 snapdragons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d flower (R)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color i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completely dominant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ver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ite flower (r)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color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heterozygous (Rr) plants have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pink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flower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RR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- red flower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6699"/>
                </a:solidFill>
                <a:latin typeface="Comic Sans MS"/>
              </a:rPr>
              <a:t>Rr </a:t>
            </a:r>
            <a:r>
              <a:rPr b="1" lang="en-US" sz="36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6699"/>
                </a:solidFill>
                <a:latin typeface="Comic Sans MS"/>
              </a:rPr>
              <a:t>- pink flower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r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white flower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f a </a:t>
            </a:r>
            <a:r>
              <a:rPr b="1" lang="en-US" sz="3200" spc="-1" strike="noStrike">
                <a:solidFill>
                  <a:srgbClr val="d60029"/>
                </a:solidFill>
                <a:latin typeface="Comic Sans MS"/>
              </a:rPr>
              <a:t>red-flowered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plant is crossed with 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ite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, what are the genotypes and phenotypes of the plants 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genera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x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r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         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     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     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es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00%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pink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otypes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00%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heterozygou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1981080" y="2590920"/>
            <a:ext cx="2971800" cy="2286000"/>
            <a:chOff x="1981080" y="2590920"/>
            <a:chExt cx="2971800" cy="2286000"/>
          </a:xfrm>
        </p:grpSpPr>
        <p:grpSp>
          <p:nvGrpSpPr>
            <p:cNvPr id="177" name="Group 4"/>
            <p:cNvGrpSpPr/>
            <p:nvPr/>
          </p:nvGrpSpPr>
          <p:grpSpPr>
            <a:xfrm>
              <a:off x="1981080" y="2590920"/>
              <a:ext cx="2514600" cy="2286000"/>
              <a:chOff x="1981080" y="2590920"/>
              <a:chExt cx="2514600" cy="2286000"/>
            </a:xfrm>
          </p:grpSpPr>
          <p:sp>
            <p:nvSpPr>
              <p:cNvPr id="178" name="Rectangle 5"/>
              <p:cNvSpPr/>
              <p:nvPr/>
            </p:nvSpPr>
            <p:spPr>
              <a:xfrm>
                <a:off x="1981080" y="259092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79" name="Line 6"/>
              <p:cNvSpPr/>
              <p:nvPr/>
            </p:nvSpPr>
            <p:spPr>
              <a:xfrm>
                <a:off x="3200400" y="259092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0" name="Line 7"/>
              <p:cNvSpPr/>
              <p:nvPr/>
            </p:nvSpPr>
            <p:spPr>
              <a:xfrm>
                <a:off x="1981080" y="373392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81" name="AutoShape 8"/>
            <p:cNvSpPr/>
            <p:nvPr/>
          </p:nvSpPr>
          <p:spPr>
            <a:xfrm>
              <a:off x="4572000" y="2590920"/>
              <a:ext cx="380880" cy="22860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8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genotypes and phenotypes will be produced in the 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genera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210000"/>
              </a:lnSpc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Rr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x  </a:t>
            </a: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R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         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 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es: 1:2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otypes:   1:2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88" name="Group 4"/>
          <p:cNvGrpSpPr/>
          <p:nvPr/>
        </p:nvGrpSpPr>
        <p:grpSpPr>
          <a:xfrm>
            <a:off x="1981080" y="2666880"/>
            <a:ext cx="2971800" cy="2286000"/>
            <a:chOff x="1981080" y="2666880"/>
            <a:chExt cx="2971800" cy="2286000"/>
          </a:xfrm>
        </p:grpSpPr>
        <p:grpSp>
          <p:nvGrpSpPr>
            <p:cNvPr id="189" name="Group 5"/>
            <p:cNvGrpSpPr/>
            <p:nvPr/>
          </p:nvGrpSpPr>
          <p:grpSpPr>
            <a:xfrm>
              <a:off x="1981080" y="2666880"/>
              <a:ext cx="2514600" cy="2286000"/>
              <a:chOff x="1981080" y="2666880"/>
              <a:chExt cx="2514600" cy="2286000"/>
            </a:xfrm>
          </p:grpSpPr>
          <p:sp>
            <p:nvSpPr>
              <p:cNvPr id="190" name="Rectangle 6"/>
              <p:cNvSpPr/>
              <p:nvPr/>
            </p:nvSpPr>
            <p:spPr>
              <a:xfrm>
                <a:off x="1981080" y="266688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1" name="Line 7"/>
              <p:cNvSpPr/>
              <p:nvPr/>
            </p:nvSpPr>
            <p:spPr>
              <a:xfrm>
                <a:off x="3200400" y="266688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2" name="Line 8"/>
              <p:cNvSpPr/>
              <p:nvPr/>
            </p:nvSpPr>
            <p:spPr>
              <a:xfrm>
                <a:off x="1981080" y="380988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93" name="AutoShape 9"/>
            <p:cNvSpPr/>
            <p:nvPr/>
          </p:nvSpPr>
          <p:spPr>
            <a:xfrm>
              <a:off x="4572000" y="2666880"/>
              <a:ext cx="380880" cy="22860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9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kinds of offspring can be produced if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ed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s crossed with a </a:t>
            </a: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pink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x  </a:t>
            </a: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R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         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R      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        Rr      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d flowe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pink flowe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00" name="Group 5"/>
          <p:cNvGrpSpPr/>
          <p:nvPr/>
        </p:nvGrpSpPr>
        <p:grpSpPr>
          <a:xfrm>
            <a:off x="2209680" y="2666880"/>
            <a:ext cx="2514600" cy="2286000"/>
            <a:chOff x="2209680" y="2666880"/>
            <a:chExt cx="2514600" cy="2286000"/>
          </a:xfrm>
        </p:grpSpPr>
        <p:sp>
          <p:nvSpPr>
            <p:cNvPr id="201" name="Rectangle 6"/>
            <p:cNvSpPr/>
            <p:nvPr/>
          </p:nvSpPr>
          <p:spPr>
            <a:xfrm>
              <a:off x="2209680" y="2666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2" name="Line 7"/>
            <p:cNvSpPr/>
            <p:nvPr/>
          </p:nvSpPr>
          <p:spPr>
            <a:xfrm>
              <a:off x="3429000" y="2666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3" name="Line 8"/>
            <p:cNvSpPr/>
            <p:nvPr/>
          </p:nvSpPr>
          <p:spPr>
            <a:xfrm>
              <a:off x="2209680" y="3809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0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1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ow many different kinds of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amete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could the following individuals produce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1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aaBb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CCDde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AABbCcD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MmNnOoPpQq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5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UUVVWWXXYYZz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kind of offspring is/are produced if a </a:t>
            </a: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pink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s crossed with 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ite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R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x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r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         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ite flowe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pink flowe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2133720" y="2666880"/>
            <a:ext cx="2514600" cy="2286000"/>
            <a:chOff x="2133720" y="2666880"/>
            <a:chExt cx="2514600" cy="2286000"/>
          </a:xfrm>
        </p:grpSpPr>
        <p:sp>
          <p:nvSpPr>
            <p:cNvPr id="211" name="Rectangle 6"/>
            <p:cNvSpPr/>
            <p:nvPr/>
          </p:nvSpPr>
          <p:spPr>
            <a:xfrm>
              <a:off x="2133720" y="2666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3353040" y="2666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3" name="Line 8"/>
            <p:cNvSpPr/>
            <p:nvPr/>
          </p:nvSpPr>
          <p:spPr>
            <a:xfrm>
              <a:off x="2133720" y="3809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1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 humans, colorblindness (cc) is a recessive sex-linked trait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member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X - femal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Y - mal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wo normal people have a colorblind s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g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f the parent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_?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x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g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ph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possible among their other children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Y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parent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 female (one normal, one a carrie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 male (one normal, one colorblind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1981080" y="2666880"/>
            <a:ext cx="2514600" cy="2286000"/>
            <a:chOff x="1981080" y="2666880"/>
            <a:chExt cx="2514600" cy="2286000"/>
          </a:xfrm>
        </p:grpSpPr>
        <p:sp>
          <p:nvSpPr>
            <p:cNvPr id="224" name="Rectangle 5"/>
            <p:cNvSpPr/>
            <p:nvPr/>
          </p:nvSpPr>
          <p:spPr>
            <a:xfrm>
              <a:off x="1981080" y="2666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5" name="Line 6"/>
            <p:cNvSpPr/>
            <p:nvPr/>
          </p:nvSpPr>
          <p:spPr>
            <a:xfrm>
              <a:off x="3200400" y="2666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6" name="Line 7"/>
            <p:cNvSpPr/>
            <p:nvPr/>
          </p:nvSpPr>
          <p:spPr>
            <a:xfrm>
              <a:off x="1981080" y="3809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2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 couple has 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lorblind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daughter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are the possibl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genotype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enotype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of the parents and the daughter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  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arents: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ather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lorbli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other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arrie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lorbli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aughter: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- colorbli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33" name="Group 4"/>
          <p:cNvGrpSpPr/>
          <p:nvPr/>
        </p:nvGrpSpPr>
        <p:grpSpPr>
          <a:xfrm>
            <a:off x="2057400" y="1676520"/>
            <a:ext cx="2514600" cy="2286000"/>
            <a:chOff x="2057400" y="1676520"/>
            <a:chExt cx="2514600" cy="2286000"/>
          </a:xfrm>
        </p:grpSpPr>
        <p:sp>
          <p:nvSpPr>
            <p:cNvPr id="234" name="Rectangle 5"/>
            <p:cNvSpPr/>
            <p:nvPr/>
          </p:nvSpPr>
          <p:spPr>
            <a:xfrm>
              <a:off x="2057400" y="167652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5" name="Line 6"/>
            <p:cNvSpPr/>
            <p:nvPr/>
          </p:nvSpPr>
          <p:spPr>
            <a:xfrm>
              <a:off x="3276720" y="167652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6" name="Line 7"/>
            <p:cNvSpPr/>
            <p:nvPr/>
          </p:nvSpPr>
          <p:spPr>
            <a:xfrm>
              <a:off x="2057400" y="281952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3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 humans, the presence of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reckle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s due to a dominant gen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F)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th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on-freckled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condition is due to its recessive allel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f)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mpled cheeks (D)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re dominant to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on-dimpled cheeks (d)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wo persons with freckles and dimpled cheeks have two children:  one has freckles but no dimples and one has dimples but no freckl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f the parents?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arents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_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x  F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hildren:  F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d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x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ff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are the possible phenotypes and genotypes of the children that they could produce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ross: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  x  FfD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is is a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dihybrid cros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1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member the formula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er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 = # of heterozygou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aaBb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CCDdee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3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AABbCcDD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MmNnOoPpQq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3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UUVVWWXXYYZz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ossible gametes for both:  FD  Fd  fD  f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Fd     fD     f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FDD  FFDd 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FFDd   FFdd 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FfDD  FfDd 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FfDd  Ffdd 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49" name="Group 11"/>
          <p:cNvGrpSpPr/>
          <p:nvPr/>
        </p:nvGrpSpPr>
        <p:grpSpPr>
          <a:xfrm>
            <a:off x="1295280" y="2971800"/>
            <a:ext cx="4800600" cy="3048120"/>
            <a:chOff x="1295280" y="2971800"/>
            <a:chExt cx="4800600" cy="3048120"/>
          </a:xfrm>
        </p:grpSpPr>
        <p:sp>
          <p:nvSpPr>
            <p:cNvPr id="250" name="Rectangle 4"/>
            <p:cNvSpPr/>
            <p:nvPr/>
          </p:nvSpPr>
          <p:spPr>
            <a:xfrm>
              <a:off x="1295280" y="2971800"/>
              <a:ext cx="4800600" cy="304812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1" name="Line 5"/>
            <p:cNvSpPr/>
            <p:nvPr/>
          </p:nvSpPr>
          <p:spPr>
            <a:xfrm>
              <a:off x="3733920" y="2971800"/>
              <a:ext cx="0" cy="3048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2" name="Line 6"/>
            <p:cNvSpPr/>
            <p:nvPr/>
          </p:nvSpPr>
          <p:spPr>
            <a:xfrm>
              <a:off x="2438280" y="2971800"/>
              <a:ext cx="0" cy="3048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3" name="Line 7"/>
            <p:cNvSpPr/>
            <p:nvPr/>
          </p:nvSpPr>
          <p:spPr>
            <a:xfrm>
              <a:off x="4952880" y="2971800"/>
              <a:ext cx="0" cy="3048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4" name="Line 8"/>
            <p:cNvSpPr/>
            <p:nvPr/>
          </p:nvSpPr>
          <p:spPr>
            <a:xfrm>
              <a:off x="1295280" y="449568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5" name="Line 9"/>
            <p:cNvSpPr/>
            <p:nvPr/>
          </p:nvSpPr>
          <p:spPr>
            <a:xfrm>
              <a:off x="1295280" y="373392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6" name="Line 10"/>
            <p:cNvSpPr/>
            <p:nvPr/>
          </p:nvSpPr>
          <p:spPr>
            <a:xfrm>
              <a:off x="1295280" y="525780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5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enotyp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reckles/Dimples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reckles/no dimples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o freckles/Dimples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o freckles/no dimples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ic ratio will always been 9:3:3:1 for all F1 dihybrid cross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Genotypic ratio: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2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2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4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2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2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are the chances that they would have a child whom lacks both freckles and dimples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is child will have a genotype of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nswer: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/16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 person with freckles and dimples whose mother lacked both freckles and dimples marries a person with freckles but not dimples whose father did not have freckles or dimpl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ross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x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ossible gametes: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D  Fd  fD  fd  x  Fd  f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chances that they would have a child whom lacks both freckles and dimple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D      Fd     fD      f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d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FFDd   FFdd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d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FfDd  Ffdd   ffDd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swer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/8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72" name="Group 12"/>
          <p:cNvGrpSpPr/>
          <p:nvPr/>
        </p:nvGrpSpPr>
        <p:grpSpPr>
          <a:xfrm>
            <a:off x="1371600" y="3581280"/>
            <a:ext cx="4800600" cy="1523880"/>
            <a:chOff x="1371600" y="3581280"/>
            <a:chExt cx="4800600" cy="1523880"/>
          </a:xfrm>
        </p:grpSpPr>
        <p:sp>
          <p:nvSpPr>
            <p:cNvPr id="273" name="Rectangle 5"/>
            <p:cNvSpPr/>
            <p:nvPr/>
          </p:nvSpPr>
          <p:spPr>
            <a:xfrm>
              <a:off x="1371600" y="3581280"/>
              <a:ext cx="4800600" cy="15238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4" name="Line 6"/>
            <p:cNvSpPr/>
            <p:nvPr/>
          </p:nvSpPr>
          <p:spPr>
            <a:xfrm>
              <a:off x="3810240" y="358128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5" name="Line 7"/>
            <p:cNvSpPr/>
            <p:nvPr/>
          </p:nvSpPr>
          <p:spPr>
            <a:xfrm>
              <a:off x="2514600" y="358128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5029200" y="358128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7" name="Line 10"/>
            <p:cNvSpPr/>
            <p:nvPr/>
          </p:nvSpPr>
          <p:spPr>
            <a:xfrm>
              <a:off x="1371600" y="434340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7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6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ixteen percent of the human population is known to be able to wiggle their ear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is trait is determined to be a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ecessive gen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se is a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opulation genetic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quest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Use the following equation: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 = p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+ 2pq + q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6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of the population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omozygous dominant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for this trait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-28116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= 16% or .16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2 =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.1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 = .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-28116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n us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1 = p + 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1 = p + .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1- .4 = 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 = .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-28116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ow use p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or answer:  .6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= .36 or 36%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5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6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of the population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eterozygou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or this trait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e know that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q = .4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nd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 = .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ow use 2pq for answer:  2(.6)(.4) = .48 or 48%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7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 dogs, the inheritance of hair color involves a gene B for black hair and gene b for brown hair b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dominant 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is also involved.  It must be present for the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colo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to be synthesize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f this gene is not present, a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blond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condition resul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B, Bb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black hai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C, C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- colo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b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brown hai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- blo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 dogs, wire-haired is due to a dominant gene (W), smooth-haired is due to its recessive allele (w)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W, Ww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= wire hai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w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= smooth hai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7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 brown haired male, whose father was a blond, is mated with a black haired female, whose mother was brown haired and her father was blon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ale: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bCc (gametes:  bC  bc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emale: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bCc (gametes:  BC  Bc  bC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hat is the expected ratios of their offspring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6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7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Bc     b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BbCC   BbCc   bbCC  bbCc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BbCc   Bbcc   bbCc  bbcc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ffspring ratios: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lack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/8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rown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/8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lond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/8 or 1/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96" name="Group 2"/>
          <p:cNvGrpSpPr/>
          <p:nvPr/>
        </p:nvGrpSpPr>
        <p:grpSpPr>
          <a:xfrm>
            <a:off x="1447920" y="2514600"/>
            <a:ext cx="4800600" cy="1523880"/>
            <a:chOff x="1447920" y="2514600"/>
            <a:chExt cx="4800600" cy="1523880"/>
          </a:xfrm>
        </p:grpSpPr>
        <p:sp>
          <p:nvSpPr>
            <p:cNvPr id="297" name="Rectangle 7"/>
            <p:cNvSpPr/>
            <p:nvPr/>
          </p:nvSpPr>
          <p:spPr>
            <a:xfrm>
              <a:off x="1447920" y="2514600"/>
              <a:ext cx="4800600" cy="15238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8" name="Line 6"/>
            <p:cNvSpPr/>
            <p:nvPr/>
          </p:nvSpPr>
          <p:spPr>
            <a:xfrm>
              <a:off x="3886560" y="251460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9" name="Line 5"/>
            <p:cNvSpPr/>
            <p:nvPr/>
          </p:nvSpPr>
          <p:spPr>
            <a:xfrm>
              <a:off x="2590920" y="251460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0" name="Line 4"/>
            <p:cNvSpPr/>
            <p:nvPr/>
          </p:nvSpPr>
          <p:spPr>
            <a:xfrm>
              <a:off x="5105520" y="251460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1" name="Line 3"/>
            <p:cNvSpPr/>
            <p:nvPr/>
          </p:nvSpPr>
          <p:spPr>
            <a:xfrm>
              <a:off x="1447920" y="327672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0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8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enry Anonymous, a film star, was involved in a paternity case.  The woman bringing suit had two children, on whos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lood typ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as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A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and the other whos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lood typ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as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B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8520" indent="-308520">
              <a:lnSpc>
                <a:spcPct val="1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e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lood typ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wa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, the same as Henry’s!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judge in the case awarded damages to the woman damages to the woman, saying that Henry had to be the father of at least one of the childre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8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viously, the judge should be sentenced to Biology.  For Henry to have been the father of both children, h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lood typ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would have had to be what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   I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Answe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     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08" name="Group 5"/>
          <p:cNvGrpSpPr/>
          <p:nvPr/>
        </p:nvGrpSpPr>
        <p:grpSpPr>
          <a:xfrm>
            <a:off x="3581280" y="3809880"/>
            <a:ext cx="2514600" cy="2286000"/>
            <a:chOff x="3581280" y="3809880"/>
            <a:chExt cx="2514600" cy="2286000"/>
          </a:xfrm>
        </p:grpSpPr>
        <p:sp>
          <p:nvSpPr>
            <p:cNvPr id="309" name="Rectangle 6"/>
            <p:cNvSpPr/>
            <p:nvPr/>
          </p:nvSpPr>
          <p:spPr>
            <a:xfrm>
              <a:off x="3581280" y="3809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0" name="Line 7"/>
            <p:cNvSpPr/>
            <p:nvPr/>
          </p:nvSpPr>
          <p:spPr>
            <a:xfrm>
              <a:off x="4800600" y="3809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1" name="Line 8"/>
            <p:cNvSpPr/>
            <p:nvPr/>
          </p:nvSpPr>
          <p:spPr>
            <a:xfrm>
              <a:off x="3581280" y="4952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1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f a homozygous wire-haired dog is mated with a smooth-haired dog, what type of offspring could be produce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0" name="Group 7"/>
          <p:cNvGrpSpPr/>
          <p:nvPr/>
        </p:nvGrpSpPr>
        <p:grpSpPr>
          <a:xfrm>
            <a:off x="3581280" y="4114800"/>
            <a:ext cx="2514600" cy="2286000"/>
            <a:chOff x="3581280" y="4114800"/>
            <a:chExt cx="2514600" cy="2286000"/>
          </a:xfrm>
        </p:grpSpPr>
        <p:sp>
          <p:nvSpPr>
            <p:cNvPr id="121" name="Rectangle 4"/>
            <p:cNvSpPr/>
            <p:nvPr/>
          </p:nvSpPr>
          <p:spPr>
            <a:xfrm>
              <a:off x="3581280" y="411480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>
              <a:off x="4800600" y="411480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3" name="Line 6"/>
            <p:cNvSpPr/>
            <p:nvPr/>
          </p:nvSpPr>
          <p:spPr>
            <a:xfrm>
              <a:off x="3581280" y="525780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2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w    W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g                                 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w     W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ll heterozygou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2743200" y="2743200"/>
            <a:ext cx="3048120" cy="2286000"/>
            <a:chOff x="2743200" y="2743200"/>
            <a:chExt cx="3048120" cy="2286000"/>
          </a:xfrm>
        </p:grpSpPr>
        <p:grpSp>
          <p:nvGrpSpPr>
            <p:cNvPr id="128" name="Group 4"/>
            <p:cNvGrpSpPr/>
            <p:nvPr/>
          </p:nvGrpSpPr>
          <p:grpSpPr>
            <a:xfrm>
              <a:off x="2743200" y="2743200"/>
              <a:ext cx="2514600" cy="2286000"/>
              <a:chOff x="2743200" y="2743200"/>
              <a:chExt cx="2514600" cy="2286000"/>
            </a:xfrm>
          </p:grpSpPr>
          <p:sp>
            <p:nvSpPr>
              <p:cNvPr id="129" name="Rectangle 5"/>
              <p:cNvSpPr/>
              <p:nvPr/>
            </p:nvSpPr>
            <p:spPr>
              <a:xfrm>
                <a:off x="2743200" y="274320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30" name="Line 6"/>
              <p:cNvSpPr/>
              <p:nvPr/>
            </p:nvSpPr>
            <p:spPr>
              <a:xfrm>
                <a:off x="3962520" y="274320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31" name="Line 7"/>
              <p:cNvSpPr/>
              <p:nvPr/>
            </p:nvSpPr>
            <p:spPr>
              <a:xfrm>
                <a:off x="2743200" y="388620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32" name="AutoShape 8"/>
            <p:cNvSpPr/>
            <p:nvPr/>
          </p:nvSpPr>
          <p:spPr>
            <a:xfrm>
              <a:off x="5334120" y="2743200"/>
              <a:ext cx="457200" cy="22860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3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type(s) of offspring could be produced in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ust breed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to get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sults of F1 Cross:  Ww  x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WW    W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Ww   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otype: 1:2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e:  3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1752480" y="2743200"/>
            <a:ext cx="3048120" cy="2286000"/>
            <a:chOff x="1752480" y="2743200"/>
            <a:chExt cx="3048120" cy="2286000"/>
          </a:xfrm>
        </p:grpSpPr>
        <p:grpSp>
          <p:nvGrpSpPr>
            <p:cNvPr id="140" name="Group 5"/>
            <p:cNvGrpSpPr/>
            <p:nvPr/>
          </p:nvGrpSpPr>
          <p:grpSpPr>
            <a:xfrm>
              <a:off x="1752480" y="2743200"/>
              <a:ext cx="2514600" cy="2286000"/>
              <a:chOff x="1752480" y="2743200"/>
              <a:chExt cx="2514600" cy="2286000"/>
            </a:xfrm>
          </p:grpSpPr>
          <p:sp>
            <p:nvSpPr>
              <p:cNvPr id="141" name="Rectangle 6"/>
              <p:cNvSpPr/>
              <p:nvPr/>
            </p:nvSpPr>
            <p:spPr>
              <a:xfrm>
                <a:off x="1752480" y="274320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2" name="Line 7"/>
              <p:cNvSpPr/>
              <p:nvPr/>
            </p:nvSpPr>
            <p:spPr>
              <a:xfrm>
                <a:off x="2971800" y="274320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3" name="Line 8"/>
              <p:cNvSpPr/>
              <p:nvPr/>
            </p:nvSpPr>
            <p:spPr>
              <a:xfrm>
                <a:off x="1752480" y="388620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44" name="AutoShape 9"/>
            <p:cNvSpPr/>
            <p:nvPr/>
          </p:nvSpPr>
          <p:spPr>
            <a:xfrm>
              <a:off x="4343400" y="2743200"/>
              <a:ext cx="457200" cy="22860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4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wo wire-haired dogs are mated.  Among the offspring of their first litter is a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smooth-haired pup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f these, two wire-haired dogs mate again, what are the chances that they will produce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another smooth-haired pup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chances that the pup will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ire-haired pup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9T05:02:52Z</dcterms:created>
  <dc:creator>Cheryl Massengale</dc:creator>
  <dc:description/>
  <dc:language>en-US</dc:language>
  <cp:lastModifiedBy>LEGION</cp:lastModifiedBy>
  <dcterms:modified xsi:type="dcterms:W3CDTF">2016-12-07T12:35:06Z</dcterms:modified>
  <cp:revision>28</cp:revision>
  <dc:subject/>
  <dc:title>GENETIC PROBLEMS</dc:title>
</cp:coreProperties>
</file>