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5.jpeg" ContentType="image/jpeg"/>
  <Override PartName="/ppt/media/image14.png" ContentType="image/png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730C8-0299-41A8-9209-07D026E859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Techn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DNA Techn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Sequenc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sult is DNA fragments of multiple sizes with colors that can be identifi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Sequenc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sult is DNA fragments of multiple sizes with colors that can be identifi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Sequenc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ter the gel separates the resulting fragments by size, we 'read' the sequence from bottom to top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Sequenc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ter the gel separates the resulting fragments by size, we 'read' the sequence from bottom to top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ing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ymerase Chain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 called PC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method of making many copies of a piece of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ing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ymerase Chain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 called PC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method of making many copies of a piece of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s in Copying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DNA molecule is placed in a small test tu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polymerase that can work at high temps is add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s in Copying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DNA molecule is placed in a small test tu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polymerase that can work at high temps is add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s in Copying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NA is heated to separate the two stra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mers, short pieces of DNA complementary to the ends of the molecule to be copied, are add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s in Copying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NA is heated to separate the two stra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mers, short pieces of DNA complementary to the ends of the molecule to be copied, are add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ing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ube is cooled, and DNA polymerase adds new bases to the separated stra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ing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ube is cooled, and DNA polymerase adds new bases to the separated stra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C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rge amounts of DNA can be made from a small starting s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C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rge amounts of DNA can be made from a small starting s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ne- a member of a group of genetically identical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 be produced by asexual reproduction (mitosi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ne- a member of a group of genetically identical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 be produced by asexual reproduction (mitosi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ning organis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ody cell from one organism and an egg cell from another are fu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sulting cell divides like a normal embry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ning organis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ody cell from one organism and an egg cell from another are fu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sulting cell divides like a normal embry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ning “Dolly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loning “Dolly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Extr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ical treatments cause cells and nuclei to bur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NA is inherently sticky, and can be pulled out of the mix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called “spooling”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Extr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ical treatments cause cells and nuclei to bur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NA is inherently sticky, and can be pulled out of the mix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called “spooling”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man Genome Pro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uman Genome Pro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man Genome Pro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d in 199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earch effort to sequence all of our DNA (46 chromosom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er 3.3 billion nucleot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pping every gene location (loc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ducted by scientists around the wor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man Genome Pro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d in 199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earch effort to sequence all of our DNA (46 chromosom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er 3.3 billion nucleot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pping every gene location (loc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ducted by scientists around the wor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GP Insigh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ly 2% of human genome codes for proteins (exo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98% (introns) are non-co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ly about 20,000 to 25,000 genes (expected 100,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eome – organism’s complete set of prote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8 million single nucleotide polymorphisms (SNP) – places where humans differ by a single nucleot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½ of genome comes from transposons (pieces of DNA that move to different locations on chromosom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GP Insigh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ly 2% of human genome codes for proteins (exo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98% (introns) are non-co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ly about 20,000 to 25,000 genes (expected 100,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eome – organism’s complete set of prote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8 million single nucleotide polymorphisms (SNP) – places where humans differ by a single nucleot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½ of genome comes from transposons (pieces of DNA that move to different locations on chromosom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nefits of Human Genome Pro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rovements in medical prevention of disease, gene therapies, diagnosis techniques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tion of useful protein products for use in medicine, agriculture, bioremediation and pharmaceutical indust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roved bioinformatics – using computers to help in DNA sequencing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19240" y="673200"/>
            <a:ext cx="4584600" cy="343836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09360" y="4335480"/>
            <a:ext cx="500220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nefits of Human Genome Pro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rovements in medical prevention of disease, gene therapies, diagnosis techniques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tion of useful protein products for use in medicine, agriculture, bioremediation and pharmaceutical indust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roved bioinformatics – using computers to help in DNA sequencing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nefits of Genetic Enginee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enefits of Genetic Enginee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otechnology 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use of gene science to create new products from plants and ani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19240" y="673200"/>
            <a:ext cx="4584600" cy="343836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909360" y="4335480"/>
            <a:ext cx="500220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otechnology 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use of gene science to create new products from plants and ani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otechnolog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vid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roved food 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dical adva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nhanced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19240" y="673200"/>
            <a:ext cx="4584600" cy="343836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09360" y="4335480"/>
            <a:ext cx="500220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otechnolog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vid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roved food 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dical adva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nhanced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bicide Resistant Cr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ybeans: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ndup 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n: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ndup Ready, Liberty Lin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tton: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XN, Roundup Read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ola: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berty Link, Roundup 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 CP4 EPSPS = Roundup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erbicide Resistant Cr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oybeans: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oundup 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orn: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oundup Ready, Liberty Lin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otton: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XN, Roundup Read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anola: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iberty Link, Roundup 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+ CP4 EPSPS = Roundup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gene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otechnology Breakthroug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ulin (198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ommercial biotech produ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iable, inexpensive source of insul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riched with beta-carotene and i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nan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ining edible hepatitis vacc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19240" y="673200"/>
            <a:ext cx="4584600" cy="343836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09360" y="4335480"/>
            <a:ext cx="500220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iotechnology Breakthroug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Insulin (198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irst commercial biotech produ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eliable, inexpensive source of insul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nriched with beta-carotene and i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anan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ontaining edible hepatitis vacc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otechnology Breakthroug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tatoes with higher solid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rlic that lowers choleste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uits and vegetables that reduc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sks of cancer and heart dis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19240" y="673200"/>
            <a:ext cx="4584600" cy="343836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09360" y="4335480"/>
            <a:ext cx="500220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otechnology Breakthroug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tatoes with higher solid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rlic that lowers choleste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uits and vegetables that reduc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sks of cancer and heart dis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ooled”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pooled”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vironmental Benef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ed pesticide 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er energy requir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eaner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ss soil ero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19240" y="673200"/>
            <a:ext cx="4584600" cy="343836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09360" y="4335480"/>
            <a:ext cx="500220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vironmental Benef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ed pesticide 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er energy requir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eaner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ss soil ero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tting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riction enzymes cut DNA at specific sequ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ful to divide DNA into manageable frag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tting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riction enzymes cut DNA at specific sequ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ful to divide DNA into manageable frag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phor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can be separated based on size and char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hosphate groups are negatively charg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is placed in a gel and electricity is run throu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phor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can be separated based on size and char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hosphate groups are negatively charg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is placed in a gel and electricity is run throu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phor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gative DNA moves toward the positive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er fragments move farther and f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phor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gative DNA moves toward the positive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er fragments move farther and f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phor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lectrophor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s in DNA Sequenc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copies of a single strand of DNA are placed in a test tu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polymerase is add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mixture of nucleotides is added some of which have dye molecules attach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base (A,T,C,G) has a different color dy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s in DNA Sequenc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copies of a single strand of DNA are placed in a test tu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polymerase is add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mixture of nucleotides is added some of which have dye molecules attach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base (A,T,C,G) has a different color dy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s in DNA Sequenc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chance, some dyed nucleotides &amp; some regular ones are add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e molecules are large and stop the chain from grow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s in DNA Sequenc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chance, some dyed nucleotides &amp; some regular ones are add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e molecules are large and stop the chain from grow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6AF81C-10D8-46C9-ACFF-F7CB9C7CC8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5530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240" y="1905120"/>
            <a:ext cx="65530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240" y="4213440"/>
            <a:ext cx="65530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CD2107-91D4-4C13-9F16-CCC80DA8D6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5530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240" y="1905120"/>
            <a:ext cx="31978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86320" y="1905120"/>
            <a:ext cx="31978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240" y="4213440"/>
            <a:ext cx="31978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86320" y="4213440"/>
            <a:ext cx="31978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440B87-A7F7-48C4-9563-47AE4DFAF7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5530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240" y="1905120"/>
            <a:ext cx="21099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44040" y="1905120"/>
            <a:ext cx="21099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59840" y="1905120"/>
            <a:ext cx="21099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240" y="4213440"/>
            <a:ext cx="21099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44040" y="4213440"/>
            <a:ext cx="21099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659840" y="4213440"/>
            <a:ext cx="21099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4C96C6-AB85-4047-BD47-3B8405A2EE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B936EF-7FD6-4154-A330-481DEA72D69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5530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240" y="1905120"/>
            <a:ext cx="655308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1C462C-5C9C-463A-BC3F-223A8E76724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5530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240" y="1905120"/>
            <a:ext cx="65530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7CDAEF-8A24-4F07-AA3C-0D38C454F42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5530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240" y="1905120"/>
            <a:ext cx="31978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586320" y="1905120"/>
            <a:ext cx="31978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AD4A37-5EC8-4B27-AB1B-E23977952E3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5530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CA893E-52C0-4104-9E4E-1C77EA6D427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8240" y="228600"/>
            <a:ext cx="655308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9FB93D-7F8B-46C3-8CB5-6990C158A67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5530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240" y="1905120"/>
            <a:ext cx="31978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586320" y="1905120"/>
            <a:ext cx="31978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240" y="4213440"/>
            <a:ext cx="31978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070CEF-5EB9-4E81-A8F9-2651ACF1E24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5530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240" y="1905120"/>
            <a:ext cx="655308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FE6D38-0785-418C-838E-CC8CBAE292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5530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240" y="1905120"/>
            <a:ext cx="31978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586320" y="1905120"/>
            <a:ext cx="31978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586320" y="4213440"/>
            <a:ext cx="31978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5434C2-5FB1-4B38-88D7-231B1DF7F73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5530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240" y="1905120"/>
            <a:ext cx="31978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586320" y="1905120"/>
            <a:ext cx="31978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240" y="4213440"/>
            <a:ext cx="65530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E91270-0B4D-4CE2-B3EC-030A9E1A234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5530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240" y="1905120"/>
            <a:ext cx="65530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240" y="4213440"/>
            <a:ext cx="65530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17CF34-9FEE-4D8B-8E6A-BA639919577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5530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240" y="1905120"/>
            <a:ext cx="31978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586320" y="1905120"/>
            <a:ext cx="31978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240" y="4213440"/>
            <a:ext cx="31978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3586320" y="4213440"/>
            <a:ext cx="31978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947CEE-0278-422F-838C-43770AA4B42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5530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240" y="1905120"/>
            <a:ext cx="21099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444040" y="1905120"/>
            <a:ext cx="21099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59840" y="1905120"/>
            <a:ext cx="21099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240" y="4213440"/>
            <a:ext cx="21099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444040" y="4213440"/>
            <a:ext cx="21099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4659840" y="4213440"/>
            <a:ext cx="21099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A0133B-9C60-424D-A880-539C9E4FECD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5530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240" y="1905120"/>
            <a:ext cx="65530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F49CFB-5D32-497E-9244-6C7151074A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5530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240" y="1905120"/>
            <a:ext cx="31978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86320" y="1905120"/>
            <a:ext cx="31978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E56A08-D09E-48BD-B156-69B584F15C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5530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D6805A-9A9D-4180-B228-81C7BD55EF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240" y="228600"/>
            <a:ext cx="655308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914C60-AB3E-48B4-9808-924BD0443D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5530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240" y="1905120"/>
            <a:ext cx="31978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86320" y="1905120"/>
            <a:ext cx="31978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240" y="4213440"/>
            <a:ext cx="31978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2AB259-F900-40A2-ABDE-305F24E265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5530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240" y="1905120"/>
            <a:ext cx="31978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86320" y="1905120"/>
            <a:ext cx="31978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86320" y="4213440"/>
            <a:ext cx="31978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2E822E-4A60-47D8-985F-02D5B50E31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5530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240" y="1905120"/>
            <a:ext cx="31978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86320" y="1905120"/>
            <a:ext cx="31978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240" y="4213440"/>
            <a:ext cx="65530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145E08-C81C-4A1D-9A06-5B39F20C73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5530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240" y="1905120"/>
            <a:ext cx="65530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0" y="6629040"/>
            <a:ext cx="4648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4876560" y="6629040"/>
            <a:ext cx="19047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596D8-55CC-4B5D-9C94-F7BE41D918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6" descr=""/>
          <p:cNvPicPr/>
          <p:nvPr/>
        </p:nvPicPr>
        <p:blipFill>
          <a:blip r:embed="rId2"/>
          <a:stretch/>
        </p:blipFill>
        <p:spPr>
          <a:xfrm>
            <a:off x="6858000" y="0"/>
            <a:ext cx="2286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"/>
          <p:cNvPicPr/>
          <p:nvPr/>
        </p:nvPicPr>
        <p:blipFill>
          <a:blip r:embed="rId2"/>
          <a:stretch/>
        </p:blipFill>
        <p:spPr>
          <a:xfrm>
            <a:off x="6019920" y="0"/>
            <a:ext cx="312408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5530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228240" y="1905120"/>
            <a:ext cx="65530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3"/>
          </p:nvPr>
        </p:nvSpPr>
        <p:spPr>
          <a:xfrm>
            <a:off x="838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ScholHudson-Regular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cholHudson-Regular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4"/>
          </p:nvPr>
        </p:nvSpPr>
        <p:spPr>
          <a:xfrm>
            <a:off x="4267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ScholHudson-Regular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FA2C8-428C-423D-B637-A23123987E2B}" type="slidenum">
              <a:rPr b="0" lang="en-US" sz="1400" spc="-1" strike="noStrike">
                <a:solidFill>
                  <a:srgbClr val="000000"/>
                </a:solidFill>
                <a:latin typeface="ScholHudson-Regula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carnegieinstitution.org/first_light_case/horn/DNA/images/dnaglopp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1920" y="1447560"/>
            <a:ext cx="5791320" cy="32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DNA Technology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Місце для нижнього колонтитула 1"/>
          <p:cNvSpPr/>
          <p:nvPr/>
        </p:nvSpPr>
        <p:spPr>
          <a:xfrm>
            <a:off x="838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cholHudson-Regular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426708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DNA Sequen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600" y="2133360"/>
            <a:ext cx="40384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result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is DNA fragments of </a:t>
            </a:r>
            <a:r>
              <a:rPr b="1" lang="en-US" sz="3600" spc="-1" strike="noStrike">
                <a:solidFill>
                  <a:srgbClr val="008000"/>
                </a:solidFill>
                <a:latin typeface="Comic Sans MS"/>
              </a:rPr>
              <a:t>multiple sizes with colors that can be identifi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4" descr="gelfrag"/>
          <p:cNvPicPr/>
          <p:nvPr/>
        </p:nvPicPr>
        <p:blipFill>
          <a:blip r:embed="rId1"/>
          <a:stretch/>
        </p:blipFill>
        <p:spPr>
          <a:xfrm>
            <a:off x="4648320" y="380880"/>
            <a:ext cx="1765080" cy="5810400"/>
          </a:xfrm>
          <a:prstGeom prst="rect">
            <a:avLst/>
          </a:prstGeom>
          <a:ln w="0">
            <a:noFill/>
          </a:ln>
        </p:spPr>
      </p:pic>
      <p:sp>
        <p:nvSpPr>
          <p:cNvPr id="121" name="Місце для нижнього колонтитула 1"/>
          <p:cNvSpPr/>
          <p:nvPr/>
        </p:nvSpPr>
        <p:spPr>
          <a:xfrm>
            <a:off x="0" y="6629400"/>
            <a:ext cx="4648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63244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DNA Sequen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61722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After the gel separates the resulting fragments by size, we </a:t>
            </a:r>
            <a:r>
              <a:rPr b="1" lang="en-US" sz="3600" spc="-1" strike="noStrike">
                <a:solidFill>
                  <a:srgbClr val="008000"/>
                </a:solidFill>
                <a:latin typeface="Comic Sans MS"/>
              </a:rPr>
              <a:t>'read' the sequence from bottom to top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12" descr="function_showorfs_ex2"/>
          <p:cNvPicPr/>
          <p:nvPr/>
        </p:nvPicPr>
        <p:blipFill>
          <a:blip r:embed="rId1"/>
          <a:stretch/>
        </p:blipFill>
        <p:spPr>
          <a:xfrm>
            <a:off x="2133720" y="3581280"/>
            <a:ext cx="3838320" cy="3048120"/>
          </a:xfrm>
          <a:prstGeom prst="rect">
            <a:avLst/>
          </a:prstGeom>
          <a:ln w="0">
            <a:noFill/>
          </a:ln>
        </p:spPr>
      </p:pic>
      <p:sp>
        <p:nvSpPr>
          <p:cNvPr id="125" name="Місце для нижнього колонтитула 1"/>
          <p:cNvSpPr/>
          <p:nvPr/>
        </p:nvSpPr>
        <p:spPr>
          <a:xfrm>
            <a:off x="0" y="6629400"/>
            <a:ext cx="4648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5530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Copying D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64771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8000"/>
                </a:solidFill>
                <a:latin typeface="Comic Sans MS"/>
              </a:rPr>
              <a:t>Polymerase Chain Re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lso called PC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method of making many copies of a piece of D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5" descr="pcr"/>
          <p:cNvPicPr/>
          <p:nvPr/>
        </p:nvPicPr>
        <p:blipFill>
          <a:blip r:embed="rId1"/>
          <a:stretch/>
        </p:blipFill>
        <p:spPr>
          <a:xfrm>
            <a:off x="1447920" y="3505320"/>
            <a:ext cx="4476600" cy="3047760"/>
          </a:xfrm>
          <a:prstGeom prst="rect">
            <a:avLst/>
          </a:prstGeom>
          <a:ln w="0">
            <a:noFill/>
          </a:ln>
        </p:spPr>
      </p:pic>
      <p:sp>
        <p:nvSpPr>
          <p:cNvPr id="129" name="Місце для нижнього колонтитула 1"/>
          <p:cNvSpPr/>
          <p:nvPr/>
        </p:nvSpPr>
        <p:spPr>
          <a:xfrm>
            <a:off x="0" y="6629400"/>
            <a:ext cx="4648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0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5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0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55308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Steps in Copying D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28240" y="1905120"/>
            <a:ext cx="655308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lvl="1" marL="683280" indent="-262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 DNA molecule is placed in a small test tu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99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DNA polymerase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that can work at high temps is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5" descr="200px-DNA_polymerase"/>
          <p:cNvPicPr/>
          <p:nvPr/>
        </p:nvPicPr>
        <p:blipFill>
          <a:blip r:embed="rId1"/>
          <a:stretch/>
        </p:blipFill>
        <p:spPr>
          <a:xfrm>
            <a:off x="2895480" y="4191120"/>
            <a:ext cx="2156040" cy="2286000"/>
          </a:xfrm>
          <a:prstGeom prst="rect">
            <a:avLst/>
          </a:prstGeom>
          <a:ln w="0">
            <a:noFill/>
          </a:ln>
        </p:spPr>
      </p:pic>
      <p:sp>
        <p:nvSpPr>
          <p:cNvPr id="133" name="Місце для нижнього колонтитула 1"/>
          <p:cNvSpPr/>
          <p:nvPr/>
        </p:nvSpPr>
        <p:spPr>
          <a:xfrm>
            <a:off x="0" y="6629400"/>
            <a:ext cx="4648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3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6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655308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Steps in Copying D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1828440"/>
            <a:ext cx="60199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US" sz="3600" spc="-1" strike="noStrike">
                <a:solidFill>
                  <a:srgbClr val="008000"/>
                </a:solidFill>
                <a:latin typeface="Comic Sans MS"/>
              </a:rPr>
              <a:t>DNA is heated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to separate the two str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8000"/>
                </a:solidFill>
                <a:latin typeface="Comic Sans MS"/>
              </a:rPr>
              <a:t>Primers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, short pieces of DNA complementary to the ends of the molecule to be copied, are add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4"/>
          <p:cNvSpPr/>
          <p:nvPr/>
        </p:nvSpPr>
        <p:spPr>
          <a:xfrm flipV="1">
            <a:off x="3400560" y="11905920"/>
            <a:ext cx="3962160" cy="1908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6"/>
          <p:cNvSpPr/>
          <p:nvPr/>
        </p:nvSpPr>
        <p:spPr>
          <a:xfrm>
            <a:off x="0" y="-506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8"/>
          <p:cNvSpPr/>
          <p:nvPr/>
        </p:nvSpPr>
        <p:spPr>
          <a:xfrm>
            <a:off x="1800" y="-4772520"/>
            <a:ext cx="215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9"/>
          <p:cNvSpPr/>
          <p:nvPr/>
        </p:nvSpPr>
        <p:spPr>
          <a:xfrm flipV="1">
            <a:off x="3400560" y="11905920"/>
            <a:ext cx="3962160" cy="1908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13"/>
          <p:cNvSpPr/>
          <p:nvPr/>
        </p:nvSpPr>
        <p:spPr>
          <a:xfrm>
            <a:off x="1800" y="-4772520"/>
            <a:ext cx="215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14"/>
          <p:cNvSpPr/>
          <p:nvPr/>
        </p:nvSpPr>
        <p:spPr>
          <a:xfrm flipV="1">
            <a:off x="3400560" y="11767680"/>
            <a:ext cx="3962160" cy="1908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0" y="6629400"/>
            <a:ext cx="4648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9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4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55308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Copying D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28240" y="1905120"/>
            <a:ext cx="65530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he tube is cooled, and </a:t>
            </a: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DNA polymerase adds new bases to the separated str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4" descr="replication"/>
          <p:cNvPicPr/>
          <p:nvPr/>
        </p:nvPicPr>
        <p:blipFill>
          <a:blip r:embed="rId1"/>
          <a:stretch/>
        </p:blipFill>
        <p:spPr>
          <a:xfrm>
            <a:off x="3352680" y="3657600"/>
            <a:ext cx="1505160" cy="2857680"/>
          </a:xfrm>
          <a:prstGeom prst="rect">
            <a:avLst/>
          </a:prstGeom>
          <a:ln w="0">
            <a:noFill/>
          </a:ln>
        </p:spPr>
      </p:pic>
      <p:sp>
        <p:nvSpPr>
          <p:cNvPr id="146" name="Місце для нижнього колонтитула 1"/>
          <p:cNvSpPr/>
          <p:nvPr/>
        </p:nvSpPr>
        <p:spPr>
          <a:xfrm>
            <a:off x="0" y="6629400"/>
            <a:ext cx="4648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omic Sans MS"/>
              </a:rPr>
              <a:t>PC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4" descr=""/>
          <p:cNvPicPr/>
          <p:nvPr/>
        </p:nvPicPr>
        <p:blipFill>
          <a:blip r:embed="rId1"/>
          <a:stretch/>
        </p:blipFill>
        <p:spPr>
          <a:xfrm>
            <a:off x="228600" y="1295280"/>
            <a:ext cx="6477120" cy="441972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5"/>
          <p:cNvSpPr/>
          <p:nvPr/>
        </p:nvSpPr>
        <p:spPr>
          <a:xfrm>
            <a:off x="304920" y="5867280"/>
            <a:ext cx="6324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Comic Sans MS"/>
              </a:rPr>
              <a:t>Large amounts of DNA can be made from a small starting s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0" y="6629400"/>
            <a:ext cx="4648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35812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omic Sans MS"/>
              </a:rPr>
              <a:t>Cloning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240" y="1523520"/>
            <a:ext cx="380988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8000"/>
                </a:solidFill>
                <a:latin typeface="Comic Sans MS"/>
              </a:rPr>
              <a:t>Clone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member of a group of genetically identical 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ay be produced by </a:t>
            </a: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asexual reproductio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(mitosi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9" descr=""/>
          <p:cNvPicPr/>
          <p:nvPr/>
        </p:nvPicPr>
        <p:blipFill>
          <a:blip r:embed="rId1"/>
          <a:stretch/>
        </p:blipFill>
        <p:spPr>
          <a:xfrm>
            <a:off x="3962520" y="0"/>
            <a:ext cx="5181480" cy="6858000"/>
          </a:xfrm>
          <a:prstGeom prst="rect">
            <a:avLst/>
          </a:prstGeom>
          <a:ln w="0">
            <a:noFill/>
          </a:ln>
        </p:spPr>
      </p:pic>
      <p:sp>
        <p:nvSpPr>
          <p:cNvPr id="154" name="Місце для нижнього колонтитула 1"/>
          <p:cNvSpPr/>
          <p:nvPr/>
        </p:nvSpPr>
        <p:spPr>
          <a:xfrm>
            <a:off x="0" y="6629400"/>
            <a:ext cx="4648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1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6" dur="5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55308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omic Sans MS"/>
              </a:rPr>
              <a:t>Cloning organism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59436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1" lang="en-US" sz="3600" spc="-1" strike="noStrike">
                <a:solidFill>
                  <a:srgbClr val="008000"/>
                </a:solidFill>
                <a:latin typeface="Comic Sans MS"/>
              </a:rPr>
              <a:t>body cell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from one organism and an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egg cell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from another are fus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 resulting cell </a:t>
            </a:r>
            <a:r>
              <a:rPr b="1" lang="en-US" sz="3600" spc="-1" strike="noStrike">
                <a:solidFill>
                  <a:srgbClr val="008000"/>
                </a:solidFill>
                <a:latin typeface="Comic Sans MS"/>
              </a:rPr>
              <a:t>divides like a normal embry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Місце для нижнього колонтитула 1"/>
          <p:cNvSpPr/>
          <p:nvPr/>
        </p:nvSpPr>
        <p:spPr>
          <a:xfrm>
            <a:off x="0" y="6629400"/>
            <a:ext cx="4648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3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8" dur="5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5530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omic Sans MS"/>
              </a:rPr>
              <a:t>Cloning “Dolly”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3" descr=""/>
          <p:cNvPicPr/>
          <p:nvPr/>
        </p:nvPicPr>
        <p:blipFill>
          <a:blip r:embed="rId1"/>
          <a:stretch/>
        </p:blipFill>
        <p:spPr>
          <a:xfrm>
            <a:off x="838080" y="1523880"/>
            <a:ext cx="5029200" cy="4953240"/>
          </a:xfrm>
          <a:prstGeom prst="rect">
            <a:avLst/>
          </a:prstGeom>
          <a:ln w="0">
            <a:noFill/>
          </a:ln>
        </p:spPr>
      </p:pic>
      <p:sp>
        <p:nvSpPr>
          <p:cNvPr id="160" name="Місце для нижнього колонтитула 1"/>
          <p:cNvSpPr/>
          <p:nvPr/>
        </p:nvSpPr>
        <p:spPr>
          <a:xfrm>
            <a:off x="0" y="6629400"/>
            <a:ext cx="4648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55308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DNA Extrac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240" y="1905120"/>
            <a:ext cx="65530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901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Comic Sans MS"/>
              </a:rPr>
              <a:t>Chemical treatments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cause cells and nuclei to bur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he DNA is inherently </a:t>
            </a:r>
            <a:r>
              <a:rPr b="1" lang="en-US" sz="3600" spc="-1" strike="noStrike">
                <a:solidFill>
                  <a:srgbClr val="008000"/>
                </a:solidFill>
                <a:latin typeface="Comic Sans MS"/>
              </a:rPr>
              <a:t>sticky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, and can be pulled out of the mix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his is called </a:t>
            </a:r>
            <a:r>
              <a:rPr b="1" lang="en-US" sz="3600" spc="-1" strike="noStrike">
                <a:solidFill>
                  <a:srgbClr val="008000"/>
                </a:solidFill>
                <a:latin typeface="Comic Sans MS"/>
              </a:rPr>
              <a:t>“spooling”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D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Місце для нижнього колонтитула 1"/>
          <p:cNvSpPr/>
          <p:nvPr/>
        </p:nvSpPr>
        <p:spPr>
          <a:xfrm>
            <a:off x="0" y="6629400"/>
            <a:ext cx="4648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240" y="2209680"/>
            <a:ext cx="655308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Human Genome Projec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Місце для нижнього колонтитула 1"/>
          <p:cNvSpPr/>
          <p:nvPr/>
        </p:nvSpPr>
        <p:spPr>
          <a:xfrm>
            <a:off x="0" y="6629400"/>
            <a:ext cx="4648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55308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Human Genome Pro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28240" y="1904760"/>
            <a:ext cx="65530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Started in </a:t>
            </a: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199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Research effort to </a:t>
            </a: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sequence all of our DNA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(46 chromosom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Over 3.3 billion nucleoti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Mapping every gene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location (loc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onducted by </a:t>
            </a: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scientists around the wor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Місце для нижнього колонтитула 1"/>
          <p:cNvSpPr/>
          <p:nvPr/>
        </p:nvSpPr>
        <p:spPr>
          <a:xfrm>
            <a:off x="0" y="6629400"/>
            <a:ext cx="4648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5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0" dur="5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5" dur="5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0" dur="500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5" dur="500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55308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HGP Insigh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65530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Only </a:t>
            </a:r>
            <a:r>
              <a:rPr b="1" lang="en-US" sz="2400" spc="-1" strike="noStrike">
                <a:solidFill>
                  <a:srgbClr val="006600"/>
                </a:solidFill>
                <a:latin typeface="Comic Sans MS"/>
              </a:rPr>
              <a:t>2%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of human genome codes for proteins </a:t>
            </a:r>
            <a:r>
              <a:rPr b="1" lang="en-US" sz="2400" spc="-1" strike="noStrike">
                <a:solidFill>
                  <a:srgbClr val="006600"/>
                </a:solidFill>
                <a:latin typeface="Comic Sans MS"/>
              </a:rPr>
              <a:t>(exo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Other </a:t>
            </a:r>
            <a:r>
              <a:rPr b="1" lang="en-US" sz="2400" spc="-1" strike="noStrike">
                <a:solidFill>
                  <a:srgbClr val="006600"/>
                </a:solidFill>
                <a:latin typeface="Comic Sans MS"/>
              </a:rPr>
              <a:t>98% (introns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) are non-co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Only about 20,000 to 25,000 genes (expected 100,0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Comic Sans MS"/>
              </a:rPr>
              <a:t>Proteome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– organism’s complete set of prote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bout </a:t>
            </a:r>
            <a:r>
              <a:rPr b="1" lang="en-US" sz="2400" spc="-1" strike="noStrike">
                <a:solidFill>
                  <a:srgbClr val="006600"/>
                </a:solidFill>
                <a:latin typeface="Comic Sans MS"/>
              </a:rPr>
              <a:t>8 million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single nucleotide polymorphisms (SNP) – places where humans differ by a single nucleot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bout </a:t>
            </a:r>
            <a:r>
              <a:rPr b="1" lang="en-US" sz="2400" spc="-1" strike="noStrike">
                <a:solidFill>
                  <a:srgbClr val="006600"/>
                </a:solidFill>
                <a:latin typeface="Comic Sans MS"/>
              </a:rPr>
              <a:t>½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of genome comes from </a:t>
            </a:r>
            <a:r>
              <a:rPr b="1" lang="en-US" sz="2400" spc="-1" strike="noStrike">
                <a:solidFill>
                  <a:srgbClr val="006600"/>
                </a:solidFill>
                <a:latin typeface="Comic Sans MS"/>
              </a:rPr>
              <a:t>transposons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(pieces of DNA that move to different locations on chromosom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Місце для нижнього колонтитула 1"/>
          <p:cNvSpPr/>
          <p:nvPr/>
        </p:nvSpPr>
        <p:spPr>
          <a:xfrm>
            <a:off x="0" y="6629400"/>
            <a:ext cx="4648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2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7" dur="5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2" dur="5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7" dur="5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2" dur="5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7" dur="500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55308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Benefits of Human Genome Projec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240" y="1905120"/>
            <a:ext cx="65530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mprovements in </a:t>
            </a:r>
            <a:r>
              <a:rPr b="1" lang="en-US" sz="2800" spc="-1" strike="noStrike">
                <a:solidFill>
                  <a:srgbClr val="ff3300"/>
                </a:solidFill>
                <a:latin typeface="Comic Sans MS"/>
              </a:rPr>
              <a:t>medical prevention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of disease, gene therapies, diagnosis techniques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omic Sans MS"/>
              </a:rPr>
              <a:t>Production of useful protein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products for use in medicine, agriculture, bioremediation and pharmaceutical industr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mproved </a:t>
            </a:r>
            <a:r>
              <a:rPr b="1" lang="en-US" sz="2800" spc="-1" strike="noStrike">
                <a:solidFill>
                  <a:srgbClr val="ff3300"/>
                </a:solidFill>
                <a:latin typeface="Comic Sans MS"/>
              </a:rPr>
              <a:t>bioinformatics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– using computers to help in DNA sequencing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Місце для нижнього колонтитула 1"/>
          <p:cNvSpPr/>
          <p:nvPr/>
        </p:nvSpPr>
        <p:spPr>
          <a:xfrm>
            <a:off x="0" y="6629400"/>
            <a:ext cx="4648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4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9" dur="5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4" dur="5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52280" y="2438280"/>
            <a:ext cx="655344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Benefits of Genetic Enginee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Місце для нижнього колонтитула 1"/>
          <p:cNvSpPr/>
          <p:nvPr/>
        </p:nvSpPr>
        <p:spPr>
          <a:xfrm>
            <a:off x="0" y="6629400"/>
            <a:ext cx="4648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 Box 2"/>
          <p:cNvSpPr/>
          <p:nvPr/>
        </p:nvSpPr>
        <p:spPr>
          <a:xfrm>
            <a:off x="8845560" y="658332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8080" y="837720"/>
            <a:ext cx="563904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Comic Sans MS"/>
              </a:rPr>
              <a:t>Biotechnology -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4"/>
          <p:cNvSpPr/>
          <p:nvPr/>
        </p:nvSpPr>
        <p:spPr>
          <a:xfrm>
            <a:off x="685800" y="2057400"/>
            <a:ext cx="5867280" cy="3352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 use of gene science to create new products from plants and anima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Місце для нижнього колонтитула 1"/>
          <p:cNvSpPr/>
          <p:nvPr/>
        </p:nvSpPr>
        <p:spPr>
          <a:xfrm>
            <a:off x="0" y="6629400"/>
            <a:ext cx="4648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2"/>
          <p:cNvSpPr/>
          <p:nvPr/>
        </p:nvSpPr>
        <p:spPr>
          <a:xfrm>
            <a:off x="533520" y="838080"/>
            <a:ext cx="56386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iotechnolog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vide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3"/>
          <p:cNvSpPr/>
          <p:nvPr/>
        </p:nvSpPr>
        <p:spPr>
          <a:xfrm>
            <a:off x="533520" y="2362320"/>
            <a:ext cx="61722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spcAft>
                <a:spcPts val="1125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Improved </a:t>
            </a:r>
            <a:r>
              <a:rPr b="1" lang="en-US" sz="3600" spc="-1" strike="noStrike">
                <a:solidFill>
                  <a:srgbClr val="006600"/>
                </a:solidFill>
                <a:latin typeface="Comic Sans MS"/>
              </a:rPr>
              <a:t>food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produc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spcAft>
                <a:spcPts val="1125"/>
              </a:spcAft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Comic Sans MS"/>
              </a:rPr>
              <a:t>Medica</a:t>
            </a:r>
            <a:r>
              <a:rPr b="0" lang="en-US" sz="3600" spc="-1" strike="noStrike">
                <a:solidFill>
                  <a:srgbClr val="006600"/>
                </a:solidFill>
                <a:latin typeface="Comic Sans MS"/>
              </a:rPr>
              <a:t>l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advan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n enhanced </a:t>
            </a:r>
            <a:r>
              <a:rPr b="1" lang="en-US" sz="3600" spc="-1" strike="noStrike">
                <a:solidFill>
                  <a:srgbClr val="006600"/>
                </a:solidFill>
                <a:latin typeface="Comic Sans MS"/>
              </a:rPr>
              <a:t>environ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4"/>
          <p:cNvSpPr/>
          <p:nvPr/>
        </p:nvSpPr>
        <p:spPr>
          <a:xfrm>
            <a:off x="8842320" y="658332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Місце для нижнього колонтитула 1"/>
          <p:cNvSpPr/>
          <p:nvPr/>
        </p:nvSpPr>
        <p:spPr>
          <a:xfrm>
            <a:off x="0" y="6629400"/>
            <a:ext cx="4648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erbicide Resistant Cro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4343040"/>
            <a:ext cx="8381880" cy="21337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ybeans: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oundup Rea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rn: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oundup Ready, Liberty Lin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tton: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XN, Roundup Read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nola: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berty Link, Roundup Rea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4" descr="soy V2 "/>
          <p:cNvPicPr/>
          <p:nvPr/>
        </p:nvPicPr>
        <p:blipFill>
          <a:blip r:embed="rId1"/>
          <a:srcRect l="15624" t="10418" r="15624" b="10418"/>
          <a:stretch/>
        </p:blipFill>
        <p:spPr>
          <a:xfrm>
            <a:off x="958680" y="1611360"/>
            <a:ext cx="2775240" cy="2397240"/>
          </a:xfrm>
          <a:prstGeom prst="rect">
            <a:avLst/>
          </a:prstGeom>
          <a:ln w="0">
            <a:noFill/>
          </a:ln>
        </p:spPr>
      </p:pic>
      <p:sp>
        <p:nvSpPr>
          <p:cNvPr id="185" name="Text Box 5"/>
          <p:cNvSpPr/>
          <p:nvPr/>
        </p:nvSpPr>
        <p:spPr>
          <a:xfrm>
            <a:off x="3880080" y="2567160"/>
            <a:ext cx="4336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+ CP4 EPSPS = Roundu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gene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Rea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Місце для нижнього колонтитула 1"/>
          <p:cNvSpPr/>
          <p:nvPr/>
        </p:nvSpPr>
        <p:spPr>
          <a:xfrm>
            <a:off x="0" y="6629400"/>
            <a:ext cx="4648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6858000" cy="1295280"/>
          </a:xfrm>
          <a:prstGeom prst="rect">
            <a:avLst/>
          </a:prstGeom>
          <a:noFill/>
          <a:ln w="0">
            <a:noFill/>
          </a:ln>
          <a:effectLst>
            <a:outerShdw dist="45929" dir="3371122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Biotechnology Breakthrough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6553080" cy="29242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t">
            <a:normAutofit fontScale="81000"/>
          </a:bodyPr>
          <a:p>
            <a:pPr marL="277560" indent="-277560">
              <a:lnSpc>
                <a:spcPct val="100000"/>
              </a:lnSpc>
              <a:spcBef>
                <a:spcPts val="700"/>
              </a:spcBef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Comic Sans MS"/>
              </a:rPr>
              <a:t>Insulin (198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lnSpc>
                <a:spcPct val="100000"/>
              </a:lnSpc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irst commercial biotech produ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lnSpc>
                <a:spcPct val="100000"/>
              </a:lnSpc>
              <a:spcAft>
                <a:spcPts val="876"/>
              </a:spcAft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Reliable, inexpensive source of insu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100000"/>
              </a:lnSpc>
              <a:spcBef>
                <a:spcPts val="876"/>
              </a:spcBef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Comic Sans MS"/>
              </a:rPr>
              <a:t>R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lnSpc>
                <a:spcPct val="100000"/>
              </a:lnSpc>
              <a:spcAft>
                <a:spcPts val="876"/>
              </a:spcAft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nriched with beta-carotene and ir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100000"/>
              </a:lnSpc>
              <a:spcBef>
                <a:spcPts val="876"/>
              </a:spcBef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Comic Sans MS"/>
              </a:rPr>
              <a:t>Banan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lnSpc>
                <a:spcPct val="100000"/>
              </a:lnSpc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ontaining edible hepatitis vacc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Місце для нижнього колонтитула 1"/>
          <p:cNvSpPr/>
          <p:nvPr/>
        </p:nvSpPr>
        <p:spPr>
          <a:xfrm>
            <a:off x="0" y="6629400"/>
            <a:ext cx="4648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1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4" dur="500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7" dur="500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2" dur="500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5" dur="500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0" dur="500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7010640" cy="1143000"/>
          </a:xfrm>
          <a:prstGeom prst="rect">
            <a:avLst/>
          </a:prstGeom>
          <a:noFill/>
          <a:ln w="0">
            <a:noFill/>
          </a:ln>
          <a:effectLst>
            <a:outerShdw dist="45929" dir="3371122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Biotechnology Breakthrough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228240" y="2068200"/>
            <a:ext cx="6553080" cy="32734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spcAft>
                <a:spcPts val="799"/>
              </a:spcAft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Potatoe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with higher solid cont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spcAft>
                <a:spcPts val="799"/>
              </a:spcAft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Garli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 that lowers choleste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Fruits and vegetable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that reduc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isks of cancer and heart dise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Місце для нижнього колонтитула 1"/>
          <p:cNvSpPr/>
          <p:nvPr/>
        </p:nvSpPr>
        <p:spPr>
          <a:xfrm>
            <a:off x="0" y="6629400"/>
            <a:ext cx="4648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55308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Spooled” DN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" descr="dnaglopp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09680" y="1828800"/>
            <a:ext cx="2714760" cy="4505400"/>
          </a:xfrm>
          <a:prstGeom prst="rect">
            <a:avLst/>
          </a:prstGeom>
          <a:ln w="0">
            <a:noFill/>
          </a:ln>
        </p:spPr>
      </p:pic>
      <p:sp>
        <p:nvSpPr>
          <p:cNvPr id="96" name="Місце для нижнього колонтитула 1"/>
          <p:cNvSpPr/>
          <p:nvPr/>
        </p:nvSpPr>
        <p:spPr>
          <a:xfrm>
            <a:off x="0" y="6629400"/>
            <a:ext cx="4648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553080" cy="1447920"/>
          </a:xfrm>
          <a:prstGeom prst="rect">
            <a:avLst/>
          </a:prstGeom>
          <a:noFill/>
          <a:ln w="0">
            <a:noFill/>
          </a:ln>
          <a:effectLst>
            <a:outerShdw dist="45929" dir="3371122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nvironmental Benef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8153280" cy="41148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spcAft>
                <a:spcPts val="901"/>
              </a:spcAft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Comic Sans MS"/>
              </a:rPr>
              <a:t>Reduced pesticide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u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spcAft>
                <a:spcPts val="901"/>
              </a:spcAft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Comic Sans MS"/>
              </a:rPr>
              <a:t>Lower energy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require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spcAft>
                <a:spcPts val="901"/>
              </a:spcAft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Comic Sans MS"/>
              </a:rPr>
              <a:t>Cleaner wa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spcAft>
                <a:spcPts val="901"/>
              </a:spcAft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Comic Sans MS"/>
              </a:rPr>
              <a:t>Less soil ero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Місце для нижнього колонтитула 1"/>
          <p:cNvSpPr/>
          <p:nvPr/>
        </p:nvSpPr>
        <p:spPr>
          <a:xfrm>
            <a:off x="0" y="6629400"/>
            <a:ext cx="4648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Місце для нижнього колонтитула 1"/>
          <p:cNvSpPr/>
          <p:nvPr/>
        </p:nvSpPr>
        <p:spPr>
          <a:xfrm>
            <a:off x="0" y="6629400"/>
            <a:ext cx="4648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5530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Cutting D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8240" y="1142640"/>
            <a:ext cx="655308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8000"/>
                </a:solidFill>
                <a:latin typeface="Comic Sans MS"/>
              </a:rPr>
              <a:t>Restriction enzymes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cut DNA at specific sequen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Useful to divide DNA into </a:t>
            </a:r>
            <a:r>
              <a:rPr b="1" lang="en-US" sz="3600" spc="-1" strike="noStrike">
                <a:solidFill>
                  <a:srgbClr val="008000"/>
                </a:solidFill>
                <a:latin typeface="Comic Sans MS"/>
              </a:rPr>
              <a:t>manageable frag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"/>
          <p:cNvPicPr/>
          <p:nvPr/>
        </p:nvPicPr>
        <p:blipFill>
          <a:blip r:embed="rId1"/>
          <a:stretch/>
        </p:blipFill>
        <p:spPr>
          <a:xfrm>
            <a:off x="762120" y="3505320"/>
            <a:ext cx="5562360" cy="3130560"/>
          </a:xfrm>
          <a:prstGeom prst="rect">
            <a:avLst/>
          </a:prstGeom>
          <a:ln w="0">
            <a:noFill/>
          </a:ln>
        </p:spPr>
      </p:pic>
      <p:sp>
        <p:nvSpPr>
          <p:cNvPr id="100" name="Місце для нижнього колонтитула 1"/>
          <p:cNvSpPr/>
          <p:nvPr/>
        </p:nvSpPr>
        <p:spPr>
          <a:xfrm>
            <a:off x="0" y="6629400"/>
            <a:ext cx="4648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5530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lectrophore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5257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DNA can be separated based on </a:t>
            </a:r>
            <a:r>
              <a:rPr b="1" lang="en-US" sz="3600" spc="-1" strike="noStrike">
                <a:solidFill>
                  <a:srgbClr val="008000"/>
                </a:solidFill>
                <a:latin typeface="Comic Sans MS"/>
              </a:rPr>
              <a:t>size and char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US" sz="3600" spc="-1" strike="noStrike">
                <a:solidFill>
                  <a:srgbClr val="008000"/>
                </a:solidFill>
                <a:latin typeface="Comic Sans MS"/>
              </a:rPr>
              <a:t>phosphate groups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are </a:t>
            </a:r>
            <a:r>
              <a:rPr b="1" lang="en-US" sz="3600" spc="-1" strike="noStrike">
                <a:solidFill>
                  <a:srgbClr val="008000"/>
                </a:solidFill>
                <a:latin typeface="Comic Sans MS"/>
              </a:rPr>
              <a:t>negatively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charg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DNA is placed in a </a:t>
            </a:r>
            <a:r>
              <a:rPr b="1" lang="en-US" sz="3600" spc="-1" strike="noStrike">
                <a:solidFill>
                  <a:srgbClr val="008000"/>
                </a:solidFill>
                <a:latin typeface="Comic Sans MS"/>
              </a:rPr>
              <a:t>gel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electricity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is run throug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" descr="pc1003"/>
          <p:cNvPicPr/>
          <p:nvPr/>
        </p:nvPicPr>
        <p:blipFill>
          <a:blip r:embed="rId1"/>
          <a:stretch/>
        </p:blipFill>
        <p:spPr>
          <a:xfrm>
            <a:off x="5486400" y="3048120"/>
            <a:ext cx="1374840" cy="1374480"/>
          </a:xfrm>
          <a:prstGeom prst="rect">
            <a:avLst/>
          </a:prstGeom>
          <a:ln w="0">
            <a:noFill/>
          </a:ln>
        </p:spPr>
      </p:pic>
      <p:sp>
        <p:nvSpPr>
          <p:cNvPr id="104" name="Місце для нижнього колонтитула 1"/>
          <p:cNvSpPr/>
          <p:nvPr/>
        </p:nvSpPr>
        <p:spPr>
          <a:xfrm>
            <a:off x="0" y="6629400"/>
            <a:ext cx="4648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55308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lectrophore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655308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Negative DNA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moves toward the positive 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Smaller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fragments move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farther and f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5" descr="gel"/>
          <p:cNvPicPr/>
          <p:nvPr/>
        </p:nvPicPr>
        <p:blipFill>
          <a:blip r:embed="rId1"/>
          <a:stretch/>
        </p:blipFill>
        <p:spPr>
          <a:xfrm>
            <a:off x="1371600" y="3990960"/>
            <a:ext cx="4267080" cy="2581200"/>
          </a:xfrm>
          <a:prstGeom prst="rect">
            <a:avLst/>
          </a:prstGeom>
          <a:ln w="0">
            <a:noFill/>
          </a:ln>
        </p:spPr>
      </p:pic>
      <p:sp>
        <p:nvSpPr>
          <p:cNvPr id="108" name="Місце для нижнього колонтитула 1"/>
          <p:cNvSpPr/>
          <p:nvPr/>
        </p:nvSpPr>
        <p:spPr>
          <a:xfrm>
            <a:off x="0" y="6629400"/>
            <a:ext cx="4648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5530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lectrophore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4" descr=""/>
          <p:cNvPicPr/>
          <p:nvPr/>
        </p:nvPicPr>
        <p:blipFill>
          <a:blip r:embed="rId1"/>
          <a:stretch/>
        </p:blipFill>
        <p:spPr>
          <a:xfrm>
            <a:off x="685800" y="1071720"/>
            <a:ext cx="5700600" cy="5600520"/>
          </a:xfrm>
          <a:prstGeom prst="rect">
            <a:avLst/>
          </a:prstGeom>
          <a:ln w="0">
            <a:noFill/>
          </a:ln>
        </p:spPr>
      </p:pic>
      <p:sp>
        <p:nvSpPr>
          <p:cNvPr id="111" name="Місце для нижнього колонтитула 1"/>
          <p:cNvSpPr/>
          <p:nvPr/>
        </p:nvSpPr>
        <p:spPr>
          <a:xfrm>
            <a:off x="0" y="6629400"/>
            <a:ext cx="4648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Steps in DNA Sequenc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6324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Many </a:t>
            </a: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copie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of a single strand of DNA are placed in a test tu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DNA polymerase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is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 mixture of nucleotides is added some of which have </a:t>
            </a: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dye molecules attach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Each base (A,T,C,G) has a different color dy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0" y="6629400"/>
            <a:ext cx="4648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5530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Steps in DNA Sequenc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6019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By chance, </a:t>
            </a:r>
            <a:r>
              <a:rPr b="1" lang="en-US" sz="3600" spc="-1" strike="noStrike">
                <a:solidFill>
                  <a:srgbClr val="008000"/>
                </a:solidFill>
                <a:latin typeface="Comic Sans MS"/>
              </a:rPr>
              <a:t>some dyed nucleotides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&amp; </a:t>
            </a:r>
            <a:r>
              <a:rPr b="1" lang="en-US" sz="3600" spc="-1" strike="noStrike">
                <a:solidFill>
                  <a:srgbClr val="008000"/>
                </a:solidFill>
                <a:latin typeface="Comic Sans MS"/>
              </a:rPr>
              <a:t>some regular ones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are adde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Dye molecules are large and </a:t>
            </a:r>
            <a:r>
              <a:rPr b="1" lang="en-US" sz="3600" spc="-1" strike="noStrike">
                <a:solidFill>
                  <a:srgbClr val="008000"/>
                </a:solidFill>
                <a:latin typeface="Comic Sans MS"/>
              </a:rPr>
              <a:t>stop the chain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from grow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0" y="6629400"/>
            <a:ext cx="4648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8T06:01:19Z</dcterms:created>
  <dc:creator>Summer Smith</dc:creator>
  <dc:description/>
  <dc:language>en-US</dc:language>
  <cp:lastModifiedBy>LEGION</cp:lastModifiedBy>
  <dcterms:modified xsi:type="dcterms:W3CDTF">2016-12-07T12:35:27Z</dcterms:modified>
  <cp:revision>13</cp:revision>
  <dc:subject/>
  <dc:title>DNA Lab Techniques</dc:title>
</cp:coreProperties>
</file>