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8BA6-75A9-4574-9DC4-FFCEEEC0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NA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 is DNA fragments of multiple sizes with colors that can be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el separates the resulting fragments by size, we 'read' the sequence from bottom to to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lled PC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ethod of making many copies of a piece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molecule is placed in a small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that can work at high temps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heated to separate the two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rs, short pieces of DNA complementary to the ends of the molecule to be copied, are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be is cooled, and DNA polymerase adds new bases to the separated str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amounts of DNA can be made from a small starting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- a member of a group of genetically identic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be produced by asexual reproduction (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ell from one organism and an egg cell from another are 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ulting cell divides like a normal embr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oning “Doll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reatments cause cells and nuclei to bu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is inherently sticky, and can be pulled out of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“spooling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d in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effort to sequence all of our DNA (46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3.3 billion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every gene location (loc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by scientist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P Ins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% of human genome codes for proteins (ex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98% (introns) are non-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about 20,000 to 25,000 genes (expected 100,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ome – organism’s complete set of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8 million single nucleotide polymorphisms (SNP) – places where humans differ by a single 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½ of genome comes from transposons (pieces of DNA that move to different locations on chromos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al prevention of disease, gene therapies, diagnosis techniqu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useful protein products for use in medicine, agriculture, bioremediation and pharmaceutical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bioinformatics – using computers to help in DNA sequencing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enefits of 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gene science to create new products from plants and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food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ad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hanc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rbicide 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CP4 EPSPS = Round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sulin (19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commercial biotech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able, inexpensive source of insu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riched with beta-carotene and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ntaining edible hepatitis vac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 Breakthroug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toes with higher soli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rlic that lowers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its and vegetables that redu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s of cancer and 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ooled”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19240" y="673200"/>
            <a:ext cx="4584600" cy="3438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335480"/>
            <a:ext cx="5002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pesticide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energ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e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soil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t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ion enzymes cut DNA at specific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to divide DNA into manageable fra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n be separated based on size and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osphate groups are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placed in a gel and electricity is run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DNA moves toward the positiv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fragments move farther and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pies of a single strand of DNA are placed in a test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polymerase is a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of nucleotides is added some of which have dye molecules at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ase (A,T,C,G) has a different color d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 DNA Sequen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chance, some dyed nucleotides &amp; some regular ones are ad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molecules are large and stop the chain from gr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6CEF-624B-43A7-AB05-4AEA2CAD6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A1ECF-B54B-4EDB-89FE-1B725B9A6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263CD-AF1B-4827-8663-A33D5EA97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620D-3601-4D82-9C1F-ADCD19211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074AB-7ABE-44C8-B2B5-E006B44B29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F35F8-F720-45AF-9A7E-E5FAE041A3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27387-9EF1-40BF-971E-1D381499AF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21384-1467-40E1-A816-F6ABC02FCC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075CF-30BB-40AC-ABAD-A0EF4D0D51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9A558-C0F2-45CC-AC42-EDB5C5DC4B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7588E-FF20-47D2-87BE-39A8120D4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16E5-5D24-4A03-BD79-60E710DF2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6BD02-AFEA-453C-8413-9BF5F4B2E5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9390C-3322-456D-BE28-6F1BB9B4E5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B6E20-B00E-4C54-A5C8-006543C589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3B92-E413-490C-8BDB-4CF21DB6B1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440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9840" y="190512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440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659840" y="4213440"/>
            <a:ext cx="2109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C0926-FDCA-470D-A3CF-55B90BF18A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C4F01-77FD-47FA-AB6B-1E579AB77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501CB-B559-4870-91AC-2617B4835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1C5B7-3806-4464-8013-2543356644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228600"/>
            <a:ext cx="65530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0426-E441-45DF-88CC-6E3F62D908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D612-915B-4737-BD0C-CB85CB5F1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86320" y="421344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81DD-FB05-4FD0-AFD5-761002FFC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86320" y="1905120"/>
            <a:ext cx="319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213440"/>
            <a:ext cx="65530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720E-E34F-48AB-B3D9-E91E29B13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629040"/>
            <a:ext cx="4648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76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042C-C8CB-4B46-AB36-4C32E7175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601992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4267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ScholHudson-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DD1E-1A71-4A6E-8E86-D153229460BC}" type="slidenum"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rnegieinstitution.org/first_light_case/horn/DNA/images/dnaglop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NA Technolo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838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cholHudson-Regular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267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esul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DNA fragments of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ultiple sizes with colors that can be ident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gelfrag"/>
          <p:cNvPicPr/>
          <p:nvPr/>
        </p:nvPicPr>
        <p:blipFill>
          <a:blip r:embed="rId1"/>
          <a:stretch/>
        </p:blipFill>
        <p:spPr>
          <a:xfrm>
            <a:off x="4648320" y="380880"/>
            <a:ext cx="1765080" cy="58104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NA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fter the gel separates the resulting fragments by size, w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'read' the sequence from bottom to to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function_showorfs_ex2"/>
          <p:cNvPicPr/>
          <p:nvPr/>
        </p:nvPicPr>
        <p:blipFill>
          <a:blip r:embed="rId1"/>
          <a:stretch/>
        </p:blipFill>
        <p:spPr>
          <a:xfrm>
            <a:off x="2133720" y="3581280"/>
            <a:ext cx="3838320" cy="3048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olymerase Chain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so called PC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thod of making many copies of a piece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pcr"/>
          <p:cNvPicPr/>
          <p:nvPr/>
        </p:nvPicPr>
        <p:blipFill>
          <a:blip r:embed="rId1"/>
          <a:stretch/>
        </p:blipFill>
        <p:spPr>
          <a:xfrm>
            <a:off x="1447920" y="3505320"/>
            <a:ext cx="44766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molecule is placed in a small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hat can work at high temps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200px-DNA_polymerase"/>
          <p:cNvPicPr/>
          <p:nvPr/>
        </p:nvPicPr>
        <p:blipFill>
          <a:blip r:embed="rId1"/>
          <a:stretch/>
        </p:blipFill>
        <p:spPr>
          <a:xfrm>
            <a:off x="2895480" y="4191120"/>
            <a:ext cx="215604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teps in 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NA is heate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separate the two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Primer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short pieces of DNA complementary to the ends of the molecule to be copied, are ad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-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 flipV="1">
            <a:off x="3400560" y="1190592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800" y="-477252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V="1">
            <a:off x="3400560" y="11767680"/>
            <a:ext cx="3962160" cy="190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py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ube is cooled, and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 adds new bases to the separated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replication"/>
          <p:cNvPicPr/>
          <p:nvPr/>
        </p:nvPicPr>
        <p:blipFill>
          <a:blip r:embed="rId1"/>
          <a:stretch/>
        </p:blipFill>
        <p:spPr>
          <a:xfrm>
            <a:off x="3352680" y="3657600"/>
            <a:ext cx="15051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C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6477120" cy="4419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04920" y="5867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mic Sans MS"/>
              </a:rPr>
              <a:t>Large amounts of DNA can be made from a small starting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581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Clone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ember of a group of genetically identic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be produced b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sexual reprod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mitos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organis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5943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body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one organism and an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gg cel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from another are f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resulting cell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divides like a normal embr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oning “Dolly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029200" cy="49532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NA Extr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hemical treatmen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use cells and nuclei to bu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is inherentl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ick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and can be pulled out of the mix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“spooling”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D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220968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553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rted in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9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effort to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quence all of our DN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46 chromoso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3.3 billion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apping every ge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location (loc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ducted by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cientists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GP Ins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655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2%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human genome codes for proteins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(ex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ther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98% (intr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are non-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20,000 to 25,000 genes (expected 1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roteom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– organism’s complete set of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8 mill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ingle nucleotide polymorphisms (SNP) – places where humans differ by a single nucleo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out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genome comes from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transpos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(pieces of DNA that move to different locations on chrom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Human Genome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6553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ments in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edical preventio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of disease, gene therapies, diagnosis technique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duction of useful protei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roducts for use in medicine, agriculture, bioremediation and pharmaceutical indus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bioinformatic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– using computers to help in DNA sequenc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43828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nefits of 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84556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5639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Biotechnology 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85800" y="2057400"/>
            <a:ext cx="586728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use of gene science to create new products from plants and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3520" y="838080"/>
            <a:ext cx="563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iotechn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vid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533520" y="2362320"/>
            <a:ext cx="61722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mprov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f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Medica</a:t>
            </a:r>
            <a:r>
              <a:rPr b="0" lang="en-US" sz="3600" spc="-1" strike="noStrike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 enhanced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84232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erbicide Resist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4343040"/>
            <a:ext cx="8381880" cy="2133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ybeans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ndup Ready, Liberty Li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tton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N, Roundup Re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ola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ty Link, Roundup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soy V2 "/>
          <p:cNvPicPr/>
          <p:nvPr/>
        </p:nvPicPr>
        <p:blipFill>
          <a:blip r:embed="rId1"/>
          <a:srcRect l="15624" t="10418" r="15624" b="10418"/>
          <a:stretch/>
        </p:blipFill>
        <p:spPr>
          <a:xfrm>
            <a:off x="958680" y="1611360"/>
            <a:ext cx="2775240" cy="23972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3880080" y="2567160"/>
            <a:ext cx="433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+ CP4 EPSPS = Round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gene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6858000" cy="129528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553080" cy="29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Insulin (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st commercial biotech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able, inexpensive source of insu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spcAft>
                <a:spcPts val="876"/>
              </a:spcAft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riched with beta-carotene and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876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ing edible hepatitis vacc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010640" cy="114300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iotechnology Breakth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2068200"/>
            <a:ext cx="6553080" cy="3273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otato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higher solid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Garl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that lowers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Fruits and veget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at redu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isks of cancer and heart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led” D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naglop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828800"/>
            <a:ext cx="2714760" cy="4505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vironment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Reduced pesticid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ower energ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Cleaner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Less soil ero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utt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Restriction enzym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ut DNA at specific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ful to divide DNA into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nageable frag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562360" cy="31305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5257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an be separated based on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ize and 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phosphate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neg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har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placed 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ectric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run th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c1003"/>
          <p:cNvPicPr/>
          <p:nvPr/>
        </p:nvPicPr>
        <p:blipFill>
          <a:blip r:embed="rId1"/>
          <a:stretch/>
        </p:blipFill>
        <p:spPr>
          <a:xfrm>
            <a:off x="5486400" y="3048120"/>
            <a:ext cx="1374840" cy="13744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553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Negative D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oves toward the positiv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Small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gments mov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rther an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gel"/>
          <p:cNvPicPr/>
          <p:nvPr/>
        </p:nvPicPr>
        <p:blipFill>
          <a:blip r:embed="rId1"/>
          <a:stretch/>
        </p:blipFill>
        <p:spPr>
          <a:xfrm>
            <a:off x="1371600" y="3990960"/>
            <a:ext cx="4267080" cy="25812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85800" y="1071720"/>
            <a:ext cx="5700600" cy="5600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opi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single strand of DNA are placed in a test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NA polymeras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mixture of nucleotides is added some of which have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dye molecules atta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ach base (A,T,C,G) has a different color d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eps in DNA Sequen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y chance,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dyed nucleotid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ome regular o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add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ye molecules are large and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op the cha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from gr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0" y="6629400"/>
            <a:ext cx="464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06:01:19Z</dcterms:created>
  <dc:creator>Summer Smith</dc:creator>
  <dc:description/>
  <dc:language>en-US</dc:language>
  <cp:lastModifiedBy>LEGION</cp:lastModifiedBy>
  <dcterms:modified xsi:type="dcterms:W3CDTF">2016-12-07T12:35:27Z</dcterms:modified>
  <cp:revision>13</cp:revision>
  <dc:subject/>
  <dc:title>DNA Lab Techniques</dc:title>
</cp:coreProperties>
</file>