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0206-3815-4C46-8A19-5956E0410B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oup18 elements are called the noble g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because they rarely combine with other elements and are found only as uncombined elements in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reactivity is very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ess dense than air, so it’s great for all kinds of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balloons lift instruments into the upper atmosphere to measure atmospheric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—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neon” lights you see in advertising signs can contain any of the noble gases, not just ne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passed through the glass tubes that make up the sig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causes the gas to g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noble gas produces a unique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glows yellow, neon glows red-orange, and argon produces a bluish-violet col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, the most abundant of the noble gases on Earth, was first found in 189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is used with nitrogen in ordinary lightbulbs because these gases keep the glowing filament from burning ou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ypton lights are used to illuminate landing strips at airports, and xenon is used in strobe lights and was once used in photographic flash cu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for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bottom of the group is radon, a radioactive gas produced naturally as uranium decays in rocks and soi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radon seeps into a home, the gas can be harmful because it continues to emit radi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eople breathe the gas over a period of time, it can cause lung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8/0 – The Nobl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All of the noble gases have a full outer shell, so they are very 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all have low melting and boil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y exist as single atoms rather then diatomic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is lighter then air and is used in balloons and airships (as well as for talking in a silly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on is used in light bulbs (because it is so unreactive) and argon , krypton and neon are used in fancy l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1C1A-C71B-4EDA-BE73-D45A8DD3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A945-DD26-4CE6-B2FC-0B932E15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E23D-B15B-482F-A433-16F27343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1E0B-C386-4F2D-8C68-FEB5F2F75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5D8-AD39-4073-93E6-A26C4D4E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AD3-FA99-4DD7-9E35-A9DAE368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E8D-C88B-4CB4-A3C6-8BE2F134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847-F4F4-4241-8002-72FD9E48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AE7E-0C57-44BD-8FEF-11613B15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B06-F47F-4539-8100-56E3B34E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3BED-7CCB-4908-A26C-DC2E7E4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8F5-64B7-44FF-A5B5-88EAD8CB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8006-F429-4D4D-B95C-852D5483F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oble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Group18 elements are call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ble gas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174760"/>
            <a:ext cx="38098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because they rarely combine with other elements and are found only as uncombined elements in n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4952880"/>
            <a:ext cx="38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ir reactivity is very 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41"/>
          <p:cNvPicPr/>
          <p:nvPr/>
        </p:nvPicPr>
        <p:blipFill>
          <a:blip r:embed="rId1"/>
          <a:stretch/>
        </p:blipFill>
        <p:spPr>
          <a:xfrm>
            <a:off x="4886280" y="1828800"/>
            <a:ext cx="3419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660680"/>
            <a:ext cx="32763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is less dense than air, so it’s great for all kinds of ballo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33520" y="43848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balloons lift instruments into the upper atmosphere to measure atmospheric cond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569960" y="685800"/>
            <a:ext cx="5781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Group 18—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m42 helium balloons"/>
          <p:cNvPicPr/>
          <p:nvPr/>
        </p:nvPicPr>
        <p:blipFill>
          <a:blip r:embed="rId1"/>
          <a:stretch/>
        </p:blipFill>
        <p:spPr>
          <a:xfrm>
            <a:off x="3971880" y="1389240"/>
            <a:ext cx="4444920" cy="285732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6"/>
          <p:cNvGrpSpPr/>
          <p:nvPr/>
        </p:nvGrpSpPr>
        <p:grpSpPr>
          <a:xfrm>
            <a:off x="533520" y="1676520"/>
            <a:ext cx="5700600" cy="3157920"/>
            <a:chOff x="533520" y="1676520"/>
            <a:chExt cx="5700600" cy="3157920"/>
          </a:xfrm>
        </p:grpSpPr>
        <p:sp>
          <p:nvSpPr>
            <p:cNvPr id="67" name="Text Box 7"/>
            <p:cNvSpPr/>
            <p:nvPr/>
          </p:nvSpPr>
          <p:spPr>
            <a:xfrm>
              <a:off x="533520" y="1676520"/>
              <a:ext cx="3352680" cy="27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ven though hydrogen is lighter than helium, helium is preferred for these purpos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8"/>
            <p:cNvSpPr/>
            <p:nvPr/>
          </p:nvSpPr>
          <p:spPr>
            <a:xfrm>
              <a:off x="884160" y="4302000"/>
              <a:ext cx="534996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because helium will not bur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533520" y="1523880"/>
            <a:ext cx="358128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neon” lights you see in advertising signs can contain any of the noble gases, not just ne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4518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passed through the glass tubes that make up the sig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33520" y="1523880"/>
            <a:ext cx="36576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icity causes the gas to g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3520" y="3089160"/>
            <a:ext cx="35812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 noble gas produces a unique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533520" y="4746600"/>
            <a:ext cx="8153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glows yellow, neon glows red-orange, and argon produces a bluish-violet col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im43 neon sign"/>
          <p:cNvPicPr/>
          <p:nvPr/>
        </p:nvPicPr>
        <p:blipFill>
          <a:blip r:embed="rId1"/>
          <a:stretch/>
        </p:blipFill>
        <p:spPr>
          <a:xfrm>
            <a:off x="4183200" y="1725480"/>
            <a:ext cx="44956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33520" y="13082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gon, the most abundant of the noble gases on Earth, was first found in 189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533520" y="231156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is used with nitrogen in ordinary lightbulbs because these gases keep the glowing filament from burning ou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33520" y="37591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ypton lights are used to illuminate landing strips at airports, and xenon is used in strobe lights and was once used in photographic flash cub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569960" y="685800"/>
            <a:ext cx="50072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Times New Roman"/>
              </a:rPr>
              <a:t>Uses for the Noble G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33520" y="143496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the bottom of the group is radon, a radioactive gas produced naturally as uranium decays in rocks and soi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33520" y="3048120"/>
            <a:ext cx="8305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radon seeps into a home, the gas can be harmful because it continues to emit radi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33520" y="42130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eople breathe the gas over a period of time, it can cause lung canc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6524640" y="4238640"/>
          <a:ext cx="2619360" cy="26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4640" y="4238640"/>
                    <a:ext cx="261936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oup 18/0 – The Noble g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238720" y="876240"/>
          <a:ext cx="3749760" cy="2133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070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208"/>
          <p:cNvSpPr/>
          <p:nvPr/>
        </p:nvSpPr>
        <p:spPr>
          <a:xfrm>
            <a:off x="0" y="81900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9"/>
          <p:cNvSpPr/>
          <p:nvPr/>
        </p:nvSpPr>
        <p:spPr>
          <a:xfrm>
            <a:off x="0" y="1409760"/>
            <a:ext cx="46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1)  All of the noble gases have a full outer shell, so they are very 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0"/>
          <p:cNvSpPr/>
          <p:nvPr/>
        </p:nvSpPr>
        <p:spPr>
          <a:xfrm>
            <a:off x="0" y="2800440"/>
            <a:ext cx="73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all have low melting and boiling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11"/>
          <p:cNvSpPr/>
          <p:nvPr/>
        </p:nvSpPr>
        <p:spPr>
          <a:xfrm>
            <a:off x="0" y="3486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)  They exist as single atoms rather then diatomic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2"/>
          <p:cNvSpPr/>
          <p:nvPr/>
        </p:nvSpPr>
        <p:spPr>
          <a:xfrm>
            <a:off x="0" y="4152960"/>
            <a:ext cx="773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66ffcc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Helium is lighter then air and is used in balloons and airships (as well as for talking in a silly vo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3"/>
          <p:cNvSpPr/>
          <p:nvPr/>
        </p:nvSpPr>
        <p:spPr>
          <a:xfrm>
            <a:off x="0" y="520056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rgon is used in light bulbs (because it is so unreactive) and argon , krypton and neon are used in fancy 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14"/>
          <p:cNvGraphicFramePr/>
          <p:nvPr/>
        </p:nvGraphicFramePr>
        <p:xfrm>
          <a:off x="5338800" y="5126040"/>
          <a:ext cx="990720" cy="17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2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8800" y="5126040"/>
                    <a:ext cx="9907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9:12Z</dcterms:created>
  <dc:creator>CIC1</dc:creator>
  <dc:description/>
  <dc:language>en-US</dc:language>
  <cp:lastModifiedBy>RomaK</cp:lastModifiedBy>
  <dcterms:modified xsi:type="dcterms:W3CDTF">2015-09-01T16:27:49Z</dcterms:modified>
  <cp:revision>7</cp:revision>
  <dc:subject/>
  <dc:title>The Noble Gases</dc:title>
</cp:coreProperties>
</file>