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52BA-B616-496B-88F1-C3D0A01AA9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18 elements are called the noble g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rarely combine with other elements and are found only as uncombined elements in n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reactivity is very 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18 elements are called the noble g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rarely combine with other elements and are found only as uncombined elements in n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reactivity is very 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ess dense than air, so it’s great for all kinds of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balloons lift instruments into the upper atmosphere to measure atmospheric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ess dense than air, so it’s great for all kinds of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balloons lift instruments into the upper atmosphere to measure atmospheric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neon” lights you see in advertising signs can contain any of the noble gases, not just ne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passed through the glass tubes that make up the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neon” lights you see in advertising signs can contain any of the noble gases, not just ne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passed through the glass tubes that make up the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causes the gas to g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noble gas produces a unique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glows yellow, neon glows red-orange, and argon produces a bluish-violet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causes the gas to g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noble gas produces a unique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glows yellow, neon glows red-orange, and argon produces a bluish-violet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, the most abundant of the noble gases on Earth, was first found in 189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is used with nitrogen in ordinary lightbulbs because these gases keep the glowing filament from burning o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lights are used to illuminate landing strips at airports, and xenon is used in strobe lights and was once used in photographic flash cu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, the most abundant of the noble gases on Earth, was first found in 189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is used with nitrogen in ordinary lightbulbs because these gases keep the glowing filament from burning o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lights are used to illuminate landing strips at airports, and xenon is used in strobe lights and was once used in photographic flash cu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ottom of the group is radon, a radioactive gas produced naturally as uranium decays in rocks and s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adon seeps into a home, the gas can be harmful because it continues to emit radi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eople breathe the gas over a period of time, it can cause lung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ottom of the group is radon, a radioactive gas produced naturally as uranium decays in rocks and s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adon seeps into a home, the gas can be harmful because it continues to emit radi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eople breathe the gas over a period of time, it can cause lung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/0 –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All of the noble gases have a full outer shell, so they are very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all have low melting and boil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exist as single atoms rather then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ighter then air and is used in balloons and airships (as well as for talking in a silly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 is used in light bulbs (because it is so unreactive) and argon , krypton and neon are used in fanc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/0 –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All of the noble gases have a full outer shell, so they are very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all have low melting and boil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exist as single atoms rather then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ighter then air and is used in balloons and airships (as well as for talking in a silly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 is used in light bulbs (because it is so unreactive) and argon , krypton and neon are used in fanc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CBE1-B961-4206-A96A-0FE3ACB9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EAC-98E4-49DE-8B72-3B610B08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A97-3E04-4137-8DF7-4045E78C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BCB4-C595-4C4D-B6F9-B8D4B026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1AFB-9B05-45F8-9AF4-0B8FEB37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23E8-64FF-4377-942F-FEF49873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E9F8-66F2-4B8D-9F05-72693466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C947-3BC8-4924-B021-5896525F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7424-9EC3-4B96-8DF8-9EF322E2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0314-D098-45E3-8AC0-E388F5DF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A0F-5073-4A57-A000-C2D23480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4230-834C-46A7-ACEF-5C78B945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1A0F-46B3-4000-90D3-1BB21A2F4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oble G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960" y="685800"/>
            <a:ext cx="578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Group 18—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19320"/>
            <a:ext cx="754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18 elements are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ble gas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3520" y="2174760"/>
            <a:ext cx="38098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because they rarely combine with other elements and are found only as uncombined elements in na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4952880"/>
            <a:ext cx="3809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ir reactivity is very 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im41"/>
          <p:cNvPicPr/>
          <p:nvPr/>
        </p:nvPicPr>
        <p:blipFill>
          <a:blip r:embed="rId1"/>
          <a:stretch/>
        </p:blipFill>
        <p:spPr>
          <a:xfrm>
            <a:off x="4886280" y="1828800"/>
            <a:ext cx="3419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69960" y="685800"/>
            <a:ext cx="578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Group 18—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33520" y="1660680"/>
            <a:ext cx="32763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is less dense than air, so it’s great for all kinds of ballo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m42 helium balloons"/>
          <p:cNvPicPr/>
          <p:nvPr/>
        </p:nvPicPr>
        <p:blipFill>
          <a:blip r:embed="rId1"/>
          <a:stretch/>
        </p:blipFill>
        <p:spPr>
          <a:xfrm>
            <a:off x="3971880" y="1389240"/>
            <a:ext cx="4444920" cy="28573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533520" y="438480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balloons lift instruments into the upper atmosphere to measure atmospheric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569960" y="685800"/>
            <a:ext cx="578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Group 18—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im42 helium balloons"/>
          <p:cNvPicPr/>
          <p:nvPr/>
        </p:nvPicPr>
        <p:blipFill>
          <a:blip r:embed="rId1"/>
          <a:stretch/>
        </p:blipFill>
        <p:spPr>
          <a:xfrm>
            <a:off x="3971880" y="1389240"/>
            <a:ext cx="4444920" cy="285732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6"/>
          <p:cNvGrpSpPr/>
          <p:nvPr/>
        </p:nvGrpSpPr>
        <p:grpSpPr>
          <a:xfrm>
            <a:off x="533520" y="1676520"/>
            <a:ext cx="5700600" cy="3157920"/>
            <a:chOff x="533520" y="1676520"/>
            <a:chExt cx="5700600" cy="3157920"/>
          </a:xfrm>
        </p:grpSpPr>
        <p:sp>
          <p:nvSpPr>
            <p:cNvPr id="67" name="Text Box 7"/>
            <p:cNvSpPr/>
            <p:nvPr/>
          </p:nvSpPr>
          <p:spPr>
            <a:xfrm>
              <a:off x="533520" y="1676520"/>
              <a:ext cx="3352680" cy="27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ven though hydrogen is lighter than helium, helium is preferred for these purpos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8"/>
            <p:cNvSpPr/>
            <p:nvPr/>
          </p:nvSpPr>
          <p:spPr>
            <a:xfrm>
              <a:off x="884160" y="4302000"/>
              <a:ext cx="53499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because helium will not burn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33520" y="1523880"/>
            <a:ext cx="35812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neon” lights you see in advertising signs can contain any of the noble gases, not just ne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45180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passed through the glass tubes that make up the sig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im43 neon sign"/>
          <p:cNvPicPr/>
          <p:nvPr/>
        </p:nvPicPr>
        <p:blipFill>
          <a:blip r:embed="rId1"/>
          <a:stretch/>
        </p:blipFill>
        <p:spPr>
          <a:xfrm>
            <a:off x="4183200" y="1725480"/>
            <a:ext cx="44956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33520" y="1523880"/>
            <a:ext cx="3657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icity causes the gas to g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3520" y="3089160"/>
            <a:ext cx="35812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noble gas produces a unique col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33520" y="47466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glows yellow, neon glows red-orange, and argon produces a bluish-violet col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im43 neon sign"/>
          <p:cNvPicPr/>
          <p:nvPr/>
        </p:nvPicPr>
        <p:blipFill>
          <a:blip r:embed="rId1"/>
          <a:stretch/>
        </p:blipFill>
        <p:spPr>
          <a:xfrm>
            <a:off x="4183200" y="1725480"/>
            <a:ext cx="44956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130824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gon, the most abundant of the noble gases on Earth, was first found in 189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33520" y="231156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rypton is used with nitrogen in ordinary lightbulbs because these gases keep the glowing filament from burning 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33520" y="37591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rypton lights are used to illuminate landing strips at airports, and xenon is used in strobe lights and was once used in photographic flash cub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3520" y="143496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the bottom of the group is radon, a radioactive gas produced naturally as uranium decays in rocks and so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33520" y="3048120"/>
            <a:ext cx="8305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radon seeps into a home, the gas can be harmful because it continues to emit radi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33520" y="42130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people breathe the gas over a period of time, it can cause lung canc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6524640" y="4238640"/>
          <a:ext cx="2619360" cy="26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4640" y="4238640"/>
                    <a:ext cx="26193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8/0 – The Noble g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9"/>
          <p:cNvSpPr/>
          <p:nvPr/>
        </p:nvSpPr>
        <p:spPr>
          <a:xfrm>
            <a:off x="0" y="1409760"/>
            <a:ext cx="46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All of the noble gases have a full outer shell, so they are very 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0"/>
          <p:cNvSpPr/>
          <p:nvPr/>
        </p:nvSpPr>
        <p:spPr>
          <a:xfrm>
            <a:off x="0" y="2800440"/>
            <a:ext cx="73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2)  They all have low melting and boiling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11"/>
          <p:cNvSpPr/>
          <p:nvPr/>
        </p:nvSpPr>
        <p:spPr>
          <a:xfrm>
            <a:off x="0" y="348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exist as single atoms rather then diatomic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2"/>
          <p:cNvSpPr/>
          <p:nvPr/>
        </p:nvSpPr>
        <p:spPr>
          <a:xfrm>
            <a:off x="0" y="4152960"/>
            <a:ext cx="77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66ffcc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Helium is lighter then air and is used in balloons and airships (as well as for talking in a silly vo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3"/>
          <p:cNvSpPr/>
          <p:nvPr/>
        </p:nvSpPr>
        <p:spPr>
          <a:xfrm>
            <a:off x="0" y="520056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rgon is used in light bulbs (because it is so unreactive) and argon , krypton and neon are used in fancy 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14"/>
          <p:cNvGraphicFramePr/>
          <p:nvPr/>
        </p:nvGraphicFramePr>
        <p:xfrm>
          <a:off x="5338800" y="5126040"/>
          <a:ext cx="990720" cy="17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2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8800" y="5126040"/>
                    <a:ext cx="9907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9:12Z</dcterms:created>
  <dc:creator>CIC1</dc:creator>
  <dc:description/>
  <dc:language>en-US</dc:language>
  <cp:lastModifiedBy>RomaK</cp:lastModifiedBy>
  <dcterms:modified xsi:type="dcterms:W3CDTF">2015-09-01T16:27:49Z</dcterms:modified>
  <cp:revision>7</cp:revision>
  <dc:subject/>
  <dc:title>The Noble Gases</dc:title>
</cp:coreProperties>
</file>