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3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ftr" idx="3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 type="sldNum" idx="3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586E-1F98-499E-A50A-F0C00E552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pulation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ccur in gene pools due to mutation, natural selection, genetic drift, et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changes cause more VARIATION in individuals in the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Bacteria becoming unaffected by antibiotics (resista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ccur in gene pools due to mutation, natural selection, genetic drift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changes cause more VARIATION in individuals in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Bacteria becoming unaffected by antibiotics (resist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a non-evolving popul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uffling of alleles by meiosis and random fertilization have no effect on the overall gene pool.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populations are NOT expected to actually be in Hardy-Weinberg equilibriu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a non-evolving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uffling of alleles by meiosis and random fertilization have no effect on the overall gene pool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populations are NOT expected to actually be in Hardy-Weinberg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tion from Hardy-Weinberg equilibrium usually results in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a non-evolving population, helps us to understand how evolution occu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tion from Hardy-Weinberg equilibrium usually results i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a non-evolving population, helps us to understand how evolution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population 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small populations have fluctuations in allele frequencies (e.g., fire, storm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ig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mmigrants can change the frequency of an allele by bringing in new alleles to a popul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mut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alleles change from one to another, this will change the frequency of those alle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population 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small populations have fluctuations in allele frequencies (e.g., fire, stor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ig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mmigrants can change the frequency of an allele by bringing in new alleles to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mut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alleles change from one to another, this will change the frequency of thos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certain traits are more desirable, then individuals with those traits will be selected and this will not allow for random mixing of alle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some individuals survive and reproduce at a higher rate than others, then their offspring will carry those genes and the frequency will change for the next gener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certain traits are more desirable, then individuals with those traits will be selected and this will not allow for random mixing of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some individuals survive and reproduce at a higher rate than others, then their offspring will carry those genes and the frequency will change for the next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ts Selected for Random Mat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ts Selected for 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 of a NON-EVOLVING population remains CONSTANT over multiple generations (allele frequency doesn’t chang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Equation: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2 + 2pq + q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= frequency of AA g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frequency of A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frequency of aa g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gene pool of a NON-EVOLVING population remains CONSTANT over multiple generations (allele frequency doesn’t chan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ardy-Weinberg Equation: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0 = p2 + 2pq + 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2 = frequency of AA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pq = frequency of 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2 = frequency of aa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Allele Frequency using Hardy-Weinberg: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 + q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frequency of A alle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frequency of a alle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Allele Frequency using Hardy-Weinberg: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 +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frequency of A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frequency of a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Define Gene Poo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re are 1000 copies of the genes for color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 frequencies are (in both males and females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x 2 (RR) + 160 x 1 (Rr) = 800 R;  800/1000 = 0.8 (80%) 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x 1 (Rr) + 20 x 2 (rr) = 200 r; 200/1000 = 0.2 (20%) 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flowering pla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0 red flo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white flo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Define Gene P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re are 1000 copies of the genes for colo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 frequencies are (in both males and female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x 2 (RR) + 160 x 1 (Rr) = 800 R;  800/1000 = 0.8 (80%)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x 1 (Rr) + 20 x 2 (rr) = 200 r; 200/1000 = 0.2 (20%)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flow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0 r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white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a species can interbreed &amp; produce fertile offsp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have a shared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– all of the alleles of all individuals 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a species can interbreed &amp; produce fertil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have a shared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– all of the alleles of all individual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of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croevolution of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change in the gene pool of a small population due to ch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uccess in reproduction based on heritable traits results in selected alleles being passed to relatively more offspring (Darwinian inheritanc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use ADAPTATION of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s genetic exchange due to the migration of fertile individuals or gametes between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change in the gene pool of a small population due to ch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uccess in reproduction based on heritable traits results in selected alleles being passed to relatively more offspring (Darwinian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use ADAPTATION of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s genetic exchange due to the migration of fertile individuals or gametes betwee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nge in an organism’s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n be transmitted in gametes to offsp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tes are chosen on the basis of the best tra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nge in an organism’s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n be transmitted in gametes to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tes are chosen on the basis of the best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Cause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rastic reduction in population (volcanoes, earthquakes, landslides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population may not be able to adapt to new selection pres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a new colony is started by a few members of the original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speci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Cause 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rastic reduction in population (volcanoes, earthquakes, landslides …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population may not be able to adapt to new selection press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a new colony is started by a few members of the original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speci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of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have little genetic variation in their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probably be attributed to a population bottleneck they experienced around 10,000 years ago, barely avoiding extinction at the end of the last ice 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of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have little genetic variation in their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probably be attributed to a population bottleneck they experienced around 10,000 years ago, barely avoiding extinction at the end of the last ice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do NOT exchange genes by interbreed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that interbreed often produce sterile or less viable offspring e.g. M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do NOT exchange genes by interbre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that interbreed often produce sterile or less viable offspring e.g. M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under’s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’s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dividuals at one end of the phenotypic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during times of environmental change or when moving to new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extreme over intermediate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environmental change favors an extreme 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dividuals at one end of the phenotypic ran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during times of environmental change or when moving to new habit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extreme over intermediate phenoty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environmental change favors an extreme ph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termediate over extreme phenoty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variation and maintains the cureent ave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Human birth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termediate over extreme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variation and maintains the cureent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Human birth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ariations i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 Var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a species due to climate or another geographical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live in different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Finches of Galapagos Islands &amp;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 Vari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a species due to climate or another geographical cond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live in different loc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Finches of Galapagos Islands &amp; South Amer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e same species living in an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wo individuals are exactly alike (variatio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it individuals survive &amp; pass on their tra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e same species living in an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wo individuals are exactly alike (vari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it individuals survive &amp; pass on their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heterozygotes (A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s both alleles (A,a) instead of removing less successful alleles from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Homozygotes exhibit severe anemia, have abnormal blood cell shape, and usually die before reproductive ag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Heterozygotes are less susceptible to mala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vors heterozygotes (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intains both alleles (A,a) instead of removing less successful alleles from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ckle cell an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gt; Homozygotes exhibit severe anemia, have abnormal blood cell shape, and usually die before reproductiv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gt; Heterozygotes are less susceptible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d Mala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ckle Cell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ources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able environments, mutations often result in little or no benefit to an organism, or are often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more beneficial (rare) in changing environments  (Example:  HIV resistance to antiviral dru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Recomb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of most genetic differences between individual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ften occurs between parasite &amp; host and flowers &amp; their pollin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ources of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able environments, mutations often result in little or no benefit to an organism, or are often harmfu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more beneficial (rare) in changing environments  (Example:  HIV resistance to antiviral drug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Recombin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of most genetic differences between individuals 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ften occurs between parasite &amp; host and flowers &amp; their pollina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 may split into 2 or more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es may evolve into a new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very long periods of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 may split into 2 or more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es may evolve into a new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very long period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Evolutionary Thou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dern Evolutionary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s Darwinian selection and Mendelian inheri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 - study of genetic variation with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s on quantitative characters (height, size …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s Darwinian selection and Mendelian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 - study of genetic variation with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s on quantitative characters (height, size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s – comprehensive theory of evolution (Modern Synthesis Theor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d by Fisher &amp; W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n, many did not accept that Darwin’s theory of natural selection could drive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W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is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s – comprehensive theory of evolution (Modern Synthesis The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d by Fisher &amp;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n, many did not accept that Darwin’s theory of natural selection could dr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is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theory on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GENES are responsible for the inheritance of characteris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POPULATIONS, not individuals, evolve due to natural selection &amp; 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SPECIATION usually is due to the gradual accumulation of small genetic chan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theory o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GENES are responsible for the inheritance of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POPULATIONS, not individuals, evolve due to natural selection &amp;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SPECIATION usually is due to the gradual accumulation of small genetic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E80-EE66-4AD2-ADC6-2FABE204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AD93-D97D-4F06-9A12-9B857ECC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D9785-21CB-43B4-B76C-A293A3D0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7691F-622A-4FBD-B10D-3B5516A9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16E36-8B56-452A-AFF2-EA3FFD22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042DA-4FC0-41E1-B367-E3788C70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08867-606F-4C66-A306-CB889125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733AC-03D8-40E2-A7B8-5ECCB3B7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DFA02-06F4-4344-82A3-4746C131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E2D4F-5EB6-4B61-99E2-F56F7344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2CA47-03E7-4DCE-8304-76D7E407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38036-B3C0-4824-97FB-BF335CC2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68F-62A3-4BFE-8683-6BA941F9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5B721-24F2-4627-80C3-C65C8C61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5D2E7-0DBA-4924-A3EF-F3B448D8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C11ED-6057-4AFD-A574-C7AB5261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CEC8A-071F-4D95-9C1D-BA16C63F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074BD-96B3-46CA-B8C4-20780585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7F001-D696-4B88-ACB6-D2A89648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B1BF2-2A3D-4DD2-B44F-8B3DAE69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C93DA-5477-4BC4-B2D1-51D54E6F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30755-ED9F-4CE5-964F-0DC718A7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CE15C-A720-4EC7-8F30-157446D5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40F-5538-460E-823E-59606AD3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EC78B-C053-4C23-AA51-8AF17809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8A81-A7B7-4EDD-8CB1-B9B77138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684F-2B85-468D-8598-3F7D60D7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20CD-37F5-4179-A98A-4EF27558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F0E5-953C-4D32-83F8-09670608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E6D6-16EC-49D8-875C-8004AFD4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72D5-077A-4ACE-8B02-2DCA09FD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6EC7-641F-469F-AEA7-5C7343D3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3245-7F03-4BC2-BF0F-436DFCC7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A48F-5E22-4AA2-9465-ECE7122A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9DB0-51D4-4598-B7B6-D461D819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0870-7B9D-4A72-ABE7-0DE4EB4D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4E28-E307-4800-9F73-21D10390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C040-2E6B-4F23-AC74-2950D946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77897-4928-4768-9FB2-419AB0E1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25EE6-676B-4CF8-B927-BA0FFEF4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E6C8F-5AD1-44D3-998B-211687A5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50E60-5971-4D0E-8029-4D3F4982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66144-EFB1-402D-86D1-E82FA595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1A5-173D-4387-BD05-048EF81E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78505-ACDA-4833-8111-F15261A5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A36B9-EA00-4A26-8BF4-DFD35B09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687EA-B95E-4F19-BCCE-EDBF66EE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84232-DDAC-4715-B07C-61F00685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EBB8A-0C9B-4729-A549-CBE6B4E1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BC5AA-AF20-451A-BF6F-C629A175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12C56-94E3-4093-9971-2A474F66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657C5-E3B9-41A1-864F-3835B8EF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4B657-39DA-49C2-A9A4-185708B8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35FEC-D49E-41BA-BF38-6BAF12E9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F2EB-08A3-4317-BAE8-7F61E732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CBD07-065D-44EF-AB00-378EF186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986DD-982F-4D8A-BE92-CBE4E278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BD3F9-9DE9-4873-B163-8C81D962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0CA7D-53D6-455D-BBCD-AF79702D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B3FEF-49E5-4726-BB62-919A36C3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37306-3ADD-48FB-AD8C-679BC55D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9B271-81DD-4504-B056-DDE2A94F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594F6-0F56-4044-A33B-AEAFB2C1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C7BFB-2608-4A65-802B-62F4DE78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6A6A1-E731-4349-B155-470B49E6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394-B213-444F-81A6-F5EDCF8D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C749A-477A-4F1F-8C69-57B56E0C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3865D-714C-412E-B06F-F4BF8B2E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E96FE-FB62-4312-9948-8B6319AC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ED573-AA2F-41AC-B699-89E96335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782DB-6F9C-4CD0-A4D2-2D706118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A0127-5B7B-4EFC-A244-681B7B26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43959-CF35-4691-AA43-4ADA7CF4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18459-DC42-4EB9-85E2-A821C1EE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CB348-F57F-429A-A329-D9AF34B0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A9222-A130-468B-9BA6-2B2CD794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D094-7B9D-4BF0-B04D-E577D6C0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0B1C2-DE80-4D36-BB56-01821038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83FAB-5D6F-4207-9F1F-997615E5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BFB9F-06AD-4976-8B34-4211A0CB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2AFCB-E006-443D-931C-BBE5691F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5399E-BE18-4B23-B160-E83CFE34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837BA-5439-47E1-B623-D8F4C69A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1C384-ED7E-4D06-969C-55ECD811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25F90-8FC4-4F11-9FC6-587924DF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6EC87-85B4-4835-86FA-9EAD0947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BFCDF-CF42-4709-A039-F035453A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4F2E-A5B4-4225-BDE7-C4C695B0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C9E3A-B92C-4845-B5E1-C3CBFD33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DAA2B-8111-42F3-89F7-56C7ACC8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1ACE4-988B-402D-B735-0E7ECF75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773A4-8CDA-4E49-9793-73458D49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955E1-7A65-4C6F-AA3B-4A8A8846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1FEC8-0E19-4AFC-BDEC-1BEAE5C6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84ACF-CE2D-41A2-BC06-7213A997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019B6-2BCE-4E36-9649-C8A22AB4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3FACD-8163-471B-BE82-643E4353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C4CA0-DBC8-4E31-A955-2598AFCE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A4F-44CD-4F7F-B12C-2303A943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CE147-79A5-4BE8-8DAD-2C0D751E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215C4-72A7-4804-891D-F84A9792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ADE8A-D83E-4484-AF0D-3B5B27A5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BC6AA-6259-457E-A172-BE8B29AC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D6C1E-E320-4A30-BA78-FE45A66F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6D499-9F37-491E-B644-608EE973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29BA8-711B-4C42-A93B-7BD8AB13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53580-F027-4E5A-B39A-EF860228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1F0F5-5D67-4AAA-A351-B52B1D90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FA51F-3750-49BD-8CD1-C22BF3DE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9CAD-38B0-4F1D-A28E-29A70F7F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6E6AC-26B9-419C-B18B-83EBA154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76333-68E0-429F-97B0-8BDF4C7B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9334C-6F3A-4A58-93CD-931ACC13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BFCA7-7FEC-430D-BA78-42EE8CC8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6F049-9F98-483C-9936-775D3303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5D51E-4AA1-4FD8-B8B7-83EF3CCE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AAAFE-F742-4749-980C-D13F5323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0A870-F8BE-4E1C-8187-28FF47D9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D59C3-46C6-496C-8A9F-FF7DE0DA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5AE85-EEAE-444D-8B0F-0D194277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5DE7-9DA2-44C1-BC64-187579101DD6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3868-862E-45A7-B898-771589C060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101E-1DA2-4C7B-AA91-A44912DC1B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19DD-EEA1-432E-83E3-4691D0224F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9332-24E0-4AE5-841C-10660128AB79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68D9-F46D-4F0E-B3D2-1F62A83517E2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CF3B-C9E5-43AD-A5C9-1FCE9DA12D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F6EC-98F8-42AA-A24A-8E796D61B0FC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48F0-4F98-49DF-866F-F9D0412EB3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B34F-25AE-49FC-BA05-8DCBE54FD863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FD2E-0309-43E7-8E08-F4982D3C39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0D45-BB68-46DA-B2E2-10FA01542260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4611-1B2D-4C6F-A73A-E0F5C68256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D0A3-D3DA-4760-ADD6-B8898D175A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0F06-3F8D-41A3-8245-5C38CBEC8F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E995-4C2D-4BA3-B43F-8E6D775AAA80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C524-A022-4CCC-A043-C6E1E84AC8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05D6-1AB8-45D1-A078-E66FD75B48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E4BE-09BB-4978-87A3-2745E8DC7C39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0E7E-4221-4D21-893B-30CA3D9462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4223-A931-4244-A40F-656C3AD816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3599-CDE0-476A-88B1-B9B4C49949B7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69D4-473C-44A2-AD70-E8541ECBAB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D9A1-3CD7-4F25-8A17-0F70315612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7BE9-A68D-4206-86B2-A2658EF62B4C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23-00-She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 rot="21556800">
            <a:off x="2146320" y="2009520"/>
            <a:ext cx="4651200" cy="2062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00"/>
                </a:solidFill>
                <a:latin typeface="Comic Sans MS"/>
              </a:rPr>
              <a:t>Population Genetics</a:t>
            </a:r>
            <a:endParaRPr b="1" i="1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168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Microevolution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Changes occur in gene pool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due to mutation, natural selection, genetic drift, etc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Gene pool changes cause more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VARIATION in individual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 the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is process is called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MICRO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Bacteria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becoming unaffected by antibiotic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(resistant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Hardy-Weinberg Principle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sed to describe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n-evolving popula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huffling of allele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by meiosis and random fertilization hav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effec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on the overall gene pool. 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atural population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are NOT expected to actually be in Hardy-Weinberg equilibrium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715000"/>
            <a:ext cx="853452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Devi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from Hardy-Weinberg equilibrium usuall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results in evolu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nderstanding a non-evolving population, helps us to understand how evolution occu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5 Assumptions of the H-W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Large population size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- small populations have fluctuations in allele frequencies (e.g., fire, storm)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migration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immigrants can change the frequency of an allele by bringing in new alleles to a population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net mutations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alleles change from one to another, this will change the frequency of those alle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5 Assumptions of the H-W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Random mating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certain traits are more desirable, then individuals with those traits will be selected and this will not allow for random mixing of allele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natural selection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some individuals survive and reproduce at a higher rate than others, then their offspring will carry those genes and the frequency will change for the next generation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raits Selected for Random Mating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87" name="Picture 1026" descr="23-16x1-SexualDimorphism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The gene pool of a NON-EVOLVING population remains CONSTANT over multiple generations (allele frequency doesn’t change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Hardy-Weinberg Equation: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1.0 = p</a:t>
            </a:r>
            <a:r>
              <a:rPr b="1" i="1" lang="en-US" sz="32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 + 2pq + q</a:t>
            </a:r>
            <a:r>
              <a:rPr b="1" i="1" lang="en-US" sz="32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Where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p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requency of AA genotyp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2pq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a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q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a genotyp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etermining the Allele Frequency using Hardy-Weinberg: 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omic Sans MS"/>
                <a:ea typeface="Arial"/>
              </a:rPr>
              <a:t>1.0 = p + q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Where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p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frequency of A alle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q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 alle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llele Frequencies Define Gene Poo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533520" y="3352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 there are 1000 copies of the genes for color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allele frequencies are (in both males and females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320 x 2 (RR) + 160 x 1 (Rr) = 800 R;  800/1000 = 0.8 (80%)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0 x 1 (Rr) + 20 x 2 (rr) = 200 r; 200/1000 = 0.2 (20%)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838080" y="990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00 flowering pl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12193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80 red fl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41911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 white fl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8380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2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26668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47242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Line 10"/>
          <p:cNvSpPr/>
          <p:nvPr/>
        </p:nvSpPr>
        <p:spPr>
          <a:xfrm flipH="1">
            <a:off x="3657600" y="14479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4267080" y="144792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Line 12"/>
          <p:cNvSpPr/>
          <p:nvPr/>
        </p:nvSpPr>
        <p:spPr>
          <a:xfrm flipH="1">
            <a:off x="1980720" y="236232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Line 13"/>
          <p:cNvSpPr/>
          <p:nvPr/>
        </p:nvSpPr>
        <p:spPr>
          <a:xfrm>
            <a:off x="2590920" y="23623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Line 14"/>
          <p:cNvSpPr/>
          <p:nvPr/>
        </p:nvSpPr>
        <p:spPr>
          <a:xfrm>
            <a:off x="4876920" y="23623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5200" y="15192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Gene Pool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embers of a species c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interbreed</a:t>
            </a:r>
            <a:r>
              <a:rPr b="1" i="1" lang="en-US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&amp; produce</a:t>
            </a:r>
            <a:r>
              <a:rPr b="1" i="1" lang="en-US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ertile offspr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pecies have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hared gene poo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 pool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– all of the alleles of all individuals in a popul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7" name="Picture 17" descr="gene_pool_sm"/>
          <p:cNvPicPr/>
          <p:nvPr/>
        </p:nvPicPr>
        <p:blipFill>
          <a:blip r:embed="rId1"/>
          <a:stretch/>
        </p:blipFill>
        <p:spPr>
          <a:xfrm>
            <a:off x="5638680" y="1066680"/>
            <a:ext cx="2959200" cy="4953240"/>
          </a:xfrm>
          <a:prstGeom prst="rect">
            <a:avLst/>
          </a:prstGeom>
          <a:ln w="0">
            <a:noFill/>
          </a:ln>
        </p:spPr>
      </p:pic>
      <p:sp>
        <p:nvSpPr>
          <p:cNvPr id="4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050" descr="23-03a-HardyWeinberg-L"/>
          <p:cNvPicPr/>
          <p:nvPr/>
        </p:nvPicPr>
        <p:blipFill>
          <a:blip r:embed="rId1"/>
          <a:stretch/>
        </p:blipFill>
        <p:spPr>
          <a:xfrm>
            <a:off x="914400" y="210960"/>
            <a:ext cx="7315200" cy="643608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050" descr="23-03b-HardyWeinberg-L"/>
          <p:cNvPicPr/>
          <p:nvPr/>
        </p:nvPicPr>
        <p:blipFill>
          <a:blip r:embed="rId1"/>
          <a:stretch/>
        </p:blipFill>
        <p:spPr>
          <a:xfrm>
            <a:off x="914400" y="230040"/>
            <a:ext cx="7238880" cy="6330960"/>
          </a:xfrm>
          <a:prstGeom prst="rect">
            <a:avLst/>
          </a:prstGeom>
          <a:ln w="0">
            <a:noFill/>
          </a:ln>
        </p:spPr>
      </p:pic>
      <p:sp>
        <p:nvSpPr>
          <p:cNvPr id="51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icroevolution of Species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auses of Micr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44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tic Dri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the change in the gene pool of a small population due to chanc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atural Selection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uccess in reproduction based on heritable traits results in selected alleles being passed to relatively more offspring (Darwinian inheritance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Cause ADAPTATION of Populat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 Flow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is genetic exchange due to the migration of fertile individuals or gametes between populat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auses of Micr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5440" y="12189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ut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change in an organism’s DN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utations can be transmitted in gametes to offspring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n-random mat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- Mates are chosen on the basis of the best trai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rcRect l="0" t="0" r="0" b="14360"/>
          <a:stretch/>
        </p:blipFill>
        <p:spPr>
          <a:xfrm>
            <a:off x="3124080" y="4191120"/>
            <a:ext cx="4442040" cy="2361960"/>
          </a:xfrm>
          <a:prstGeom prst="rect">
            <a:avLst/>
          </a:prstGeom>
          <a:ln w="0">
            <a:noFill/>
          </a:ln>
        </p:spPr>
      </p:pic>
      <p:sp>
        <p:nvSpPr>
          <p:cNvPr id="52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Genetic Drift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0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Factors that Cause Genetic Drift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Bottleneck Eff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 drastic reduction in population (volcanoes, earthquakes, landslides …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d genetic vari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maller population may not be able to adapt to new selection pressur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ounder Eff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occurs when a new colony is started by a few members of the original popul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d genetic vari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499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ay lead to speciation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20600" y="533520"/>
            <a:ext cx="8910720" cy="579096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24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Loss of Genetic Varia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Cheetah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have little genetic variation in their gene poo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his can probably be attributed to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population bottleneck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hey experienced around 10,000 years ago, barely avoiding extinction at the end of the last ice ag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052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53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56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Gene Pool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Different species do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T exchange gene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by interbreed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Different species that interbreed often produc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terile or less viable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ffspring e.g. Mu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1" name="Picture 9" descr="mule"/>
          <p:cNvPicPr/>
          <p:nvPr/>
        </p:nvPicPr>
        <p:blipFill>
          <a:blip r:embed="rId1"/>
          <a:stretch/>
        </p:blipFill>
        <p:spPr>
          <a:xfrm>
            <a:off x="5059440" y="1066680"/>
            <a:ext cx="3443040" cy="495324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omic Sans MS"/>
              </a:rPr>
              <a:t>Founder’s Effec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rcRect l="0" t="23158" r="0" b="0"/>
          <a:stretch/>
        </p:blipFill>
        <p:spPr>
          <a:xfrm>
            <a:off x="103320" y="1600200"/>
            <a:ext cx="9040680" cy="426708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895120" y="4495320"/>
            <a:ext cx="61722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odes of Natural Selection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s of Natural Selec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Directional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vors individuals at one end of the phenotypic rang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ost common during times of environmental change or when moving to new habita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00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Disruptive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1500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vors extreme over intermediate phenotyp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1500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ccurs when environmental change favors an extreme phenotyp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23-13-DirectionalSelect-L"/>
          <p:cNvPicPr/>
          <p:nvPr/>
        </p:nvPicPr>
        <p:blipFill>
          <a:blip r:embed="rId1"/>
          <a:stretch/>
        </p:blipFill>
        <p:spPr>
          <a:xfrm>
            <a:off x="457200" y="271440"/>
            <a:ext cx="8229600" cy="63151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4800600" y="98568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Directional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Sele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026" descr="23-14-DiversifyingSelect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027"/>
          <p:cNvSpPr/>
          <p:nvPr/>
        </p:nvSpPr>
        <p:spPr>
          <a:xfrm>
            <a:off x="1143000" y="450720"/>
            <a:ext cx="73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Disruptive Sele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s of Natural Selec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tabilizing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avors intermediate over extreme phenotyp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s variation and maintains the cureent averag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ample: Human birth weigh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534200" cy="302256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1026" descr="23-12-ModesOfSelection-L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895120" y="4495320"/>
            <a:ext cx="61722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Variations in Populations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700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Geographic Variations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440" y="1371600"/>
            <a:ext cx="4762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Variation in a species due to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climate or another geographical condi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Populations live i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different loca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Example: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Finches of Galapagos Islands &amp; South Americ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5448240" y="1346040"/>
            <a:ext cx="3162240" cy="464832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23-08-PlantClinalVariat-L"/>
          <p:cNvPicPr/>
          <p:nvPr/>
        </p:nvPicPr>
        <p:blipFill>
          <a:blip r:embed="rId1"/>
          <a:stretch/>
        </p:blipFill>
        <p:spPr>
          <a:xfrm>
            <a:off x="0" y="257040"/>
            <a:ext cx="9144000" cy="6343920"/>
          </a:xfrm>
          <a:prstGeom prst="rect">
            <a:avLst/>
          </a:prstGeom>
          <a:ln w="0">
            <a:noFill/>
          </a:ln>
        </p:spPr>
      </p:pic>
      <p:sp>
        <p:nvSpPr>
          <p:cNvPr id="56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4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Populations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group of th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ame species living in an are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No two individuals are exactly alik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(variations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or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i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individuals survive &amp; pass on their trait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5" name="Picture 6" descr="Deer_Fighting_"/>
          <p:cNvPicPr/>
          <p:nvPr/>
        </p:nvPicPr>
        <p:blipFill>
          <a:blip r:embed="rId1"/>
          <a:stretch/>
        </p:blipFill>
        <p:spPr>
          <a:xfrm>
            <a:off x="4648320" y="2103480"/>
            <a:ext cx="4267080" cy="2879640"/>
          </a:xfrm>
          <a:prstGeom prst="rect">
            <a:avLst/>
          </a:prstGeom>
          <a:ln w="0">
            <a:noFill/>
          </a:ln>
        </p:spPr>
      </p:pic>
      <p:sp>
        <p:nvSpPr>
          <p:cNvPr id="44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Heterozygote Advantag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Favor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heterozygotes (Aa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Maintains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 both alleles (A,a)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stead of removing less successful alleles from a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Sickle cell anem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&gt; Homozygotes exhibit severe anemia, have abnormal blood cell shape, and usually die before reproductive age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&gt; Heterozygotes are less susceptible to malar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Sickle Cell and Malaria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6" name="Picture 3" descr="21_13"/>
          <p:cNvPicPr/>
          <p:nvPr/>
        </p:nvPicPr>
        <p:blipFill>
          <a:blip r:embed="rId1"/>
          <a:srcRect l="0" t="2496" r="0" b="0"/>
          <a:stretch/>
        </p:blipFill>
        <p:spPr>
          <a:xfrm>
            <a:off x="914400" y="1066680"/>
            <a:ext cx="7315200" cy="5349960"/>
          </a:xfrm>
          <a:prstGeom prst="rect">
            <a:avLst/>
          </a:prstGeom>
          <a:ln w="0">
            <a:noFill/>
          </a:ln>
        </p:spPr>
      </p:pic>
      <p:sp>
        <p:nvSpPr>
          <p:cNvPr id="56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23-10-MappingMalaria-L"/>
          <p:cNvPicPr/>
          <p:nvPr/>
        </p:nvPicPr>
        <p:blipFill>
          <a:blip r:embed="rId1"/>
          <a:stretch/>
        </p:blipFill>
        <p:spPr>
          <a:xfrm>
            <a:off x="990720" y="168120"/>
            <a:ext cx="7162560" cy="6521760"/>
          </a:xfrm>
          <a:prstGeom prst="rect">
            <a:avLst/>
          </a:prstGeom>
          <a:ln w="0">
            <a:noFill/>
          </a:ln>
        </p:spPr>
      </p:pic>
      <p:sp>
        <p:nvSpPr>
          <p:cNvPr id="56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Other Sources of Varia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28600" y="761760"/>
            <a:ext cx="8686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utatio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n stable environments, mutations often result in little or no benefit to an organism, or are often harmfu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utations are more beneficial (rare) in changing environments  (Example:  HIV resistance to antiviral drugs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5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Comic Sans MS"/>
                <a:ea typeface="Arial"/>
              </a:rPr>
              <a:t>Genetic Recombination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ource of most genetic differences between individuals in a popul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5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Comic Sans MS"/>
                <a:ea typeface="Arial"/>
              </a:rPr>
              <a:t>Co-evolution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Often occurs between parasite &amp; host and flowers &amp; their pollinator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574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36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C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rcRect l="2247" t="1749" r="0" b="4818"/>
          <a:stretch/>
        </p:blipFill>
        <p:spPr>
          <a:xfrm>
            <a:off x="0" y="1219320"/>
            <a:ext cx="9144000" cy="533556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Speciation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ormation of new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ne species ma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pli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into 2 or more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species ma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evolve into a new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quires ver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long periods of tim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9" name="Picture 6" descr="speciation"/>
          <p:cNvPicPr/>
          <p:nvPr/>
        </p:nvPicPr>
        <p:blipFill>
          <a:blip r:embed="rId1"/>
          <a:srcRect l="0" t="0" r="0" b="8126"/>
          <a:stretch/>
        </p:blipFill>
        <p:spPr>
          <a:xfrm>
            <a:off x="4648320" y="1220760"/>
            <a:ext cx="4267080" cy="4570560"/>
          </a:xfrm>
          <a:prstGeom prst="rect">
            <a:avLst/>
          </a:prstGeom>
          <a:ln w="0">
            <a:noFill/>
          </a:ln>
        </p:spPr>
      </p:pic>
      <p:sp>
        <p:nvSpPr>
          <p:cNvPr id="45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odern Evolutionary Thought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710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mbine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Darwinian selection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Mendelian inheritanc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Population genetic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study of genetic variation within a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mphasis o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quantitative characters (height, size …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5" name="Picture 5" descr="darwinport2"/>
          <p:cNvPicPr/>
          <p:nvPr/>
        </p:nvPicPr>
        <p:blipFill>
          <a:blip r:embed="rId1"/>
          <a:stretch/>
        </p:blipFill>
        <p:spPr>
          <a:xfrm>
            <a:off x="6400800" y="1106640"/>
            <a:ext cx="2362320" cy="33987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mendel"/>
          <p:cNvPicPr/>
          <p:nvPr/>
        </p:nvPicPr>
        <p:blipFill>
          <a:blip r:embed="rId2"/>
          <a:stretch/>
        </p:blipFill>
        <p:spPr>
          <a:xfrm>
            <a:off x="4419720" y="2895480"/>
            <a:ext cx="2527200" cy="3294360"/>
          </a:xfrm>
          <a:prstGeom prst="rect">
            <a:avLst/>
          </a:prstGeom>
          <a:ln w="0">
            <a:noFill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84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1940s – comprehensive theory of evolutio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(Modern Synthesis Theory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troduced by Fisher &amp; Wrigh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Until the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many did not accept that Darwin’s theory of natural selection could drive 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0" name="Picture 4" descr="fisher"/>
          <p:cNvPicPr/>
          <p:nvPr/>
        </p:nvPicPr>
        <p:blipFill>
          <a:blip r:embed="rId1"/>
          <a:stretch/>
        </p:blipFill>
        <p:spPr>
          <a:xfrm>
            <a:off x="5105520" y="3048120"/>
            <a:ext cx="2011320" cy="32004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wright"/>
          <p:cNvPicPr/>
          <p:nvPr/>
        </p:nvPicPr>
        <p:blipFill>
          <a:blip r:embed="rId2"/>
          <a:stretch/>
        </p:blipFill>
        <p:spPr>
          <a:xfrm>
            <a:off x="6629400" y="1066680"/>
            <a:ext cx="2011320" cy="302904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6"/>
          <p:cNvSpPr/>
          <p:nvPr/>
        </p:nvSpPr>
        <p:spPr>
          <a:xfrm>
            <a:off x="7086600" y="335268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S. W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5334120" y="5867280"/>
            <a:ext cx="1676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A. Fish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764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ODAY’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eory on 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GENES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are responsible for the inheritance of characteristic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POPULATIONS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not individuals, evolve due to natural selection &amp; genetic drif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SPECIATIO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usually is due to the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gradual accumulation of small genetic chang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5:30:09Z</dcterms:created>
  <dc:creator>Valued Gateway Client</dc:creator>
  <dc:description/>
  <dc:language>en-US</dc:language>
  <cp:lastModifiedBy>LEGION</cp:lastModifiedBy>
  <dcterms:modified xsi:type="dcterms:W3CDTF">2016-12-07T12:48:19Z</dcterms:modified>
  <cp:revision>82</cp:revision>
  <dc:subject/>
  <dc:title>PowerPoint Presentation</dc:title>
</cp:coreProperties>
</file>