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26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dt" idx="3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ftr" idx="3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 type="sldNum" idx="3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B6AC-7D1E-42D5-8E03-C4D673E2C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eneti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pulation Gene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ccur in gene pools due to mutation, natural selection, genetic drift, et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pool changes cause more VARIATION in individuals in the pop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ocess is called MICRO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Bacteria becoming unaffected by antibiotics (resistant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ccur in gene pools due to mutation, natural selection, genetic drift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pool changes cause more VARIATION in individuals in the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ocess is called MICR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Bacteria becoming unaffected by antibiotics (resist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ardy-Weinberg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describe a non-evolving popul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uffling of alleles by meiosis and random fertilization have no effect on the overall gene pool. 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populations are NOT expected to actually be in Hardy-Weinberg equilibriu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describe a non-evolving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uffling of alleles by meiosis and random fertilization have no effect on the overall gene pool.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populations are NOT expected to actually be in Hardy-Weinberg equilib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                 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tion from Hardy-Weinberg equilibrium usually results in 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a non-evolving population, helps us to understand how evolution occu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                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tion from Hardy-Weinberg equilibrium usually results in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a non-evolving population, helps us to understand how evolution occ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Assumptions of the H-W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population siz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small populations have fluctuations in allele frequencies (e.g., fire, storm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igr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mmigrants can change the frequency of an allele by bringing in new alleles to a popul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et muta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if alleles change from one to another, this will change the frequency of those alle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Assumptions of the H-W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population siz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small populations have fluctuations in allele frequencies (e.g., fire, stor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igr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mmigrants can change the frequency of an allele by bringing in new alleles to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et muta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if alleles change from one to another, this will change the frequency of those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Assumptions of the H-W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om mat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if certain traits are more desirable, then individuals with those traits will be selected and this will not allow for random mixing of alle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atural sele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if some individuals survive and reproduce at a higher rate than others, then their offspring will carry those genes and the frequency will change for the next gener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Assumptions of the H-W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om mat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if certain traits are more desirable, then individuals with those traits will be selected and this will not allow for random mixing of alle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atural sele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if some individuals survive and reproduce at a higher rate than others, then their offspring will carry those genes and the frequency will change for the next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its Selected for Random Mat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its Selected for Random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pool of a NON-EVOLVING population remains CONSTANT over multiple generations (allele frequency doesn’t chang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Equation: 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 = p2 + 2pq + q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2 = frequency of AA genoty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q = frequency of Aa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 = frequency of aa genoty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gene pool of a NON-EVOLVING population remains CONSTANT over multiple generations (allele frequency doesn’t chan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Hardy-Weinberg Equation: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              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0 = p2 + 2pq + q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2 = frequency of AA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pq = frequency of A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2 = frequency of aa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ing the Allele Frequency using Hardy-Weinberg: 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        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 = p + q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frequency of A alle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frequency of a alle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ing the Allele Frequency using Hardy-Weinberg: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       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 = p + 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frequency of A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frequency of a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ies Define Gene Poo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re are 1000 copies of the genes for color,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ele frequencies are (in both males and females)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0 x 2 (RR) + 160 x 1 (Rr) = 800 R;  800/1000 = 0.8 (80%) 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 x 1 (Rr) + 20 x 2 (rr) = 200 r; 200/1000 = 0.2 (20%) 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 flowering pla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80 red flow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 white flow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0 R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 R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 r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ies Define Gene P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re are 1000 copies of the genes for colo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ele frequencies are (in both males and females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0 x 2 (RR) + 160 x 1 (Rr) = 800 R;  800/1000 = 0.8 (80%)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 x 1 (Rr) + 20 x 2 (rr) = 200 r; 200/1000 = 0.2 (20%)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 flowering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80 re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 white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0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Poo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a species can interbreed &amp; produce fertile offspr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have a shared gene poo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pool – all of the alleles of all individuals in a pop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a species can interbreed &amp; produce fertile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have a shared gene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pool – all of the alleles of all individuals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 of Spec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icroevolution of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Micro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he change in the gene pool of a small population due to chan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success in reproduction based on heritable traits results in selected alleles being passed to relatively more offspring (Darwinian inheritanc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ause ADAPTATION of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s genetic exchange due to the migration of fertile individuals or gametes between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Micr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he change in the gene pool of a small population due to ch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success in reproduction based on heritable traits results in selected alleles being passed to relatively more offspring (Darwinian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ause ADAPTATION of 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s genetic exchange due to the migration of fertile individuals or gametes between 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Micro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nge in an organism’s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can be transmitted in gametes to offspr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random mat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ates are chosen on the basis of the best tra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Micr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nge in an organism’s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can be transmitted in gametes to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random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ates are chosen on the basis of the best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enetic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that Cause Genetic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leneck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rastic reduction in population (volcanoes, earthquakes, landslides 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genetic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er population may not be able to adapt to new selection press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when a new colony is started by a few members of the original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genetic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lead to speci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that Cause Genetic Drif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leneck Effe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rastic reduction in population (volcanoes, earthquakes, landslides …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genetic vari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er population may not be able to adapt to new selection pressu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Effe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when a new colony is started by a few members of the original pop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genetic vari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lead to speci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s of Genetic Vari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etahs have little genetic variation in their gene poo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n probably be attributed to a population bottleneck they experienced around 10,000 years ago, barely avoiding extinction at the end of the last ice 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s of Genetic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etahs have little genetic variation in their gene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n probably be attributed to a population bottleneck they experienced around 10,000 years ago, barely avoiding extinction at the end of the last ice 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Poo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pecies do NOT exchange genes by interbreed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pecies that interbreed often produce sterile or less viable offspring e.g. M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pecies do NOT exchange genes by interbree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pecies that interbreed often produce sterile or less viable offspring e.g. M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under’s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’s Effe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s of Natural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des of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s of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individuals at one end of the phenotypic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during times of environmental change or when moving to new habit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ruptive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extreme over intermediate 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when environmental change favors an extreme 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s of Natural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al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individuals at one end of the phenotypic ran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during times of environmental change or when moving to new habita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ruptive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extreme over intermediate phenotyp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when environmental change favors an extreme phenoty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rectional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ruptive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sruptive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s of Natural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zing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intermediate over extreme phenotyp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s variation and maintains the cureent aver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Human birth we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s of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zing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intermediate over extreme 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s variation and maintains the cureent a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Human birth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s in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ariations in 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 Vari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a species due to climate or another geographical con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live in different lo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Finches of Galapagos Islands &amp; Sou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 Vari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a species due to climate or another geographical condi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live in different loc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Finches of Galapagos Islands &amp; South Americ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oup of the same species living in an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wo individuals are exactly alike (variation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it individuals survive &amp; pass on their tra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oup of the same species living in an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wo individuals are exactly alike (variat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it individuals survive &amp; pass on their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te Advant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heterozygotes (A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s both alleles (A,a) instead of removing less successful alleles from a pop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anem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 Homozygotes exhibit severe anemia, have abnormal blood cell shape, and usually die before reproductive ag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 Heterozygotes are less susceptible to mala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eterozygote Advan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avors heterozygotes (A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intains both alleles (A,a) instead of removing less successful alleles from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ckle cell an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gt; Homozygotes exhibit severe anemia, have abnormal blood cell shape, and usually die before reproductive 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gt; Heterozygotes are less susceptible to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and Mala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ckle Cell and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ources of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table environments, mutations often result in little or no benefit to an organism, or are often harm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are more beneficial (rare) in changing environments  (Example:  HIV resistance to antiviral drug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Recomb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 of most genetic differences between individuals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-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Often occurs between parasite &amp; host and flowers &amp; their pollin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ources of Vari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table environments, mutations often result in little or no benefit to an organism, or are often harmfu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are more beneficial (rare) in changing environments  (Example:  HIV resistance to antiviral drug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Recombin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 of most genetic differences between individuals in a pop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-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Often occurs between parasite &amp; host and flowers &amp; their pollinat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new spec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pecies may split into 2 or more spec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ies may evolve into a new spec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ires very long periods of ti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new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pecies may split into 2 or more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ies may evolve into a new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ires very long periods of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Evolutionary Thou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dern Evolutionary Thou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Synthesis The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s Darwinian selection and Mendelian inheritan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enetics - study of genetic variation within a pop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s on quantitative characters (height, size …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Synthesis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s Darwinian selection and Mendelian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enetics - study of genetic variation with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s on quantitative characters (height, size 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Synthesis The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0s – comprehensive theory of evolution (Modern Synthesis Theory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d by Fisher &amp; Wr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then, many did not accept that Darwin’s theory of natural selection could drive 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. Wr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Fish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Synthesis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0s – comprehensive theory of evolution (Modern Synthesis Theor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d by Fisher &amp; W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then, many did not accept that Darwin’s theory of natural selection could driv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. W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Fis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Synthesis The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theory on 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s that GENES are responsible for the inheritance of characteristi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s that POPULATIONS, not individuals, evolve due to natural selection &amp; genetic drif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s that SPECIATION usually is due to the gradual accumulation of small genetic chang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Synthesis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theory on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s that GENES are responsible for the inheritance of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s that POPULATIONS, not individuals, evolve due to natural selection &amp; genetic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s that SPECIATION usually is due to the gradual accumulation of small genetic cha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9166-DDED-4463-9FEC-C0CF56E6F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67B1-2BD2-493D-BC7C-909397E3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FC15CE-F808-4BBF-9BF7-09BE475D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EF9B1-9163-46EA-9940-5112BEC2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143386-984E-42CA-A042-92114E91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6E3137-68CC-46DF-BF7B-986D617C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0BEC57-56A3-437D-BA25-C24CB22B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80ADB2-7FC9-47FC-BAB0-20F432B5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C2BA3-8C22-4907-87F7-81CEEA59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6FBB52-8D85-4EC9-80A0-9835546D0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28E90F-8175-47E8-92B8-DF8D85398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04FFDE-00CF-4123-B7A7-4E4CDEF73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AE2B-7B83-4CC3-9EA6-875CE5DB2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0694F5-CFA4-4ACF-B599-47A1BCFD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76126C-3C83-4101-897D-328E9822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129CDB-048F-4717-8610-24787F7C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CF4958-0EE5-4B8E-8031-486A88F6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BCBDA0-77EB-4FE1-B6BC-F5C7D317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8CE504-8E8E-4C24-9006-ED9A7A78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2B371B-0822-47A7-9C35-9FBDAE43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E2E7F1-DC0C-4A36-9C73-5FA56E09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C63BB0-7611-416F-A3ED-D44D20A3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16628A-4CE8-4B46-BAF9-E3069C256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7062-853A-4A27-87FB-E03B7C109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9AB4E3-8E34-46C1-91E3-A61B41D09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37E1-BBF5-4025-B06F-BA161C514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1A5D-19DC-4F12-A4CC-98BC90B51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451F5-B360-4506-9115-4779DCE2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7396-806D-4FFF-830D-F69C375D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3FED-71B4-4FD4-9011-F0D6FBA9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03510-ACEC-4B80-97B3-8A6855E0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E862-D7AA-411E-ACA8-BBFD281A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095E-8E1B-4EA2-A97B-F3948115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C1213-CF1C-4EDF-9BAE-186AB0D6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09DCE-9311-4EF4-95D1-EA32FF27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16D7-F581-4217-ADEA-A3CD94C1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5028-8D88-4009-80F2-52298539D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4A57-1F6E-4E8C-A527-C271EA9F4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F52C6-2780-4663-BC7C-6F72B519B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92B03-212F-4210-B4BD-8674BADB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E4DB5-6ACA-4FCE-B4DF-EBB19835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63020-E1EF-469C-ACD6-F250AC77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BB5AE-AA8A-4CF8-AB7F-923B351B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1E75-1981-431B-8D20-1D2C1E0C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AF5B8-C075-4639-8D1D-917C919B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ECE90-6B45-4711-A778-BFDEDBEF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BEFE5-1C23-4AC0-BF21-17FE4113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29135-5796-4EEA-8F24-BA009686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7D8F1-026F-4672-A9E4-6BA87A24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2C37F-89A2-4E91-9C45-3F0E2B313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790D0-9EFE-447A-A285-911B3002A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C0C0D-4772-41FD-B3CE-C845531F6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41C57-A6FC-4E4A-9ED5-EAB10A00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22A07-8FBC-46B9-A5C9-6216394F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6FDF-1D38-40DF-808C-F695DE86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145BC-A23E-42FA-9AE8-DE0B85FB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ACCED-61A9-498C-8FB3-7E20BDE2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6DBA0-66A6-46E6-ACCC-EAE6CD1D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40E28-9B24-4F18-81BD-F94134CA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28967-D98B-4FD8-939F-423204D6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22F51-E36D-4102-BE06-51E2AAC7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898A3-ED73-42EC-8623-A342E650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AD5C1-8243-47F0-8C1D-82AF9427D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695C5-D0AB-49CF-9241-98FE0B7C8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13EC6-D916-4332-AF31-D7D09F602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DBC6-8CA1-4C3E-9F8C-7658F558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D3C09-EFD3-4837-852F-A1E11BB6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36288-63DA-4201-9131-0E48671F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11477-9B2E-4232-AE03-72CFB414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7489D-E4B0-4385-AC09-35C2BA39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2D467-DD8C-45C8-9131-B11861AB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B16CB-C3D9-4EBA-A526-057FF1F4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621CF-03C2-4FBA-B481-12DCD3C6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38F36-ACDF-4B77-8382-6BAAEB48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8FE5B-4B45-4A9B-9639-B38B578E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8B02F-A3B5-4E3D-8955-5269098B0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F6A1-2FEA-4141-9D47-CD0B7E40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7A21D-4BAC-4A2D-8D64-1113C74FB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68524-B852-4959-A5C2-D9A508E79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785E6-A973-40CC-999B-97EF7963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63BA4-E412-4081-8089-C042B02E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15287-1FBE-4918-B513-3CB5E1D1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3EE02-72CA-4E40-92F9-B6AD5713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7F0BB-41BB-4FA0-A1EA-78285FE2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7E338-8A75-4C0D-BBE4-633CF8D4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B9A40-0F8C-4D83-B5CB-19135146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8DE72-DF20-46A5-A0A6-E08DBF9F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FD2A-EC80-4438-A8B7-5575D263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082B8-68E3-4763-A28C-09F759FD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A73F5-E9A9-4E57-BE6B-90D9733F3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783F4-F0C4-4460-A143-639F9F6F0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C374F-FBC9-46CE-B925-02BA947E1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630EE-B20C-4CD9-BFE0-7CF41352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DEE8F-7E13-4996-910B-B1691E59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D0F23-B42D-47A5-B8E4-2CF69D6F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00666-BB21-4778-84EB-9692E60B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9141F-EBB9-42BF-ADA9-9EF41E51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07537-CF9B-4818-8616-2DB51224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B15C-C318-4B05-A15E-D8AA5DB8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6E450-7407-4D74-87ED-8C4A8A96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16228-5FF7-4F3E-9BB1-304CE509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8934C-A661-4E85-B701-DDEF73E1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BBF38-40EB-4607-8A8C-AE610BE92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A7C29-3FF8-4C35-BCF1-5DDA0F5D6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B1EAB-18E8-4A4B-B6F1-4D70C8082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1EAA2-E754-43CA-85BD-6C1E6B80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0E94C-949B-4F27-97F3-C15DC245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9E0B0-F051-4CE3-8D23-F9441EB5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71C63-79C2-4F11-98BB-A2D35DF4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000A-1E08-409B-927E-C5B05B66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AB253-3A72-4808-A266-78B713CB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58E1C-CB37-48F3-931C-52C34A18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2D91C-756C-40C9-851E-6FBAD30D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544D3-9A30-4E5C-BD60-D69D80AE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B76A2-E3CD-4B91-B012-7335BE15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6F43D-5565-45D9-AB5E-401832917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EC160-27BE-4985-89AB-C62C78873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608C44-361B-4CA8-A873-92DED8403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BF0CF6-554B-4963-8661-28AD49A4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1420B8-F9C8-46B9-8351-2F6EED00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4D72-2C3A-4248-AC8B-C9772959BC12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0204-C192-490C-83C7-0BEF665A3C9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B8D1-24CC-4394-BBAF-A52C084BE68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A598-BF43-46BA-9991-E9BD3A79B90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8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9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30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D72D-9C31-410C-9CDA-9A01276792FA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B5F0-19E1-4805-A14B-90D29B7ADD62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3B8D-69D0-42A1-AAE9-03985DDCE1B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-36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9358-B129-474E-B284-D3CDF226E437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9E27-AAD2-41E5-AFE9-59C26A421F9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-36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0D02-FB5D-4169-99A9-C965B4F062DC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9C67-3067-4C98-B7B9-73B4A4C13B6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-36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E22C-360B-4DEA-B7D3-C5473B398630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8F16-D9C7-4B2D-A1EC-BDD76EF8200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612C-BE7F-4B46-8562-5E1C0D3B971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467A-29B9-43AD-AF56-5A263BE5123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7BB8-60FC-444C-8333-CB10DCB5630E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5E23-E576-482B-B430-6D90950065E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981B-6461-498D-B8D3-C9519CAA096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B4F1-273B-4990-88CA-AF0011B5F5E3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5979-CE73-44F3-8B03-153A595413E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99A2-9601-47BC-874E-803D9B826CA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22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3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4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4E77-6B6D-491A-B374-E9739530345E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0F87-5C98-42B3-A830-9FA526BCE7C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76F6-D5EB-4919-830D-9E879A3BE07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5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6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7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9A6B-4AD0-4F3B-8C43-B678BEFCC7CD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23-00-Shell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 rot="21556800">
            <a:off x="2146320" y="2009520"/>
            <a:ext cx="4651200" cy="20620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cc0000"/>
                </a:solidFill>
                <a:latin typeface="Comic Sans MS"/>
              </a:rPr>
              <a:t>Population Genetics</a:t>
            </a:r>
            <a:endParaRPr b="1" i="1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168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Microevolution</a:t>
            </a:r>
            <a:endParaRPr b="1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Changes occur in gene pools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due to mutation, natural selection, genetic drift, etc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Gene pool changes cause more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VARIATION in individuals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in the popula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This process is called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MICROEVOLU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Bacteria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becoming unaffected by antibiotics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(resistant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504960" y="4495320"/>
            <a:ext cx="556236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Hardy-Weinberg Principle</a:t>
            </a:r>
            <a:endParaRPr b="1" i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The Hardy-Weinberg Principle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Used to describe a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n-evolving population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Shuffling of alleles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by meiosis and random fertilization have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 effect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on the overall gene pool. 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atural populations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are NOT expected to actually be in Hardy-Weinberg equilibrium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0" y="5715000"/>
            <a:ext cx="8534520" cy="17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                       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The Hardy-Weinberg Principle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Deviation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from Hardy-Weinberg equilibrium usually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results in evolu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Understanding a non-evolving population, helps us to understand how evolution occur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5 Assumptions of the H-W Principle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Large population size</a:t>
            </a:r>
            <a:br>
              <a:rPr sz="3200"/>
            </a:b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- small populations have fluctuations in allele frequencies (e.g., fire, storm)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 migration</a:t>
            </a:r>
            <a:br>
              <a:rPr sz="3200"/>
            </a:b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- immigrants can change the frequency of an allele by bringing in new alleles to a population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 net mutations</a:t>
            </a:r>
            <a:br>
              <a:rPr sz="3200"/>
            </a:b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-  if alleles change from one to another, this will change the frequency of those allel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5 Assumptions of the H-W Principle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Random mating</a:t>
            </a:r>
            <a:br>
              <a:rPr sz="3200"/>
            </a:b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-  if certain traits are more desirable, then individuals with those traits will be selected and this will not allow for random mixing of alleles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 natural selection</a:t>
            </a:r>
            <a:br>
              <a:rPr sz="3200"/>
            </a:b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-  if some individuals survive and reproduce at a higher rate than others, then their offspring will carry those genes and the frequency will change for the next generation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Traits Selected for Random Mating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87" name="Picture 1026" descr="23-16x1-SexualDimorphism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488" name="Місце для нижнього колонтитула 2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The Hardy-Weinberg Principle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5720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The gene pool of a NON-EVOLVING population remains CONSTANT over multiple generations (allele frequency doesn’t change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The Hardy-Weinberg Equation: 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              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  <a:ea typeface="Arial"/>
              </a:rPr>
              <a:t>1.0 = p</a:t>
            </a:r>
            <a:r>
              <a:rPr b="1" i="1" lang="en-US" sz="3200" spc="-1" strike="noStrike" baseline="30000">
                <a:solidFill>
                  <a:srgbClr val="cc0000"/>
                </a:solidFill>
                <a:latin typeface="Comic Sans MS"/>
                <a:ea typeface="Arial"/>
              </a:rPr>
              <a:t>2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  <a:ea typeface="Arial"/>
              </a:rPr>
              <a:t> + 2pq + q</a:t>
            </a:r>
            <a:r>
              <a:rPr b="1" i="1" lang="en-US" sz="3200" spc="-1" strike="noStrike" baseline="30000">
                <a:solidFill>
                  <a:srgbClr val="cc0000"/>
                </a:solidFill>
                <a:latin typeface="Comic Sans MS"/>
                <a:ea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Where: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  <a:ea typeface="Arial"/>
              </a:rPr>
              <a:t>p</a:t>
            </a:r>
            <a:r>
              <a:rPr b="1" i="1" lang="en-US" sz="2800" spc="-1" strike="noStrike" baseline="30000">
                <a:solidFill>
                  <a:srgbClr val="cc0000"/>
                </a:solidFill>
                <a:latin typeface="Comic Sans MS"/>
                <a:ea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frequency of AA genotyp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  <a:ea typeface="Arial"/>
              </a:rPr>
              <a:t>2pq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= frequency of Aa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  <a:ea typeface="Arial"/>
              </a:rPr>
              <a:t>q</a:t>
            </a:r>
            <a:r>
              <a:rPr b="1" i="1" lang="en-US" sz="2800" spc="-1" strike="noStrike" baseline="30000">
                <a:solidFill>
                  <a:srgbClr val="cc0000"/>
                </a:solidFill>
                <a:latin typeface="Comic Sans MS"/>
                <a:ea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= frequency of aa genotyp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The Hardy-Weinberg Principle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7200" y="12952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Determining the Allele Frequency using Hardy-Weinberg: 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              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Comic Sans MS"/>
                <a:ea typeface="Arial"/>
              </a:rPr>
              <a:t>1.0 = p + q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Where: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  <a:ea typeface="Arial"/>
              </a:rPr>
              <a:t>p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=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frequency of A allel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  <a:ea typeface="Arial"/>
              </a:rPr>
              <a:t>q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= frequency of a allel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304920" y="3049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Allele Frequencies Define Gene Pool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Text Box 3"/>
          <p:cNvSpPr/>
          <p:nvPr/>
        </p:nvSpPr>
        <p:spPr>
          <a:xfrm>
            <a:off x="533520" y="335268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s there are 1000 copies of the genes for color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allele frequencies are (in both males and females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320 x 2 (RR) + 160 x 1 (Rr) = 800 R;  800/1000 = 0.8 (80%) 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60 x 1 (Rr) + 20 x 2 (rr) = 200 r; 200/1000 = 0.2 (20%) 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838080" y="9907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00 flowering pla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Rectangle 5"/>
          <p:cNvSpPr/>
          <p:nvPr/>
        </p:nvSpPr>
        <p:spPr>
          <a:xfrm>
            <a:off x="1219320" y="18288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80 red flow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Rectangle 6"/>
          <p:cNvSpPr/>
          <p:nvPr/>
        </p:nvSpPr>
        <p:spPr>
          <a:xfrm>
            <a:off x="4191120" y="18288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0 white flow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Rectangle 7"/>
          <p:cNvSpPr/>
          <p:nvPr/>
        </p:nvSpPr>
        <p:spPr>
          <a:xfrm>
            <a:off x="83808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20 R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Rectangle 8"/>
          <p:cNvSpPr/>
          <p:nvPr/>
        </p:nvSpPr>
        <p:spPr>
          <a:xfrm>
            <a:off x="266688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60 R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Rectangle 9"/>
          <p:cNvSpPr/>
          <p:nvPr/>
        </p:nvSpPr>
        <p:spPr>
          <a:xfrm>
            <a:off x="472428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0 r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Line 10"/>
          <p:cNvSpPr/>
          <p:nvPr/>
        </p:nvSpPr>
        <p:spPr>
          <a:xfrm flipH="1">
            <a:off x="3657600" y="14479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Line 11"/>
          <p:cNvSpPr/>
          <p:nvPr/>
        </p:nvSpPr>
        <p:spPr>
          <a:xfrm>
            <a:off x="4267080" y="144792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Line 12"/>
          <p:cNvSpPr/>
          <p:nvPr/>
        </p:nvSpPr>
        <p:spPr>
          <a:xfrm flipH="1">
            <a:off x="1980720" y="236232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Line 13"/>
          <p:cNvSpPr/>
          <p:nvPr/>
        </p:nvSpPr>
        <p:spPr>
          <a:xfrm>
            <a:off x="2590920" y="23623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Line 14"/>
          <p:cNvSpPr/>
          <p:nvPr/>
        </p:nvSpPr>
        <p:spPr>
          <a:xfrm>
            <a:off x="4876920" y="23623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5200" y="15192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The Gene Pool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Members of a species can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interbreed</a:t>
            </a:r>
            <a:r>
              <a:rPr b="1" i="1" lang="en-US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&amp; produce</a:t>
            </a:r>
            <a:r>
              <a:rPr b="1" i="1" lang="en-US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fertile offspring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Species have a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shared gene poo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Gene pool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– all of the alleles of all individuals in a popula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7" name="Picture 17" descr="gene_pool_sm"/>
          <p:cNvPicPr/>
          <p:nvPr/>
        </p:nvPicPr>
        <p:blipFill>
          <a:blip r:embed="rId1"/>
          <a:stretch/>
        </p:blipFill>
        <p:spPr>
          <a:xfrm>
            <a:off x="5638680" y="1066680"/>
            <a:ext cx="2959200" cy="4953240"/>
          </a:xfrm>
          <a:prstGeom prst="rect">
            <a:avLst/>
          </a:prstGeom>
          <a:ln w="0">
            <a:noFill/>
          </a:ln>
        </p:spPr>
      </p:pic>
      <p:sp>
        <p:nvSpPr>
          <p:cNvPr id="43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050" descr="23-03a-HardyWeinberg-L"/>
          <p:cNvPicPr/>
          <p:nvPr/>
        </p:nvPicPr>
        <p:blipFill>
          <a:blip r:embed="rId1"/>
          <a:stretch/>
        </p:blipFill>
        <p:spPr>
          <a:xfrm>
            <a:off x="914400" y="210960"/>
            <a:ext cx="7315200" cy="6436080"/>
          </a:xfrm>
          <a:prstGeom prst="rect">
            <a:avLst/>
          </a:prstGeom>
          <a:ln w="0">
            <a:noFill/>
          </a:ln>
        </p:spPr>
      </p:pic>
      <p:sp>
        <p:nvSpPr>
          <p:cNvPr id="510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2050" descr="23-03b-HardyWeinberg-L"/>
          <p:cNvPicPr/>
          <p:nvPr/>
        </p:nvPicPr>
        <p:blipFill>
          <a:blip r:embed="rId1"/>
          <a:stretch/>
        </p:blipFill>
        <p:spPr>
          <a:xfrm>
            <a:off x="914400" y="230040"/>
            <a:ext cx="7238880" cy="6330960"/>
          </a:xfrm>
          <a:prstGeom prst="rect">
            <a:avLst/>
          </a:prstGeom>
          <a:ln w="0">
            <a:noFill/>
          </a:ln>
        </p:spPr>
      </p:pic>
      <p:sp>
        <p:nvSpPr>
          <p:cNvPr id="51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504960" y="4495320"/>
            <a:ext cx="556236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Microevolution of Species</a:t>
            </a:r>
            <a:endParaRPr b="1" i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Causes of Microevolution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685440" y="121896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Genetic Drif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83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 the change in the gene pool of a small population due to chanc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atural Selection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83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-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success in reproduction based on heritable traits results in selected alleles being passed to relatively more offspring (Darwinian inheritance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3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 Cause ADAPTATION of Population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Gene Flow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83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is genetic exchange due to the migration of fertile individuals or gametes between population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Місце для нижнього колонтитула 2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Causes of Microevolution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685440" y="121896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Muta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 change in an organism’s DN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Mutations can be transmitted in gametes to offspring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n-random mating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- Mates are chosen on the basis of the best trait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0" name="Picture 2" descr=""/>
          <p:cNvPicPr/>
          <p:nvPr/>
        </p:nvPicPr>
        <p:blipFill>
          <a:blip r:embed="rId1"/>
          <a:srcRect l="0" t="0" r="0" b="14360"/>
          <a:stretch/>
        </p:blipFill>
        <p:spPr>
          <a:xfrm>
            <a:off x="3124080" y="4191120"/>
            <a:ext cx="4442040" cy="2361960"/>
          </a:xfrm>
          <a:prstGeom prst="rect">
            <a:avLst/>
          </a:prstGeom>
          <a:ln w="0">
            <a:noFill/>
          </a:ln>
        </p:spPr>
      </p:pic>
      <p:sp>
        <p:nvSpPr>
          <p:cNvPr id="521" name="Місце для нижнього колонтитула 2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504960" y="4495320"/>
            <a:ext cx="556236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Genetic Drift</a:t>
            </a:r>
            <a:endParaRPr b="1" i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3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260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Factors that Cause Genetic Drift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228600" y="990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Bottleneck Effec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3258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 drastic reduction in population (volcanoes, earthquakes, landslides …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3258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Reduced genetic variatio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3258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Smaller population may not be able to adapt to new selection pressur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Founder Effec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3258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occurs when a new colony is started by a few members of the original populatio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3258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Reduced genetic variatio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325800">
              <a:spcBef>
                <a:spcPts val="499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May lead to speciation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"/>
          <p:cNvPicPr/>
          <p:nvPr/>
        </p:nvPicPr>
        <p:blipFill>
          <a:blip r:embed="rId1"/>
          <a:stretch/>
        </p:blipFill>
        <p:spPr>
          <a:xfrm>
            <a:off x="120600" y="533520"/>
            <a:ext cx="8910720" cy="5790960"/>
          </a:xfrm>
          <a:prstGeom prst="rect">
            <a:avLst/>
          </a:prstGeom>
          <a:ln w="0">
            <a:noFill/>
          </a:ln>
        </p:spPr>
      </p:pic>
      <p:sp>
        <p:nvSpPr>
          <p:cNvPr id="52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24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Loss of Genetic Variation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228600" y="13716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Cheetahs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have little genetic variation in their gene poo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This can probably be attributed to a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population bottleneck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they experienced around 10,000 years ago, barely avoiding extinction at the end of the last ice ag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Місце для нижнього колонтитула 2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052" descr=""/>
          <p:cNvPicPr/>
          <p:nvPr/>
        </p:nvPicPr>
        <p:blipFill>
          <a:blip r:embed="rId1"/>
          <a:stretch/>
        </p:blipFill>
        <p:spPr>
          <a:xfrm>
            <a:off x="457200" y="343080"/>
            <a:ext cx="8153280" cy="6114960"/>
          </a:xfrm>
          <a:prstGeom prst="rect">
            <a:avLst/>
          </a:prstGeom>
          <a:ln w="0">
            <a:noFill/>
          </a:ln>
        </p:spPr>
      </p:pic>
      <p:sp>
        <p:nvSpPr>
          <p:cNvPr id="533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556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The Gene Pool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4267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Different species do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T exchange genes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by interbreeding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Different species that interbreed often produce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sterile or less viable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offspring e.g. Mul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1" name="Picture 9" descr="mule"/>
          <p:cNvPicPr/>
          <p:nvPr/>
        </p:nvPicPr>
        <p:blipFill>
          <a:blip r:embed="rId1"/>
          <a:stretch/>
        </p:blipFill>
        <p:spPr>
          <a:xfrm>
            <a:off x="5059440" y="1066680"/>
            <a:ext cx="3443040" cy="4953240"/>
          </a:xfrm>
          <a:prstGeom prst="rect">
            <a:avLst/>
          </a:prstGeom>
          <a:ln w="0">
            <a:noFill/>
          </a:ln>
        </p:spPr>
      </p:pic>
      <p:sp>
        <p:nvSpPr>
          <p:cNvPr id="44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Comic Sans MS"/>
              </a:rPr>
              <a:t>Founder’s Effec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35" name="Picture 2" descr=""/>
          <p:cNvPicPr/>
          <p:nvPr/>
        </p:nvPicPr>
        <p:blipFill>
          <a:blip r:embed="rId1"/>
          <a:srcRect l="0" t="23158" r="0" b="0"/>
          <a:stretch/>
        </p:blipFill>
        <p:spPr>
          <a:xfrm>
            <a:off x="103320" y="1600200"/>
            <a:ext cx="9040680" cy="4267080"/>
          </a:xfrm>
          <a:prstGeom prst="rect">
            <a:avLst/>
          </a:prstGeom>
          <a:ln w="0">
            <a:noFill/>
          </a:ln>
        </p:spPr>
      </p:pic>
      <p:sp>
        <p:nvSpPr>
          <p:cNvPr id="536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895120" y="4495320"/>
            <a:ext cx="617220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Modes of Natural Selection</a:t>
            </a:r>
            <a:endParaRPr b="1" i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Modes of Natural Selection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  <a:ea typeface="Arial"/>
              </a:rPr>
              <a:t>Directional Selec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avors individuals at one end of the phenotypic rang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Most common during times of environmental change or when moving to new habitat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2001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  <a:ea typeface="Arial"/>
              </a:rPr>
              <a:t>Disruptive selec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1500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avors extreme over intermediate phenotyp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1500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Occurs when environmental change favors an extreme phenotyp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23-13-DirectionalSelect-L"/>
          <p:cNvPicPr/>
          <p:nvPr/>
        </p:nvPicPr>
        <p:blipFill>
          <a:blip r:embed="rId1"/>
          <a:stretch/>
        </p:blipFill>
        <p:spPr>
          <a:xfrm>
            <a:off x="457200" y="271440"/>
            <a:ext cx="8229600" cy="631512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3"/>
          <p:cNvSpPr/>
          <p:nvPr/>
        </p:nvSpPr>
        <p:spPr>
          <a:xfrm>
            <a:off x="4800600" y="985680"/>
            <a:ext cx="358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Directional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Selec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1026" descr="23-14-DiversifyingSelect"/>
          <p:cNvPicPr/>
          <p:nvPr/>
        </p:nvPicPr>
        <p:blipFill>
          <a:blip r:embed="rId1"/>
          <a:stretch/>
        </p:blipFill>
        <p:spPr>
          <a:xfrm>
            <a:off x="0" y="679320"/>
            <a:ext cx="9144000" cy="610236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1027"/>
          <p:cNvSpPr/>
          <p:nvPr/>
        </p:nvSpPr>
        <p:spPr>
          <a:xfrm>
            <a:off x="1143000" y="450720"/>
            <a:ext cx="731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Disruptive Selec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Modes of Natural Selection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Stabilizing Selec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Favors intermediate over extreme phenotyp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Reduces variation and maintains the cureent averag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Example: Human birth weigh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0" name="Picture 2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534200" cy="3022560"/>
          </a:xfrm>
          <a:prstGeom prst="rect">
            <a:avLst/>
          </a:prstGeom>
          <a:ln w="0">
            <a:noFill/>
          </a:ln>
        </p:spPr>
      </p:pic>
      <p:sp>
        <p:nvSpPr>
          <p:cNvPr id="551" name="Місце для нижнього колонтитула 2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1026" descr="23-12-ModesOfSelection-L"/>
          <p:cNvPicPr/>
          <p:nvPr/>
        </p:nvPicPr>
        <p:blipFill>
          <a:blip r:embed="rId1"/>
          <a:stretch/>
        </p:blipFill>
        <p:spPr>
          <a:xfrm>
            <a:off x="0" y="439560"/>
            <a:ext cx="9144000" cy="5978880"/>
          </a:xfrm>
          <a:prstGeom prst="rect">
            <a:avLst/>
          </a:prstGeom>
          <a:ln w="0">
            <a:noFill/>
          </a:ln>
        </p:spPr>
      </p:pic>
      <p:sp>
        <p:nvSpPr>
          <p:cNvPr id="553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895120" y="4495320"/>
            <a:ext cx="617220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Variations in Populations</a:t>
            </a:r>
            <a:endParaRPr b="1" i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5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700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Geographic Variations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685440" y="1371600"/>
            <a:ext cx="4762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Variation in a species due to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climate or another geographical condi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Populations live in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different location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Example: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Finches of Galapagos Islands &amp; South Americ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8" name="Picture 2" descr=""/>
          <p:cNvPicPr/>
          <p:nvPr/>
        </p:nvPicPr>
        <p:blipFill>
          <a:blip r:embed="rId1"/>
          <a:stretch/>
        </p:blipFill>
        <p:spPr>
          <a:xfrm>
            <a:off x="5448240" y="1346040"/>
            <a:ext cx="3162240" cy="4648320"/>
          </a:xfrm>
          <a:prstGeom prst="rect">
            <a:avLst/>
          </a:prstGeom>
          <a:ln w="0">
            <a:noFill/>
          </a:ln>
        </p:spPr>
      </p:pic>
      <p:sp>
        <p:nvSpPr>
          <p:cNvPr id="559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23-08-PlantClinalVariat-L"/>
          <p:cNvPicPr/>
          <p:nvPr/>
        </p:nvPicPr>
        <p:blipFill>
          <a:blip r:embed="rId1"/>
          <a:stretch/>
        </p:blipFill>
        <p:spPr>
          <a:xfrm>
            <a:off x="0" y="257040"/>
            <a:ext cx="9144000" cy="6343920"/>
          </a:xfrm>
          <a:prstGeom prst="rect">
            <a:avLst/>
          </a:prstGeom>
          <a:ln w="0">
            <a:noFill/>
          </a:ln>
        </p:spPr>
      </p:pic>
      <p:sp>
        <p:nvSpPr>
          <p:cNvPr id="561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4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Populations</a:t>
            </a:r>
            <a:endParaRPr b="1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267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 group of the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same species living in an area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No two individuals are exactly alike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(variations)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More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Fit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individuals survive &amp; pass on their trait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5" name="Picture 6" descr="Deer_Fighting_"/>
          <p:cNvPicPr/>
          <p:nvPr/>
        </p:nvPicPr>
        <p:blipFill>
          <a:blip r:embed="rId1"/>
          <a:stretch/>
        </p:blipFill>
        <p:spPr>
          <a:xfrm>
            <a:off x="4648320" y="2103480"/>
            <a:ext cx="4267080" cy="2879640"/>
          </a:xfrm>
          <a:prstGeom prst="rect">
            <a:avLst/>
          </a:prstGeom>
          <a:ln w="0">
            <a:noFill/>
          </a:ln>
        </p:spPr>
      </p:pic>
      <p:sp>
        <p:nvSpPr>
          <p:cNvPr id="446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Heterozygote Advantage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Favors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heterozygotes (Aa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Maintains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 both alleles (A,a)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instead of removing less successful alleles from a popula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Sickle cell anemi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&gt; Homozygotes exhibit severe anemia, have abnormal blood cell shape, and usually die before reproductive age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&gt; Heterozygotes are less susceptible to malari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Sickle Cell and Malaria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66" name="Picture 3" descr="21_13"/>
          <p:cNvPicPr/>
          <p:nvPr/>
        </p:nvPicPr>
        <p:blipFill>
          <a:blip r:embed="rId1"/>
          <a:srcRect l="0" t="2496" r="0" b="0"/>
          <a:stretch/>
        </p:blipFill>
        <p:spPr>
          <a:xfrm>
            <a:off x="914400" y="1066680"/>
            <a:ext cx="7315200" cy="5349960"/>
          </a:xfrm>
          <a:prstGeom prst="rect">
            <a:avLst/>
          </a:prstGeom>
          <a:ln w="0">
            <a:noFill/>
          </a:ln>
        </p:spPr>
      </p:pic>
      <p:sp>
        <p:nvSpPr>
          <p:cNvPr id="567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2" descr="23-10-MappingMalaria-L"/>
          <p:cNvPicPr/>
          <p:nvPr/>
        </p:nvPicPr>
        <p:blipFill>
          <a:blip r:embed="rId1"/>
          <a:stretch/>
        </p:blipFill>
        <p:spPr>
          <a:xfrm>
            <a:off x="990720" y="168120"/>
            <a:ext cx="7162560" cy="6521760"/>
          </a:xfrm>
          <a:prstGeom prst="rect">
            <a:avLst/>
          </a:prstGeom>
          <a:ln w="0">
            <a:noFill/>
          </a:ln>
        </p:spPr>
      </p:pic>
      <p:sp>
        <p:nvSpPr>
          <p:cNvPr id="569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Other Sources of Variation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228600" y="761760"/>
            <a:ext cx="86868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Mutation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In stable environments, mutations often result in little or no benefit to an organism, or are often harmfu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Mutations are more beneficial (rare) in changing environments  (Example:  HIV resistance to antiviral drugs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51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c0000"/>
                </a:solidFill>
                <a:latin typeface="Comic Sans MS"/>
                <a:ea typeface="Arial"/>
              </a:rPr>
              <a:t>Genetic Recombination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source of most genetic differences between individuals in a populatio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51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c0000"/>
                </a:solidFill>
                <a:latin typeface="Comic Sans MS"/>
                <a:ea typeface="Arial"/>
              </a:rPr>
              <a:t>Co-evolution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Often occurs between parasite &amp; host and flowers &amp; their pollinator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5748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36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Coevolution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74" name="Picture 3" descr=""/>
          <p:cNvPicPr/>
          <p:nvPr/>
        </p:nvPicPr>
        <p:blipFill>
          <a:blip r:embed="rId1"/>
          <a:srcRect l="2247" t="1749" r="0" b="4818"/>
          <a:stretch/>
        </p:blipFill>
        <p:spPr>
          <a:xfrm>
            <a:off x="0" y="1219320"/>
            <a:ext cx="9144000" cy="5335560"/>
          </a:xfrm>
          <a:prstGeom prst="rect">
            <a:avLst/>
          </a:prstGeom>
          <a:ln w="0">
            <a:noFill/>
          </a:ln>
        </p:spPr>
      </p:pic>
      <p:sp>
        <p:nvSpPr>
          <p:cNvPr id="575" name="Місце для нижнього колонтитула 2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Speciation</a:t>
            </a:r>
            <a:endParaRPr b="1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4267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Formation of new specie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One species may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split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into 2 or more specie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 species may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evolve into a new specie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Requires very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long periods of tim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9" name="Picture 6" descr="speciation"/>
          <p:cNvPicPr/>
          <p:nvPr/>
        </p:nvPicPr>
        <p:blipFill>
          <a:blip r:embed="rId1"/>
          <a:srcRect l="0" t="0" r="0" b="8126"/>
          <a:stretch/>
        </p:blipFill>
        <p:spPr>
          <a:xfrm>
            <a:off x="4648320" y="1220760"/>
            <a:ext cx="4267080" cy="4570560"/>
          </a:xfrm>
          <a:prstGeom prst="rect">
            <a:avLst/>
          </a:prstGeom>
          <a:ln w="0">
            <a:noFill/>
          </a:ln>
        </p:spPr>
      </p:pic>
      <p:sp>
        <p:nvSpPr>
          <p:cNvPr id="450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504960" y="4495320"/>
            <a:ext cx="556236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Modern Evolutionary Thought</a:t>
            </a:r>
            <a:endParaRPr b="1" i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17100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Modern Synthesis Theory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Combines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Darwinian selection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Mendelian inheritanc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Population genetics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- study of genetic variation within a popula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Emphasis on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quantitative characters (height, size …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5" name="Picture 5" descr="darwinport2"/>
          <p:cNvPicPr/>
          <p:nvPr/>
        </p:nvPicPr>
        <p:blipFill>
          <a:blip r:embed="rId1"/>
          <a:stretch/>
        </p:blipFill>
        <p:spPr>
          <a:xfrm>
            <a:off x="6400800" y="1106640"/>
            <a:ext cx="2362320" cy="339876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6" descr="mendel"/>
          <p:cNvPicPr/>
          <p:nvPr/>
        </p:nvPicPr>
        <p:blipFill>
          <a:blip r:embed="rId2"/>
          <a:stretch/>
        </p:blipFill>
        <p:spPr>
          <a:xfrm>
            <a:off x="4419720" y="2895480"/>
            <a:ext cx="2527200" cy="3294360"/>
          </a:xfrm>
          <a:prstGeom prst="rect">
            <a:avLst/>
          </a:prstGeom>
          <a:ln w="0">
            <a:noFill/>
          </a:ln>
        </p:spPr>
      </p:pic>
      <p:sp>
        <p:nvSpPr>
          <p:cNvPr id="457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84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Modern Synthesis Theory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952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1940s – comprehensive theory of evolution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(Modern Synthesis Theory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Introduced by Fisher &amp; Wrigh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Until then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, many did not accept that Darwin’s theory of natural selection could drive evolu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0" name="Picture 4" descr="fisher"/>
          <p:cNvPicPr/>
          <p:nvPr/>
        </p:nvPicPr>
        <p:blipFill>
          <a:blip r:embed="rId1"/>
          <a:stretch/>
        </p:blipFill>
        <p:spPr>
          <a:xfrm>
            <a:off x="5105520" y="3048120"/>
            <a:ext cx="2011320" cy="32004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5" descr="wright"/>
          <p:cNvPicPr/>
          <p:nvPr/>
        </p:nvPicPr>
        <p:blipFill>
          <a:blip r:embed="rId2"/>
          <a:stretch/>
        </p:blipFill>
        <p:spPr>
          <a:xfrm>
            <a:off x="6629400" y="1066680"/>
            <a:ext cx="2011320" cy="3029040"/>
          </a:xfrm>
          <a:prstGeom prst="rect">
            <a:avLst/>
          </a:prstGeom>
          <a:ln w="0">
            <a:noFill/>
          </a:ln>
        </p:spPr>
      </p:pic>
      <p:sp>
        <p:nvSpPr>
          <p:cNvPr id="462" name="Text Box 6"/>
          <p:cNvSpPr/>
          <p:nvPr/>
        </p:nvSpPr>
        <p:spPr>
          <a:xfrm>
            <a:off x="7086600" y="3352680"/>
            <a:ext cx="144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mic Sans MS"/>
              </a:rPr>
              <a:t>S. Wrigh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Text Box 7"/>
          <p:cNvSpPr/>
          <p:nvPr/>
        </p:nvSpPr>
        <p:spPr>
          <a:xfrm>
            <a:off x="5334120" y="5867280"/>
            <a:ext cx="1676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mic Sans MS"/>
              </a:rPr>
              <a:t>A. Fish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764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Modern Synthesis Theory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TODAY’S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theory on evolu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Recognizes that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GENES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are responsible for the inheritance of characteristic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Recognizes that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POPULATIONS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, not individuals, evolve due to natural selection &amp; genetic drif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Recognizes that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SPECIATION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usually is due to the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gradual accumulation of small genetic chang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15:30:09Z</dcterms:created>
  <dc:creator>Valued Gateway Client</dc:creator>
  <dc:description/>
  <dc:language>en-US</dc:language>
  <cp:lastModifiedBy>LEGION</cp:lastModifiedBy>
  <dcterms:modified xsi:type="dcterms:W3CDTF">2016-12-07T12:48:19Z</dcterms:modified>
  <cp:revision>82</cp:revision>
  <dc:subject/>
  <dc:title>PowerPoint Presentation</dc:title>
</cp:coreProperties>
</file>