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7A3A-1737-4FDB-9EAC-DEBA37CDA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7F1-6636-449B-AA8C-507B7339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CF0-897E-4E8A-A104-760625CD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344-987E-4D4A-BAAF-165C2EA6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705-8B47-4201-9A91-78DBF9C9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C8AC-7F9F-476F-913A-45968EC4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1E9B-3625-48CC-B051-66B49568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E081-F3BC-41E8-AC33-C7E3D955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D972-2C25-419A-997F-13137762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8A14-36D5-4F86-8367-6876AAD6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941D-8542-4D2F-ACBF-D70B9E0D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8E3C-1808-45DF-9145-F4F75C15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601-C42F-4571-8C83-BD080185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E4F1-E610-4C21-B462-2B1F3AAC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169C-2E73-4D25-AC0E-4B51D094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5A52-8D69-47EE-B0E1-D590A7F8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8A14-E849-4F38-B8AB-58D7F358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31EA-0100-4BEE-BA95-29BE6AB4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1F5-3A92-42DC-98E6-8B7F492A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E4E-B50E-4F89-832B-1CD3472D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066-B5E7-45A0-97B6-0ED2F722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74BF-BC53-4859-9CCE-A4BE4CCE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F32-EBD0-44F5-9D79-3C3F64C8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934-EE3B-43E5-AF86-FDF72A43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2FB-4784-4575-922B-0446B3A1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EEC9-A61C-4D71-A8B4-6DA147493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B877-A8EC-4791-BFE7-2FC89F4AE9F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3.  Krebs Cycle (Citric Acid Cy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tochondrial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Also called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 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the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wo phases (10 step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 Preparatory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(first 5 step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a.  Energy payoff phase </a:t>
            </a:r>
            <a:r>
              <a:rPr b="0" lang="en-US" sz="2700" spc="-1" strike="noStrike">
                <a:solidFill>
                  <a:srgbClr val="00279f"/>
                </a:solidFill>
                <a:latin typeface="Tahoma"/>
              </a:rPr>
              <a:t>(second 5 steps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2280" y="2881440"/>
            <a:ext cx="5498640" cy="3258720"/>
            <a:chOff x="62280" y="2881440"/>
            <a:chExt cx="5498640" cy="3258720"/>
          </a:xfrm>
        </p:grpSpPr>
        <p:sp>
          <p:nvSpPr>
            <p:cNvPr id="216" name="Rectangle 5"/>
            <p:cNvSpPr/>
            <p:nvPr/>
          </p:nvSpPr>
          <p:spPr>
            <a:xfrm>
              <a:off x="1737720" y="2881440"/>
              <a:ext cx="206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6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65760" y="531972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2362320" y="33289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2650320" y="368928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558720" y="33019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48440" y="34146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1881360" y="38624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>
              <a:off x="1779480" y="41673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62280" y="455760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1301760" y="450216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1357200" y="45576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5867280" y="2819520"/>
            <a:ext cx="3048120" cy="3200400"/>
            <a:chOff x="5867280" y="2819520"/>
            <a:chExt cx="3048120" cy="3200400"/>
          </a:xfrm>
        </p:grpSpPr>
        <p:sp>
          <p:nvSpPr>
            <p:cNvPr id="228" name="Rectangle 17"/>
            <p:cNvSpPr/>
            <p:nvPr/>
          </p:nvSpPr>
          <p:spPr>
            <a:xfrm>
              <a:off x="6388560" y="2957400"/>
              <a:ext cx="200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-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7391520" y="3405240"/>
              <a:ext cx="0" cy="96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H="1">
              <a:off x="6934320" y="4343400"/>
              <a:ext cx="457200" cy="81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7391520" y="4267080"/>
              <a:ext cx="45720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6235200" y="524340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7530480" y="528156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23"/>
            <p:cNvSpPr/>
            <p:nvPr/>
          </p:nvSpPr>
          <p:spPr>
            <a:xfrm>
              <a:off x="5867280" y="2819520"/>
              <a:ext cx="304812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38600" y="2690640"/>
            <a:ext cx="5269680" cy="3830400"/>
            <a:chOff x="138600" y="2690640"/>
            <a:chExt cx="5269680" cy="3830400"/>
          </a:xfrm>
        </p:grpSpPr>
        <p:sp>
          <p:nvSpPr>
            <p:cNvPr id="239" name="Rectangle 5"/>
            <p:cNvSpPr/>
            <p:nvPr/>
          </p:nvSpPr>
          <p:spPr>
            <a:xfrm>
              <a:off x="213120" y="269064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362320" y="35575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1052640" y="5700600"/>
              <a:ext cx="258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2498040" y="380376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406440" y="4521240"/>
              <a:ext cx="1320840" cy="7110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596160" y="463392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81360" y="40910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 flipH="1">
              <a:off x="1779480" y="43959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138600" y="371952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378080" y="366408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1433520" y="37195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5943600" y="2819520"/>
            <a:ext cx="2895480" cy="3429000"/>
            <a:chOff x="5943600" y="2819520"/>
            <a:chExt cx="2895480" cy="3429000"/>
          </a:xfrm>
        </p:grpSpPr>
        <p:sp>
          <p:nvSpPr>
            <p:cNvPr id="251" name="Rectangle 17"/>
            <p:cNvSpPr/>
            <p:nvPr/>
          </p:nvSpPr>
          <p:spPr>
            <a:xfrm>
              <a:off x="6387120" y="318600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693432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800100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0"/>
            <p:cNvSpPr/>
            <p:nvPr/>
          </p:nvSpPr>
          <p:spPr>
            <a:xfrm>
              <a:off x="6387120" y="51674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6614640" y="29275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7605360" y="290844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6386400" y="5452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7529760" y="545292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25"/>
            <p:cNvSpPr/>
            <p:nvPr/>
          </p:nvSpPr>
          <p:spPr>
            <a:xfrm>
              <a:off x="5943600" y="2819520"/>
              <a:ext cx="289548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3C-Pyruvate (PY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rmed when 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ansfers a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hosphate gro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965240" y="2952720"/>
            <a:ext cx="5675400" cy="2603520"/>
            <a:chOff x="1965240" y="2952720"/>
            <a:chExt cx="5675400" cy="2603520"/>
          </a:xfrm>
        </p:grpSpPr>
        <p:sp>
          <p:nvSpPr>
            <p:cNvPr id="267" name="Freeform 5"/>
            <p:cNvSpPr/>
            <p:nvPr/>
          </p:nvSpPr>
          <p:spPr>
            <a:xfrm>
              <a:off x="3029040" y="2952720"/>
              <a:ext cx="4611600" cy="17161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2905" h="1081">
                  <a:moveTo>
                    <a:pt x="876" y="732"/>
                  </a:moveTo>
                  <a:lnTo>
                    <a:pt x="840" y="720"/>
                  </a:lnTo>
                  <a:lnTo>
                    <a:pt x="804" y="720"/>
                  </a:lnTo>
                  <a:lnTo>
                    <a:pt x="768" y="720"/>
                  </a:lnTo>
                  <a:lnTo>
                    <a:pt x="732" y="696"/>
                  </a:lnTo>
                  <a:lnTo>
                    <a:pt x="684" y="672"/>
                  </a:lnTo>
                  <a:lnTo>
                    <a:pt x="660" y="636"/>
                  </a:lnTo>
                  <a:lnTo>
                    <a:pt x="660" y="600"/>
                  </a:lnTo>
                  <a:lnTo>
                    <a:pt x="648" y="564"/>
                  </a:lnTo>
                  <a:lnTo>
                    <a:pt x="636" y="528"/>
                  </a:lnTo>
                  <a:lnTo>
                    <a:pt x="612" y="492"/>
                  </a:lnTo>
                  <a:lnTo>
                    <a:pt x="612" y="456"/>
                  </a:lnTo>
                  <a:lnTo>
                    <a:pt x="588" y="420"/>
                  </a:lnTo>
                  <a:lnTo>
                    <a:pt x="564" y="384"/>
                  </a:lnTo>
                  <a:lnTo>
                    <a:pt x="528" y="372"/>
                  </a:lnTo>
                  <a:lnTo>
                    <a:pt x="492" y="372"/>
                  </a:lnTo>
                  <a:lnTo>
                    <a:pt x="456" y="372"/>
                  </a:lnTo>
                  <a:lnTo>
                    <a:pt x="420" y="372"/>
                  </a:lnTo>
                  <a:lnTo>
                    <a:pt x="372" y="372"/>
                  </a:lnTo>
                  <a:lnTo>
                    <a:pt x="336" y="372"/>
                  </a:lnTo>
                  <a:lnTo>
                    <a:pt x="300" y="372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28" y="468"/>
                  </a:lnTo>
                  <a:lnTo>
                    <a:pt x="228" y="504"/>
                  </a:lnTo>
                  <a:lnTo>
                    <a:pt x="228" y="540"/>
                  </a:lnTo>
                  <a:lnTo>
                    <a:pt x="228" y="576"/>
                  </a:lnTo>
                  <a:lnTo>
                    <a:pt x="228" y="612"/>
                  </a:lnTo>
                  <a:lnTo>
                    <a:pt x="228" y="648"/>
                  </a:lnTo>
                  <a:lnTo>
                    <a:pt x="228" y="684"/>
                  </a:lnTo>
                  <a:lnTo>
                    <a:pt x="228" y="720"/>
                  </a:lnTo>
                  <a:lnTo>
                    <a:pt x="228" y="756"/>
                  </a:lnTo>
                  <a:lnTo>
                    <a:pt x="228" y="792"/>
                  </a:lnTo>
                  <a:lnTo>
                    <a:pt x="240" y="828"/>
                  </a:lnTo>
                  <a:lnTo>
                    <a:pt x="240" y="864"/>
                  </a:lnTo>
                  <a:lnTo>
                    <a:pt x="204" y="876"/>
                  </a:lnTo>
                  <a:lnTo>
                    <a:pt x="168" y="888"/>
                  </a:lnTo>
                  <a:lnTo>
                    <a:pt x="132" y="888"/>
                  </a:lnTo>
                  <a:lnTo>
                    <a:pt x="96" y="888"/>
                  </a:lnTo>
                  <a:lnTo>
                    <a:pt x="72" y="852"/>
                  </a:lnTo>
                  <a:lnTo>
                    <a:pt x="48" y="816"/>
                  </a:lnTo>
                  <a:lnTo>
                    <a:pt x="36" y="780"/>
                  </a:lnTo>
                  <a:lnTo>
                    <a:pt x="24" y="744"/>
                  </a:lnTo>
                  <a:lnTo>
                    <a:pt x="12" y="708"/>
                  </a:lnTo>
                  <a:lnTo>
                    <a:pt x="0" y="672"/>
                  </a:lnTo>
                  <a:lnTo>
                    <a:pt x="0" y="636"/>
                  </a:lnTo>
                  <a:lnTo>
                    <a:pt x="0" y="600"/>
                  </a:lnTo>
                  <a:lnTo>
                    <a:pt x="0" y="564"/>
                  </a:lnTo>
                  <a:lnTo>
                    <a:pt x="0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24" y="420"/>
                  </a:lnTo>
                  <a:lnTo>
                    <a:pt x="36" y="384"/>
                  </a:lnTo>
                  <a:lnTo>
                    <a:pt x="48" y="336"/>
                  </a:lnTo>
                  <a:lnTo>
                    <a:pt x="72" y="288"/>
                  </a:lnTo>
                  <a:lnTo>
                    <a:pt x="96" y="240"/>
                  </a:lnTo>
                  <a:lnTo>
                    <a:pt x="132" y="204"/>
                  </a:lnTo>
                  <a:lnTo>
                    <a:pt x="156" y="168"/>
                  </a:lnTo>
                  <a:lnTo>
                    <a:pt x="180" y="132"/>
                  </a:lnTo>
                  <a:lnTo>
                    <a:pt x="216" y="96"/>
                  </a:lnTo>
                  <a:lnTo>
                    <a:pt x="252" y="72"/>
                  </a:lnTo>
                  <a:lnTo>
                    <a:pt x="288" y="60"/>
                  </a:lnTo>
                  <a:lnTo>
                    <a:pt x="324" y="48"/>
                  </a:lnTo>
                  <a:lnTo>
                    <a:pt x="360" y="48"/>
                  </a:lnTo>
                  <a:lnTo>
                    <a:pt x="408" y="36"/>
                  </a:lnTo>
                  <a:lnTo>
                    <a:pt x="444" y="36"/>
                  </a:lnTo>
                  <a:lnTo>
                    <a:pt x="492" y="24"/>
                  </a:lnTo>
                  <a:lnTo>
                    <a:pt x="540" y="24"/>
                  </a:lnTo>
                  <a:lnTo>
                    <a:pt x="588" y="12"/>
                  </a:lnTo>
                  <a:lnTo>
                    <a:pt x="636" y="12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28" y="0"/>
                  </a:lnTo>
                  <a:lnTo>
                    <a:pt x="924" y="0"/>
                  </a:lnTo>
                  <a:lnTo>
                    <a:pt x="1020" y="0"/>
                  </a:lnTo>
                  <a:lnTo>
                    <a:pt x="1068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48" y="0"/>
                  </a:lnTo>
                  <a:lnTo>
                    <a:pt x="1296" y="0"/>
                  </a:lnTo>
                  <a:lnTo>
                    <a:pt x="1332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36" y="0"/>
                  </a:lnTo>
                  <a:lnTo>
                    <a:pt x="1572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76" y="0"/>
                  </a:lnTo>
                  <a:lnTo>
                    <a:pt x="1824" y="0"/>
                  </a:lnTo>
                  <a:lnTo>
                    <a:pt x="1860" y="0"/>
                  </a:lnTo>
                  <a:lnTo>
                    <a:pt x="1932" y="0"/>
                  </a:lnTo>
                  <a:lnTo>
                    <a:pt x="1968" y="0"/>
                  </a:lnTo>
                  <a:lnTo>
                    <a:pt x="2004" y="0"/>
                  </a:lnTo>
                  <a:lnTo>
                    <a:pt x="2040" y="0"/>
                  </a:lnTo>
                  <a:lnTo>
                    <a:pt x="2076" y="0"/>
                  </a:lnTo>
                  <a:lnTo>
                    <a:pt x="2124" y="0"/>
                  </a:lnTo>
                  <a:lnTo>
                    <a:pt x="2172" y="0"/>
                  </a:lnTo>
                  <a:lnTo>
                    <a:pt x="2244" y="0"/>
                  </a:lnTo>
                  <a:lnTo>
                    <a:pt x="2292" y="12"/>
                  </a:lnTo>
                  <a:lnTo>
                    <a:pt x="2376" y="12"/>
                  </a:lnTo>
                  <a:lnTo>
                    <a:pt x="2412" y="24"/>
                  </a:lnTo>
                  <a:lnTo>
                    <a:pt x="2448" y="24"/>
                  </a:lnTo>
                  <a:lnTo>
                    <a:pt x="2484" y="36"/>
                  </a:lnTo>
                  <a:lnTo>
                    <a:pt x="2532" y="36"/>
                  </a:lnTo>
                  <a:lnTo>
                    <a:pt x="2580" y="48"/>
                  </a:lnTo>
                  <a:lnTo>
                    <a:pt x="2616" y="48"/>
                  </a:lnTo>
                  <a:lnTo>
                    <a:pt x="2652" y="72"/>
                  </a:lnTo>
                  <a:lnTo>
                    <a:pt x="2736" y="84"/>
                  </a:lnTo>
                  <a:lnTo>
                    <a:pt x="2772" y="108"/>
                  </a:lnTo>
                  <a:lnTo>
                    <a:pt x="2808" y="144"/>
                  </a:lnTo>
                  <a:lnTo>
                    <a:pt x="2832" y="180"/>
                  </a:lnTo>
                  <a:lnTo>
                    <a:pt x="2856" y="216"/>
                  </a:lnTo>
                  <a:lnTo>
                    <a:pt x="2880" y="252"/>
                  </a:lnTo>
                  <a:lnTo>
                    <a:pt x="2892" y="288"/>
                  </a:lnTo>
                  <a:lnTo>
                    <a:pt x="2904" y="324"/>
                  </a:lnTo>
                  <a:lnTo>
                    <a:pt x="2904" y="360"/>
                  </a:lnTo>
                  <a:lnTo>
                    <a:pt x="2904" y="396"/>
                  </a:lnTo>
                  <a:lnTo>
                    <a:pt x="2904" y="432"/>
                  </a:lnTo>
                  <a:lnTo>
                    <a:pt x="2904" y="468"/>
                  </a:lnTo>
                  <a:lnTo>
                    <a:pt x="2904" y="504"/>
                  </a:lnTo>
                  <a:lnTo>
                    <a:pt x="2904" y="540"/>
                  </a:lnTo>
                  <a:lnTo>
                    <a:pt x="2904" y="576"/>
                  </a:lnTo>
                  <a:lnTo>
                    <a:pt x="2904" y="612"/>
                  </a:lnTo>
                  <a:lnTo>
                    <a:pt x="2892" y="660"/>
                  </a:lnTo>
                  <a:lnTo>
                    <a:pt x="2880" y="708"/>
                  </a:lnTo>
                  <a:lnTo>
                    <a:pt x="2880" y="744"/>
                  </a:lnTo>
                  <a:lnTo>
                    <a:pt x="2880" y="780"/>
                  </a:lnTo>
                  <a:lnTo>
                    <a:pt x="2868" y="816"/>
                  </a:lnTo>
                  <a:lnTo>
                    <a:pt x="2868" y="852"/>
                  </a:lnTo>
                  <a:lnTo>
                    <a:pt x="2856" y="888"/>
                  </a:lnTo>
                  <a:lnTo>
                    <a:pt x="2844" y="924"/>
                  </a:lnTo>
                  <a:lnTo>
                    <a:pt x="2808" y="948"/>
                  </a:lnTo>
                  <a:lnTo>
                    <a:pt x="2772" y="984"/>
                  </a:lnTo>
                  <a:lnTo>
                    <a:pt x="2736" y="996"/>
                  </a:lnTo>
                  <a:lnTo>
                    <a:pt x="2700" y="1020"/>
                  </a:lnTo>
                  <a:lnTo>
                    <a:pt x="2664" y="1032"/>
                  </a:lnTo>
                  <a:lnTo>
                    <a:pt x="2628" y="1056"/>
                  </a:lnTo>
                  <a:lnTo>
                    <a:pt x="2580" y="1068"/>
                  </a:lnTo>
                  <a:lnTo>
                    <a:pt x="2544" y="1080"/>
                  </a:lnTo>
                  <a:lnTo>
                    <a:pt x="2508" y="1080"/>
                  </a:lnTo>
                  <a:lnTo>
                    <a:pt x="2460" y="1080"/>
                  </a:lnTo>
                  <a:lnTo>
                    <a:pt x="2424" y="1080"/>
                  </a:lnTo>
                  <a:lnTo>
                    <a:pt x="2388" y="1080"/>
                  </a:lnTo>
                  <a:lnTo>
                    <a:pt x="2352" y="1080"/>
                  </a:lnTo>
                  <a:lnTo>
                    <a:pt x="2316" y="1080"/>
                  </a:lnTo>
                  <a:lnTo>
                    <a:pt x="2280" y="1068"/>
                  </a:lnTo>
                  <a:lnTo>
                    <a:pt x="2268" y="1032"/>
                  </a:lnTo>
                  <a:lnTo>
                    <a:pt x="2268" y="996"/>
                  </a:lnTo>
                  <a:lnTo>
                    <a:pt x="2280" y="960"/>
                  </a:lnTo>
                  <a:lnTo>
                    <a:pt x="2316" y="948"/>
                  </a:lnTo>
                  <a:lnTo>
                    <a:pt x="2352" y="936"/>
                  </a:lnTo>
                  <a:lnTo>
                    <a:pt x="2388" y="936"/>
                  </a:lnTo>
                  <a:lnTo>
                    <a:pt x="2424" y="936"/>
                  </a:lnTo>
                  <a:lnTo>
                    <a:pt x="2460" y="936"/>
                  </a:lnTo>
                  <a:lnTo>
                    <a:pt x="2496" y="936"/>
                  </a:lnTo>
                  <a:lnTo>
                    <a:pt x="2532" y="924"/>
                  </a:lnTo>
                  <a:lnTo>
                    <a:pt x="2568" y="912"/>
                  </a:lnTo>
                  <a:lnTo>
                    <a:pt x="2604" y="900"/>
                  </a:lnTo>
                  <a:lnTo>
                    <a:pt x="2640" y="864"/>
                  </a:lnTo>
                  <a:lnTo>
                    <a:pt x="2664" y="828"/>
                  </a:lnTo>
                  <a:lnTo>
                    <a:pt x="2688" y="792"/>
                  </a:lnTo>
                  <a:lnTo>
                    <a:pt x="2688" y="756"/>
                  </a:lnTo>
                  <a:lnTo>
                    <a:pt x="2688" y="720"/>
                  </a:lnTo>
                  <a:lnTo>
                    <a:pt x="2676" y="684"/>
                  </a:lnTo>
                  <a:lnTo>
                    <a:pt x="2640" y="660"/>
                  </a:lnTo>
                  <a:lnTo>
                    <a:pt x="2604" y="648"/>
                  </a:lnTo>
                  <a:lnTo>
                    <a:pt x="2568" y="648"/>
                  </a:lnTo>
                  <a:lnTo>
                    <a:pt x="2532" y="648"/>
                  </a:lnTo>
                  <a:lnTo>
                    <a:pt x="2484" y="648"/>
                  </a:lnTo>
                  <a:lnTo>
                    <a:pt x="2388" y="648"/>
                  </a:lnTo>
                  <a:lnTo>
                    <a:pt x="2340" y="672"/>
                  </a:lnTo>
                  <a:lnTo>
                    <a:pt x="2304" y="672"/>
                  </a:lnTo>
                  <a:lnTo>
                    <a:pt x="2268" y="684"/>
                  </a:lnTo>
                  <a:lnTo>
                    <a:pt x="2232" y="696"/>
                  </a:lnTo>
                  <a:lnTo>
                    <a:pt x="2160" y="696"/>
                  </a:lnTo>
                  <a:lnTo>
                    <a:pt x="2124" y="696"/>
                  </a:lnTo>
                  <a:lnTo>
                    <a:pt x="2088" y="696"/>
                  </a:lnTo>
                  <a:lnTo>
                    <a:pt x="2052" y="684"/>
                  </a:lnTo>
                  <a:lnTo>
                    <a:pt x="2004" y="672"/>
                  </a:lnTo>
                  <a:lnTo>
                    <a:pt x="1968" y="672"/>
                  </a:lnTo>
                  <a:lnTo>
                    <a:pt x="1932" y="672"/>
                  </a:lnTo>
                  <a:lnTo>
                    <a:pt x="1896" y="696"/>
                  </a:lnTo>
                  <a:lnTo>
                    <a:pt x="1860" y="708"/>
                  </a:lnTo>
                  <a:lnTo>
                    <a:pt x="1824" y="708"/>
                  </a:lnTo>
                  <a:lnTo>
                    <a:pt x="1788" y="708"/>
                  </a:lnTo>
                  <a:lnTo>
                    <a:pt x="1752" y="696"/>
                  </a:lnTo>
                  <a:lnTo>
                    <a:pt x="1716" y="672"/>
                  </a:lnTo>
                  <a:lnTo>
                    <a:pt x="1680" y="660"/>
                  </a:lnTo>
                  <a:lnTo>
                    <a:pt x="1644" y="648"/>
                  </a:lnTo>
                  <a:lnTo>
                    <a:pt x="1608" y="636"/>
                  </a:lnTo>
                  <a:lnTo>
                    <a:pt x="1572" y="624"/>
                  </a:lnTo>
                  <a:lnTo>
                    <a:pt x="1536" y="624"/>
                  </a:lnTo>
                  <a:lnTo>
                    <a:pt x="1488" y="648"/>
                  </a:lnTo>
                  <a:lnTo>
                    <a:pt x="1452" y="672"/>
                  </a:lnTo>
                  <a:lnTo>
                    <a:pt x="1416" y="684"/>
                  </a:lnTo>
                  <a:lnTo>
                    <a:pt x="1368" y="684"/>
                  </a:lnTo>
                  <a:lnTo>
                    <a:pt x="1296" y="684"/>
                  </a:lnTo>
                  <a:lnTo>
                    <a:pt x="1248" y="684"/>
                  </a:lnTo>
                  <a:lnTo>
                    <a:pt x="1212" y="672"/>
                  </a:lnTo>
                  <a:lnTo>
                    <a:pt x="1176" y="648"/>
                  </a:lnTo>
                  <a:lnTo>
                    <a:pt x="1140" y="624"/>
                  </a:lnTo>
                  <a:lnTo>
                    <a:pt x="1104" y="612"/>
                  </a:lnTo>
                  <a:lnTo>
                    <a:pt x="1068" y="612"/>
                  </a:lnTo>
                  <a:lnTo>
                    <a:pt x="1032" y="612"/>
                  </a:lnTo>
                  <a:lnTo>
                    <a:pt x="996" y="636"/>
                  </a:lnTo>
                  <a:lnTo>
                    <a:pt x="960" y="648"/>
                  </a:lnTo>
                  <a:lnTo>
                    <a:pt x="924" y="672"/>
                  </a:lnTo>
                  <a:lnTo>
                    <a:pt x="888" y="672"/>
                  </a:lnTo>
                  <a:lnTo>
                    <a:pt x="864" y="708"/>
                  </a:lnTo>
                  <a:lnTo>
                    <a:pt x="876" y="732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4710960" y="30337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3435480" y="3664080"/>
              <a:ext cx="520560" cy="113004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040"/>
                <a:gd name="textAreaBottom" fmla="*/ 1111320 h 1130040"/>
              </a:gdLst>
              <a:ahLst/>
              <a:rect l="textAreaLeft" t="textAreaTop" r="textAreaRight" b="textAreaBottom"/>
              <a:pathLst>
                <a:path w="21600" h="46872">
                  <a:moveTo>
                    <a:pt x="2697" y="0"/>
                  </a:moveTo>
                  <a:arcTo wR="2697" hR="2697" stAng="16200000" swAng="-5400000"/>
                  <a:lnTo>
                    <a:pt x="0" y="44175"/>
                  </a:lnTo>
                  <a:arcTo wR="2697" hR="2697" stAng="10800000" swAng="-5400000"/>
                  <a:lnTo>
                    <a:pt x="18903" y="46872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1965240" y="445140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3414600" y="3635280"/>
              <a:ext cx="6768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-O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4121280" y="419724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50356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54928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54244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8816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3900600" y="441972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176720" y="422280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7"/>
            <p:cNvSpPr/>
            <p:nvPr/>
          </p:nvSpPr>
          <p:spPr>
            <a:xfrm>
              <a:off x="50148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8"/>
            <p:cNvSpPr/>
            <p:nvPr/>
          </p:nvSpPr>
          <p:spPr>
            <a:xfrm>
              <a:off x="54720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9"/>
            <p:cNvSpPr/>
            <p:nvPr/>
          </p:nvSpPr>
          <p:spPr>
            <a:xfrm>
              <a:off x="5928840" y="4086360"/>
              <a:ext cx="1350360" cy="36324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0"/>
            <p:cNvSpPr/>
            <p:nvPr/>
          </p:nvSpPr>
          <p:spPr>
            <a:xfrm>
              <a:off x="5549400" y="448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AutoShape 21"/>
            <p:cNvSpPr/>
            <p:nvPr/>
          </p:nvSpPr>
          <p:spPr>
            <a:xfrm flipH="1" rot="16200000">
              <a:off x="4616280" y="4844880"/>
              <a:ext cx="749160" cy="673200"/>
            </a:xfrm>
            <a:prstGeom prst="rightArrow">
              <a:avLst>
                <a:gd name="adj1" fmla="val 50000"/>
                <a:gd name="adj2" fmla="val 55657"/>
              </a:avLst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2195280" y="4680000"/>
              <a:ext cx="859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581280" y="390060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58128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8128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50532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599000" y="4419720"/>
              <a:ext cx="32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28"/>
          <p:cNvSpPr/>
          <p:nvPr/>
        </p:nvSpPr>
        <p:spPr>
          <a:xfrm>
            <a:off x="61920" y="4786200"/>
            <a:ext cx="187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EP to P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1887840" y="5540400"/>
            <a:ext cx="6030720" cy="1223640"/>
            <a:chOff x="1887840" y="5540400"/>
            <a:chExt cx="6030720" cy="1223640"/>
          </a:xfrm>
        </p:grpSpPr>
        <p:sp>
          <p:nvSpPr>
            <p:cNvPr id="292" name="Oval 30"/>
            <p:cNvSpPr/>
            <p:nvPr/>
          </p:nvSpPr>
          <p:spPr>
            <a:xfrm>
              <a:off x="56451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31"/>
            <p:cNvSpPr/>
            <p:nvPr/>
          </p:nvSpPr>
          <p:spPr>
            <a:xfrm>
              <a:off x="61023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32"/>
            <p:cNvSpPr/>
            <p:nvPr/>
          </p:nvSpPr>
          <p:spPr>
            <a:xfrm>
              <a:off x="6559560" y="5797440"/>
              <a:ext cx="1359000" cy="3682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60339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64911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56246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60818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7"/>
            <p:cNvSpPr/>
            <p:nvPr/>
          </p:nvSpPr>
          <p:spPr>
            <a:xfrm>
              <a:off x="51879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8"/>
            <p:cNvSpPr/>
            <p:nvPr/>
          </p:nvSpPr>
          <p:spPr>
            <a:xfrm>
              <a:off x="5243400" y="589932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>
              <a:off x="55767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40"/>
            <p:cNvSpPr/>
            <p:nvPr/>
          </p:nvSpPr>
          <p:spPr>
            <a:xfrm>
              <a:off x="60058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AutoShape 41"/>
            <p:cNvSpPr/>
            <p:nvPr/>
          </p:nvSpPr>
          <p:spPr>
            <a:xfrm>
              <a:off x="3435480" y="5568840"/>
              <a:ext cx="520560" cy="113040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400"/>
                <a:gd name="textAreaBottom" fmla="*/ 1111680 h 1130400"/>
              </a:gdLst>
              <a:ahLst/>
              <a:rect l="textAreaLeft" t="textAreaTop" r="textAreaRight" b="textAreaBottom"/>
              <a:pathLst>
                <a:path w="21600" h="46887">
                  <a:moveTo>
                    <a:pt x="2697" y="0"/>
                  </a:moveTo>
                  <a:arcTo wR="2697" hR="2697" stAng="16200000" swAng="-5400000"/>
                  <a:lnTo>
                    <a:pt x="0" y="44190"/>
                  </a:lnTo>
                  <a:arcTo wR="2697" hR="2697" stAng="10800000" swAng="-5400000"/>
                  <a:lnTo>
                    <a:pt x="18903" y="4688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42"/>
            <p:cNvSpPr/>
            <p:nvPr/>
          </p:nvSpPr>
          <p:spPr>
            <a:xfrm>
              <a:off x="3414240" y="5540400"/>
              <a:ext cx="65844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3"/>
            <p:cNvSpPr/>
            <p:nvPr/>
          </p:nvSpPr>
          <p:spPr>
            <a:xfrm>
              <a:off x="1887840" y="5823000"/>
              <a:ext cx="142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yruvate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44"/>
            <p:cNvSpPr/>
            <p:nvPr/>
          </p:nvSpPr>
          <p:spPr>
            <a:xfrm>
              <a:off x="3581280" y="58053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45"/>
            <p:cNvSpPr/>
            <p:nvPr/>
          </p:nvSpPr>
          <p:spPr>
            <a:xfrm>
              <a:off x="3581280" y="60339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358128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47"/>
            <p:cNvSpPr/>
            <p:nvPr/>
          </p:nvSpPr>
          <p:spPr>
            <a:xfrm>
              <a:off x="350532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8"/>
            <p:cNvSpPr/>
            <p:nvPr/>
          </p:nvSpPr>
          <p:spPr>
            <a:xfrm>
              <a:off x="6538680" y="5845320"/>
              <a:ext cx="135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Fer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NO Oxygen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es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called anaerobi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member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part of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2. 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Plants and Fungi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b6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beer and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61560" y="2749680"/>
            <a:ext cx="5769000" cy="2925360"/>
            <a:chOff x="61560" y="2749680"/>
            <a:chExt cx="5769000" cy="2925360"/>
          </a:xfrm>
        </p:grpSpPr>
        <p:sp>
          <p:nvSpPr>
            <p:cNvPr id="318" name="Rectangle 5"/>
            <p:cNvSpPr/>
            <p:nvPr/>
          </p:nvSpPr>
          <p:spPr>
            <a:xfrm>
              <a:off x="61560" y="531180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AutoShape 6"/>
            <p:cNvSpPr/>
            <p:nvPr/>
          </p:nvSpPr>
          <p:spPr>
            <a:xfrm>
              <a:off x="1073160" y="381636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1127520" y="394812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5015160" y="35672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181480" y="42051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4634280" y="47023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2597040" y="2749680"/>
              <a:ext cx="1282680" cy="67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2729520" y="288144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1128240" y="277488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1752480" y="34671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1676520" y="443880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2978280" y="488304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2959920" y="493884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606680" y="3130560"/>
              <a:ext cx="36828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585800" y="311004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982440" y="490860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181480" y="3886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5703120" y="3130560"/>
            <a:ext cx="3378600" cy="2450520"/>
            <a:chOff x="5703120" y="3130560"/>
            <a:chExt cx="3378600" cy="2450520"/>
          </a:xfrm>
        </p:grpSpPr>
        <p:sp>
          <p:nvSpPr>
            <p:cNvPr id="342" name="Line 29"/>
            <p:cNvSpPr/>
            <p:nvPr/>
          </p:nvSpPr>
          <p:spPr>
            <a:xfrm>
              <a:off x="6072120" y="41911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8291880" y="3719520"/>
              <a:ext cx="401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7528680" y="45576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Ethan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6427800" y="4218120"/>
              <a:ext cx="4046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234840" y="4710240"/>
              <a:ext cx="1417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>
              <a:off x="6400800" y="36957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5721480" y="313056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36"/>
            <p:cNvSpPr/>
            <p:nvPr/>
          </p:nvSpPr>
          <p:spPr>
            <a:xfrm>
              <a:off x="5703120" y="31860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7078320" y="32320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8458200" y="4038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Ethanol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nimals (pain in muscle after a workou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703120" y="3359160"/>
            <a:ext cx="3371400" cy="2323800"/>
            <a:chOff x="5703120" y="3359160"/>
            <a:chExt cx="3371400" cy="2323800"/>
          </a:xfrm>
        </p:grpSpPr>
        <p:sp>
          <p:nvSpPr>
            <p:cNvPr id="359" name="Line 5"/>
            <p:cNvSpPr/>
            <p:nvPr/>
          </p:nvSpPr>
          <p:spPr>
            <a:xfrm>
              <a:off x="6072120" y="44197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290080" y="3946680"/>
              <a:ext cx="404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7757640" y="4862520"/>
              <a:ext cx="1316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Lac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6400800" y="39243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5721480" y="33591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5703120" y="34146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7078320" y="34606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8139240" y="37958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830592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8305920" y="44337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1560" y="2825640"/>
            <a:ext cx="5845320" cy="3078000"/>
            <a:chOff x="61560" y="2825640"/>
            <a:chExt cx="5845320" cy="3078000"/>
          </a:xfrm>
        </p:grpSpPr>
        <p:sp>
          <p:nvSpPr>
            <p:cNvPr id="370" name="Rectangle 16"/>
            <p:cNvSpPr/>
            <p:nvPr/>
          </p:nvSpPr>
          <p:spPr>
            <a:xfrm>
              <a:off x="61560" y="5540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1073160" y="389268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1203840" y="402444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5091480" y="371952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5257800" y="43578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4710600" y="49309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2597040" y="2825640"/>
              <a:ext cx="1282680" cy="673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2729520" y="29574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1128240" y="285120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1752480" y="354348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676520" y="451476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2978280" y="49593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2959920" y="50148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1606680" y="3206880"/>
              <a:ext cx="36828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1585800" y="318600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982440" y="49849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>
              <a:off x="5257800" y="4052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5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37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38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catabolic, exergonic, oxygen (O</a:t>
            </a:r>
            <a:r>
              <a:rPr b="1" lang="en-US" sz="2500" spc="-1" strike="noStrike" baseline="-25000">
                <a:solidFill>
                  <a:srgbClr val="0000cc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quiring process that uses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acted from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macromolecules (glucose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produce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 (ATP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water (H</a:t>
            </a:r>
            <a:r>
              <a:rPr b="1" lang="en-US" sz="25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6CO2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838080" y="5257800"/>
            <a:ext cx="7608600" cy="711360"/>
            <a:chOff x="838080" y="5257800"/>
            <a:chExt cx="7608600" cy="711360"/>
          </a:xfrm>
        </p:grpSpPr>
        <p:sp>
          <p:nvSpPr>
            <p:cNvPr id="111" name="Rectangle 5"/>
            <p:cNvSpPr/>
            <p:nvPr/>
          </p:nvSpPr>
          <p:spPr>
            <a:xfrm>
              <a:off x="838080" y="537048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126200" y="5257800"/>
              <a:ext cx="132048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391520" y="53704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Lactic Ac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1682640" y="4883040"/>
            <a:ext cx="5626080" cy="1282680"/>
            <a:chOff x="1682640" y="4883040"/>
            <a:chExt cx="5626080" cy="1282680"/>
          </a:xfrm>
        </p:grpSpPr>
        <p:sp>
          <p:nvSpPr>
            <p:cNvPr id="397" name="Line 5"/>
            <p:cNvSpPr/>
            <p:nvPr/>
          </p:nvSpPr>
          <p:spPr>
            <a:xfrm>
              <a:off x="2133720" y="5486400"/>
              <a:ext cx="48006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>
              <a:off x="198756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686448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AutoShape 8"/>
            <p:cNvSpPr/>
            <p:nvPr/>
          </p:nvSpPr>
          <p:spPr>
            <a:xfrm>
              <a:off x="183528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AutoShape 9"/>
            <p:cNvSpPr/>
            <p:nvPr/>
          </p:nvSpPr>
          <p:spPr>
            <a:xfrm>
              <a:off x="701676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10"/>
            <p:cNvSpPr/>
            <p:nvPr/>
          </p:nvSpPr>
          <p:spPr>
            <a:xfrm>
              <a:off x="16826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AutoShape 11"/>
            <p:cNvSpPr/>
            <p:nvPr/>
          </p:nvSpPr>
          <p:spPr>
            <a:xfrm>
              <a:off x="71690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ccurs when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ygen is present (aerobic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Pyruvate (3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 are transported through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itochondria membrane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atri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and is converted to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Acetyl CoA (2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2438280" y="4076640"/>
            <a:ext cx="6688080" cy="2706840"/>
            <a:chOff x="2438280" y="4076640"/>
            <a:chExt cx="6688080" cy="2706840"/>
          </a:xfrm>
        </p:grpSpPr>
        <p:sp>
          <p:nvSpPr>
            <p:cNvPr id="408" name="Freeform 5"/>
            <p:cNvSpPr/>
            <p:nvPr/>
          </p:nvSpPr>
          <p:spPr>
            <a:xfrm>
              <a:off x="2438280" y="4076640"/>
              <a:ext cx="2573280" cy="2706840"/>
            </a:xfrm>
            <a:custGeom>
              <a:avLst/>
              <a:gdLst>
                <a:gd name="textAreaLeft" fmla="*/ 0 w 2573280"/>
                <a:gd name="textAreaRight" fmla="*/ 2573640 w 2573280"/>
                <a:gd name="textAreaTop" fmla="*/ 0 h 2706840"/>
                <a:gd name="textAreaBottom" fmla="*/ 2706840 h 2706840"/>
              </a:gdLst>
              <a:ahLst/>
              <a:rect l="textAreaLeft" t="textAreaTop" r="textAreaRight" b="textAreaBottom"/>
              <a:pathLst>
                <a:path w="1621" h="1705">
                  <a:moveTo>
                    <a:pt x="0" y="1704"/>
                  </a:moveTo>
                  <a:lnTo>
                    <a:pt x="36" y="1680"/>
                  </a:lnTo>
                  <a:lnTo>
                    <a:pt x="48" y="1644"/>
                  </a:lnTo>
                  <a:lnTo>
                    <a:pt x="60" y="1608"/>
                  </a:lnTo>
                  <a:lnTo>
                    <a:pt x="84" y="1560"/>
                  </a:lnTo>
                  <a:lnTo>
                    <a:pt x="120" y="1464"/>
                  </a:lnTo>
                  <a:lnTo>
                    <a:pt x="156" y="1368"/>
                  </a:lnTo>
                  <a:lnTo>
                    <a:pt x="180" y="1332"/>
                  </a:lnTo>
                  <a:lnTo>
                    <a:pt x="204" y="1296"/>
                  </a:lnTo>
                  <a:lnTo>
                    <a:pt x="216" y="1260"/>
                  </a:lnTo>
                  <a:lnTo>
                    <a:pt x="252" y="1212"/>
                  </a:lnTo>
                  <a:lnTo>
                    <a:pt x="276" y="1176"/>
                  </a:lnTo>
                  <a:lnTo>
                    <a:pt x="300" y="1140"/>
                  </a:lnTo>
                  <a:lnTo>
                    <a:pt x="312" y="1104"/>
                  </a:lnTo>
                  <a:lnTo>
                    <a:pt x="348" y="1068"/>
                  </a:lnTo>
                  <a:lnTo>
                    <a:pt x="372" y="1032"/>
                  </a:lnTo>
                  <a:lnTo>
                    <a:pt x="396" y="996"/>
                  </a:lnTo>
                  <a:lnTo>
                    <a:pt x="432" y="960"/>
                  </a:lnTo>
                  <a:lnTo>
                    <a:pt x="456" y="924"/>
                  </a:lnTo>
                  <a:lnTo>
                    <a:pt x="492" y="900"/>
                  </a:lnTo>
                  <a:lnTo>
                    <a:pt x="528" y="852"/>
                  </a:lnTo>
                  <a:lnTo>
                    <a:pt x="564" y="816"/>
                  </a:lnTo>
                  <a:lnTo>
                    <a:pt x="588" y="780"/>
                  </a:lnTo>
                  <a:lnTo>
                    <a:pt x="624" y="732"/>
                  </a:lnTo>
                  <a:lnTo>
                    <a:pt x="648" y="696"/>
                  </a:lnTo>
                  <a:lnTo>
                    <a:pt x="684" y="660"/>
                  </a:lnTo>
                  <a:lnTo>
                    <a:pt x="708" y="624"/>
                  </a:lnTo>
                  <a:lnTo>
                    <a:pt x="744" y="588"/>
                  </a:lnTo>
                  <a:lnTo>
                    <a:pt x="780" y="552"/>
                  </a:lnTo>
                  <a:lnTo>
                    <a:pt x="804" y="480"/>
                  </a:lnTo>
                  <a:lnTo>
                    <a:pt x="876" y="456"/>
                  </a:lnTo>
                  <a:lnTo>
                    <a:pt x="924" y="420"/>
                  </a:lnTo>
                  <a:lnTo>
                    <a:pt x="960" y="384"/>
                  </a:lnTo>
                  <a:lnTo>
                    <a:pt x="1008" y="348"/>
                  </a:lnTo>
                  <a:lnTo>
                    <a:pt x="1044" y="312"/>
                  </a:lnTo>
                  <a:lnTo>
                    <a:pt x="1080" y="288"/>
                  </a:lnTo>
                  <a:lnTo>
                    <a:pt x="1116" y="252"/>
                  </a:lnTo>
                  <a:lnTo>
                    <a:pt x="1152" y="228"/>
                  </a:lnTo>
                  <a:lnTo>
                    <a:pt x="1188" y="216"/>
                  </a:lnTo>
                  <a:lnTo>
                    <a:pt x="1224" y="192"/>
                  </a:lnTo>
                  <a:lnTo>
                    <a:pt x="1260" y="168"/>
                  </a:lnTo>
                  <a:lnTo>
                    <a:pt x="1308" y="144"/>
                  </a:lnTo>
                  <a:lnTo>
                    <a:pt x="1344" y="132"/>
                  </a:lnTo>
                  <a:lnTo>
                    <a:pt x="1380" y="108"/>
                  </a:lnTo>
                  <a:lnTo>
                    <a:pt x="1416" y="96"/>
                  </a:lnTo>
                  <a:lnTo>
                    <a:pt x="1452" y="72"/>
                  </a:lnTo>
                  <a:lnTo>
                    <a:pt x="1488" y="60"/>
                  </a:lnTo>
                  <a:lnTo>
                    <a:pt x="1536" y="36"/>
                  </a:lnTo>
                  <a:lnTo>
                    <a:pt x="1584" y="24"/>
                  </a:lnTo>
                  <a:lnTo>
                    <a:pt x="1620" y="0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3467160" y="4229280"/>
              <a:ext cx="3259080" cy="2554200"/>
            </a:xfrm>
            <a:custGeom>
              <a:avLst/>
              <a:gdLst>
                <a:gd name="textAreaLeft" fmla="*/ 0 w 3259080"/>
                <a:gd name="textAreaRight" fmla="*/ 3259440 w 325908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2053" h="1609">
                  <a:moveTo>
                    <a:pt x="552" y="1608"/>
                  </a:moveTo>
                  <a:lnTo>
                    <a:pt x="576" y="1572"/>
                  </a:lnTo>
                  <a:lnTo>
                    <a:pt x="576" y="1536"/>
                  </a:lnTo>
                  <a:lnTo>
                    <a:pt x="576" y="1500"/>
                  </a:lnTo>
                  <a:lnTo>
                    <a:pt x="540" y="1476"/>
                  </a:lnTo>
                  <a:lnTo>
                    <a:pt x="504" y="1464"/>
                  </a:lnTo>
                  <a:lnTo>
                    <a:pt x="468" y="1452"/>
                  </a:lnTo>
                  <a:lnTo>
                    <a:pt x="432" y="1452"/>
                  </a:lnTo>
                  <a:lnTo>
                    <a:pt x="396" y="1452"/>
                  </a:lnTo>
                  <a:lnTo>
                    <a:pt x="360" y="1452"/>
                  </a:lnTo>
                  <a:lnTo>
                    <a:pt x="324" y="1452"/>
                  </a:lnTo>
                  <a:lnTo>
                    <a:pt x="288" y="1452"/>
                  </a:lnTo>
                  <a:lnTo>
                    <a:pt x="252" y="1452"/>
                  </a:lnTo>
                  <a:lnTo>
                    <a:pt x="204" y="1452"/>
                  </a:lnTo>
                  <a:lnTo>
                    <a:pt x="168" y="1452"/>
                  </a:lnTo>
                  <a:lnTo>
                    <a:pt x="132" y="1452"/>
                  </a:lnTo>
                  <a:lnTo>
                    <a:pt x="96" y="1452"/>
                  </a:lnTo>
                  <a:lnTo>
                    <a:pt x="60" y="1440"/>
                  </a:lnTo>
                  <a:lnTo>
                    <a:pt x="36" y="1404"/>
                  </a:lnTo>
                  <a:lnTo>
                    <a:pt x="12" y="1368"/>
                  </a:lnTo>
                  <a:lnTo>
                    <a:pt x="12" y="1332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12" y="1224"/>
                  </a:lnTo>
                  <a:lnTo>
                    <a:pt x="36" y="1188"/>
                  </a:lnTo>
                  <a:lnTo>
                    <a:pt x="60" y="1152"/>
                  </a:lnTo>
                  <a:lnTo>
                    <a:pt x="84" y="1116"/>
                  </a:lnTo>
                  <a:lnTo>
                    <a:pt x="108" y="1080"/>
                  </a:lnTo>
                  <a:lnTo>
                    <a:pt x="144" y="1044"/>
                  </a:lnTo>
                  <a:lnTo>
                    <a:pt x="168" y="1008"/>
                  </a:lnTo>
                  <a:lnTo>
                    <a:pt x="192" y="972"/>
                  </a:lnTo>
                  <a:lnTo>
                    <a:pt x="216" y="936"/>
                  </a:lnTo>
                  <a:lnTo>
                    <a:pt x="252" y="912"/>
                  </a:lnTo>
                  <a:lnTo>
                    <a:pt x="264" y="876"/>
                  </a:lnTo>
                  <a:lnTo>
                    <a:pt x="300" y="852"/>
                  </a:lnTo>
                  <a:lnTo>
                    <a:pt x="312" y="816"/>
                  </a:lnTo>
                  <a:lnTo>
                    <a:pt x="348" y="792"/>
                  </a:lnTo>
                  <a:lnTo>
                    <a:pt x="384" y="780"/>
                  </a:lnTo>
                  <a:lnTo>
                    <a:pt x="420" y="780"/>
                  </a:lnTo>
                  <a:lnTo>
                    <a:pt x="456" y="780"/>
                  </a:lnTo>
                  <a:lnTo>
                    <a:pt x="504" y="780"/>
                  </a:lnTo>
                  <a:lnTo>
                    <a:pt x="576" y="780"/>
                  </a:lnTo>
                  <a:lnTo>
                    <a:pt x="672" y="792"/>
                  </a:lnTo>
                  <a:lnTo>
                    <a:pt x="768" y="792"/>
                  </a:lnTo>
                  <a:lnTo>
                    <a:pt x="864" y="804"/>
                  </a:lnTo>
                  <a:lnTo>
                    <a:pt x="912" y="816"/>
                  </a:lnTo>
                  <a:lnTo>
                    <a:pt x="984" y="828"/>
                  </a:lnTo>
                  <a:lnTo>
                    <a:pt x="1056" y="828"/>
                  </a:lnTo>
                  <a:lnTo>
                    <a:pt x="1092" y="840"/>
                  </a:lnTo>
                  <a:lnTo>
                    <a:pt x="1176" y="852"/>
                  </a:lnTo>
                  <a:lnTo>
                    <a:pt x="1224" y="852"/>
                  </a:lnTo>
                  <a:lnTo>
                    <a:pt x="1296" y="852"/>
                  </a:lnTo>
                  <a:lnTo>
                    <a:pt x="1392" y="864"/>
                  </a:lnTo>
                  <a:lnTo>
                    <a:pt x="1428" y="864"/>
                  </a:lnTo>
                  <a:lnTo>
                    <a:pt x="1476" y="852"/>
                  </a:lnTo>
                  <a:lnTo>
                    <a:pt x="1512" y="828"/>
                  </a:lnTo>
                  <a:lnTo>
                    <a:pt x="1536" y="792"/>
                  </a:lnTo>
                  <a:lnTo>
                    <a:pt x="1536" y="756"/>
                  </a:lnTo>
                  <a:lnTo>
                    <a:pt x="1536" y="720"/>
                  </a:lnTo>
                  <a:lnTo>
                    <a:pt x="1524" y="684"/>
                  </a:lnTo>
                  <a:lnTo>
                    <a:pt x="1512" y="648"/>
                  </a:lnTo>
                  <a:lnTo>
                    <a:pt x="1476" y="612"/>
                  </a:lnTo>
                  <a:lnTo>
                    <a:pt x="1440" y="588"/>
                  </a:lnTo>
                  <a:lnTo>
                    <a:pt x="1404" y="564"/>
                  </a:lnTo>
                  <a:lnTo>
                    <a:pt x="1356" y="552"/>
                  </a:lnTo>
                  <a:lnTo>
                    <a:pt x="1320" y="540"/>
                  </a:lnTo>
                  <a:lnTo>
                    <a:pt x="1284" y="540"/>
                  </a:lnTo>
                  <a:lnTo>
                    <a:pt x="1248" y="528"/>
                  </a:lnTo>
                  <a:lnTo>
                    <a:pt x="1212" y="528"/>
                  </a:lnTo>
                  <a:lnTo>
                    <a:pt x="1116" y="528"/>
                  </a:lnTo>
                  <a:lnTo>
                    <a:pt x="1044" y="528"/>
                  </a:lnTo>
                  <a:lnTo>
                    <a:pt x="996" y="528"/>
                  </a:lnTo>
                  <a:lnTo>
                    <a:pt x="960" y="528"/>
                  </a:lnTo>
                  <a:lnTo>
                    <a:pt x="924" y="528"/>
                  </a:lnTo>
                  <a:lnTo>
                    <a:pt x="888" y="516"/>
                  </a:lnTo>
                  <a:lnTo>
                    <a:pt x="852" y="516"/>
                  </a:lnTo>
                  <a:lnTo>
                    <a:pt x="816" y="504"/>
                  </a:lnTo>
                  <a:lnTo>
                    <a:pt x="780" y="480"/>
                  </a:lnTo>
                  <a:lnTo>
                    <a:pt x="780" y="444"/>
                  </a:lnTo>
                  <a:lnTo>
                    <a:pt x="792" y="408"/>
                  </a:lnTo>
                  <a:lnTo>
                    <a:pt x="828" y="372"/>
                  </a:lnTo>
                  <a:lnTo>
                    <a:pt x="852" y="336"/>
                  </a:lnTo>
                  <a:lnTo>
                    <a:pt x="888" y="300"/>
                  </a:lnTo>
                  <a:lnTo>
                    <a:pt x="936" y="264"/>
                  </a:lnTo>
                  <a:lnTo>
                    <a:pt x="984" y="228"/>
                  </a:lnTo>
                  <a:lnTo>
                    <a:pt x="1032" y="204"/>
                  </a:lnTo>
                  <a:lnTo>
                    <a:pt x="1068" y="180"/>
                  </a:lnTo>
                  <a:lnTo>
                    <a:pt x="1116" y="168"/>
                  </a:lnTo>
                  <a:lnTo>
                    <a:pt x="1212" y="144"/>
                  </a:lnTo>
                  <a:lnTo>
                    <a:pt x="1284" y="132"/>
                  </a:lnTo>
                  <a:lnTo>
                    <a:pt x="1332" y="120"/>
                  </a:lnTo>
                  <a:lnTo>
                    <a:pt x="1368" y="108"/>
                  </a:lnTo>
                  <a:lnTo>
                    <a:pt x="1404" y="96"/>
                  </a:lnTo>
                  <a:lnTo>
                    <a:pt x="1452" y="84"/>
                  </a:lnTo>
                  <a:lnTo>
                    <a:pt x="1548" y="72"/>
                  </a:lnTo>
                  <a:lnTo>
                    <a:pt x="1620" y="60"/>
                  </a:lnTo>
                  <a:lnTo>
                    <a:pt x="1692" y="48"/>
                  </a:lnTo>
                  <a:lnTo>
                    <a:pt x="1764" y="36"/>
                  </a:lnTo>
                  <a:lnTo>
                    <a:pt x="1812" y="36"/>
                  </a:lnTo>
                  <a:lnTo>
                    <a:pt x="1860" y="24"/>
                  </a:lnTo>
                  <a:lnTo>
                    <a:pt x="1956" y="12"/>
                  </a:lnTo>
                  <a:lnTo>
                    <a:pt x="2052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6705720" y="4172040"/>
              <a:ext cx="2420640" cy="141120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525" h="889">
                  <a:moveTo>
                    <a:pt x="0" y="60"/>
                  </a:moveTo>
                  <a:lnTo>
                    <a:pt x="36" y="84"/>
                  </a:lnTo>
                  <a:lnTo>
                    <a:pt x="48" y="120"/>
                  </a:lnTo>
                  <a:lnTo>
                    <a:pt x="60" y="156"/>
                  </a:lnTo>
                  <a:lnTo>
                    <a:pt x="72" y="192"/>
                  </a:lnTo>
                  <a:lnTo>
                    <a:pt x="108" y="216"/>
                  </a:lnTo>
                  <a:lnTo>
                    <a:pt x="132" y="252"/>
                  </a:lnTo>
                  <a:lnTo>
                    <a:pt x="168" y="276"/>
                  </a:lnTo>
                  <a:lnTo>
                    <a:pt x="192" y="312"/>
                  </a:lnTo>
                  <a:lnTo>
                    <a:pt x="228" y="348"/>
                  </a:lnTo>
                  <a:lnTo>
                    <a:pt x="252" y="384"/>
                  </a:lnTo>
                  <a:lnTo>
                    <a:pt x="288" y="420"/>
                  </a:lnTo>
                  <a:lnTo>
                    <a:pt x="324" y="456"/>
                  </a:lnTo>
                  <a:lnTo>
                    <a:pt x="360" y="492"/>
                  </a:lnTo>
                  <a:lnTo>
                    <a:pt x="384" y="528"/>
                  </a:lnTo>
                  <a:lnTo>
                    <a:pt x="420" y="564"/>
                  </a:lnTo>
                  <a:lnTo>
                    <a:pt x="456" y="600"/>
                  </a:lnTo>
                  <a:lnTo>
                    <a:pt x="480" y="636"/>
                  </a:lnTo>
                  <a:lnTo>
                    <a:pt x="528" y="684"/>
                  </a:lnTo>
                  <a:lnTo>
                    <a:pt x="564" y="720"/>
                  </a:lnTo>
                  <a:lnTo>
                    <a:pt x="588" y="756"/>
                  </a:lnTo>
                  <a:lnTo>
                    <a:pt x="624" y="792"/>
                  </a:lnTo>
                  <a:lnTo>
                    <a:pt x="660" y="828"/>
                  </a:lnTo>
                  <a:lnTo>
                    <a:pt x="708" y="876"/>
                  </a:lnTo>
                  <a:lnTo>
                    <a:pt x="744" y="888"/>
                  </a:lnTo>
                  <a:lnTo>
                    <a:pt x="780" y="876"/>
                  </a:lnTo>
                  <a:lnTo>
                    <a:pt x="816" y="864"/>
                  </a:lnTo>
                  <a:lnTo>
                    <a:pt x="840" y="828"/>
                  </a:lnTo>
                  <a:lnTo>
                    <a:pt x="852" y="792"/>
                  </a:lnTo>
                  <a:lnTo>
                    <a:pt x="864" y="756"/>
                  </a:lnTo>
                  <a:lnTo>
                    <a:pt x="864" y="720"/>
                  </a:lnTo>
                  <a:lnTo>
                    <a:pt x="864" y="672"/>
                  </a:lnTo>
                  <a:lnTo>
                    <a:pt x="852" y="636"/>
                  </a:lnTo>
                  <a:lnTo>
                    <a:pt x="840" y="588"/>
                  </a:lnTo>
                  <a:lnTo>
                    <a:pt x="816" y="540"/>
                  </a:lnTo>
                  <a:lnTo>
                    <a:pt x="780" y="444"/>
                  </a:lnTo>
                  <a:lnTo>
                    <a:pt x="756" y="408"/>
                  </a:lnTo>
                  <a:lnTo>
                    <a:pt x="732" y="360"/>
                  </a:lnTo>
                  <a:lnTo>
                    <a:pt x="708" y="324"/>
                  </a:lnTo>
                  <a:lnTo>
                    <a:pt x="684" y="276"/>
                  </a:lnTo>
                  <a:lnTo>
                    <a:pt x="672" y="240"/>
                  </a:lnTo>
                  <a:lnTo>
                    <a:pt x="648" y="204"/>
                  </a:lnTo>
                  <a:lnTo>
                    <a:pt x="636" y="168"/>
                  </a:lnTo>
                  <a:lnTo>
                    <a:pt x="624" y="132"/>
                  </a:lnTo>
                  <a:lnTo>
                    <a:pt x="612" y="96"/>
                  </a:lnTo>
                  <a:lnTo>
                    <a:pt x="636" y="60"/>
                  </a:lnTo>
                  <a:lnTo>
                    <a:pt x="684" y="36"/>
                  </a:lnTo>
                  <a:lnTo>
                    <a:pt x="720" y="36"/>
                  </a:lnTo>
                  <a:lnTo>
                    <a:pt x="756" y="24"/>
                  </a:lnTo>
                  <a:lnTo>
                    <a:pt x="804" y="12"/>
                  </a:lnTo>
                  <a:lnTo>
                    <a:pt x="876" y="12"/>
                  </a:lnTo>
                  <a:lnTo>
                    <a:pt x="912" y="12"/>
                  </a:lnTo>
                  <a:lnTo>
                    <a:pt x="960" y="12"/>
                  </a:lnTo>
                  <a:lnTo>
                    <a:pt x="996" y="12"/>
                  </a:lnTo>
                  <a:lnTo>
                    <a:pt x="1032" y="12"/>
                  </a:lnTo>
                  <a:lnTo>
                    <a:pt x="1068" y="12"/>
                  </a:lnTo>
                  <a:lnTo>
                    <a:pt x="1140" y="12"/>
                  </a:lnTo>
                  <a:lnTo>
                    <a:pt x="1188" y="0"/>
                  </a:lnTo>
                  <a:lnTo>
                    <a:pt x="1224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61920" y="4557600"/>
            <a:ext cx="9082800" cy="2217960"/>
            <a:chOff x="61920" y="4557600"/>
            <a:chExt cx="9082800" cy="2217960"/>
          </a:xfrm>
        </p:grpSpPr>
        <p:sp>
          <p:nvSpPr>
            <p:cNvPr id="412" name="Rectangle 9"/>
            <p:cNvSpPr/>
            <p:nvPr/>
          </p:nvSpPr>
          <p:spPr>
            <a:xfrm>
              <a:off x="61920" y="45576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3" name="Group 10"/>
            <p:cNvGrpSpPr/>
            <p:nvPr/>
          </p:nvGrpSpPr>
          <p:grpSpPr>
            <a:xfrm>
              <a:off x="1205640" y="4633920"/>
              <a:ext cx="7939080" cy="2141640"/>
              <a:chOff x="1205640" y="4633920"/>
              <a:chExt cx="7939080" cy="2141640"/>
            </a:xfrm>
          </p:grpSpPr>
          <p:sp>
            <p:nvSpPr>
              <p:cNvPr id="414" name="Rectangle 11"/>
              <p:cNvSpPr/>
              <p:nvPr/>
            </p:nvSpPr>
            <p:spPr>
              <a:xfrm>
                <a:off x="2498760" y="6148440"/>
                <a:ext cx="1289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12"/>
              <p:cNvSpPr/>
              <p:nvPr/>
            </p:nvSpPr>
            <p:spPr>
              <a:xfrm>
                <a:off x="1738440" y="4786200"/>
                <a:ext cx="401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05120" y="5119560"/>
                <a:ext cx="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262240" y="5386320"/>
                <a:ext cx="5078520" cy="658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15"/>
              <p:cNvSpPr/>
              <p:nvPr/>
            </p:nvSpPr>
            <p:spPr>
              <a:xfrm>
                <a:off x="1205640" y="5845320"/>
                <a:ext cx="133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yruvat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 flipV="1">
                <a:off x="5867280" y="4979520"/>
                <a:ext cx="482760" cy="88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5935680" y="4633920"/>
                <a:ext cx="992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 CO</a:t>
                </a:r>
                <a:r>
                  <a:rPr b="1" lang="en-US" sz="2400" spc="-1" strike="noStrike" baseline="-25000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8"/>
              <p:cNvSpPr/>
              <p:nvPr/>
            </p:nvSpPr>
            <p:spPr>
              <a:xfrm>
                <a:off x="7146000" y="6127920"/>
                <a:ext cx="1752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Acetyl Co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19"/>
              <p:cNvSpPr/>
              <p:nvPr/>
            </p:nvSpPr>
            <p:spPr>
              <a:xfrm>
                <a:off x="7606440" y="5776920"/>
                <a:ext cx="722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-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5645160" y="6178680"/>
                <a:ext cx="128916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21"/>
              <p:cNvSpPr/>
              <p:nvPr/>
            </p:nvSpPr>
            <p:spPr>
              <a:xfrm>
                <a:off x="5641200" y="6172200"/>
                <a:ext cx="1228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NADH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22"/>
              <p:cNvSpPr/>
              <p:nvPr/>
            </p:nvSpPr>
            <p:spPr>
              <a:xfrm>
                <a:off x="3649320" y="6127920"/>
                <a:ext cx="1028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2 NAD</a:t>
                </a:r>
                <a:r>
                  <a:rPr b="1" lang="en-US" sz="1900" spc="-1" strike="noStrike" baseline="30000">
                    <a:solidFill>
                      <a:srgbClr val="00279f"/>
                    </a:solidFill>
                    <a:latin typeface="Arial"/>
                  </a:rPr>
                  <a:t>+</a:t>
                </a:r>
                <a:endParaRPr b="0" lang="en-US" sz="19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23"/>
              <p:cNvSpPr/>
              <p:nvPr/>
            </p:nvSpPr>
            <p:spPr>
              <a:xfrm>
                <a:off x="8064000" y="5257800"/>
                <a:ext cx="1080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atrix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Line 24"/>
              <p:cNvSpPr/>
              <p:nvPr/>
            </p:nvSpPr>
            <p:spPr>
              <a:xfrm>
                <a:off x="1905120" y="542448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>
                <a:off x="4419720" y="5715000"/>
                <a:ext cx="1066680" cy="55872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672" h="352">
                    <a:moveTo>
                      <a:pt x="0" y="256"/>
                    </a:moveTo>
                    <a:cubicBezTo>
                      <a:pt x="112" y="128"/>
                      <a:pt x="224" y="0"/>
                      <a:pt x="336" y="16"/>
                    </a:cubicBezTo>
                    <a:cubicBezTo>
                      <a:pt x="448" y="32"/>
                      <a:pt x="616" y="296"/>
                      <a:pt x="672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9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nd Products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- Acetyl CoA (2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itochondrial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cetyl CoA (2C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nds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alacetic acid (4C - OAA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itrate (6C)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takes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e krebs cycle to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oxidiz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1 glucose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4174560" y="4764240"/>
            <a:ext cx="3989880" cy="1947600"/>
            <a:chOff x="4174560" y="4764240"/>
            <a:chExt cx="3989880" cy="1947600"/>
          </a:xfrm>
        </p:grpSpPr>
        <p:sp>
          <p:nvSpPr>
            <p:cNvPr id="436" name="Freeform 5"/>
            <p:cNvSpPr/>
            <p:nvPr/>
          </p:nvSpPr>
          <p:spPr>
            <a:xfrm>
              <a:off x="6111720" y="4764240"/>
              <a:ext cx="2052720" cy="194760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600"/>
                <a:gd name="textAreaBottom" fmla="*/ 1947960 h 194760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6296040" y="5315040"/>
              <a:ext cx="1054080" cy="117936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116840" y="4913280"/>
              <a:ext cx="944640" cy="98604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 flipH="1">
              <a:off x="5386320" y="5867280"/>
              <a:ext cx="126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174560" y="5243400"/>
              <a:ext cx="2180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tri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908280" y="1555920"/>
            <a:ext cx="7174800" cy="5194440"/>
            <a:chOff x="908280" y="1555920"/>
            <a:chExt cx="7174800" cy="5194440"/>
          </a:xfrm>
        </p:grpSpPr>
        <p:sp>
          <p:nvSpPr>
            <p:cNvPr id="444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>
              <a:off x="1658160" y="155592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3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1661760" y="5137200"/>
              <a:ext cx="70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908280" y="4253040"/>
              <a:ext cx="1124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30340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4861440" y="6356520"/>
              <a:ext cx="93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Oval 17"/>
            <p:cNvSpPr/>
            <p:nvPr/>
          </p:nvSpPr>
          <p:spPr>
            <a:xfrm>
              <a:off x="57974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8"/>
            <p:cNvSpPr/>
            <p:nvPr/>
          </p:nvSpPr>
          <p:spPr>
            <a:xfrm>
              <a:off x="58532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9"/>
            <p:cNvSpPr/>
            <p:nvPr/>
          </p:nvSpPr>
          <p:spPr>
            <a:xfrm>
              <a:off x="3718080" y="4253040"/>
              <a:ext cx="160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ne turn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20"/>
            <p:cNvSpPr/>
            <p:nvPr/>
          </p:nvSpPr>
          <p:spPr>
            <a:xfrm>
              <a:off x="188784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077880" y="231768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22"/>
            <p:cNvSpPr/>
            <p:nvPr/>
          </p:nvSpPr>
          <p:spPr>
            <a:xfrm>
              <a:off x="685008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2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679320" y="1479600"/>
            <a:ext cx="7403760" cy="5270760"/>
            <a:chOff x="679320" y="1479600"/>
            <a:chExt cx="7403760" cy="5270760"/>
          </a:xfrm>
        </p:grpSpPr>
        <p:sp>
          <p:nvSpPr>
            <p:cNvPr id="467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1581840" y="147960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6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661400" y="5137200"/>
              <a:ext cx="917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79320" y="4176720"/>
              <a:ext cx="1379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2 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652840" y="62341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5"/>
            <p:cNvSpPr/>
            <p:nvPr/>
          </p:nvSpPr>
          <p:spPr>
            <a:xfrm>
              <a:off x="4861080" y="6356520"/>
              <a:ext cx="115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Oval 17"/>
            <p:cNvSpPr/>
            <p:nvPr/>
          </p:nvSpPr>
          <p:spPr>
            <a:xfrm>
              <a:off x="60260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8"/>
            <p:cNvSpPr/>
            <p:nvPr/>
          </p:nvSpPr>
          <p:spPr>
            <a:xfrm>
              <a:off x="60818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9"/>
            <p:cNvSpPr/>
            <p:nvPr/>
          </p:nvSpPr>
          <p:spPr>
            <a:xfrm>
              <a:off x="3564720" y="4253040"/>
              <a:ext cx="175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two tur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3556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5620680" y="201312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692604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4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1" lang="en-US" sz="30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of krebs cycl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6 - NAD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b760f9"/>
                </a:solidFill>
                <a:latin typeface="Tahoma"/>
              </a:rPr>
              <a:t>2 - 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6b61"/>
                </a:solidFill>
                <a:latin typeface="Tahoma"/>
              </a:rPr>
              <a:t>4 - CO</a:t>
            </a:r>
            <a:r>
              <a:rPr b="1" lang="en-US" sz="2800" spc="-1" strike="noStrike" baseline="-25000">
                <a:solidFill>
                  <a:srgbClr val="006b61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(cytochrome protei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yntha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nzyme) to mak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mp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</a:t>
            </a:r>
            <a:r>
              <a:rPr b="1" lang="en-US" sz="2800" spc="-1" strike="noStrike" baseline="30000">
                <a:solidFill>
                  <a:srgbClr val="00279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(protons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innermembrane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wers pH in innermembrane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3717360" y="4840200"/>
            <a:ext cx="5056920" cy="1947960"/>
            <a:chOff x="3717360" y="4840200"/>
            <a:chExt cx="5056920" cy="1947960"/>
          </a:xfrm>
        </p:grpSpPr>
        <p:sp>
          <p:nvSpPr>
            <p:cNvPr id="494" name="Freeform 5"/>
            <p:cNvSpPr/>
            <p:nvPr/>
          </p:nvSpPr>
          <p:spPr>
            <a:xfrm>
              <a:off x="6721560" y="4840200"/>
              <a:ext cx="2052720" cy="194796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6905520" y="5391000"/>
              <a:ext cx="1054080" cy="117972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7726320" y="4989600"/>
              <a:ext cx="944640" cy="98568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 flipH="1">
              <a:off x="5919480" y="5867280"/>
              <a:ext cx="126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>
              <a:off x="3717360" y="5091120"/>
              <a:ext cx="2180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n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embra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+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n move vi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diffus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roton Motive Force)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roug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 Syntha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 mak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ll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verted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during this stage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AT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enters the ETC at a lower level th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506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509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512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515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9" name="Group 18"/>
          <p:cNvGrpSpPr/>
          <p:nvPr/>
        </p:nvGrpSpPr>
        <p:grpSpPr>
          <a:xfrm>
            <a:off x="6324480" y="2666880"/>
            <a:ext cx="853560" cy="1774800"/>
            <a:chOff x="6324480" y="2666880"/>
            <a:chExt cx="853560" cy="1774800"/>
          </a:xfrm>
        </p:grpSpPr>
        <p:sp>
          <p:nvSpPr>
            <p:cNvPr id="520" name="Rectangle 19"/>
            <p:cNvSpPr/>
            <p:nvPr/>
          </p:nvSpPr>
          <p:spPr>
            <a:xfrm>
              <a:off x="6324480" y="2666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 flipV="1">
              <a:off x="6670440" y="2970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21"/>
            <p:cNvSpPr/>
            <p:nvPr/>
          </p:nvSpPr>
          <p:spPr>
            <a:xfrm>
              <a:off x="6567480" y="4213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524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Group 26"/>
          <p:cNvGrpSpPr/>
          <p:nvPr/>
        </p:nvGrpSpPr>
        <p:grpSpPr>
          <a:xfrm>
            <a:off x="5257800" y="2971800"/>
            <a:ext cx="533520" cy="1219320"/>
            <a:chOff x="5257800" y="2971800"/>
            <a:chExt cx="533520" cy="1219320"/>
          </a:xfrm>
        </p:grpSpPr>
        <p:sp>
          <p:nvSpPr>
            <p:cNvPr id="528" name="Rectangle 27"/>
            <p:cNvSpPr/>
            <p:nvPr/>
          </p:nvSpPr>
          <p:spPr>
            <a:xfrm>
              <a:off x="5257800" y="3733920"/>
              <a:ext cx="533520" cy="4572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what kinds organisms does cellular respiration take pla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and 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 for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NADH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Line 3"/>
          <p:cNvSpPr/>
          <p:nvPr/>
        </p:nvSpPr>
        <p:spPr>
          <a:xfrm flipH="1">
            <a:off x="8478360" y="7113600"/>
            <a:ext cx="810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534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106"/>
            <p:cNvSpPr/>
            <p:nvPr/>
          </p:nvSpPr>
          <p:spPr>
            <a:xfrm>
              <a:off x="61200" y="4876920"/>
              <a:ext cx="7668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08"/>
            <p:cNvSpPr/>
            <p:nvPr/>
          </p:nvSpPr>
          <p:spPr>
            <a:xfrm>
              <a:off x="52740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24"/>
            <p:cNvSpPr/>
            <p:nvPr/>
          </p:nvSpPr>
          <p:spPr>
            <a:xfrm>
              <a:off x="669240" y="547200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274"/>
            <p:cNvSpPr/>
            <p:nvPr/>
          </p:nvSpPr>
          <p:spPr>
            <a:xfrm flipV="1">
              <a:off x="76212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275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276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Freeform 277"/>
            <p:cNvSpPr/>
            <p:nvPr/>
          </p:nvSpPr>
          <p:spPr>
            <a:xfrm>
              <a:off x="304920" y="46674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278"/>
            <p:cNvSpPr/>
            <p:nvPr/>
          </p:nvSpPr>
          <p:spPr>
            <a:xfrm>
              <a:off x="975960" y="4952880"/>
              <a:ext cx="73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9"/>
            <p:cNvSpPr/>
            <p:nvPr/>
          </p:nvSpPr>
          <p:spPr>
            <a:xfrm>
              <a:off x="304920" y="3276720"/>
              <a:ext cx="3887640" cy="152532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449" h="961">
                  <a:moveTo>
                    <a:pt x="0" y="960"/>
                  </a:moveTo>
                  <a:lnTo>
                    <a:pt x="12" y="924"/>
                  </a:lnTo>
                  <a:lnTo>
                    <a:pt x="12" y="888"/>
                  </a:lnTo>
                  <a:lnTo>
                    <a:pt x="24" y="852"/>
                  </a:lnTo>
                  <a:lnTo>
                    <a:pt x="36" y="816"/>
                  </a:lnTo>
                  <a:lnTo>
                    <a:pt x="60" y="780"/>
                  </a:lnTo>
                  <a:lnTo>
                    <a:pt x="72" y="744"/>
                  </a:lnTo>
                  <a:lnTo>
                    <a:pt x="108" y="708"/>
                  </a:lnTo>
                  <a:lnTo>
                    <a:pt x="132" y="672"/>
                  </a:lnTo>
                  <a:lnTo>
                    <a:pt x="168" y="648"/>
                  </a:lnTo>
                  <a:lnTo>
                    <a:pt x="204" y="612"/>
                  </a:lnTo>
                  <a:lnTo>
                    <a:pt x="240" y="600"/>
                  </a:lnTo>
                  <a:lnTo>
                    <a:pt x="276" y="588"/>
                  </a:lnTo>
                  <a:lnTo>
                    <a:pt x="312" y="576"/>
                  </a:lnTo>
                  <a:lnTo>
                    <a:pt x="348" y="564"/>
                  </a:lnTo>
                  <a:lnTo>
                    <a:pt x="384" y="552"/>
                  </a:lnTo>
                  <a:lnTo>
                    <a:pt x="420" y="540"/>
                  </a:lnTo>
                  <a:lnTo>
                    <a:pt x="456" y="528"/>
                  </a:lnTo>
                  <a:lnTo>
                    <a:pt x="492" y="504"/>
                  </a:lnTo>
                  <a:lnTo>
                    <a:pt x="528" y="492"/>
                  </a:lnTo>
                  <a:lnTo>
                    <a:pt x="564" y="468"/>
                  </a:lnTo>
                  <a:lnTo>
                    <a:pt x="600" y="456"/>
                  </a:lnTo>
                  <a:lnTo>
                    <a:pt x="636" y="444"/>
                  </a:lnTo>
                  <a:lnTo>
                    <a:pt x="672" y="432"/>
                  </a:lnTo>
                  <a:lnTo>
                    <a:pt x="708" y="396"/>
                  </a:lnTo>
                  <a:lnTo>
                    <a:pt x="744" y="372"/>
                  </a:lnTo>
                  <a:lnTo>
                    <a:pt x="780" y="360"/>
                  </a:lnTo>
                  <a:lnTo>
                    <a:pt x="804" y="324"/>
                  </a:lnTo>
                  <a:lnTo>
                    <a:pt x="840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60" y="168"/>
                  </a:lnTo>
                  <a:lnTo>
                    <a:pt x="996" y="144"/>
                  </a:lnTo>
                  <a:lnTo>
                    <a:pt x="1032" y="120"/>
                  </a:lnTo>
                  <a:lnTo>
                    <a:pt x="1068" y="96"/>
                  </a:lnTo>
                  <a:lnTo>
                    <a:pt x="1104" y="72"/>
                  </a:lnTo>
                  <a:lnTo>
                    <a:pt x="1140" y="60"/>
                  </a:lnTo>
                  <a:lnTo>
                    <a:pt x="1176" y="48"/>
                  </a:lnTo>
                  <a:lnTo>
                    <a:pt x="1212" y="48"/>
                  </a:lnTo>
                  <a:lnTo>
                    <a:pt x="1248" y="36"/>
                  </a:lnTo>
                  <a:lnTo>
                    <a:pt x="1284" y="24"/>
                  </a:lnTo>
                  <a:lnTo>
                    <a:pt x="1320" y="24"/>
                  </a:lnTo>
                  <a:lnTo>
                    <a:pt x="1356" y="12"/>
                  </a:lnTo>
                  <a:lnTo>
                    <a:pt x="1392" y="12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12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24"/>
                  </a:lnTo>
                  <a:lnTo>
                    <a:pt x="1764" y="36"/>
                  </a:lnTo>
                  <a:lnTo>
                    <a:pt x="1800" y="48"/>
                  </a:lnTo>
                  <a:lnTo>
                    <a:pt x="1836" y="72"/>
                  </a:lnTo>
                  <a:lnTo>
                    <a:pt x="1872" y="96"/>
                  </a:lnTo>
                  <a:lnTo>
                    <a:pt x="1908" y="120"/>
                  </a:lnTo>
                  <a:lnTo>
                    <a:pt x="1944" y="144"/>
                  </a:lnTo>
                  <a:lnTo>
                    <a:pt x="1980" y="168"/>
                  </a:lnTo>
                  <a:lnTo>
                    <a:pt x="2004" y="204"/>
                  </a:lnTo>
                  <a:lnTo>
                    <a:pt x="2040" y="228"/>
                  </a:lnTo>
                  <a:lnTo>
                    <a:pt x="2064" y="264"/>
                  </a:lnTo>
                  <a:lnTo>
                    <a:pt x="2100" y="288"/>
                  </a:lnTo>
                  <a:lnTo>
                    <a:pt x="2112" y="324"/>
                  </a:lnTo>
                  <a:lnTo>
                    <a:pt x="2148" y="348"/>
                  </a:lnTo>
                  <a:lnTo>
                    <a:pt x="2160" y="384"/>
                  </a:lnTo>
                  <a:lnTo>
                    <a:pt x="2196" y="408"/>
                  </a:lnTo>
                  <a:lnTo>
                    <a:pt x="2220" y="444"/>
                  </a:lnTo>
                  <a:lnTo>
                    <a:pt x="2256" y="468"/>
                  </a:lnTo>
                  <a:lnTo>
                    <a:pt x="2292" y="492"/>
                  </a:lnTo>
                  <a:lnTo>
                    <a:pt x="2316" y="528"/>
                  </a:lnTo>
                  <a:lnTo>
                    <a:pt x="2340" y="564"/>
                  </a:lnTo>
                  <a:lnTo>
                    <a:pt x="2364" y="600"/>
                  </a:lnTo>
                  <a:lnTo>
                    <a:pt x="2376" y="636"/>
                  </a:lnTo>
                  <a:lnTo>
                    <a:pt x="2400" y="672"/>
                  </a:lnTo>
                  <a:lnTo>
                    <a:pt x="2436" y="696"/>
                  </a:lnTo>
                  <a:lnTo>
                    <a:pt x="2448" y="7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Rectangle 280"/>
            <p:cNvSpPr/>
            <p:nvPr/>
          </p:nvSpPr>
          <p:spPr>
            <a:xfrm>
              <a:off x="2438280" y="4511520"/>
              <a:ext cx="1488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Freeform 281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282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283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284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285"/>
            <p:cNvSpPr/>
            <p:nvPr/>
          </p:nvSpPr>
          <p:spPr>
            <a:xfrm>
              <a:off x="4502160" y="3359160"/>
              <a:ext cx="167004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286"/>
            <p:cNvSpPr/>
            <p:nvPr/>
          </p:nvSpPr>
          <p:spPr>
            <a:xfrm>
              <a:off x="4557600" y="3352680"/>
              <a:ext cx="17668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and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Chemiosmosis for </a:t>
            </a:r>
            <a:r>
              <a:rPr b="1" lang="en-US" sz="2700" spc="-1" strike="noStrike" u="sng">
                <a:solidFill>
                  <a:srgbClr val="b760f9"/>
                </a:solidFill>
                <a:uFillTx/>
                <a:latin typeface="Tahoma"/>
              </a:rPr>
              <a:t>FADH</a:t>
            </a:r>
            <a:r>
              <a:rPr b="1" lang="en-US" sz="27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Group 3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819" name="Rectangle 4"/>
            <p:cNvSpPr/>
            <p:nvPr/>
          </p:nvSpPr>
          <p:spPr>
            <a:xfrm>
              <a:off x="762120" y="17524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6"/>
            <p:cNvSpPr/>
            <p:nvPr/>
          </p:nvSpPr>
          <p:spPr>
            <a:xfrm>
              <a:off x="1131840" y="4724280"/>
              <a:ext cx="81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Rectangle 108"/>
            <p:cNvSpPr/>
            <p:nvPr/>
          </p:nvSpPr>
          <p:spPr>
            <a:xfrm>
              <a:off x="517680" y="2384280"/>
              <a:ext cx="69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3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Rectangle 124"/>
            <p:cNvSpPr/>
            <p:nvPr/>
          </p:nvSpPr>
          <p:spPr>
            <a:xfrm>
              <a:off x="136080" y="531972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Line 274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Line 275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Freeform 276"/>
            <p:cNvSpPr/>
            <p:nvPr/>
          </p:nvSpPr>
          <p:spPr>
            <a:xfrm>
              <a:off x="1523880" y="4514760"/>
              <a:ext cx="1011240" cy="2494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277"/>
            <p:cNvSpPr/>
            <p:nvPr/>
          </p:nvSpPr>
          <p:spPr>
            <a:xfrm>
              <a:off x="2119320" y="4800600"/>
              <a:ext cx="716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278"/>
            <p:cNvSpPr/>
            <p:nvPr/>
          </p:nvSpPr>
          <p:spPr>
            <a:xfrm>
              <a:off x="3119400" y="4648320"/>
              <a:ext cx="9252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Freeform 279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280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Rectangle 281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282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Freeform 283"/>
            <p:cNvSpPr/>
            <p:nvPr/>
          </p:nvSpPr>
          <p:spPr>
            <a:xfrm>
              <a:off x="1447920" y="3371760"/>
              <a:ext cx="3125520" cy="1335240"/>
            </a:xfrm>
            <a:custGeom>
              <a:avLst/>
              <a:gdLst>
                <a:gd name="textAreaLeft" fmla="*/ 0 w 3125520"/>
                <a:gd name="textAreaRight" fmla="*/ 3125880 w 3125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969" h="841">
                  <a:moveTo>
                    <a:pt x="0" y="756"/>
                  </a:moveTo>
                  <a:lnTo>
                    <a:pt x="24" y="720"/>
                  </a:lnTo>
                  <a:lnTo>
                    <a:pt x="60" y="696"/>
                  </a:lnTo>
                  <a:lnTo>
                    <a:pt x="84" y="660"/>
                  </a:lnTo>
                  <a:lnTo>
                    <a:pt x="120" y="648"/>
                  </a:lnTo>
                  <a:lnTo>
                    <a:pt x="144" y="612"/>
                  </a:lnTo>
                  <a:lnTo>
                    <a:pt x="168" y="576"/>
                  </a:lnTo>
                  <a:lnTo>
                    <a:pt x="204" y="552"/>
                  </a:lnTo>
                  <a:lnTo>
                    <a:pt x="216" y="516"/>
                  </a:lnTo>
                  <a:lnTo>
                    <a:pt x="240" y="480"/>
                  </a:lnTo>
                  <a:lnTo>
                    <a:pt x="264" y="444"/>
                  </a:lnTo>
                  <a:lnTo>
                    <a:pt x="276" y="408"/>
                  </a:lnTo>
                  <a:lnTo>
                    <a:pt x="276" y="372"/>
                  </a:lnTo>
                  <a:lnTo>
                    <a:pt x="276" y="336"/>
                  </a:lnTo>
                  <a:lnTo>
                    <a:pt x="288" y="300"/>
                  </a:lnTo>
                  <a:lnTo>
                    <a:pt x="288" y="264"/>
                  </a:lnTo>
                  <a:lnTo>
                    <a:pt x="300" y="228"/>
                  </a:lnTo>
                  <a:lnTo>
                    <a:pt x="312" y="192"/>
                  </a:lnTo>
                  <a:lnTo>
                    <a:pt x="336" y="156"/>
                  </a:lnTo>
                  <a:lnTo>
                    <a:pt x="360" y="120"/>
                  </a:lnTo>
                  <a:lnTo>
                    <a:pt x="396" y="96"/>
                  </a:lnTo>
                  <a:lnTo>
                    <a:pt x="432" y="72"/>
                  </a:lnTo>
                  <a:lnTo>
                    <a:pt x="468" y="48"/>
                  </a:lnTo>
                  <a:lnTo>
                    <a:pt x="504" y="24"/>
                  </a:lnTo>
                  <a:lnTo>
                    <a:pt x="540" y="24"/>
                  </a:lnTo>
                  <a:lnTo>
                    <a:pt x="576" y="12"/>
                  </a:lnTo>
                  <a:lnTo>
                    <a:pt x="612" y="12"/>
                  </a:lnTo>
                  <a:lnTo>
                    <a:pt x="648" y="12"/>
                  </a:lnTo>
                  <a:lnTo>
                    <a:pt x="696" y="12"/>
                  </a:lnTo>
                  <a:lnTo>
                    <a:pt x="732" y="12"/>
                  </a:lnTo>
                  <a:lnTo>
                    <a:pt x="768" y="12"/>
                  </a:lnTo>
                  <a:lnTo>
                    <a:pt x="816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12"/>
                  </a:lnTo>
                  <a:lnTo>
                    <a:pt x="1176" y="36"/>
                  </a:lnTo>
                  <a:lnTo>
                    <a:pt x="1212" y="60"/>
                  </a:lnTo>
                  <a:lnTo>
                    <a:pt x="1236" y="96"/>
                  </a:lnTo>
                  <a:lnTo>
                    <a:pt x="1272" y="120"/>
                  </a:lnTo>
                  <a:lnTo>
                    <a:pt x="1296" y="156"/>
                  </a:lnTo>
                  <a:lnTo>
                    <a:pt x="1320" y="192"/>
                  </a:lnTo>
                  <a:lnTo>
                    <a:pt x="1356" y="216"/>
                  </a:lnTo>
                  <a:lnTo>
                    <a:pt x="1380" y="252"/>
                  </a:lnTo>
                  <a:lnTo>
                    <a:pt x="1416" y="288"/>
                  </a:lnTo>
                  <a:lnTo>
                    <a:pt x="1440" y="324"/>
                  </a:lnTo>
                  <a:lnTo>
                    <a:pt x="1476" y="348"/>
                  </a:lnTo>
                  <a:lnTo>
                    <a:pt x="1500" y="384"/>
                  </a:lnTo>
                  <a:lnTo>
                    <a:pt x="1536" y="408"/>
                  </a:lnTo>
                  <a:lnTo>
                    <a:pt x="1560" y="444"/>
                  </a:lnTo>
                  <a:lnTo>
                    <a:pt x="1596" y="456"/>
                  </a:lnTo>
                  <a:lnTo>
                    <a:pt x="1620" y="492"/>
                  </a:lnTo>
                  <a:lnTo>
                    <a:pt x="1656" y="504"/>
                  </a:lnTo>
                  <a:lnTo>
                    <a:pt x="1692" y="540"/>
                  </a:lnTo>
                  <a:lnTo>
                    <a:pt x="1728" y="564"/>
                  </a:lnTo>
                  <a:lnTo>
                    <a:pt x="1764" y="588"/>
                  </a:lnTo>
                  <a:lnTo>
                    <a:pt x="1800" y="612"/>
                  </a:lnTo>
                  <a:lnTo>
                    <a:pt x="1824" y="648"/>
                  </a:lnTo>
                  <a:lnTo>
                    <a:pt x="1860" y="672"/>
                  </a:lnTo>
                  <a:lnTo>
                    <a:pt x="1896" y="708"/>
                  </a:lnTo>
                  <a:lnTo>
                    <a:pt x="1932" y="744"/>
                  </a:lnTo>
                  <a:lnTo>
                    <a:pt x="1968" y="768"/>
                  </a:lnTo>
                  <a:lnTo>
                    <a:pt x="1968" y="804"/>
                  </a:lnTo>
                  <a:lnTo>
                    <a:pt x="1968" y="84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284"/>
            <p:cNvSpPr/>
            <p:nvPr/>
          </p:nvSpPr>
          <p:spPr>
            <a:xfrm>
              <a:off x="4654440" y="3359160"/>
              <a:ext cx="173988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285"/>
            <p:cNvSpPr/>
            <p:nvPr/>
          </p:nvSpPr>
          <p:spPr>
            <a:xfrm>
              <a:off x="4710240" y="3352680"/>
              <a:ext cx="1614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OTAL ATP Y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04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3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&amp;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8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TO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4" name="Group 4"/>
          <p:cNvGrpSpPr/>
          <p:nvPr/>
        </p:nvGrpSpPr>
        <p:grpSpPr>
          <a:xfrm>
            <a:off x="1854360" y="3835440"/>
            <a:ext cx="5206680" cy="2311200"/>
            <a:chOff x="1854360" y="3835440"/>
            <a:chExt cx="5206680" cy="2311200"/>
          </a:xfrm>
        </p:grpSpPr>
        <p:sp>
          <p:nvSpPr>
            <p:cNvPr id="1105" name="Oval 5"/>
            <p:cNvSpPr/>
            <p:nvPr/>
          </p:nvSpPr>
          <p:spPr>
            <a:xfrm>
              <a:off x="1854360" y="3835440"/>
              <a:ext cx="5206680" cy="23112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Rectangle 6"/>
            <p:cNvSpPr/>
            <p:nvPr/>
          </p:nvSpPr>
          <p:spPr>
            <a:xfrm>
              <a:off x="3184920" y="4267080"/>
              <a:ext cx="26215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ATP</a:t>
              </a:r>
              <a:endParaRPr b="0" lang="en-US" sz="9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Eu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Have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4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aximu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Yield for Cellular Respiration </a:t>
            </a:r>
            <a:r>
              <a:rPr b="1" lang="en-US" sz="3600" spc="-1" strike="noStrike">
                <a:solidFill>
                  <a:srgbClr val="006b61"/>
                </a:solidFill>
                <a:latin typeface="Tahoma"/>
              </a:rPr>
              <a:t>(Eukaryote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3639600" y="6432480"/>
            <a:ext cx="396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36 ATP (maximum per gluco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3" name="Group 4"/>
          <p:cNvGrpSpPr/>
          <p:nvPr/>
        </p:nvGrpSpPr>
        <p:grpSpPr>
          <a:xfrm>
            <a:off x="57960" y="1828800"/>
            <a:ext cx="8872560" cy="4565520"/>
            <a:chOff x="57960" y="1828800"/>
            <a:chExt cx="8872560" cy="4565520"/>
          </a:xfrm>
        </p:grpSpPr>
        <p:sp>
          <p:nvSpPr>
            <p:cNvPr id="1114" name="Freeform 5"/>
            <p:cNvSpPr/>
            <p:nvPr/>
          </p:nvSpPr>
          <p:spPr>
            <a:xfrm>
              <a:off x="2743200" y="1828800"/>
              <a:ext cx="6154560" cy="3811680"/>
            </a:xfrm>
            <a:custGeom>
              <a:avLst/>
              <a:gdLst>
                <a:gd name="textAreaLeft" fmla="*/ 0 w 6154560"/>
                <a:gd name="textAreaRight" fmla="*/ 6154920 w 6154560"/>
                <a:gd name="textAreaTop" fmla="*/ 0 h 3811680"/>
                <a:gd name="textAreaBottom" fmla="*/ 3812040 h 3811680"/>
              </a:gdLst>
              <a:ahLst/>
              <a:rect l="textAreaLeft" t="textAreaTop" r="textAreaRight" b="textAreaBottom"/>
              <a:pathLst>
                <a:path w="3877" h="2401">
                  <a:moveTo>
                    <a:pt x="1536" y="0"/>
                  </a:moveTo>
                  <a:lnTo>
                    <a:pt x="1572" y="12"/>
                  </a:lnTo>
                  <a:lnTo>
                    <a:pt x="1644" y="12"/>
                  </a:lnTo>
                  <a:lnTo>
                    <a:pt x="1740" y="24"/>
                  </a:lnTo>
                  <a:lnTo>
                    <a:pt x="1836" y="24"/>
                  </a:lnTo>
                  <a:lnTo>
                    <a:pt x="1932" y="36"/>
                  </a:lnTo>
                  <a:lnTo>
                    <a:pt x="2028" y="36"/>
                  </a:lnTo>
                  <a:lnTo>
                    <a:pt x="2124" y="48"/>
                  </a:lnTo>
                  <a:lnTo>
                    <a:pt x="2220" y="60"/>
                  </a:lnTo>
                  <a:lnTo>
                    <a:pt x="2364" y="72"/>
                  </a:lnTo>
                  <a:lnTo>
                    <a:pt x="2484" y="84"/>
                  </a:lnTo>
                  <a:lnTo>
                    <a:pt x="2604" y="108"/>
                  </a:lnTo>
                  <a:lnTo>
                    <a:pt x="2676" y="120"/>
                  </a:lnTo>
                  <a:lnTo>
                    <a:pt x="2772" y="132"/>
                  </a:lnTo>
                  <a:lnTo>
                    <a:pt x="2844" y="144"/>
                  </a:lnTo>
                  <a:lnTo>
                    <a:pt x="2964" y="168"/>
                  </a:lnTo>
                  <a:lnTo>
                    <a:pt x="3084" y="192"/>
                  </a:lnTo>
                  <a:lnTo>
                    <a:pt x="3180" y="216"/>
                  </a:lnTo>
                  <a:lnTo>
                    <a:pt x="3276" y="228"/>
                  </a:lnTo>
                  <a:lnTo>
                    <a:pt x="3348" y="252"/>
                  </a:lnTo>
                  <a:lnTo>
                    <a:pt x="3396" y="276"/>
                  </a:lnTo>
                  <a:lnTo>
                    <a:pt x="3468" y="300"/>
                  </a:lnTo>
                  <a:lnTo>
                    <a:pt x="3540" y="372"/>
                  </a:lnTo>
                  <a:lnTo>
                    <a:pt x="3612" y="396"/>
                  </a:lnTo>
                  <a:lnTo>
                    <a:pt x="3648" y="432"/>
                  </a:lnTo>
                  <a:lnTo>
                    <a:pt x="3672" y="468"/>
                  </a:lnTo>
                  <a:lnTo>
                    <a:pt x="3696" y="516"/>
                  </a:lnTo>
                  <a:lnTo>
                    <a:pt x="3720" y="588"/>
                  </a:lnTo>
                  <a:lnTo>
                    <a:pt x="3756" y="684"/>
                  </a:lnTo>
                  <a:lnTo>
                    <a:pt x="3780" y="732"/>
                  </a:lnTo>
                  <a:lnTo>
                    <a:pt x="3804" y="780"/>
                  </a:lnTo>
                  <a:lnTo>
                    <a:pt x="3828" y="876"/>
                  </a:lnTo>
                  <a:lnTo>
                    <a:pt x="3840" y="948"/>
                  </a:lnTo>
                  <a:lnTo>
                    <a:pt x="3852" y="1044"/>
                  </a:lnTo>
                  <a:lnTo>
                    <a:pt x="3852" y="1116"/>
                  </a:lnTo>
                  <a:lnTo>
                    <a:pt x="3864" y="1188"/>
                  </a:lnTo>
                  <a:lnTo>
                    <a:pt x="3864" y="1284"/>
                  </a:lnTo>
                  <a:lnTo>
                    <a:pt x="3876" y="1356"/>
                  </a:lnTo>
                  <a:lnTo>
                    <a:pt x="3876" y="1392"/>
                  </a:lnTo>
                  <a:lnTo>
                    <a:pt x="3876" y="1488"/>
                  </a:lnTo>
                  <a:lnTo>
                    <a:pt x="3876" y="1584"/>
                  </a:lnTo>
                  <a:lnTo>
                    <a:pt x="3876" y="1680"/>
                  </a:lnTo>
                  <a:lnTo>
                    <a:pt x="3876" y="1776"/>
                  </a:lnTo>
                  <a:lnTo>
                    <a:pt x="3876" y="1848"/>
                  </a:lnTo>
                  <a:lnTo>
                    <a:pt x="3864" y="1944"/>
                  </a:lnTo>
                  <a:lnTo>
                    <a:pt x="3852" y="1992"/>
                  </a:lnTo>
                  <a:lnTo>
                    <a:pt x="3852" y="2028"/>
                  </a:lnTo>
                  <a:lnTo>
                    <a:pt x="3828" y="2076"/>
                  </a:lnTo>
                  <a:lnTo>
                    <a:pt x="3792" y="2172"/>
                  </a:lnTo>
                  <a:lnTo>
                    <a:pt x="3744" y="2208"/>
                  </a:lnTo>
                  <a:lnTo>
                    <a:pt x="3696" y="2244"/>
                  </a:lnTo>
                  <a:lnTo>
                    <a:pt x="3648" y="2268"/>
                  </a:lnTo>
                  <a:lnTo>
                    <a:pt x="3576" y="2280"/>
                  </a:lnTo>
                  <a:lnTo>
                    <a:pt x="3504" y="2292"/>
                  </a:lnTo>
                  <a:lnTo>
                    <a:pt x="3384" y="2316"/>
                  </a:lnTo>
                  <a:lnTo>
                    <a:pt x="3348" y="2328"/>
                  </a:lnTo>
                  <a:lnTo>
                    <a:pt x="3252" y="2340"/>
                  </a:lnTo>
                  <a:lnTo>
                    <a:pt x="3156" y="2340"/>
                  </a:lnTo>
                  <a:lnTo>
                    <a:pt x="3060" y="2352"/>
                  </a:lnTo>
                  <a:lnTo>
                    <a:pt x="2964" y="2352"/>
                  </a:lnTo>
                  <a:lnTo>
                    <a:pt x="2892" y="2352"/>
                  </a:lnTo>
                  <a:lnTo>
                    <a:pt x="2796" y="2364"/>
                  </a:lnTo>
                  <a:lnTo>
                    <a:pt x="2724" y="2364"/>
                  </a:lnTo>
                  <a:lnTo>
                    <a:pt x="2652" y="2376"/>
                  </a:lnTo>
                  <a:lnTo>
                    <a:pt x="2580" y="2376"/>
                  </a:lnTo>
                  <a:lnTo>
                    <a:pt x="2532" y="2388"/>
                  </a:lnTo>
                  <a:lnTo>
                    <a:pt x="2460" y="2388"/>
                  </a:lnTo>
                  <a:lnTo>
                    <a:pt x="2364" y="2400"/>
                  </a:lnTo>
                  <a:lnTo>
                    <a:pt x="2316" y="2400"/>
                  </a:lnTo>
                  <a:lnTo>
                    <a:pt x="2244" y="2400"/>
                  </a:lnTo>
                  <a:lnTo>
                    <a:pt x="2172" y="2400"/>
                  </a:lnTo>
                  <a:lnTo>
                    <a:pt x="2100" y="2400"/>
                  </a:lnTo>
                  <a:lnTo>
                    <a:pt x="2028" y="2400"/>
                  </a:lnTo>
                  <a:lnTo>
                    <a:pt x="1980" y="2400"/>
                  </a:lnTo>
                  <a:lnTo>
                    <a:pt x="1944" y="2400"/>
                  </a:lnTo>
                  <a:lnTo>
                    <a:pt x="1860" y="2400"/>
                  </a:lnTo>
                  <a:lnTo>
                    <a:pt x="1812" y="2400"/>
                  </a:lnTo>
                  <a:lnTo>
                    <a:pt x="1716" y="2400"/>
                  </a:lnTo>
                  <a:lnTo>
                    <a:pt x="1668" y="2400"/>
                  </a:lnTo>
                  <a:lnTo>
                    <a:pt x="1572" y="2400"/>
                  </a:lnTo>
                  <a:lnTo>
                    <a:pt x="1500" y="2400"/>
                  </a:lnTo>
                  <a:lnTo>
                    <a:pt x="1428" y="2400"/>
                  </a:lnTo>
                  <a:lnTo>
                    <a:pt x="1356" y="2400"/>
                  </a:lnTo>
                  <a:lnTo>
                    <a:pt x="1284" y="2400"/>
                  </a:lnTo>
                  <a:lnTo>
                    <a:pt x="1212" y="2400"/>
                  </a:lnTo>
                  <a:lnTo>
                    <a:pt x="1140" y="2400"/>
                  </a:lnTo>
                  <a:lnTo>
                    <a:pt x="1044" y="2400"/>
                  </a:lnTo>
                  <a:lnTo>
                    <a:pt x="972" y="2400"/>
                  </a:lnTo>
                  <a:lnTo>
                    <a:pt x="900" y="2400"/>
                  </a:lnTo>
                  <a:lnTo>
                    <a:pt x="828" y="2400"/>
                  </a:lnTo>
                  <a:lnTo>
                    <a:pt x="732" y="2400"/>
                  </a:lnTo>
                  <a:lnTo>
                    <a:pt x="684" y="2400"/>
                  </a:lnTo>
                  <a:lnTo>
                    <a:pt x="636" y="2388"/>
                  </a:lnTo>
                  <a:lnTo>
                    <a:pt x="588" y="2388"/>
                  </a:lnTo>
                  <a:lnTo>
                    <a:pt x="552" y="2376"/>
                  </a:lnTo>
                  <a:lnTo>
                    <a:pt x="516" y="2364"/>
                  </a:lnTo>
                  <a:lnTo>
                    <a:pt x="444" y="2364"/>
                  </a:lnTo>
                  <a:lnTo>
                    <a:pt x="396" y="2328"/>
                  </a:lnTo>
                  <a:lnTo>
                    <a:pt x="324" y="2316"/>
                  </a:lnTo>
                  <a:lnTo>
                    <a:pt x="288" y="2292"/>
                  </a:lnTo>
                  <a:lnTo>
                    <a:pt x="252" y="2268"/>
                  </a:lnTo>
                  <a:lnTo>
                    <a:pt x="204" y="2220"/>
                  </a:lnTo>
                  <a:lnTo>
                    <a:pt x="180" y="2148"/>
                  </a:lnTo>
                  <a:lnTo>
                    <a:pt x="156" y="2076"/>
                  </a:lnTo>
                  <a:lnTo>
                    <a:pt x="132" y="2004"/>
                  </a:lnTo>
                  <a:lnTo>
                    <a:pt x="120" y="1932"/>
                  </a:lnTo>
                  <a:lnTo>
                    <a:pt x="96" y="1860"/>
                  </a:lnTo>
                  <a:lnTo>
                    <a:pt x="84" y="1764"/>
                  </a:lnTo>
                  <a:lnTo>
                    <a:pt x="60" y="1692"/>
                  </a:lnTo>
                  <a:lnTo>
                    <a:pt x="48" y="1620"/>
                  </a:lnTo>
                  <a:lnTo>
                    <a:pt x="36" y="1524"/>
                  </a:lnTo>
                  <a:lnTo>
                    <a:pt x="24" y="1452"/>
                  </a:lnTo>
                  <a:lnTo>
                    <a:pt x="12" y="1404"/>
                  </a:lnTo>
                  <a:lnTo>
                    <a:pt x="12" y="1308"/>
                  </a:lnTo>
                  <a:lnTo>
                    <a:pt x="0" y="1212"/>
                  </a:lnTo>
                  <a:lnTo>
                    <a:pt x="0" y="1116"/>
                  </a:lnTo>
                  <a:lnTo>
                    <a:pt x="0" y="996"/>
                  </a:lnTo>
                  <a:lnTo>
                    <a:pt x="0" y="900"/>
                  </a:lnTo>
                  <a:lnTo>
                    <a:pt x="0" y="804"/>
                  </a:lnTo>
                  <a:lnTo>
                    <a:pt x="0" y="732"/>
                  </a:lnTo>
                  <a:lnTo>
                    <a:pt x="12" y="684"/>
                  </a:lnTo>
                  <a:lnTo>
                    <a:pt x="24" y="588"/>
                  </a:lnTo>
                  <a:lnTo>
                    <a:pt x="36" y="516"/>
                  </a:lnTo>
                  <a:lnTo>
                    <a:pt x="60" y="468"/>
                  </a:lnTo>
                  <a:lnTo>
                    <a:pt x="108" y="372"/>
                  </a:lnTo>
                  <a:lnTo>
                    <a:pt x="156" y="324"/>
                  </a:lnTo>
                  <a:lnTo>
                    <a:pt x="228" y="300"/>
                  </a:lnTo>
                  <a:lnTo>
                    <a:pt x="264" y="264"/>
                  </a:lnTo>
                  <a:lnTo>
                    <a:pt x="300" y="240"/>
                  </a:lnTo>
                  <a:lnTo>
                    <a:pt x="336" y="216"/>
                  </a:lnTo>
                  <a:lnTo>
                    <a:pt x="384" y="180"/>
                  </a:lnTo>
                  <a:lnTo>
                    <a:pt x="432" y="144"/>
                  </a:lnTo>
                  <a:lnTo>
                    <a:pt x="468" y="108"/>
                  </a:lnTo>
                  <a:lnTo>
                    <a:pt x="504" y="96"/>
                  </a:lnTo>
                  <a:lnTo>
                    <a:pt x="540" y="72"/>
                  </a:lnTo>
                  <a:lnTo>
                    <a:pt x="588" y="48"/>
                  </a:lnTo>
                  <a:lnTo>
                    <a:pt x="624" y="36"/>
                  </a:lnTo>
                  <a:lnTo>
                    <a:pt x="660" y="36"/>
                  </a:lnTo>
                  <a:lnTo>
                    <a:pt x="708" y="24"/>
                  </a:lnTo>
                  <a:lnTo>
                    <a:pt x="756" y="24"/>
                  </a:lnTo>
                  <a:lnTo>
                    <a:pt x="792" y="24"/>
                  </a:lnTo>
                  <a:lnTo>
                    <a:pt x="828" y="24"/>
                  </a:lnTo>
                  <a:lnTo>
                    <a:pt x="864" y="24"/>
                  </a:lnTo>
                  <a:lnTo>
                    <a:pt x="912" y="24"/>
                  </a:lnTo>
                  <a:lnTo>
                    <a:pt x="948" y="24"/>
                  </a:lnTo>
                  <a:lnTo>
                    <a:pt x="984" y="24"/>
                  </a:lnTo>
                  <a:lnTo>
                    <a:pt x="1020" y="24"/>
                  </a:lnTo>
                  <a:lnTo>
                    <a:pt x="1056" y="24"/>
                  </a:lnTo>
                  <a:lnTo>
                    <a:pt x="1092" y="24"/>
                  </a:lnTo>
                  <a:lnTo>
                    <a:pt x="1140" y="24"/>
                  </a:lnTo>
                  <a:lnTo>
                    <a:pt x="1188" y="24"/>
                  </a:lnTo>
                  <a:lnTo>
                    <a:pt x="1224" y="24"/>
                  </a:lnTo>
                  <a:lnTo>
                    <a:pt x="1260" y="24"/>
                  </a:lnTo>
                  <a:lnTo>
                    <a:pt x="1296" y="24"/>
                  </a:lnTo>
                  <a:lnTo>
                    <a:pt x="1332" y="24"/>
                  </a:lnTo>
                  <a:lnTo>
                    <a:pt x="1368" y="24"/>
                  </a:lnTo>
                  <a:lnTo>
                    <a:pt x="1404" y="24"/>
                  </a:lnTo>
                  <a:lnTo>
                    <a:pt x="1440" y="24"/>
                  </a:lnTo>
                  <a:lnTo>
                    <a:pt x="1476" y="12"/>
                  </a:lnTo>
                  <a:lnTo>
                    <a:pt x="1512" y="12"/>
                  </a:lnTo>
                  <a:lnTo>
                    <a:pt x="1548" y="12"/>
                  </a:lnTo>
                  <a:lnTo>
                    <a:pt x="1536" y="0"/>
                  </a:lnTo>
                </a:path>
              </a:pathLst>
            </a:custGeom>
            <a:solidFill>
              <a:srgbClr val="bc3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2990880" y="2190600"/>
              <a:ext cx="5640480" cy="3202200"/>
            </a:xfrm>
            <a:custGeom>
              <a:avLst/>
              <a:gdLst>
                <a:gd name="textAreaLeft" fmla="*/ 0 w 5640480"/>
                <a:gd name="textAreaRight" fmla="*/ 5640840 w 5640480"/>
                <a:gd name="textAreaTop" fmla="*/ 0 h 3202200"/>
                <a:gd name="textAreaBottom" fmla="*/ 3202560 h 3202200"/>
              </a:gdLst>
              <a:ahLst/>
              <a:rect l="textAreaLeft" t="textAreaTop" r="textAreaRight" b="textAreaBottom"/>
              <a:pathLst>
                <a:path w="3553" h="2017">
                  <a:moveTo>
                    <a:pt x="3396" y="1212"/>
                  </a:moveTo>
                  <a:lnTo>
                    <a:pt x="3420" y="1248"/>
                  </a:lnTo>
                  <a:lnTo>
                    <a:pt x="3408" y="1284"/>
                  </a:lnTo>
                  <a:lnTo>
                    <a:pt x="3384" y="1320"/>
                  </a:lnTo>
                  <a:lnTo>
                    <a:pt x="3372" y="1368"/>
                  </a:lnTo>
                  <a:lnTo>
                    <a:pt x="3360" y="1440"/>
                  </a:lnTo>
                  <a:lnTo>
                    <a:pt x="3348" y="1476"/>
                  </a:lnTo>
                  <a:lnTo>
                    <a:pt x="3312" y="1476"/>
                  </a:lnTo>
                  <a:lnTo>
                    <a:pt x="3288" y="1440"/>
                  </a:lnTo>
                  <a:lnTo>
                    <a:pt x="3252" y="1440"/>
                  </a:lnTo>
                  <a:lnTo>
                    <a:pt x="3216" y="1428"/>
                  </a:lnTo>
                  <a:lnTo>
                    <a:pt x="3180" y="1428"/>
                  </a:lnTo>
                  <a:lnTo>
                    <a:pt x="3144" y="1452"/>
                  </a:lnTo>
                  <a:lnTo>
                    <a:pt x="3144" y="1488"/>
                  </a:lnTo>
                  <a:lnTo>
                    <a:pt x="3168" y="1524"/>
                  </a:lnTo>
                  <a:lnTo>
                    <a:pt x="3204" y="1560"/>
                  </a:lnTo>
                  <a:lnTo>
                    <a:pt x="3240" y="1596"/>
                  </a:lnTo>
                  <a:lnTo>
                    <a:pt x="3276" y="1620"/>
                  </a:lnTo>
                  <a:lnTo>
                    <a:pt x="3312" y="1644"/>
                  </a:lnTo>
                  <a:lnTo>
                    <a:pt x="3348" y="1680"/>
                  </a:lnTo>
                  <a:lnTo>
                    <a:pt x="3372" y="1716"/>
                  </a:lnTo>
                  <a:lnTo>
                    <a:pt x="3384" y="1764"/>
                  </a:lnTo>
                  <a:lnTo>
                    <a:pt x="3384" y="1800"/>
                  </a:lnTo>
                  <a:lnTo>
                    <a:pt x="3348" y="1836"/>
                  </a:lnTo>
                  <a:lnTo>
                    <a:pt x="3312" y="1872"/>
                  </a:lnTo>
                  <a:lnTo>
                    <a:pt x="3276" y="1896"/>
                  </a:lnTo>
                  <a:lnTo>
                    <a:pt x="3240" y="1908"/>
                  </a:lnTo>
                  <a:lnTo>
                    <a:pt x="3204" y="1920"/>
                  </a:lnTo>
                  <a:lnTo>
                    <a:pt x="3168" y="1920"/>
                  </a:lnTo>
                  <a:lnTo>
                    <a:pt x="3132" y="1920"/>
                  </a:lnTo>
                  <a:lnTo>
                    <a:pt x="3096" y="1920"/>
                  </a:lnTo>
                  <a:lnTo>
                    <a:pt x="3060" y="1920"/>
                  </a:lnTo>
                  <a:lnTo>
                    <a:pt x="3024" y="1908"/>
                  </a:lnTo>
                  <a:lnTo>
                    <a:pt x="3000" y="1872"/>
                  </a:lnTo>
                  <a:lnTo>
                    <a:pt x="2976" y="1836"/>
                  </a:lnTo>
                  <a:lnTo>
                    <a:pt x="2952" y="1800"/>
                  </a:lnTo>
                  <a:lnTo>
                    <a:pt x="2940" y="1764"/>
                  </a:lnTo>
                  <a:lnTo>
                    <a:pt x="2916" y="1728"/>
                  </a:lnTo>
                  <a:lnTo>
                    <a:pt x="2880" y="1704"/>
                  </a:lnTo>
                  <a:lnTo>
                    <a:pt x="2844" y="1704"/>
                  </a:lnTo>
                  <a:lnTo>
                    <a:pt x="2808" y="1728"/>
                  </a:lnTo>
                  <a:lnTo>
                    <a:pt x="2808" y="1764"/>
                  </a:lnTo>
                  <a:lnTo>
                    <a:pt x="2808" y="1800"/>
                  </a:lnTo>
                  <a:lnTo>
                    <a:pt x="2808" y="1836"/>
                  </a:lnTo>
                  <a:lnTo>
                    <a:pt x="2808" y="1872"/>
                  </a:lnTo>
                  <a:lnTo>
                    <a:pt x="2808" y="1908"/>
                  </a:lnTo>
                  <a:lnTo>
                    <a:pt x="2808" y="1944"/>
                  </a:lnTo>
                  <a:lnTo>
                    <a:pt x="2772" y="1956"/>
                  </a:lnTo>
                  <a:lnTo>
                    <a:pt x="2736" y="1968"/>
                  </a:lnTo>
                  <a:lnTo>
                    <a:pt x="2700" y="1980"/>
                  </a:lnTo>
                  <a:lnTo>
                    <a:pt x="2664" y="1992"/>
                  </a:lnTo>
                  <a:lnTo>
                    <a:pt x="2616" y="1992"/>
                  </a:lnTo>
                  <a:lnTo>
                    <a:pt x="2568" y="1992"/>
                  </a:lnTo>
                  <a:lnTo>
                    <a:pt x="2532" y="1992"/>
                  </a:lnTo>
                  <a:lnTo>
                    <a:pt x="2436" y="1992"/>
                  </a:lnTo>
                  <a:lnTo>
                    <a:pt x="2400" y="1992"/>
                  </a:lnTo>
                  <a:lnTo>
                    <a:pt x="2364" y="1992"/>
                  </a:lnTo>
                  <a:lnTo>
                    <a:pt x="2328" y="2004"/>
                  </a:lnTo>
                  <a:lnTo>
                    <a:pt x="2292" y="2004"/>
                  </a:lnTo>
                  <a:lnTo>
                    <a:pt x="2256" y="2004"/>
                  </a:lnTo>
                  <a:lnTo>
                    <a:pt x="2220" y="2004"/>
                  </a:lnTo>
                  <a:lnTo>
                    <a:pt x="2184" y="2004"/>
                  </a:lnTo>
                  <a:lnTo>
                    <a:pt x="2148" y="2004"/>
                  </a:lnTo>
                  <a:lnTo>
                    <a:pt x="2112" y="2004"/>
                  </a:lnTo>
                  <a:lnTo>
                    <a:pt x="2076" y="2004"/>
                  </a:lnTo>
                  <a:lnTo>
                    <a:pt x="2040" y="2004"/>
                  </a:lnTo>
                  <a:lnTo>
                    <a:pt x="1992" y="2004"/>
                  </a:lnTo>
                  <a:lnTo>
                    <a:pt x="1956" y="2004"/>
                  </a:lnTo>
                  <a:lnTo>
                    <a:pt x="1920" y="2016"/>
                  </a:lnTo>
                  <a:lnTo>
                    <a:pt x="1884" y="2016"/>
                  </a:lnTo>
                  <a:lnTo>
                    <a:pt x="1836" y="2016"/>
                  </a:lnTo>
                  <a:lnTo>
                    <a:pt x="1788" y="2016"/>
                  </a:lnTo>
                  <a:lnTo>
                    <a:pt x="1692" y="2016"/>
                  </a:lnTo>
                  <a:lnTo>
                    <a:pt x="1656" y="2016"/>
                  </a:lnTo>
                  <a:lnTo>
                    <a:pt x="1608" y="2016"/>
                  </a:lnTo>
                  <a:lnTo>
                    <a:pt x="1560" y="2016"/>
                  </a:lnTo>
                  <a:lnTo>
                    <a:pt x="1524" y="2016"/>
                  </a:lnTo>
                  <a:lnTo>
                    <a:pt x="1452" y="2016"/>
                  </a:lnTo>
                  <a:lnTo>
                    <a:pt x="1416" y="2016"/>
                  </a:lnTo>
                  <a:lnTo>
                    <a:pt x="1380" y="2016"/>
                  </a:lnTo>
                  <a:lnTo>
                    <a:pt x="1344" y="2016"/>
                  </a:lnTo>
                  <a:lnTo>
                    <a:pt x="1308" y="2016"/>
                  </a:lnTo>
                  <a:lnTo>
                    <a:pt x="1272" y="2016"/>
                  </a:lnTo>
                  <a:lnTo>
                    <a:pt x="1188" y="2016"/>
                  </a:lnTo>
                  <a:lnTo>
                    <a:pt x="1116" y="2016"/>
                  </a:lnTo>
                  <a:lnTo>
                    <a:pt x="1044" y="2016"/>
                  </a:lnTo>
                  <a:lnTo>
                    <a:pt x="1008" y="2016"/>
                  </a:lnTo>
                  <a:lnTo>
                    <a:pt x="972" y="2004"/>
                  </a:lnTo>
                  <a:lnTo>
                    <a:pt x="936" y="1992"/>
                  </a:lnTo>
                  <a:lnTo>
                    <a:pt x="900" y="1992"/>
                  </a:lnTo>
                  <a:lnTo>
                    <a:pt x="864" y="1992"/>
                  </a:lnTo>
                  <a:lnTo>
                    <a:pt x="828" y="1980"/>
                  </a:lnTo>
                  <a:lnTo>
                    <a:pt x="792" y="1956"/>
                  </a:lnTo>
                  <a:lnTo>
                    <a:pt x="756" y="1944"/>
                  </a:lnTo>
                  <a:lnTo>
                    <a:pt x="708" y="1944"/>
                  </a:lnTo>
                  <a:lnTo>
                    <a:pt x="636" y="1944"/>
                  </a:lnTo>
                  <a:lnTo>
                    <a:pt x="600" y="1944"/>
                  </a:lnTo>
                  <a:lnTo>
                    <a:pt x="552" y="1944"/>
                  </a:lnTo>
                  <a:lnTo>
                    <a:pt x="516" y="1944"/>
                  </a:lnTo>
                  <a:lnTo>
                    <a:pt x="480" y="1944"/>
                  </a:lnTo>
                  <a:lnTo>
                    <a:pt x="444" y="1944"/>
                  </a:lnTo>
                  <a:lnTo>
                    <a:pt x="408" y="1944"/>
                  </a:lnTo>
                  <a:lnTo>
                    <a:pt x="372" y="1944"/>
                  </a:lnTo>
                  <a:lnTo>
                    <a:pt x="336" y="1944"/>
                  </a:lnTo>
                  <a:lnTo>
                    <a:pt x="300" y="1920"/>
                  </a:lnTo>
                  <a:lnTo>
                    <a:pt x="276" y="1884"/>
                  </a:lnTo>
                  <a:lnTo>
                    <a:pt x="276" y="1848"/>
                  </a:lnTo>
                  <a:lnTo>
                    <a:pt x="276" y="1812"/>
                  </a:lnTo>
                  <a:lnTo>
                    <a:pt x="276" y="1776"/>
                  </a:lnTo>
                  <a:lnTo>
                    <a:pt x="288" y="1740"/>
                  </a:lnTo>
                  <a:lnTo>
                    <a:pt x="324" y="1716"/>
                  </a:lnTo>
                  <a:lnTo>
                    <a:pt x="360" y="1692"/>
                  </a:lnTo>
                  <a:lnTo>
                    <a:pt x="396" y="1668"/>
                  </a:lnTo>
                  <a:lnTo>
                    <a:pt x="432" y="1644"/>
                  </a:lnTo>
                  <a:lnTo>
                    <a:pt x="456" y="1608"/>
                  </a:lnTo>
                  <a:lnTo>
                    <a:pt x="468" y="1572"/>
                  </a:lnTo>
                  <a:lnTo>
                    <a:pt x="444" y="1536"/>
                  </a:lnTo>
                  <a:lnTo>
                    <a:pt x="408" y="1512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36"/>
                  </a:lnTo>
                  <a:lnTo>
                    <a:pt x="264" y="1560"/>
                  </a:lnTo>
                  <a:lnTo>
                    <a:pt x="228" y="1572"/>
                  </a:lnTo>
                  <a:lnTo>
                    <a:pt x="180" y="1596"/>
                  </a:lnTo>
                  <a:lnTo>
                    <a:pt x="144" y="1608"/>
                  </a:lnTo>
                  <a:lnTo>
                    <a:pt x="108" y="1608"/>
                  </a:lnTo>
                  <a:lnTo>
                    <a:pt x="84" y="1572"/>
                  </a:lnTo>
                  <a:lnTo>
                    <a:pt x="72" y="1536"/>
                  </a:lnTo>
                  <a:lnTo>
                    <a:pt x="60" y="1500"/>
                  </a:lnTo>
                  <a:lnTo>
                    <a:pt x="60" y="1464"/>
                  </a:lnTo>
                  <a:lnTo>
                    <a:pt x="72" y="1428"/>
                  </a:lnTo>
                  <a:lnTo>
                    <a:pt x="108" y="1416"/>
                  </a:lnTo>
                  <a:lnTo>
                    <a:pt x="120" y="1380"/>
                  </a:lnTo>
                  <a:lnTo>
                    <a:pt x="144" y="1344"/>
                  </a:lnTo>
                  <a:lnTo>
                    <a:pt x="156" y="1308"/>
                  </a:lnTo>
                  <a:lnTo>
                    <a:pt x="144" y="1272"/>
                  </a:lnTo>
                  <a:lnTo>
                    <a:pt x="108" y="1260"/>
                  </a:lnTo>
                  <a:lnTo>
                    <a:pt x="72" y="1260"/>
                  </a:lnTo>
                  <a:lnTo>
                    <a:pt x="36" y="1296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0" y="1224"/>
                  </a:lnTo>
                  <a:lnTo>
                    <a:pt x="0" y="1188"/>
                  </a:lnTo>
                  <a:lnTo>
                    <a:pt x="0" y="1152"/>
                  </a:lnTo>
                  <a:lnTo>
                    <a:pt x="0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12" y="864"/>
                  </a:lnTo>
                  <a:lnTo>
                    <a:pt x="12" y="828"/>
                  </a:lnTo>
                  <a:lnTo>
                    <a:pt x="12" y="792"/>
                  </a:lnTo>
                  <a:lnTo>
                    <a:pt x="12" y="756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24" y="576"/>
                  </a:lnTo>
                  <a:lnTo>
                    <a:pt x="24" y="540"/>
                  </a:lnTo>
                  <a:lnTo>
                    <a:pt x="24" y="504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24" y="396"/>
                  </a:lnTo>
                  <a:lnTo>
                    <a:pt x="24" y="360"/>
                  </a:lnTo>
                  <a:lnTo>
                    <a:pt x="12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60" y="228"/>
                  </a:lnTo>
                  <a:lnTo>
                    <a:pt x="84" y="192"/>
                  </a:lnTo>
                  <a:lnTo>
                    <a:pt x="120" y="180"/>
                  </a:lnTo>
                  <a:lnTo>
                    <a:pt x="156" y="168"/>
                  </a:lnTo>
                  <a:lnTo>
                    <a:pt x="192" y="168"/>
                  </a:lnTo>
                  <a:lnTo>
                    <a:pt x="228" y="156"/>
                  </a:lnTo>
                  <a:lnTo>
                    <a:pt x="264" y="132"/>
                  </a:lnTo>
                  <a:lnTo>
                    <a:pt x="312" y="108"/>
                  </a:lnTo>
                  <a:lnTo>
                    <a:pt x="348" y="108"/>
                  </a:lnTo>
                  <a:lnTo>
                    <a:pt x="348" y="144"/>
                  </a:lnTo>
                  <a:lnTo>
                    <a:pt x="360" y="180"/>
                  </a:lnTo>
                  <a:lnTo>
                    <a:pt x="360" y="216"/>
                  </a:lnTo>
                  <a:lnTo>
                    <a:pt x="372" y="252"/>
                  </a:lnTo>
                  <a:lnTo>
                    <a:pt x="408" y="288"/>
                  </a:lnTo>
                  <a:lnTo>
                    <a:pt x="444" y="300"/>
                  </a:lnTo>
                  <a:lnTo>
                    <a:pt x="480" y="276"/>
                  </a:lnTo>
                  <a:lnTo>
                    <a:pt x="480" y="240"/>
                  </a:lnTo>
                  <a:lnTo>
                    <a:pt x="492" y="204"/>
                  </a:lnTo>
                  <a:lnTo>
                    <a:pt x="492" y="168"/>
                  </a:lnTo>
                  <a:lnTo>
                    <a:pt x="468" y="132"/>
                  </a:lnTo>
                  <a:lnTo>
                    <a:pt x="444" y="96"/>
                  </a:lnTo>
                  <a:lnTo>
                    <a:pt x="444" y="60"/>
                  </a:lnTo>
                  <a:lnTo>
                    <a:pt x="480" y="48"/>
                  </a:lnTo>
                  <a:lnTo>
                    <a:pt x="516" y="36"/>
                  </a:lnTo>
                  <a:lnTo>
                    <a:pt x="552" y="24"/>
                  </a:lnTo>
                  <a:lnTo>
                    <a:pt x="588" y="24"/>
                  </a:lnTo>
                  <a:lnTo>
                    <a:pt x="612" y="60"/>
                  </a:lnTo>
                  <a:lnTo>
                    <a:pt x="624" y="96"/>
                  </a:lnTo>
                  <a:lnTo>
                    <a:pt x="636" y="132"/>
                  </a:lnTo>
                  <a:lnTo>
                    <a:pt x="648" y="180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720" y="312"/>
                  </a:lnTo>
                  <a:lnTo>
                    <a:pt x="744" y="360"/>
                  </a:lnTo>
                  <a:lnTo>
                    <a:pt x="768" y="396"/>
                  </a:lnTo>
                  <a:lnTo>
                    <a:pt x="804" y="408"/>
                  </a:lnTo>
                  <a:lnTo>
                    <a:pt x="840" y="408"/>
                  </a:lnTo>
                  <a:lnTo>
                    <a:pt x="852" y="372"/>
                  </a:lnTo>
                  <a:lnTo>
                    <a:pt x="852" y="336"/>
                  </a:lnTo>
                  <a:lnTo>
                    <a:pt x="852" y="288"/>
                  </a:lnTo>
                  <a:lnTo>
                    <a:pt x="852" y="240"/>
                  </a:lnTo>
                  <a:lnTo>
                    <a:pt x="840" y="204"/>
                  </a:lnTo>
                  <a:lnTo>
                    <a:pt x="828" y="168"/>
                  </a:lnTo>
                  <a:lnTo>
                    <a:pt x="828" y="132"/>
                  </a:lnTo>
                  <a:lnTo>
                    <a:pt x="828" y="96"/>
                  </a:lnTo>
                  <a:lnTo>
                    <a:pt x="804" y="60"/>
                  </a:lnTo>
                  <a:lnTo>
                    <a:pt x="792" y="24"/>
                  </a:lnTo>
                  <a:lnTo>
                    <a:pt x="828" y="0"/>
                  </a:lnTo>
                  <a:lnTo>
                    <a:pt x="864" y="0"/>
                  </a:lnTo>
                  <a:lnTo>
                    <a:pt x="900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972" y="36"/>
                  </a:lnTo>
                  <a:lnTo>
                    <a:pt x="972" y="72"/>
                  </a:lnTo>
                  <a:lnTo>
                    <a:pt x="972" y="108"/>
                  </a:lnTo>
                  <a:lnTo>
                    <a:pt x="972" y="156"/>
                  </a:lnTo>
                  <a:lnTo>
                    <a:pt x="984" y="192"/>
                  </a:lnTo>
                  <a:lnTo>
                    <a:pt x="1008" y="240"/>
                  </a:lnTo>
                  <a:lnTo>
                    <a:pt x="1020" y="288"/>
                  </a:lnTo>
                  <a:lnTo>
                    <a:pt x="1056" y="324"/>
                  </a:lnTo>
                  <a:lnTo>
                    <a:pt x="1092" y="360"/>
                  </a:lnTo>
                  <a:lnTo>
                    <a:pt x="1128" y="372"/>
                  </a:lnTo>
                  <a:lnTo>
                    <a:pt x="1164" y="372"/>
                  </a:lnTo>
                  <a:lnTo>
                    <a:pt x="1188" y="336"/>
                  </a:lnTo>
                  <a:lnTo>
                    <a:pt x="1200" y="288"/>
                  </a:lnTo>
                  <a:lnTo>
                    <a:pt x="1200" y="252"/>
                  </a:lnTo>
                  <a:lnTo>
                    <a:pt x="1200" y="216"/>
                  </a:lnTo>
                  <a:lnTo>
                    <a:pt x="1200" y="180"/>
                  </a:lnTo>
                  <a:lnTo>
                    <a:pt x="1176" y="144"/>
                  </a:lnTo>
                  <a:lnTo>
                    <a:pt x="1176" y="108"/>
                  </a:lnTo>
                  <a:lnTo>
                    <a:pt x="1164" y="72"/>
                  </a:lnTo>
                  <a:lnTo>
                    <a:pt x="1164" y="36"/>
                  </a:lnTo>
                  <a:lnTo>
                    <a:pt x="1200" y="12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  <a:lnTo>
                    <a:pt x="1560" y="12"/>
                  </a:lnTo>
                  <a:lnTo>
                    <a:pt x="1608" y="12"/>
                  </a:lnTo>
                  <a:lnTo>
                    <a:pt x="1704" y="24"/>
                  </a:lnTo>
                  <a:lnTo>
                    <a:pt x="1776" y="36"/>
                  </a:lnTo>
                  <a:lnTo>
                    <a:pt x="1848" y="48"/>
                  </a:lnTo>
                  <a:lnTo>
                    <a:pt x="1920" y="48"/>
                  </a:lnTo>
                  <a:lnTo>
                    <a:pt x="1968" y="60"/>
                  </a:lnTo>
                  <a:lnTo>
                    <a:pt x="2004" y="72"/>
                  </a:lnTo>
                  <a:lnTo>
                    <a:pt x="2052" y="72"/>
                  </a:lnTo>
                  <a:lnTo>
                    <a:pt x="2088" y="84"/>
                  </a:lnTo>
                  <a:lnTo>
                    <a:pt x="2124" y="84"/>
                  </a:lnTo>
                  <a:lnTo>
                    <a:pt x="2160" y="96"/>
                  </a:lnTo>
                  <a:lnTo>
                    <a:pt x="2196" y="96"/>
                  </a:lnTo>
                  <a:lnTo>
                    <a:pt x="2232" y="108"/>
                  </a:lnTo>
                  <a:lnTo>
                    <a:pt x="2268" y="108"/>
                  </a:lnTo>
                  <a:lnTo>
                    <a:pt x="2304" y="120"/>
                  </a:lnTo>
                  <a:lnTo>
                    <a:pt x="2352" y="132"/>
                  </a:lnTo>
                  <a:lnTo>
                    <a:pt x="2388" y="144"/>
                  </a:lnTo>
                  <a:lnTo>
                    <a:pt x="2424" y="156"/>
                  </a:lnTo>
                  <a:lnTo>
                    <a:pt x="2460" y="156"/>
                  </a:lnTo>
                  <a:lnTo>
                    <a:pt x="2496" y="168"/>
                  </a:lnTo>
                  <a:lnTo>
                    <a:pt x="2532" y="168"/>
                  </a:lnTo>
                  <a:lnTo>
                    <a:pt x="2580" y="180"/>
                  </a:lnTo>
                  <a:lnTo>
                    <a:pt x="2616" y="192"/>
                  </a:lnTo>
                  <a:lnTo>
                    <a:pt x="2652" y="192"/>
                  </a:lnTo>
                  <a:lnTo>
                    <a:pt x="2688" y="204"/>
                  </a:lnTo>
                  <a:lnTo>
                    <a:pt x="2724" y="204"/>
                  </a:lnTo>
                  <a:lnTo>
                    <a:pt x="2760" y="216"/>
                  </a:lnTo>
                  <a:lnTo>
                    <a:pt x="2796" y="228"/>
                  </a:lnTo>
                  <a:lnTo>
                    <a:pt x="2832" y="240"/>
                  </a:lnTo>
                  <a:lnTo>
                    <a:pt x="2868" y="252"/>
                  </a:lnTo>
                  <a:lnTo>
                    <a:pt x="2904" y="264"/>
                  </a:lnTo>
                  <a:lnTo>
                    <a:pt x="2952" y="276"/>
                  </a:lnTo>
                  <a:lnTo>
                    <a:pt x="2988" y="288"/>
                  </a:lnTo>
                  <a:lnTo>
                    <a:pt x="3024" y="312"/>
                  </a:lnTo>
                  <a:lnTo>
                    <a:pt x="3060" y="336"/>
                  </a:lnTo>
                  <a:lnTo>
                    <a:pt x="3096" y="360"/>
                  </a:lnTo>
                  <a:lnTo>
                    <a:pt x="3132" y="384"/>
                  </a:lnTo>
                  <a:lnTo>
                    <a:pt x="3168" y="408"/>
                  </a:lnTo>
                  <a:lnTo>
                    <a:pt x="3204" y="432"/>
                  </a:lnTo>
                  <a:lnTo>
                    <a:pt x="3216" y="468"/>
                  </a:lnTo>
                  <a:lnTo>
                    <a:pt x="3168" y="504"/>
                  </a:lnTo>
                  <a:lnTo>
                    <a:pt x="3132" y="516"/>
                  </a:lnTo>
                  <a:lnTo>
                    <a:pt x="3096" y="540"/>
                  </a:lnTo>
                  <a:lnTo>
                    <a:pt x="3060" y="564"/>
                  </a:lnTo>
                  <a:lnTo>
                    <a:pt x="3024" y="588"/>
                  </a:lnTo>
                  <a:lnTo>
                    <a:pt x="2988" y="636"/>
                  </a:lnTo>
                  <a:lnTo>
                    <a:pt x="2964" y="672"/>
                  </a:lnTo>
                  <a:lnTo>
                    <a:pt x="2952" y="708"/>
                  </a:lnTo>
                  <a:lnTo>
                    <a:pt x="2940" y="744"/>
                  </a:lnTo>
                  <a:lnTo>
                    <a:pt x="2928" y="780"/>
                  </a:lnTo>
                  <a:lnTo>
                    <a:pt x="2964" y="780"/>
                  </a:lnTo>
                  <a:lnTo>
                    <a:pt x="3000" y="780"/>
                  </a:lnTo>
                  <a:lnTo>
                    <a:pt x="3036" y="768"/>
                  </a:lnTo>
                  <a:lnTo>
                    <a:pt x="3072" y="744"/>
                  </a:lnTo>
                  <a:lnTo>
                    <a:pt x="3108" y="720"/>
                  </a:lnTo>
                  <a:lnTo>
                    <a:pt x="3144" y="684"/>
                  </a:lnTo>
                  <a:lnTo>
                    <a:pt x="3168" y="648"/>
                  </a:lnTo>
                  <a:lnTo>
                    <a:pt x="3204" y="612"/>
                  </a:lnTo>
                  <a:lnTo>
                    <a:pt x="3240" y="576"/>
                  </a:lnTo>
                  <a:lnTo>
                    <a:pt x="3276" y="552"/>
                  </a:lnTo>
                  <a:lnTo>
                    <a:pt x="3312" y="552"/>
                  </a:lnTo>
                  <a:lnTo>
                    <a:pt x="3348" y="552"/>
                  </a:lnTo>
                  <a:lnTo>
                    <a:pt x="3384" y="576"/>
                  </a:lnTo>
                  <a:lnTo>
                    <a:pt x="3420" y="600"/>
                  </a:lnTo>
                  <a:lnTo>
                    <a:pt x="3432" y="636"/>
                  </a:lnTo>
                  <a:lnTo>
                    <a:pt x="3432" y="672"/>
                  </a:lnTo>
                  <a:lnTo>
                    <a:pt x="3396" y="696"/>
                  </a:lnTo>
                  <a:lnTo>
                    <a:pt x="3360" y="708"/>
                  </a:lnTo>
                  <a:lnTo>
                    <a:pt x="3312" y="732"/>
                  </a:lnTo>
                  <a:lnTo>
                    <a:pt x="3276" y="756"/>
                  </a:lnTo>
                  <a:lnTo>
                    <a:pt x="3228" y="792"/>
                  </a:lnTo>
                  <a:lnTo>
                    <a:pt x="3192" y="828"/>
                  </a:lnTo>
                  <a:lnTo>
                    <a:pt x="3156" y="852"/>
                  </a:lnTo>
                  <a:lnTo>
                    <a:pt x="3132" y="888"/>
                  </a:lnTo>
                  <a:lnTo>
                    <a:pt x="3120" y="924"/>
                  </a:lnTo>
                  <a:lnTo>
                    <a:pt x="3156" y="948"/>
                  </a:lnTo>
                  <a:lnTo>
                    <a:pt x="3204" y="936"/>
                  </a:lnTo>
                  <a:lnTo>
                    <a:pt x="3240" y="912"/>
                  </a:lnTo>
                  <a:lnTo>
                    <a:pt x="3276" y="888"/>
                  </a:lnTo>
                  <a:lnTo>
                    <a:pt x="3300" y="852"/>
                  </a:lnTo>
                  <a:lnTo>
                    <a:pt x="3336" y="828"/>
                  </a:lnTo>
                  <a:lnTo>
                    <a:pt x="3372" y="816"/>
                  </a:lnTo>
                  <a:lnTo>
                    <a:pt x="3408" y="816"/>
                  </a:lnTo>
                  <a:lnTo>
                    <a:pt x="3444" y="804"/>
                  </a:lnTo>
                  <a:lnTo>
                    <a:pt x="3480" y="804"/>
                  </a:lnTo>
                  <a:lnTo>
                    <a:pt x="3528" y="828"/>
                  </a:lnTo>
                  <a:lnTo>
                    <a:pt x="3552" y="864"/>
                  </a:lnTo>
                  <a:lnTo>
                    <a:pt x="3552" y="900"/>
                  </a:lnTo>
                  <a:lnTo>
                    <a:pt x="3552" y="936"/>
                  </a:lnTo>
                  <a:lnTo>
                    <a:pt x="3528" y="972"/>
                  </a:lnTo>
                  <a:lnTo>
                    <a:pt x="3516" y="1008"/>
                  </a:lnTo>
                  <a:lnTo>
                    <a:pt x="3504" y="1044"/>
                  </a:lnTo>
                  <a:lnTo>
                    <a:pt x="3480" y="1080"/>
                  </a:lnTo>
                  <a:lnTo>
                    <a:pt x="3456" y="1116"/>
                  </a:lnTo>
                  <a:lnTo>
                    <a:pt x="3420" y="1128"/>
                  </a:lnTo>
                  <a:lnTo>
                    <a:pt x="3384" y="1128"/>
                  </a:lnTo>
                  <a:lnTo>
                    <a:pt x="3336" y="1140"/>
                  </a:lnTo>
                  <a:lnTo>
                    <a:pt x="3288" y="1152"/>
                  </a:lnTo>
                  <a:lnTo>
                    <a:pt x="3252" y="1176"/>
                  </a:lnTo>
                  <a:lnTo>
                    <a:pt x="3216" y="1200"/>
                  </a:lnTo>
                  <a:lnTo>
                    <a:pt x="3252" y="1224"/>
                  </a:lnTo>
                  <a:lnTo>
                    <a:pt x="3288" y="1224"/>
                  </a:lnTo>
                  <a:lnTo>
                    <a:pt x="3324" y="1224"/>
                  </a:lnTo>
                  <a:lnTo>
                    <a:pt x="3360" y="1224"/>
                  </a:lnTo>
                  <a:lnTo>
                    <a:pt x="3396" y="1224"/>
                  </a:lnTo>
                  <a:lnTo>
                    <a:pt x="3396" y="1212"/>
                  </a:lnTo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7"/>
            <p:cNvSpPr/>
            <p:nvPr/>
          </p:nvSpPr>
          <p:spPr>
            <a:xfrm>
              <a:off x="215640" y="1828800"/>
              <a:ext cx="97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8"/>
            <p:cNvSpPr/>
            <p:nvPr/>
          </p:nvSpPr>
          <p:spPr>
            <a:xfrm>
              <a:off x="82440" y="2825640"/>
              <a:ext cx="1206720" cy="444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9"/>
            <p:cNvSpPr/>
            <p:nvPr/>
          </p:nvSpPr>
          <p:spPr>
            <a:xfrm>
              <a:off x="63720" y="289548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AutoShape 10"/>
            <p:cNvSpPr/>
            <p:nvPr/>
          </p:nvSpPr>
          <p:spPr>
            <a:xfrm flipH="1" rot="16200000">
              <a:off x="349200" y="2330280"/>
              <a:ext cx="596880" cy="216000"/>
            </a:xfrm>
            <a:prstGeom prst="rightArrow">
              <a:avLst>
                <a:gd name="adj1" fmla="val 50000"/>
                <a:gd name="adj2" fmla="val 138205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Rectangle 11"/>
            <p:cNvSpPr/>
            <p:nvPr/>
          </p:nvSpPr>
          <p:spPr>
            <a:xfrm>
              <a:off x="2216160" y="5797440"/>
              <a:ext cx="6311880" cy="596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1" name="Rectangle 12"/>
            <p:cNvSpPr/>
            <p:nvPr/>
          </p:nvSpPr>
          <p:spPr>
            <a:xfrm>
              <a:off x="2192040" y="5899320"/>
              <a:ext cx="619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TP      4ATP   6ATP    18ATP        4ATP       2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247680" y="3429000"/>
              <a:ext cx="1887480" cy="2649600"/>
            </a:xfrm>
            <a:custGeom>
              <a:avLst/>
              <a:gdLst>
                <a:gd name="textAreaLeft" fmla="*/ 0 w 1887480"/>
                <a:gd name="textAreaRight" fmla="*/ 1887840 w 1887480"/>
                <a:gd name="textAreaTop" fmla="*/ 0 h 2649600"/>
                <a:gd name="textAreaBottom" fmla="*/ 2649600 h 2649600"/>
              </a:gdLst>
              <a:ahLst/>
              <a:rect l="textAreaLeft" t="textAreaTop" r="textAreaRight" b="textAreaBottom"/>
              <a:pathLst>
                <a:path w="1189" h="1669">
                  <a:moveTo>
                    <a:pt x="36" y="0"/>
                  </a:moveTo>
                  <a:lnTo>
                    <a:pt x="12" y="36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12" y="540"/>
                  </a:lnTo>
                  <a:lnTo>
                    <a:pt x="12" y="588"/>
                  </a:lnTo>
                  <a:lnTo>
                    <a:pt x="24" y="624"/>
                  </a:lnTo>
                  <a:lnTo>
                    <a:pt x="36" y="660"/>
                  </a:lnTo>
                  <a:lnTo>
                    <a:pt x="48" y="696"/>
                  </a:lnTo>
                  <a:lnTo>
                    <a:pt x="60" y="732"/>
                  </a:lnTo>
                  <a:lnTo>
                    <a:pt x="72" y="768"/>
                  </a:lnTo>
                  <a:lnTo>
                    <a:pt x="96" y="816"/>
                  </a:lnTo>
                  <a:lnTo>
                    <a:pt x="120" y="864"/>
                  </a:lnTo>
                  <a:lnTo>
                    <a:pt x="156" y="912"/>
                  </a:lnTo>
                  <a:lnTo>
                    <a:pt x="180" y="960"/>
                  </a:lnTo>
                  <a:lnTo>
                    <a:pt x="204" y="996"/>
                  </a:lnTo>
                  <a:lnTo>
                    <a:pt x="240" y="1032"/>
                  </a:lnTo>
                  <a:lnTo>
                    <a:pt x="276" y="1080"/>
                  </a:lnTo>
                  <a:lnTo>
                    <a:pt x="324" y="1116"/>
                  </a:lnTo>
                  <a:lnTo>
                    <a:pt x="360" y="1152"/>
                  </a:lnTo>
                  <a:lnTo>
                    <a:pt x="408" y="1188"/>
                  </a:lnTo>
                  <a:lnTo>
                    <a:pt x="456" y="1224"/>
                  </a:lnTo>
                  <a:lnTo>
                    <a:pt x="492" y="1260"/>
                  </a:lnTo>
                  <a:lnTo>
                    <a:pt x="528" y="1284"/>
                  </a:lnTo>
                  <a:lnTo>
                    <a:pt x="564" y="1308"/>
                  </a:lnTo>
                  <a:lnTo>
                    <a:pt x="600" y="1344"/>
                  </a:lnTo>
                  <a:lnTo>
                    <a:pt x="636" y="1356"/>
                  </a:lnTo>
                  <a:lnTo>
                    <a:pt x="672" y="1380"/>
                  </a:lnTo>
                  <a:lnTo>
                    <a:pt x="720" y="1416"/>
                  </a:lnTo>
                  <a:lnTo>
                    <a:pt x="756" y="1440"/>
                  </a:lnTo>
                  <a:lnTo>
                    <a:pt x="792" y="1464"/>
                  </a:lnTo>
                  <a:lnTo>
                    <a:pt x="828" y="1488"/>
                  </a:lnTo>
                  <a:lnTo>
                    <a:pt x="876" y="1512"/>
                  </a:lnTo>
                  <a:lnTo>
                    <a:pt x="912" y="1536"/>
                  </a:lnTo>
                  <a:lnTo>
                    <a:pt x="948" y="1560"/>
                  </a:lnTo>
                  <a:lnTo>
                    <a:pt x="996" y="1584"/>
                  </a:lnTo>
                  <a:lnTo>
                    <a:pt x="1032" y="1596"/>
                  </a:lnTo>
                  <a:lnTo>
                    <a:pt x="1080" y="1620"/>
                  </a:lnTo>
                  <a:lnTo>
                    <a:pt x="1116" y="1644"/>
                  </a:lnTo>
                  <a:lnTo>
                    <a:pt x="1152" y="1656"/>
                  </a:lnTo>
                  <a:lnTo>
                    <a:pt x="1188" y="166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4"/>
            <p:cNvSpPr/>
            <p:nvPr/>
          </p:nvSpPr>
          <p:spPr>
            <a:xfrm>
              <a:off x="57960" y="544212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Rectangle 15"/>
            <p:cNvSpPr/>
            <p:nvPr/>
          </p:nvSpPr>
          <p:spPr>
            <a:xfrm>
              <a:off x="1149480" y="434988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6"/>
            <p:cNvSpPr/>
            <p:nvPr/>
          </p:nvSpPr>
          <p:spPr>
            <a:xfrm>
              <a:off x="1127880" y="437508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7"/>
            <p:cNvSpPr/>
            <p:nvPr/>
          </p:nvSpPr>
          <p:spPr>
            <a:xfrm>
              <a:off x="3359160" y="358776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8"/>
            <p:cNvSpPr/>
            <p:nvPr/>
          </p:nvSpPr>
          <p:spPr>
            <a:xfrm>
              <a:off x="3337560" y="361332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Rectangle 19"/>
            <p:cNvSpPr/>
            <p:nvPr/>
          </p:nvSpPr>
          <p:spPr>
            <a:xfrm>
              <a:off x="4883040" y="3968640"/>
              <a:ext cx="97812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Rectangle 20"/>
            <p:cNvSpPr/>
            <p:nvPr/>
          </p:nvSpPr>
          <p:spPr>
            <a:xfrm>
              <a:off x="4861440" y="39942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Oval 21"/>
            <p:cNvSpPr/>
            <p:nvPr/>
          </p:nvSpPr>
          <p:spPr>
            <a:xfrm>
              <a:off x="5187960" y="2597040"/>
              <a:ext cx="1282680" cy="113040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5394960" y="2851200"/>
              <a:ext cx="9039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23"/>
            <p:cNvSpPr/>
            <p:nvPr/>
          </p:nvSpPr>
          <p:spPr>
            <a:xfrm>
              <a:off x="6102360" y="3968640"/>
              <a:ext cx="113040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Rectangle 24"/>
            <p:cNvSpPr/>
            <p:nvPr/>
          </p:nvSpPr>
          <p:spPr>
            <a:xfrm>
              <a:off x="6081840" y="3994200"/>
              <a:ext cx="12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FADH</a:t>
              </a:r>
              <a:r>
                <a:rPr b="1" lang="en-US" sz="1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Rectangle 25"/>
            <p:cNvSpPr/>
            <p:nvPr/>
          </p:nvSpPr>
          <p:spPr>
            <a:xfrm>
              <a:off x="7296840" y="368928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26"/>
            <p:cNvSpPr/>
            <p:nvPr/>
          </p:nvSpPr>
          <p:spPr>
            <a:xfrm>
              <a:off x="1378080" y="3282840"/>
              <a:ext cx="1282680" cy="444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27"/>
            <p:cNvSpPr/>
            <p:nvPr/>
          </p:nvSpPr>
          <p:spPr>
            <a:xfrm>
              <a:off x="1357920" y="3330720"/>
              <a:ext cx="133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Freeform 28"/>
            <p:cNvSpPr/>
            <p:nvPr/>
          </p:nvSpPr>
          <p:spPr>
            <a:xfrm>
              <a:off x="990720" y="3352680"/>
              <a:ext cx="325440" cy="1731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05" h="109">
                  <a:moveTo>
                    <a:pt x="0" y="0"/>
                  </a:moveTo>
                  <a:lnTo>
                    <a:pt x="24" y="36"/>
                  </a:lnTo>
                  <a:lnTo>
                    <a:pt x="60" y="60"/>
                  </a:lnTo>
                  <a:lnTo>
                    <a:pt x="96" y="72"/>
                  </a:lnTo>
                  <a:lnTo>
                    <a:pt x="132" y="84"/>
                  </a:lnTo>
                  <a:lnTo>
                    <a:pt x="168" y="96"/>
                  </a:lnTo>
                  <a:lnTo>
                    <a:pt x="204" y="10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Rectangle 29"/>
            <p:cNvSpPr/>
            <p:nvPr/>
          </p:nvSpPr>
          <p:spPr>
            <a:xfrm>
              <a:off x="3130560" y="2901960"/>
              <a:ext cx="1511280" cy="44460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Rectangle 30"/>
            <p:cNvSpPr/>
            <p:nvPr/>
          </p:nvSpPr>
          <p:spPr>
            <a:xfrm>
              <a:off x="3110040" y="2949480"/>
              <a:ext cx="168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Acetyl Co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Freeform 31"/>
            <p:cNvSpPr/>
            <p:nvPr/>
          </p:nvSpPr>
          <p:spPr>
            <a:xfrm>
              <a:off x="4648320" y="3124080"/>
              <a:ext cx="515880" cy="208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5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Freeform 32"/>
            <p:cNvSpPr/>
            <p:nvPr/>
          </p:nvSpPr>
          <p:spPr>
            <a:xfrm>
              <a:off x="2666880" y="3181320"/>
              <a:ext cx="439920" cy="3254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77" h="205">
                  <a:moveTo>
                    <a:pt x="0" y="204"/>
                  </a:moveTo>
                  <a:lnTo>
                    <a:pt x="36" y="192"/>
                  </a:lnTo>
                  <a:lnTo>
                    <a:pt x="72" y="156"/>
                  </a:lnTo>
                  <a:lnTo>
                    <a:pt x="108" y="132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60"/>
                  </a:lnTo>
                  <a:lnTo>
                    <a:pt x="252" y="36"/>
                  </a:lnTo>
                  <a:lnTo>
                    <a:pt x="276" y="0"/>
                  </a:lnTo>
                </a:path>
              </a:pathLst>
            </a:custGeom>
            <a:noFill/>
            <a:ln cap="rnd"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33"/>
            <p:cNvSpPr/>
            <p:nvPr/>
          </p:nvSpPr>
          <p:spPr>
            <a:xfrm>
              <a:off x="3664080" y="4654440"/>
              <a:ext cx="3492360" cy="82548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Rectangle 34"/>
            <p:cNvSpPr/>
            <p:nvPr/>
          </p:nvSpPr>
          <p:spPr>
            <a:xfrm>
              <a:off x="4174200" y="4756320"/>
              <a:ext cx="2429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C and Oxid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4" name="Freeform 35"/>
            <p:cNvSpPr/>
            <p:nvPr/>
          </p:nvSpPr>
          <p:spPr>
            <a:xfrm>
              <a:off x="6477120" y="3105000"/>
              <a:ext cx="1087200" cy="59220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5" h="373">
                  <a:moveTo>
                    <a:pt x="0" y="1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28" y="0"/>
                  </a:lnTo>
                  <a:lnTo>
                    <a:pt x="564" y="0"/>
                  </a:lnTo>
                  <a:lnTo>
                    <a:pt x="600" y="24"/>
                  </a:lnTo>
                  <a:lnTo>
                    <a:pt x="636" y="48"/>
                  </a:lnTo>
                  <a:lnTo>
                    <a:pt x="660" y="84"/>
                  </a:lnTo>
                  <a:lnTo>
                    <a:pt x="672" y="120"/>
                  </a:lnTo>
                  <a:lnTo>
                    <a:pt x="684" y="156"/>
                  </a:lnTo>
                  <a:lnTo>
                    <a:pt x="684" y="192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Line 36"/>
            <p:cNvSpPr/>
            <p:nvPr/>
          </p:nvSpPr>
          <p:spPr>
            <a:xfrm>
              <a:off x="7748640" y="4548240"/>
              <a:ext cx="201600" cy="134460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Line 37"/>
            <p:cNvSpPr/>
            <p:nvPr/>
          </p:nvSpPr>
          <p:spPr>
            <a:xfrm>
              <a:off x="2185920" y="4624560"/>
              <a:ext cx="1573200" cy="5824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7" name="Line 38"/>
            <p:cNvSpPr/>
            <p:nvPr/>
          </p:nvSpPr>
          <p:spPr>
            <a:xfrm flipH="1">
              <a:off x="3607920" y="5310360"/>
              <a:ext cx="252360" cy="506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Line 39"/>
            <p:cNvSpPr/>
            <p:nvPr/>
          </p:nvSpPr>
          <p:spPr>
            <a:xfrm>
              <a:off x="3809880" y="3962520"/>
              <a:ext cx="482760" cy="1930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Line 40"/>
            <p:cNvSpPr/>
            <p:nvPr/>
          </p:nvSpPr>
          <p:spPr>
            <a:xfrm>
              <a:off x="5486400" y="4395960"/>
              <a:ext cx="0" cy="40464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0" name="Line 41"/>
            <p:cNvSpPr/>
            <p:nvPr/>
          </p:nvSpPr>
          <p:spPr>
            <a:xfrm>
              <a:off x="5486400" y="5410080"/>
              <a:ext cx="0" cy="4827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Line 42"/>
            <p:cNvSpPr/>
            <p:nvPr/>
          </p:nvSpPr>
          <p:spPr>
            <a:xfrm flipV="1">
              <a:off x="5486400" y="3657600"/>
              <a:ext cx="0" cy="3556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Line 43"/>
            <p:cNvSpPr/>
            <p:nvPr/>
          </p:nvSpPr>
          <p:spPr>
            <a:xfrm>
              <a:off x="6324480" y="3505320"/>
              <a:ext cx="228600" cy="533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3" name="Line 44"/>
            <p:cNvSpPr/>
            <p:nvPr/>
          </p:nvSpPr>
          <p:spPr>
            <a:xfrm>
              <a:off x="6705720" y="4395960"/>
              <a:ext cx="0" cy="14968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738360" y="3328920"/>
              <a:ext cx="811080" cy="9637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Rectangle 46"/>
            <p:cNvSpPr/>
            <p:nvPr/>
          </p:nvSpPr>
          <p:spPr>
            <a:xfrm>
              <a:off x="1433520" y="20430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6" name="Rectangle 47"/>
            <p:cNvSpPr/>
            <p:nvPr/>
          </p:nvSpPr>
          <p:spPr>
            <a:xfrm>
              <a:off x="6461280" y="257652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Line 48"/>
            <p:cNvSpPr/>
            <p:nvPr/>
          </p:nvSpPr>
          <p:spPr>
            <a:xfrm>
              <a:off x="2719440" y="3557520"/>
              <a:ext cx="582480" cy="49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8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Pro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Lack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ATP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Tahoma"/>
              </a:rPr>
              <a:t>06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addition to glucose, what other various food molecules are use in Cellular Respir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Catabolism of Various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Food Molec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organic molecules used for fu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Carbohydrat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Fa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ycerol’s and fatty ac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Protein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 aci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Plants and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lants - Aut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elf-produ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imals - Heter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6743880" y="3143160"/>
            <a:ext cx="1373040" cy="304956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3049560"/>
              <a:gd name="textAreaBottom" fmla="*/ 3049920 h 3049560"/>
            </a:gdLst>
            <a:ahLst/>
            <a:rect l="textAreaLeft" t="textAreaTop" r="textAreaRight" b="textAreaBottom"/>
            <a:pathLst>
              <a:path w="865" h="1921">
                <a:moveTo>
                  <a:pt x="360" y="1908"/>
                </a:moveTo>
                <a:lnTo>
                  <a:pt x="348" y="1872"/>
                </a:lnTo>
                <a:lnTo>
                  <a:pt x="336" y="1836"/>
                </a:lnTo>
                <a:lnTo>
                  <a:pt x="324" y="1800"/>
                </a:lnTo>
                <a:lnTo>
                  <a:pt x="324" y="1752"/>
                </a:lnTo>
                <a:lnTo>
                  <a:pt x="324" y="1716"/>
                </a:lnTo>
                <a:lnTo>
                  <a:pt x="324" y="1680"/>
                </a:lnTo>
                <a:lnTo>
                  <a:pt x="324" y="1644"/>
                </a:lnTo>
                <a:lnTo>
                  <a:pt x="324" y="1608"/>
                </a:lnTo>
                <a:lnTo>
                  <a:pt x="324" y="1572"/>
                </a:lnTo>
                <a:lnTo>
                  <a:pt x="324" y="1536"/>
                </a:lnTo>
                <a:lnTo>
                  <a:pt x="324" y="1500"/>
                </a:lnTo>
                <a:lnTo>
                  <a:pt x="324" y="1464"/>
                </a:lnTo>
                <a:lnTo>
                  <a:pt x="324" y="1428"/>
                </a:lnTo>
                <a:lnTo>
                  <a:pt x="288" y="1404"/>
                </a:lnTo>
                <a:lnTo>
                  <a:pt x="252" y="1392"/>
                </a:lnTo>
                <a:lnTo>
                  <a:pt x="216" y="1392"/>
                </a:lnTo>
                <a:lnTo>
                  <a:pt x="180" y="1368"/>
                </a:lnTo>
                <a:lnTo>
                  <a:pt x="144" y="1356"/>
                </a:lnTo>
                <a:lnTo>
                  <a:pt x="108" y="1320"/>
                </a:lnTo>
                <a:lnTo>
                  <a:pt x="72" y="1284"/>
                </a:lnTo>
                <a:lnTo>
                  <a:pt x="48" y="1248"/>
                </a:lnTo>
                <a:lnTo>
                  <a:pt x="36" y="1212"/>
                </a:lnTo>
                <a:lnTo>
                  <a:pt x="24" y="1176"/>
                </a:lnTo>
                <a:lnTo>
                  <a:pt x="0" y="1128"/>
                </a:lnTo>
                <a:lnTo>
                  <a:pt x="0" y="1092"/>
                </a:lnTo>
                <a:lnTo>
                  <a:pt x="0" y="1056"/>
                </a:lnTo>
                <a:lnTo>
                  <a:pt x="0" y="1020"/>
                </a:lnTo>
                <a:lnTo>
                  <a:pt x="0" y="984"/>
                </a:lnTo>
                <a:lnTo>
                  <a:pt x="0" y="948"/>
                </a:lnTo>
                <a:lnTo>
                  <a:pt x="0" y="912"/>
                </a:lnTo>
                <a:lnTo>
                  <a:pt x="0" y="876"/>
                </a:lnTo>
                <a:lnTo>
                  <a:pt x="0" y="828"/>
                </a:lnTo>
                <a:lnTo>
                  <a:pt x="0" y="792"/>
                </a:lnTo>
                <a:lnTo>
                  <a:pt x="0" y="756"/>
                </a:lnTo>
                <a:lnTo>
                  <a:pt x="0" y="720"/>
                </a:lnTo>
                <a:lnTo>
                  <a:pt x="0" y="684"/>
                </a:lnTo>
                <a:lnTo>
                  <a:pt x="0" y="648"/>
                </a:lnTo>
                <a:lnTo>
                  <a:pt x="36" y="636"/>
                </a:lnTo>
                <a:lnTo>
                  <a:pt x="72" y="624"/>
                </a:lnTo>
                <a:lnTo>
                  <a:pt x="108" y="636"/>
                </a:lnTo>
                <a:lnTo>
                  <a:pt x="120" y="672"/>
                </a:lnTo>
                <a:lnTo>
                  <a:pt x="132" y="708"/>
                </a:lnTo>
                <a:lnTo>
                  <a:pt x="144" y="744"/>
                </a:lnTo>
                <a:lnTo>
                  <a:pt x="144" y="780"/>
                </a:lnTo>
                <a:lnTo>
                  <a:pt x="144" y="816"/>
                </a:lnTo>
                <a:lnTo>
                  <a:pt x="144" y="852"/>
                </a:lnTo>
                <a:lnTo>
                  <a:pt x="144" y="888"/>
                </a:lnTo>
                <a:lnTo>
                  <a:pt x="144" y="924"/>
                </a:lnTo>
                <a:lnTo>
                  <a:pt x="144" y="960"/>
                </a:lnTo>
                <a:lnTo>
                  <a:pt x="144" y="996"/>
                </a:lnTo>
                <a:lnTo>
                  <a:pt x="144" y="1032"/>
                </a:lnTo>
                <a:lnTo>
                  <a:pt x="156" y="1068"/>
                </a:lnTo>
                <a:lnTo>
                  <a:pt x="168" y="1104"/>
                </a:lnTo>
                <a:lnTo>
                  <a:pt x="180" y="1140"/>
                </a:lnTo>
                <a:lnTo>
                  <a:pt x="216" y="1164"/>
                </a:lnTo>
                <a:lnTo>
                  <a:pt x="252" y="1188"/>
                </a:lnTo>
                <a:lnTo>
                  <a:pt x="288" y="1188"/>
                </a:lnTo>
                <a:lnTo>
                  <a:pt x="324" y="1176"/>
                </a:lnTo>
                <a:lnTo>
                  <a:pt x="324" y="1140"/>
                </a:lnTo>
                <a:lnTo>
                  <a:pt x="324" y="1104"/>
                </a:lnTo>
                <a:lnTo>
                  <a:pt x="324" y="1068"/>
                </a:lnTo>
                <a:lnTo>
                  <a:pt x="324" y="1032"/>
                </a:lnTo>
                <a:lnTo>
                  <a:pt x="324" y="996"/>
                </a:lnTo>
                <a:lnTo>
                  <a:pt x="324" y="960"/>
                </a:lnTo>
                <a:lnTo>
                  <a:pt x="324" y="924"/>
                </a:lnTo>
                <a:lnTo>
                  <a:pt x="324" y="888"/>
                </a:lnTo>
                <a:lnTo>
                  <a:pt x="324" y="852"/>
                </a:lnTo>
                <a:lnTo>
                  <a:pt x="324" y="816"/>
                </a:lnTo>
                <a:lnTo>
                  <a:pt x="324" y="780"/>
                </a:lnTo>
                <a:lnTo>
                  <a:pt x="324" y="744"/>
                </a:lnTo>
                <a:lnTo>
                  <a:pt x="324" y="708"/>
                </a:lnTo>
                <a:lnTo>
                  <a:pt x="324" y="672"/>
                </a:lnTo>
                <a:lnTo>
                  <a:pt x="324" y="636"/>
                </a:lnTo>
                <a:lnTo>
                  <a:pt x="324" y="600"/>
                </a:lnTo>
                <a:lnTo>
                  <a:pt x="324" y="564"/>
                </a:lnTo>
                <a:lnTo>
                  <a:pt x="324" y="528"/>
                </a:lnTo>
                <a:lnTo>
                  <a:pt x="324" y="492"/>
                </a:lnTo>
                <a:lnTo>
                  <a:pt x="324" y="456"/>
                </a:lnTo>
                <a:lnTo>
                  <a:pt x="324" y="420"/>
                </a:lnTo>
                <a:lnTo>
                  <a:pt x="336" y="384"/>
                </a:lnTo>
                <a:lnTo>
                  <a:pt x="336" y="348"/>
                </a:lnTo>
                <a:lnTo>
                  <a:pt x="336" y="312"/>
                </a:lnTo>
                <a:lnTo>
                  <a:pt x="336" y="276"/>
                </a:lnTo>
                <a:lnTo>
                  <a:pt x="336" y="240"/>
                </a:lnTo>
                <a:lnTo>
                  <a:pt x="336" y="204"/>
                </a:lnTo>
                <a:lnTo>
                  <a:pt x="336" y="168"/>
                </a:lnTo>
                <a:lnTo>
                  <a:pt x="336" y="132"/>
                </a:lnTo>
                <a:lnTo>
                  <a:pt x="336" y="96"/>
                </a:lnTo>
                <a:lnTo>
                  <a:pt x="324" y="60"/>
                </a:lnTo>
                <a:lnTo>
                  <a:pt x="348" y="24"/>
                </a:lnTo>
                <a:lnTo>
                  <a:pt x="384" y="0"/>
                </a:lnTo>
                <a:lnTo>
                  <a:pt x="420" y="0"/>
                </a:lnTo>
                <a:lnTo>
                  <a:pt x="456" y="0"/>
                </a:lnTo>
                <a:lnTo>
                  <a:pt x="492" y="12"/>
                </a:lnTo>
                <a:lnTo>
                  <a:pt x="516" y="48"/>
                </a:lnTo>
                <a:lnTo>
                  <a:pt x="528" y="84"/>
                </a:lnTo>
                <a:lnTo>
                  <a:pt x="528" y="120"/>
                </a:lnTo>
                <a:lnTo>
                  <a:pt x="540" y="156"/>
                </a:lnTo>
                <a:lnTo>
                  <a:pt x="552" y="192"/>
                </a:lnTo>
                <a:lnTo>
                  <a:pt x="552" y="228"/>
                </a:lnTo>
                <a:lnTo>
                  <a:pt x="552" y="264"/>
                </a:lnTo>
                <a:lnTo>
                  <a:pt x="552" y="300"/>
                </a:lnTo>
                <a:lnTo>
                  <a:pt x="552" y="336"/>
                </a:lnTo>
                <a:lnTo>
                  <a:pt x="552" y="372"/>
                </a:lnTo>
                <a:lnTo>
                  <a:pt x="552" y="408"/>
                </a:lnTo>
                <a:lnTo>
                  <a:pt x="552" y="444"/>
                </a:lnTo>
                <a:lnTo>
                  <a:pt x="552" y="480"/>
                </a:lnTo>
                <a:lnTo>
                  <a:pt x="552" y="516"/>
                </a:lnTo>
                <a:lnTo>
                  <a:pt x="552" y="552"/>
                </a:lnTo>
                <a:lnTo>
                  <a:pt x="552" y="588"/>
                </a:lnTo>
                <a:lnTo>
                  <a:pt x="552" y="624"/>
                </a:lnTo>
                <a:lnTo>
                  <a:pt x="552" y="660"/>
                </a:lnTo>
                <a:lnTo>
                  <a:pt x="552" y="696"/>
                </a:lnTo>
                <a:lnTo>
                  <a:pt x="552" y="732"/>
                </a:lnTo>
                <a:lnTo>
                  <a:pt x="552" y="768"/>
                </a:lnTo>
                <a:lnTo>
                  <a:pt x="552" y="804"/>
                </a:lnTo>
                <a:lnTo>
                  <a:pt x="552" y="840"/>
                </a:lnTo>
                <a:lnTo>
                  <a:pt x="552" y="876"/>
                </a:lnTo>
                <a:lnTo>
                  <a:pt x="552" y="912"/>
                </a:lnTo>
                <a:lnTo>
                  <a:pt x="552" y="948"/>
                </a:lnTo>
                <a:lnTo>
                  <a:pt x="588" y="960"/>
                </a:lnTo>
                <a:lnTo>
                  <a:pt x="624" y="948"/>
                </a:lnTo>
                <a:lnTo>
                  <a:pt x="660" y="924"/>
                </a:lnTo>
                <a:lnTo>
                  <a:pt x="660" y="888"/>
                </a:lnTo>
                <a:lnTo>
                  <a:pt x="660" y="852"/>
                </a:lnTo>
                <a:lnTo>
                  <a:pt x="660" y="816"/>
                </a:lnTo>
                <a:lnTo>
                  <a:pt x="660" y="780"/>
                </a:lnTo>
                <a:lnTo>
                  <a:pt x="660" y="744"/>
                </a:lnTo>
                <a:lnTo>
                  <a:pt x="672" y="708"/>
                </a:lnTo>
                <a:lnTo>
                  <a:pt x="672" y="672"/>
                </a:lnTo>
                <a:lnTo>
                  <a:pt x="684" y="624"/>
                </a:lnTo>
                <a:lnTo>
                  <a:pt x="684" y="588"/>
                </a:lnTo>
                <a:lnTo>
                  <a:pt x="696" y="552"/>
                </a:lnTo>
                <a:lnTo>
                  <a:pt x="696" y="516"/>
                </a:lnTo>
                <a:lnTo>
                  <a:pt x="696" y="480"/>
                </a:lnTo>
                <a:lnTo>
                  <a:pt x="708" y="444"/>
                </a:lnTo>
                <a:lnTo>
                  <a:pt x="708" y="408"/>
                </a:lnTo>
                <a:lnTo>
                  <a:pt x="720" y="372"/>
                </a:lnTo>
                <a:lnTo>
                  <a:pt x="756" y="348"/>
                </a:lnTo>
                <a:lnTo>
                  <a:pt x="792" y="336"/>
                </a:lnTo>
                <a:lnTo>
                  <a:pt x="828" y="348"/>
                </a:lnTo>
                <a:lnTo>
                  <a:pt x="840" y="384"/>
                </a:lnTo>
                <a:lnTo>
                  <a:pt x="852" y="420"/>
                </a:lnTo>
                <a:lnTo>
                  <a:pt x="852" y="456"/>
                </a:lnTo>
                <a:lnTo>
                  <a:pt x="852" y="492"/>
                </a:lnTo>
                <a:lnTo>
                  <a:pt x="852" y="528"/>
                </a:lnTo>
                <a:lnTo>
                  <a:pt x="852" y="564"/>
                </a:lnTo>
                <a:lnTo>
                  <a:pt x="852" y="600"/>
                </a:lnTo>
                <a:lnTo>
                  <a:pt x="852" y="636"/>
                </a:lnTo>
                <a:lnTo>
                  <a:pt x="852" y="672"/>
                </a:lnTo>
                <a:lnTo>
                  <a:pt x="852" y="708"/>
                </a:lnTo>
                <a:lnTo>
                  <a:pt x="852" y="744"/>
                </a:lnTo>
                <a:lnTo>
                  <a:pt x="852" y="780"/>
                </a:lnTo>
                <a:lnTo>
                  <a:pt x="852" y="816"/>
                </a:lnTo>
                <a:lnTo>
                  <a:pt x="852" y="852"/>
                </a:lnTo>
                <a:lnTo>
                  <a:pt x="852" y="888"/>
                </a:lnTo>
                <a:lnTo>
                  <a:pt x="852" y="924"/>
                </a:lnTo>
                <a:lnTo>
                  <a:pt x="864" y="960"/>
                </a:lnTo>
                <a:lnTo>
                  <a:pt x="864" y="996"/>
                </a:lnTo>
                <a:lnTo>
                  <a:pt x="864" y="1032"/>
                </a:lnTo>
                <a:lnTo>
                  <a:pt x="852" y="1068"/>
                </a:lnTo>
                <a:lnTo>
                  <a:pt x="840" y="1104"/>
                </a:lnTo>
                <a:lnTo>
                  <a:pt x="816" y="1140"/>
                </a:lnTo>
                <a:lnTo>
                  <a:pt x="780" y="1164"/>
                </a:lnTo>
                <a:lnTo>
                  <a:pt x="756" y="1200"/>
                </a:lnTo>
                <a:lnTo>
                  <a:pt x="720" y="1200"/>
                </a:lnTo>
                <a:lnTo>
                  <a:pt x="684" y="1224"/>
                </a:lnTo>
                <a:lnTo>
                  <a:pt x="648" y="1236"/>
                </a:lnTo>
                <a:lnTo>
                  <a:pt x="612" y="1260"/>
                </a:lnTo>
                <a:lnTo>
                  <a:pt x="588" y="1296"/>
                </a:lnTo>
                <a:lnTo>
                  <a:pt x="564" y="1332"/>
                </a:lnTo>
                <a:lnTo>
                  <a:pt x="540" y="1368"/>
                </a:lnTo>
                <a:lnTo>
                  <a:pt x="528" y="1404"/>
                </a:lnTo>
                <a:lnTo>
                  <a:pt x="528" y="1440"/>
                </a:lnTo>
                <a:lnTo>
                  <a:pt x="516" y="1476"/>
                </a:lnTo>
                <a:lnTo>
                  <a:pt x="516" y="1512"/>
                </a:lnTo>
                <a:lnTo>
                  <a:pt x="516" y="1548"/>
                </a:lnTo>
                <a:lnTo>
                  <a:pt x="516" y="1584"/>
                </a:lnTo>
                <a:lnTo>
                  <a:pt x="516" y="1620"/>
                </a:lnTo>
                <a:lnTo>
                  <a:pt x="516" y="1656"/>
                </a:lnTo>
                <a:lnTo>
                  <a:pt x="516" y="1692"/>
                </a:lnTo>
                <a:lnTo>
                  <a:pt x="516" y="1740"/>
                </a:lnTo>
                <a:lnTo>
                  <a:pt x="516" y="1776"/>
                </a:lnTo>
                <a:lnTo>
                  <a:pt x="516" y="1812"/>
                </a:lnTo>
                <a:lnTo>
                  <a:pt x="516" y="1848"/>
                </a:lnTo>
                <a:lnTo>
                  <a:pt x="516" y="1884"/>
                </a:lnTo>
                <a:lnTo>
                  <a:pt x="528" y="1920"/>
                </a:lnTo>
              </a:path>
            </a:pathLst>
          </a:custGeom>
          <a:solidFill>
            <a:srgbClr val="ffcf0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76280" y="4057560"/>
            <a:ext cx="5678280" cy="2344680"/>
            <a:chOff x="476280" y="4057560"/>
            <a:chExt cx="5678280" cy="2344680"/>
          </a:xfrm>
        </p:grpSpPr>
        <p:sp>
          <p:nvSpPr>
            <p:cNvPr id="122" name="Freeform 6"/>
            <p:cNvSpPr/>
            <p:nvPr/>
          </p:nvSpPr>
          <p:spPr>
            <a:xfrm>
              <a:off x="1219320" y="4057560"/>
              <a:ext cx="3887640" cy="106848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2449" h="673">
                  <a:moveTo>
                    <a:pt x="0" y="660"/>
                  </a:moveTo>
                  <a:lnTo>
                    <a:pt x="36" y="672"/>
                  </a:lnTo>
                  <a:lnTo>
                    <a:pt x="120" y="648"/>
                  </a:lnTo>
                  <a:lnTo>
                    <a:pt x="156" y="612"/>
                  </a:lnTo>
                  <a:lnTo>
                    <a:pt x="192" y="588"/>
                  </a:lnTo>
                  <a:lnTo>
                    <a:pt x="228" y="552"/>
                  </a:lnTo>
                  <a:lnTo>
                    <a:pt x="264" y="516"/>
                  </a:lnTo>
                  <a:lnTo>
                    <a:pt x="300" y="468"/>
                  </a:lnTo>
                  <a:lnTo>
                    <a:pt x="336" y="420"/>
                  </a:lnTo>
                  <a:lnTo>
                    <a:pt x="360" y="384"/>
                  </a:lnTo>
                  <a:lnTo>
                    <a:pt x="384" y="348"/>
                  </a:lnTo>
                  <a:lnTo>
                    <a:pt x="408" y="312"/>
                  </a:lnTo>
                  <a:lnTo>
                    <a:pt x="444" y="288"/>
                  </a:lnTo>
                  <a:lnTo>
                    <a:pt x="480" y="252"/>
                  </a:lnTo>
                  <a:lnTo>
                    <a:pt x="516" y="228"/>
                  </a:lnTo>
                  <a:lnTo>
                    <a:pt x="564" y="192"/>
                  </a:lnTo>
                  <a:lnTo>
                    <a:pt x="600" y="168"/>
                  </a:lnTo>
                  <a:lnTo>
                    <a:pt x="648" y="132"/>
                  </a:lnTo>
                  <a:lnTo>
                    <a:pt x="720" y="120"/>
                  </a:lnTo>
                  <a:lnTo>
                    <a:pt x="756" y="96"/>
                  </a:lnTo>
                  <a:lnTo>
                    <a:pt x="828" y="72"/>
                  </a:lnTo>
                  <a:lnTo>
                    <a:pt x="876" y="48"/>
                  </a:lnTo>
                  <a:lnTo>
                    <a:pt x="924" y="36"/>
                  </a:lnTo>
                  <a:lnTo>
                    <a:pt x="972" y="24"/>
                  </a:lnTo>
                  <a:lnTo>
                    <a:pt x="1008" y="12"/>
                  </a:lnTo>
                  <a:lnTo>
                    <a:pt x="1056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212" y="0"/>
                  </a:lnTo>
                  <a:lnTo>
                    <a:pt x="1284" y="0"/>
                  </a:lnTo>
                  <a:lnTo>
                    <a:pt x="1356" y="0"/>
                  </a:lnTo>
                  <a:lnTo>
                    <a:pt x="1428" y="0"/>
                  </a:lnTo>
                  <a:lnTo>
                    <a:pt x="1500" y="0"/>
                  </a:lnTo>
                  <a:lnTo>
                    <a:pt x="1572" y="0"/>
                  </a:lnTo>
                  <a:lnTo>
                    <a:pt x="1620" y="24"/>
                  </a:lnTo>
                  <a:lnTo>
                    <a:pt x="1692" y="24"/>
                  </a:lnTo>
                  <a:lnTo>
                    <a:pt x="1812" y="60"/>
                  </a:lnTo>
                  <a:lnTo>
                    <a:pt x="1884" y="84"/>
                  </a:lnTo>
                  <a:lnTo>
                    <a:pt x="1956" y="96"/>
                  </a:lnTo>
                  <a:lnTo>
                    <a:pt x="2004" y="120"/>
                  </a:lnTo>
                  <a:lnTo>
                    <a:pt x="2040" y="156"/>
                  </a:lnTo>
                  <a:lnTo>
                    <a:pt x="2112" y="168"/>
                  </a:lnTo>
                  <a:lnTo>
                    <a:pt x="2136" y="204"/>
                  </a:lnTo>
                  <a:lnTo>
                    <a:pt x="2172" y="240"/>
                  </a:lnTo>
                  <a:lnTo>
                    <a:pt x="2220" y="288"/>
                  </a:lnTo>
                  <a:lnTo>
                    <a:pt x="2256" y="336"/>
                  </a:lnTo>
                  <a:lnTo>
                    <a:pt x="2292" y="384"/>
                  </a:lnTo>
                  <a:lnTo>
                    <a:pt x="2316" y="432"/>
                  </a:lnTo>
                  <a:lnTo>
                    <a:pt x="2352" y="480"/>
                  </a:lnTo>
                  <a:lnTo>
                    <a:pt x="2376" y="528"/>
                  </a:lnTo>
                  <a:lnTo>
                    <a:pt x="2400" y="576"/>
                  </a:lnTo>
                  <a:lnTo>
                    <a:pt x="2424" y="612"/>
                  </a:lnTo>
                  <a:lnTo>
                    <a:pt x="2448" y="648"/>
                  </a:lnTo>
                  <a:lnTo>
                    <a:pt x="2448" y="6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1371600" y="5086440"/>
              <a:ext cx="287280" cy="20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1" h="13">
                  <a:moveTo>
                    <a:pt x="0" y="12"/>
                  </a:moveTo>
                  <a:lnTo>
                    <a:pt x="36" y="12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476280" y="5105520"/>
              <a:ext cx="954000" cy="2300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01" h="145">
                  <a:moveTo>
                    <a:pt x="516" y="0"/>
                  </a:moveTo>
                  <a:lnTo>
                    <a:pt x="480" y="12"/>
                  </a:lnTo>
                  <a:lnTo>
                    <a:pt x="444" y="12"/>
                  </a:lnTo>
                  <a:lnTo>
                    <a:pt x="408" y="24"/>
                  </a:lnTo>
                  <a:lnTo>
                    <a:pt x="360" y="36"/>
                  </a:lnTo>
                  <a:lnTo>
                    <a:pt x="324" y="48"/>
                  </a:lnTo>
                  <a:lnTo>
                    <a:pt x="276" y="48"/>
                  </a:lnTo>
                  <a:lnTo>
                    <a:pt x="240" y="48"/>
                  </a:lnTo>
                  <a:lnTo>
                    <a:pt x="192" y="48"/>
                  </a:lnTo>
                  <a:lnTo>
                    <a:pt x="144" y="48"/>
                  </a:lnTo>
                  <a:lnTo>
                    <a:pt x="108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96"/>
                  </a:lnTo>
                  <a:lnTo>
                    <a:pt x="156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44"/>
                  </a:lnTo>
                  <a:lnTo>
                    <a:pt x="384" y="144"/>
                  </a:lnTo>
                  <a:lnTo>
                    <a:pt x="420" y="144"/>
                  </a:lnTo>
                  <a:lnTo>
                    <a:pt x="456" y="144"/>
                  </a:lnTo>
                  <a:lnTo>
                    <a:pt x="492" y="144"/>
                  </a:lnTo>
                  <a:lnTo>
                    <a:pt x="528" y="144"/>
                  </a:lnTo>
                  <a:lnTo>
                    <a:pt x="564" y="132"/>
                  </a:lnTo>
                  <a:lnTo>
                    <a:pt x="600" y="12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1447920" y="5067360"/>
              <a:ext cx="3639960" cy="28728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293" h="181">
                  <a:moveTo>
                    <a:pt x="0" y="24"/>
                  </a:moveTo>
                  <a:lnTo>
                    <a:pt x="36" y="0"/>
                  </a:lnTo>
                  <a:lnTo>
                    <a:pt x="84" y="12"/>
                  </a:lnTo>
                  <a:lnTo>
                    <a:pt x="120" y="36"/>
                  </a:lnTo>
                  <a:lnTo>
                    <a:pt x="156" y="60"/>
                  </a:lnTo>
                  <a:lnTo>
                    <a:pt x="192" y="72"/>
                  </a:lnTo>
                  <a:lnTo>
                    <a:pt x="216" y="108"/>
                  </a:lnTo>
                  <a:lnTo>
                    <a:pt x="252" y="120"/>
                  </a:lnTo>
                  <a:lnTo>
                    <a:pt x="288" y="132"/>
                  </a:lnTo>
                  <a:lnTo>
                    <a:pt x="324" y="144"/>
                  </a:lnTo>
                  <a:lnTo>
                    <a:pt x="360" y="156"/>
                  </a:lnTo>
                  <a:lnTo>
                    <a:pt x="396" y="156"/>
                  </a:lnTo>
                  <a:lnTo>
                    <a:pt x="432" y="168"/>
                  </a:lnTo>
                  <a:lnTo>
                    <a:pt x="468" y="168"/>
                  </a:lnTo>
                  <a:lnTo>
                    <a:pt x="504" y="156"/>
                  </a:lnTo>
                  <a:lnTo>
                    <a:pt x="540" y="156"/>
                  </a:lnTo>
                  <a:lnTo>
                    <a:pt x="576" y="156"/>
                  </a:lnTo>
                  <a:lnTo>
                    <a:pt x="612" y="156"/>
                  </a:lnTo>
                  <a:lnTo>
                    <a:pt x="648" y="156"/>
                  </a:lnTo>
                  <a:lnTo>
                    <a:pt x="684" y="156"/>
                  </a:lnTo>
                  <a:lnTo>
                    <a:pt x="720" y="168"/>
                  </a:lnTo>
                  <a:lnTo>
                    <a:pt x="756" y="168"/>
                  </a:lnTo>
                  <a:lnTo>
                    <a:pt x="792" y="168"/>
                  </a:lnTo>
                  <a:lnTo>
                    <a:pt x="828" y="168"/>
                  </a:lnTo>
                  <a:lnTo>
                    <a:pt x="864" y="168"/>
                  </a:lnTo>
                  <a:lnTo>
                    <a:pt x="900" y="168"/>
                  </a:lnTo>
                  <a:lnTo>
                    <a:pt x="936" y="168"/>
                  </a:lnTo>
                  <a:lnTo>
                    <a:pt x="972" y="168"/>
                  </a:lnTo>
                  <a:lnTo>
                    <a:pt x="1008" y="168"/>
                  </a:lnTo>
                  <a:lnTo>
                    <a:pt x="1044" y="168"/>
                  </a:lnTo>
                  <a:lnTo>
                    <a:pt x="1080" y="156"/>
                  </a:lnTo>
                  <a:lnTo>
                    <a:pt x="1116" y="156"/>
                  </a:lnTo>
                  <a:lnTo>
                    <a:pt x="1152" y="156"/>
                  </a:lnTo>
                  <a:lnTo>
                    <a:pt x="1188" y="156"/>
                  </a:lnTo>
                  <a:lnTo>
                    <a:pt x="1224" y="156"/>
                  </a:lnTo>
                  <a:lnTo>
                    <a:pt x="1260" y="156"/>
                  </a:lnTo>
                  <a:lnTo>
                    <a:pt x="1296" y="156"/>
                  </a:lnTo>
                  <a:lnTo>
                    <a:pt x="1332" y="156"/>
                  </a:lnTo>
                  <a:lnTo>
                    <a:pt x="1368" y="156"/>
                  </a:lnTo>
                  <a:lnTo>
                    <a:pt x="1404" y="156"/>
                  </a:lnTo>
                  <a:lnTo>
                    <a:pt x="1440" y="156"/>
                  </a:lnTo>
                  <a:lnTo>
                    <a:pt x="1476" y="156"/>
                  </a:lnTo>
                  <a:lnTo>
                    <a:pt x="1512" y="168"/>
                  </a:lnTo>
                  <a:lnTo>
                    <a:pt x="1548" y="168"/>
                  </a:lnTo>
                  <a:lnTo>
                    <a:pt x="1584" y="180"/>
                  </a:lnTo>
                  <a:lnTo>
                    <a:pt x="1620" y="180"/>
                  </a:lnTo>
                  <a:lnTo>
                    <a:pt x="1668" y="180"/>
                  </a:lnTo>
                  <a:lnTo>
                    <a:pt x="1704" y="180"/>
                  </a:lnTo>
                  <a:lnTo>
                    <a:pt x="1740" y="180"/>
                  </a:lnTo>
                  <a:lnTo>
                    <a:pt x="1776" y="180"/>
                  </a:lnTo>
                  <a:lnTo>
                    <a:pt x="1812" y="180"/>
                  </a:lnTo>
                  <a:lnTo>
                    <a:pt x="1848" y="180"/>
                  </a:lnTo>
                  <a:lnTo>
                    <a:pt x="1884" y="180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80"/>
                  </a:lnTo>
                  <a:lnTo>
                    <a:pt x="2064" y="156"/>
                  </a:lnTo>
                  <a:lnTo>
                    <a:pt x="2100" y="156"/>
                  </a:lnTo>
                  <a:lnTo>
                    <a:pt x="2136" y="132"/>
                  </a:lnTo>
                  <a:lnTo>
                    <a:pt x="2172" y="132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84"/>
                  </a:lnTo>
                  <a:lnTo>
                    <a:pt x="2292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1219320" y="4971960"/>
              <a:ext cx="4935240" cy="1430280"/>
            </a:xfrm>
            <a:custGeom>
              <a:avLst/>
              <a:gdLst>
                <a:gd name="textAreaLeft" fmla="*/ 0 w 4935240"/>
                <a:gd name="textAreaRight" fmla="*/ 4935600 w 49352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3109" h="901">
                  <a:moveTo>
                    <a:pt x="96" y="228"/>
                  </a:moveTo>
                  <a:lnTo>
                    <a:pt x="132" y="228"/>
                  </a:lnTo>
                  <a:lnTo>
                    <a:pt x="168" y="228"/>
                  </a:lnTo>
                  <a:lnTo>
                    <a:pt x="204" y="240"/>
                  </a:lnTo>
                  <a:lnTo>
                    <a:pt x="228" y="276"/>
                  </a:lnTo>
                  <a:lnTo>
                    <a:pt x="240" y="312"/>
                  </a:lnTo>
                  <a:lnTo>
                    <a:pt x="240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16" y="528"/>
                  </a:lnTo>
                  <a:lnTo>
                    <a:pt x="192" y="564"/>
                  </a:lnTo>
                  <a:lnTo>
                    <a:pt x="168" y="600"/>
                  </a:lnTo>
                  <a:lnTo>
                    <a:pt x="132" y="624"/>
                  </a:lnTo>
                  <a:lnTo>
                    <a:pt x="120" y="660"/>
                  </a:lnTo>
                  <a:lnTo>
                    <a:pt x="84" y="672"/>
                  </a:lnTo>
                  <a:lnTo>
                    <a:pt x="72" y="708"/>
                  </a:lnTo>
                  <a:lnTo>
                    <a:pt x="36" y="744"/>
                  </a:lnTo>
                  <a:lnTo>
                    <a:pt x="24" y="780"/>
                  </a:lnTo>
                  <a:lnTo>
                    <a:pt x="12" y="816"/>
                  </a:lnTo>
                  <a:lnTo>
                    <a:pt x="0" y="852"/>
                  </a:lnTo>
                  <a:lnTo>
                    <a:pt x="0" y="888"/>
                  </a:lnTo>
                  <a:lnTo>
                    <a:pt x="36" y="888"/>
                  </a:lnTo>
                  <a:lnTo>
                    <a:pt x="72" y="900"/>
                  </a:lnTo>
                  <a:lnTo>
                    <a:pt x="108" y="900"/>
                  </a:lnTo>
                  <a:lnTo>
                    <a:pt x="144" y="900"/>
                  </a:lnTo>
                  <a:lnTo>
                    <a:pt x="180" y="900"/>
                  </a:lnTo>
                  <a:lnTo>
                    <a:pt x="216" y="900"/>
                  </a:lnTo>
                  <a:lnTo>
                    <a:pt x="252" y="900"/>
                  </a:lnTo>
                  <a:lnTo>
                    <a:pt x="276" y="864"/>
                  </a:lnTo>
                  <a:lnTo>
                    <a:pt x="288" y="828"/>
                  </a:lnTo>
                  <a:lnTo>
                    <a:pt x="288" y="792"/>
                  </a:lnTo>
                  <a:lnTo>
                    <a:pt x="288" y="756"/>
                  </a:lnTo>
                  <a:lnTo>
                    <a:pt x="300" y="720"/>
                  </a:lnTo>
                  <a:lnTo>
                    <a:pt x="312" y="684"/>
                  </a:lnTo>
                  <a:lnTo>
                    <a:pt x="336" y="648"/>
                  </a:lnTo>
                  <a:lnTo>
                    <a:pt x="360" y="612"/>
                  </a:lnTo>
                  <a:lnTo>
                    <a:pt x="384" y="576"/>
                  </a:lnTo>
                  <a:lnTo>
                    <a:pt x="396" y="540"/>
                  </a:lnTo>
                  <a:lnTo>
                    <a:pt x="420" y="504"/>
                  </a:lnTo>
                  <a:lnTo>
                    <a:pt x="432" y="468"/>
                  </a:lnTo>
                  <a:lnTo>
                    <a:pt x="456" y="432"/>
                  </a:lnTo>
                  <a:lnTo>
                    <a:pt x="468" y="396"/>
                  </a:lnTo>
                  <a:lnTo>
                    <a:pt x="480" y="360"/>
                  </a:lnTo>
                  <a:lnTo>
                    <a:pt x="504" y="324"/>
                  </a:lnTo>
                  <a:lnTo>
                    <a:pt x="540" y="300"/>
                  </a:lnTo>
                  <a:lnTo>
                    <a:pt x="576" y="300"/>
                  </a:lnTo>
                  <a:lnTo>
                    <a:pt x="612" y="300"/>
                  </a:lnTo>
                  <a:lnTo>
                    <a:pt x="648" y="312"/>
                  </a:lnTo>
                  <a:lnTo>
                    <a:pt x="684" y="324"/>
                  </a:lnTo>
                  <a:lnTo>
                    <a:pt x="720" y="324"/>
                  </a:lnTo>
                  <a:lnTo>
                    <a:pt x="756" y="324"/>
                  </a:lnTo>
                  <a:lnTo>
                    <a:pt x="792" y="324"/>
                  </a:lnTo>
                  <a:lnTo>
                    <a:pt x="828" y="324"/>
                  </a:lnTo>
                  <a:lnTo>
                    <a:pt x="864" y="324"/>
                  </a:lnTo>
                  <a:lnTo>
                    <a:pt x="900" y="324"/>
                  </a:lnTo>
                  <a:lnTo>
                    <a:pt x="936" y="324"/>
                  </a:lnTo>
                  <a:lnTo>
                    <a:pt x="972" y="324"/>
                  </a:lnTo>
                  <a:lnTo>
                    <a:pt x="1008" y="324"/>
                  </a:lnTo>
                  <a:lnTo>
                    <a:pt x="1044" y="324"/>
                  </a:lnTo>
                  <a:lnTo>
                    <a:pt x="1080" y="336"/>
                  </a:lnTo>
                  <a:lnTo>
                    <a:pt x="1116" y="336"/>
                  </a:lnTo>
                  <a:lnTo>
                    <a:pt x="1152" y="348"/>
                  </a:lnTo>
                  <a:lnTo>
                    <a:pt x="1188" y="348"/>
                  </a:lnTo>
                  <a:lnTo>
                    <a:pt x="1224" y="348"/>
                  </a:lnTo>
                  <a:lnTo>
                    <a:pt x="1260" y="348"/>
                  </a:lnTo>
                  <a:lnTo>
                    <a:pt x="1296" y="348"/>
                  </a:lnTo>
                  <a:lnTo>
                    <a:pt x="1332" y="348"/>
                  </a:lnTo>
                  <a:lnTo>
                    <a:pt x="1368" y="348"/>
                  </a:lnTo>
                  <a:lnTo>
                    <a:pt x="1404" y="348"/>
                  </a:lnTo>
                  <a:lnTo>
                    <a:pt x="1440" y="348"/>
                  </a:lnTo>
                  <a:lnTo>
                    <a:pt x="1476" y="348"/>
                  </a:lnTo>
                  <a:lnTo>
                    <a:pt x="1512" y="348"/>
                  </a:lnTo>
                  <a:lnTo>
                    <a:pt x="1548" y="348"/>
                  </a:lnTo>
                  <a:lnTo>
                    <a:pt x="1584" y="348"/>
                  </a:lnTo>
                  <a:lnTo>
                    <a:pt x="1620" y="348"/>
                  </a:lnTo>
                  <a:lnTo>
                    <a:pt x="1656" y="348"/>
                  </a:lnTo>
                  <a:lnTo>
                    <a:pt x="1692" y="348"/>
                  </a:lnTo>
                  <a:lnTo>
                    <a:pt x="1728" y="348"/>
                  </a:lnTo>
                  <a:lnTo>
                    <a:pt x="1776" y="348"/>
                  </a:lnTo>
                  <a:lnTo>
                    <a:pt x="1812" y="348"/>
                  </a:lnTo>
                  <a:lnTo>
                    <a:pt x="1848" y="348"/>
                  </a:lnTo>
                  <a:lnTo>
                    <a:pt x="1884" y="348"/>
                  </a:lnTo>
                  <a:lnTo>
                    <a:pt x="1920" y="348"/>
                  </a:lnTo>
                  <a:lnTo>
                    <a:pt x="1956" y="348"/>
                  </a:lnTo>
                  <a:lnTo>
                    <a:pt x="1992" y="348"/>
                  </a:lnTo>
                  <a:lnTo>
                    <a:pt x="2028" y="348"/>
                  </a:lnTo>
                  <a:lnTo>
                    <a:pt x="2064" y="348"/>
                  </a:lnTo>
                  <a:lnTo>
                    <a:pt x="2100" y="348"/>
                  </a:lnTo>
                  <a:lnTo>
                    <a:pt x="2136" y="348"/>
                  </a:lnTo>
                  <a:lnTo>
                    <a:pt x="2172" y="336"/>
                  </a:lnTo>
                  <a:lnTo>
                    <a:pt x="2208" y="324"/>
                  </a:lnTo>
                  <a:lnTo>
                    <a:pt x="2244" y="336"/>
                  </a:lnTo>
                  <a:lnTo>
                    <a:pt x="2244" y="372"/>
                  </a:lnTo>
                  <a:lnTo>
                    <a:pt x="2268" y="408"/>
                  </a:lnTo>
                  <a:lnTo>
                    <a:pt x="2280" y="444"/>
                  </a:lnTo>
                  <a:lnTo>
                    <a:pt x="2292" y="480"/>
                  </a:lnTo>
                  <a:lnTo>
                    <a:pt x="2304" y="516"/>
                  </a:lnTo>
                  <a:lnTo>
                    <a:pt x="2316" y="552"/>
                  </a:lnTo>
                  <a:lnTo>
                    <a:pt x="2328" y="588"/>
                  </a:lnTo>
                  <a:lnTo>
                    <a:pt x="2340" y="624"/>
                  </a:lnTo>
                  <a:lnTo>
                    <a:pt x="2352" y="660"/>
                  </a:lnTo>
                  <a:lnTo>
                    <a:pt x="2376" y="708"/>
                  </a:lnTo>
                  <a:lnTo>
                    <a:pt x="2388" y="744"/>
                  </a:lnTo>
                  <a:lnTo>
                    <a:pt x="2412" y="780"/>
                  </a:lnTo>
                  <a:lnTo>
                    <a:pt x="2436" y="816"/>
                  </a:lnTo>
                  <a:lnTo>
                    <a:pt x="2472" y="828"/>
                  </a:lnTo>
                  <a:lnTo>
                    <a:pt x="2508" y="852"/>
                  </a:lnTo>
                  <a:lnTo>
                    <a:pt x="2544" y="852"/>
                  </a:lnTo>
                  <a:lnTo>
                    <a:pt x="2580" y="852"/>
                  </a:lnTo>
                  <a:lnTo>
                    <a:pt x="2616" y="852"/>
                  </a:lnTo>
                  <a:lnTo>
                    <a:pt x="2652" y="852"/>
                  </a:lnTo>
                  <a:lnTo>
                    <a:pt x="2688" y="864"/>
                  </a:lnTo>
                  <a:lnTo>
                    <a:pt x="2724" y="864"/>
                  </a:lnTo>
                  <a:lnTo>
                    <a:pt x="2748" y="828"/>
                  </a:lnTo>
                  <a:lnTo>
                    <a:pt x="2760" y="792"/>
                  </a:lnTo>
                  <a:lnTo>
                    <a:pt x="2760" y="756"/>
                  </a:lnTo>
                  <a:lnTo>
                    <a:pt x="2736" y="720"/>
                  </a:lnTo>
                  <a:lnTo>
                    <a:pt x="2736" y="684"/>
                  </a:lnTo>
                  <a:lnTo>
                    <a:pt x="2712" y="648"/>
                  </a:lnTo>
                  <a:lnTo>
                    <a:pt x="2676" y="624"/>
                  </a:lnTo>
                  <a:lnTo>
                    <a:pt x="2640" y="600"/>
                  </a:lnTo>
                  <a:lnTo>
                    <a:pt x="2604" y="576"/>
                  </a:lnTo>
                  <a:lnTo>
                    <a:pt x="2568" y="552"/>
                  </a:lnTo>
                  <a:lnTo>
                    <a:pt x="2544" y="516"/>
                  </a:lnTo>
                  <a:lnTo>
                    <a:pt x="2520" y="480"/>
                  </a:lnTo>
                  <a:lnTo>
                    <a:pt x="2508" y="444"/>
                  </a:lnTo>
                  <a:lnTo>
                    <a:pt x="2484" y="408"/>
                  </a:lnTo>
                  <a:lnTo>
                    <a:pt x="2484" y="372"/>
                  </a:lnTo>
                  <a:lnTo>
                    <a:pt x="2484" y="336"/>
                  </a:lnTo>
                  <a:lnTo>
                    <a:pt x="2484" y="300"/>
                  </a:lnTo>
                  <a:lnTo>
                    <a:pt x="2520" y="276"/>
                  </a:lnTo>
                  <a:lnTo>
                    <a:pt x="2556" y="276"/>
                  </a:lnTo>
                  <a:lnTo>
                    <a:pt x="2592" y="276"/>
                  </a:lnTo>
                  <a:lnTo>
                    <a:pt x="2628" y="276"/>
                  </a:lnTo>
                  <a:lnTo>
                    <a:pt x="2664" y="288"/>
                  </a:lnTo>
                  <a:lnTo>
                    <a:pt x="2700" y="288"/>
                  </a:lnTo>
                  <a:lnTo>
                    <a:pt x="2736" y="288"/>
                  </a:lnTo>
                  <a:lnTo>
                    <a:pt x="2772" y="288"/>
                  </a:lnTo>
                  <a:lnTo>
                    <a:pt x="2808" y="288"/>
                  </a:lnTo>
                  <a:lnTo>
                    <a:pt x="2844" y="288"/>
                  </a:lnTo>
                  <a:lnTo>
                    <a:pt x="2880" y="288"/>
                  </a:lnTo>
                  <a:lnTo>
                    <a:pt x="2916" y="288"/>
                  </a:lnTo>
                  <a:lnTo>
                    <a:pt x="2952" y="288"/>
                  </a:lnTo>
                  <a:lnTo>
                    <a:pt x="2988" y="276"/>
                  </a:lnTo>
                  <a:lnTo>
                    <a:pt x="3024" y="276"/>
                  </a:lnTo>
                  <a:lnTo>
                    <a:pt x="3060" y="264"/>
                  </a:lnTo>
                  <a:lnTo>
                    <a:pt x="3096" y="240"/>
                  </a:lnTo>
                  <a:lnTo>
                    <a:pt x="3108" y="204"/>
                  </a:lnTo>
                  <a:lnTo>
                    <a:pt x="3108" y="168"/>
                  </a:lnTo>
                  <a:lnTo>
                    <a:pt x="3108" y="132"/>
                  </a:lnTo>
                  <a:lnTo>
                    <a:pt x="3108" y="96"/>
                  </a:lnTo>
                  <a:lnTo>
                    <a:pt x="3096" y="60"/>
                  </a:lnTo>
                  <a:lnTo>
                    <a:pt x="3060" y="36"/>
                  </a:lnTo>
                  <a:lnTo>
                    <a:pt x="3024" y="12"/>
                  </a:lnTo>
                  <a:lnTo>
                    <a:pt x="2988" y="12"/>
                  </a:lnTo>
                  <a:lnTo>
                    <a:pt x="2952" y="0"/>
                  </a:lnTo>
                  <a:lnTo>
                    <a:pt x="2916" y="0"/>
                  </a:lnTo>
                  <a:lnTo>
                    <a:pt x="2880" y="0"/>
                  </a:lnTo>
                  <a:lnTo>
                    <a:pt x="2844" y="12"/>
                  </a:lnTo>
                  <a:lnTo>
                    <a:pt x="2808" y="36"/>
                  </a:lnTo>
                  <a:lnTo>
                    <a:pt x="2772" y="60"/>
                  </a:lnTo>
                  <a:lnTo>
                    <a:pt x="2736" y="84"/>
                  </a:lnTo>
                  <a:lnTo>
                    <a:pt x="2700" y="108"/>
                  </a:lnTo>
                  <a:lnTo>
                    <a:pt x="2664" y="120"/>
                  </a:lnTo>
                  <a:lnTo>
                    <a:pt x="2628" y="120"/>
                  </a:lnTo>
                  <a:lnTo>
                    <a:pt x="2592" y="132"/>
                  </a:lnTo>
                  <a:lnTo>
                    <a:pt x="2556" y="132"/>
                  </a:lnTo>
                  <a:lnTo>
                    <a:pt x="2520" y="132"/>
                  </a:lnTo>
                  <a:lnTo>
                    <a:pt x="2484" y="132"/>
                  </a:lnTo>
                  <a:lnTo>
                    <a:pt x="2448" y="132"/>
                  </a:lnTo>
                  <a:lnTo>
                    <a:pt x="2448" y="96"/>
                  </a:lnTo>
                  <a:lnTo>
                    <a:pt x="2424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1981080" y="5334120"/>
              <a:ext cx="77760" cy="153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0" y="0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48" y="96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62440" y="5295960"/>
              <a:ext cx="115920" cy="191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3" h="121">
                  <a:moveTo>
                    <a:pt x="24" y="120"/>
                  </a:moveTo>
                  <a:lnTo>
                    <a:pt x="0" y="84"/>
                  </a:lnTo>
                  <a:lnTo>
                    <a:pt x="12" y="48"/>
                  </a:lnTo>
                  <a:lnTo>
                    <a:pt x="48" y="36"/>
                  </a:lnTo>
                  <a:lnTo>
                    <a:pt x="72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5816520" y="50547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791320" y="5257800"/>
              <a:ext cx="268200" cy="968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9" h="61">
                  <a:moveTo>
                    <a:pt x="0" y="0"/>
                  </a:moveTo>
                  <a:lnTo>
                    <a:pt x="24" y="36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60"/>
                  </a:lnTo>
                  <a:lnTo>
                    <a:pt x="168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219320" y="6286680"/>
              <a:ext cx="382320" cy="964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1" h="61">
                  <a:moveTo>
                    <a:pt x="0" y="24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84" y="36"/>
                  </a:lnTo>
                  <a:lnTo>
                    <a:pt x="120" y="24"/>
                  </a:lnTo>
                  <a:lnTo>
                    <a:pt x="132" y="60"/>
                  </a:lnTo>
                  <a:lnTo>
                    <a:pt x="168" y="36"/>
                  </a:lnTo>
                  <a:lnTo>
                    <a:pt x="204" y="36"/>
                  </a:lnTo>
                  <a:lnTo>
                    <a:pt x="240" y="36"/>
                  </a:lnTo>
                  <a:lnTo>
                    <a:pt x="240" y="24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5105520" y="6210360"/>
              <a:ext cx="439560" cy="115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7" h="73">
                  <a:moveTo>
                    <a:pt x="0" y="72"/>
                  </a:moveTo>
                  <a:lnTo>
                    <a:pt x="12" y="36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72" y="3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44" y="12"/>
                  </a:lnTo>
                  <a:lnTo>
                    <a:pt x="168" y="48"/>
                  </a:lnTo>
                  <a:lnTo>
                    <a:pt x="204" y="36"/>
                  </a:lnTo>
                  <a:lnTo>
                    <a:pt x="228" y="72"/>
                  </a:lnTo>
                  <a:lnTo>
                    <a:pt x="240" y="36"/>
                  </a:lnTo>
                  <a:lnTo>
                    <a:pt x="276" y="12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676520" y="4876920"/>
              <a:ext cx="3278160" cy="477720"/>
            </a:xfrm>
            <a:custGeom>
              <a:avLst/>
              <a:gdLst>
                <a:gd name="textAreaLeft" fmla="*/ 0 w 3278160"/>
                <a:gd name="textAreaRight" fmla="*/ 3278520 w 3278160"/>
                <a:gd name="textAreaTop" fmla="*/ 0 h 477720"/>
                <a:gd name="textAreaBottom" fmla="*/ 477720 h 477720"/>
              </a:gdLst>
              <a:ahLst/>
              <a:rect l="textAreaLeft" t="textAreaTop" r="textAreaRight" b="textAreaBottom"/>
              <a:pathLst>
                <a:path w="2065" h="301">
                  <a:moveTo>
                    <a:pt x="0" y="0"/>
                  </a:moveTo>
                  <a:lnTo>
                    <a:pt x="12" y="36"/>
                  </a:lnTo>
                  <a:lnTo>
                    <a:pt x="48" y="60"/>
                  </a:lnTo>
                  <a:lnTo>
                    <a:pt x="60" y="96"/>
                  </a:lnTo>
                  <a:lnTo>
                    <a:pt x="96" y="108"/>
                  </a:lnTo>
                  <a:lnTo>
                    <a:pt x="108" y="144"/>
                  </a:lnTo>
                  <a:lnTo>
                    <a:pt x="96" y="180"/>
                  </a:lnTo>
                  <a:lnTo>
                    <a:pt x="120" y="144"/>
                  </a:lnTo>
                  <a:lnTo>
                    <a:pt x="156" y="144"/>
                  </a:lnTo>
                  <a:lnTo>
                    <a:pt x="192" y="144"/>
                  </a:lnTo>
                  <a:lnTo>
                    <a:pt x="228" y="168"/>
                  </a:lnTo>
                  <a:lnTo>
                    <a:pt x="264" y="180"/>
                  </a:lnTo>
                  <a:lnTo>
                    <a:pt x="300" y="180"/>
                  </a:lnTo>
                  <a:lnTo>
                    <a:pt x="324" y="216"/>
                  </a:lnTo>
                  <a:lnTo>
                    <a:pt x="312" y="252"/>
                  </a:lnTo>
                  <a:lnTo>
                    <a:pt x="336" y="216"/>
                  </a:lnTo>
                  <a:lnTo>
                    <a:pt x="372" y="192"/>
                  </a:lnTo>
                  <a:lnTo>
                    <a:pt x="444" y="192"/>
                  </a:lnTo>
                  <a:lnTo>
                    <a:pt x="480" y="192"/>
                  </a:lnTo>
                  <a:lnTo>
                    <a:pt x="516" y="192"/>
                  </a:lnTo>
                  <a:lnTo>
                    <a:pt x="552" y="192"/>
                  </a:lnTo>
                  <a:lnTo>
                    <a:pt x="564" y="228"/>
                  </a:lnTo>
                  <a:lnTo>
                    <a:pt x="576" y="264"/>
                  </a:lnTo>
                  <a:lnTo>
                    <a:pt x="576" y="228"/>
                  </a:lnTo>
                  <a:lnTo>
                    <a:pt x="576" y="192"/>
                  </a:lnTo>
                  <a:lnTo>
                    <a:pt x="612" y="180"/>
                  </a:lnTo>
                  <a:lnTo>
                    <a:pt x="648" y="180"/>
                  </a:lnTo>
                  <a:lnTo>
                    <a:pt x="684" y="180"/>
                  </a:lnTo>
                  <a:lnTo>
                    <a:pt x="720" y="180"/>
                  </a:lnTo>
                  <a:lnTo>
                    <a:pt x="756" y="180"/>
                  </a:lnTo>
                  <a:lnTo>
                    <a:pt x="792" y="180"/>
                  </a:lnTo>
                  <a:lnTo>
                    <a:pt x="828" y="180"/>
                  </a:lnTo>
                  <a:lnTo>
                    <a:pt x="864" y="192"/>
                  </a:lnTo>
                  <a:lnTo>
                    <a:pt x="864" y="228"/>
                  </a:lnTo>
                  <a:lnTo>
                    <a:pt x="864" y="264"/>
                  </a:lnTo>
                  <a:lnTo>
                    <a:pt x="864" y="300"/>
                  </a:lnTo>
                  <a:lnTo>
                    <a:pt x="864" y="264"/>
                  </a:lnTo>
                  <a:lnTo>
                    <a:pt x="864" y="228"/>
                  </a:lnTo>
                  <a:lnTo>
                    <a:pt x="852" y="192"/>
                  </a:lnTo>
                  <a:lnTo>
                    <a:pt x="888" y="192"/>
                  </a:lnTo>
                  <a:lnTo>
                    <a:pt x="924" y="180"/>
                  </a:lnTo>
                  <a:lnTo>
                    <a:pt x="960" y="180"/>
                  </a:lnTo>
                  <a:lnTo>
                    <a:pt x="996" y="180"/>
                  </a:lnTo>
                  <a:lnTo>
                    <a:pt x="1032" y="180"/>
                  </a:lnTo>
                  <a:lnTo>
                    <a:pt x="1068" y="180"/>
                  </a:lnTo>
                  <a:lnTo>
                    <a:pt x="1104" y="180"/>
                  </a:lnTo>
                  <a:lnTo>
                    <a:pt x="1140" y="204"/>
                  </a:lnTo>
                  <a:lnTo>
                    <a:pt x="1140" y="240"/>
                  </a:lnTo>
                  <a:lnTo>
                    <a:pt x="1152" y="276"/>
                  </a:lnTo>
                  <a:lnTo>
                    <a:pt x="1152" y="240"/>
                  </a:lnTo>
                  <a:lnTo>
                    <a:pt x="1152" y="204"/>
                  </a:lnTo>
                  <a:lnTo>
                    <a:pt x="1188" y="180"/>
                  </a:lnTo>
                  <a:lnTo>
                    <a:pt x="1224" y="180"/>
                  </a:lnTo>
                  <a:lnTo>
                    <a:pt x="1260" y="168"/>
                  </a:lnTo>
                  <a:lnTo>
                    <a:pt x="1296" y="168"/>
                  </a:lnTo>
                  <a:lnTo>
                    <a:pt x="1332" y="168"/>
                  </a:lnTo>
                  <a:lnTo>
                    <a:pt x="1368" y="180"/>
                  </a:lnTo>
                  <a:lnTo>
                    <a:pt x="1404" y="192"/>
                  </a:lnTo>
                  <a:lnTo>
                    <a:pt x="1440" y="204"/>
                  </a:lnTo>
                  <a:lnTo>
                    <a:pt x="1452" y="240"/>
                  </a:lnTo>
                  <a:lnTo>
                    <a:pt x="1452" y="276"/>
                  </a:lnTo>
                  <a:lnTo>
                    <a:pt x="1452" y="240"/>
                  </a:lnTo>
                  <a:lnTo>
                    <a:pt x="1464" y="204"/>
                  </a:lnTo>
                  <a:lnTo>
                    <a:pt x="1500" y="192"/>
                  </a:lnTo>
                  <a:lnTo>
                    <a:pt x="1536" y="180"/>
                  </a:lnTo>
                  <a:lnTo>
                    <a:pt x="1572" y="180"/>
                  </a:lnTo>
                  <a:lnTo>
                    <a:pt x="1608" y="180"/>
                  </a:lnTo>
                  <a:lnTo>
                    <a:pt x="1644" y="180"/>
                  </a:lnTo>
                  <a:lnTo>
                    <a:pt x="1668" y="216"/>
                  </a:lnTo>
                  <a:lnTo>
                    <a:pt x="1680" y="252"/>
                  </a:lnTo>
                  <a:lnTo>
                    <a:pt x="1680" y="288"/>
                  </a:lnTo>
                  <a:lnTo>
                    <a:pt x="1680" y="252"/>
                  </a:lnTo>
                  <a:lnTo>
                    <a:pt x="1680" y="216"/>
                  </a:lnTo>
                  <a:lnTo>
                    <a:pt x="1692" y="180"/>
                  </a:lnTo>
                  <a:lnTo>
                    <a:pt x="1728" y="168"/>
                  </a:lnTo>
                  <a:lnTo>
                    <a:pt x="1764" y="156"/>
                  </a:lnTo>
                  <a:lnTo>
                    <a:pt x="1800" y="156"/>
                  </a:lnTo>
                  <a:lnTo>
                    <a:pt x="1836" y="156"/>
                  </a:lnTo>
                  <a:lnTo>
                    <a:pt x="1872" y="180"/>
                  </a:lnTo>
                  <a:lnTo>
                    <a:pt x="1896" y="216"/>
                  </a:lnTo>
                  <a:lnTo>
                    <a:pt x="1908" y="252"/>
                  </a:lnTo>
                  <a:lnTo>
                    <a:pt x="1920" y="288"/>
                  </a:lnTo>
                  <a:lnTo>
                    <a:pt x="1908" y="252"/>
                  </a:lnTo>
                  <a:lnTo>
                    <a:pt x="1884" y="216"/>
                  </a:lnTo>
                  <a:lnTo>
                    <a:pt x="1872" y="180"/>
                  </a:lnTo>
                  <a:lnTo>
                    <a:pt x="1896" y="144"/>
                  </a:lnTo>
                  <a:lnTo>
                    <a:pt x="1932" y="132"/>
                  </a:lnTo>
                  <a:lnTo>
                    <a:pt x="1968" y="132"/>
                  </a:lnTo>
                  <a:lnTo>
                    <a:pt x="2004" y="120"/>
                  </a:lnTo>
                  <a:lnTo>
                    <a:pt x="2040" y="144"/>
                  </a:lnTo>
                  <a:lnTo>
                    <a:pt x="2052" y="180"/>
                  </a:lnTo>
                  <a:lnTo>
                    <a:pt x="2064" y="216"/>
                  </a:lnTo>
                  <a:lnTo>
                    <a:pt x="2052" y="180"/>
                  </a:lnTo>
                  <a:lnTo>
                    <a:pt x="2028" y="144"/>
                  </a:lnTo>
                  <a:lnTo>
                    <a:pt x="2004" y="108"/>
                  </a:lnTo>
                  <a:lnTo>
                    <a:pt x="2028" y="72"/>
                  </a:lnTo>
                  <a:lnTo>
                    <a:pt x="2064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1752480" y="4133880"/>
              <a:ext cx="3068640" cy="95400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933" h="601">
                  <a:moveTo>
                    <a:pt x="0" y="564"/>
                  </a:moveTo>
                  <a:lnTo>
                    <a:pt x="36" y="540"/>
                  </a:lnTo>
                  <a:lnTo>
                    <a:pt x="72" y="540"/>
                  </a:lnTo>
                  <a:lnTo>
                    <a:pt x="108" y="540"/>
                  </a:lnTo>
                  <a:lnTo>
                    <a:pt x="144" y="528"/>
                  </a:lnTo>
                  <a:lnTo>
                    <a:pt x="180" y="528"/>
                  </a:lnTo>
                  <a:lnTo>
                    <a:pt x="228" y="504"/>
                  </a:lnTo>
                  <a:lnTo>
                    <a:pt x="264" y="492"/>
                  </a:lnTo>
                  <a:lnTo>
                    <a:pt x="300" y="468"/>
                  </a:lnTo>
                  <a:lnTo>
                    <a:pt x="336" y="456"/>
                  </a:lnTo>
                  <a:lnTo>
                    <a:pt x="360" y="420"/>
                  </a:lnTo>
                  <a:lnTo>
                    <a:pt x="372" y="384"/>
                  </a:lnTo>
                  <a:lnTo>
                    <a:pt x="384" y="348"/>
                  </a:lnTo>
                  <a:lnTo>
                    <a:pt x="396" y="312"/>
                  </a:lnTo>
                  <a:lnTo>
                    <a:pt x="408" y="276"/>
                  </a:lnTo>
                  <a:lnTo>
                    <a:pt x="420" y="240"/>
                  </a:lnTo>
                  <a:lnTo>
                    <a:pt x="432" y="204"/>
                  </a:lnTo>
                  <a:lnTo>
                    <a:pt x="432" y="168"/>
                  </a:lnTo>
                  <a:lnTo>
                    <a:pt x="444" y="132"/>
                  </a:lnTo>
                  <a:lnTo>
                    <a:pt x="444" y="96"/>
                  </a:lnTo>
                  <a:lnTo>
                    <a:pt x="456" y="60"/>
                  </a:lnTo>
                  <a:lnTo>
                    <a:pt x="456" y="96"/>
                  </a:lnTo>
                  <a:lnTo>
                    <a:pt x="456" y="132"/>
                  </a:lnTo>
                  <a:lnTo>
                    <a:pt x="456" y="168"/>
                  </a:lnTo>
                  <a:lnTo>
                    <a:pt x="444" y="204"/>
                  </a:lnTo>
                  <a:lnTo>
                    <a:pt x="432" y="240"/>
                  </a:lnTo>
                  <a:lnTo>
                    <a:pt x="432" y="276"/>
                  </a:lnTo>
                  <a:lnTo>
                    <a:pt x="408" y="312"/>
                  </a:lnTo>
                  <a:lnTo>
                    <a:pt x="396" y="348"/>
                  </a:lnTo>
                  <a:lnTo>
                    <a:pt x="384" y="384"/>
                  </a:lnTo>
                  <a:lnTo>
                    <a:pt x="384" y="420"/>
                  </a:lnTo>
                  <a:lnTo>
                    <a:pt x="420" y="420"/>
                  </a:lnTo>
                  <a:lnTo>
                    <a:pt x="456" y="408"/>
                  </a:lnTo>
                  <a:lnTo>
                    <a:pt x="492" y="396"/>
                  </a:lnTo>
                  <a:lnTo>
                    <a:pt x="528" y="384"/>
                  </a:lnTo>
                  <a:lnTo>
                    <a:pt x="564" y="384"/>
                  </a:lnTo>
                  <a:lnTo>
                    <a:pt x="600" y="384"/>
                  </a:lnTo>
                  <a:lnTo>
                    <a:pt x="636" y="384"/>
                  </a:lnTo>
                  <a:lnTo>
                    <a:pt x="672" y="384"/>
                  </a:lnTo>
                  <a:lnTo>
                    <a:pt x="708" y="384"/>
                  </a:lnTo>
                  <a:lnTo>
                    <a:pt x="744" y="396"/>
                  </a:lnTo>
                  <a:lnTo>
                    <a:pt x="780" y="396"/>
                  </a:lnTo>
                  <a:lnTo>
                    <a:pt x="816" y="408"/>
                  </a:lnTo>
                  <a:lnTo>
                    <a:pt x="852" y="384"/>
                  </a:lnTo>
                  <a:lnTo>
                    <a:pt x="864" y="348"/>
                  </a:lnTo>
                  <a:lnTo>
                    <a:pt x="876" y="312"/>
                  </a:lnTo>
                  <a:lnTo>
                    <a:pt x="900" y="276"/>
                  </a:lnTo>
                  <a:lnTo>
                    <a:pt x="936" y="252"/>
                  </a:lnTo>
                  <a:lnTo>
                    <a:pt x="960" y="216"/>
                  </a:lnTo>
                  <a:lnTo>
                    <a:pt x="984" y="180"/>
                  </a:lnTo>
                  <a:lnTo>
                    <a:pt x="996" y="144"/>
                  </a:lnTo>
                  <a:lnTo>
                    <a:pt x="996" y="108"/>
                  </a:lnTo>
                  <a:lnTo>
                    <a:pt x="996" y="72"/>
                  </a:lnTo>
                  <a:lnTo>
                    <a:pt x="996" y="36"/>
                  </a:lnTo>
                  <a:lnTo>
                    <a:pt x="996" y="0"/>
                  </a:lnTo>
                  <a:lnTo>
                    <a:pt x="996" y="36"/>
                  </a:lnTo>
                  <a:lnTo>
                    <a:pt x="996" y="72"/>
                  </a:lnTo>
                  <a:lnTo>
                    <a:pt x="996" y="108"/>
                  </a:lnTo>
                  <a:lnTo>
                    <a:pt x="984" y="144"/>
                  </a:lnTo>
                  <a:lnTo>
                    <a:pt x="984" y="180"/>
                  </a:lnTo>
                  <a:lnTo>
                    <a:pt x="984" y="216"/>
                  </a:lnTo>
                  <a:lnTo>
                    <a:pt x="984" y="252"/>
                  </a:lnTo>
                  <a:lnTo>
                    <a:pt x="984" y="288"/>
                  </a:lnTo>
                  <a:lnTo>
                    <a:pt x="984" y="324"/>
                  </a:lnTo>
                  <a:lnTo>
                    <a:pt x="996" y="360"/>
                  </a:lnTo>
                  <a:lnTo>
                    <a:pt x="1008" y="396"/>
                  </a:lnTo>
                  <a:lnTo>
                    <a:pt x="1044" y="408"/>
                  </a:lnTo>
                  <a:lnTo>
                    <a:pt x="1080" y="432"/>
                  </a:lnTo>
                  <a:lnTo>
                    <a:pt x="1116" y="444"/>
                  </a:lnTo>
                  <a:lnTo>
                    <a:pt x="1152" y="444"/>
                  </a:lnTo>
                  <a:lnTo>
                    <a:pt x="1188" y="444"/>
                  </a:lnTo>
                  <a:lnTo>
                    <a:pt x="1224" y="444"/>
                  </a:lnTo>
                  <a:lnTo>
                    <a:pt x="1260" y="444"/>
                  </a:lnTo>
                  <a:lnTo>
                    <a:pt x="1296" y="444"/>
                  </a:lnTo>
                  <a:lnTo>
                    <a:pt x="1332" y="432"/>
                  </a:lnTo>
                  <a:lnTo>
                    <a:pt x="1356" y="396"/>
                  </a:lnTo>
                  <a:lnTo>
                    <a:pt x="1392" y="360"/>
                  </a:lnTo>
                  <a:lnTo>
                    <a:pt x="1416" y="324"/>
                  </a:lnTo>
                  <a:lnTo>
                    <a:pt x="1440" y="288"/>
                  </a:lnTo>
                  <a:lnTo>
                    <a:pt x="1464" y="252"/>
                  </a:lnTo>
                  <a:lnTo>
                    <a:pt x="1488" y="216"/>
                  </a:lnTo>
                  <a:lnTo>
                    <a:pt x="1500" y="180"/>
                  </a:lnTo>
                  <a:lnTo>
                    <a:pt x="1536" y="132"/>
                  </a:lnTo>
                  <a:lnTo>
                    <a:pt x="1548" y="96"/>
                  </a:lnTo>
                  <a:lnTo>
                    <a:pt x="1548" y="132"/>
                  </a:lnTo>
                  <a:lnTo>
                    <a:pt x="1524" y="168"/>
                  </a:lnTo>
                  <a:lnTo>
                    <a:pt x="1500" y="204"/>
                  </a:lnTo>
                  <a:lnTo>
                    <a:pt x="1476" y="240"/>
                  </a:lnTo>
                  <a:lnTo>
                    <a:pt x="1452" y="276"/>
                  </a:lnTo>
                  <a:lnTo>
                    <a:pt x="1416" y="312"/>
                  </a:lnTo>
                  <a:lnTo>
                    <a:pt x="1392" y="348"/>
                  </a:lnTo>
                  <a:lnTo>
                    <a:pt x="1380" y="384"/>
                  </a:lnTo>
                  <a:lnTo>
                    <a:pt x="1368" y="420"/>
                  </a:lnTo>
                  <a:lnTo>
                    <a:pt x="1404" y="420"/>
                  </a:lnTo>
                  <a:lnTo>
                    <a:pt x="1440" y="432"/>
                  </a:lnTo>
                  <a:lnTo>
                    <a:pt x="1476" y="444"/>
                  </a:lnTo>
                  <a:lnTo>
                    <a:pt x="1512" y="456"/>
                  </a:lnTo>
                  <a:lnTo>
                    <a:pt x="1548" y="468"/>
                  </a:lnTo>
                  <a:lnTo>
                    <a:pt x="1584" y="468"/>
                  </a:lnTo>
                  <a:lnTo>
                    <a:pt x="1620" y="480"/>
                  </a:lnTo>
                  <a:lnTo>
                    <a:pt x="1656" y="504"/>
                  </a:lnTo>
                  <a:lnTo>
                    <a:pt x="1680" y="540"/>
                  </a:lnTo>
                  <a:lnTo>
                    <a:pt x="1716" y="540"/>
                  </a:lnTo>
                  <a:lnTo>
                    <a:pt x="1752" y="516"/>
                  </a:lnTo>
                  <a:lnTo>
                    <a:pt x="1776" y="480"/>
                  </a:lnTo>
                  <a:lnTo>
                    <a:pt x="1800" y="444"/>
                  </a:lnTo>
                  <a:lnTo>
                    <a:pt x="1836" y="420"/>
                  </a:lnTo>
                  <a:lnTo>
                    <a:pt x="1860" y="384"/>
                  </a:lnTo>
                  <a:lnTo>
                    <a:pt x="1896" y="372"/>
                  </a:lnTo>
                  <a:lnTo>
                    <a:pt x="1932" y="348"/>
                  </a:lnTo>
                  <a:lnTo>
                    <a:pt x="1896" y="372"/>
                  </a:lnTo>
                  <a:lnTo>
                    <a:pt x="1860" y="396"/>
                  </a:lnTo>
                  <a:lnTo>
                    <a:pt x="1824" y="420"/>
                  </a:lnTo>
                  <a:lnTo>
                    <a:pt x="1788" y="444"/>
                  </a:lnTo>
                  <a:lnTo>
                    <a:pt x="1776" y="480"/>
                  </a:lnTo>
                  <a:lnTo>
                    <a:pt x="1752" y="516"/>
                  </a:lnTo>
                  <a:lnTo>
                    <a:pt x="1740" y="552"/>
                  </a:lnTo>
                  <a:lnTo>
                    <a:pt x="1752" y="588"/>
                  </a:lnTo>
                  <a:lnTo>
                    <a:pt x="1788" y="60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2362320" y="4743360"/>
              <a:ext cx="782640" cy="4399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93" h="277">
                  <a:moveTo>
                    <a:pt x="0" y="36"/>
                  </a:moveTo>
                  <a:lnTo>
                    <a:pt x="24" y="72"/>
                  </a:lnTo>
                  <a:lnTo>
                    <a:pt x="36" y="108"/>
                  </a:lnTo>
                  <a:lnTo>
                    <a:pt x="60" y="144"/>
                  </a:lnTo>
                  <a:lnTo>
                    <a:pt x="72" y="180"/>
                  </a:lnTo>
                  <a:lnTo>
                    <a:pt x="72" y="216"/>
                  </a:lnTo>
                  <a:lnTo>
                    <a:pt x="72" y="252"/>
                  </a:lnTo>
                  <a:lnTo>
                    <a:pt x="108" y="276"/>
                  </a:lnTo>
                  <a:lnTo>
                    <a:pt x="144" y="276"/>
                  </a:lnTo>
                  <a:lnTo>
                    <a:pt x="180" y="276"/>
                  </a:lnTo>
                  <a:lnTo>
                    <a:pt x="216" y="276"/>
                  </a:lnTo>
                  <a:lnTo>
                    <a:pt x="252" y="276"/>
                  </a:lnTo>
                  <a:lnTo>
                    <a:pt x="288" y="276"/>
                  </a:lnTo>
                  <a:lnTo>
                    <a:pt x="324" y="276"/>
                  </a:lnTo>
                  <a:lnTo>
                    <a:pt x="360" y="276"/>
                  </a:lnTo>
                  <a:lnTo>
                    <a:pt x="396" y="276"/>
                  </a:lnTo>
                  <a:lnTo>
                    <a:pt x="432" y="276"/>
                  </a:lnTo>
                  <a:lnTo>
                    <a:pt x="468" y="252"/>
                  </a:lnTo>
                  <a:lnTo>
                    <a:pt x="468" y="216"/>
                  </a:lnTo>
                  <a:lnTo>
                    <a:pt x="480" y="180"/>
                  </a:lnTo>
                  <a:lnTo>
                    <a:pt x="492" y="144"/>
                  </a:lnTo>
                  <a:lnTo>
                    <a:pt x="492" y="108"/>
                  </a:lnTo>
                  <a:lnTo>
                    <a:pt x="492" y="72"/>
                  </a:lnTo>
                  <a:lnTo>
                    <a:pt x="492" y="36"/>
                  </a:lnTo>
                  <a:lnTo>
                    <a:pt x="4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3657600" y="4800600"/>
              <a:ext cx="306360" cy="3826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192" y="0"/>
                  </a:moveTo>
                  <a:lnTo>
                    <a:pt x="156" y="0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48" y="156"/>
                  </a:lnTo>
                  <a:lnTo>
                    <a:pt x="36" y="192"/>
                  </a:lnTo>
                  <a:lnTo>
                    <a:pt x="12" y="228"/>
                  </a:lnTo>
                  <a:lnTo>
                    <a:pt x="0" y="24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447920" y="5105520"/>
              <a:ext cx="3620880" cy="30636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281" h="193">
                  <a:moveTo>
                    <a:pt x="0" y="0"/>
                  </a:moveTo>
                  <a:lnTo>
                    <a:pt x="36" y="12"/>
                  </a:lnTo>
                  <a:lnTo>
                    <a:pt x="72" y="24"/>
                  </a:lnTo>
                  <a:lnTo>
                    <a:pt x="108" y="48"/>
                  </a:lnTo>
                  <a:lnTo>
                    <a:pt x="144" y="60"/>
                  </a:lnTo>
                  <a:lnTo>
                    <a:pt x="180" y="84"/>
                  </a:lnTo>
                  <a:lnTo>
                    <a:pt x="216" y="96"/>
                  </a:lnTo>
                  <a:lnTo>
                    <a:pt x="252" y="108"/>
                  </a:lnTo>
                  <a:lnTo>
                    <a:pt x="288" y="120"/>
                  </a:lnTo>
                  <a:lnTo>
                    <a:pt x="324" y="132"/>
                  </a:lnTo>
                  <a:lnTo>
                    <a:pt x="360" y="156"/>
                  </a:lnTo>
                  <a:lnTo>
                    <a:pt x="396" y="168"/>
                  </a:lnTo>
                  <a:lnTo>
                    <a:pt x="408" y="132"/>
                  </a:lnTo>
                  <a:lnTo>
                    <a:pt x="444" y="132"/>
                  </a:lnTo>
                  <a:lnTo>
                    <a:pt x="480" y="132"/>
                  </a:lnTo>
                  <a:lnTo>
                    <a:pt x="516" y="144"/>
                  </a:lnTo>
                  <a:lnTo>
                    <a:pt x="552" y="144"/>
                  </a:lnTo>
                  <a:lnTo>
                    <a:pt x="588" y="144"/>
                  </a:lnTo>
                  <a:lnTo>
                    <a:pt x="624" y="144"/>
                  </a:lnTo>
                  <a:lnTo>
                    <a:pt x="660" y="144"/>
                  </a:lnTo>
                  <a:lnTo>
                    <a:pt x="696" y="144"/>
                  </a:lnTo>
                  <a:lnTo>
                    <a:pt x="732" y="144"/>
                  </a:lnTo>
                  <a:lnTo>
                    <a:pt x="768" y="144"/>
                  </a:lnTo>
                  <a:lnTo>
                    <a:pt x="804" y="144"/>
                  </a:lnTo>
                  <a:lnTo>
                    <a:pt x="840" y="156"/>
                  </a:lnTo>
                  <a:lnTo>
                    <a:pt x="876" y="156"/>
                  </a:lnTo>
                  <a:lnTo>
                    <a:pt x="912" y="168"/>
                  </a:lnTo>
                  <a:lnTo>
                    <a:pt x="948" y="168"/>
                  </a:lnTo>
                  <a:lnTo>
                    <a:pt x="984" y="180"/>
                  </a:lnTo>
                  <a:lnTo>
                    <a:pt x="1020" y="180"/>
                  </a:lnTo>
                  <a:lnTo>
                    <a:pt x="1056" y="192"/>
                  </a:lnTo>
                  <a:lnTo>
                    <a:pt x="1092" y="192"/>
                  </a:lnTo>
                  <a:lnTo>
                    <a:pt x="1128" y="192"/>
                  </a:lnTo>
                  <a:lnTo>
                    <a:pt x="1164" y="192"/>
                  </a:lnTo>
                  <a:lnTo>
                    <a:pt x="1200" y="192"/>
                  </a:lnTo>
                  <a:lnTo>
                    <a:pt x="1236" y="192"/>
                  </a:lnTo>
                  <a:lnTo>
                    <a:pt x="1272" y="192"/>
                  </a:lnTo>
                  <a:lnTo>
                    <a:pt x="1308" y="192"/>
                  </a:lnTo>
                  <a:lnTo>
                    <a:pt x="1344" y="192"/>
                  </a:lnTo>
                  <a:lnTo>
                    <a:pt x="1380" y="192"/>
                  </a:lnTo>
                  <a:lnTo>
                    <a:pt x="1416" y="192"/>
                  </a:lnTo>
                  <a:lnTo>
                    <a:pt x="1452" y="192"/>
                  </a:lnTo>
                  <a:lnTo>
                    <a:pt x="1488" y="192"/>
                  </a:lnTo>
                  <a:lnTo>
                    <a:pt x="1524" y="192"/>
                  </a:lnTo>
                  <a:lnTo>
                    <a:pt x="1560" y="192"/>
                  </a:lnTo>
                  <a:lnTo>
                    <a:pt x="1596" y="180"/>
                  </a:lnTo>
                  <a:lnTo>
                    <a:pt x="1632" y="168"/>
                  </a:lnTo>
                  <a:lnTo>
                    <a:pt x="1668" y="168"/>
                  </a:lnTo>
                  <a:lnTo>
                    <a:pt x="1704" y="168"/>
                  </a:lnTo>
                  <a:lnTo>
                    <a:pt x="1740" y="168"/>
                  </a:lnTo>
                  <a:lnTo>
                    <a:pt x="1776" y="168"/>
                  </a:lnTo>
                  <a:lnTo>
                    <a:pt x="1812" y="168"/>
                  </a:lnTo>
                  <a:lnTo>
                    <a:pt x="1848" y="168"/>
                  </a:lnTo>
                  <a:lnTo>
                    <a:pt x="1884" y="168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68"/>
                  </a:lnTo>
                  <a:lnTo>
                    <a:pt x="2064" y="168"/>
                  </a:lnTo>
                  <a:lnTo>
                    <a:pt x="2100" y="168"/>
                  </a:lnTo>
                  <a:lnTo>
                    <a:pt x="2136" y="156"/>
                  </a:lnTo>
                  <a:lnTo>
                    <a:pt x="2172" y="144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7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1333440" y="514368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65" h="121">
                  <a:moveTo>
                    <a:pt x="264" y="120"/>
                  </a:moveTo>
                  <a:lnTo>
                    <a:pt x="228" y="108"/>
                  </a:lnTo>
                  <a:lnTo>
                    <a:pt x="192" y="108"/>
                  </a:lnTo>
                  <a:lnTo>
                    <a:pt x="156" y="108"/>
                  </a:lnTo>
                  <a:lnTo>
                    <a:pt x="120" y="108"/>
                  </a:lnTo>
                  <a:lnTo>
                    <a:pt x="84" y="108"/>
                  </a:lnTo>
                  <a:lnTo>
                    <a:pt x="48" y="96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2362320" y="4743360"/>
              <a:ext cx="744480" cy="586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9" h="37">
                  <a:moveTo>
                    <a:pt x="0" y="36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  <a:lnTo>
                    <a:pt x="360" y="12"/>
                  </a:lnTo>
                  <a:lnTo>
                    <a:pt x="396" y="12"/>
                  </a:lnTo>
                  <a:lnTo>
                    <a:pt x="432" y="12"/>
                  </a:lnTo>
                  <a:lnTo>
                    <a:pt x="46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676520" y="5105520"/>
              <a:ext cx="115920" cy="20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3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1295280" y="5105520"/>
              <a:ext cx="725760" cy="3063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457" h="193">
                  <a:moveTo>
                    <a:pt x="0" y="0"/>
                  </a:moveTo>
                  <a:lnTo>
                    <a:pt x="36" y="24"/>
                  </a:lnTo>
                  <a:lnTo>
                    <a:pt x="72" y="48"/>
                  </a:lnTo>
                  <a:lnTo>
                    <a:pt x="96" y="84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56"/>
                  </a:lnTo>
                  <a:lnTo>
                    <a:pt x="384" y="168"/>
                  </a:lnTo>
                  <a:lnTo>
                    <a:pt x="420" y="180"/>
                  </a:lnTo>
                  <a:lnTo>
                    <a:pt x="456" y="19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1371600" y="5105520"/>
              <a:ext cx="382680" cy="1918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1" h="12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rganel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kes plac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147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150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153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156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5091120" y="2720880"/>
            <a:ext cx="853560" cy="1774800"/>
            <a:chOff x="5091120" y="2720880"/>
            <a:chExt cx="853560" cy="1774800"/>
          </a:xfrm>
        </p:grpSpPr>
        <p:sp>
          <p:nvSpPr>
            <p:cNvPr id="161" name="Rectangle 19"/>
            <p:cNvSpPr/>
            <p:nvPr/>
          </p:nvSpPr>
          <p:spPr>
            <a:xfrm>
              <a:off x="5091120" y="2720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 flipV="1">
              <a:off x="5437080" y="3024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5334120" y="4267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165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ox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ransf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ore electr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 reac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Oxida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los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from a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3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90720" y="4495680"/>
            <a:ext cx="7836840" cy="1209600"/>
            <a:chOff x="990720" y="4495680"/>
            <a:chExt cx="7836840" cy="1209600"/>
          </a:xfrm>
        </p:grpSpPr>
        <p:sp>
          <p:nvSpPr>
            <p:cNvPr id="175" name="Rectangle 5"/>
            <p:cNvSpPr/>
            <p:nvPr/>
          </p:nvSpPr>
          <p:spPr>
            <a:xfrm>
              <a:off x="3528360" y="4495680"/>
              <a:ext cx="141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990720" y="51066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7494120" y="4993920"/>
              <a:ext cx="13334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762320" y="51066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219320" y="3338640"/>
            <a:ext cx="3606840" cy="836640"/>
            <a:chOff x="1219320" y="3338640"/>
            <a:chExt cx="3606840" cy="836640"/>
          </a:xfrm>
        </p:grpSpPr>
        <p:sp>
          <p:nvSpPr>
            <p:cNvPr id="180" name="Rectangle 10"/>
            <p:cNvSpPr/>
            <p:nvPr/>
          </p:nvSpPr>
          <p:spPr>
            <a:xfrm>
              <a:off x="3718080" y="37180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2422440" y="33386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xid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480060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>
              <a:off x="1245960" y="358128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121932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014720" y="3581280"/>
              <a:ext cx="81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uc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bc3700"/>
                </a:solidFill>
                <a:latin typeface="Tahoma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84000" y="4541760"/>
            <a:ext cx="7824960" cy="1309680"/>
            <a:chOff x="684000" y="4541760"/>
            <a:chExt cx="7824960" cy="1309680"/>
          </a:xfrm>
        </p:grpSpPr>
        <p:sp>
          <p:nvSpPr>
            <p:cNvPr id="190" name="Rectangle 5"/>
            <p:cNvSpPr/>
            <p:nvPr/>
          </p:nvSpPr>
          <p:spPr>
            <a:xfrm>
              <a:off x="4861080" y="516564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822240" y="4541760"/>
              <a:ext cx="7182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3160" y="539424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477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Oval 9"/>
            <p:cNvSpPr/>
            <p:nvPr/>
          </p:nvSpPr>
          <p:spPr>
            <a:xfrm>
              <a:off x="7188120" y="51307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7453800" y="52434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84000" y="4543560"/>
              <a:ext cx="7661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3719520"/>
            <a:ext cx="3530880" cy="749160"/>
            <a:chOff x="2895480" y="3719520"/>
            <a:chExt cx="3530880" cy="749160"/>
          </a:xfrm>
        </p:grpSpPr>
        <p:sp>
          <p:nvSpPr>
            <p:cNvPr id="198" name="Rectangle 13"/>
            <p:cNvSpPr/>
            <p:nvPr/>
          </p:nvSpPr>
          <p:spPr>
            <a:xfrm>
              <a:off x="410040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0080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H="1">
              <a:off x="2922120" y="396252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289548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5843520" y="3962520"/>
              <a:ext cx="5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ur main parts (reacti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  Glycolysis (splitting of sug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cytosol, 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  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gration from cytosol to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1:13:02Z</dcterms:created>
  <dc:creator>Cheryl Massengale</dc:creator>
  <dc:description/>
  <dc:language>en-US</dc:language>
  <cp:lastModifiedBy>LEGION</cp:lastModifiedBy>
  <dcterms:modified xsi:type="dcterms:W3CDTF">2016-12-07T12:53:05Z</dcterms:modified>
  <cp:revision>5</cp:revision>
  <dc:subject/>
  <dc:title>Cellular Respiration</dc:title>
</cp:coreProperties>
</file>