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gif" ContentType="image/gif"/>
  <Override PartName="/ppt/media/image12.gif" ContentType="image/gif"/>
  <Override PartName="/ppt/media/image24.jpeg" ContentType="image/jpeg"/>
  <Override PartName="/ppt/media/image7.gif" ContentType="image/gif"/>
  <Override PartName="/ppt/media/image11.jpeg" ContentType="image/jpeg"/>
  <Override PartName="/ppt/media/image9.jpeg" ContentType="image/jpeg"/>
  <Override PartName="/ppt/media/image6.jpeg" ContentType="image/jpeg"/>
  <Override PartName="/ppt/media/image5.gif" ContentType="image/gif"/>
  <Override PartName="/ppt/media/image14.jpeg" ContentType="image/jpeg"/>
  <Override PartName="/ppt/media/image13.jpeg" ContentType="image/jpe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25.jpeg" ContentType="image/jpeg"/>
  <Override PartName="/ppt/media/image2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traordinary Properties of Wa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Specific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pecific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Specific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Specific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pecific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Specific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pecific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Specific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Specific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pecific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Specific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Dense as a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pecific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Dense as a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Specific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Dense as a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Specific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Dense as a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pecific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Dense as a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ion between particles of the same substance ( why water is attracted to itse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in Surface tension (a measure of the strength of water’s su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s a surface film on water that allows insects to walk on the surface of 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on between particles of the same substance ( why water is attracted to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Surface tension (a measure of the strength of water’s su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a surface film on water that allows insects to walk on the surface of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ion between particles of the same substance ( why water is attracted to itse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in Surface tension (a measure of the strength of water’s su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s a surface film on water that allows insects to walk on the surface of 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ion between particles of the same substance ( why water is attracted to itse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in Surface tension (a measure of the strength of water’s su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s a surface film on water that allows insects to walk on the surface of 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on between particles of the same substance ( why water is attracted to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Surface tension (a measure of the strength of water’s su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a surface film on water that allows insects to walk on the surface of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hesion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insects walk across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ion between two different sub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will make hydrogen bonds with other surfaces such as glass, soil, plant tissues, and cott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llary action-water molecules will “tow” each other along when in a thin glass t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ranspiration process which plants and trees remove water from the soil, and paper towels soak up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on between two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ill make hydrogen bonds with other surfaces such as glass, soil, plant tissues, and cott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y action-water molecules will “tow” each other along when in a thin glass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ranspiration process which plants and trees remove water from the soil, and paper towels soak up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ion between two different sub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will make hydrogen bonds with other surfaces such as glass, soil, plant tissues, and cott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llary action-water molecules will “tow” each other along when in a thin glass t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ranspiration process which plants and trees remove water from the soil, and paper towels soak up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ion between two different sub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will make hydrogen bonds with other surfaces such as glass, soil, plant tissues, and cott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llary action-water molecules will “tow” each other along when in a thin glass t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ranspiration process which plants and trees remove water from the soil, and paper towels soak up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action between two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ill make hydrogen bonds with other surfaces such as glass, soil, plant tissues, and cott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y action-water molecules will “tow” each other along when in a thin glass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ranspiration process which plants and trees remove water from the soil, and paper towels soak up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esion Causes Capillary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gives water the ability to “climb”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esion Also Causes Water to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spheres &amp; hold onto plant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h to a silken spider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Specific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 of heat needed to raise or lower 1g of a substance 1°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resists temperature change, both for heating and coo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can absorb or release large amounts of heat energy with little change in actual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pecific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heat needed to raise or lower 1g of a substance 1° 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resists temperature change, both for heating and coo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an absorb or release large amounts of heat energy with little change in actual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Specific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 of heat needed to raise or lower 1g of a substance 1°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resists temperature change, both for heating and coo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can absorb or release large amounts of heat energy with little change in actual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Specific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 of heat needed to raise or lower 1g of a substance 1°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resists temperature change, both for heating and coo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can absorb or release large amounts of heat energy with little change in actual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pecific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heat needed to raise or lower 1g of a substance 1° 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resists temperature change, both for heating and coo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an absorb or release large amounts of heat energy with little change in actual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 of energy to convert 1g or a substance from a liquid to a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for water to evaporate, hydrogen bonds must be bro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ater evaporates, it removes a lot of heat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energy to convert 1g or a substance from a liquid to a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for water to evaporate, hydrogen bonds must be bro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ater evaporates, it removes a lot of heat wi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 of energy to convert 1g or a substance from a liquid to a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for water to evaporate, hydrogen bonds must be bro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ater evaporates, it removes a lot of heat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 of energy to convert 1g or a substance from a liquid to a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for water to evaporate, hydrogen bonds must be bro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ater evaporates, it removes a lot of heat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energy to convert 1g or a substance from a liquid to a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for water to evaporate, hydrogen bonds must be bro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ater evaporates, it removes a lot of heat wi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 molecule (H2O), is made up of three atoms --- one oxygen and two hydro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ter molecule (H2O), is made up of three atoms --- one oxygen and two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 molecule (H2O), is made up of three atoms --- one oxygen and two hydro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 molecule (H2O), is made up of three atoms --- one oxygen and two hydro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ter molecule (H2O), is made up of three atoms --- one oxygen and two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's heat of vaporization is 540 cal/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for water to evaporate, each gram must GAIN 540 calories (temperature doesn’t change --- 100o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ater evaporates, it removes a lot of heat with it (cooling effec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's heat of vaporization is 540 cal/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for water to evaporate, each gram must GAIN 540 calories (temperature doesn’t change --- 100o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ater evaporates, it removes a lot of heat with it (cooling effe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's heat of vaporization is 540 cal/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for water to evaporate, each gram must GAIN 540 calories (temperature doesn’t change --- 100o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ater evaporates, it removes a lot of heat with it (cooling effec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's heat of vaporization is 540 cal/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for water to evaporate, each gram must GAIN 540 calories (temperature doesn’t change --- 100o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ater evaporates, it removes a lot of heat with it (cooling effec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Heat of Vap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's heat of vaporization is 540 cal/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for water to evaporate, each gram must GAIN 540 calories (temperature doesn’t change --- 100o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ater evaporates, it removes a lot of heat with it (cooling effe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vapor forms a kind of global ‘‘blanket” which helps to keep the Earth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radiated from the sun warmed surface of the earth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bed and h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vap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forms a kind of global ‘‘blanket” which helps to keep the Earth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radiated from the sun warmed surface of the earth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and h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vap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vapor forms a kind of global ‘‘blanket” which helps to keep the Earth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radiated from the sun warmed surface of the earth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bed and h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vap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vapor forms a kind of global ‘‘blanket” which helps to keep the Earth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radiated from the sun warmed surface of the earth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bed and h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vap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forms a kind of global ‘‘blanket” which helps to keep the Earth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radiated from the sun warmed surface of the earth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and h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vap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is Less Dense as a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e is less dense as a solid than as a liquid (ice floa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 water has hydrogen bonds that are constantly being broken and re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zen water forms a crystal-like lattice whereby molecules are set at fixed di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Less Dense as a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is less dense as a solid than as a liquid (ice floa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 water has hydrogen bonds that are constantly being broken and re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water forms a crystal-like lattice whereby molecules are set at fixed di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is Less Dense as a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e is less dense as a solid than as a liquid (ice floa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 water has hydrogen bonds that are constantly being broken and re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zen water forms a crystal-like lattice whereby molecules are set at fixed di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is Less Dense as a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e is less dense as a solid than as a liquid (ice floa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 water has hydrogen bonds that are constantly being broken and re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zen water forms a crystal-like lattice whereby molecules are set at fixed di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Less Dense as a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is less dense as a solid than as a liquid (ice floa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 water has hydrogen bonds that are constantly being broken and re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water forms a crystal-like lattice whereby molecules are set at fixed di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is Less Dense as a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ice and which is wa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Less Dense as a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ice and which is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is Less Dense as a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ice and which is wa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is Less Dense as a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ice and which is wa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Less Dense as a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ice and which is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is Less Dense as a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Less Dense as a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is Less Dense as a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is Less Dense as a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Less Dense as a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ost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maintain a steady state despite changing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is important to this process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Makes a good ins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Resists temperatur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Universal sol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 Coo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 Ice protects against temperature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xtremes (insulates frozen lak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ost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maintain a steady state despite changing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important to this process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akes a good 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Resists temperature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Universal sol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 Coo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 Ice protects against temperature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extremes (insulates frozen lak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ost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maintain a steady state despite changing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is important to this process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Makes a good ins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Resists temperatur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Universal sol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 Coo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 Ice protects against temperature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xtremes (insulates frozen lak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ost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maintain a steady state despite changing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is important to this process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Makes a good ins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Resists temperatur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Universal sol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 Coo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 Ice protects against temperature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xtremes (insulates frozen lak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ost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maintain a steady state despite changing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important to this process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akes a good 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Resists temperature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Universal sol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 Coo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 Ice protects against temperature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extremes (insulates frozen lak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 &amp; Susp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is usually part of a mix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types of mix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disperse as ions i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ly distribu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 into which the solute diss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ic compounds disperse as ions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ly 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ance that is being diss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ance into which the solute disso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ances that don’t dissolve but separate into tiny pie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keeps the pieces suspended so they don’t settle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water molecule, the oxygen atom attracts more than its "fair share"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xygen end “acts”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drogen end “acts”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the water to be 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Water is neutral (equal number of e- and p+) --- Zero Net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s, Bases and 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ne water molecule in 550 million naturally dissociates into a Hydrogen Ion (H+) and a Hydroxide Ion (OH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s, Bases and 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water molecule in 550 million naturally dissociates into a Hydrogen Ion (H+) and a Hydroxide Ion (OH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gen Ion          Hydroxide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                        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2O    H+  +  OH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0 up to 7 is acid … H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above 7 – 14 is basic… OH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3 is 10 x 10 x 10 (1000) stronger than a pH of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s the concentration of H+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s from 0 –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of 7 is 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0 up to 7 is acid … H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above 7 – 14 is basic… OH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H unit represents a factor of 10X change in 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 3 is 10 x 10 x 10 (1000) stronger than a pH of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Acids have a pH of 1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lots of          H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Acids have a pH of 1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lots of          H+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Bases have a pH of 11 to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lots of OH-ions and fewer H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Bases have a pH of 11 to 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 lots of OH-ions and fewer H+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cids or bases that react with strong acids or bases to prevent sharp, sudden changes in pH (neutraliz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naturally by the body to maintain homeost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acids or bases that react with strong acids or bases to prevent sharp, sudden changes in pH (neutraliz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d naturally by the body to maintain homeost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Exist Between Wate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ed between a highly Electronegative atom of a polar molecule and a Hyd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drogen bond is weak , but many hydrogen bonds are st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Between Wate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Oxygen end of one water molecule is attracted to the Positive Hydrogen end of another water molecule to form a HYDROGEN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Properties of Wa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Properties of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Properties of Wa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Properties of Wa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Properties of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sea level, pure water boils at 100 °C and freezes at 0 °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iling temperature of water decreases at higher elevations (lower atmospheric pressure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is reason, an egg will take longer to boil at higher alt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sea level, pure water boils at 100 °C and freezes at 0 °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iling temperature of water decreases at higher elevations (lower atmospheric pressure)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reason, an egg will take longer to boil at higher al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sea level, pure water boils at 100 °C and freezes at 0 °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iling temperature of water decreases at higher elevations (lower atmospheric pressure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is reason, an egg will take longer to boil at higher alt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sea level, pure water boils at 100 °C and freezes at 0 °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iling temperature of water decreases at higher elevations (lower atmospheric pressure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is reason, an egg will take longer to boil at higher alt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sea level, pure water boils at 100 °C and freezes at 0 °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iling temperature of water decreases at higher elevations (lower atmospheric pressure)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reason, an egg will take longer to boil at higher al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e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8377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The Extraordinary Properties of Water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031" descr="cr15206039"/>
          <p:cNvPicPr/>
          <p:nvPr/>
        </p:nvPicPr>
        <p:blipFill>
          <a:blip r:embed="rId1"/>
          <a:stretch/>
        </p:blipFill>
        <p:spPr>
          <a:xfrm>
            <a:off x="2666880" y="2286000"/>
            <a:ext cx="39290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o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d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High Specific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o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d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High Specific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High Heat of Vap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o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d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High Specific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High Heat of Vap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Less Dense as a Sol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ohes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62120" y="990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Attraction between particles of the same substance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why water is attracted to itself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Results in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Surface tension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(a measure of the strength of water’s surfac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Produces a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surface film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on water that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allows insects to walk on the surface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of wate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http://www.ccs.k12.in.us/chsBS/kons/kons/images/tension.gif"/>
          <p:cNvPicPr/>
          <p:nvPr/>
        </p:nvPicPr>
        <p:blipFill>
          <a:blip r:embed="rId1"/>
          <a:stretch/>
        </p:blipFill>
        <p:spPr>
          <a:xfrm>
            <a:off x="2743200" y="5410080"/>
            <a:ext cx="2743200" cy="12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ohesion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http://web.mit.edu/nnf/education/wettability/insect.jpg"/>
          <p:cNvPicPr/>
          <p:nvPr/>
        </p:nvPicPr>
        <p:blipFill>
          <a:blip r:embed="rId1"/>
          <a:stretch/>
        </p:blipFill>
        <p:spPr>
          <a:xfrm>
            <a:off x="820800" y="1384200"/>
            <a:ext cx="3276360" cy="2238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www.naturephoto-cz.com/photos/krasensky/surface-water-bug-0743.jpg"/>
          <p:cNvPicPr/>
          <p:nvPr/>
        </p:nvPicPr>
        <p:blipFill>
          <a:blip r:embed="rId2"/>
          <a:srcRect l="3999" t="0" r="0" b="10678"/>
          <a:stretch/>
        </p:blipFill>
        <p:spPr>
          <a:xfrm>
            <a:off x="4552920" y="2071800"/>
            <a:ext cx="4343400" cy="35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farm3.static.flickr.com/2018/2225172850_20b37ac1b5.jpg?v=0"/>
          <p:cNvPicPr/>
          <p:nvPr/>
        </p:nvPicPr>
        <p:blipFill>
          <a:blip r:embed="rId3"/>
          <a:srcRect l="16005" t="25150" r="0" b="13720"/>
          <a:stretch/>
        </p:blipFill>
        <p:spPr>
          <a:xfrm>
            <a:off x="457200" y="3962520"/>
            <a:ext cx="4000680" cy="266688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4800600" y="5867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lps insects walk across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d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160" y="12952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ttraction between two different substance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ater will mak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ydrogen bonds with other surface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such as glass, soil, plant tissues, and cott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pillar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ti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water molecules will “tow” each other along when in a thin glass tu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xample: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ranspirati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process which plants and trees remove water from the soil, and paper towels soak up water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dhesion Causes Capillary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990720" y="228600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ich gives water the ability to “climb”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http://www.ccs.k12.in.us/chsBS/kons/kons/images/capilary.gif"/>
          <p:cNvPicPr/>
          <p:nvPr/>
        </p:nvPicPr>
        <p:blipFill>
          <a:blip r:embed="rId1"/>
          <a:stretch/>
        </p:blipFill>
        <p:spPr>
          <a:xfrm>
            <a:off x="6172200" y="2057400"/>
            <a:ext cx="24829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dhesion Also Causes Water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http://www.drymaxsocks.com/images/adhesion.jpg"/>
          <p:cNvPicPr/>
          <p:nvPr/>
        </p:nvPicPr>
        <p:blipFill>
          <a:blip r:embed="rId1"/>
          <a:stretch/>
        </p:blipFill>
        <p:spPr>
          <a:xfrm>
            <a:off x="533520" y="2057400"/>
            <a:ext cx="3809880" cy="234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content.answers.com/main/content/wp/en/thumb/2/2c/250px-Water_drops_on_spider_web.jpg"/>
          <p:cNvPicPr/>
          <p:nvPr/>
        </p:nvPicPr>
        <p:blipFill>
          <a:blip r:embed="rId2"/>
          <a:stretch/>
        </p:blipFill>
        <p:spPr>
          <a:xfrm>
            <a:off x="4952880" y="1981080"/>
            <a:ext cx="3668760" cy="246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://www.ccs.k12.in.us/chsBS/kons/kons/images/water-droplet.jpg"/>
          <p:cNvPicPr/>
          <p:nvPr/>
        </p:nvPicPr>
        <p:blipFill>
          <a:blip r:embed="rId3"/>
          <a:stretch/>
        </p:blipFill>
        <p:spPr>
          <a:xfrm>
            <a:off x="3048120" y="4648320"/>
            <a:ext cx="2819160" cy="19904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/>
          <p:cNvSpPr/>
          <p:nvPr/>
        </p:nvSpPr>
        <p:spPr>
          <a:xfrm>
            <a:off x="533520" y="5181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m spheres &amp; hold onto plant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6172200" y="46483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tach to a silken spider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High Specific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mount of hea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needed to raise or lowe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g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 substanc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° 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te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esist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emperature chang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both for heating and coo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ter can absorb or release large amounts of heat energy with little change in actual temp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High Heat of Vap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mount of energy to convert 1g or a substance from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iquid to a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 order for water to evaporate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ydrogen bonds must be broke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s water evaporat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it removes a lot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ea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with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029200" y="5791320"/>
            <a:ext cx="2895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 water molecule (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), is made up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ree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toms --- on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xygen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nd two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16"/>
          <p:cNvGrpSpPr/>
          <p:nvPr/>
        </p:nvGrpSpPr>
        <p:grpSpPr>
          <a:xfrm>
            <a:off x="5766840" y="3581280"/>
            <a:ext cx="1852920" cy="1831320"/>
            <a:chOff x="5766840" y="3581280"/>
            <a:chExt cx="1852920" cy="1831320"/>
          </a:xfrm>
        </p:grpSpPr>
        <p:pic>
          <p:nvPicPr>
            <p:cNvPr id="48" name="Picture 9" descr=""/>
            <p:cNvPicPr/>
            <p:nvPr/>
          </p:nvPicPr>
          <p:blipFill>
            <a:blip r:embed="rId1"/>
            <a:stretch/>
          </p:blipFill>
          <p:spPr>
            <a:xfrm>
              <a:off x="5841720" y="3924360"/>
              <a:ext cx="177804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10"/>
            <p:cNvSpPr/>
            <p:nvPr/>
          </p:nvSpPr>
          <p:spPr>
            <a:xfrm>
              <a:off x="5766840" y="35812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11"/>
            <p:cNvSpPr/>
            <p:nvPr/>
          </p:nvSpPr>
          <p:spPr>
            <a:xfrm>
              <a:off x="7174800" y="495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Text Box 13"/>
          <p:cNvSpPr/>
          <p:nvPr/>
        </p:nvSpPr>
        <p:spPr>
          <a:xfrm>
            <a:off x="6362280" y="5257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3" descr="http://www.umass.edu/microbio/chime/pe_beta/pe/atlas/morphs/water10/water10_animation.gif"/>
          <p:cNvPicPr/>
          <p:nvPr/>
        </p:nvPicPr>
        <p:blipFill>
          <a:blip r:embed="rId2"/>
          <a:stretch/>
        </p:blipFill>
        <p:spPr>
          <a:xfrm>
            <a:off x="735120" y="3733920"/>
            <a:ext cx="45021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High Heat of Vap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ter's heat of vaporization i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540 cal/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 order for water to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vaporat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each gram mus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AIN 540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lories (temperature doesn’t change --- 10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s water evaporat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it removes a lot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ea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with it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(cooling effect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ater vapor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orms a kind of global ‘‘blanket” which helps to keep th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arth war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eat radiated from the sun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rmed surface of the earth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bsorbed and he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y the vapo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410080" y="3340080"/>
            <a:ext cx="289584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Water is Less Dense as a Sol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3520" y="1828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ce is less dens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s a solid than as a liquid (ice floa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quid water ha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bond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at ar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nstantly being broken and re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rozen wate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orms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rystal-like latti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whereby molecules are set at fixed di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28"/>
          <p:cNvSpPr/>
          <p:nvPr/>
        </p:nvSpPr>
        <p:spPr>
          <a:xfrm>
            <a:off x="457200" y="0"/>
            <a:ext cx="868680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ater is Less Dense as a Soli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hich is ice and which is wat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029" descr=""/>
          <p:cNvPicPr/>
          <p:nvPr/>
        </p:nvPicPr>
        <p:blipFill>
          <a:blip r:embed="rId1"/>
          <a:stretch/>
        </p:blipFill>
        <p:spPr>
          <a:xfrm>
            <a:off x="909720" y="2514600"/>
            <a:ext cx="3738600" cy="3809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30" descr=""/>
          <p:cNvPicPr/>
          <p:nvPr/>
        </p:nvPicPr>
        <p:blipFill>
          <a:blip r:embed="rId2"/>
          <a:stretch/>
        </p:blipFill>
        <p:spPr>
          <a:xfrm>
            <a:off x="4952880" y="2590920"/>
            <a:ext cx="359280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2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28"/>
          <p:cNvSpPr/>
          <p:nvPr/>
        </p:nvSpPr>
        <p:spPr>
          <a:xfrm>
            <a:off x="0" y="228600"/>
            <a:ext cx="9067680" cy="48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ater is Less Dense as a Soli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029" descr=""/>
          <p:cNvPicPr/>
          <p:nvPr/>
        </p:nvPicPr>
        <p:blipFill>
          <a:blip r:embed="rId1"/>
          <a:stretch/>
        </p:blipFill>
        <p:spPr>
          <a:xfrm>
            <a:off x="909720" y="2514600"/>
            <a:ext cx="3738600" cy="3809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30" descr=""/>
          <p:cNvPicPr/>
          <p:nvPr/>
        </p:nvPicPr>
        <p:blipFill>
          <a:blip r:embed="rId2"/>
          <a:stretch/>
        </p:blipFill>
        <p:spPr>
          <a:xfrm>
            <a:off x="4952880" y="2590920"/>
            <a:ext cx="3592800" cy="37335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31"/>
          <p:cNvSpPr/>
          <p:nvPr/>
        </p:nvSpPr>
        <p:spPr>
          <a:xfrm>
            <a:off x="1987920" y="1652760"/>
            <a:ext cx="15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32"/>
          <p:cNvSpPr/>
          <p:nvPr/>
        </p:nvSpPr>
        <p:spPr>
          <a:xfrm>
            <a:off x="6354720" y="16527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Homeosta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bility to maintain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eady stat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espite changing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ter is important to this process beca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.  Makes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ood insu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.  Resists temperature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.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Universal sol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.  Coo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  Ice protects against temperature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extremes (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sulat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frozen lak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Solutions &amp; Suspens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ter is usually part of a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ix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re are two types of mixtur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usp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Solu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onic compounds disperse a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enly distrib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OL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 that is being diss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OL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 into which the solute disso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Solu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nacl_dissolving"/>
          <p:cNvPicPr/>
          <p:nvPr/>
        </p:nvPicPr>
        <p:blipFill>
          <a:blip r:embed="rId1"/>
          <a:stretch/>
        </p:blipFill>
        <p:spPr>
          <a:xfrm>
            <a:off x="685800" y="1828800"/>
            <a:ext cx="8001000" cy="3875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Suspens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s tha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on’t dissolve but separat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to tiny pie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ater keeps the pieces suspended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o they don’t settle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mayonaise"/>
          <p:cNvPicPr/>
          <p:nvPr/>
        </p:nvPicPr>
        <p:blipFill>
          <a:blip r:embed="rId1"/>
          <a:stretch/>
        </p:blipFill>
        <p:spPr>
          <a:xfrm>
            <a:off x="7238880" y="3886200"/>
            <a:ext cx="1613160" cy="2743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:\My Documents\My Pictures\180px-WaterAndFlourSuspensionLiquid.jpg"/>
          <p:cNvPicPr/>
          <p:nvPr/>
        </p:nvPicPr>
        <p:blipFill>
          <a:blip r:embed="rId2"/>
          <a:stretch/>
        </p:blipFill>
        <p:spPr>
          <a:xfrm>
            <a:off x="5105520" y="1219320"/>
            <a:ext cx="2286000" cy="391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Water is Po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In each water molecule, the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oxygen atom attracts more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than its "fair share" of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electr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oxygen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end “acts”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nega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hydrogen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end “acts”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posi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Causes the water to be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PO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However, Water is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neutral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(equal number of e- and p+) ---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Zero Net Char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Acids, Bases and p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ne water molecul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 550 million naturally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issociat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to a Hydrogen Io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(H+)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 a Hydroxide Io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(OH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ydrogen Ion          Hydroxide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cid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85800" y="3733920"/>
            <a:ext cx="746748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O  </a:t>
            </a:r>
            <a:r>
              <a:rPr b="0" lang="en-US" sz="48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 H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 Black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 +  OH</a:t>
            </a:r>
            <a:r>
              <a:rPr b="1" lang="en-US" sz="6600" spc="-1" strike="noStrike" baseline="34000">
                <a:solidFill>
                  <a:srgbClr val="000000"/>
                </a:solidFill>
                <a:latin typeface="Arial Black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 flipV="1">
            <a:off x="3733920" y="4495320"/>
            <a:ext cx="457200" cy="685800"/>
          </a:xfrm>
          <a:prstGeom prst="line">
            <a:avLst/>
          </a:prstGeom>
          <a:ln w="63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6"/>
          <p:cNvSpPr/>
          <p:nvPr/>
        </p:nvSpPr>
        <p:spPr>
          <a:xfrm flipH="1" flipV="1">
            <a:off x="6857640" y="4419360"/>
            <a:ext cx="152280" cy="685800"/>
          </a:xfrm>
          <a:prstGeom prst="line">
            <a:avLst/>
          </a:prstGeom>
          <a:ln w="63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The pH Sca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icates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ncentration of H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anges from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0 –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7 is 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0 up to 7 is acid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… H</a:t>
            </a:r>
            <a:r>
              <a:rPr b="1" lang="en-US" sz="3200" spc="-1" strike="noStrike" baseline="4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bove 7 – 14 is b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sic… OH</a:t>
            </a:r>
            <a:r>
              <a:rPr b="1" lang="en-US" sz="3200" spc="-1" strike="noStrike" baseline="34000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ach pH unit represents a factor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10X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hange in concen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H 3 is 10 x 10 x 10 (1000) stronger than a pH of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Aci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trong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cids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have a pH of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1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oduc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ts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       H</a:t>
            </a:r>
            <a:r>
              <a:rPr b="1" lang="en-US" sz="3200" spc="-1" strike="noStrike" baseline="36000">
                <a:solidFill>
                  <a:srgbClr val="ffff00"/>
                </a:solidFill>
                <a:latin typeface="Comic Sans MS"/>
              </a:rPr>
              <a:t>+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4" descr="pH_acid"/>
          <p:cNvPicPr/>
          <p:nvPr/>
        </p:nvPicPr>
        <p:blipFill>
          <a:blip r:embed="rId1"/>
          <a:stretch/>
        </p:blipFill>
        <p:spPr>
          <a:xfrm>
            <a:off x="3809880" y="1674720"/>
            <a:ext cx="4648320" cy="4345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B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819520" cy="44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rong Base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ave a pH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11 to 1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ntai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ots of OH</a:t>
            </a:r>
            <a:r>
              <a:rPr b="1" lang="en-US" sz="32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 fewer H+ 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pH_basic"/>
          <p:cNvPicPr/>
          <p:nvPr/>
        </p:nvPicPr>
        <p:blipFill>
          <a:blip r:embed="rId1"/>
          <a:stretch/>
        </p:blipFill>
        <p:spPr>
          <a:xfrm>
            <a:off x="3581280" y="1530360"/>
            <a:ext cx="4800600" cy="426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Buff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Weak acids or bases that react with strong acids or bases to prevent sharp, sudden changes in pH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(neutralization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Produced naturally by the body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to maintain homeosta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C:\My Documents\My Pictures\heinz-white-vinegar.jpg"/>
          <p:cNvPicPr/>
          <p:nvPr/>
        </p:nvPicPr>
        <p:blipFill>
          <a:blip r:embed="rId1"/>
          <a:stretch/>
        </p:blipFill>
        <p:spPr>
          <a:xfrm>
            <a:off x="2209680" y="426708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19051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ak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6" descr="C:\My Documents\My Pictures\DawnLarge.jpg"/>
          <p:cNvPicPr/>
          <p:nvPr/>
        </p:nvPicPr>
        <p:blipFill>
          <a:blip r:embed="rId2"/>
          <a:stretch/>
        </p:blipFill>
        <p:spPr>
          <a:xfrm>
            <a:off x="5486400" y="41148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54100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ak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Hydrogen Bonds Exist Between Water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486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ormed between a highly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lectronegative atom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f a polar molecule and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n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hydrogen bond i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eak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, bu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an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hydrogen bonds ar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http://academic.brooklyn.cuny.edu/biology/bio4fv/page/image12.gif"/>
          <p:cNvPicPr/>
          <p:nvPr/>
        </p:nvPicPr>
        <p:blipFill>
          <a:blip r:embed="rId1"/>
          <a:stretch/>
        </p:blipFill>
        <p:spPr>
          <a:xfrm>
            <a:off x="5486400" y="2209680"/>
            <a:ext cx="34290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Interaction Between Water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H-bond.gif"/>
          <p:cNvPicPr/>
          <p:nvPr/>
        </p:nvPicPr>
        <p:blipFill>
          <a:blip r:embed="rId1"/>
          <a:stretch/>
        </p:blipFill>
        <p:spPr>
          <a:xfrm>
            <a:off x="2209680" y="3505320"/>
            <a:ext cx="4970520" cy="268596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304920" y="19810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egative Oxyge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 of one water molecule is attracted to the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ositive Hydroge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 of another water molecule to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YDROGEN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38102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hat are the Properties of Wat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http://www.grow.arizona.edu/images/water/iceberg.jpg"/>
          <p:cNvPicPr/>
          <p:nvPr/>
        </p:nvPicPr>
        <p:blipFill>
          <a:blip r:embed="rId1"/>
          <a:stretch/>
        </p:blipFill>
        <p:spPr>
          <a:xfrm>
            <a:off x="4419720" y="380880"/>
            <a:ext cx="4419360" cy="62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t sea level, pure wate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oils at 100 °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reezes at 0 °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oiling temperature of water decreases at higher elevation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lower atmospheric pressure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or this reason,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gg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will tak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onger to boil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t higher alt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Egg_cracks[1].gif"/>
          <p:cNvPicPr/>
          <p:nvPr/>
        </p:nvPicPr>
        <p:blipFill>
          <a:blip r:embed="rId1"/>
          <a:stretch/>
        </p:blipFill>
        <p:spPr>
          <a:xfrm>
            <a:off x="7848720" y="5105520"/>
            <a:ext cx="971280" cy="97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o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o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dh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eryl Massengale</dc:creator>
  <dc:description/>
  <dc:language>en-US</dc:language>
  <cp:lastModifiedBy>LEGION</cp:lastModifiedBy>
  <cp:lastPrinted>2000-08-17T13:23:07Z</cp:lastPrinted>
  <dcterms:modified xsi:type="dcterms:W3CDTF">2016-12-07T09:17:56Z</dcterms:modified>
  <cp:revision>38</cp:revision>
  <dc:subject/>
  <dc:title>The Extraordinary Properties of Water</dc:title>
</cp:coreProperties>
</file>