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CAMERA.WAV" ContentType="audio/x-wav"/>
  <Override PartName="/ppt/media/LASER.WAV" ContentType="audio/x-wav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083B7-0793-45EC-987E-A1CFDAC62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IP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P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aracteristics of Lip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mposed of Carbon, Hydrogen, and Oxy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reater than 2:1 ratio of H: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ncludes fats, oils, phospholipids, and cholester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uilding blocks are fatty acids and glycer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nergy storage mole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ospholipids part of cell membr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of Lip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ed of Carbon, Hydrogen, and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er than 2:1 ratio of H: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s fats, oils, phospholipids, and choleste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 blocks are fatty acids and glycer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storage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spholipids part of cell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ty Acid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xyl group (COOH) forms the ac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” group is a hydrocarbon cha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ty Acid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 group (COOH) forms the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” group is a hydrocarbon ch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 Representative Fatty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presentative Fatty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ty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satur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ty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u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ty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satu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ty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lycer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yce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ynthesis of a F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thesis of a F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 Phospholip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hospholip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5F8E-54AD-45A4-BE31-CA0A96E70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CCD5-7113-4F2B-9595-26CC920F5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4D7E-19FC-4C71-81A2-B2043B52C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CFCC-A131-4AE4-A3CC-963FE4D00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2075-3F98-4695-AAB9-2D1BEC4E0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2EF7-45D4-4B4A-BE20-5D8F60A7C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6A14-17B5-4EA8-962B-762C36A03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AF4E-04FA-48DD-AEEB-6399C1671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6B0A-0219-4FED-932F-A6EF9D767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212A-F088-4616-ACFB-CDB69D89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558D-2851-42E6-9B2A-CDD35017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A3CA-FEC6-4DFE-9A73-CE717A24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B34D7-3046-477B-8531-38883480F3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CAMERA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cc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139760" y="1752480"/>
            <a:ext cx="6951960" cy="2715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cc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200" spc="-1" strike="noStrike">
                <a:solidFill>
                  <a:srgbClr val="663300"/>
                </a:solidFill>
                <a:latin typeface="Palatia"/>
              </a:rPr>
              <a:t>LIPIDS</a:t>
            </a:r>
            <a:endParaRPr b="0" lang="en-US" sz="1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fcc99"/>
            </a:gs>
            <a:gs pos="100000">
              <a:srgbClr val="66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Palatia"/>
              </a:rPr>
              <a:t>Characteristics of Lip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Palatia"/>
              </a:rPr>
              <a:t>Composed of Carbon, Hydrogen, and Oxy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Palatia"/>
              </a:rPr>
              <a:t>Greater than 2:1 ratio of H: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Palatia"/>
              </a:rPr>
              <a:t>Includes fats, oils, phospholipids, and choleste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Palatia"/>
              </a:rPr>
              <a:t>Building blocks are fatty acids and glycer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Palatia"/>
              </a:rPr>
              <a:t>Energy storage molec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Palatia"/>
              </a:rPr>
              <a:t>Phospholipids part of cell membr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1981080" y="1828800"/>
          <a:ext cx="4800600" cy="304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828800"/>
                    <a:ext cx="4800600" cy="30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Text Box 3"/>
          <p:cNvSpPr/>
          <p:nvPr/>
        </p:nvSpPr>
        <p:spPr>
          <a:xfrm>
            <a:off x="1762920" y="655560"/>
            <a:ext cx="5324400" cy="764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Palatia"/>
              </a:rPr>
              <a:t>Fatty Acid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1107000" y="5105520"/>
            <a:ext cx="6822000" cy="9471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Palatia"/>
              </a:rPr>
              <a:t>Carboxyl group (COOH) forms the ac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Palatia"/>
              </a:rPr>
              <a:t>“</a:t>
            </a:r>
            <a:r>
              <a:rPr b="0" lang="en-US" sz="2800" spc="-1" strike="noStrike">
                <a:solidFill>
                  <a:srgbClr val="3333cc"/>
                </a:solidFill>
                <a:latin typeface="Palatia"/>
              </a:rPr>
              <a:t>R” group is a hydrocarbon ch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75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75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75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75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Palatia"/>
              </a:rPr>
              <a:t>A Representative Fatty Ac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3" descr="3_13"/>
          <p:cNvPicPr/>
          <p:nvPr/>
        </p:nvPicPr>
        <p:blipFill>
          <a:blip r:embed="rId1"/>
          <a:stretch/>
        </p:blipFill>
        <p:spPr>
          <a:xfrm>
            <a:off x="1828800" y="1905120"/>
            <a:ext cx="5664240" cy="439416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3_16"/>
          <p:cNvPicPr/>
          <p:nvPr/>
        </p:nvPicPr>
        <p:blipFill>
          <a:blip r:embed="rId1"/>
          <a:stretch/>
        </p:blipFill>
        <p:spPr>
          <a:xfrm>
            <a:off x="1143000" y="571680"/>
            <a:ext cx="6858000" cy="5715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>
            <a:off x="921600" y="243828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Palatia"/>
              </a:rPr>
              <a:t>Satu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Palatia"/>
              </a:rPr>
              <a:t>Fatty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798520" y="1349280"/>
            <a:ext cx="197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Palatia"/>
              </a:rPr>
              <a:t>Unsatu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Palatia"/>
              </a:rPr>
              <a:t>Fatty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66"/>
            </a:gs>
            <a:gs pos="100000">
              <a:srgbClr val="ff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a362a3"/>
              </a:gs>
              <a:gs pos="100000">
                <a:srgbClr val="ff99ff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0099"/>
                </a:solidFill>
                <a:latin typeface="Palatia"/>
              </a:rPr>
              <a:t>Glycerol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Object 3"/>
          <p:cNvGraphicFramePr/>
          <p:nvPr/>
        </p:nvGraphicFramePr>
        <p:xfrm>
          <a:off x="1981080" y="1905120"/>
          <a:ext cx="5029200" cy="408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905120"/>
                    <a:ext cx="5029200" cy="40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99ccff"/>
            </a:gs>
            <a:gs pos="100000">
              <a:srgbClr val="0000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Palatia"/>
              </a:rPr>
              <a:t>Synthesis of a F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3" descr="3_15"/>
          <p:cNvPicPr/>
          <p:nvPr/>
        </p:nvPicPr>
        <p:blipFill>
          <a:blip r:embed="rId1"/>
          <a:stretch/>
        </p:blipFill>
        <p:spPr>
          <a:xfrm>
            <a:off x="1371600" y="1905120"/>
            <a:ext cx="6819840" cy="438444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cc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Palatia"/>
              </a:rPr>
              <a:t>A Phospholip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" descr="3_17"/>
          <p:cNvPicPr/>
          <p:nvPr/>
        </p:nvPicPr>
        <p:blipFill>
          <a:blip r:embed="rId1"/>
          <a:stretch/>
        </p:blipFill>
        <p:spPr>
          <a:xfrm>
            <a:off x="1905120" y="2057400"/>
            <a:ext cx="5587920" cy="432576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2T20:04:28Z</dcterms:created>
  <dc:creator>Cheryl Massengale</dc:creator>
  <dc:description/>
  <dc:language>en-US</dc:language>
  <cp:lastModifiedBy>LEGION</cp:lastModifiedBy>
  <dcterms:modified xsi:type="dcterms:W3CDTF">2016-12-07T09:19:19Z</dcterms:modified>
  <cp:revision>6</cp:revision>
  <dc:subject/>
  <dc:title>Lipids</dc:title>
</cp:coreProperties>
</file>