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CAMERA.WAV" ContentType="audio/x-wav"/>
  <Override PartName="/ppt/media/LASER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2274-E130-424D-B278-554EF5735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Lip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Carbon, Hydrogen,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than 2:1 ratio of H: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fats, oils, phospholipids, and cholest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blocks are fatty acids and glyce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torag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spholipids part of 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xyl group (COOH) forms the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” group is a hydrocarbo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esentative 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ty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a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ospholip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D38-2DB7-4D9D-BCFA-78F48F8B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A1D5-A7CF-49F6-B462-F6F45DC6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8AD-B7B0-4B53-9CC9-A2A1C74A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570D-51C6-4F9A-9BAB-8CC96E0E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248-6CA2-49B0-A9B4-DD47491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0D0-7629-4117-807B-BC5B2F6B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1BE-59CA-4835-8061-B809541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6B9-A577-4089-8B4F-81354FF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D8B-7E1E-45E6-8FC3-F03E3466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28D-A98D-4519-A654-6E06406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4F70-D17E-46AD-B7A6-9AEDA29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1D1-F100-4856-91A1-F167264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EB1-5D3E-4562-957A-12D3E6E2D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AMERA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139760" y="1752480"/>
            <a:ext cx="6951960" cy="2715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200" spc="-1" strike="noStrike">
                <a:solidFill>
                  <a:srgbClr val="663300"/>
                </a:solidFill>
                <a:latin typeface="Palatia"/>
              </a:rPr>
              <a:t>LIPIDS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fcc99"/>
            </a:gs>
            <a:gs pos="100000">
              <a:srgbClr val="66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Palatia"/>
              </a:rPr>
              <a:t>Characteristics of Lip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Composed of Carbon, Hydrogen, and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Greater than 2:1 ratio of H: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Includes fats, oils, phospholipids, an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Building blocks are fatty acids and glycer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Energy storage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Palatia"/>
              </a:rPr>
              <a:t>Phospholipids part of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981080" y="1828800"/>
          <a:ext cx="48006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8006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1762920" y="655560"/>
            <a:ext cx="532440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latia"/>
              </a:rPr>
              <a:t>Fatty Acid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07000" y="5105520"/>
            <a:ext cx="68220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Carboxyl group (COOH) forms the ac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Pala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Palatia"/>
              </a:rPr>
              <a:t>R” group is a hydrocarbon ch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A Representative Fatty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3_13"/>
          <p:cNvPicPr/>
          <p:nvPr/>
        </p:nvPicPr>
        <p:blipFill>
          <a:blip r:embed="rId1"/>
          <a:stretch/>
        </p:blipFill>
        <p:spPr>
          <a:xfrm>
            <a:off x="1828800" y="1905120"/>
            <a:ext cx="5664240" cy="4394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3_16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921600" y="2438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8520" y="134928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Un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Palatia"/>
              </a:rPr>
              <a:t>Fatty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a362a3"/>
              </a:gs>
              <a:gs pos="100000">
                <a:srgbClr val="ff99ff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0099"/>
                </a:solidFill>
                <a:latin typeface="Palatia"/>
              </a:rPr>
              <a:t>Glycero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3"/>
          <p:cNvGraphicFramePr/>
          <p:nvPr/>
        </p:nvGraphicFramePr>
        <p:xfrm>
          <a:off x="1981080" y="1905120"/>
          <a:ext cx="502920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0292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99ccff"/>
            </a:gs>
            <a:gs pos="100000">
              <a:srgbClr val="0000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Palatia"/>
              </a:rPr>
              <a:t>Synthesis of a F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3_15"/>
          <p:cNvPicPr/>
          <p:nvPr/>
        </p:nvPicPr>
        <p:blipFill>
          <a:blip r:embed="rId1"/>
          <a:stretch/>
        </p:blipFill>
        <p:spPr>
          <a:xfrm>
            <a:off x="1371600" y="1905120"/>
            <a:ext cx="6819840" cy="43844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Palatia"/>
              </a:rPr>
              <a:t>A Phospholip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3_17"/>
          <p:cNvPicPr/>
          <p:nvPr/>
        </p:nvPicPr>
        <p:blipFill>
          <a:blip r:embed="rId1"/>
          <a:stretch/>
        </p:blipFill>
        <p:spPr>
          <a:xfrm>
            <a:off x="1905120" y="2057400"/>
            <a:ext cx="5587920" cy="4325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0:04:28Z</dcterms:created>
  <dc:creator>Cheryl Massengale</dc:creator>
  <dc:description/>
  <dc:language>en-US</dc:language>
  <cp:lastModifiedBy>LEGION</cp:lastModifiedBy>
  <dcterms:modified xsi:type="dcterms:W3CDTF">2016-12-07T09:19:19Z</dcterms:modified>
  <cp:revision>6</cp:revision>
  <dc:subject/>
  <dc:title>Lipids</dc:title>
</cp:coreProperties>
</file>