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5964-7ED0-478C-8036-66FC2A19D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0CB-8775-4F93-817C-DAB99368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487-2779-4818-ABE8-FD388139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77E-34D4-4997-AA29-FC752DDC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263-01A6-48EE-8877-639954B1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DB8-85EC-43AE-B885-08BF3F34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050-72E7-4626-A3A4-B2D6143B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BA7-FE70-4A07-A9FA-7F20C31B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D17-9469-45E3-9B40-A80B9517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96E-4217-4F98-BEF8-D5727CC4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BD6-6FAF-46BB-A670-1581D9E0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4D9-266C-4531-BE6E-9D3F1C0F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8D9-D4C3-4C1C-8CCE-5FC71D3D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05D1-F854-415C-8789-3322C49A2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6, the Oxy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111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two members of Group 16, oxygen and sulfur, are essential for lif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42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vier members of the group, tellurium and polonium, are both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34"/>
          <p:cNvPicPr/>
          <p:nvPr/>
        </p:nvPicPr>
        <p:blipFill>
          <a:blip r:embed="rId1"/>
          <a:stretch/>
        </p:blipFill>
        <p:spPr>
          <a:xfrm>
            <a:off x="5035680" y="2257560"/>
            <a:ext cx="36716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67940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zone, a less common form of oxygen, is formed in the upper atmosphere through the action of electricity during thunderst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4830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esence of ozone is important because it shields living organisms from some harmful radiation from the S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9528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is a solid, yellow nonme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85724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mounts of sulfur are used to manufacture sulfuric acid, one of the most commonly used chemicals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328284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ic acid is a combination of sulfur, hydrogen,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3520" y="427032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in the manufacture of paints, fertilizers, detergents, synthetic fibers, and ru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"/>
          <p:cNvGrpSpPr/>
          <p:nvPr/>
        </p:nvGrpSpPr>
        <p:grpSpPr>
          <a:xfrm>
            <a:off x="533520" y="1413000"/>
            <a:ext cx="8076960" cy="2273040"/>
            <a:chOff x="533520" y="1413000"/>
            <a:chExt cx="8076960" cy="2273040"/>
          </a:xfrm>
        </p:grpSpPr>
        <p:sp>
          <p:nvSpPr>
            <p:cNvPr id="68" name="Text Box 7"/>
            <p:cNvSpPr/>
            <p:nvPr/>
          </p:nvSpPr>
          <p:spPr>
            <a:xfrm>
              <a:off x="533520" y="1413000"/>
              <a:ext cx="8076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elenium conducts electricity when exposed to light, so it is used in solar cells, ligh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874800" y="2276640"/>
              <a:ext cx="253044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ters, and photographic material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3520" y="1295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most important use is as the light-sensitive component in photocopy mach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2308320"/>
            <a:ext cx="25905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s of selenium are also necessary for good h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2412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0 percent of Earth’s atmosphere is the oxygen you breat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3520" y="3641760"/>
            <a:ext cx="3809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also is required for combustion to occu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m35 burning"/>
          <p:cNvPicPr/>
          <p:nvPr/>
        </p:nvPicPr>
        <p:blipFill>
          <a:blip r:embed="rId1"/>
          <a:stretch/>
        </p:blipFill>
        <p:spPr>
          <a:xfrm>
            <a:off x="4038480" y="3200400"/>
            <a:ext cx="4114800" cy="2644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533520" y="22096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is abundant in Earth’s rocks and minerals because it readily combines with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3:40Z</dcterms:created>
  <dc:creator>CIC1</dc:creator>
  <dc:description/>
  <dc:language>en-US</dc:language>
  <cp:lastModifiedBy>RomaK</cp:lastModifiedBy>
  <dcterms:modified xsi:type="dcterms:W3CDTF">2015-09-01T16:27:33Z</dcterms:modified>
  <cp:revision>7</cp:revision>
  <dc:subject/>
  <dc:title>Group 16, the Oxygen Group</dc:title>
</cp:coreProperties>
</file>