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613E-0FBA-4C15-8EAC-EFCC735455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, the Oxy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, the Oxy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 members of Group 16, oxygen and sulfur, are essential for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vier members of the group, tellurium and polonium, are both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 members of Group 16, oxygen and sulfur, are essential for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vier members of the group, tellurium and polonium, are both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one, a less common form of oxygen, is formed in the upper atmosphere through the action of electricity during thunderst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ce of ozone is important because it shields living organisms from some harmful radiation from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one, a less common form of oxygen, is formed in the upper atmosphere through the action of electricity during thunderst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ce of ozone is important because it shields living organisms from some harmful radiation from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is a solid, yellow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sulfur are used to manufacture sulfuric acid, one of the most commonly used chemicals in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ic acid is a combination of sulfur, hydrogen,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in the manufacture of paints, fertilizers, detergents, synthetic fibers, and ru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is a solid, yellow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sulfur are used to manufacture sulfuric acid, one of the most commonly used chemicals in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ic acid is a combination of sulfur, hydrogen,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in the manufacture of paints, fertilizers, detergents, synthetic fibers, and ru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st important use is as the light-sensitive component in photocopy mach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selenium are also necessary for good heal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st important use is as the light-sensitive component in photocopy mach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selenium are also necessary for good heal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20 percent of Earth’s atmosphere is the oxygen you breath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so is required for combustion to occ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abundant in Earth’s rocks and minerals because it readily combines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20 percent of Earth’s atmosphere is the oxygen you breath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so is required for combustion to occ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abundant in Earth’s rocks and minerals because it readily combines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D9C8-0B1F-4F4C-9660-48FBCB18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3B32-F3D8-4A0F-91EA-C135A008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FF8C-0168-485B-BBE0-025308A8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4BF4-0E66-47CE-93D6-9DB99FEA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CAA-66DE-4268-B7DD-3269F980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9BD7-3F06-47DD-8FF7-8654AD79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8A9-B28A-4B7D-AAB2-07D8B641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BF50-EDA9-48FD-AD0B-BC9229BB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777F-46DC-4386-A6DD-C8C66308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6B9-BA37-400C-AD79-A35A0A03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ED4-3992-419F-B8DD-0AFCF4C9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AD4-2580-4AB6-8CB4-5F1B5416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4FB1-7D7A-4E36-ABE3-2CBDBA14B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6, the Oxyge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1112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two members of Group 16, oxygen and sulfur, are essential for lif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42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vier members of the group, tellurium and polonium, are both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34"/>
          <p:cNvPicPr/>
          <p:nvPr/>
        </p:nvPicPr>
        <p:blipFill>
          <a:blip r:embed="rId1"/>
          <a:stretch/>
        </p:blipFill>
        <p:spPr>
          <a:xfrm>
            <a:off x="5035680" y="2257560"/>
            <a:ext cx="367164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67940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zone, a less common form of oxygen, is formed in the upper atmosphere through the action of electricity during thunderst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348300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esence of ozone is important because it shields living organisms from some harmful radiation from the Su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29528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is a solid, yellow nonmet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185724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mounts of sulfur are used to manufacture sulfuric acid, one of the most commonly used chemicals in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33520" y="328284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ic acid is a combination of sulfur, hydrogen,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33520" y="4270320"/>
            <a:ext cx="731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used in the manufacture of paints, fertilizers, detergents, synthetic fibers, and rub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47 im38 solar cells copy"/>
          <p:cNvPicPr/>
          <p:nvPr/>
        </p:nvPicPr>
        <p:blipFill>
          <a:blip r:embed="rId1"/>
          <a:stretch/>
        </p:blipFill>
        <p:spPr>
          <a:xfrm>
            <a:off x="3352680" y="2406600"/>
            <a:ext cx="5143680" cy="34416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6"/>
          <p:cNvGrpSpPr/>
          <p:nvPr/>
        </p:nvGrpSpPr>
        <p:grpSpPr>
          <a:xfrm>
            <a:off x="533520" y="1413000"/>
            <a:ext cx="8076960" cy="2273040"/>
            <a:chOff x="533520" y="1413000"/>
            <a:chExt cx="8076960" cy="2273040"/>
          </a:xfrm>
        </p:grpSpPr>
        <p:sp>
          <p:nvSpPr>
            <p:cNvPr id="68" name="Text Box 7"/>
            <p:cNvSpPr/>
            <p:nvPr/>
          </p:nvSpPr>
          <p:spPr>
            <a:xfrm>
              <a:off x="533520" y="1413000"/>
              <a:ext cx="80769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elenium conducts electricity when exposed to light, so it is used in solar cells, ligh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874800" y="2276640"/>
              <a:ext cx="253044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eters, and photographic materials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33520" y="12952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most important use is as the light-sensitive component in photocopy machin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2308320"/>
            <a:ext cx="25905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es of selenium are also necessary for good heal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647 im38 solar cells copy"/>
          <p:cNvPicPr/>
          <p:nvPr/>
        </p:nvPicPr>
        <p:blipFill>
          <a:blip r:embed="rId1"/>
          <a:stretch/>
        </p:blipFill>
        <p:spPr>
          <a:xfrm>
            <a:off x="3352680" y="2406600"/>
            <a:ext cx="51436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2412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0 percent of Earth’s atmosphere is the oxygen you breath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33520" y="3641760"/>
            <a:ext cx="3809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also is required for combustion to occu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im35 burning"/>
          <p:cNvPicPr/>
          <p:nvPr/>
        </p:nvPicPr>
        <p:blipFill>
          <a:blip r:embed="rId1"/>
          <a:stretch/>
        </p:blipFill>
        <p:spPr>
          <a:xfrm>
            <a:off x="4038480" y="3200400"/>
            <a:ext cx="4114800" cy="2644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533520" y="220968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is abundant in Earth’s rocks and minerals because it readily combines with 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3:40Z</dcterms:created>
  <dc:creator>CIC1</dc:creator>
  <dc:description/>
  <dc:language>en-US</dc:language>
  <cp:lastModifiedBy>RomaK</cp:lastModifiedBy>
  <dcterms:modified xsi:type="dcterms:W3CDTF">2015-09-01T16:27:33Z</dcterms:modified>
  <cp:revision>7</cp:revision>
  <dc:subject/>
  <dc:title>Group 16, the Oxygen Group</dc:title>
</cp:coreProperties>
</file>