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C34F-4E3C-4147-95F2-90F29043C0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F75-A906-4FD7-B440-40BCF9F5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4D4-7A7E-451B-8359-E41FF723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E36-40D7-4755-99AF-12BD0B80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02A-CB3B-4303-B8CF-3779E331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FC3-9668-4005-840E-07A92369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40F-F2A8-49EE-B4D9-8617B732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8E2-8384-4643-82CB-4A3B93DC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BA2-5AD3-4B2D-A22A-D0540885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906-5255-46F9-9728-737D4E8E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850-B73E-4ECE-BB66-703FB572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8D95-F4B9-4D07-B874-93AEDA14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B2A-54ED-4B6A-B68C-3A20000A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8722-68C2-4363-BDB6-F2708D500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6, the Oxy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11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members of Group 16, oxygen and sulfur, are essential for lif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42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vier members of the group, tellurium and polonium, are both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34"/>
          <p:cNvPicPr/>
          <p:nvPr/>
        </p:nvPicPr>
        <p:blipFill>
          <a:blip r:embed="rId1"/>
          <a:stretch/>
        </p:blipFill>
        <p:spPr>
          <a:xfrm>
            <a:off x="5035680" y="2257560"/>
            <a:ext cx="3671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6794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zone, a less common form of oxygen, is formed in the upper atmosphere through the action of electricity during thunderst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483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ence of ozone is important because it shields living organisms from some harmful radiation from the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952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is a solid, yellow nonme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85724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mounts of sulfur are used to manufacture sulfuric acid, one of the most commonly used chemicals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328284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ic acid is a combination of sulfur, hydrogen,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3520" y="4270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in the manufacture of paints, fertilizers, detergents, synthetic fibers, and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533520" y="1413000"/>
            <a:ext cx="8076960" cy="2273040"/>
            <a:chOff x="533520" y="1413000"/>
            <a:chExt cx="8076960" cy="2273040"/>
          </a:xfrm>
        </p:grpSpPr>
        <p:sp>
          <p:nvSpPr>
            <p:cNvPr id="68" name="Text Box 7"/>
            <p:cNvSpPr/>
            <p:nvPr/>
          </p:nvSpPr>
          <p:spPr>
            <a:xfrm>
              <a:off x="533520" y="141300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elenium conducts electricity when exposed to light, so it is used in solar cells, ligh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874800" y="2276640"/>
              <a:ext cx="253044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ters, and photographic material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most important use is as the light-sensitive component in photocopy mach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2308320"/>
            <a:ext cx="2590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s of selenium are also necessary for good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2412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0 percent of Earth’s atmosphere is the oxygen you breat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3641760"/>
            <a:ext cx="3809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also is required for combustion to occu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35 burning"/>
          <p:cNvPicPr/>
          <p:nvPr/>
        </p:nvPicPr>
        <p:blipFill>
          <a:blip r:embed="rId1"/>
          <a:stretch/>
        </p:blipFill>
        <p:spPr>
          <a:xfrm>
            <a:off x="4038480" y="3200400"/>
            <a:ext cx="4114800" cy="2644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22096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is abundant in Earth’s rocks and minerals because it readily combines with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3:40Z</dcterms:created>
  <dc:creator>CIC1</dc:creator>
  <dc:description/>
  <dc:language>en-US</dc:language>
  <cp:lastModifiedBy>RomaK</cp:lastModifiedBy>
  <dcterms:modified xsi:type="dcterms:W3CDTF">2015-09-01T16:27:33Z</dcterms:modified>
  <cp:revision>7</cp:revision>
  <dc:subject/>
  <dc:title>Group 16, the Oxygen Group</dc:title>
</cp:coreProperties>
</file>