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4DFA7-66E7-4CCA-8DB5-D3954ECD20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, the Oxy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, the Oxy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two members of Group 16, oxygen and sulfur, are essential for lif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vier members of the group, tellurium and polonium, are both metalloi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two members of Group 16, oxygen and sulfur, are essential for lif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vier members of the group, tellurium and polonium, are both metalloi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zone, a less common form of oxygen, is formed in the upper atmosphere through the action of electricity during thunderstor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ence of ozone is important because it shields living organisms from some harmful radiation from the Su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zone, a less common form of oxygen, is formed in the upper atmosphere through the action of electricity during thunderstor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ence of ozone is important because it shields living organisms from some harmful radiation from the Su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fur is a solid, yellow nonmet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amounts of sulfur are used to manufacture sulfuric acid, one of the most commonly used chemicals in the worl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furic acid is a combination of sulfur, hydrogen, and oxyg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used in the manufacture of paints, fertilizers, detergents, synthetic fibers, and rub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fur is a solid, yellow nonmet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amounts of sulfur are used to manufacture sulfuric acid, one of the most commonly used chemicals in the worl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furic acid is a combination of sulfur, hydrogen, and oxyg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used in the manufacture of paints, fertilizers, detergents, synthetic fibers, and rub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most important use is as the light-sensitive component in photocopy machin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es of selenium are also necessary for good heal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most important use is as the light-sensitive component in photocopy machin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es of selenium are also necessary for good heal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20 percent of Earth’s atmosphere is the oxygen you breath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also is required for combustion to occu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is abundant in Earth’s rocks and minerals because it readily combines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20 percent of Earth’s atmosphere is the oxygen you breath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also is required for combustion to occu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is abundant in Earth’s rocks and minerals because it readily combines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55EE-4210-4364-B2BC-D2EBDED9F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C127-3C08-425B-A193-287C1B54B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3650-696D-4D84-B10D-867AAC67F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2FA2-0A56-4214-A885-C861798B9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7E40-74E7-4976-BF38-C89F20C0D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2086-3290-4E34-83D2-D4E026521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4498-DE6A-4D75-8508-8DF2F1FDA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5247-C54E-427F-8D91-B5104FB59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565D-FB64-443C-9E7D-8C1F48049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7A43-053B-4371-AC81-87C21028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5B15-7326-42BD-8976-1EDBE3A6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65E2-537D-4177-9F28-E96AD425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01FCC-9D2F-4A47-8384-3E1074E701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roup 16, the Oxygen Gro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571040" y="685800"/>
            <a:ext cx="6363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6—The Oxygen 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533520" y="1311120"/>
            <a:ext cx="7696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irst two members of Group 16, oxygen and sulfur, are essential for life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533520" y="2422440"/>
            <a:ext cx="42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heavier members of the group, tellurium and polonium, are both metalloid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im34"/>
          <p:cNvPicPr/>
          <p:nvPr/>
        </p:nvPicPr>
        <p:blipFill>
          <a:blip r:embed="rId1"/>
          <a:stretch/>
        </p:blipFill>
        <p:spPr>
          <a:xfrm>
            <a:off x="5035680" y="2257560"/>
            <a:ext cx="3671640" cy="36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571040" y="685800"/>
            <a:ext cx="6363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6—The Oxygen 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33520" y="1679400"/>
            <a:ext cx="7696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zone, a less common form of oxygen, is formed in the upper atmosphere through the action of electricity during thunderstorm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533520" y="3483000"/>
            <a:ext cx="79246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resence of ozone is important because it shields living organisms from some harmful radiation from the Su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571040" y="685800"/>
            <a:ext cx="6363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6—The Oxygen 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533520" y="1295280"/>
            <a:ext cx="7696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lfur is a solid, yellow nonmet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533520" y="1857240"/>
            <a:ext cx="79246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rge amounts of sulfur are used to manufacture sulfuric acid, one of the most commonly used chemicals in the worl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533520" y="3282840"/>
            <a:ext cx="7924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lfuric acid is a combination of sulfur, hydrogen, and oxyg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533520" y="4270320"/>
            <a:ext cx="73152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is used in the manufacture of paints, fertilizers, detergents, synthetic fibers, and rub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1571040" y="685800"/>
            <a:ext cx="6363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6—The Oxygen 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647 im38 solar cells copy"/>
          <p:cNvPicPr/>
          <p:nvPr/>
        </p:nvPicPr>
        <p:blipFill>
          <a:blip r:embed="rId1"/>
          <a:stretch/>
        </p:blipFill>
        <p:spPr>
          <a:xfrm>
            <a:off x="3352680" y="2406600"/>
            <a:ext cx="5143680" cy="3441600"/>
          </a:xfrm>
          <a:prstGeom prst="rect">
            <a:avLst/>
          </a:prstGeom>
          <a:ln w="0">
            <a:noFill/>
          </a:ln>
        </p:spPr>
      </p:pic>
      <p:grpSp>
        <p:nvGrpSpPr>
          <p:cNvPr id="67" name="Group 6"/>
          <p:cNvGrpSpPr/>
          <p:nvPr/>
        </p:nvGrpSpPr>
        <p:grpSpPr>
          <a:xfrm>
            <a:off x="533520" y="1413000"/>
            <a:ext cx="8076960" cy="2273040"/>
            <a:chOff x="533520" y="1413000"/>
            <a:chExt cx="8076960" cy="2273040"/>
          </a:xfrm>
        </p:grpSpPr>
        <p:sp>
          <p:nvSpPr>
            <p:cNvPr id="68" name="Text Box 7"/>
            <p:cNvSpPr/>
            <p:nvPr/>
          </p:nvSpPr>
          <p:spPr>
            <a:xfrm>
              <a:off x="533520" y="1413000"/>
              <a:ext cx="807696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buClr>
                  <a:srgbClr val="000000"/>
                </a:buClr>
                <a:buFont typeface="Times New Roman"/>
                <a:buChar char="•"/>
                <a:tabLst>
                  <a:tab algn="l" pos="22860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Selenium conducts electricity when exposed to light, so it is used in solar cells, ligh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8"/>
            <p:cNvSpPr/>
            <p:nvPr/>
          </p:nvSpPr>
          <p:spPr>
            <a:xfrm>
              <a:off x="874800" y="2276640"/>
              <a:ext cx="2530440" cy="14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meters, and photographic materials.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571040" y="685800"/>
            <a:ext cx="6363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6—The Oxygen 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33520" y="1295280"/>
            <a:ext cx="7924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s most important use is as the light-sensitive component in photocopy machine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533520" y="2308320"/>
            <a:ext cx="259056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ces of selenium are also necessary for good healt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647 im38 solar cells copy"/>
          <p:cNvPicPr/>
          <p:nvPr/>
        </p:nvPicPr>
        <p:blipFill>
          <a:blip r:embed="rId1"/>
          <a:stretch/>
        </p:blipFill>
        <p:spPr>
          <a:xfrm>
            <a:off x="3352680" y="2406600"/>
            <a:ext cx="514368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1571040" y="685800"/>
            <a:ext cx="6363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6—The Oxygen 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533520" y="1241280"/>
            <a:ext cx="81532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20 percent of Earth’s atmosphere is the oxygen you breath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533520" y="3641760"/>
            <a:ext cx="38098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xygen also is required for combustion to occur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im35 burning"/>
          <p:cNvPicPr/>
          <p:nvPr/>
        </p:nvPicPr>
        <p:blipFill>
          <a:blip r:embed="rId1"/>
          <a:stretch/>
        </p:blipFill>
        <p:spPr>
          <a:xfrm>
            <a:off x="4038480" y="3200400"/>
            <a:ext cx="4114800" cy="26449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8"/>
          <p:cNvSpPr/>
          <p:nvPr/>
        </p:nvSpPr>
        <p:spPr>
          <a:xfrm>
            <a:off x="533520" y="2209680"/>
            <a:ext cx="79246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xygen is abundant in Earth’s rocks and minerals because it readily combines with other el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1T21:23:40Z</dcterms:created>
  <dc:creator>CIC1</dc:creator>
  <dc:description/>
  <dc:language>en-US</dc:language>
  <cp:lastModifiedBy>RomaK</cp:lastModifiedBy>
  <dcterms:modified xsi:type="dcterms:W3CDTF">2015-09-01T16:27:33Z</dcterms:modified>
  <cp:revision>7</cp:revision>
  <dc:subject/>
  <dc:title>Group 16, the Oxygen Group</dc:title>
</cp:coreProperties>
</file>