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png" ContentType="image/png"/>
  <Override PartName="/ppt/media/image1.png" ContentType="image/png"/>
  <Override PartName="/ppt/media/CAMERA.WAV" ContentType="audio/x-wav"/>
  <Override PartName="/ppt/media/image5.png" ContentType="image/png"/>
  <Override PartName="/ppt/media/image10.png" ContentType="image/png"/>
  <Override PartName="/ppt/media/image6.png" ContentType="image/png"/>
  <Override PartName="/ppt/media/LASER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7.png" ContentType="image/png"/>
  <Override PartName="/ppt/media/WHOOSH.WAV" ContentType="audio/x-wav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EB42-77C1-4325-8226-B79904DEF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acteristics of 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tain carbon, hydrogen, oxygen, nitrogen, and sulf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ve as structural components of an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ve as control molecules (enzym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ve as transport and messenger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sic building block is the amino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carbon, hydrogen, oxygen, nitrogen, and sulf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 as structural components of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 as control molecules (enzym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 as transport and messenger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building block is the amino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ino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ine group acts like a base, tends to be posi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xyl group acts like an acid, tends to be nega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” group is variable, from 1 atom to 2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amino acids join together to form a dipept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acent carboxyl and amino groups bon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o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e group acts like a base, tends to be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 group acts like an acid, tends to be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” group is variable, from 1 atom to 2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amino acids join together to form a dipept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acent carboxyl and amino groups bon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ore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re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ill More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More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a Dipept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hydration syn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a Dipep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hydration 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mino Acid + Amino Acid --&gt; Dipept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mino Acid + Dipeptide --&gt; Tripept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.A. + A.A. + …..+ Tripeptide --&gt; Polypept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o Acid + Amino Acid --&gt; Dipep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o Acid + Dipeptide --&gt; Tripep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A. + A.A. + …..+ Tripeptide --&gt; Polypep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otein consists of one or 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peptide ch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tein consists of one or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eptide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B3F6-C90A-4FF8-BEFC-CA9F80DD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64B6-A6C8-434E-80BE-2BCB5E2D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5FC0-5B1A-49C0-A13A-E6A68B698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F014-D9D1-4B7E-8BF4-CB7FFEC0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7137-8A56-49EF-A4BC-A078770A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6CBF-59A8-4923-97A5-F5B6B9C1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E0AA-5841-4615-8547-907CE684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C131-2E06-4D9A-BBE5-E98E43CE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F1DC-9C14-4005-9D4E-5372E18D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DE5F-D19F-4B04-BFDD-6C1CBE1F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B7E9-167C-44B7-9124-194FAEF6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3EC2-12BA-4D66-920A-883F7E62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216C-213D-41CA-9320-011066A7F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45d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2057400"/>
            <a:ext cx="7848360" cy="1828800"/>
          </a:xfrm>
          <a:prstGeom prst="rect">
            <a:avLst/>
          </a:prstGeom>
          <a:gradFill rotWithShape="0">
            <a:gsLst>
              <a:gs pos="0">
                <a:srgbClr val="62a382"/>
              </a:gs>
              <a:gs pos="100000">
                <a:srgbClr val="99ffcc"/>
              </a:gs>
            </a:gsLst>
            <a:lin ang="189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3399"/>
                </a:solidFill>
                <a:latin typeface="Palatia"/>
              </a:rPr>
              <a:t>PROTEINS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ffff99"/>
            </a:gs>
            <a:gs pos="100000">
              <a:srgbClr val="99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66"/>
                </a:solidFill>
                <a:latin typeface="Palatia"/>
              </a:rPr>
              <a:t>Characteristics of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Contain carbon, hydrogen, oxygen, nitrogen, and sulf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Serve as structural components of anim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Serve as control molecules (enzym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Serve as transport and messenger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Basic building block is the amino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Palatia"/>
              </a:rPr>
              <a:t>Amino Aci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Object 5"/>
          <p:cNvGraphicFramePr/>
          <p:nvPr/>
        </p:nvGraphicFramePr>
        <p:xfrm>
          <a:off x="2819520" y="1752480"/>
          <a:ext cx="352404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752480"/>
                    <a:ext cx="352404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7"/>
          <p:cNvSpPr/>
          <p:nvPr/>
        </p:nvSpPr>
        <p:spPr>
          <a:xfrm>
            <a:off x="669960" y="4092480"/>
            <a:ext cx="7719840" cy="265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Amine group acts like a base, tends to be posi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Carboxyl group acts like an acid, tends to be nega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“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R” group is variable, from 1 atom to 2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Two amino acids join together to form a dipepti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Adjacent carboxyl and amino groups bond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75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75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75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75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75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5791320" cy="6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Palatia"/>
              </a:rPr>
              <a:t>Some Amino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3_19A"/>
          <p:cNvPicPr/>
          <p:nvPr/>
        </p:nvPicPr>
        <p:blipFill>
          <a:blip r:embed="rId1"/>
          <a:stretch/>
        </p:blipFill>
        <p:spPr>
          <a:xfrm>
            <a:off x="533520" y="1143000"/>
            <a:ext cx="8001000" cy="51436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6553080" cy="6858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a"/>
              </a:rPr>
              <a:t>Some More Amino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" descr="3_19B"/>
          <p:cNvPicPr/>
          <p:nvPr/>
        </p:nvPicPr>
        <p:blipFill>
          <a:blip r:embed="rId1"/>
          <a:stretch/>
        </p:blipFill>
        <p:spPr>
          <a:xfrm>
            <a:off x="1143000" y="1219320"/>
            <a:ext cx="6654960" cy="516240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632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Palatia"/>
              </a:rPr>
              <a:t>Still More Amino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3_19C"/>
          <p:cNvPicPr/>
          <p:nvPr/>
        </p:nvPicPr>
        <p:blipFill>
          <a:blip r:embed="rId1"/>
          <a:stretch/>
        </p:blipFill>
        <p:spPr>
          <a:xfrm>
            <a:off x="1371600" y="1371600"/>
            <a:ext cx="6400800" cy="496728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1676520" y="1219320"/>
          <a:ext cx="5943600" cy="19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594360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3"/>
          <p:cNvSpPr/>
          <p:nvPr/>
        </p:nvSpPr>
        <p:spPr>
          <a:xfrm>
            <a:off x="1068120" y="380880"/>
            <a:ext cx="6749280" cy="764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Palatia"/>
              </a:rPr>
              <a:t>Formation of a Dipept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4"/>
          <p:cNvGraphicFramePr/>
          <p:nvPr/>
        </p:nvGraphicFramePr>
        <p:xfrm>
          <a:off x="4343400" y="3124080"/>
          <a:ext cx="43812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3124080"/>
                    <a:ext cx="4381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5"/>
          <p:cNvGraphicFramePr/>
          <p:nvPr/>
        </p:nvGraphicFramePr>
        <p:xfrm>
          <a:off x="1676520" y="3733920"/>
          <a:ext cx="5943600" cy="22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3733920"/>
                    <a:ext cx="5943600" cy="22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6"/>
          <p:cNvSpPr/>
          <p:nvPr/>
        </p:nvSpPr>
        <p:spPr>
          <a:xfrm>
            <a:off x="2252880" y="6216480"/>
            <a:ext cx="496908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Palatia"/>
              </a:rPr>
              <a:t>Dehydration 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595800" y="492120"/>
            <a:ext cx="7515720" cy="581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a"/>
              </a:rPr>
              <a:t>Amino Acid + Amino Acid --&gt; Dipept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698040" y="1711440"/>
            <a:ext cx="7314480" cy="581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a"/>
              </a:rPr>
              <a:t>Amino Acid + Dipeptide --&gt; Tripept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0" y="2895480"/>
            <a:ext cx="9144000" cy="581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a"/>
              </a:rPr>
              <a:t>A.A. + A.A. + …..+ Tripeptide --&gt; Polypept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3_20"/>
          <p:cNvPicPr/>
          <p:nvPr/>
        </p:nvPicPr>
        <p:blipFill>
          <a:blip r:embed="rId1"/>
          <a:stretch/>
        </p:blipFill>
        <p:spPr>
          <a:xfrm>
            <a:off x="2743200" y="3733920"/>
            <a:ext cx="4000680" cy="25714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002240" y="263520"/>
            <a:ext cx="655560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Palatia"/>
              </a:rPr>
              <a:t>A protein consists of one or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Palatia"/>
              </a:rPr>
              <a:t>polypeptide cha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" descr="3_22"/>
          <p:cNvPicPr/>
          <p:nvPr/>
        </p:nvPicPr>
        <p:blipFill>
          <a:blip r:embed="rId1"/>
          <a:stretch/>
        </p:blipFill>
        <p:spPr>
          <a:xfrm>
            <a:off x="380880" y="1447920"/>
            <a:ext cx="2971800" cy="2449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3_26"/>
          <p:cNvPicPr/>
          <p:nvPr/>
        </p:nvPicPr>
        <p:blipFill>
          <a:blip r:embed="rId2"/>
          <a:stretch/>
        </p:blipFill>
        <p:spPr>
          <a:xfrm>
            <a:off x="6450120" y="1447920"/>
            <a:ext cx="2313000" cy="3504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3_30"/>
          <p:cNvPicPr/>
          <p:nvPr/>
        </p:nvPicPr>
        <p:blipFill>
          <a:blip r:embed="rId3"/>
          <a:stretch/>
        </p:blipFill>
        <p:spPr>
          <a:xfrm>
            <a:off x="2895480" y="3581280"/>
            <a:ext cx="3606840" cy="279900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2T17:37:10Z</dcterms:created>
  <dc:creator>Cheryl Massengale</dc:creator>
  <dc:description/>
  <dc:language>en-US</dc:language>
  <cp:lastModifiedBy>LEGION</cp:lastModifiedBy>
  <dcterms:modified xsi:type="dcterms:W3CDTF">2016-12-07T09:19:45Z</dcterms:modified>
  <cp:revision>8</cp:revision>
  <dc:subject/>
  <dc:title>PROTEINS</dc:title>
</cp:coreProperties>
</file>