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png" ContentType="image/png"/>
  <Override PartName="/ppt/media/image1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LASE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7.png" ContentType="image/png"/>
  <Override PartName="/ppt/media/WHOOSH.WAV" ContentType="audio/x-wav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09F-DD52-4D56-A3B3-99DDD8F1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carbon, hydrogen, oxygen, nitrogen, and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structural components of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control molecules (enzy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 as transport and messenge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the 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e group acts like a base, tends to be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acts like an acid, tends to be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variable, from 1 atom to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amino acids join together to form a dipept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acent carboxyl and amino groups bon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Amino Acid --&gt; D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+ Dipeptide --&gt; Tri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A. + A.A. + …..+ Tripeptide --&gt; Polypep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ein consists of one 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eptide ch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599-522B-4F3F-8A19-630832F0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03E-9D67-4E38-8769-65A2C84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CFF-DA1B-485C-862C-290266C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9D1-860D-4355-9261-85CFC00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A03-A87E-4700-BAB8-3EC29182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B8E-9658-4BBD-A1C1-46E8CA26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046-6A8C-4BED-A92D-0A77912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277-14FF-44E4-897E-5694E31E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40C-6193-41E7-AFBB-3F0EC8F4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D88-EE31-4F88-83D4-AAB4D8B2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CAA-FBBB-43D4-9D88-6250D437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16B7-BE59-4F1F-934F-0372A41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ECB4-6D42-4FCC-B712-C401505B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45d"/>
            </a:gs>
            <a:gs pos="100000">
              <a:srgbClr val="99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057400"/>
            <a:ext cx="7848360" cy="1828800"/>
          </a:xfrm>
          <a:prstGeom prst="rect">
            <a:avLst/>
          </a:prstGeom>
          <a:gradFill rotWithShape="0">
            <a:gsLst>
              <a:gs pos="0">
                <a:srgbClr val="62a382"/>
              </a:gs>
              <a:gs pos="100000">
                <a:srgbClr val="99ffcc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99"/>
                </a:solidFill>
                <a:latin typeface="Palatia"/>
              </a:rPr>
              <a:t>PROTEIN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ffff99"/>
            </a:gs>
            <a:gs pos="100000">
              <a:srgbClr val="99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Palatia"/>
              </a:rPr>
              <a:t>Characteristics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Contain carbon, hydrogen, oxygen, nitrogen, and sulf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structural components of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control molecules (enzym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Serve as transport and messenger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66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Palatia"/>
              </a:rPr>
              <a:t>Basic building block is the amino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Palatia"/>
              </a:rPr>
              <a:t>Amino Aci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2819520" y="1752480"/>
          <a:ext cx="35240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5240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7"/>
          <p:cNvSpPr/>
          <p:nvPr/>
        </p:nvSpPr>
        <p:spPr>
          <a:xfrm>
            <a:off x="669960" y="4092480"/>
            <a:ext cx="771984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mine group acts like a base, tends to be posi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Carboxyl group acts like an acid, tends to be neg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“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R” group is variable, from 1 atom to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Two amino acids join together to form a dipept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Palatia"/>
              </a:rPr>
              <a:t>Adjacent carboxyl and amino groups bond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57913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Som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9A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6553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a"/>
              </a:rPr>
              <a:t>Some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3_19B"/>
          <p:cNvPicPr/>
          <p:nvPr/>
        </p:nvPicPr>
        <p:blipFill>
          <a:blip r:embed="rId1"/>
          <a:stretch/>
        </p:blipFill>
        <p:spPr>
          <a:xfrm>
            <a:off x="1143000" y="1219320"/>
            <a:ext cx="6654960" cy="5162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Palatia"/>
              </a:rPr>
              <a:t>Still More Amino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3_19C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1676520" y="1219320"/>
          <a:ext cx="594360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94360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3"/>
          <p:cNvSpPr/>
          <p:nvPr/>
        </p:nvSpPr>
        <p:spPr>
          <a:xfrm>
            <a:off x="1068120" y="380880"/>
            <a:ext cx="6749280" cy="764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Palatia"/>
              </a:rPr>
              <a:t>Formation of a Dipept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4343400" y="3124080"/>
          <a:ext cx="43812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124080"/>
                    <a:ext cx="4381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1676520" y="3733920"/>
          <a:ext cx="5943600" cy="22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733920"/>
                    <a:ext cx="594360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6"/>
          <p:cNvSpPr/>
          <p:nvPr/>
        </p:nvSpPr>
        <p:spPr>
          <a:xfrm>
            <a:off x="2252880" y="6216480"/>
            <a:ext cx="49690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Palatia"/>
              </a:rPr>
              <a:t>Dehydration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95800" y="492120"/>
            <a:ext cx="751572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Amino Acid --&gt; D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98040" y="1711440"/>
            <a:ext cx="731448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mino Acid + Dipeptide --&gt; Tri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2895480"/>
            <a:ext cx="9144000" cy="5814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a"/>
              </a:rPr>
              <a:t>A.A. + A.A. + …..+ Tripeptide --&gt; Polypep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3_20"/>
          <p:cNvPicPr/>
          <p:nvPr/>
        </p:nvPicPr>
        <p:blipFill>
          <a:blip r:embed="rId1"/>
          <a:stretch/>
        </p:blipFill>
        <p:spPr>
          <a:xfrm>
            <a:off x="2743200" y="3733920"/>
            <a:ext cx="4000680" cy="257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02240" y="263520"/>
            <a:ext cx="65556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A protein consists of one or m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Palatia"/>
              </a:rPr>
              <a:t>polypeptide ch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3_22"/>
          <p:cNvPicPr/>
          <p:nvPr/>
        </p:nvPicPr>
        <p:blipFill>
          <a:blip r:embed="rId1"/>
          <a:stretch/>
        </p:blipFill>
        <p:spPr>
          <a:xfrm>
            <a:off x="380880" y="1447920"/>
            <a:ext cx="297180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3_26"/>
          <p:cNvPicPr/>
          <p:nvPr/>
        </p:nvPicPr>
        <p:blipFill>
          <a:blip r:embed="rId2"/>
          <a:stretch/>
        </p:blipFill>
        <p:spPr>
          <a:xfrm>
            <a:off x="6450120" y="1447920"/>
            <a:ext cx="2313000" cy="350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3_30"/>
          <p:cNvPicPr/>
          <p:nvPr/>
        </p:nvPicPr>
        <p:blipFill>
          <a:blip r:embed="rId3"/>
          <a:stretch/>
        </p:blipFill>
        <p:spPr>
          <a:xfrm>
            <a:off x="2895480" y="3581280"/>
            <a:ext cx="3606840" cy="2799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17:37:10Z</dcterms:created>
  <dc:creator>Cheryl Massengale</dc:creator>
  <dc:description/>
  <dc:language>en-US</dc:language>
  <cp:lastModifiedBy>LEGION</cp:lastModifiedBy>
  <dcterms:modified xsi:type="dcterms:W3CDTF">2016-12-07T09:19:45Z</dcterms:modified>
  <cp:revision>8</cp:revision>
  <dc:subject/>
  <dc:title>PROTEINS</dc:title>
</cp:coreProperties>
</file>