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ABAB-30C5-47AF-B2AD-1846E3DEC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&amp; 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ic Ac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&amp; 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NA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DNA stores genetic information in segments called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Certain codons are translated by the cell into certain Ami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NA Wo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NA stores genetic information in segments called ge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Certain codons are translated by the cell into certain Am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th type of macro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link between gen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rce of genetic information in chromos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4th type of macro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cal link between gen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rce of genetic information in chromos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do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tate amino-acid sequence in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hey do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tate amino-acid sequence in 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made of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units called nucleotides, connected in long ch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 have 3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5-Carbon sugar (pent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Nitrogen containing ba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ade of C, H and 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A phosphate group ( P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made of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units called nucleotides, connected in long 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otides have 3 part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5-Carbon sugar (pento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Nitrogen containing ba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made of C, H and 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A phosphate group ( P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types of Nucleotides (depending on the sugar they con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nucleic acids (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Deoxyribonucleic acids (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Deoxyribose (has just an hydrogen in the same place--- H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oxy = “minus oxygen”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ypes of Nucleotides (depending on the sugar they conta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nucleic acids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Deoxyribonucleic acids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Deoxyribose (has just an hydrogen in the same place--- H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oxy = “minus oxygen”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3 parts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 (no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Thymine (Only in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3 parts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 (no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ymine (Only in 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 3 part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 (with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Uracyl (only in 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 3 parts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 (with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Uracyl (only in 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vs R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Thymine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Double-stranded helix arran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Uracyl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- Single str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vs R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Thymine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Double-stranded helix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Uracyl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- Single stran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al mod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oposed by Watson &amp; Crick,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---T     ,     C---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mode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l proposed by Watson &amp; Crick, 195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---T     ,     C---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333-A54C-4003-BEAE-126D22B1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19E-C94B-4D5A-A770-F88E21B9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E71-35A0-46B1-B6E5-67D5710C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2EA-2623-4731-B3F9-1CE62726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1569-9B22-47FC-862C-334EA36D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4B49-8866-4D20-9EA6-03F44430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AB80-EE5D-4079-90F0-D1A65BD3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D36E-5935-4CC6-B9C5-2A820EF5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EB6F-17AC-4F75-8287-4EF10A65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E905-0170-466E-86CE-A08D587F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680E-6478-4040-9C9B-F2D2DEF9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DD5-D53F-4902-903A-07972548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5C56-D509-4EBA-817E-4FA18660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5DDF-4F18-4B19-A083-70DAB033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AC8C-4E70-47F9-9E77-51C43E05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ADDF-AB77-4211-BABF-31B7E82B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69C3-EBFC-48A5-BF9C-CBA25D4E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7F7-D630-42F8-AD9B-34A762EB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43B-DC0B-4ECA-828C-DE4D1572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05D-D661-439C-9A2A-733ABAB7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376-5C44-4AAB-B77A-B01807D4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0D4-3081-43E1-8A84-C5F4BC4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972-4779-4059-BA4D-713C2F2C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958-6660-45D0-B7DA-ED157A85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5CE0-29C0-4612-9B84-580AFD6E2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1AF2-D711-4943-9DB3-FB32989F2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Comic Sans MS"/>
              </a:rPr>
              <a:t>Nucleic Acids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omic Sans MS"/>
              </a:rPr>
              <a:t>DNA &amp; RN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How DNA Work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DNA stores genetic information in segments called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gen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2- The DNA code is in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</a:rPr>
              <a:t>Tri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Comic Sans MS"/>
              </a:rPr>
              <a:t>plet 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(short sequences of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nucleotides each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3- Certain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are translated by the cell into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ertain Ami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acid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4. Thus, the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nucleotide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DNA indicate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Amino acid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protein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are they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1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typ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acromolec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chemical link between gene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sourc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netic information in chromos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do they do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ictat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mino-acid sequence in prote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ive information to chromosomes, which is then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ssed from parent to offsp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are they made of 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imple units call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onnected in long ch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ave 3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5-Carbon sugar (pent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Nitrogen containing 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made of C, H and 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A phosphate group ( P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 groups make the links that unite the sugars (hence a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ugar-phosphate backb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Two types of Nucleotides</a:t>
            </a: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(depending on the sugar they contain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nucleic acids (R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a hydroxyl group in the 3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arbon---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H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nucleic acids (D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just an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in the same place--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)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oxy = “minus oxygen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D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omposition (3 parts):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oxyr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no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Thymine (Only in 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R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omposition ( 3 parts)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with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Uracyl (only in R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0666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DNA </a:t>
            </a: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vs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RN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oxyr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ymin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ub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stranded helix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Uracyl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Sing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tr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The Double Helix (DNA)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ructural model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Model proposed by Watson &amp; Crick, 195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wo sugar-phosphate strands, next to each other, but running in opposite direction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Comic Sans MS"/>
              </a:rPr>
              <a:t>Specific Hydrogen bonds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occur among bases from one chain to the othe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</a:rPr>
              <a:t>A---T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    ,     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C---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Due to this specificity, a certain base on one strand indicates a certain base in the other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he 2 strands intertwine, forming a double-helix that winds around a central ax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0:59:06Z</dcterms:created>
  <dc:creator>Cheryl Massengale</dc:creator>
  <dc:description/>
  <dc:language>en-US</dc:language>
  <cp:lastModifiedBy>LEGION</cp:lastModifiedBy>
  <dcterms:modified xsi:type="dcterms:W3CDTF">2016-12-07T09:19:58Z</dcterms:modified>
  <cp:revision>29</cp:revision>
  <dc:subject/>
  <dc:title>Nucleic Acids What are they ?</dc:title>
</cp:coreProperties>
</file>