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D0BD-AE63-456C-8BB0-498543222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NA &amp; R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ic Aci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 &amp; R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NA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- DNA stores genetic information in segments called ge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- The DNA code is in Triplet Codons (short sequences of 3 nucleotides eac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- Certain codons are translated by the cell into certain Ami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hus, the sequence of nucleotides in DNA indicate a sequence of Amino acids in a prote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NA Wor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DNA stores genetic information in segments called ge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The DNA code is in Triplet Codons (short sequences of 3 nucleotides eac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- Certain codons are translated by the cell into certain Ami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i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Thus, the sequence of nucleotides in DNA indicate a sequence of Amino acids in a prote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y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4th type of macro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link between gene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rce of genetic information in chromos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y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4th type of macro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hemical link between gene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urce of genetic information in chromoso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y do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ctate amino-acid sequence in 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information to chromosomes, which is then passed from parent to offsp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they do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ctate amino-acid sequence in prot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ve information to chromosomes, which is then passed from parent to offsp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y made of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units called nucleotides, connected in long ch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otides have 3 par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- 5-Carbon sugar (pento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- Nitrogen containing ba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made of C, H and 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- A phosphate group ( P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 groups make the links that unite the sugars (hence a “sugar-phosphate backbon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y made of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ple units called nucleotides, connected in long cha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otides have 3 part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5-Carbon sugar (pento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Nitrogen containing ba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made of C, H and 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- A phosphate group ( P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 groups make the links that unite the sugars (hence a “sugar-phosphate backbon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wo types of Nucleotides (depending on the sugar they contai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- Ribonucleic acids (R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pentose sugar is Ribose (has a hydroxyl group in the 3rd carbon---O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- Deoxyribonucleic acids (D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pentose sugar is Deoxyribose (has just an hydrogen in the same place--- H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oxy = “minus oxygen”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types of Nucleotides (depending on the sugar they contai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Ribonucleic acids (R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entose sugar is Ribose (has a hydroxyl group in the 3rd carbon---O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Deoxyribonucleic acids (D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entose sugar is Deoxyribose (has just an hydrogen in the same place--- H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oxy = “minus oxygen”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NA Nucleotid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position (3 parts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- Deoxyribose sugar (no O in 3rd carb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- Phosphate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- One of 4 types of bases (all containing nitrogen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Ade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Thymine (Only in D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Cytos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Gua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 Nucleotid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osition (3 parts)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Deoxyribose sugar (no O in 3rd carbo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Phosphate gro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- One of 4 types of bases (all containing nitrogen)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Ade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Thymine (Only in D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Cytos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Gua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NA Nucleotid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position ( 3 parts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- Ribose sugar (with O in 3rd carb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- Phosphate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- One of 4 types of bases (all containing nitrogen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Ade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Uracyl (only in R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Cytos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Gua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NA Nucleotid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osition ( 3 parts)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Ribose sugar (with O in 3rd carbo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Phosphate gro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- One of 4 types of bases (all containing nitrogen)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Ade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Uracyl (only in R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Cytos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Gua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NA vs RN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- Deoxyribose 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- Bases: Adenine, Thymine, Cytosine, Gua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- Double-stranded helix arran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- Ribose 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- Bases: Adenine, Uracyl, Cytosine, Gua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- Single stra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 vs RN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Deoxyribose sug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Bases: Adenine, Thymine, Cytosine, Gua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- Double-stranded helix arran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Ribose sug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Bases: Adenine, Uracyl, Cytosine, Gua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- Single strand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uble Helix (DNA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al mode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 proposed by Watson &amp; Crick, 195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sugar-phosphate strands, next to each other, but running in opposite dire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fic Hydrogen bonds occur among bases from one chain to the oth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---T     ,     C---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this specificity, a certain base on one strand indicates a certain base in the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2 strands intertwine, forming a double-helix that winds around a central 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ouble Helix (DNA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model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del proposed by Watson &amp; Crick, 195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sugar-phosphate strands, next to each other, but running in opposite dire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cific Hydrogen bonds occur among bases from one chain to the oth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---T     ,     C---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ue to this specificity, a certain base on one strand indicates a certain base in the othe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2 strands intertwine, forming a double-helix that winds around a central ax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1462-439B-41EC-A64B-749F72B0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111A-6950-4F73-8FFC-EB3661B0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9762-8CCE-47F9-80CA-2674CFF38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DD69-D3F7-4440-A32C-2624AF4BD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DB43-EDF0-44BC-8706-8D6E18690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031B-0F7D-4F1E-959B-D7CA333C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0B87-56B4-44A1-AE74-84E89265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684A-7EAE-442E-A0DB-61F0AFC2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08EE-21FA-419C-9396-3469E5E5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C658-D51A-4D4A-A782-1AFF44F0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395F-86EE-41FD-A668-953C516F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D71F-6C77-43B9-99B1-896236E0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6A4C-A604-40DE-90C3-1ACAD529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B82F-264D-49BE-8B17-CC7121D8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4CCE-1102-457F-AAD4-1FB08216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266C-3325-4A3F-9E73-7AE2E89D4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1C66-693E-45BC-B5D8-DCF123C35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42CC-5E27-4240-84BC-7B3C06B4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78EB-7460-442D-A8FE-0FAADF57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C483-BEFA-415F-8C04-E85B8827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A7C2-9CFB-4D1D-8A76-D7CA1B7B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1C3C-BFF5-484D-ABBA-C3D92547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26BF-E45F-49F3-9F60-4F434F3A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5A34-C9A1-423A-A388-1F9D1BA3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F33B-E685-4244-BE1F-26A99711C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34D8-AB6A-46EC-8263-31CDEE6553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b7"/>
                </a:solidFill>
                <a:latin typeface="Comic Sans MS"/>
              </a:rPr>
              <a:t>Nucleic Acids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Comic Sans MS"/>
              </a:rPr>
              <a:t>DNA &amp; RN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Comic Sans MS"/>
              </a:rPr>
              <a:t>How DNA Work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DNA stores genetic information in segments called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gen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2- The DNA code is in </a:t>
            </a:r>
            <a:r>
              <a:rPr b="1" lang="en-US" sz="3400" spc="-1" strike="noStrike" u="sng">
                <a:solidFill>
                  <a:srgbClr val="ff0000"/>
                </a:solidFill>
                <a:uFillTx/>
                <a:latin typeface="Comic Sans MS"/>
              </a:rPr>
              <a:t>Tri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Comic Sans MS"/>
              </a:rPr>
              <a:t>plet Codons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(short sequences of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nucleotides each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3- Certain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codons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are translated by the cell into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certain Amin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acid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4. Thus, the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sequence of nucleotides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in DNA indicate a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sequence of Amino acids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in a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protein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What are they 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he 4</a:t>
            </a:r>
            <a:r>
              <a:rPr b="1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type of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macromolecu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he chemical link between gener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he source of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genetic information in chromoso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What do they do 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Dictate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amino-acid sequence in protei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Give information to chromosomes, which is then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assed from parent to offsp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What are they made of ?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imple units called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nucleotide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connected in long ch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Nucleotide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have 3 par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- 5-Carbon sugar (pento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- Nitrogen containing b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made of C, H and 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3- A phosphate group ( P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P groups make the links that unite the sugars (hence a “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ugar-phosphate backbon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Two types of Nucleotides</a:t>
            </a:r>
            <a:r>
              <a:rPr b="1" lang="en-U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b7"/>
                </a:solidFill>
                <a:latin typeface="Comic Sans MS"/>
              </a:rPr>
              <a:t>(depending on the sugar they contain)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Ribonucleic acids (RN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he pentose sugar is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Ribose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(has a hydroxyl group in the 3</a:t>
            </a:r>
            <a:r>
              <a:rPr b="1" lang="en-US" sz="40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carbon---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OH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2-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Deoxyribonucleic acids (DN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he pentose sugar is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Deoxyribose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(has just an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hydrogen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in the same place---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H)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eoxy = “minus oxygen”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5120" cy="1432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24bdf"/>
                </a:solidFill>
                <a:latin typeface="Comic Sans MS"/>
              </a:rPr>
              <a:t>DNA</a:t>
            </a: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 Nucleotides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Composition (3 parts):</a:t>
            </a: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54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oxyribose sugar (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no O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3</a:t>
            </a:r>
            <a:r>
              <a:rPr b="1" lang="en-US" sz="36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carbo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2- Phosphate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-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One of 4 types of base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all containing nitrogen)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Aden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Thymine (Only in DN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Cytos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Guan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385120" cy="1432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24bdf"/>
                </a:solidFill>
                <a:latin typeface="Comic Sans MS"/>
              </a:rPr>
              <a:t>RNA</a:t>
            </a: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 Nucleotides</a:t>
            </a:r>
            <a:br>
              <a:rPr sz="4800"/>
            </a:b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Composition ( 3 parts)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R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bose sugar (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with O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3</a:t>
            </a:r>
            <a:r>
              <a:rPr b="1" lang="en-US" sz="36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carbo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2- Phosphate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-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One of 4 types of base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all containing nitrogen)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Aden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Uracyl (only in RN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Cytos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Guan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85120" cy="10666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DNA </a:t>
            </a:r>
            <a:r>
              <a:rPr b="1" lang="en-US" sz="5400" spc="-1" strike="noStrike">
                <a:solidFill>
                  <a:srgbClr val="ffffb7"/>
                </a:solidFill>
                <a:latin typeface="Comic Sans MS"/>
              </a:rPr>
              <a:t>vs </a:t>
            </a: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RNA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oxyribose sug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- Bases: Adenine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ymin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Cytosine, Guan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3-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oubl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stranded helix arran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3200" spc="-1" strike="noStrike">
                <a:solidFill>
                  <a:srgbClr val="524bdf"/>
                </a:solidFill>
                <a:latin typeface="Comic Sans MS"/>
              </a:rPr>
              <a:t>R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bose sug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- Bases: Adenine, </a:t>
            </a:r>
            <a:r>
              <a:rPr b="1" lang="en-US" sz="3200" spc="-1" strike="noStrike">
                <a:solidFill>
                  <a:srgbClr val="524bdf"/>
                </a:solidFill>
                <a:latin typeface="Comic Sans MS"/>
              </a:rPr>
              <a:t>Uracyl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Cytosine, Guan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4- </a:t>
            </a:r>
            <a:r>
              <a:rPr b="1" lang="en-US" sz="3200" spc="-1" strike="noStrike">
                <a:solidFill>
                  <a:srgbClr val="524bdf"/>
                </a:solidFill>
                <a:latin typeface="Comic Sans MS"/>
              </a:rPr>
              <a:t>Singl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stra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Comic Sans MS"/>
              </a:rPr>
              <a:t>The Double Helix (DNA)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tructural model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40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Model proposed by Watson &amp; Crick, 1953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Two sugar-phosphate strands, next to each other, but running in opposite direction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Comic Sans MS"/>
              </a:rPr>
              <a:t>Specific Hydrogen bonds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 occur among bases from one chain to the other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900" spc="-1" strike="noStrike">
                <a:solidFill>
                  <a:srgbClr val="ff0000"/>
                </a:solidFill>
                <a:latin typeface="Comic Sans MS"/>
              </a:rPr>
              <a:t>A---T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     ,     </a:t>
            </a:r>
            <a:r>
              <a:rPr b="1" lang="en-US" sz="2900" spc="-1" strike="noStrike">
                <a:solidFill>
                  <a:srgbClr val="524bdf"/>
                </a:solidFill>
                <a:latin typeface="Comic Sans MS"/>
              </a:rPr>
              <a:t>C---G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524bdf"/>
                </a:solidFill>
                <a:latin typeface="Comic Sans MS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Due to this specificity, a certain base on one strand indicates a certain base in the other</a:t>
            </a:r>
            <a:r>
              <a:rPr b="1" lang="en-US" sz="2900" spc="-1" strike="noStrike">
                <a:solidFill>
                  <a:srgbClr val="524bdf"/>
                </a:solidFill>
                <a:latin typeface="Comic Sans MS"/>
              </a:rPr>
              <a:t>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The 2 strands intertwine, forming a double-helix that winds around a central axi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0:59:06Z</dcterms:created>
  <dc:creator>Cheryl Massengale</dc:creator>
  <dc:description/>
  <dc:language>en-US</dc:language>
  <cp:lastModifiedBy>LEGION</cp:lastModifiedBy>
  <dcterms:modified xsi:type="dcterms:W3CDTF">2016-12-07T09:19:58Z</dcterms:modified>
  <cp:revision>29</cp:revision>
  <dc:subject/>
  <dc:title>Nucleic Acids What are they ?</dc:title>
</cp:coreProperties>
</file>