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5507-F8F8-4A4D-869C-F1EEB2934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&amp; 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&amp; 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NA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DNA stores genetic information in segments called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Certain codons are translated by the cell into certain Am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NA Wo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NA stores genetic information in segments called ge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Certain codons are translated by the cell into certain Am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th type of macro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link between gen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rce of genetic information in chromos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4th type of macro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cal link between gen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rce of genetic information in chromos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do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tate amino-acid sequence in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hey do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tate amino-acid sequence in 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made of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units called nucleotides, connected in long ch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 have 3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5-Carbon sugar (pent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Nitrogen containing ba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ade of C, H and 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A phosphate group ( P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made of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units called nucleotides, connected in long 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otides have 3 par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5-Carbon sugar (pento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Nitrogen containing ba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ade of C, H and 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A phosphate group ( P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types of Nucleotides (depending on the sugar they con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nucleic acids (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Deoxyribonucleic acids (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Deoxyribose (has just an hydrogen in the same place--- H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oxy = “minus oxygen”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ypes of Nucleotides (depending on the sugar they conta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nucleic acids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Deoxyribonucleic acids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Deoxyribose (has just an hydrogen in the same place--- H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oxy = “minus oxygen”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3 parts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 (no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Thymine (Only in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3 parts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 (no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ymine (Only in 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 3 part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 (with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Uracyl (only in 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 3 parts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 (with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Uracyl (only in 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vs R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Thymine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Double-stranded helix arran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Uracyl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- Single str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vs R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Thymine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Double-stranded helix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Uracyl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- Single stran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al mod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oposed by Watson &amp; Crick,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---T     ,     C---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mode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l proposed by Watson &amp; Crick, 19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---T     ,     C---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091-4AAB-4C42-B730-4B7A48DE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8B7-2B1B-46C5-9BE9-2BF8A6AA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375-72D7-4DED-AE44-FDE81D2A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999-9DDD-4152-B87B-52818C91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BAF5-DDF6-437C-A162-0B4A4860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0EE7-5988-4522-AFA7-1D0DA5DB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372E-F60D-4522-99F7-C65D6ADA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2588-5F1B-4FF5-B83C-244AD027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708E-9A0E-4B84-8F7B-8F032021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24C6-7D28-4385-A57D-6EB0C774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6D89-0145-42A3-AC85-EB71BC9E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D41-1270-4732-A2CA-13114394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03B7-A6D4-4A09-8B69-E42FBE1B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5E5F-33AB-4C12-8441-34EA41B9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0E9A-FF68-4552-9617-8040762C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1853-954B-4C1D-B41F-409CD14B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B379-DAA5-428D-8A85-B20B4C51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15F-1C0D-447B-9388-A38B9AA0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DE9-097A-4BCC-A790-74678695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18B-E3CB-4382-B3F3-81CF0129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8CD-F90D-4947-AD42-20FB7F69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34F-146B-4366-BA42-D9952C89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E36-BAAC-4178-A1E0-1F000073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C3A-00E8-4EF5-B791-02E6F41A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5408-E08B-4D6D-894D-623FC4C9E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870B-41D7-42FA-821C-9B9B7AC9F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Comic Sans MS"/>
              </a:rPr>
              <a:t>Nucleic Acid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omic Sans MS"/>
              </a:rPr>
              <a:t>DNA &amp; RN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How DNA Work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DNA stores genetic information in segments called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ge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2- The DNA code is in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Tri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Comic Sans MS"/>
              </a:rPr>
              <a:t>plet 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(short sequences of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nucleotides each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3- Certain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are translated by the cell into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ertain Ami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aci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4. Thus, the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nucleotide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DNA indicate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Amino acid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protein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are they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typ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chemical link between gen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sourc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 information in chromos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do they do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ctat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mino-acid sequence in prote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ive information to chromosomes, which is then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ssed from parent to offsp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y made of 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mple units call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onnected in long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ave 3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5-Carbon sugar (pent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Nitrogen containing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made of C, H and 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A phosphate group ( P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 groups make the links that unite the sugars (hence a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ugar-phosphate backb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Two types of Nucleotides</a:t>
            </a: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(depending on the sugar they contain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nucleic acids (R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a hydroxyl group in the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arbon---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nucleic acids (D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just an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in the same place--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)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oxy = “minus oxygen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D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omposition (3 parts):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oxyr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no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Thymine (Only in 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R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mposition ( 3 parts)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with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Uracyl (only in R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DNA </a:t>
            </a: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vs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RN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oxyr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ymi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ub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stranded helix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Uracyl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Sing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tr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The Double Helix (DNA)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ructural model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Model proposed by Watson &amp; Crick, 195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wo sugar-phosphate strands, next to each other, but running in opposite direction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Comic Sans MS"/>
              </a:rPr>
              <a:t>Specific Hydrogen bonds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occur among bases from one chain to the othe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A---T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    ,     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C---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Due to this specificity, a certain base on one strand indicates a certain base in the other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he 2 strands intertwine, forming a double-helix that winds around a central ax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0:59:06Z</dcterms:created>
  <dc:creator>Cheryl Massengale</dc:creator>
  <dc:description/>
  <dc:language>en-US</dc:language>
  <cp:lastModifiedBy>LEGION</cp:lastModifiedBy>
  <dcterms:modified xsi:type="dcterms:W3CDTF">2016-12-07T09:19:58Z</dcterms:modified>
  <cp:revision>29</cp:revision>
  <dc:subject/>
  <dc:title>Nucleic Acids What are they ?</dc:title>
</cp:coreProperties>
</file>