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6.wmf" ContentType="image/x-wmf"/>
  <Override PartName="/ppt/media/image19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4.png" ContentType="image/png"/>
  <Override PartName="/ppt/media/image1.gif" ContentType="image/gif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8CC6-B50F-4241-9C9B-FFBCFE21D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the Plant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to the Plant Kingdo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ternation of generations lif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ploid (2n) spor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ploid (1n) 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duce multicellular embryo protected inside multicellular haploid (gametophyte egg sac)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ion of generations life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loid (2n) spor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ploid (1n) 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multicellular embryo protected inside multicellular haploid (gametophyte egg sac) tissu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ploid (2n) sporophyte stage produces haploid spores by 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ploid spores undergo mitosis to produce 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 makes gametes (eggs and sperm) by 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ygote (2n) produces the new 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loid (2n) sporophyte stage produces haploid spores by meio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ploid spores undergo mitosis to produce 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 makes gametes (eggs and sperm) by meio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ygote (2n) produces the new 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gamet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n po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ary with 1n ovules (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seed with plant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ion of Genera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gamet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n poll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 with 1n ovules (egg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seed with plant embry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Div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Divis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re divided into tw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presence or absence of an internal transport system for water and dissolved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Bun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xonom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are divided into two group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d on the presence or absence of an internal transport system for water and dissolved materi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Vascular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Bund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ylem tissue carries water and minerals upward from the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loem tissue carries sugars made by photosynthesis from the leaves to where they will be stored or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p is the fluid carried inside the xylem or phl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ylem tissue carries water and minerals upward from the r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loem tissue carries sugars made by photosynthesis from the leaves to where they will be stored or us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p is the fluid carried inside the xylem or phlo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 not have vascular tissue for support or conduction of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led Bry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quire a constantly moist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ss Gametophytes &amp; Spor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r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have vascular tissue for support or conduction of materi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Bry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quire a constantly moist environme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s Gametophytes &amp; Spor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or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can’t grow as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must be in direct contact with moi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 move by diffusion cell-to-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must swim to egg through water dro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can’t grow as tal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 must be in direct contact with moistu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erials move by diffusion cell-to-cel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rm must swim to egg through water drople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 mosses (Bryophyta), liverworts (Hepatophyta), and hornworts (Anthero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verw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rnw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 mosses (Bryophyta), liverworts (Hepatophyta), and hornworts (Antherophyta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wor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nwor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Parts of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ound abov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ave leav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otosynthetic part of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ound below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bsorb water &amp;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nchor th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 Parts of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ound above grou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Have leaves attach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Photosynthetic part of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ound below grou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bsorb water &amp;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nchor the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Ances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uatic to Terrestri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y Ancesto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to Terrestrial Lif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Trache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vided into two groups -- Seedless vascular plants and Seed-bearing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b M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called Trache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divided into two groups -- Seedless vascular plants and Seed-bearing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ub Mo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edless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club moss (Lycophyta), horsetails (Sphenophyta), whisk ferns (Psilophyta), and ferns (Ptero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rs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isk f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less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club moss (Lycophyta), horsetails (Sphenophyta), whisk ferns (Psilophyta), and ferns (Pterophyta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setai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sk fer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-Producing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two groups – Gymnosperms and 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s have naked seeds in c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 have flowers that produce seeds to attract pollinators and produc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-Producing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two groups – Gymnosperms and 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 have naked seeds in co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 have flowers that produce seeds to attract pollinators and produce see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iferophyta are known as coni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pine, cedar, spruce, and f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cadophyta – cyc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nkgophyta - gink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c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iferophyta are known as conife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pine, cedar, spruce, and fi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cadophyta – cyca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nkgophyta - gink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nk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ca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the oldest living plant – Bristle cone 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the tallest living plant – Sequoia or red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the oldest living plant – Bristle cone p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the tallest living plant – Sequoia or redwo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s are formed when an egg or ovule is fertilized by pollen in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 is within a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contains the male (stamen) and/or female (ovaries) parts of the pl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re frequently produced from these ripened ovaries (help disperse see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ing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s are formed when an egg or ovule is fertilized by pollen in the ov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 is within a flow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contains the male (stamen) and/or female (ovaries) parts of the plant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its are frequently produced from these ripened ovaries (help disperse seed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Anth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vided into two groups – Monocots and Di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s have a single seed cotyle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s have two seed cotyled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vision Anthophyt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divided into two groups – Monocots and Di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ocots have a single seed cotyled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ots have two seed cotyled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venation in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parts in multiples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tissue scattered in cross section of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o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venation in leav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parts in multiples of 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issue scattered in cross section of 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venation in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parts in multiples of 4 or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tissue in rings in cross section of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 venation in leav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parts in multiples of 4 or 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issue in rings in cross section of 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Us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uatic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st living species to a possible land plant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Charyophy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Ancesto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st living species to a possible land plant ancesto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of green alg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Charyophycea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 Can’t do Without Pl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xygen for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lumber for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homes and food for many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e Can’t do Without Plants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oxygen for the atm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lumber for buildin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 homes and food for many organis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ent ero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for fo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asons We Can’t do Without Pl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wood pulp for paper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many medi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namental and shade for y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s such as cotton for fab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Reasons We Can’t do Without Plants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wood pulp for paper produc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 of many medici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namental and shade for yar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bers such as cotton for fabr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y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&amp; Land Plant Simila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contain chlorophylls a and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hloroplasts with stacks of thylak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starch in plast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ose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Alternation of Generations lif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gae &amp; Land Plant Similariti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h contain chlorophylls a and b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e chloroplasts with stacks of thylako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re starch in plast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ulose in cell wa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through Alternation of Generations life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restrial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quatic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restrial Habita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Habita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in Aquatic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surrounded by water so don’t dry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swims to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supports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stay in upper surface nea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b nutrients from the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in Aquatic Environme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surrounded by water so don’t dry ou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rm swims to eg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supports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stay in upper surface near ligh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b nutrients from the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Adaptations to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ed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rease in Height fo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aptations for Dri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ots absorb H2O &amp;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nin &amp; cellulose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scular Transpor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y cuticle &amp; stomata with guar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len containing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Adaptations to La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e in Height for Ligh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aptations for Drier environme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ots absorb H2O &amp;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nin &amp; cellulose in cell wa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ransport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xy cuticle &amp; stomata with guard ce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len containing sper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 Plants All A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re  Plants All Alik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utotrophic (photosynth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lorophylls a and b in thylakoid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rrounded by cell walls containing cellulose (polysaccha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re reserve food as amylose (star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Characterist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ellula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ic (photosynthesi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hylls a and b in thylakoid membra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rrounded by cell walls containing cellulose (polysaccharid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re reserve food as amylose (starch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0DD-ED63-45C0-BDCE-7C214A3D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F5A9-32D4-4F0C-B71E-28BB9903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E60A-D8EB-4759-836D-30306C66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EA9-17F7-4FDC-BE84-64A9BEC3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FB6E-93A7-467E-B329-5813BCC0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FEE6-7945-4539-875A-484E399B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A753-D0EC-4052-9CE1-8CACE655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B78F-2195-4D77-9105-E2D62142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BBE9-3775-4FF7-9A1A-9088EA18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C44E-D7D5-4373-8C22-9A6FD41B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8E75-7921-4ADA-9984-2FC351CE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CADD-E355-4F0F-84B8-12B8FEC8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A35D-CF3F-49A5-AE97-1B7C7A80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B9D2-6901-423C-994E-C7176FB8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156D-B53C-4AE7-A39F-EDC7DF0A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C2C9-2B14-472A-9A47-233A868C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03C3-9127-4826-9F1B-F5D0EE3A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CB5D-26BD-49D0-9BD1-D6E71DB1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1AB8-713A-4141-8EE9-05B4817F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CA9C-3870-432B-880C-BFB9BF18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CE1D-949C-47E3-9D71-9A57BDBF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352-0994-4FF8-AE4E-D5BE39CF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2A5-BEB6-49BF-860C-0D697F9F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B41-26B4-4EF6-AEC5-08090E08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02E1-EE34-4C7D-B7AE-7B5121183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02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1027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Freeform 1028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1029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1030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1031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Freeform 1032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Freeform 1033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Freeform 1034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Freeform 1035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" name="Rectangle 1036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1" name="Rectangle 1037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Freeform 1038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" name="Freeform 1039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" name="Freeform 1040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Freeform 1041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042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043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1044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4130-5EDF-46EE-81BC-EAA8008C44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4760" y="1828800"/>
            <a:ext cx="563868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Introduction to the Plant Kingdom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7" descr="plant &amp; butterfly"/>
          <p:cNvPicPr/>
          <p:nvPr/>
        </p:nvPicPr>
        <p:blipFill>
          <a:blip r:embed="rId1"/>
          <a:stretch/>
        </p:blipFill>
        <p:spPr>
          <a:xfrm>
            <a:off x="533520" y="3962520"/>
            <a:ext cx="2361960" cy="23619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Reproduction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lternation of generation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life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ploid (2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or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Haploid (1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amet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cellular embryo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rotecte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side multicellular haploi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gametophyte egg sac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Reproduction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ploid (2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or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 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haploid spore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by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ei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Haploid spores undergo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itosi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produ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amet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Gametophyte mak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metes (eggs and sperm)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by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ei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Zygo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(2n) produces the new sporophy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lternation of Generation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7" name="Picture 16" descr="alternation of generation general"/>
          <p:cNvPicPr/>
          <p:nvPr/>
        </p:nvPicPr>
        <p:blipFill>
          <a:blip r:embed="rId1"/>
          <a:srcRect l="0" t="0" r="18609" b="14764"/>
          <a:stretch/>
        </p:blipFill>
        <p:spPr>
          <a:xfrm>
            <a:off x="539640" y="1413000"/>
            <a:ext cx="7848720" cy="52498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7"/>
          <p:cNvSpPr/>
          <p:nvPr/>
        </p:nvSpPr>
        <p:spPr>
          <a:xfrm>
            <a:off x="1042920" y="184464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Sporophy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4211640" y="1844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gametophy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948360" y="1844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1n poll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659640" y="5373720"/>
            <a:ext cx="180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Ovary with 1n ovules (eggs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3995640" y="450864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seed with plant embry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2700360" y="1341360"/>
            <a:ext cx="4176720" cy="51832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1908000" y="6237360"/>
            <a:ext cx="1944720" cy="459720"/>
          </a:xfrm>
          <a:prstGeom prst="rect">
            <a:avLst/>
          </a:prstGeom>
          <a:solidFill>
            <a:srgbClr val="5692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orophy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5435640" y="1413000"/>
            <a:ext cx="2232000" cy="825480"/>
          </a:xfrm>
          <a:prstGeom prst="rect">
            <a:avLst/>
          </a:prstGeom>
          <a:solidFill>
            <a:srgbClr val="5692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ophy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    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295280" y="1066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Comic Sans MS"/>
              </a:rPr>
              <a:t>Plant Division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7" descr="flower"/>
          <p:cNvPicPr/>
          <p:nvPr/>
        </p:nvPicPr>
        <p:blipFill>
          <a:blip r:embed="rId1"/>
          <a:stretch/>
        </p:blipFill>
        <p:spPr>
          <a:xfrm>
            <a:off x="3048120" y="3429000"/>
            <a:ext cx="2773080" cy="27734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68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68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6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6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Taxonomy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Plants are divided into </a:t>
            </a:r>
            <a:r>
              <a:rPr b="1" lang="en-US" sz="3000" spc="-1" strike="noStrike">
                <a:solidFill>
                  <a:srgbClr val="cc3300"/>
                </a:solidFill>
                <a:latin typeface="Comic Sans MS"/>
              </a:rPr>
              <a:t>two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group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Based on the 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presence or absence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 of an 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internal transport system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 for water and dissolved materi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000" spc="-1" strike="noStrike">
                <a:solidFill>
                  <a:srgbClr val="cc3300"/>
                </a:solidFill>
                <a:latin typeface="Comic Sans MS"/>
              </a:rPr>
              <a:t>Vascular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12" descr="celery"/>
          <p:cNvPicPr/>
          <p:nvPr/>
        </p:nvPicPr>
        <p:blipFill>
          <a:blip r:embed="rId1"/>
          <a:stretch/>
        </p:blipFill>
        <p:spPr>
          <a:xfrm>
            <a:off x="4800600" y="1295280"/>
            <a:ext cx="3962520" cy="2579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vascular tissue"/>
          <p:cNvPicPr/>
          <p:nvPr/>
        </p:nvPicPr>
        <p:blipFill>
          <a:blip r:embed="rId2"/>
          <a:stretch/>
        </p:blipFill>
        <p:spPr>
          <a:xfrm>
            <a:off x="4419720" y="4114800"/>
            <a:ext cx="4724280" cy="2532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4"/>
          <p:cNvSpPr/>
          <p:nvPr/>
        </p:nvSpPr>
        <p:spPr>
          <a:xfrm>
            <a:off x="4952880" y="26668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ascular Bund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Line 15"/>
          <p:cNvSpPr/>
          <p:nvPr/>
        </p:nvSpPr>
        <p:spPr>
          <a:xfrm flipV="1">
            <a:off x="6172200" y="2666880"/>
            <a:ext cx="38088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Vascular System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Xylem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 carri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water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ineral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upward from the roo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hloem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 carri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ugar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made by photosynthesis from the leaves to where they will be stored or us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ap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s the fluid carried inside the xylem or phlo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o not have vascular tissue for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support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duction of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ryoph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equire a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stantly moist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9" descr="moss"/>
          <p:cNvPicPr/>
          <p:nvPr/>
        </p:nvPicPr>
        <p:blipFill>
          <a:blip r:embed="rId1"/>
          <a:stretch/>
        </p:blipFill>
        <p:spPr>
          <a:xfrm>
            <a:off x="4572000" y="1752480"/>
            <a:ext cx="4038480" cy="4077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0"/>
          <p:cNvSpPr/>
          <p:nvPr/>
        </p:nvSpPr>
        <p:spPr>
          <a:xfrm>
            <a:off x="4648320" y="579132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oss Gametophytes &amp; Sporophy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4191120" y="2133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Sporophyte stag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5486400" y="2514600"/>
            <a:ext cx="838080" cy="6094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6629400" y="48006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Gametophyte Stag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Plants can’t grow as ta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Cells must be in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direct contact with moistu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Materials move by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diffusion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cell-to-c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perm must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swim to egg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through water drople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 moss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Bry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liverwort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Hepat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and hornwort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Antherophyt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10" descr="liverwort"/>
          <p:cNvPicPr/>
          <p:nvPr/>
        </p:nvPicPr>
        <p:blipFill>
          <a:blip r:embed="rId1"/>
          <a:stretch/>
        </p:blipFill>
        <p:spPr>
          <a:xfrm>
            <a:off x="762120" y="3429000"/>
            <a:ext cx="3429000" cy="2573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hornwort1"/>
          <p:cNvPicPr/>
          <p:nvPr/>
        </p:nvPicPr>
        <p:blipFill>
          <a:blip r:embed="rId2"/>
          <a:stretch/>
        </p:blipFill>
        <p:spPr>
          <a:xfrm>
            <a:off x="4952880" y="3429000"/>
            <a:ext cx="3505320" cy="2692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2"/>
          <p:cNvSpPr/>
          <p:nvPr/>
        </p:nvSpPr>
        <p:spPr>
          <a:xfrm>
            <a:off x="1066680" y="6095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Liverwor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5181480" y="6095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Hornwor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Main Parts of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Sho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Found abov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Have leaves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 Photosynthetic part of pl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Ro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Found below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Absorb water &amp; miner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Anchor the pl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8" descr="plantbod[1]"/>
          <p:cNvPicPr/>
          <p:nvPr/>
        </p:nvPicPr>
        <p:blipFill>
          <a:blip r:embed="rId1"/>
          <a:stretch/>
        </p:blipFill>
        <p:spPr>
          <a:xfrm>
            <a:off x="6012000" y="981000"/>
            <a:ext cx="3020760" cy="5688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cc"/>
                </a:solidFill>
                <a:latin typeface="Comic Sans MS"/>
              </a:rPr>
              <a:t>Early Ancestors</a:t>
            </a:r>
            <a:endParaRPr b="1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quatic to Terrestrial Lif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Tracheoph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ubdivided into two groups --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Seedless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vascular plants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n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Seed-bearing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vascular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7" descr="clubmoss3"/>
          <p:cNvPicPr/>
          <p:nvPr/>
        </p:nvPicPr>
        <p:blipFill>
          <a:blip r:embed="rId1"/>
          <a:stretch/>
        </p:blipFill>
        <p:spPr>
          <a:xfrm>
            <a:off x="5157720" y="1600200"/>
            <a:ext cx="3017880" cy="45306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5334120" y="6095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lub Mo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Seedless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club mos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Lyc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horsetail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Sphen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whisk fern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Psil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and fern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Pterophyt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5" descr="whisk ferns"/>
          <p:cNvPicPr/>
          <p:nvPr/>
        </p:nvPicPr>
        <p:blipFill>
          <a:blip r:embed="rId1"/>
          <a:stretch/>
        </p:blipFill>
        <p:spPr>
          <a:xfrm>
            <a:off x="762120" y="4014720"/>
            <a:ext cx="3429000" cy="2309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horsetails"/>
          <p:cNvPicPr/>
          <p:nvPr/>
        </p:nvPicPr>
        <p:blipFill>
          <a:blip r:embed="rId2"/>
          <a:stretch/>
        </p:blipFill>
        <p:spPr>
          <a:xfrm>
            <a:off x="5257800" y="3657600"/>
            <a:ext cx="2698920" cy="26557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556272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orsetai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295280" y="62485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Whisk fer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Seed-Producing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two groups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ymn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ngiosper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aked seed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c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flowers that produce seed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to attract pollinators and produce see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ifer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are known as conif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ludes pine, cedar, spruce, and f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ycad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– cyc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Ginkg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- gink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5" descr="cycad-2"/>
          <p:cNvPicPr/>
          <p:nvPr/>
        </p:nvPicPr>
        <p:blipFill>
          <a:blip r:embed="rId1"/>
          <a:stretch/>
        </p:blipFill>
        <p:spPr>
          <a:xfrm>
            <a:off x="5715000" y="304920"/>
            <a:ext cx="2846520" cy="4092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ginkgo"/>
          <p:cNvPicPr/>
          <p:nvPr/>
        </p:nvPicPr>
        <p:blipFill>
          <a:blip r:embed="rId2"/>
          <a:stretch/>
        </p:blipFill>
        <p:spPr>
          <a:xfrm>
            <a:off x="4114800" y="3886200"/>
            <a:ext cx="3657600" cy="27496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3124080" y="5867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Ginkg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80010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yca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ains the oldest living plant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Bristle cone p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ains the tallest living plant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equoia or redw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6" descr="sequoia_tree"/>
          <p:cNvPicPr/>
          <p:nvPr/>
        </p:nvPicPr>
        <p:blipFill>
          <a:blip r:embed="rId1"/>
          <a:stretch/>
        </p:blipFill>
        <p:spPr>
          <a:xfrm>
            <a:off x="4495680" y="3886200"/>
            <a:ext cx="3581640" cy="2681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Bristlecone-Pine0012-web"/>
          <p:cNvPicPr/>
          <p:nvPr/>
        </p:nvPicPr>
        <p:blipFill>
          <a:blip r:embed="rId2"/>
          <a:stretch/>
        </p:blipFill>
        <p:spPr>
          <a:xfrm>
            <a:off x="5851440" y="228600"/>
            <a:ext cx="2817720" cy="3581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218960"/>
            <a:ext cx="54007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Flowering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Seeds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re formed when an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egg or ovule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s fertilized by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pollen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n the ov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Ovary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s within a fl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Flower contains the male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(stamen)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nd/or female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(ovaries)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parts of the pla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Fruits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re frequently produced from these ripened ovaries (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help disperse seed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6" descr="flowers"/>
          <p:cNvPicPr/>
          <p:nvPr/>
        </p:nvPicPr>
        <p:blipFill>
          <a:blip r:embed="rId1"/>
          <a:stretch/>
        </p:blipFill>
        <p:spPr>
          <a:xfrm>
            <a:off x="5334120" y="1371600"/>
            <a:ext cx="3590640" cy="460548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visio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nthophy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Subdivided into two groups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onocots and Dico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onoco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a single seed cotyled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Dico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two seed cotyled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Monoco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arallel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venation in lea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lower parts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ples of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Vascular tissu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cattere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cross section of 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7" descr="monocot_characteristics"/>
          <p:cNvPicPr/>
          <p:nvPr/>
        </p:nvPicPr>
        <p:blipFill>
          <a:blip r:embed="rId1"/>
          <a:stretch/>
        </p:blipFill>
        <p:spPr>
          <a:xfrm>
            <a:off x="4716360" y="1197000"/>
            <a:ext cx="3586320" cy="54007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Dico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et venation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lea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lower parts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ples of 4 or 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Vascular tissu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in ring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cross section of 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6" descr="dicot_characteristics"/>
          <p:cNvPicPr/>
          <p:nvPr/>
        </p:nvPicPr>
        <p:blipFill>
          <a:blip r:embed="rId1"/>
          <a:stretch/>
        </p:blipFill>
        <p:spPr>
          <a:xfrm>
            <a:off x="5148360" y="1197000"/>
            <a:ext cx="3600360" cy="544356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Plant Uses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6" name="Picture 5" descr="paper"/>
          <p:cNvPicPr/>
          <p:nvPr/>
        </p:nvPicPr>
        <p:blipFill>
          <a:blip r:embed="rId1"/>
          <a:srcRect l="1811" t="1770" r="1811" b="1852"/>
          <a:stretch/>
        </p:blipFill>
        <p:spPr>
          <a:xfrm rot="720000">
            <a:off x="2700000" y="2276280"/>
            <a:ext cx="3887640" cy="388764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Aquatic Ancestor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osest living specie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a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ossible land plant ance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Group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reen alga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Charyophycea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9" descr="CHARA"/>
          <p:cNvPicPr/>
          <p:nvPr/>
        </p:nvPicPr>
        <p:blipFill>
          <a:blip r:embed="rId1"/>
          <a:stretch/>
        </p:blipFill>
        <p:spPr>
          <a:xfrm>
            <a:off x="4800600" y="2286000"/>
            <a:ext cx="4038480" cy="2936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5867280" y="51814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Comic Sans MS"/>
              </a:rPr>
              <a:t>Char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Why We Can’t do Without Plants!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oxygen for the atmosp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lumber for buil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vide homes and food for many organis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event ero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Used for f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More Reasons We Can’t do Without Plants!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wood pulp for paper produ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Source of many medici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Ornamental and shade for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ibers such as cotton for fabr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y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lgae &amp; Land Plant Similaritie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Both contain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hlorophylls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 and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Hav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loroplast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with stacks of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thylako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ore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starch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last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ulose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ell w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Go through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lternation of Generation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ife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725640" cy="5124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0806083"/>
          <p:cNvPicPr/>
          <p:nvPr/>
        </p:nvPicPr>
        <p:blipFill>
          <a:blip r:embed="rId2"/>
          <a:srcRect l="0" t="0" r="1550" b="6561"/>
          <a:stretch/>
        </p:blipFill>
        <p:spPr>
          <a:xfrm>
            <a:off x="304920" y="1600200"/>
            <a:ext cx="4724280" cy="39117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0" y="5638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errestrial Habit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029200" y="4492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quatic Habit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Living in Aquatic Environme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lants surrounded by water so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don’t dry 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erm swi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eg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Water suppor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pl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lants stay in upper surfa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ear l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bsorb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 nutrient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rom the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 H</a:t>
            </a:r>
            <a:r>
              <a:rPr b="1" lang="en-US" sz="3600" spc="-1" strike="noStrike" baseline="-25000">
                <a:solidFill>
                  <a:srgbClr val="9966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oscillatoria1"/>
          <p:cNvPicPr/>
          <p:nvPr/>
        </p:nvPicPr>
        <p:blipFill>
          <a:blip r:embed="rId1"/>
          <a:stretch/>
        </p:blipFill>
        <p:spPr>
          <a:xfrm>
            <a:off x="6019920" y="2362320"/>
            <a:ext cx="2376360" cy="18446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Plant Adaptations to Land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8098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robl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Need miner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rease in Height for 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daptations for Drier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ep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962520" y="13712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Solu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Roots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absorb H</a:t>
            </a:r>
            <a:r>
              <a:rPr b="1" lang="en-GB" sz="3000" spc="-1" strike="noStrike" baseline="-25000">
                <a:solidFill>
                  <a:srgbClr val="996600"/>
                </a:solidFill>
                <a:latin typeface="Comic Sans MS"/>
              </a:rPr>
              <a:t>2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O &amp; miner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Lignin &amp; cellulose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in cell wal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Vascular 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Transport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Waxy cuticle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&amp; </a:t>
            </a: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stomata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with guard cel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Pollen 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containing sper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Comic Sans MS"/>
              </a:rPr>
              <a:t>How Are  Plants All Alike?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10" descr="DD00864_"/>
          <p:cNvPicPr/>
          <p:nvPr/>
        </p:nvPicPr>
        <p:blipFill>
          <a:blip r:embed="rId1"/>
          <a:stretch/>
        </p:blipFill>
        <p:spPr>
          <a:xfrm>
            <a:off x="2743200" y="2438280"/>
            <a:ext cx="3851280" cy="39751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Characteristic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Multicell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utotrophic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(photosynthes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hlorophylls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 and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b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thylakoid membra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urrounded by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 wall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containing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ulose (polysacchar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ore reserve food as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mylose (star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2:59:38Z</dcterms:created>
  <dc:creator>Cheryl Massengale</dc:creator>
  <dc:description/>
  <dc:language>en-US</dc:language>
  <cp:lastModifiedBy>LEGION</cp:lastModifiedBy>
  <dcterms:modified xsi:type="dcterms:W3CDTF">2016-12-07T09:20:38Z</dcterms:modified>
  <cp:revision>50</cp:revision>
  <dc:subject/>
  <dc:title>PLANTS</dc:title>
</cp:coreProperties>
</file>