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4.png" ContentType="image/png"/>
  <Override PartName="/ppt/media/image1.gif" ContentType="image/gif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CDE4-2540-45C2-96BC-1C1514F4D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4CD-70A6-44E5-B4A6-058E1934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E00-2F67-4186-8A7E-028CEF50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0D4-B380-43CC-84C3-3DF58038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AB0-B6CD-4B88-99B3-DFBDB185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1AE1-6FBC-47C0-8980-E151E27E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F540-CECB-4D29-8CA7-26107B70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C34D-FCEB-46B1-8AE2-1C1DED7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416-1A8D-4135-B59F-D2C7031A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FAC2-8A48-4A60-8A0A-1A3E570B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A33C-6783-4F16-B958-8F14BEE3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4654-D935-44D6-ABAF-E80973C2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2A6-C4A6-4C6A-BCA0-F216F353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CCA4-FB55-42EA-A18F-D6EC47E6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B0A0-D4E9-4739-ABD8-F9AE9BB6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DE9E-76D0-4D39-9CEC-C99A422E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097F-9655-41F6-9810-232EC9D1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7790-5DF0-40A4-9215-71E333F3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17B-F4DC-4F27-B32E-6F8BD021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4E9-9A79-43E2-992C-5C8A1030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95F-A321-4D5C-A1BD-80121C72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741-6773-48B4-B7AF-71E0AA6F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D77-CDCD-41CC-95BC-7BDC38A0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56A-7FBC-47C3-98B5-B28FFD6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D30-7222-4947-A5CE-AA9727A3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3CBD-95EE-48AE-A2BB-F7089818B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5562-D633-4C12-9FA0-52F73449E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182880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Introduction to the Plant Kingdom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7" descr="plant &amp; butterfly"/>
          <p:cNvPicPr/>
          <p:nvPr/>
        </p:nvPicPr>
        <p:blipFill>
          <a:blip r:embed="rId1"/>
          <a:stretch/>
        </p:blipFill>
        <p:spPr>
          <a:xfrm>
            <a:off x="533520" y="3962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life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(1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cellular embryo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rotect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side multicellular haploi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gametophyte egg sac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 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aploid spor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spores underg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itosi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ametophyte mak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metes (eggs and sperm)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Zygo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(2n) produces the new sporophy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ternation of Generation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16" descr="alternation of generation general"/>
          <p:cNvPicPr/>
          <p:nvPr/>
        </p:nvPicPr>
        <p:blipFill>
          <a:blip r:embed="rId1"/>
          <a:srcRect l="0" t="0" r="18609" b="14764"/>
          <a:stretch/>
        </p:blipFill>
        <p:spPr>
          <a:xfrm>
            <a:off x="539640" y="1413000"/>
            <a:ext cx="7848720" cy="5249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7"/>
          <p:cNvSpPr/>
          <p:nvPr/>
        </p:nvSpPr>
        <p:spPr>
          <a:xfrm>
            <a:off x="1042920" y="1844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por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21164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gamet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948360" y="184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n poll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659640" y="5373720"/>
            <a:ext cx="180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vary with 1n ovules (egg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995640" y="4508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eed with plant embry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2700360" y="1341360"/>
            <a:ext cx="4176720" cy="5183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1908000" y="6237360"/>
            <a:ext cx="1944720" cy="45972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r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435640" y="1413000"/>
            <a:ext cx="2232000" cy="82548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Comic Sans MS"/>
              </a:rPr>
              <a:t>Plant Divis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7" descr="flower"/>
          <p:cNvPicPr/>
          <p:nvPr/>
        </p:nvPicPr>
        <p:blipFill>
          <a:blip r:embed="rId1"/>
          <a:stretch/>
        </p:blipFill>
        <p:spPr>
          <a:xfrm>
            <a:off x="3048120" y="3429000"/>
            <a:ext cx="2773080" cy="2773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Taxonom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Plants are divided into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grou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Based on the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presence or absence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of an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internal transport system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for water and dissolved mate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12" descr="celery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57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vascular tissue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532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4952880" y="26668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scular Bund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Line 15"/>
          <p:cNvSpPr/>
          <p:nvPr/>
        </p:nvSpPr>
        <p:spPr>
          <a:xfrm flipV="1">
            <a:off x="6172200" y="2666880"/>
            <a:ext cx="3808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Xyl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ineral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upward from the ro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hlo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ugar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made by photosynthesis from the leaves to where they will be stored or u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ap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s the fluid carried inside the xylem or phlo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o not have vascular tissue f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upport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duction of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ry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quire a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stantly moist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moss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4077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4648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ss Gametophytes &amp; Sporophy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191120" y="2133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por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486400" y="2514600"/>
            <a:ext cx="83808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6629400" y="48006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Gamet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lants can’t grow as t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Cells must be in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rect contact with mois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Materials move by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ffusi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cell-to-c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perm must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wim to egg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through water dropl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 moss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Bry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liver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Hepat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horn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Anth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0" descr="liverwort"/>
          <p:cNvPicPr/>
          <p:nvPr/>
        </p:nvPicPr>
        <p:blipFill>
          <a:blip r:embed="rId1"/>
          <a:stretch/>
        </p:blipFill>
        <p:spPr>
          <a:xfrm>
            <a:off x="762120" y="34290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hornwort1"/>
          <p:cNvPicPr/>
          <p:nvPr/>
        </p:nvPicPr>
        <p:blipFill>
          <a:blip r:embed="rId2"/>
          <a:stretch/>
        </p:blipFill>
        <p:spPr>
          <a:xfrm>
            <a:off x="4952880" y="3429000"/>
            <a:ext cx="350532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10666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iver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1814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orn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ain Parts of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Sh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Found abov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Have leaves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 Photosynthetic part of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Found below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bsorb water &amp;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nchor the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8" descr="plantbod[1]"/>
          <p:cNvPicPr/>
          <p:nvPr/>
        </p:nvPicPr>
        <p:blipFill>
          <a:blip r:embed="rId1"/>
          <a:stretch/>
        </p:blipFill>
        <p:spPr>
          <a:xfrm>
            <a:off x="6012000" y="981000"/>
            <a:ext cx="3020760" cy="5688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cc"/>
                </a:solidFill>
                <a:latin typeface="Comic Sans MS"/>
              </a:rPr>
              <a:t>Early Ancestors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quatic to Terrestrial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rache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bdivided into two groups --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less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-bearing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7" descr="clubmoss3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533412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lub M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less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club mos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Lyc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horsetail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Sphen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whisk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sil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t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whisk ferns"/>
          <p:cNvPicPr/>
          <p:nvPr/>
        </p:nvPicPr>
        <p:blipFill>
          <a:blip r:embed="rId1"/>
          <a:stretch/>
        </p:blipFill>
        <p:spPr>
          <a:xfrm>
            <a:off x="762120" y="4014720"/>
            <a:ext cx="3429000" cy="23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orsetails"/>
          <p:cNvPicPr/>
          <p:nvPr/>
        </p:nvPicPr>
        <p:blipFill>
          <a:blip r:embed="rId2"/>
          <a:stretch/>
        </p:blipFill>
        <p:spPr>
          <a:xfrm>
            <a:off x="5257800" y="3657600"/>
            <a:ext cx="2698920" cy="2655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556272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rsetai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295280" y="6248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Whisk fer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-Producing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giospe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aked seed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flowers that produce seed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o attract pollinators and produce s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ifer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are known as conif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ludes pine, cedar, spruce, and f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ycad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– cyc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Ginkg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- gink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cycad-2"/>
          <p:cNvPicPr/>
          <p:nvPr/>
        </p:nvPicPr>
        <p:blipFill>
          <a:blip r:embed="rId1"/>
          <a:stretch/>
        </p:blipFill>
        <p:spPr>
          <a:xfrm>
            <a:off x="5715000" y="304920"/>
            <a:ext cx="2846520" cy="4092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ginkgo"/>
          <p:cNvPicPr/>
          <p:nvPr/>
        </p:nvPicPr>
        <p:blipFill>
          <a:blip r:embed="rId2"/>
          <a:stretch/>
        </p:blipFill>
        <p:spPr>
          <a:xfrm>
            <a:off x="4114800" y="3886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312408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Ginkg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01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yc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old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Bristle cone p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tall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equoia or red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6" descr="sequoia_tree"/>
          <p:cNvPicPr/>
          <p:nvPr/>
        </p:nvPicPr>
        <p:blipFill>
          <a:blip r:embed="rId1"/>
          <a:stretch/>
        </p:blipFill>
        <p:spPr>
          <a:xfrm>
            <a:off x="4495680" y="3886200"/>
            <a:ext cx="3581640" cy="268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ristlecone-Pine0012-web"/>
          <p:cNvPicPr/>
          <p:nvPr/>
        </p:nvPicPr>
        <p:blipFill>
          <a:blip r:embed="rId2"/>
          <a:stretch/>
        </p:blipFill>
        <p:spPr>
          <a:xfrm>
            <a:off x="5851440" y="228600"/>
            <a:ext cx="2817720" cy="3581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54007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lowering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Seed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ormed when an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egg or ovule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fertilized by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pollen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n the 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Ovary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within a fl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lower contains the 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stamen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nd/or fe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ovaries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parts of the pl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ruit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requently produced from these ripened ovaries (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help disperse see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6" descr="flowers"/>
          <p:cNvPicPr/>
          <p:nvPr/>
        </p:nvPicPr>
        <p:blipFill>
          <a:blip r:embed="rId1"/>
          <a:stretch/>
        </p:blipFill>
        <p:spPr>
          <a:xfrm>
            <a:off x="5334120" y="1371600"/>
            <a:ext cx="3590640" cy="46054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visio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thophy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ubdivided into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 and Dic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a single seed cotyle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i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two seed cotyled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Mono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venation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catter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7" descr="monocot_characteristics"/>
          <p:cNvPicPr/>
          <p:nvPr/>
        </p:nvPicPr>
        <p:blipFill>
          <a:blip r:embed="rId1"/>
          <a:stretch/>
        </p:blipFill>
        <p:spPr>
          <a:xfrm>
            <a:off x="4716360" y="1197000"/>
            <a:ext cx="3586320" cy="5400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Di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t venation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4 or 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in ring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6" descr="dicot_characteristics"/>
          <p:cNvPicPr/>
          <p:nvPr/>
        </p:nvPicPr>
        <p:blipFill>
          <a:blip r:embed="rId1"/>
          <a:stretch/>
        </p:blipFill>
        <p:spPr>
          <a:xfrm>
            <a:off x="5148360" y="1197000"/>
            <a:ext cx="3600360" cy="54435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Plant Us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Picture 5" descr="paper"/>
          <p:cNvPicPr/>
          <p:nvPr/>
        </p:nvPicPr>
        <p:blipFill>
          <a:blip r:embed="rId1"/>
          <a:srcRect l="1811" t="1770" r="1811" b="1852"/>
          <a:stretch/>
        </p:blipFill>
        <p:spPr>
          <a:xfrm rot="720000">
            <a:off x="2700000" y="227628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Aquatic Ancestor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osest living speci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a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ossible land plant ance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ro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een alg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haryophyc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9" descr="CHARA"/>
          <p:cNvPicPr/>
          <p:nvPr/>
        </p:nvPicPr>
        <p:blipFill>
          <a:blip r:embed="rId1"/>
          <a:stretch/>
        </p:blipFill>
        <p:spPr>
          <a:xfrm>
            <a:off x="4800600" y="228600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5867280" y="5181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Comic Sans MS"/>
              </a:rPr>
              <a:t>Char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hy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oxygen for the atmosp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lumber for bui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vide homes and food for many organi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event ero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Used for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ore Reasons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wood pulp for paper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ource of many medic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Ornamental and shade for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ibers such as cotton for fabr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gae &amp; Land Plant Similaritie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oth contain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Hav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oplas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with stacks of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hylak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tarch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st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ell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o through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25640" cy="5124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806083"/>
          <p:cNvPicPr/>
          <p:nvPr/>
        </p:nvPicPr>
        <p:blipFill>
          <a:blip r:embed="rId2"/>
          <a:srcRect l="0" t="0" r="1550" b="6561"/>
          <a:stretch/>
        </p:blipFill>
        <p:spPr>
          <a:xfrm>
            <a:off x="304920" y="1600200"/>
            <a:ext cx="4724280" cy="3911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errestrial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29200" y="4492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quatic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Living in Aquatic Environm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urrounded by water so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on’t dry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erm swi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 suppor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pl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tay in upper surfa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ar 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bsorb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nutrient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rom the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H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oscillatoria1"/>
          <p:cNvPicPr/>
          <p:nvPr/>
        </p:nvPicPr>
        <p:blipFill>
          <a:blip r:embed="rId1"/>
          <a:stretch/>
        </p:blipFill>
        <p:spPr>
          <a:xfrm>
            <a:off x="6019920" y="2362320"/>
            <a:ext cx="2376360" cy="1844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Plant Adaptations to Land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eed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rease in Height for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daptations for Drie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6252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Roots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absorb H</a:t>
            </a:r>
            <a:r>
              <a:rPr b="1" lang="en-GB" sz="30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O &amp; miner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Lignin &amp; cellulos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in cell wa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Vascular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Transpor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Waxy cuticl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&amp; </a:t>
            </a: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stomata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with guard ce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Pollen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containing sper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Comic Sans MS"/>
              </a:rPr>
              <a:t>How Are  Plants All Alike?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10" descr="DD00864_"/>
          <p:cNvPicPr/>
          <p:nvPr/>
        </p:nvPicPr>
        <p:blipFill>
          <a:blip r:embed="rId1"/>
          <a:stretch/>
        </p:blipFill>
        <p:spPr>
          <a:xfrm>
            <a:off x="2743200" y="2438280"/>
            <a:ext cx="3851280" cy="3975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Characteristic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Multicell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utotrophic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(photosyn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thylakoid memb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rrounded by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 wall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containing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 (polysacchar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reserve food as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mylose (star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Cheryl Massengale</dc:creator>
  <dc:description/>
  <dc:language>en-US</dc:language>
  <cp:lastModifiedBy>LEGION</cp:lastModifiedBy>
  <dcterms:modified xsi:type="dcterms:W3CDTF">2016-12-07T09:20:38Z</dcterms:modified>
  <cp:revision>50</cp:revision>
  <dc:subject/>
  <dc:title>PLANTS</dc:title>
</cp:coreProperties>
</file>