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6.wmf" ContentType="image/x-wmf"/>
  <Override PartName="/ppt/media/image19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4.png" ContentType="image/png"/>
  <Override PartName="/ppt/media/image1.gif" ContentType="image/gif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545E-82A0-485B-8F1B-87AB8BDA0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the Plant Kingdo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(1n)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multicellular embryo protected inside multicellular haploid (gametophyte egg sac) tissu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loid (2n) sporophyte stage produces haploid spores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ploid spores undergo mitosis to produce 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makes gametes (eggs and sperm) by meio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ygote (2n) produces the new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nation of Genera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n poll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with 1n ovules (egg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 seed with plant embry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Divis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xonom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divided into two group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the presence or absence of an internal transport system for water and dissolved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Bund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ylem tissue carries water and minerals upward from the 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loem tissue carries sugars made by photosynthesis from the leaves to where they will be stored or us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p is the fluid carried inside the xylem or phlo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have vascular tissue for support or conduction of materi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Bry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quire a constantly moist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s Gametophytes &amp; Spor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or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tophyte Stag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can’t grow as ta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must be in direct contact with mois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move by diffusion cell-to-cel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must swim to egg through water drople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 mosses (Bryophyta), liverworts (Hepatophyta), and hornworts (Anth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nwor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 Parts of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above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Have leaves attach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Photosynthetic part of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ound below grou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bsorb water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chor the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y Ancesto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to Terrestrial Lif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called Tracheophy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-- Seedless vascular plants and Seed-bear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ub Mo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less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club moss (Lycophyta), horsetails (Sphenophyta), whisk ferns (Psilophyta), and ferns (Pterophyta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setai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sk fer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-Producing Vascular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two groups – Gymnosperms and 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 have naked seeds in co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 have flowers that produce seeds to attract pollinators and produce see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iferophyta are known as conifer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ludes pine, cedar, spruce, and fi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ophyta – cyca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phyta - 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nk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ca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oldest living plant – Bristle cone pi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the tallest living plant – Sequoia or redw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ing pla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s are formed when an egg or ovule is fertilized by pollen in the ov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 is within a flow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contains the male (stamen) and/or female (ovaries) parts of the plant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uits are frequently produced from these ripened ovaries (help disperse seed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iosper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vision Anthophyt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divided into two groups – Monocots and 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 have a single seed cotyled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 have two seed cotyled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o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llel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scattered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o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venation in leav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parts in multiples of 4 or 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issue in rings in cross section of 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Us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st living species to a possible land plant ancesto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of green alg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ed Charyophycea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oxygen for the atmosphe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lumber for buildin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 homes and food for many organism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eros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for fo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Reasons We Can’t do Without Plants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wood pulp for paper produ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 of many medici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namental and shade for yar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ers such as cotton for fabri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y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gae &amp; Land Plant Similariti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th contain chlorophylls a and b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e chloroplasts with stacks of thylako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starch in plasti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hrough Alternation of Generations life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restrial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quatic Habita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in Aquatic Environmen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urrounded by water so don’t dry ou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rm swims to eg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supports pla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stay in upper surface nea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b nutrients from the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Adaptations to Lan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e in Height for Ligh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 for Drier environmen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ots absorb H2O &amp; miner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nin &amp; cellulose in cell wa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scular Transport Syst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xy cuticle &amp; stomata with guard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len containing sper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re  Plants All Alik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haracteristic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ellul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 (photosynthesis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s a and b in thylakoid membran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rounded by cell walls containing cellulose (polysacchar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re reserve food as amylose (starch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8F7-E4BB-4B75-AC5E-3C615B8D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D58-E7B9-4A5D-A00E-1808D7E7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595-ADD0-4829-8DB2-47019AFA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2AE-0439-462E-8A92-1E865048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D014-08D7-4543-93D6-822B4F0B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3A61-3889-4D2D-B1C7-425CB869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64E8-729B-4BE2-A5D8-1C61FC87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595B-6764-4565-9244-918C9848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2782-D24A-4D09-86D9-E1C4EB17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AA41-9EDC-4E40-8349-F8FFF4E4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974F-638E-4BCF-A2CB-B972877E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5F5-0EAD-4CF3-A377-265B1968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0E61-AEE0-4473-84C0-8B938050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29B7-9F7F-4107-A678-17F4BE5C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9FE3-C11E-4692-8C1C-D8D02664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858E-DA64-444A-B528-9D912337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0936-4A36-4CFA-8E00-4DDFE9A4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06A-5CDD-4E6D-A7FB-60F5F445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DCD-71FF-420B-AE16-57BBB453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FAE-CD4A-4F70-90D3-57C41C4E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3C8-56E5-4D14-BC40-53753E4A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180-765F-41EC-9154-E7DE7A9B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92C-AE69-4B3D-9F56-55B06F98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92D1-24AA-4776-8BAD-EB2B60B4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5D43-35E3-4AAF-A464-8DE899D83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1D2E-E9F4-4473-AB61-62640B585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182880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Introduction to the Plant Kingdom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7" descr="plant &amp; butterfly"/>
          <p:cNvPicPr/>
          <p:nvPr/>
        </p:nvPicPr>
        <p:blipFill>
          <a:blip r:embed="rId1"/>
          <a:stretch/>
        </p:blipFill>
        <p:spPr>
          <a:xfrm>
            <a:off x="533520" y="396252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life cy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(1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cellular embryo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rotect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side multicellular haploi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gametophyte egg sac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Reproduction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ploid (2n)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or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 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aploid spor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Haploid spores undergo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itosi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produ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ametophy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ametophyte mak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metes (eggs and sperm)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by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mei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Zygote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(2n) produces the new sporophy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ternation of Generation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" name="Picture 16" descr="alternation of generation general"/>
          <p:cNvPicPr/>
          <p:nvPr/>
        </p:nvPicPr>
        <p:blipFill>
          <a:blip r:embed="rId1"/>
          <a:srcRect l="0" t="0" r="18609" b="14764"/>
          <a:stretch/>
        </p:blipFill>
        <p:spPr>
          <a:xfrm>
            <a:off x="539640" y="1413000"/>
            <a:ext cx="7848720" cy="5249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7"/>
          <p:cNvSpPr/>
          <p:nvPr/>
        </p:nvSpPr>
        <p:spPr>
          <a:xfrm>
            <a:off x="1042920" y="184464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por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4211640" y="1844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gametophy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948360" y="1844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1n poll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659640" y="5373720"/>
            <a:ext cx="180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vary with 1n ovules (egg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995640" y="4508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2n seed with plant embry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2700360" y="1341360"/>
            <a:ext cx="4176720" cy="51832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1908000" y="6237360"/>
            <a:ext cx="1944720" cy="45972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or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5435640" y="1413000"/>
            <a:ext cx="2232000" cy="825480"/>
          </a:xfrm>
          <a:prstGeom prst="rect">
            <a:avLst/>
          </a:prstGeom>
          <a:solidFill>
            <a:srgbClr val="569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metophy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9528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Comic Sans MS"/>
              </a:rPr>
              <a:t>Plant Divis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7" descr="flower"/>
          <p:cNvPicPr/>
          <p:nvPr/>
        </p:nvPicPr>
        <p:blipFill>
          <a:blip r:embed="rId1"/>
          <a:stretch/>
        </p:blipFill>
        <p:spPr>
          <a:xfrm>
            <a:off x="3048120" y="3429000"/>
            <a:ext cx="2773080" cy="27734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68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68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Taxonomy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Plants are divided into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grou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Based on the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presence or absence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of an </a:t>
            </a:r>
            <a:r>
              <a:rPr b="1" lang="en-US" sz="3000" spc="-1" strike="noStrike">
                <a:solidFill>
                  <a:srgbClr val="996600"/>
                </a:solidFill>
                <a:latin typeface="Comic Sans MS"/>
              </a:rPr>
              <a:t>internal transport system</a:t>
            </a: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 for water and dissolved materi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12" descr="celery"/>
          <p:cNvPicPr/>
          <p:nvPr/>
        </p:nvPicPr>
        <p:blipFill>
          <a:blip r:embed="rId1"/>
          <a:stretch/>
        </p:blipFill>
        <p:spPr>
          <a:xfrm>
            <a:off x="4800600" y="1295280"/>
            <a:ext cx="3962520" cy="2579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vascular tissue"/>
          <p:cNvPicPr/>
          <p:nvPr/>
        </p:nvPicPr>
        <p:blipFill>
          <a:blip r:embed="rId2"/>
          <a:stretch/>
        </p:blipFill>
        <p:spPr>
          <a:xfrm>
            <a:off x="4419720" y="4114800"/>
            <a:ext cx="4724280" cy="2532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4"/>
          <p:cNvSpPr/>
          <p:nvPr/>
        </p:nvSpPr>
        <p:spPr>
          <a:xfrm>
            <a:off x="4952880" y="26668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ascular Bund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Line 15"/>
          <p:cNvSpPr/>
          <p:nvPr/>
        </p:nvSpPr>
        <p:spPr>
          <a:xfrm flipV="1">
            <a:off x="6172200" y="2666880"/>
            <a:ext cx="38088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Vascular System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Xyl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ineral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upward from the ro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hloem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issue carri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ugar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made by photosynthesis from the leaves to where they will be stored or u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ap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s the fluid carried inside the xylem or phlo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o not have vascular tissue f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upport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duction of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Bry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quire a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stantly moist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9" descr="moss"/>
          <p:cNvPicPr/>
          <p:nvPr/>
        </p:nvPicPr>
        <p:blipFill>
          <a:blip r:embed="rId1"/>
          <a:stretch/>
        </p:blipFill>
        <p:spPr>
          <a:xfrm>
            <a:off x="4572000" y="1752480"/>
            <a:ext cx="4038480" cy="4077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0"/>
          <p:cNvSpPr/>
          <p:nvPr/>
        </p:nvSpPr>
        <p:spPr>
          <a:xfrm>
            <a:off x="4648320" y="57913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oss Gametophytes &amp; Sporophy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4191120" y="2133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Spor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Line 12"/>
          <p:cNvSpPr/>
          <p:nvPr/>
        </p:nvSpPr>
        <p:spPr>
          <a:xfrm>
            <a:off x="5486400" y="2514600"/>
            <a:ext cx="838080" cy="6094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6629400" y="48006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Gametophyte Stag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lants can’t grow as ta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Cells must be in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rect contact with moistu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Materials move by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diffusi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cell-to-c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perm must </a:t>
            </a: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swim to egg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through water drople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Non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 mosse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Bry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liver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Hepat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hornwort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Anth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0" descr="liverwort"/>
          <p:cNvPicPr/>
          <p:nvPr/>
        </p:nvPicPr>
        <p:blipFill>
          <a:blip r:embed="rId1"/>
          <a:stretch/>
        </p:blipFill>
        <p:spPr>
          <a:xfrm>
            <a:off x="762120" y="342900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hornwort1"/>
          <p:cNvPicPr/>
          <p:nvPr/>
        </p:nvPicPr>
        <p:blipFill>
          <a:blip r:embed="rId2"/>
          <a:stretch/>
        </p:blipFill>
        <p:spPr>
          <a:xfrm>
            <a:off x="4952880" y="3429000"/>
            <a:ext cx="3505320" cy="2692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2"/>
          <p:cNvSpPr/>
          <p:nvPr/>
        </p:nvSpPr>
        <p:spPr>
          <a:xfrm>
            <a:off x="10666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Liver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5181480" y="60958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Hornwor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ain Parts of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Sh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Found abov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Have leaves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- Photosynthetic part of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Comic Sans MS"/>
              </a:rPr>
              <a:t>Ro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Found below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bsorb water &amp;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-Anchor the pl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8" descr="plantbod[1]"/>
          <p:cNvPicPr/>
          <p:nvPr/>
        </p:nvPicPr>
        <p:blipFill>
          <a:blip r:embed="rId1"/>
          <a:stretch/>
        </p:blipFill>
        <p:spPr>
          <a:xfrm>
            <a:off x="6012000" y="981000"/>
            <a:ext cx="3020760" cy="5688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cc"/>
                </a:solidFill>
                <a:latin typeface="Comic Sans MS"/>
              </a:rPr>
              <a:t>Early Ancestors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quatic to Terrestrial Lif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lso called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racheoph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bdivided into two groups --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less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n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eed-bearing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vascular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7" descr="clubmoss3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306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5334120" y="6095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lub Mos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less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club mos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Lyc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horsetail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Sphen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whisk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silophyta)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, and ferns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(Pterophyt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5" descr="whisk ferns"/>
          <p:cNvPicPr/>
          <p:nvPr/>
        </p:nvPicPr>
        <p:blipFill>
          <a:blip r:embed="rId1"/>
          <a:stretch/>
        </p:blipFill>
        <p:spPr>
          <a:xfrm>
            <a:off x="762120" y="4014720"/>
            <a:ext cx="3429000" cy="2309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orsetails"/>
          <p:cNvPicPr/>
          <p:nvPr/>
        </p:nvPicPr>
        <p:blipFill>
          <a:blip r:embed="rId2"/>
          <a:stretch/>
        </p:blipFill>
        <p:spPr>
          <a:xfrm>
            <a:off x="5257800" y="3657600"/>
            <a:ext cx="2698920" cy="2655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"/>
          <p:cNvSpPr/>
          <p:nvPr/>
        </p:nvSpPr>
        <p:spPr>
          <a:xfrm>
            <a:off x="556272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orsetai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295280" y="6248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Whisk fer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Seed-Producing Vascular 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Includes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giosper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aked seed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flowers that produce seed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o attract pollinators and produce se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onifer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are known as conif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ludes pine, cedar, spruce, and f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ycad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– cyc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Ginkgophyta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- gink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5" descr="cycad-2"/>
          <p:cNvPicPr/>
          <p:nvPr/>
        </p:nvPicPr>
        <p:blipFill>
          <a:blip r:embed="rId1"/>
          <a:stretch/>
        </p:blipFill>
        <p:spPr>
          <a:xfrm>
            <a:off x="5715000" y="304920"/>
            <a:ext cx="2846520" cy="4092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ginkgo"/>
          <p:cNvPicPr/>
          <p:nvPr/>
        </p:nvPicPr>
        <p:blipFill>
          <a:blip r:embed="rId2"/>
          <a:stretch/>
        </p:blipFill>
        <p:spPr>
          <a:xfrm>
            <a:off x="4114800" y="3886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312408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Ginkg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80010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Cyca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Gymn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old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Bristle cone p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ains the tallest living plant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equoia or redw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6" descr="sequoia_tree"/>
          <p:cNvPicPr/>
          <p:nvPr/>
        </p:nvPicPr>
        <p:blipFill>
          <a:blip r:embed="rId1"/>
          <a:stretch/>
        </p:blipFill>
        <p:spPr>
          <a:xfrm>
            <a:off x="4495680" y="3886200"/>
            <a:ext cx="3581640" cy="2681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Bristlecone-Pine0012-web"/>
          <p:cNvPicPr/>
          <p:nvPr/>
        </p:nvPicPr>
        <p:blipFill>
          <a:blip r:embed="rId2"/>
          <a:stretch/>
        </p:blipFill>
        <p:spPr>
          <a:xfrm>
            <a:off x="5851440" y="228600"/>
            <a:ext cx="2817720" cy="3581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218960"/>
            <a:ext cx="54007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lowering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Seed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ormed when an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egg or ovule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fertilized by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pollen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n the ov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Ovary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is within a fl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Flower contains the 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stamen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nd/or female 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(ovaries)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parts of the pla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Fruits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are frequently produced from these ripened ovaries (</a:t>
            </a: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help disperse see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6" descr="flowers"/>
          <p:cNvPicPr/>
          <p:nvPr/>
        </p:nvPicPr>
        <p:blipFill>
          <a:blip r:embed="rId1"/>
          <a:stretch/>
        </p:blipFill>
        <p:spPr>
          <a:xfrm>
            <a:off x="5334120" y="1371600"/>
            <a:ext cx="3590640" cy="46054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ngiosperm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visio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Anthophy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ubdivided into two groups –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 and Dic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ono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a single seed cotyled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ico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have two seed cotyled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Mono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venation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cattere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7" descr="monocot_characteristics"/>
          <p:cNvPicPr/>
          <p:nvPr/>
        </p:nvPicPr>
        <p:blipFill>
          <a:blip r:embed="rId1"/>
          <a:stretch/>
        </p:blipFill>
        <p:spPr>
          <a:xfrm>
            <a:off x="4716360" y="1197000"/>
            <a:ext cx="3586320" cy="5400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Dico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t venation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lea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lower parts in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multiples of 4 or 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Vascular tissu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in ring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in cross section of 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6" descr="dicot_characteristics"/>
          <p:cNvPicPr/>
          <p:nvPr/>
        </p:nvPicPr>
        <p:blipFill>
          <a:blip r:embed="rId1"/>
          <a:stretch/>
        </p:blipFill>
        <p:spPr>
          <a:xfrm>
            <a:off x="5148360" y="1197000"/>
            <a:ext cx="3600360" cy="544356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Plant Us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6" name="Picture 5" descr="paper"/>
          <p:cNvPicPr/>
          <p:nvPr/>
        </p:nvPicPr>
        <p:blipFill>
          <a:blip r:embed="rId1"/>
          <a:srcRect l="1811" t="1770" r="1811" b="1852"/>
          <a:stretch/>
        </p:blipFill>
        <p:spPr>
          <a:xfrm rot="720000">
            <a:off x="2700000" y="227628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Aquatic Ancestor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osest living specie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a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possible land plant ance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Group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reen alg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Charyophycea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9" descr="CHARA"/>
          <p:cNvPicPr/>
          <p:nvPr/>
        </p:nvPicPr>
        <p:blipFill>
          <a:blip r:embed="rId1"/>
          <a:stretch/>
        </p:blipFill>
        <p:spPr>
          <a:xfrm>
            <a:off x="4800600" y="2286000"/>
            <a:ext cx="4038480" cy="2936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5867280" y="5181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Comic Sans MS"/>
              </a:rPr>
              <a:t>Chara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hy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oxygen for the atmosp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lumber for buil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vide homes and food for many organis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event ero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Used for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More Reasons We Can’t do Without Plants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roduce wood pulp for paper produ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Source of many medic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Ornamental and shade for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ibers such as cotton for fabr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y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Algae &amp; Land Plant Similaritie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oth contain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Hav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hloroplas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with stacks of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thylako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starch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last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ell w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o through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lternation of Generation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ife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25640" cy="5124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0806083"/>
          <p:cNvPicPr/>
          <p:nvPr/>
        </p:nvPicPr>
        <p:blipFill>
          <a:blip r:embed="rId2"/>
          <a:srcRect l="0" t="0" r="1550" b="6561"/>
          <a:stretch/>
        </p:blipFill>
        <p:spPr>
          <a:xfrm>
            <a:off x="304920" y="1600200"/>
            <a:ext cx="4724280" cy="3911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0" y="5638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errestrial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029200" y="4492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quatic Habit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Living in Aquatic Environm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urrounded by water so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don’t dry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Sperm swim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to 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Water suppor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pl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Plants stay in upper surface 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near ligh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bsorb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nutrients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from the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 H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9966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oscillatoria1"/>
          <p:cNvPicPr/>
          <p:nvPr/>
        </p:nvPicPr>
        <p:blipFill>
          <a:blip r:embed="rId1"/>
          <a:stretch/>
        </p:blipFill>
        <p:spPr>
          <a:xfrm>
            <a:off x="6019920" y="2362320"/>
            <a:ext cx="2376360" cy="1844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Comic Sans MS"/>
              </a:rPr>
              <a:t>Plant Adaptations to Land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8098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eed miner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rease in Height for 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Adaptations for Drier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e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62520" y="1371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Comic Sans MS"/>
              </a:rPr>
              <a:t>Solu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Roots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absorb H</a:t>
            </a:r>
            <a:r>
              <a:rPr b="1" lang="en-GB" sz="3000" spc="-1" strike="noStrike" baseline="-25000">
                <a:solidFill>
                  <a:srgbClr val="996600"/>
                </a:solidFill>
                <a:latin typeface="Comic Sans MS"/>
              </a:rPr>
              <a:t>2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O &amp; miner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Lignin &amp; cellulos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in cell wa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Vascular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Transport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Waxy cuticle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&amp; </a:t>
            </a: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stomata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 with guard ce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Comic Sans MS"/>
              </a:rPr>
              <a:t>Pollen </a:t>
            </a:r>
            <a:r>
              <a:rPr b="1" lang="en-GB" sz="3000" spc="-1" strike="noStrike">
                <a:solidFill>
                  <a:srgbClr val="996600"/>
                </a:solidFill>
                <a:latin typeface="Comic Sans MS"/>
              </a:rPr>
              <a:t>containing sper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Comic Sans MS"/>
              </a:rPr>
              <a:t>How Are  Plants All Alike?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10" descr="DD00864_"/>
          <p:cNvPicPr/>
          <p:nvPr/>
        </p:nvPicPr>
        <p:blipFill>
          <a:blip r:embed="rId1"/>
          <a:stretch/>
        </p:blipFill>
        <p:spPr>
          <a:xfrm>
            <a:off x="2743200" y="2438280"/>
            <a:ext cx="3851280" cy="39751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Plant Characteristic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Multicell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utotrophic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(photosynthe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hlorophylls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 and </a:t>
            </a:r>
            <a:r>
              <a:rPr b="1" i="1" lang="en-US" sz="3200" spc="-1" strike="noStrike">
                <a:solidFill>
                  <a:srgbClr val="9966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in thylakoid membra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urrounded by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 wall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containing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cellulose (polysacchar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ore reserve food as </a:t>
            </a:r>
            <a:r>
              <a:rPr b="1" lang="en-US" sz="3200" spc="-1" strike="noStrike">
                <a:solidFill>
                  <a:srgbClr val="996600"/>
                </a:solidFill>
                <a:latin typeface="Comic Sans MS"/>
              </a:rPr>
              <a:t>amylose (star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Cheryl Massengale</dc:creator>
  <dc:description/>
  <dc:language>en-US</dc:language>
  <cp:lastModifiedBy>LEGION</cp:lastModifiedBy>
  <dcterms:modified xsi:type="dcterms:W3CDTF">2016-12-07T09:20:38Z</dcterms:modified>
  <cp:revision>50</cp:revision>
  <dc:subject/>
  <dc:title>PLANTS</dc:title>
</cp:coreProperties>
</file>