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BDA28-CE57-4829-AAD4-06CC7EB0EDA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5, the Nitrogen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5, the Nitrogen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5—The Nitrogen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trogen and phosphorus are required by living things and are used to manufacture various item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elements also are parts of the biological materials that store genetic information and energy in living organism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5—The Nitrogen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trogen and phosphorus are required by living things and are used to manufacture various item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elements also are parts of the biological materials that store genetic information and energy in living organism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5—The Nitrogen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hough almost 80 percent of the air you breathe is nitrogen, you can’t get the nitrogen your body needs by breathing nitrogen ga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 in the soil must first change nitrogen gas into substances that can be absorbed through the roots of pla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, by eating some plants, nitrogen becomes available to your 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5—The Nitrogen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hough almost 80 percent of the air you breathe is nitrogen, you can’t get the nitrogen your body needs by breathing nitrogen ga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 in the soil must first change nitrogen gas into substances that can be absorbed through the roots of pla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, by eating some plants, nitrogen becomes available to your 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5—The Nitrogen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monia is a gas that contains nitrogen and hydroge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mmonia is dissolved in water, it can be used as a cleaner and disinfecta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monia also can be converted into solid fertiliz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also is used to freeze-dry food and as a refrigera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5—The Nitrogen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monia is a gas that contains nitrogen and hydroge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mmonia is dissolved in water, it can be used as a cleaner and disinfecta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monia also can be converted into solid fertiliz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also is used to freeze-dry food and as a refrigera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5—The Nitrogen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ment phosphorus comes in two forms—white and 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te phosphorus is so active it can’t be exposed to oxygen in the air or it will burst into flam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ads of matches contain the less active red phosphorus, which ignites from the heat produced by friction when the match is struc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5—The Nitrogen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ment phosphorus comes in two forms—white and 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te phosphorus is so active it can’t be exposed to oxygen in the air or it will burst into flam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ads of matches contain the less active red phosphorus, which ignites from the heat produced by friction when the match is struc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5—The Nitrogen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sphorous compounds are essential ingredients for healthy teeth and bon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s also need phosphorus, so it is one of the nutrients in most fertiliz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5—The Nitrogen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sphorous compounds are essential ingredients for healthy teeth and bon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s also need phosphorus, so it is one of the nutrients in most fertiliz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EE9E-B0A6-451D-B667-E461D0630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441A-5FD5-43C0-AB00-33D30CC91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A8ED-ED26-41B0-BEBB-F47F2DB1A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FB5A-1642-45B0-A5E3-A6845F3AC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5DB4-D1DF-4371-B979-DF066BB20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61B7-0BC5-4A53-B17C-A1984C0FD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9884-76B6-4306-8EDB-834CBD646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69B6-9004-4B86-84A4-A9EEBA3D7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73B9-287F-4086-9AAD-2B2C7B39E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2BEB-F0F0-48D5-AB36-4565175E3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3149-ED18-41D3-A842-2471BE90F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7896-6813-487F-B535-E8C7FE401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4996E-C6A3-4312-8208-D111494C28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243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roup 15, the Nitrogen Gro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1570320" y="685800"/>
            <a:ext cx="65174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Group 15—The Nitrogen Gro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533520" y="1235160"/>
            <a:ext cx="784836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itrogen and phosphorus are required by living things and are used to manufacture various item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533520" y="2606760"/>
            <a:ext cx="4190760" cy="31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se elements also are parts of the biological materials that store genetic information and energy in living organisms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im29"/>
          <p:cNvPicPr/>
          <p:nvPr/>
        </p:nvPicPr>
        <p:blipFill>
          <a:blip r:embed="rId1"/>
          <a:stretch/>
        </p:blipFill>
        <p:spPr>
          <a:xfrm>
            <a:off x="4645080" y="2178000"/>
            <a:ext cx="3736800" cy="37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1570320" y="685800"/>
            <a:ext cx="65174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Group 15—The Nitrogen Gro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533520" y="1330200"/>
            <a:ext cx="784836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though almost 80 percent of the air you breathe is nitrogen, you can’t get the nitrogen your body needs by breathing nitrogen ga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533520" y="3213000"/>
            <a:ext cx="807696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acteria in the soil must first change nitrogen gas into substances that can be absorbed through the roots of plan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533520" y="4670280"/>
            <a:ext cx="79246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n, by eating some plants, nitrogen becomes available to your bod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1570320" y="685800"/>
            <a:ext cx="65174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Group 15—The Nitrogen Gro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533520" y="1384200"/>
            <a:ext cx="76960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mmonia is a gas that contains nitrogen and hydroge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533520" y="2476440"/>
            <a:ext cx="75438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ammonia is dissolved in water, it can be used as a cleaner and disinfectant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533520" y="3556080"/>
            <a:ext cx="78483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mmonia also can be converted into solid fertiliz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8"/>
          <p:cNvSpPr/>
          <p:nvPr/>
        </p:nvSpPr>
        <p:spPr>
          <a:xfrm>
            <a:off x="533520" y="4632480"/>
            <a:ext cx="78483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also is used to freeze-dry food and as a refrigera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1570320" y="685800"/>
            <a:ext cx="65174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Group 15—The Nitrogen Gro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533520" y="1355760"/>
            <a:ext cx="76960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element phosphorus comes in two forms—white and r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533520" y="2397240"/>
            <a:ext cx="75438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ite phosphorus is so active it can’t be exposed to oxygen in the air or it will burst into flames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533520" y="3870360"/>
            <a:ext cx="76960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heads of matches contain the less active red phosphorus, which ignites from the heat produced by friction when the match is struck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1570320" y="685800"/>
            <a:ext cx="65174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Group 15—The Nitrogen Gro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533520" y="1508040"/>
            <a:ext cx="47242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hosphorous compounds are essential ingredients for healthy teeth and bon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533520" y="3641760"/>
            <a:ext cx="44956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ants also need phosphorus, so it is one of the nutrients in most fertilizer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647 im33 fertilizer copy"/>
          <p:cNvPicPr/>
          <p:nvPr/>
        </p:nvPicPr>
        <p:blipFill>
          <a:blip r:embed="rId1"/>
          <a:stretch/>
        </p:blipFill>
        <p:spPr>
          <a:xfrm>
            <a:off x="5332320" y="1490760"/>
            <a:ext cx="330516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1T21:21:16Z</dcterms:created>
  <dc:creator>CIC1</dc:creator>
  <dc:description/>
  <dc:language>en-US</dc:language>
  <cp:lastModifiedBy>RomaK</cp:lastModifiedBy>
  <dcterms:modified xsi:type="dcterms:W3CDTF">2015-09-01T16:27:18Z</dcterms:modified>
  <cp:revision>6</cp:revision>
  <dc:subject/>
  <dc:title>Group 15, the Nitrogen Group</dc:title>
</cp:coreProperties>
</file>