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1932-E31F-4B4D-8B1B-2CFD0AA0E4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, 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, 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 and phosphorus are required by living things and are used to manufacture various ite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also are parts of the biological materials that store genetic information and energy in living organis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 and phosphorus are required by living things and are used to manufacture various ite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also are parts of the biological materials that store genetic information and energy in living organis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almost 80 percent of the air you breathe is nitrogen, you can’t get the nitrogen your body needs by breathing nitrogen g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in the soil must first change nitrogen gas into substances that can be absorbed through the roots of pla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by eating some plants, nitrogen becomes available to your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almost 80 percent of the air you breathe is nitrogen, you can’t get the nitrogen your body needs by breathing nitrogen g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in the soil must first change nitrogen gas into substances that can be absorbed through the roots of pla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by eating some plants, nitrogen becomes available to your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a is a gas that contains nitrogen and hydro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mmonia is dissolved in water, it can be used as a cleaner and disinfect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a also can be converted into solid fertiliz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is used to freeze-dry food and as a refriger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a is a gas that contains nitrogen and hydro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mmonia is dissolved in water, it can be used as a cleaner and disinfect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a also can be converted into solid fertiliz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is used to freeze-dry food and as a refriger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 phosphorus comes in two forms—white and 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phosphorus is so active it can’t be exposed to oxygen in the air or it will burst into flam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ds of matches contain the less active red phosphorus, which ignites from the heat produced by friction when the match is struc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 phosphorus comes in two forms—white and 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phosphorus is so active it can’t be exposed to oxygen in the air or it will burst into flam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ds of matches contain the less active red phosphorus, which ignites from the heat produced by friction when the match is struc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orous compounds are essential ingredients for healthy teeth and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also need phosphorus, so it is one of the nutrients in most fertiliz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orous compounds are essential ingredients for healthy teeth and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also need phosphorus, so it is one of the nutrients in most fertiliz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60EC-0727-4FB0-B4F2-4E522DE65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D1E3-EA55-4234-8F0F-75D20197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5212-E317-4338-861E-EE181D1D9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1EF0-BAD5-4C0E-AF5A-1FB2F274A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3C28-55F1-4972-9A8E-CDB1FD28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F171-1DA4-4E4E-83DF-288C39DB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5A01-E13B-4498-80D0-AABCDC24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1FC8-B709-442C-ADB2-01A6D683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2D3D-FFED-47BD-8FDC-D7EE102A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ED49-6B6D-4208-BB9D-6C12E7C1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85C1-E542-43FF-A2FA-B26EC346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63B9-4C5B-4696-9B0A-F4681766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1587-B95A-4F5D-91E3-64E07497F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 15, the Nitrogen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70320" y="685800"/>
            <a:ext cx="6517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5—The Nitr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235160"/>
            <a:ext cx="7848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trogen and phosphorus are required by living things and are used to manufacture various item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33520" y="2606760"/>
            <a:ext cx="419076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elements also are parts of the biological materials that store genetic information and energy in living organism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im29"/>
          <p:cNvPicPr/>
          <p:nvPr/>
        </p:nvPicPr>
        <p:blipFill>
          <a:blip r:embed="rId1"/>
          <a:stretch/>
        </p:blipFill>
        <p:spPr>
          <a:xfrm>
            <a:off x="4645080" y="2178000"/>
            <a:ext cx="37368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70320" y="685800"/>
            <a:ext cx="6517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5—The Nitr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1330200"/>
            <a:ext cx="78483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hough almost 80 percent of the air you breathe is nitrogen, you can’t get the nitrogen your body needs by breathing nitrogen g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533520" y="3213000"/>
            <a:ext cx="80769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cteria in the soil must first change nitrogen gas into substances that can be absorbed through the roots of pla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533520" y="467028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n, by eating some plants, nitrogen becomes available to your bo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570320" y="685800"/>
            <a:ext cx="6517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5—The Nitr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533520" y="138420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monia is a gas that contains nitrogen and hydro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533520" y="2476440"/>
            <a:ext cx="75438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mmonia is dissolved in water, it can be used as a cleaner and disinfectant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533520" y="355608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monia also can be converted into solid fertiliz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533520" y="463248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also is used to freeze-dry food and as a refrigera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570320" y="685800"/>
            <a:ext cx="6517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5—The Nitr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533520" y="135576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lement phosphorus comes in two forms—white and 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33520" y="2397240"/>
            <a:ext cx="75438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te phosphorus is so active it can’t be exposed to oxygen in the air or it will burst into flame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33520" y="3870360"/>
            <a:ext cx="7696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eads of matches contain the less active red phosphorus, which ignites from the heat produced by friction when the match is struc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570320" y="685800"/>
            <a:ext cx="6517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5—The Nitr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533520" y="1508040"/>
            <a:ext cx="47242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osphorous compounds are essential ingredients for healthy teeth and bon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33520" y="3641760"/>
            <a:ext cx="4495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ts also need phosphorus, so it is one of the nutrients in most fertiliz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647 im33 fertilizer copy"/>
          <p:cNvPicPr/>
          <p:nvPr/>
        </p:nvPicPr>
        <p:blipFill>
          <a:blip r:embed="rId1"/>
          <a:stretch/>
        </p:blipFill>
        <p:spPr>
          <a:xfrm>
            <a:off x="5332320" y="1490760"/>
            <a:ext cx="33051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21:21:16Z</dcterms:created>
  <dc:creator>CIC1</dc:creator>
  <dc:description/>
  <dc:language>en-US</dc:language>
  <cp:lastModifiedBy>RomaK</cp:lastModifiedBy>
  <dcterms:modified xsi:type="dcterms:W3CDTF">2015-09-01T16:27:18Z</dcterms:modified>
  <cp:revision>6</cp:revision>
  <dc:subject/>
  <dc:title>Group 15, the Nitrogen Group</dc:title>
</cp:coreProperties>
</file>