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26.jpeg" ContentType="image/jpeg"/>
  <Override PartName="/ppt/media/image1.png" ContentType="image/png"/>
  <Override PartName="/ppt/media/image24.jpeg" ContentType="image/jpeg"/>
  <Override PartName="/ppt/media/image22.wmf" ContentType="image/x-wmf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3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ED98-0C97-47D3-9024-1B37E6003A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udy of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tudy of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omplex cells are called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have a nucleus and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lants, animals, protists, &amp; fungi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omplex cells are called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have a nucleus and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, animals, protists, &amp; fungi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are Grouped by their Number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On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ulticellula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Organism Made Up Of Many, Specializ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are Grouped by their Numbe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On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Organism Made Up Of Many, Specializ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produce to Pass on their Genetic Tra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produce to Pass on their Genetic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2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gg fertilized by sperm to make a ZYG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DIFFERENT from par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2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g fertilized by sperm to make a ZYG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DIFFERENT from par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wo Types of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volves a single organism or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 divid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fspring IDENTICAL to par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ype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olves a single organism or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IDENTICAL to 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a 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a 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enetic C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contain D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(deoxyribose nucleic acid) carries the genetic code for all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contain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odes for the proteins that make up cells &amp; do all the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s 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th &amp; Develop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grow by producing MORE CELLS &amp; by cell ENLARG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develop as they mature into an adult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th &amp;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grow by producing MORE CELLS &amp; by cell ENLAR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develop as they mature into an adult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quire Food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Require Food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Bi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logy is  the study of all living thing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are called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Bi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is  the study of all living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are called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include bacteria, protists, fungi, plants,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utotrophs can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hotoautotrophs use sunlight to make food (photosynthesi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trophs can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autotrophs use sunlight to make food (photosynthe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oautotrophs use chemicals such as iron &amp; sulfur as their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od Requir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terotrophs can NOT make their own f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must consume other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rbivores eat pla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rnivores eat me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mnivores eat plants &amp; anim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s can NOT make their own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ust consume other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bivores eat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nivores eat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nivores eat plants &amp;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m of all the chemical reactions in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require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unlight is the ultimate energy for life on Earth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all the chemical reactions in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requir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nlight is the ultimate energy for life on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etabol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ular Respira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releasing the chemical energy stored in fo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6O2 + C6H12O6               6CO2 + 6H2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Respi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releasing the chemical energy stored in f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O2 + C6H12O6               6CO2 +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Respond to stimuli (Temperature, Water, Food Supplies, etc.) In Order To Survive &amp;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meost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ost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ing The Internal Environment (Homeostasis) Of The Cell or Organism Within The Ranges Required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le internal conditions of pH, temperature, water balanc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ving Things Evol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ossil records show changes in group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Things Evo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Of Organisms (Not Individuals) Change Over Time In Order To Survive Within Changing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records show changes in group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ife is Organized on Several 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Organized on Several 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to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lec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– life starts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iss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ells – life start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Lev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co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iosp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sp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Living Things Share 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sic Unit i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y Repro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Based On Universal Genetic Code (DN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Grow &amp; Devel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Living Things Share 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Unit i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Based On Universal Genetic Code 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w &amp;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ommon 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btain &amp; Use Materials &amp;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spond To Their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aintain A Stable Internal Enviro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S A GROUP, Living Things Evolve, That Is They Change Over Ti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&amp; Use Materials &amp;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d To Their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 A Stable Internal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GROUP, Living Things Evolve, That Is They Change Ove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aracteristics of Organis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racteristics of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Organisms are made of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ganisms are made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Facts About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the smallest living unit of an organi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contain living material called cytoplas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s Abou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the smallest living unit of an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contain living material called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are surrounded by a cell membrane that controls what enters &amp; leave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are complex &amp; highly organ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ells have parts called organelles that do different jo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.g. Chloroplasts in plants make sug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are complex &amp; highly organ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 have parts called organelles that do differ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Chloroplasts in plants mak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More Cell Fac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simplest cells are called Pro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se cells DO NOT have a nucleus or membrane-bound organel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acteria are examp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Cell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mplest cells are called Pro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cells DO NOT have a nucleus or membrane-bound organe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are 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C274-E3B9-4F59-81F3-5A26C0F4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7144-1BFF-48B2-8F9F-4CF7FE4A3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97BC-49D5-4AA5-A24C-B518B608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C149-4C70-4F72-A8DF-EF672925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FBA7-C510-4867-BEE2-F9CC3D68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98D-2A20-4709-8675-9740DC7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D5D2-9CF6-4967-B1BE-275604860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92BD-4562-47FD-9E63-4653B8D9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F65C-7BE9-4CE8-A618-BAF44BFC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CC43-22EB-4427-BF96-9DF896D71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6A2B-8536-4575-9BF5-CD817361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F09E-F2A9-400D-A4CD-9918A1C3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C83F-641F-4190-89B4-DF0FC35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CA63D-BA62-423D-A3DF-DE3E291E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1BB1-7613-43F2-A973-B036F187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D2CD-34C9-43D4-ADC7-E92356910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8290-8C69-4562-B32B-D8B6997A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4B46-2CCD-4182-971B-367984CE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A43-13A0-4E72-8619-0C5611B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5CB1-D181-43C7-B29D-C74FE406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AF63-0171-4345-B52D-41037266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20DC-9194-4DBB-8CC0-FF1DBA71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C0A-5EE1-4E04-A167-FE638665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CC10-B7DB-4666-AA5A-C5F46C44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EDC5-87EC-4A40-B763-5FA38E9A2B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44B81-6E14-4C15-81DF-2EB3F05C37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21.png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ethnopharmacology.com/index.html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Study of Biolog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spider"/>
          <p:cNvPicPr/>
          <p:nvPr/>
        </p:nvPicPr>
        <p:blipFill>
          <a:blip r:embed="rId1"/>
          <a:stretch/>
        </p:blipFill>
        <p:spPr>
          <a:xfrm>
            <a:off x="2362320" y="2590920"/>
            <a:ext cx="4444920" cy="38606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More complex cells are called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 have a nucleus and membrane-bound 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lants, animals, protists, &amp; fungi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6" descr="cell_structure"/>
          <p:cNvPicPr/>
          <p:nvPr/>
        </p:nvPicPr>
        <p:blipFill>
          <a:blip r:embed="rId4"/>
          <a:stretch/>
        </p:blipFill>
        <p:spPr>
          <a:xfrm>
            <a:off x="5257800" y="2514600"/>
            <a:ext cx="3695760" cy="277164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Organisms are Grouped by their Number of Ce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Un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On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Multicellular 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Living Organism Made Up Of Many, Specialized Cel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Organisms Reproduce to Pass on their Genetic Trait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rownnoddynest01"/>
          <p:cNvPicPr/>
          <p:nvPr/>
        </p:nvPicPr>
        <p:blipFill>
          <a:blip r:embed="rId1"/>
          <a:stretch/>
        </p:blipFill>
        <p:spPr>
          <a:xfrm>
            <a:off x="2057400" y="3048120"/>
            <a:ext cx="5121360" cy="341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exual Re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Involves 2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Egg fertilized by sperm to make a ZYG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Offspring DIFFERENT from par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weasleys2"/>
          <p:cNvPicPr/>
          <p:nvPr/>
        </p:nvPicPr>
        <p:blipFill>
          <a:blip r:embed="rId5"/>
          <a:stretch/>
        </p:blipFill>
        <p:spPr>
          <a:xfrm>
            <a:off x="4648320" y="1996920"/>
            <a:ext cx="3962160" cy="38833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4267080" y="2438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Two Types of </a:t>
            </a: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Re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omic Sans MS"/>
              </a:rPr>
              <a:t>Asexual Re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nvolves a single organism or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Cell div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78880" indent="-5788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Offspring IDENTICAL to pa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6" descr="Slide01"/>
          <p:cNvPicPr/>
          <p:nvPr/>
        </p:nvPicPr>
        <p:blipFill>
          <a:blip r:embed="rId5"/>
          <a:stretch/>
        </p:blipFill>
        <p:spPr>
          <a:xfrm>
            <a:off x="4724280" y="1523880"/>
            <a:ext cx="3365640" cy="4343400"/>
          </a:xfrm>
          <a:prstGeom prst="rect">
            <a:avLst/>
          </a:prstGeom>
          <a:ln w="0">
            <a:noFill/>
          </a:ln>
        </p:spPr>
      </p:pic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Cells Have a 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dna"/>
          <p:cNvPicPr/>
          <p:nvPr/>
        </p:nvPicPr>
        <p:blipFill>
          <a:blip r:embed="rId1"/>
          <a:stretch/>
        </p:blipFill>
        <p:spPr>
          <a:xfrm>
            <a:off x="2362320" y="1676520"/>
            <a:ext cx="4762440" cy="4762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enetic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2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oxyribose nucleic aci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) carries the genetic code for all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All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contain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DN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odes for the protein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make up cells &amp; do all the wor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Organisms Grow &amp; Develo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6" descr="bellfrog_illus"/>
          <p:cNvPicPr/>
          <p:nvPr/>
        </p:nvPicPr>
        <p:blipFill>
          <a:blip r:embed="rId1"/>
          <a:stretch/>
        </p:blipFill>
        <p:spPr>
          <a:xfrm>
            <a:off x="2362320" y="2209680"/>
            <a:ext cx="4724280" cy="402768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Growth &amp; Develop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5410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w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by producing MORE CELLS &amp; by cell ENLARG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evelo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s they mature into an adult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butterfly-hatch"/>
          <p:cNvPicPr/>
          <p:nvPr/>
        </p:nvPicPr>
        <p:blipFill>
          <a:blip r:embed="rId3"/>
          <a:stretch/>
        </p:blipFill>
        <p:spPr>
          <a:xfrm>
            <a:off x="6008760" y="2362320"/>
            <a:ext cx="2895480" cy="32004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ells Require Food &amp; Ener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african-lion-picture"/>
          <p:cNvPicPr/>
          <p:nvPr/>
        </p:nvPicPr>
        <p:blipFill>
          <a:blip r:embed="rId1"/>
          <a:stretch/>
        </p:blipFill>
        <p:spPr>
          <a:xfrm>
            <a:off x="2057400" y="1905120"/>
            <a:ext cx="5629320" cy="41018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What is Biology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Biology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is  the study of all living thin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ving things are called 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organis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include bacteria, protists, fungi, plants,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4876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utotroph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can make their own 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Phot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sunlight to make food (photosynthe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hemoautotrophs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use chemicals such as iron &amp; sulfur as their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S3bSxJudyPJplants"/>
          <p:cNvPicPr/>
          <p:nvPr/>
        </p:nvPicPr>
        <p:blipFill>
          <a:blip r:embed="rId4"/>
          <a:stretch/>
        </p:blipFill>
        <p:spPr>
          <a:xfrm>
            <a:off x="5715000" y="182880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ood Requir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terotroph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can NOT make their own foo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They must consume other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Herb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Car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me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mnivor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eat plants &amp; anim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um of all the chemical reactions in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quire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unligh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is the ultimate energy for life on Earth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5" descr=""/>
          <p:cNvPicPr/>
          <p:nvPr/>
        </p:nvPicPr>
        <p:blipFill>
          <a:blip r:embed="rId4"/>
          <a:stretch/>
        </p:blipFill>
        <p:spPr>
          <a:xfrm>
            <a:off x="1828800" y="4800600"/>
            <a:ext cx="5638680" cy="1685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141155"/>
          <p:cNvPicPr/>
          <p:nvPr/>
        </p:nvPicPr>
        <p:blipFill>
          <a:blip r:embed="rId5"/>
          <a:stretch/>
        </p:blipFill>
        <p:spPr>
          <a:xfrm>
            <a:off x="7391520" y="304920"/>
            <a:ext cx="1225440" cy="12952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Metabolis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ellular Respiration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releasing the chemical energy stored in foo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6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1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              6C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+ 6H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4"/>
          <p:cNvSpPr/>
          <p:nvPr/>
        </p:nvSpPr>
        <p:spPr>
          <a:xfrm>
            <a:off x="3962520" y="5334120"/>
            <a:ext cx="11430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5" descr="NA00455_"/>
          <p:cNvPicPr/>
          <p:nvPr/>
        </p:nvPicPr>
        <p:blipFill>
          <a:blip r:embed="rId2"/>
          <a:stretch/>
        </p:blipFill>
        <p:spPr>
          <a:xfrm>
            <a:off x="3886200" y="4343400"/>
            <a:ext cx="1042920" cy="61272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Organisms Respond to Stimul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rganism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timuli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Temperature, Water, Food Supplies, etc.)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In Order To Survive &amp; 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5" descr="2"/>
          <p:cNvPicPr/>
          <p:nvPr/>
        </p:nvPicPr>
        <p:blipFill>
          <a:blip r:embed="rId2"/>
          <a:stretch/>
        </p:blipFill>
        <p:spPr>
          <a:xfrm>
            <a:off x="2438280" y="3962520"/>
            <a:ext cx="4229280" cy="2638440"/>
          </a:xfrm>
          <a:prstGeom prst="rect">
            <a:avLst/>
          </a:prstGeom>
          <a:ln w="0">
            <a:noFill/>
          </a:ln>
        </p:spPr>
      </p:pic>
      <p:sp>
        <p:nvSpPr>
          <p:cNvPr id="2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Homeostasi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Keeping The Internal Environment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(Homeostasis)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 Of The Cell or Organism Within The Ranges Required For Li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table internal conditions of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pH, temperature, water balance, etc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>
            <a:off x="19368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10" descr="fever"/>
          <p:cNvPicPr/>
          <p:nvPr/>
        </p:nvPicPr>
        <p:blipFill>
          <a:blip r:embed="rId3"/>
          <a:stretch/>
        </p:blipFill>
        <p:spPr>
          <a:xfrm>
            <a:off x="3124080" y="449568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Living Things Evol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Groups Of Organism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(Not Individuals) Change Over Time In Order To Survive Within Changing Environment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Fossil records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show changes in groups of org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Picture 5" descr="science_dino01"/>
          <p:cNvPicPr/>
          <p:nvPr/>
        </p:nvPicPr>
        <p:blipFill>
          <a:blip r:embed="rId3"/>
          <a:stretch/>
        </p:blipFill>
        <p:spPr>
          <a:xfrm>
            <a:off x="5715000" y="2971800"/>
            <a:ext cx="3200400" cy="2233440"/>
          </a:xfrm>
          <a:prstGeom prst="rect">
            <a:avLst/>
          </a:prstGeom>
          <a:ln w="0">
            <a:noFill/>
          </a:ln>
        </p:spPr>
      </p:pic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Life is Organized on Several 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4800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t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Molec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el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Cells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– life starts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rg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evel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3429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Pop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ommun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cosyste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Biosphe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Picture 7" descr="earth_1_apollo17_big"/>
          <p:cNvPicPr/>
          <p:nvPr/>
        </p:nvPicPr>
        <p:blipFill>
          <a:blip r:embed="rId5"/>
          <a:stretch/>
        </p:blipFill>
        <p:spPr>
          <a:xfrm>
            <a:off x="4114800" y="1444680"/>
            <a:ext cx="4743360" cy="4699080"/>
          </a:xfrm>
          <a:prstGeom prst="rect">
            <a:avLst/>
          </a:prstGeom>
          <a:ln w="0">
            <a:noFill/>
          </a:ln>
        </p:spPr>
      </p:pic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All Living Things Share Common Characteristic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066320" y="22093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asic Unit is th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y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produ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Based On Universal Genetic Code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(DNA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Grow &amp; Develo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5" descr="1"/>
          <p:cNvPicPr/>
          <p:nvPr/>
        </p:nvPicPr>
        <p:blipFill>
          <a:blip r:embed="rId1"/>
          <a:srcRect l="18897" t="0" r="19686" b="4089"/>
          <a:stretch/>
        </p:blipFill>
        <p:spPr>
          <a:xfrm>
            <a:off x="1752480" y="228600"/>
            <a:ext cx="5597640" cy="6172200"/>
          </a:xfrm>
          <a:prstGeom prst="rect">
            <a:avLst/>
          </a:prstGeom>
          <a:ln w="0">
            <a:noFill/>
          </a:ln>
        </p:spPr>
      </p:pic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Common Characterist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Obtain &amp; Use Materials &amp;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Respond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o Their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aintain A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Stable Internal Environ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86d1ec"/>
              </a:buClr>
              <a:buSzPct val="90000"/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6d1ec"/>
                </a:solidFill>
                <a:latin typeface="Comic Sans MS"/>
              </a:rPr>
              <a:t>AS A GROUP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Living Things </a:t>
            </a: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Evolv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, That Is They Change Over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 Sans MS"/>
              </a:rPr>
              <a:t>Characteristics of Organis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sp-1"/>
          <p:cNvPicPr/>
          <p:nvPr/>
        </p:nvPicPr>
        <p:blipFill>
          <a:blip r:embed="rId1"/>
          <a:stretch/>
        </p:blipFill>
        <p:spPr>
          <a:xfrm>
            <a:off x="5105520" y="1371600"/>
            <a:ext cx="3457440" cy="5076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delicious and nutritious? No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1905120"/>
            <a:ext cx="3514680" cy="41432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ll Organisms are made of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" descr="cell_membrane"/>
          <p:cNvPicPr/>
          <p:nvPr/>
        </p:nvPicPr>
        <p:blipFill>
          <a:blip r:embed="rId1"/>
          <a:stretch/>
        </p:blipFill>
        <p:spPr>
          <a:xfrm>
            <a:off x="2133720" y="2795760"/>
            <a:ext cx="5105160" cy="27954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cts About Cell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ells are the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smallest living unit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of an org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contain living material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ytopla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All cells are surrounded by a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cell membrane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that controls what enters &amp; leaves the ce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56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are complex &amp; highly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ize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Cells have parts called </a:t>
            </a: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organelles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that do different job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e.g. Chloroplasts in plants make suga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7" descr="celltypes"/>
          <p:cNvPicPr/>
          <p:nvPr/>
        </p:nvPicPr>
        <p:blipFill>
          <a:blip r:embed="rId3"/>
          <a:stretch/>
        </p:blipFill>
        <p:spPr>
          <a:xfrm>
            <a:off x="5715000" y="1676520"/>
            <a:ext cx="3200400" cy="426708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ore Cell Fact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 simplest cells are called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Prokaryo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hese cells </a:t>
            </a: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DO NOT have a nucleus or membrane-bound organel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Bacteria</a:t>
            </a: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 are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prokaryote"/>
          <p:cNvPicPr/>
          <p:nvPr/>
        </p:nvPicPr>
        <p:blipFill>
          <a:blip r:embed="rId4"/>
          <a:stretch/>
        </p:blipFill>
        <p:spPr>
          <a:xfrm>
            <a:off x="5334120" y="2286000"/>
            <a:ext cx="3286080" cy="320040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3:59:15Z</dcterms:created>
  <dc:creator>Cheryl Massengale</dc:creator>
  <dc:description/>
  <dc:language>en-US</dc:language>
  <cp:lastModifiedBy>LEGION</cp:lastModifiedBy>
  <dcterms:modified xsi:type="dcterms:W3CDTF">2016-12-07T09:21:58Z</dcterms:modified>
  <cp:revision>26</cp:revision>
  <dc:subject/>
  <dc:title>1-3 Studying Life</dc:title>
</cp:coreProperties>
</file>