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be0e3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DEDA4-F991-4727-98DC-6A6C476B8F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hemistry of Lif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perties of W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hemistry of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erties of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onic Solu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+ ions will be attracted to WHAT END of the water molecul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onic Solu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+ ions will be attracted to WHAT END of the water molecul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spens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bstances that don’t dissolve but separate into tiny piec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ter keeps the pieces suspended so they don’t settle ou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lood &amp; Cytoplasm are suspens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spen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tances that don’t dissolve but separate into tiny pie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 keeps the pieces suspended so they don’t settle ou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 &amp; Cytoplasm are suspen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cids, Bases &amp; p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1 water molecule in 550 million naturally dissociates into a Hydrogen Ion and a Hydroxide 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Hydrogen Ion          Hydroxide 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                          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cid                         Ba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H2O    H+  +  OH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ids, Bases &amp; 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water molecule in 550 million naturally dissociates into a Hydrogen Ion and a Hydroxide 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drogen Ion          Hydroxide 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id                         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2O    H+  +  OH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H Sca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dicates the concentration of H+ 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nges from 0 – 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 of 7 is neutr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 0 up to 7  acid … H+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 above 7 to 14  base… OH-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ch pH unit represents a factor of 10X change in concentr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much stronger is a pH3 than a pH of 5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H Sc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s the concentration of H+ 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nges from 0 –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 of 7 is neut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 0 up to 7  acid … H+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 above 7 to 14  base… OH-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pH unit represents a factor of 10X change in concen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uch stronger is a pH3 than a pH of 5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rong Acid = pH 1-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gh in H+ 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wer number of OH- 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ong Acid = pH 1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 in H+ 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er number of OH- 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rong Base = pH 11 – 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gh in OH-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wer in number of H+ 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ong Base = pH 11 –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 in OH-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er in number of H+ 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ff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ak acids or bases that react with strong acids or ba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de by the bod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vent sharp, sudden changes in pH (keep pH neutr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ak Aci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ak Ba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ff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ak acids or bases that react with strong acids or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de by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vent sharp, sudden changes in pH (keep pH neutr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ak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ak 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Water Molecu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utral Charge – ZER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ve no char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ve an Equal number of p+ and e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arges aren’t evenly distribut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Water Molecu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tral Charge – ZE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no char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an Equal number of p+ and 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ges aren’t evenly distribu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Water Molecu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lar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water molecule is polar because there is an uneven distribution of electrons between the oxygen and hydrogen atom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-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+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Water Molecu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ar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water molecule is polar because there is an uneven distribution of electrons between the oxygen and hydrogen ato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-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+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ydrogen Bo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lar water molecules act like magnets and attract each othe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ydrogen Bo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ttraction of the Hydrogen end (+) of one molecule for the Oxygen end (-) of another water molecu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are strong bonds that form between molecules (CO2, H2O, …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drogen Bo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ar water molecules act like magnets and attract each oth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drogen Bo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ttraction of the Hydrogen end (+) of one molecule for the Oxygen end (-) of another water molec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re strong bonds that form between molecules (CO2, H2O, …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Hydrogen Bo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drogen Bo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he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ttraction between molecules of the same substance (e.g. water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2O attracting other H2O molecu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ows some insects and spiders to walk on wa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he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ttraction between molecules of the same substance (e.g. water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2O attracting other H2O molec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s some insects and spiders to walk on wa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hesion &amp; Capillar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hesion - Attraction between H2O molecules and different molecu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hesion &amp; adhesion produce Capillarity (upward movement against gravity of water through small tube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estion: How do plants make use of Capillarit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hesion &amp; Capillar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hesion - Attraction between H2O molecules and different molec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hesion &amp; adhesion produce Capillarity (upward movement against gravity of water through small tub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: How do plants make use of Capillarit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utions &amp; Suspens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ter is usually part of a mixtu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cause so many things dissolve in water, it is called the Universal Solv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are two types of mixtur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u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spens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ions &amp; Suspen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 is usually part of a mixt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use so many things dissolve in water, it is called the Universal Solv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two types of mixtur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spen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perties of Solu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onic compounds disperse as ions in water (+ions &amp; -ions spread out among polar water molecule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utions are Evenly distributed mixtur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U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bstance that is being dissol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V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solving Substance for the solu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erties of Solu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onic compounds disperse as ions in water (+ions &amp; -ions spread out among polar water molecul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ions are Evenly distributed mix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tance that is being dissol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solving Substance for the solu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721DB-6AF9-45D1-B949-303C70B66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48F28-00BA-4C8E-9E85-5FDD01CE3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00BF8-B24D-49A0-AC41-9B44550FA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03D5F-241A-4E0C-998E-880BE8181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80E61-9D23-4DC9-B1AC-A8EBA70AD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F07C3-8CC0-477E-8860-178025A2C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F4917-B6B3-4D24-B4BC-D14C1B3D4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C110C-6B64-4D6A-96C7-099A03118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A81A1-B6EE-4B25-A4DA-2A7567C3D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8229600" cy="409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6A7B4-8E47-470D-821F-6025CFE8D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2A1BA-7B7F-4F38-8C28-07809471E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F508E-DD36-4453-ACDF-74542300D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4E6E6-2495-4FF0-9B36-A38F9AC18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92E2B-E068-4A17-A009-3C4E92C60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1E0C7-DF20-4ECC-8A14-73FDBE602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44ED4-BCF5-4CDB-BFC4-725C4D470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50C06-BF15-48ED-9692-438735092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23E0A-7D68-4540-81BA-FB050D60E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C4C1A-32A8-46EE-9176-EDC80B769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0EFA7-F434-4C91-BED4-293EB4D23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8229600" cy="409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30A17-11ED-49B3-8548-7B4B8F3F5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22B3A-F1AA-4938-8730-683D5428C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BB77A-9723-47A4-AA92-C93E0E0F8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96891-C698-47D8-A425-ABCB5B636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be0e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CC787-CB4F-4ACE-81FC-A4271F0D61B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be0e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CCD3F-DE44-4453-BCE7-47B4299382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12949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3366"/>
                </a:solidFill>
                <a:latin typeface="Comic Sans MS"/>
              </a:rPr>
              <a:t>The Chemistry of Life</a:t>
            </a:r>
            <a:endParaRPr b="0" lang="en-US" sz="60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066680" y="3352680"/>
            <a:ext cx="746784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Properties of Wate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be0e3"/>
                </a:solidFill>
                <a:latin typeface="Comic Sans MS"/>
              </a:rPr>
              <a:t>Ionic Solutions</a:t>
            </a:r>
            <a:endParaRPr b="0" lang="en-US" sz="4800" spc="-1" strike="noStrike">
              <a:solidFill>
                <a:srgbClr val="bbe0e3"/>
              </a:solidFill>
              <a:latin typeface="Times New Roman"/>
            </a:endParaRPr>
          </a:p>
        </p:txBody>
      </p:sp>
      <p:pic>
        <p:nvPicPr>
          <p:cNvPr id="123" name="Picture 4" descr="nacl_dissolving"/>
          <p:cNvPicPr/>
          <p:nvPr/>
        </p:nvPicPr>
        <p:blipFill>
          <a:blip r:embed="rId1"/>
          <a:stretch/>
        </p:blipFill>
        <p:spPr>
          <a:xfrm>
            <a:off x="609480" y="1523880"/>
            <a:ext cx="8001000" cy="387504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5"/>
          <p:cNvSpPr/>
          <p:nvPr/>
        </p:nvSpPr>
        <p:spPr>
          <a:xfrm>
            <a:off x="609480" y="5638680"/>
            <a:ext cx="8169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Na+ ions will be attracted to WHAT END of the water molecu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be0e3"/>
                </a:solidFill>
                <a:latin typeface="Comic Sans MS"/>
              </a:rPr>
              <a:t>Suspensions</a:t>
            </a:r>
            <a:endParaRPr b="0" lang="en-US" sz="48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267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Substances that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don’t dissolve but separate into tiny piec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Water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keeps the pieces suspended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so they don’t settle ou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Blood &amp; Cytoplasm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are suspens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Picture 4" descr="mayonaise"/>
          <p:cNvPicPr/>
          <p:nvPr/>
        </p:nvPicPr>
        <p:blipFill>
          <a:blip r:embed="rId1"/>
          <a:stretch/>
        </p:blipFill>
        <p:spPr>
          <a:xfrm>
            <a:off x="7238880" y="3886200"/>
            <a:ext cx="1613160" cy="27432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" descr="C:\My Documents\My Pictures\180px-WaterAndFlourSuspensionLiquid.jpg"/>
          <p:cNvPicPr/>
          <p:nvPr/>
        </p:nvPicPr>
        <p:blipFill>
          <a:blip r:embed="rId2"/>
          <a:stretch/>
        </p:blipFill>
        <p:spPr>
          <a:xfrm>
            <a:off x="5105520" y="1219320"/>
            <a:ext cx="2286000" cy="3911400"/>
          </a:xfrm>
          <a:prstGeom prst="rect">
            <a:avLst/>
          </a:prstGeom>
          <a:ln w="0">
            <a:noFill/>
          </a:ln>
        </p:spPr>
      </p:pic>
      <p:sp>
        <p:nvSpPr>
          <p:cNvPr id="13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be0e3"/>
                </a:solidFill>
                <a:latin typeface="Comic Sans MS"/>
              </a:rPr>
              <a:t>Acids, Bases &amp; pH</a:t>
            </a:r>
            <a:endParaRPr b="0" lang="en-US" sz="48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5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1 water molecule in 550 million naturally dissociates into a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Hydrogen Ion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and a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Hydroxide 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                     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Hydrogen Ion          Hydroxide 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 Black"/>
              </a:rPr>
              <a:t>                            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Acid </a:t>
            </a:r>
            <a:r>
              <a:rPr b="1" lang="en-US" sz="2400" spc="-1" strike="noStrike">
                <a:solidFill>
                  <a:srgbClr val="008000"/>
                </a:solidFill>
                <a:latin typeface="Arial Black"/>
              </a:rPr>
              <a:t>                       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B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685800" y="3581280"/>
            <a:ext cx="7467480" cy="11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</a:rPr>
              <a:t>H</a:t>
            </a:r>
            <a:r>
              <a:rPr b="0" lang="en-US" sz="4800" spc="-1" strike="noStrike" baseline="-25000">
                <a:solidFill>
                  <a:srgbClr val="ffffff"/>
                </a:solidFill>
                <a:latin typeface="Arial Black"/>
              </a:rPr>
              <a:t>2</a:t>
            </a:r>
            <a:r>
              <a:rPr b="0" lang="en-US" sz="4800" spc="-1" strike="noStrike">
                <a:solidFill>
                  <a:srgbClr val="ffffff"/>
                </a:solidFill>
                <a:latin typeface="Arial Black"/>
              </a:rPr>
              <a:t>O  </a:t>
            </a:r>
            <a:r>
              <a:rPr b="0" lang="en-US" sz="4800" spc="-1" strike="noStrike">
                <a:solidFill>
                  <a:srgbClr val="ffffff"/>
                </a:solidFill>
                <a:latin typeface="Wingdings 3"/>
                <a:ea typeface="Wingdings 3"/>
              </a:rPr>
              <a:t></a:t>
            </a:r>
            <a:r>
              <a:rPr b="0" lang="en-US" sz="4800" spc="-1" strike="noStrike">
                <a:solidFill>
                  <a:srgbClr val="ffffff"/>
                </a:solidFill>
                <a:latin typeface="Arial Black"/>
              </a:rPr>
              <a:t>  H</a:t>
            </a:r>
            <a:r>
              <a:rPr b="0" lang="en-US" sz="4800" spc="-1" strike="noStrike" baseline="30000">
                <a:solidFill>
                  <a:srgbClr val="ffffff"/>
                </a:solidFill>
                <a:latin typeface="Arial Black"/>
              </a:rPr>
              <a:t>+</a:t>
            </a:r>
            <a:r>
              <a:rPr b="0" lang="en-US" sz="4800" spc="-1" strike="noStrike">
                <a:solidFill>
                  <a:srgbClr val="ffffff"/>
                </a:solidFill>
                <a:latin typeface="Arial Black"/>
              </a:rPr>
              <a:t>  +  OH</a:t>
            </a:r>
            <a:r>
              <a:rPr b="1" lang="en-US" sz="6600" spc="-1" strike="noStrike" baseline="34000">
                <a:solidFill>
                  <a:srgbClr val="ffffff"/>
                </a:solidFill>
                <a:latin typeface="Arial Black"/>
              </a:rPr>
              <a:t>-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5"/>
          <p:cNvSpPr/>
          <p:nvPr/>
        </p:nvSpPr>
        <p:spPr>
          <a:xfrm flipV="1">
            <a:off x="3886200" y="4267080"/>
            <a:ext cx="304920" cy="60984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6"/>
          <p:cNvSpPr/>
          <p:nvPr/>
        </p:nvSpPr>
        <p:spPr>
          <a:xfrm flipV="1">
            <a:off x="6858000" y="4190760"/>
            <a:ext cx="0" cy="60948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be0e3"/>
                </a:solidFill>
                <a:latin typeface="Comic Sans MS"/>
              </a:rPr>
              <a:t>The pH Scale</a:t>
            </a:r>
            <a:endParaRPr b="0" lang="en-US" sz="48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Indicates the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concentration of H</a:t>
            </a:r>
            <a:r>
              <a:rPr b="1" lang="en-US" sz="3200" spc="-1" strike="noStrike" baseline="30000">
                <a:solidFill>
                  <a:srgbClr val="ffff00"/>
                </a:solidFill>
                <a:latin typeface="Comic Sans MS"/>
              </a:rPr>
              <a:t>+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 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Ranges from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0 – 1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pH of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7 is neutr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pH 0 up to 7 </a:t>
            </a:r>
            <a:r>
              <a:rPr b="1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acid … H</a:t>
            </a:r>
            <a:r>
              <a:rPr b="1" lang="en-US" sz="3200" spc="-1" strike="noStrike" baseline="40000">
                <a:solidFill>
                  <a:srgbClr val="ffff00"/>
                </a:solidFill>
                <a:latin typeface="Comic Sans MS"/>
              </a:rPr>
              <a:t>+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pH above 7 to 14 </a:t>
            </a:r>
            <a:r>
              <a:rPr b="1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base… OH</a:t>
            </a:r>
            <a:r>
              <a:rPr b="1" lang="en-US" sz="3200" spc="-1" strike="noStrike" baseline="34000">
                <a:solidFill>
                  <a:srgbClr val="ffff00"/>
                </a:solidFill>
                <a:latin typeface="Comic Sans MS"/>
              </a:rPr>
              <a:t>-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Each pH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unit represents a factor of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10X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change in concent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5"/>
          <p:cNvSpPr/>
          <p:nvPr/>
        </p:nvSpPr>
        <p:spPr>
          <a:xfrm>
            <a:off x="196920" y="5513400"/>
            <a:ext cx="8566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How much stronger is a pH3 than a pH of 5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be0e3"/>
                </a:solidFill>
                <a:latin typeface="Comic Sans MS"/>
              </a:rPr>
              <a:t>Acids</a:t>
            </a:r>
            <a:endParaRPr b="0" lang="en-US" sz="48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429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Strong Acid = 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pH 1-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High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 in 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H</a:t>
            </a:r>
            <a:r>
              <a:rPr b="1" lang="en-US" sz="3600" spc="-1" strike="noStrike" baseline="36000">
                <a:solidFill>
                  <a:srgbClr val="ffff00"/>
                </a:solidFill>
                <a:latin typeface="Comic Sans MS"/>
              </a:rPr>
              <a:t>+</a:t>
            </a:r>
            <a:r>
              <a:rPr b="1" lang="en-US" sz="3600" spc="-1" strike="noStrike" baseline="36000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i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Lower 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number of 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OH-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 i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Picture 4" descr="pH_acid"/>
          <p:cNvPicPr/>
          <p:nvPr/>
        </p:nvPicPr>
        <p:blipFill>
          <a:blip r:embed="rId1"/>
          <a:stretch/>
        </p:blipFill>
        <p:spPr>
          <a:xfrm>
            <a:off x="4114800" y="1676520"/>
            <a:ext cx="4648320" cy="4344840"/>
          </a:xfrm>
          <a:prstGeom prst="rect">
            <a:avLst/>
          </a:prstGeom>
          <a:ln w="0">
            <a:noFill/>
          </a:ln>
        </p:spPr>
      </p:pic>
      <p:sp>
        <p:nvSpPr>
          <p:cNvPr id="14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be0e3"/>
                </a:solidFill>
                <a:latin typeface="Comic Sans MS"/>
              </a:rPr>
              <a:t>Bases</a:t>
            </a:r>
            <a:endParaRPr b="0" lang="en-US" sz="48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3733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Strong Base = 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pH 11 – 1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High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 in 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OH</a:t>
            </a:r>
            <a:r>
              <a:rPr b="1" lang="en-US" sz="3600" spc="-1" strike="noStrike" baseline="34000">
                <a:solidFill>
                  <a:srgbClr val="ffff00"/>
                </a:solidFill>
                <a:latin typeface="Comic Sans MS"/>
              </a:rPr>
              <a:t>-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i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Lower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 in number of 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H+ i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Picture 4" descr="pH_basic"/>
          <p:cNvPicPr/>
          <p:nvPr/>
        </p:nvPicPr>
        <p:blipFill>
          <a:blip r:embed="rId1"/>
          <a:stretch/>
        </p:blipFill>
        <p:spPr>
          <a:xfrm>
            <a:off x="4114800" y="1600200"/>
            <a:ext cx="4800600" cy="4260960"/>
          </a:xfrm>
          <a:prstGeom prst="rect">
            <a:avLst/>
          </a:prstGeom>
          <a:ln w="0">
            <a:noFill/>
          </a:ln>
        </p:spPr>
      </p:pic>
      <p:sp>
        <p:nvSpPr>
          <p:cNvPr id="14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be0e3"/>
                </a:solidFill>
                <a:latin typeface="Comic Sans MS"/>
              </a:rPr>
              <a:t>Buffers</a:t>
            </a:r>
            <a:endParaRPr b="0" lang="en-US" sz="48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Weak acids or bases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 that react with strong acids or bas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Made by the bod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Prevent sharp, sudden changes in pH 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(keep pH neutral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Picture 4" descr="C:\My Documents\My Pictures\heinz-white-vinegar.jpg"/>
          <p:cNvPicPr/>
          <p:nvPr/>
        </p:nvPicPr>
        <p:blipFill>
          <a:blip r:embed="rId1"/>
          <a:stretch/>
        </p:blipFill>
        <p:spPr>
          <a:xfrm>
            <a:off x="2286000" y="4952880"/>
            <a:ext cx="1104840" cy="110520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5"/>
          <p:cNvSpPr/>
          <p:nvPr/>
        </p:nvSpPr>
        <p:spPr>
          <a:xfrm>
            <a:off x="1905120" y="60958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eak Ac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6" descr="C:\My Documents\My Pictures\DawnLarge.jpg"/>
          <p:cNvPicPr/>
          <p:nvPr/>
        </p:nvPicPr>
        <p:blipFill>
          <a:blip r:embed="rId2"/>
          <a:stretch/>
        </p:blipFill>
        <p:spPr>
          <a:xfrm>
            <a:off x="5638680" y="472428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8"/>
          <p:cNvSpPr/>
          <p:nvPr/>
        </p:nvSpPr>
        <p:spPr>
          <a:xfrm>
            <a:off x="5410080" y="60958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eak 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be0e3"/>
                </a:solidFill>
                <a:latin typeface="Comic Sans MS"/>
              </a:rPr>
              <a:t>The Water Molecule</a:t>
            </a:r>
            <a:endParaRPr b="0" lang="en-US" sz="48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9000"/>
          </a:bodyPr>
          <a:p>
            <a:pPr marL="202320" indent="-20232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Neutral Charge – ZER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02320" indent="-20232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Have </a:t>
            </a: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no charg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02320" indent="-20232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Have</a:t>
            </a: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an</a:t>
            </a: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 Equal</a:t>
            </a: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 number of </a:t>
            </a: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p+ and e-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02320" indent="-202320">
              <a:lnSpc>
                <a:spcPct val="80000"/>
              </a:lnSpc>
              <a:spcBef>
                <a:spcPts val="10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Charges aren’t evenly distribute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be0e3"/>
                </a:solidFill>
                <a:latin typeface="Comic Sans MS"/>
              </a:rPr>
              <a:t>The Water Molecule</a:t>
            </a:r>
            <a:endParaRPr b="0" lang="en-US" sz="48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Polarit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A water molecule is polar because there is an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uneven distribution of electrons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between the oxygen and hydrogen atom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      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-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       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" name="Picture 4" descr="water_molecule"/>
          <p:cNvPicPr/>
          <p:nvPr/>
        </p:nvPicPr>
        <p:blipFill>
          <a:blip r:embed="rId1"/>
          <a:stretch/>
        </p:blipFill>
        <p:spPr>
          <a:xfrm>
            <a:off x="3352680" y="4191120"/>
            <a:ext cx="2667240" cy="2438280"/>
          </a:xfrm>
          <a:prstGeom prst="rect">
            <a:avLst/>
          </a:prstGeom>
          <a:ln w="0">
            <a:noFill/>
          </a:ln>
        </p:spPr>
      </p:pic>
      <p:sp>
        <p:nvSpPr>
          <p:cNvPr id="98" name="Text Box 5"/>
          <p:cNvSpPr/>
          <p:nvPr/>
        </p:nvSpPr>
        <p:spPr>
          <a:xfrm>
            <a:off x="6400800" y="495288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(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  <a:ea typeface="Arial"/>
              </a:rPr>
              <a:t>+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6"/>
          <p:cNvSpPr/>
          <p:nvPr/>
        </p:nvSpPr>
        <p:spPr>
          <a:xfrm>
            <a:off x="2590920" y="49528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be0e3"/>
                </a:solidFill>
                <a:latin typeface="Comic Sans MS"/>
              </a:rPr>
              <a:t>Hydrogen Bonds</a:t>
            </a:r>
            <a:endParaRPr b="0" lang="en-US" sz="48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Polar water molecules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act like magnets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and attract each other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Hydrogen Bon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The attraction of the Hydrogen end (+) of one molecule for the Oxygen end </a:t>
            </a:r>
            <a:r>
              <a:rPr b="1" lang="en-US" sz="3200" spc="-1" strike="noStrike">
                <a:solidFill>
                  <a:srgbClr val="009999"/>
                </a:solidFill>
                <a:latin typeface="Comic Sans MS"/>
              </a:rPr>
              <a:t>(-)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of another water molecu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They are strong bonds that 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form between molecules</a:t>
            </a:r>
            <a:r>
              <a:rPr b="1" i="1" lang="en-US" sz="3600" spc="-1" strike="noStrike">
                <a:solidFill>
                  <a:srgbClr val="ffffff"/>
                </a:solidFill>
                <a:latin typeface="Comic Sans MS"/>
              </a:rPr>
              <a:t> (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CO</a:t>
            </a:r>
            <a:r>
              <a:rPr b="1" lang="en-US" sz="36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, H</a:t>
            </a:r>
            <a:r>
              <a:rPr b="1" lang="en-US" sz="36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O, …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be0e3"/>
                </a:solidFill>
                <a:latin typeface="Comic Sans MS"/>
              </a:rPr>
              <a:t>Hydrogen Bonds</a:t>
            </a:r>
            <a:endParaRPr b="0" lang="en-US" sz="4800" spc="-1" strike="noStrike">
              <a:solidFill>
                <a:srgbClr val="bbe0e3"/>
              </a:solidFill>
              <a:latin typeface="Times New Roman"/>
            </a:endParaRPr>
          </a:p>
        </p:txBody>
      </p:sp>
      <p:pic>
        <p:nvPicPr>
          <p:cNvPr id="105" name="Picture 4" descr="water_lattice"/>
          <p:cNvPicPr/>
          <p:nvPr/>
        </p:nvPicPr>
        <p:blipFill>
          <a:blip r:embed="rId1"/>
          <a:stretch/>
        </p:blipFill>
        <p:spPr>
          <a:xfrm>
            <a:off x="2709720" y="1523880"/>
            <a:ext cx="4319640" cy="4419720"/>
          </a:xfrm>
          <a:prstGeom prst="rect">
            <a:avLst/>
          </a:prstGeom>
          <a:ln w="0">
            <a:noFill/>
          </a:ln>
        </p:spPr>
      </p:pic>
      <p:sp>
        <p:nvSpPr>
          <p:cNvPr id="1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be0e3"/>
                </a:solidFill>
                <a:latin typeface="Comic Sans MS"/>
              </a:rPr>
              <a:t>Cohesion</a:t>
            </a:r>
            <a:endParaRPr b="0" lang="en-US" sz="48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105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The attraction between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molecules of the same substance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(e.g. water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H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O attracting other H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O molecu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Allows some insects and spiders to walk on wa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Picture 5" descr="water_strider"/>
          <p:cNvPicPr/>
          <p:nvPr/>
        </p:nvPicPr>
        <p:blipFill>
          <a:blip r:embed="rId1"/>
          <a:stretch/>
        </p:blipFill>
        <p:spPr>
          <a:xfrm>
            <a:off x="5410080" y="1905120"/>
            <a:ext cx="3448080" cy="2806560"/>
          </a:xfrm>
          <a:prstGeom prst="rect">
            <a:avLst/>
          </a:prstGeom>
          <a:ln w="0">
            <a:noFill/>
          </a:ln>
        </p:spPr>
      </p:pic>
      <p:sp>
        <p:nvSpPr>
          <p:cNvPr id="11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be0e3"/>
                </a:solidFill>
                <a:latin typeface="Comic Sans MS"/>
              </a:rPr>
              <a:t>Adhesion &amp; Capillarity</a:t>
            </a:r>
            <a:endParaRPr b="0" lang="en-US" sz="48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Adhesion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- Attraction between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H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O molecules and different molecu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Cohesion &amp; adhesion produce</a:t>
            </a: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Capillarity</a:t>
            </a: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(upward movement against gravity of water through small tube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5" descr="capillary_tube_b copy"/>
          <p:cNvPicPr/>
          <p:nvPr/>
        </p:nvPicPr>
        <p:blipFill>
          <a:blip r:embed="rId1"/>
          <a:stretch/>
        </p:blipFill>
        <p:spPr>
          <a:xfrm>
            <a:off x="5181480" y="4038480"/>
            <a:ext cx="2803680" cy="300528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6"/>
          <p:cNvSpPr/>
          <p:nvPr/>
        </p:nvSpPr>
        <p:spPr>
          <a:xfrm>
            <a:off x="990720" y="4800600"/>
            <a:ext cx="3809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Question: How do plants make use of Capillarit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be0e3"/>
                </a:solidFill>
                <a:latin typeface="Comic Sans MS"/>
              </a:rPr>
              <a:t>Solutions &amp; Suspensions</a:t>
            </a:r>
            <a:endParaRPr b="0" lang="en-US" sz="48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Water is usually part of a 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mixture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Because so many things dissolve in water, it is called the 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Universal Solven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There are two types of mixtures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Soluti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Suspensi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be0e3"/>
                </a:solidFill>
                <a:latin typeface="Comic Sans MS"/>
              </a:rPr>
              <a:t>Properties of Solutions</a:t>
            </a:r>
            <a:endParaRPr b="0" lang="en-US" sz="48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Ionic compounds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disperse as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ions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in water (+ions &amp; -ions spread out among polar water molecule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Solutions are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Evenly distributed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mixtu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SOLU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Substance that is being dissolv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SOLV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Dissolving Substance for the solu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17T04:37:26Z</dcterms:created>
  <dc:creator>Cheryl Massengale</dc:creator>
  <dc:description/>
  <dc:language>en-US</dc:language>
  <cp:lastModifiedBy>LEGION</cp:lastModifiedBy>
  <dcterms:modified xsi:type="dcterms:W3CDTF">2016-12-07T09:22:09Z</dcterms:modified>
  <cp:revision>18</cp:revision>
  <dc:subject/>
  <dc:title>water</dc:title>
</cp:coreProperties>
</file>