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631E-BE50-45BA-886A-CFACCB075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stry of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mistr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ic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+ ions will be attracted to WHAT END of the water molecu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+ ions will be attracted to WHAT END of the water molecu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s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stances that don’t dissolve but separate into tiny pie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keeps the pieces suspended so they don’t settle 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od &amp; Cytoplasm are sus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sp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s that don’t dissolve but separate into tiny pie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keeps the pieces suspended so they don’t settle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&amp; Cytoplasm are susp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s, Bases &amp; 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 water molecule in 550 million naturally dissociates into a Hydrogen Ion and a Hydroxide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ydrogen Ion          Hydroxide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                        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2O    H+  +  OH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, Bases &amp;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water molecule in 550 million naturally dissociates into a Hydrogen Ion and a Hydroxide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on          Hydroxide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                       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   H+  +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cates the concentration of H+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s from 0 –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of 7 is neut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0 up to 7  acid … H+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above 7 to 14  base… OH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pH unit represents a factor of 10X change in concent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stronger is a pH3 than a pH of 5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s the concentration of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s from 0 –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of 7 is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0 up to 7  acid … H+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above 7 to 14  base… OH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H unit represents a factor of 10X change in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stronger is a pH3 than a pH of 5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Acid = pH 1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in H+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 number of OH-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Acid = pH 1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in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number of OH-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Base = pH 11 –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in OH-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 in number of H+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Base = pH 11 –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in OH-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in number of H+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ff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 acids or bases that react with strong acids or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by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vent sharp, sudden changes in pH (keep pH neutr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ff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acids or bases that react with strong acids or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by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 sharp, sudden changes in pH (keep pH neutr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ter Molec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 Charge –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no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an Equal number of p+ and 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ges aren’t evenly distribu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ter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Charge –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no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n Equal number of p+ and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s aren’t evenly distrib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ter Molec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ater molecule is polar because there is an uneven distribution of electrons between the oxygen and hydrogen ato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-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ter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ater molecule is polar because there is an uneven distribution of electrons between the oxygen and hydrogen a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-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 water molecules act like magnets and attract each oth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traction of the Hydrogen end (+) of one molecule for the Oxygen end (-) of another water molecu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strong bonds that form between molecules (CO2, H2O, 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ar water molecules act like magnets and attract each 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traction of the Hydrogen end (+) of one molecule for the Oxygen end (-) of another water molec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strong bonds that form between molecules (CO2, H2O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traction between molecules of the same substance (e.g. wate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2O attracting other H2O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ws some insects and spiders to walk on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he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traction between molecules of the same substance (e.g. wat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 attracting other H2O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some insects and spiders to walk o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hesion &amp; Capil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hesion - Attraction between H2O molecules and different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sion &amp; adhesion produce Capillarity (upward movement against gravity of water through small tub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: How do plants make use of Capillari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sion &amp; Capil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sion - Attraction between H2O molecules and different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hesion &amp; adhesion produce Capillarity (upward movement against gravity of water through small tub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How do plants make use of Capillar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s &amp; Sus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is usually part of a mix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so many things dissolve in water, it is called the Universal Solv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types of mixtur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sp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 &amp; Susp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is usually part of a mix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so many things dissolve in water, it is called the Universal Sol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mixtu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sp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ic compounds disperse as ions in water (+ions &amp; -ions spread out among polar water molecu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s are Evenly distributed mix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stance that is being dissol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solving Substance for the solu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 compounds disperse as ions in water (+ions &amp; -ions spread out among polar water molecu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 are Evenly distributed 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 that is being diss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lving Substance for the sol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BDDA-9CFF-4780-8D4E-E9E98D252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516E-B3A0-4301-BBB9-C4F384E5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C87E-B7B4-4291-BF56-EF26E866C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D9D9-3400-4FCF-8266-319FD5344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6BEC-8C2F-40D9-8458-69EA721A5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C65E-E046-457C-AB30-C7995DAC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B1180-D659-4F6A-91B9-CD1BF068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E2F82-EE8F-417A-AA4E-2855A1E8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3DE0-8CEF-4C4B-BE8E-C4E31021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E015-D8BE-4B37-B582-F3DDB618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0758B-1447-446A-B56B-6C221C0E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DAE3-A937-4005-B4CD-11CA1AEE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0C07C-F065-4C34-94F3-4A92E337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B995-7879-40E1-ABA2-232FFAF7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EFF30-85B9-4CDD-A1AC-66D90A93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3DCEA-F70C-4110-B6F5-E84CFE8F7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C194-FE53-49A0-BAAF-A455B0AE4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D7BB-95C6-44A3-9681-0FA0FB32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CDEE-E82E-4B73-8FD8-4A873FC3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2816-53E0-4EC1-99A4-21B5287D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5448-1B8F-4055-B51F-10058F3B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0538-7308-40D2-86A3-24F1D6E4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9467-07B1-4AE5-AD5D-7AA0E91B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EB91-0552-46F6-82F0-731D38FA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6445-0373-4EB1-BD2B-1E87A335A6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D593-BDB6-490D-83E1-66A647A52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1294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Comic Sans MS"/>
              </a:rPr>
              <a:t>The Chemistry of Life</a:t>
            </a:r>
            <a:endParaRPr b="0" lang="en-US" sz="60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680" y="3352680"/>
            <a:ext cx="7467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Properties of Wat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Ionic Solution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pic>
        <p:nvPicPr>
          <p:cNvPr id="123" name="Picture 4" descr="nacl_dissolving"/>
          <p:cNvPicPr/>
          <p:nvPr/>
        </p:nvPicPr>
        <p:blipFill>
          <a:blip r:embed="rId1"/>
          <a:stretch/>
        </p:blipFill>
        <p:spPr>
          <a:xfrm>
            <a:off x="609480" y="1523880"/>
            <a:ext cx="8001000" cy="38750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609480" y="5638680"/>
            <a:ext cx="816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a+ ions will be attracted to WHAT END of the water molecu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Suspension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ubstances that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on’t dissolve but separate into tiny pie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ater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keeps the pieces suspende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so they don’t settle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Blood &amp; Cytoplasm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re susp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4" descr="mayonaise"/>
          <p:cNvPicPr/>
          <p:nvPr/>
        </p:nvPicPr>
        <p:blipFill>
          <a:blip r:embed="rId1"/>
          <a:stretch/>
        </p:blipFill>
        <p:spPr>
          <a:xfrm>
            <a:off x="7238880" y="3886200"/>
            <a:ext cx="1613160" cy="2743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C:\My Documents\My Pictures\180px-WaterAndFlourSuspensionLiquid.jpg"/>
          <p:cNvPicPr/>
          <p:nvPr/>
        </p:nvPicPr>
        <p:blipFill>
          <a:blip r:embed="rId2"/>
          <a:stretch/>
        </p:blipFill>
        <p:spPr>
          <a:xfrm>
            <a:off x="5105520" y="1219320"/>
            <a:ext cx="2286000" cy="39114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Acids, Bases &amp; pH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 water molecule in 550 million naturally dissociates into a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ydrogen 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nd a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ydroxide 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Hydrogen Ion          Hydroxide 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cid </a:t>
            </a:r>
            <a:r>
              <a:rPr b="1" lang="en-US" sz="2400" spc="-1" strike="noStrike">
                <a:solidFill>
                  <a:srgbClr val="008000"/>
                </a:solidFill>
                <a:latin typeface="Arial Black"/>
              </a:rPr>
              <a:t>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85800" y="3581280"/>
            <a:ext cx="7467480" cy="11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H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O  </a:t>
            </a:r>
            <a:r>
              <a:rPr b="0" lang="en-US" sz="4800" spc="-1" strike="noStrike">
                <a:solidFill>
                  <a:srgbClr val="ffffff"/>
                </a:solidFill>
                <a:latin typeface="Wingdings 3"/>
                <a:ea typeface="Wingdings 3"/>
              </a:rPr>
              <a:t>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  H</a:t>
            </a:r>
            <a:r>
              <a:rPr b="0" lang="en-US" sz="4800" spc="-1" strike="noStrike" baseline="30000">
                <a:solidFill>
                  <a:srgbClr val="ffffff"/>
                </a:solidFill>
                <a:latin typeface="Arial Black"/>
              </a:rPr>
              <a:t>+</a:t>
            </a: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  +  OH</a:t>
            </a:r>
            <a:r>
              <a:rPr b="1" lang="en-US" sz="6600" spc="-1" strike="noStrike" baseline="34000">
                <a:solidFill>
                  <a:srgbClr val="ffffff"/>
                </a:solidFill>
                <a:latin typeface="Arial Black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5"/>
          <p:cNvSpPr/>
          <p:nvPr/>
        </p:nvSpPr>
        <p:spPr>
          <a:xfrm flipV="1">
            <a:off x="3886200" y="4267080"/>
            <a:ext cx="304920" cy="60984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"/>
          <p:cNvSpPr/>
          <p:nvPr/>
        </p:nvSpPr>
        <p:spPr>
          <a:xfrm flipV="1">
            <a:off x="6858000" y="4190760"/>
            <a:ext cx="0" cy="6094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The pH Scale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ndicates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oncentration of H</a:t>
            </a:r>
            <a:r>
              <a:rPr b="1" lang="en-US" sz="32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Ranges from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0 – 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H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7 is neut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H 0 up to 7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cid … H</a:t>
            </a:r>
            <a:r>
              <a:rPr b="1" lang="en-US" sz="3200" spc="-1" strike="noStrike" baseline="40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H above 7 to 14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base… OH</a:t>
            </a:r>
            <a:r>
              <a:rPr b="1" lang="en-US" sz="3200" spc="-1" strike="noStrike" baseline="34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ach pH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unit represents a factor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10X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change in concen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96920" y="5513400"/>
            <a:ext cx="856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How much stronger is a pH3 than a pH of 5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Acid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trong Acid =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H 1-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High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3600" spc="-1" strike="noStrike" baseline="36000">
                <a:solidFill>
                  <a:srgbClr val="ffff00"/>
                </a:solidFill>
                <a:latin typeface="Comic Sans MS"/>
              </a:rPr>
              <a:t>+</a:t>
            </a:r>
            <a:r>
              <a:rPr b="1" lang="en-US" sz="3600" spc="-1" strike="noStrike" baseline="36000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ower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number of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OH-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pH_acid"/>
          <p:cNvPicPr/>
          <p:nvPr/>
        </p:nvPicPr>
        <p:blipFill>
          <a:blip r:embed="rId1"/>
          <a:stretch/>
        </p:blipFill>
        <p:spPr>
          <a:xfrm>
            <a:off x="4114800" y="1676520"/>
            <a:ext cx="4648320" cy="434484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Base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trong Base =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H 11 – 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High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OH</a:t>
            </a:r>
            <a:r>
              <a:rPr b="1" lang="en-US" sz="3600" spc="-1" strike="noStrike" baseline="34000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ower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n number of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H+ 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4" descr="pH_basic"/>
          <p:cNvPicPr/>
          <p:nvPr/>
        </p:nvPicPr>
        <p:blipFill>
          <a:blip r:embed="rId1"/>
          <a:stretch/>
        </p:blipFill>
        <p:spPr>
          <a:xfrm>
            <a:off x="4114800" y="1600200"/>
            <a:ext cx="4800600" cy="426096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Buffer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Weak acids or base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hat react with strong acids or ba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ade by the bo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vent sharp, sudden changes in pH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(keep pH neutral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C:\My Documents\My Pictures\heinz-white-vinegar.jpg"/>
          <p:cNvPicPr/>
          <p:nvPr/>
        </p:nvPicPr>
        <p:blipFill>
          <a:blip r:embed="rId1"/>
          <a:stretch/>
        </p:blipFill>
        <p:spPr>
          <a:xfrm>
            <a:off x="2286000" y="4952880"/>
            <a:ext cx="1104840" cy="11052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1905120" y="6095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ak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C:\My Documents\My Pictures\DawnLarge.jpg"/>
          <p:cNvPicPr/>
          <p:nvPr/>
        </p:nvPicPr>
        <p:blipFill>
          <a:blip r:embed="rId2"/>
          <a:stretch/>
        </p:blipFill>
        <p:spPr>
          <a:xfrm>
            <a:off x="56386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8"/>
          <p:cNvSpPr/>
          <p:nvPr/>
        </p:nvSpPr>
        <p:spPr>
          <a:xfrm>
            <a:off x="5410080" y="6095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ak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The Water Molecule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Neutral Charge – ZE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Have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no char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Have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n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 Equal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number of 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p+ and e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1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Charges aren’t evenly distribut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The Water Molecule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olar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 water molecule is polar because there is a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uneven distribution of electron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between the oxygen and hydrogen ato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-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4" descr="water_molecule"/>
          <p:cNvPicPr/>
          <p:nvPr/>
        </p:nvPicPr>
        <p:blipFill>
          <a:blip r:embed="rId1"/>
          <a:stretch/>
        </p:blipFill>
        <p:spPr>
          <a:xfrm>
            <a:off x="3352680" y="4191120"/>
            <a:ext cx="2667240" cy="24382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6400800" y="4952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  <a:ea typeface="Arial"/>
              </a:rPr>
              <a:t>+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590920" y="4952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Hydrogen Bond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Polar water molecule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ct like magnet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nd attract each oth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ydrogen B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attraction of the Hydrogen end (+) of one molecule for the Oxygen end </a:t>
            </a: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(-)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of another water molecu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y are strong bonds that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form between molecules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, H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, …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Hydrogen Bond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pic>
        <p:nvPicPr>
          <p:cNvPr id="105" name="Picture 4" descr="water_lattice"/>
          <p:cNvPicPr/>
          <p:nvPr/>
        </p:nvPicPr>
        <p:blipFill>
          <a:blip r:embed="rId1"/>
          <a:stretch/>
        </p:blipFill>
        <p:spPr>
          <a:xfrm>
            <a:off x="2709720" y="1523880"/>
            <a:ext cx="4319640" cy="441972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Cohesion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 attraction betwee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olecules of the same substanc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(e.g. wate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 attracting other 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 molec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llows some insects and spiders to walk on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5" descr="water_strider"/>
          <p:cNvPicPr/>
          <p:nvPr/>
        </p:nvPicPr>
        <p:blipFill>
          <a:blip r:embed="rId1"/>
          <a:stretch/>
        </p:blipFill>
        <p:spPr>
          <a:xfrm>
            <a:off x="5410080" y="1905120"/>
            <a:ext cx="3448080" cy="280656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Adhesion &amp; Capillarity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dhes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- Attraction betwee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 molecules and different molec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ohesion &amp; adhesion produce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apillarity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upward movement against gravity of water through small tub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5" descr="capillary_tube_b copy"/>
          <p:cNvPicPr/>
          <p:nvPr/>
        </p:nvPicPr>
        <p:blipFill>
          <a:blip r:embed="rId1"/>
          <a:stretch/>
        </p:blipFill>
        <p:spPr>
          <a:xfrm>
            <a:off x="5181480" y="4038480"/>
            <a:ext cx="2803680" cy="30052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6"/>
          <p:cNvSpPr/>
          <p:nvPr/>
        </p:nvSpPr>
        <p:spPr>
          <a:xfrm>
            <a:off x="990720" y="480060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Question: How do plants make use of Capillar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Solutions &amp; Suspension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ater is usually part of a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ixture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Because so many things dissolve in water, it is called the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Universal Solv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re are two types of mixtur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lu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uspens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Properties of Solutions</a:t>
            </a:r>
            <a:endParaRPr b="0" lang="en-US" sz="4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onic compound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disperse a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on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in water (+ions &amp; -ions spread out among polar water molecu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olutions ar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venly distribute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mix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OLU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ubstance that is being dissol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OLV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Dissolving Substance for the solu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7T04:37:26Z</dcterms:created>
  <dc:creator>Cheryl Massengale</dc:creator>
  <dc:description/>
  <dc:language>en-US</dc:language>
  <cp:lastModifiedBy>LEGION</cp:lastModifiedBy>
  <dcterms:modified xsi:type="dcterms:W3CDTF">2016-12-07T09:22:09Z</dcterms:modified>
  <cp:revision>18</cp:revision>
  <dc:subject/>
  <dc:title>water</dc:title>
</cp:coreProperties>
</file>