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image4.gif" ContentType="image/gif"/>
  <Override PartName="/ppt/media/image5.gif" ContentType="image/gif"/>
  <Override PartName="/ppt/media/image6.wmf" ContentType="image/x-wm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E16C-71AA-4708-926E-A05423814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cientific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cientific 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trols and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nd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Experiments Follow R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perimenter changes one factor and observes or measures what happ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cientific Experiments Follow Ru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perimenter changes one factor and observes or measures what happe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rol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perimenter makes a special effort to keep other factors constant so that they will not effect the outc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se factors are called control variab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ontrol Vari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experimenter makes a special effort to keep other factors constant so that they will not effect the outcom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ose factors are called control variables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Purpose of a Contr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s are NOT being tes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s are used for COMPAR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at is the Purpose of a Control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re NOT being test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re used for COMPARIS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at is changed is known as the independent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at is measured or observed is called the dependent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factor that is changed is known as the independent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factor that is measured or observed is called the dependent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of Controls &amp;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suppose you want to figure out the fastest route to walk home from schoo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try several different routes and time how long it takes you to get home by each 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you are only interested in finding a route that is fastest for you, you will do the walking yoursel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ample of Controls &amp;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 example, suppose you want to figure out the fastest route to walk home from school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ou will try several different routes and time how long it takes you to get home by each on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nce you are only interested in finding a route that is fastest for you, you will do the walking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Variables in Your Experi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ying the route is the independent var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it takes is the dependent var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ing the same walker throughout makes the walker a control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at are the Variables in Your Experiment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rying the route is the independent variabl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time it takes is the dependent variabl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eeping the same walker throughout makes the walker a control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ore thing… it is best to make several trials with each independent vari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e more thing… it is best to make several trials with each independent variab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alid Experi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 Experim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: To be a Valid Experime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groups are required --- the control &amp; experimental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should be only one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ember: To be a Valid Experiment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groups are required --- the control &amp; experimental grou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re should be only one vari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in the Scientific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ps in the Scientific 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s of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 be quantitative (numbers) or qualit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sults of the 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y be quantitative (numbers) or qualita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be organiz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organized into charts, tables, or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st be organiz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n be organized into charts, tables, or graph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the hypothesis based on the data obtained from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nswer to the hypothesis based on the data obtained from the 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verify the results, experiments must be retes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order to verify the results, experiments must be retest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Identify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State Observations about the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Form a Hypothesis about the problem (if…then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Design an Experiment to test the 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Collect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Form a 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 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lving a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)Identify a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) State Observations about the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) Form a Hypothesis about the problem (if…then…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) Design an Experiment to test the 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) Collect 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) Form a 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7) 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thered through your s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cientist notices something in their natural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athered through your sens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scientist notices something in their natural wor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ample of an observation might be noticing that many salamanders near a pond have curved, not straight, t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ample of an observation might be noticing that many salamanders near a pond have curved, not straight, tai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ggested solution to the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be te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written as If…Then… stat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dicts an out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suggested solution to the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st be test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metimes written as If…Then… statem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edicts an outc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ample of a hypothesis might be that the salamanders have curved tails due to a pollutant in the moist soil where they liv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ample of a hypothesis might be that the salamanders have curved tails due to a pollutant in the moist soil where they liv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cedure to test the hypoth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procedure to test the hypothesi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– factor in the experiment that is being tes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riable – factor in the experiment that is being test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or “valid” experiment will only have ONE variab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good or “valid” experiment will only have ONE variable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BFB-FF52-49C0-B872-A0178365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A2D8-05B6-4E04-8BCB-C5D1A379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4981-8C36-41B4-B537-FDF2B68C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4A20-BFBD-4928-96B8-566AEC48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F0AA-CB81-4329-8EB2-B1850BE2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BFB1-139B-482D-8058-2B002E22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E196-3D89-4625-AE31-FD74A72E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6506-BD9E-42F3-B5E8-9C68E1AC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388F-560B-4A4A-AF48-8B0EBBAE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5E4B-4027-451B-A8CF-51981563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CDC3-596C-4280-B5CC-43495624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5DD-6A25-4FBE-B689-5CDF0D6C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0CF7-0DAD-4D45-AB52-21D95778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8234-B5F8-479D-9B42-7B96091C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82C5-AD6D-45A1-8E4D-30913561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B3BC-5036-46E0-9890-879DD008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1C11-3960-46E5-8C1C-7A5505AC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3A29-20C5-401F-A12F-4683B8B2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B4D6-275F-4DAE-9A23-A3FC839D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3083-D318-4094-9D67-2389EF79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E2EA-6C63-4335-9CAE-63773B57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4886-88EE-44B5-98E6-12B5A16E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E2CE-6389-49FD-98F9-92DE0D08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5428-2651-426D-B5F1-D3E22E16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2475-DFFC-4A3A-8830-2DD33DFB5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B063-CB5A-4913-9E1E-07A6C58FE7C4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Scientific Method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ontrols and Variabl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Scientific Experiments Follow Rul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 experimenter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changes one factor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bserves or measures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happe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professor7"/>
          <p:cNvPicPr/>
          <p:nvPr/>
        </p:nvPicPr>
        <p:blipFill>
          <a:blip r:embed="rId1"/>
          <a:stretch/>
        </p:blipFill>
        <p:spPr>
          <a:xfrm>
            <a:off x="5068800" y="2498760"/>
            <a:ext cx="3886200" cy="30938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The Control Variab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experimenter makes a special effort to keep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factors constan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so that they will not effect the outcome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ose factors are called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control variables.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What is the Purpose of a Control?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709720"/>
            <a:ext cx="777240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rols are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being test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rols are used for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COMPARIS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Other Variabl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factor that is changed is known as the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independent variable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factor that is measured or observed is called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endent variabl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Example of Controls &amp; Vari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or exam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uppose you want to figure out th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astest rou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walk home from school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will try several different routes and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ime how long it tak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 to get home by each on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ce you are only interested in finding a route that is fastest for you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you will do the walking yoursel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at are the Variables in Your Experime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arying the route is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ndependent variab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time it takes is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endent variab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Keeping the same walker throughout makes the walker 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ntrol variable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One more thing… it is best to make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several trials</a:t>
            </a: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 with each independent variable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Valid Experiment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member: To be a Valid Experiment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wo group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required --- the control &amp; experimental group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should be only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n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variab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teps in 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6" descr="j0076135"/>
          <p:cNvPicPr/>
          <p:nvPr/>
        </p:nvPicPr>
        <p:blipFill>
          <a:blip r:embed="rId1"/>
          <a:stretch/>
        </p:blipFill>
        <p:spPr>
          <a:xfrm>
            <a:off x="1182600" y="2692440"/>
            <a:ext cx="3810240" cy="27655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Dat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Resul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the experi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y b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quantitativ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numbers) or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qualitativ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6" descr="j0076136"/>
          <p:cNvPicPr/>
          <p:nvPr/>
        </p:nvPicPr>
        <p:blipFill>
          <a:blip r:embed="rId1"/>
          <a:stretch/>
        </p:blipFill>
        <p:spPr>
          <a:xfrm>
            <a:off x="5145120" y="2376360"/>
            <a:ext cx="3809880" cy="339588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Dat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ust be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organiz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n be organized into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charts, tables, or graph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4" descr="j0076136"/>
          <p:cNvPicPr/>
          <p:nvPr/>
        </p:nvPicPr>
        <p:blipFill>
          <a:blip r:embed="rId1"/>
          <a:stretch/>
        </p:blipFill>
        <p:spPr>
          <a:xfrm>
            <a:off x="5145120" y="2376360"/>
            <a:ext cx="3809880" cy="33958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Conclu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4154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nsw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the hypothesis based on the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data obtained from the experi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6" descr="bs01344_"/>
          <p:cNvPicPr/>
          <p:nvPr/>
        </p:nvPicPr>
        <p:blipFill>
          <a:blip r:embed="rId1"/>
          <a:stretch/>
        </p:blipFill>
        <p:spPr>
          <a:xfrm>
            <a:off x="5145120" y="2435400"/>
            <a:ext cx="3809880" cy="32781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etes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order to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verify the resul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experiments must be retested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6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Review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olving a Problem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44197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dentif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) State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bservati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bout the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) Form 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ypothesi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bout the problem (if…then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) Design an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xperiment to test the hypoth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) Collect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) Form 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)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Re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6" descr="j0076187"/>
          <p:cNvPicPr/>
          <p:nvPr/>
        </p:nvPicPr>
        <p:blipFill>
          <a:blip r:embed="rId1"/>
          <a:stretch/>
        </p:blipFill>
        <p:spPr>
          <a:xfrm>
            <a:off x="5210280" y="2017800"/>
            <a:ext cx="3679560" cy="41148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Observation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athered through you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en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scientist notices something in thei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atur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6" descr="j0078802"/>
          <p:cNvPicPr/>
          <p:nvPr/>
        </p:nvPicPr>
        <p:blipFill>
          <a:blip r:embed="rId1"/>
          <a:stretch/>
        </p:blipFill>
        <p:spPr>
          <a:xfrm>
            <a:off x="5145120" y="2351160"/>
            <a:ext cx="3809880" cy="34480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Observation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17440"/>
            <a:ext cx="430704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f an observ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ight be noticing that many salamanders near a pond have curved, not straight, 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4" descr="j0078802"/>
          <p:cNvPicPr/>
          <p:nvPr/>
        </p:nvPicPr>
        <p:blipFill>
          <a:blip r:embed="rId1"/>
          <a:stretch/>
        </p:blipFill>
        <p:spPr>
          <a:xfrm>
            <a:off x="5145120" y="2351160"/>
            <a:ext cx="3809880" cy="34480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Hypothesi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03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suggested solution to the probl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b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es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metimes written as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If…Then…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at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redic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 outc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6" descr="bd05030_"/>
          <p:cNvPicPr/>
          <p:nvPr/>
        </p:nvPicPr>
        <p:blipFill>
          <a:blip r:embed="rId1"/>
          <a:stretch/>
        </p:blipFill>
        <p:spPr>
          <a:xfrm>
            <a:off x="5526000" y="2017800"/>
            <a:ext cx="304668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Hypothesi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03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 of a hypothesi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ight be that the salamanders have curved tails due to a pollutant in the moist soil where they liv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bd05030_"/>
          <p:cNvPicPr/>
          <p:nvPr/>
        </p:nvPicPr>
        <p:blipFill>
          <a:blip r:embed="rId1"/>
          <a:stretch/>
        </p:blipFill>
        <p:spPr>
          <a:xfrm>
            <a:off x="5526000" y="2017800"/>
            <a:ext cx="3046680" cy="41148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procedure to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es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hypothesi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Variabl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factor in the experiment that is being test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4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good or “valid” experiment will only have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ONE variable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4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03:26:13Z</dcterms:created>
  <dc:creator>Cheryl Massengale</dc:creator>
  <dc:description/>
  <dc:language>en-US</dc:language>
  <cp:lastModifiedBy>LEGION</cp:lastModifiedBy>
  <dcterms:modified xsi:type="dcterms:W3CDTF">2016-12-07T09:22:17Z</dcterms:modified>
  <cp:revision>10</cp:revision>
  <dc:subject/>
  <dc:title>Scientific Method</dc:title>
</cp:coreProperties>
</file>