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6.jpeg" ContentType="image/jpeg"/>
  <Override PartName="/ppt/media/image10.wmf" ContentType="image/x-wmf"/>
  <Override PartName="/ppt/media/image25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34.jpeg" ContentType="image/jpeg"/>
  <Override PartName="/ppt/media/image35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4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483B-2783-462B-8534-3854F9DBB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228-309C-4C67-AB90-F2137FBF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7B2-0FB4-4513-9E6B-7A9AA09C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55A-A3F5-4320-B778-9BD08C94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66B-E0A4-4EE2-BF02-EC031764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7B48-85D9-4C51-8505-ACAFA1D0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22F9-BA16-433C-B3A8-0EABC5DD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BD0D-7346-4C23-8929-C3B0B5E3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4D06-94DD-4C67-8A12-5C52F3FB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0757-30FC-4E63-AC89-4CE0A238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03F8-FACC-4699-94D9-D125F880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0019-8B98-4146-9588-6C7465CD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BAD-3639-4A10-A6B2-C16918FC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8975-2919-454E-A0BE-B2EC9714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6367-0464-4600-86A4-0B05B87E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7367-578B-4FE6-B787-5F881C03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035C-F71E-4B10-BB5E-A01BA5CA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FF8E-E382-447D-A8BB-BA63192B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15F-B19A-4665-806D-75C1D67E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297-EAB1-4791-A260-6C6B7A66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B3A-A61E-420D-BA33-949CBE4F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ADB-0108-4671-9035-4BFF309F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569-229C-420E-B03C-968A50E9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996-5B93-4541-998F-87C31D82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077-A895-4D36-977C-164A68FC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B38B-C14B-4878-B968-CB61FA48DD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F3FA-B5AC-4611-91F6-9385160D1C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5080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95280" y="40924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cf202"/>
                </a:solidFill>
                <a:latin typeface="Comic Sans MS"/>
              </a:rPr>
              <a:t>Lab Safe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301920" y="2768760"/>
            <a:ext cx="2540160" cy="13204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need to smell the odor o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ft the fu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war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nose with one hand.  Do no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ut your nose over the containe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ur water into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centrated acid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    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ould be poured slowly into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6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ollow the instruct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you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when disposing of all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fter handl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200240" cy="19810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cor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re n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can trip on them or ge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 sure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ands and your lab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rea are d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fore us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ke anything in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outle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1177920" cy="1600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plug cords b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ulling the 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not the 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ll electrical equipm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nd of the lab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Object 6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8651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ELECTRIC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s and hotplates cool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wn before touching them. Tes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see if they are cool enough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ringing the back of your h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ose to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ongs and/or protective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handle hot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reach across an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open fla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 bu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nly type of glassware that ma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fely be heated is eith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Kimax o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yr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point th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top ends of test tub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at are being heated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rom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heating a test tube,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ove i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ound slowly over the flame t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tribute the heat eve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286000" cy="15667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THERMAL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glassware that is thorough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ry should be hea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t glassware by placing it o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re gauz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latform on a ring st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hold it in your h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RINGSTAN"/>
          <p:cNvPicPr/>
          <p:nvPr/>
        </p:nvPicPr>
        <p:blipFill>
          <a:blip r:embed="rId1"/>
          <a:stretch/>
        </p:blipFill>
        <p:spPr>
          <a:xfrm>
            <a:off x="4038480" y="4419720"/>
            <a:ext cx="1509840" cy="220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IRONRING"/>
          <p:cNvPicPr/>
          <p:nvPr/>
        </p:nvPicPr>
        <p:blipFill>
          <a:blip r:embed="rId2"/>
          <a:stretch/>
        </p:blipFill>
        <p:spPr>
          <a:xfrm>
            <a:off x="4267080" y="4724280"/>
            <a:ext cx="809640" cy="2606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THERMAL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hen lighting a bu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wait until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riker is in place before you turn o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0. 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mount of air can be adjus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air supply valve below the tube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rner.  This regulates the flam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mperature and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leave a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 or hotplat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at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5" descr="BUNSENBU"/>
          <p:cNvPicPr/>
          <p:nvPr/>
        </p:nvPicPr>
        <p:blipFill>
          <a:blip r:embed="rId1"/>
          <a:stretch/>
        </p:blipFill>
        <p:spPr>
          <a:xfrm>
            <a:off x="7391520" y="4495680"/>
            <a:ext cx="1409760" cy="1828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FIRE"/>
          <p:cNvPicPr/>
          <p:nvPr/>
        </p:nvPicPr>
        <p:blipFill>
          <a:blip r:embed="rId2"/>
          <a:stretch/>
        </p:blipFill>
        <p:spPr>
          <a:xfrm>
            <a:off x="7086600" y="0"/>
            <a:ext cx="1905120" cy="13939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ediately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lush with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til burn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ation is 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,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ressing directly on minor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 will stop blee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w minutes.  Apply c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ess to bruises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uce swel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isten to or re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struction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efully before attempting to d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Wea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afety goggl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protect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eyes from chemicals, heate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erials, or things that might b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ble to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Notify your teac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f any spills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Object 5" descr=""/>
          <p:cNvPicPr/>
          <p:nvPr/>
        </p:nvPicPr>
        <p:blipFill>
          <a:blip r:embed="rId1"/>
          <a:stretch/>
        </p:blipFill>
        <p:spPr>
          <a:xfrm>
            <a:off x="5381640" y="5715000"/>
            <a:ext cx="1400040" cy="800280"/>
          </a:xfrm>
          <a:prstGeom prst="rect">
            <a:avLst/>
          </a:prstGeom>
          <a:ln w="0">
            <a:noFill/>
          </a:ln>
        </p:spPr>
      </p:pic>
      <p:pic>
        <p:nvPicPr>
          <p:cNvPr id="98" name="Object 6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876600" cy="766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st A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o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ir and hav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 recline so that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n the res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ir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1787760" cy="18288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ey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mmediate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plenty of water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ral minutes.  I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eign object is lodged i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ye, do not allow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ye to be rubb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213840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Find out what subst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responsible for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oisoning and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lert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teacher immediat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pills on the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l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quantities of water. 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k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da solution.  Fo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a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vinegar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ric ac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Picture 4" descr="CHEMIC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ut o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curr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.  Remove wir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rubber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Aler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immed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ELECTRIC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226" name="Object 5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1690920" cy="27432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handling chemicals, alway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soap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uring lab work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keep your hands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way from your 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e back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ng hai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7477200" y="2209680"/>
            <a:ext cx="1666800" cy="12351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1652760" cy="16765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Roll up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ose slee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.  Know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fire extinguisher, fire blanket, eyewash station, and first aid k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Keep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ork area unclutte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Object 4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5" descr=""/>
          <p:cNvPicPr/>
          <p:nvPr/>
        </p:nvPicPr>
        <p:blipFill>
          <a:blip r:embed="rId2"/>
          <a:stretch/>
        </p:blipFill>
        <p:spPr>
          <a:xfrm>
            <a:off x="3352680" y="5143680"/>
            <a:ext cx="2286000" cy="1601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uggested that you wea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glas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ather than contact le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ver put anything into your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mou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a lab experi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ean 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r lab area at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 of the laborato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Never “horse around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pla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al jokes in the labora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Object 4" descr=""/>
          <p:cNvPicPr/>
          <p:nvPr/>
        </p:nvPicPr>
        <p:blipFill>
          <a:blip r:embed="rId1"/>
          <a:stretch/>
        </p:blipFill>
        <p:spPr>
          <a:xfrm>
            <a:off x="7391520" y="0"/>
            <a:ext cx="1371600" cy="128736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6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98748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hipped or cracked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be used. Show it to the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roken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not b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ecial glass dispos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er fo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ouring liquids into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ure the container you a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uring into is resting on a table 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a hands breadth from the 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Pour down a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ass stirring r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prevent liquids from splatte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If a piece of glassware gets broken, do not try to clean it up by yourself.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otify the tea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When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inserting glass tubi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o a rubber stopper, apply a lubricant lik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ycer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the glass and use a twisting mo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not plac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ot glasswa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water.  Rapid cooling may make it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1712880" cy="2235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rotective gogg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d a lab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ron whenever heating or pouring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ix chemical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gether unles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are told to do so (and then only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manner specifi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ever tas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y chemicals (you shoul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taste anything in the lab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6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941400" cy="12189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LEGION</cp:lastModifiedBy>
  <dcterms:modified xsi:type="dcterms:W3CDTF">2016-12-07T09:27:21Z</dcterms:modified>
  <cp:revision>73</cp:revision>
  <dc:subject/>
  <dc:title>Lab Safety</dc:title>
</cp:coreProperties>
</file>