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26.jpeg" ContentType="image/jpeg"/>
  <Override PartName="/ppt/media/image10.wmf" ContentType="image/x-wmf"/>
  <Override PartName="/ppt/media/image25.jpeg" ContentType="image/jpeg"/>
  <Override PartName="/ppt/media/image30.jpeg" ContentType="image/jpeg"/>
  <Override PartName="/ppt/media/image7.wmf" ContentType="image/x-wmf"/>
  <Override PartName="/ppt/media/image11.jpeg" ContentType="image/jpeg"/>
  <Override PartName="/ppt/media/image12.wmf" ContentType="image/x-wmf"/>
  <Override PartName="/ppt/media/image8.wmf" ContentType="image/x-wmf"/>
  <Override PartName="/ppt/media/image9.wmf" ContentType="image/x-wmf"/>
  <Override PartName="/ppt/media/image31.wmf" ContentType="image/x-wmf"/>
  <Override PartName="/ppt/media/image36.wmf" ContentType="image/x-wmf"/>
  <Override PartName="/ppt/media/image6.wmf" ContentType="image/x-wmf"/>
  <Override PartName="/ppt/media/image34.jpeg" ContentType="image/jpeg"/>
  <Override PartName="/ppt/media/image35.jpeg" ContentType="image/jpeg"/>
  <Override PartName="/ppt/media/image5.wmf" ContentType="image/x-wmf"/>
  <Override PartName="/ppt/media/image13.wmf" ContentType="image/x-wmf"/>
  <Override PartName="/ppt/media/image27.jpeg" ContentType="image/jpeg"/>
  <Override PartName="/ppt/media/image4.wmf" ContentType="image/x-wmf"/>
  <Override PartName="/ppt/media/image33.wmf" ContentType="image/x-wmf"/>
  <Override PartName="/ppt/media/image3.wmf" ContentType="image/x-wmf"/>
  <Override PartName="/ppt/media/image15.jpeg" ContentType="image/jpeg"/>
  <Override PartName="/ppt/media/image23.jpeg" ContentType="image/jpeg"/>
  <Override PartName="/ppt/media/image29.wmf" ContentType="image/x-wmf"/>
  <Override PartName="/ppt/media/image1.png" ContentType="image/png"/>
  <Override PartName="/ppt/media/image14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188F-7510-484E-9CCA-DCFBF341D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b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need to smell the odor of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, waft the fumes towar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nose with one hand.  Do no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ut your nose over the contain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nhale the fu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our water into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d acid.  Acid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be poured slowly into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need to smell the odor of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, waft the fumes towar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nose with one hand.  Do no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ut your nose over the contain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nhale the fu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our water into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d acid.  Acid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be poured slowly into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he instructions of you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 when disposing of 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your hands after handl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zardous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he instructions of you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 when disposing of 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your hands after handl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zardous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 electrical cords where n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an trip on them or ge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ght in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ure your hands and your lab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are dry before us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quip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oke anything in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outl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 electrical cords where n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an trip on them or ge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ght in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ure your hands and your lab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are dry before us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quip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oke anything in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outl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lug cords by pulling the plu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not the c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lug all electrical equipment 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of the lab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lug cords by pulling the plu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not the c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lug all electrical equipment 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of the lab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burners and hotplates coo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 before touching them. Tes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e if they are cool enough b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nging the back of your h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to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ongs and/or protective glov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handle hot obj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reach across an open flam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bur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burners and hotplates coo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 before touching them. Tes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e if they are cool enough b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nging the back of your h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to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ongs and/or protective glov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handle hot obj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reach across an open flam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bur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nly type of glassware that ma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ly be heated is either Kimax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point the top ends of test tub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are being heated away from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heating a test tube, move i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ound slowly over the flame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heat eve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nly type of glassware that ma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ly be heated is either Kimax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point the top ends of test tub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are being heated away from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heating a test tube, move i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ound slowly over the flame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heat eve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glassware that is thorough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should be he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glassware by placing it on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 gauze platform on a ring stand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hold it in your h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glassware that is thorough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should be he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glassware by placing it on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 gauze platform on a ring stand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hold it in your h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lighting a burner, wait until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ker is in place before you turn 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 The amount of air can be adjusted b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 supply valve below the tube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rner.  This regulates the flam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col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leave a burner or hotplat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tten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lighting a burner, wait until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ker is in place before you turn 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 The amount of air can be adjusted b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 supply valve below the tube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rner.  This regulates the flam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col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leave a burner or hotplat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tten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ediately flush wit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until burn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ation is lesse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ediately flush wit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until burn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ation is lesse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s, bru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touch an open wou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safety gloves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ing directly on min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s will stop bleeding in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minutes.  Apply co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ress to bruises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 swel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s, bru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touch an open wou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safety gloves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ing directly on min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s will stop bleeding in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minutes.  Apply co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ress to bruises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 swel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Listen to or read instruction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fully before attempting to d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th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Wear safety goggles to protect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eyes from chemicals, heat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s, or things that might b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le to sh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fy your teacher if any spills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idents occ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Listen to or read instruction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fully before attempting to d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th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Wear safety goggles to protect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eyes from chemicals, heat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s, or things that might b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le to sh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fy your teacher if any spills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idents occ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n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o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fresh air and have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 recline so that thei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 is lower than the rest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n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o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fresh air and have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 recline so that thei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 is lower than the rest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Flush eyes immediate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plenty of water f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minutes.  If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ign object is lodged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ye, do not allow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 to be rub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Flush eyes immediate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plenty of water f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minutes.  If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ign object is lodged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ye, do not allow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 to be rub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oi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Find out what substan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was responsible for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oisoning and alert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eacher immedi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oi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Find out what substan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was responsible for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oisoning and alert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eacher immedi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pills on the 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Flush with larg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quantities of water.  F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id spills, app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k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oda solution.  For ba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pills, apply vinegar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or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pills on the 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Flush with larg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quantities of water.  F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id spills, app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k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oda solution.  For ba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pills, apply vinegar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or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h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Shut off the current 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.  Remove wir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rubber gloves.  Aler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 immedi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h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Shut off the current 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.  Remove wir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rubber gloves.  Aler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 immedi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handling chemicals, alway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your hands with soap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lab work, keep your hand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y from your 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e back long h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handling chemicals, alway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your hands with soap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lab work, keep your hand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y from your 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e back long h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Roll up loose slee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 Know the location of the fire extinguisher, fire blanket, eyewash station, and first aid k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Keep your work area uncluttered. Take to the lab station only what is necess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Roll up loose slee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 Know the location of the fire extinguisher, fire blanket, eyewash station, and first aid k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Keep your work area uncluttered. Take to the lab station only what is necess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uggested that you wea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es rather than contact len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ut anything into your mout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a lab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n up your lab area at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 of the laboratory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“horse around” or pla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al jokes in the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uggested that you wea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es rather than contact len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ut anything into your mout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a lab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n up your lab area at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 of the laboratory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“horse around” or pla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al jokes in the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ware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pped or cracked glassware shou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be used. Show it to the teac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ken glassware should not b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osed of in a classroom trashcan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special glass disposa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for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pouring liquids into glassware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the container you ar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uring into is resting on a table 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st a hands breadth from the ed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ware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pped or cracked glassware shou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be used. Show it to the teac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ken glassware should not b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osed of in a classroom trashcan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special glass disposa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for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pouring liquids into glassware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the container you ar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uring into is resting on a table 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st a hands breadth from the ed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ware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our down a glass stirring rod to prevent liquids from splatte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If a piece of glassware gets broken, do not try to clean it up by yourself. Notify the teac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When inserting glass tubing into a rubber stopper, apply a lubricant like glycerin to the glass and use a twisting mo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ware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our down a glass stirring rod to prevent liquids from splatte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If a piece of glassware gets broken, do not try to clean it up by yourself. Notify the teac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When inserting glass tubing into a rubber stopper, apply a lubricant like glycerin to the glass and use a twisting mo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ware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place hot glassware in water.  Rapid cooling may make it sh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ware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place hot glassware in water.  Rapid cooling may make it sh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r protective goggles and a lab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on whenever heating or pour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zardous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mix chemicals together unles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told to do so (and then only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nner specifi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taste any chemicals (you shou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taste anything in the lab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r protective goggles and a lab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on whenever heating or pour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zardous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mix chemicals together unles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told to do so (and then only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nner specifi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taste any chemicals (you shou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taste anything in the lab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DE3E-DFA7-4744-98DF-4D5027E32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80F3-E6FC-4019-BCB9-CFE178ED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F0B9-F8AE-4193-8363-7A2D276C6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95A9-90C3-429D-B27B-9FB64ABAE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595B-4035-47FB-908E-2B5F61A35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DCB8-0DC2-44A8-8214-4C8A809E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5444-32E4-49F1-AAFA-DA5D0B34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6D37-AC4A-4C85-BDCF-EC4A0005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1DDF-2ACF-421C-9EE6-AAB1DE7F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0D57-1FBB-4565-BECE-97F5EB1D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472D-6AF5-4878-A72D-E15143B9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5694-BCE2-44D2-978B-CA4302B4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A6AAE-0908-4610-B5F2-EA78607B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1B706-C4B3-4EA0-A8B3-3E16B5B3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4B4B-61B9-4D80-9C40-B153E7A3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A358-B1F6-4EC5-9FF1-BB5F41159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9EF5-0AFC-4D3A-87D0-B442EADB8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4C5B-5403-49C2-AB24-17C1E7AC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1982-FE25-43DF-BA8C-72C12E0E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3C4A-A8A3-4B2A-BD2F-5A8BD605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7616-A0ED-475A-B075-6D3D20DF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6901-B119-42DA-B731-DFDC9E41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5E85-1486-4EEF-9B20-446516B2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6C16-2EEC-4834-98E7-4EABA494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2921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5e574e"/>
                </a:solidFill>
                <a:latin typeface="Arial"/>
              </a:rPr>
              <a:t>Pflugerville ISD - August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E616-40E0-4282-8C0F-F32BA89654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5e574e"/>
                </a:solidFill>
                <a:latin typeface="Arial"/>
              </a:rPr>
              <a:t>Pflugerville ISD - August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E071-D2C2-4453-ADBC-0C29095D5BF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66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85800" y="1508040"/>
            <a:ext cx="77724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295280" y="4092480"/>
            <a:ext cx="65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ecf202"/>
                </a:solidFill>
                <a:latin typeface="Comic Sans MS"/>
              </a:rPr>
              <a:t>Lab Safet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3301920" y="2768760"/>
            <a:ext cx="2540160" cy="132048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hem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f you need to smell the odor of 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,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aft the fum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owar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your nose with one hand.  Do no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ut your nose over the containe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d inhale the fum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ver pour water into 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ncentrated acid. 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cid      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hould be poured slowly into wat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Object 5" descr=""/>
          <p:cNvPicPr/>
          <p:nvPr/>
        </p:nvPicPr>
        <p:blipFill>
          <a:blip r:embed="rId1"/>
          <a:stretch/>
        </p:blipFill>
        <p:spPr>
          <a:xfrm>
            <a:off x="8145360" y="1905120"/>
            <a:ext cx="998640" cy="1447560"/>
          </a:xfrm>
          <a:prstGeom prst="rect">
            <a:avLst/>
          </a:prstGeom>
          <a:ln w="0">
            <a:noFill/>
          </a:ln>
        </p:spPr>
      </p:pic>
      <p:pic>
        <p:nvPicPr>
          <p:cNvPr id="144" name="Object 6" descr=""/>
          <p:cNvPicPr/>
          <p:nvPr/>
        </p:nvPicPr>
        <p:blipFill>
          <a:blip r:embed="rId2"/>
          <a:stretch/>
        </p:blipFill>
        <p:spPr>
          <a:xfrm>
            <a:off x="6248520" y="4038480"/>
            <a:ext cx="1752480" cy="138744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8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9" descr="CHEMICAL"/>
          <p:cNvPicPr/>
          <p:nvPr/>
        </p:nvPicPr>
        <p:blipFill>
          <a:blip r:embed="rId3"/>
          <a:stretch/>
        </p:blipFill>
        <p:spPr>
          <a:xfrm>
            <a:off x="6705720" y="0"/>
            <a:ext cx="2438280" cy="17845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hem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6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Follow the instruction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you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eacher when disposing of all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7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ash your han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fter handling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azardous chemica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Object 4" descr=""/>
          <p:cNvPicPr/>
          <p:nvPr/>
        </p:nvPicPr>
        <p:blipFill>
          <a:blip r:embed="rId1"/>
          <a:stretch/>
        </p:blipFill>
        <p:spPr>
          <a:xfrm>
            <a:off x="6095880" y="4191120"/>
            <a:ext cx="1200240" cy="198108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6" descr="CHEMICAL"/>
          <p:cNvPicPr/>
          <p:nvPr/>
        </p:nvPicPr>
        <p:blipFill>
          <a:blip r:embed="rId2"/>
          <a:stretch/>
        </p:blipFill>
        <p:spPr>
          <a:xfrm>
            <a:off x="6705720" y="0"/>
            <a:ext cx="2438280" cy="17845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Electr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75438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ay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electrical cor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here no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ne can trip on them or ge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ught in th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e sure your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hands and your lab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rea are dr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efore using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ical equip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ver poke anything into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electrical outle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Object 5" descr=""/>
          <p:cNvPicPr/>
          <p:nvPr/>
        </p:nvPicPr>
        <p:blipFill>
          <a:blip r:embed="rId1"/>
          <a:stretch/>
        </p:blipFill>
        <p:spPr>
          <a:xfrm>
            <a:off x="7543800" y="1905120"/>
            <a:ext cx="1305000" cy="1277640"/>
          </a:xfrm>
          <a:prstGeom prst="rect">
            <a:avLst/>
          </a:prstGeom>
          <a:ln w="0">
            <a:noFill/>
          </a:ln>
        </p:spPr>
      </p:pic>
      <p:pic>
        <p:nvPicPr>
          <p:cNvPr id="157" name="Object 6" descr=""/>
          <p:cNvPicPr/>
          <p:nvPr/>
        </p:nvPicPr>
        <p:blipFill>
          <a:blip r:embed="rId2"/>
          <a:stretch/>
        </p:blipFill>
        <p:spPr>
          <a:xfrm>
            <a:off x="6629400" y="4724280"/>
            <a:ext cx="1177920" cy="160020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8" descr="ELECTRIC"/>
          <p:cNvPicPr/>
          <p:nvPr/>
        </p:nvPicPr>
        <p:blipFill>
          <a:blip r:embed="rId3"/>
          <a:stretch/>
        </p:blipFill>
        <p:spPr>
          <a:xfrm>
            <a:off x="7010280" y="0"/>
            <a:ext cx="2133720" cy="156204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Electr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nplug cords by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pulling the plu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d not the co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Unplu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ll electrical equipment a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end of the lab perio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Object 6" descr=""/>
          <p:cNvPicPr/>
          <p:nvPr/>
        </p:nvPicPr>
        <p:blipFill>
          <a:blip r:embed="rId1"/>
          <a:stretch/>
        </p:blipFill>
        <p:spPr>
          <a:xfrm>
            <a:off x="3886200" y="4191120"/>
            <a:ext cx="1865160" cy="190476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8" descr="ELECTRIC"/>
          <p:cNvPicPr/>
          <p:nvPr/>
        </p:nvPicPr>
        <p:blipFill>
          <a:blip r:embed="rId2"/>
          <a:stretch/>
        </p:blipFill>
        <p:spPr>
          <a:xfrm>
            <a:off x="7010280" y="0"/>
            <a:ext cx="2133720" cy="156204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ating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t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burners and hotplates cool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own before touching them. Tes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o see if they are cool enough by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ringing the back of your han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ose to th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s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tongs and/or protective glov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o handle hot objec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ver reach across an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open flam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r burn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Picture 4" descr="THERMAL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167148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ating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917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only type of glassware that may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afely be heated is either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Kimax or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Pyrex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ways point the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top ends of test tub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at are being heated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awa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from peop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en heating a test tube,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move i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round slowly over the flame to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stribute the heat even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Object 4" descr=""/>
          <p:cNvPicPr/>
          <p:nvPr/>
        </p:nvPicPr>
        <p:blipFill>
          <a:blip r:embed="rId1"/>
          <a:stretch/>
        </p:blipFill>
        <p:spPr>
          <a:xfrm>
            <a:off x="6400800" y="5029200"/>
            <a:ext cx="2286000" cy="156672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6" descr="THERMAL"/>
          <p:cNvPicPr/>
          <p:nvPr/>
        </p:nvPicPr>
        <p:blipFill>
          <a:blip r:embed="rId2"/>
          <a:stretch/>
        </p:blipFill>
        <p:spPr>
          <a:xfrm>
            <a:off x="6858000" y="0"/>
            <a:ext cx="2286000" cy="167148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ating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ly glassware that is thoroughly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dry should be heat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at glassware by placing it on a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re gauze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platform on a ring stan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not hold it in your han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Picture 4" descr="RINGSTAN"/>
          <p:cNvPicPr/>
          <p:nvPr/>
        </p:nvPicPr>
        <p:blipFill>
          <a:blip r:embed="rId1"/>
          <a:stretch/>
        </p:blipFill>
        <p:spPr>
          <a:xfrm>
            <a:off x="4038480" y="4419720"/>
            <a:ext cx="1509840" cy="2209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IRONRING"/>
          <p:cNvPicPr/>
          <p:nvPr/>
        </p:nvPicPr>
        <p:blipFill>
          <a:blip r:embed="rId2"/>
          <a:stretch/>
        </p:blipFill>
        <p:spPr>
          <a:xfrm>
            <a:off x="4267080" y="4724280"/>
            <a:ext cx="809640" cy="26064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8" descr="THERMAL"/>
          <p:cNvPicPr/>
          <p:nvPr/>
        </p:nvPicPr>
        <p:blipFill>
          <a:blip r:embed="rId3"/>
          <a:stretch/>
        </p:blipFill>
        <p:spPr>
          <a:xfrm>
            <a:off x="6858000" y="0"/>
            <a:ext cx="2286000" cy="167148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ating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99172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9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hen lighting a burn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wait until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riker is in place before you turn on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0.  Th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mount of air can be adjust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y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air supply valve below the tube of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burner.  This regulates the flam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emperature and col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1.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ver leave a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burner or hotplat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unattend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7" name="Picture 5" descr="BUNSENBU"/>
          <p:cNvPicPr/>
          <p:nvPr/>
        </p:nvPicPr>
        <p:blipFill>
          <a:blip r:embed="rId1"/>
          <a:stretch/>
        </p:blipFill>
        <p:spPr>
          <a:xfrm>
            <a:off x="7391520" y="4495680"/>
            <a:ext cx="1409760" cy="18288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FIRE"/>
          <p:cNvPicPr/>
          <p:nvPr/>
        </p:nvPicPr>
        <p:blipFill>
          <a:blip r:embed="rId2"/>
          <a:stretch/>
        </p:blipFill>
        <p:spPr>
          <a:xfrm>
            <a:off x="7086600" y="0"/>
            <a:ext cx="1905120" cy="139392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Bu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To Do: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mediately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flush with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old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wat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until burning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nsation is lessen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Object 4" descr=""/>
          <p:cNvPicPr/>
          <p:nvPr/>
        </p:nvPicPr>
        <p:blipFill>
          <a:blip r:embed="rId1"/>
          <a:stretch/>
        </p:blipFill>
        <p:spPr>
          <a:xfrm>
            <a:off x="1219320" y="3581280"/>
            <a:ext cx="1506240" cy="274320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uts, brui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To Do: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not touch an open woun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out safety gloves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Pressing directly on minor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uts will stop bleed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ew minutes.  Apply col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ress to bruises to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duce swell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4" descr="SHARPOBJ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393920"/>
          </a:xfrm>
          <a:prstGeom prst="rect">
            <a:avLst/>
          </a:prstGeom>
          <a:ln w="0">
            <a:noFill/>
          </a:ln>
        </p:spPr>
      </p:pic>
      <p:pic>
        <p:nvPicPr>
          <p:cNvPr id="199" name="Object 5" descr=""/>
          <p:cNvPicPr/>
          <p:nvPr/>
        </p:nvPicPr>
        <p:blipFill>
          <a:blip r:embed="rId2"/>
          <a:stretch/>
        </p:blipFill>
        <p:spPr>
          <a:xfrm>
            <a:off x="609480" y="3657600"/>
            <a:ext cx="1981440" cy="175752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eneral Safety Rul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Listen to or rea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struction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efully before attempting to do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yth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 Wear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afety goggl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o protect      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your eyes from chemicals, heate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terials, or things that might b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ble to shat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Notify your teach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f any spills o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ccidents occu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Object 5" descr=""/>
          <p:cNvPicPr/>
          <p:nvPr/>
        </p:nvPicPr>
        <p:blipFill>
          <a:blip r:embed="rId1"/>
          <a:stretch/>
        </p:blipFill>
        <p:spPr>
          <a:xfrm>
            <a:off x="5381640" y="5715000"/>
            <a:ext cx="1400040" cy="800280"/>
          </a:xfrm>
          <a:prstGeom prst="rect">
            <a:avLst/>
          </a:prstGeom>
          <a:ln w="0">
            <a:noFill/>
          </a:ln>
        </p:spPr>
      </p:pic>
      <p:pic>
        <p:nvPicPr>
          <p:cNvPr id="98" name="Object 6" descr=""/>
          <p:cNvPicPr/>
          <p:nvPr/>
        </p:nvPicPr>
        <p:blipFill>
          <a:blip r:embed="rId2"/>
          <a:stretch/>
        </p:blipFill>
        <p:spPr>
          <a:xfrm>
            <a:off x="7696080" y="533520"/>
            <a:ext cx="876600" cy="7668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irst Ai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in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Do: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res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ir and have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son recline so that thei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d i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w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an the rest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ir bod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7" descr=""/>
          <p:cNvPicPr/>
          <p:nvPr/>
        </p:nvPicPr>
        <p:blipFill>
          <a:blip r:embed="rId1"/>
          <a:stretch/>
        </p:blipFill>
        <p:spPr>
          <a:xfrm>
            <a:off x="5181480" y="4191120"/>
            <a:ext cx="1787760" cy="182880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Ey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To Do: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Flush ey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mmediately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ith plenty of water fo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everal minutes.  If 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oreign object is lodged in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eye, do not allow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ye to be rubb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Object 4" descr=""/>
          <p:cNvPicPr/>
          <p:nvPr/>
        </p:nvPicPr>
        <p:blipFill>
          <a:blip r:embed="rId1"/>
          <a:stretch/>
        </p:blipFill>
        <p:spPr>
          <a:xfrm>
            <a:off x="533520" y="3352680"/>
            <a:ext cx="2138400" cy="228600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7" descr="EYE"/>
          <p:cNvPicPr/>
          <p:nvPr/>
        </p:nvPicPr>
        <p:blipFill>
          <a:blip r:embed="rId2"/>
          <a:stretch/>
        </p:blipFill>
        <p:spPr>
          <a:xfrm>
            <a:off x="6934320" y="0"/>
            <a:ext cx="2209680" cy="161784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4582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Pois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To Do:  Find out what substanc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as responsible for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oisoning and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lert th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 teacher immediatel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Picture 4" descr="POISON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161604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pills on the sk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To Do: 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Flush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ith larg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quantities of water.  Fo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cid spill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apply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aking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oda solution.  For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bas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 spill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apply vinegar o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oric aci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0" name="Picture 4" descr="CHEMICAL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44936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Electrical sho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To Do: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hut of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he current a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ource.  Remove wir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ith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rubber glov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 Aler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eacher immediate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5" name="Picture 4" descr="ELECTRIC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393920"/>
          </a:xfrm>
          <a:prstGeom prst="rect">
            <a:avLst/>
          </a:prstGeom>
          <a:ln w="0">
            <a:noFill/>
          </a:ln>
        </p:spPr>
      </p:pic>
      <p:pic>
        <p:nvPicPr>
          <p:cNvPr id="226" name="Object 5" descr=""/>
          <p:cNvPicPr/>
          <p:nvPr/>
        </p:nvPicPr>
        <p:blipFill>
          <a:blip r:embed="rId2"/>
          <a:stretch/>
        </p:blipFill>
        <p:spPr>
          <a:xfrm>
            <a:off x="380880" y="3276720"/>
            <a:ext cx="1690920" cy="2743200"/>
          </a:xfrm>
          <a:prstGeom prst="rect">
            <a:avLst/>
          </a:prstGeom>
          <a:ln w="0">
            <a:noFill/>
          </a:ln>
        </p:spPr>
      </p:pic>
      <p:sp>
        <p:nvSpPr>
          <p:cNvPr id="227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eneral Safety Ru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3818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fter handling chemicals, alway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ash your han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ith soap an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uring lab work,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keep your hands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way from your fa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6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ie back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long hai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Object 4" descr=""/>
          <p:cNvPicPr/>
          <p:nvPr/>
        </p:nvPicPr>
        <p:blipFill>
          <a:blip r:embed="rId1"/>
          <a:stretch/>
        </p:blipFill>
        <p:spPr>
          <a:xfrm>
            <a:off x="7477200" y="2209680"/>
            <a:ext cx="1666800" cy="1235160"/>
          </a:xfrm>
          <a:prstGeom prst="rect">
            <a:avLst/>
          </a:prstGeom>
          <a:ln w="0">
            <a:noFill/>
          </a:ln>
        </p:spPr>
      </p:pic>
      <p:pic>
        <p:nvPicPr>
          <p:cNvPr id="103" name="Object 5" descr=""/>
          <p:cNvPicPr/>
          <p:nvPr/>
        </p:nvPicPr>
        <p:blipFill>
          <a:blip r:embed="rId2"/>
          <a:stretch/>
        </p:blipFill>
        <p:spPr>
          <a:xfrm>
            <a:off x="5715000" y="4495680"/>
            <a:ext cx="1652760" cy="167652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8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eneral Safety Ru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885680"/>
            <a:ext cx="876276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7.  Roll up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loose sleev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8.  Know th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locat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the fire extinguisher, fire blanket, eyewash station, and first aid k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9.  Keep your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ork area unclutter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Take to the lab station only what is necessa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Object 4" descr=""/>
          <p:cNvPicPr/>
          <p:nvPr/>
        </p:nvPicPr>
        <p:blipFill>
          <a:blip r:embed="rId1"/>
          <a:stretch/>
        </p:blipFill>
        <p:spPr>
          <a:xfrm>
            <a:off x="7315200" y="1676520"/>
            <a:ext cx="1523880" cy="1222200"/>
          </a:xfrm>
          <a:prstGeom prst="rect">
            <a:avLst/>
          </a:prstGeom>
          <a:ln w="0">
            <a:noFill/>
          </a:ln>
        </p:spPr>
      </p:pic>
      <p:pic>
        <p:nvPicPr>
          <p:cNvPr id="109" name="Object 5" descr=""/>
          <p:cNvPicPr/>
          <p:nvPr/>
        </p:nvPicPr>
        <p:blipFill>
          <a:blip r:embed="rId2"/>
          <a:stretch/>
        </p:blipFill>
        <p:spPr>
          <a:xfrm>
            <a:off x="3352680" y="5143680"/>
            <a:ext cx="2286000" cy="160164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9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eneral Safety Ru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0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suggested that you wear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glass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rather than contact len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1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ver put anything into your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 mouth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uring a lab experi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2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lean up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our lab area at th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clusion of the laboratory perio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3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Never “horse around”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r play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actical jokes in the laborato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Object 4" descr=""/>
          <p:cNvPicPr/>
          <p:nvPr/>
        </p:nvPicPr>
        <p:blipFill>
          <a:blip r:embed="rId1"/>
          <a:stretch/>
        </p:blipFill>
        <p:spPr>
          <a:xfrm>
            <a:off x="7391520" y="0"/>
            <a:ext cx="1371600" cy="1287360"/>
          </a:xfrm>
          <a:prstGeom prst="rect">
            <a:avLst/>
          </a:prstGeom>
          <a:ln w="0">
            <a:noFill/>
          </a:ln>
        </p:spPr>
      </p:pic>
      <p:pic>
        <p:nvPicPr>
          <p:cNvPr id="115" name="Object 6" descr=""/>
          <p:cNvPicPr/>
          <p:nvPr/>
        </p:nvPicPr>
        <p:blipFill>
          <a:blip r:embed="rId2"/>
          <a:stretch/>
        </p:blipFill>
        <p:spPr>
          <a:xfrm>
            <a:off x="7848720" y="4952880"/>
            <a:ext cx="987480" cy="175284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8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lassware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hipped or cracked glasswa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houl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t be used. Show it to the teach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Broken glasswa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hould not b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posed of in a classroom trashcan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is a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special glass disposa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ainer for 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pouring liquids into glasswa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ke sure the container you ar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uring into is resting on a table a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ast a hands breadth from the edg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5" descr="DISPOSAL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44936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lassware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. Pour down a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glass stirring ro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o prevent liquids from splatter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. If a piece of glassware gets broken, do not try to clean it up by yourself.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Notify the teach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. When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inserting glass tubing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into a rubber stopper, apply a lubricant like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glyceri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o the glass and use a twisting mo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6" descr="DISPOSAL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44936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lassware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5345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7.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o not plac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hot glasswar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 water.  Rapid cooling may make it shat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AutoShape 4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6" descr="DISPOSAL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449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2"/>
          <a:stretch/>
        </p:blipFill>
        <p:spPr>
          <a:xfrm>
            <a:off x="4876920" y="3048120"/>
            <a:ext cx="1712880" cy="22352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hem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78487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ar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protective goggl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nd a lab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pron whenever heating or pouring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azardous chemica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ever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mix chemical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ogether unless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are told to do so (and then only in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manner specified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Never tast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ny chemicals (you shoul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ever taste anything in the lab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Object 5" descr=""/>
          <p:cNvPicPr/>
          <p:nvPr/>
        </p:nvPicPr>
        <p:blipFill>
          <a:blip r:embed="rId1"/>
          <a:stretch/>
        </p:blipFill>
        <p:spPr>
          <a:xfrm>
            <a:off x="7696080" y="1752480"/>
            <a:ext cx="1266840" cy="1447920"/>
          </a:xfrm>
          <a:prstGeom prst="rect">
            <a:avLst/>
          </a:prstGeom>
          <a:ln w="0">
            <a:noFill/>
          </a:ln>
        </p:spPr>
      </p:pic>
      <p:pic>
        <p:nvPicPr>
          <p:cNvPr id="137" name="Object 6" descr=""/>
          <p:cNvPicPr/>
          <p:nvPr/>
        </p:nvPicPr>
        <p:blipFill>
          <a:blip r:embed="rId2"/>
          <a:stretch/>
        </p:blipFill>
        <p:spPr>
          <a:xfrm>
            <a:off x="6934320" y="4876920"/>
            <a:ext cx="941400" cy="121896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8" descr="CHEMICAL"/>
          <p:cNvPicPr/>
          <p:nvPr/>
        </p:nvPicPr>
        <p:blipFill>
          <a:blip r:embed="rId3"/>
          <a:stretch/>
        </p:blipFill>
        <p:spPr>
          <a:xfrm>
            <a:off x="6705720" y="0"/>
            <a:ext cx="2438280" cy="178452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7T06:14:36Z</dcterms:created>
  <dc:creator>Cheryl Massengale</dc:creator>
  <dc:description/>
  <dc:language>en-US</dc:language>
  <cp:lastModifiedBy>LEGION</cp:lastModifiedBy>
  <dcterms:modified xsi:type="dcterms:W3CDTF">2016-12-07T09:27:21Z</dcterms:modified>
  <cp:revision>73</cp:revision>
  <dc:subject/>
  <dc:title>Lab Safety</dc:title>
</cp:coreProperties>
</file>