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1678-F8B0-4D1B-8B65-591237D0E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899-F1F4-42B0-AE74-E0018058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FBD-C98B-4745-98D1-7E8B4CE3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BA6-6652-4435-A9B0-D2D9125B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3A6-B612-4754-8CB7-C869152F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3836-FA36-4C46-917D-C8C86F94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BB25-A891-4A01-9478-63986485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B627-A607-467B-97AB-3D0B6C28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B642-290A-43FB-BD52-80544682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B3FC-DECD-481F-A64C-CCFCB5BC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7E65-4A84-49A4-88DD-AFEADED6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5C12-4DB0-496B-8E16-4AAF6B7D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791-9B84-425B-960F-B39B2137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3C4E-EB6D-4BA0-A15B-E4758D0E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9A09-BEC2-4818-BCF6-EAC431DC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FABA-BAF9-4DE8-B3FA-E37FA2E8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84E8-0643-4409-9D72-DA132FFE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6996-9E85-4A50-B17F-44AAFD84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1C8-D038-48C6-882B-73B44784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8C9-62AD-4AFB-8434-438ED79B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0ED-8C3F-4202-9B78-4A53B284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7BF-16E2-446F-9493-F52BAF60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840-150F-4959-9FB3-91580805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86F-E620-4421-A865-128862BF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3A1-E49D-4438-8B1A-35CAF859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0BA0-3B11-437A-AEEC-EEAC78C2F0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F3BA-9AB6-4962-A63F-D8E952EDE7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LEGION</cp:lastModifiedBy>
  <dcterms:modified xsi:type="dcterms:W3CDTF">2016-12-07T09:27:21Z</dcterms:modified>
  <cp:revision>73</cp:revision>
  <dc:subject/>
  <dc:title>Lab Safety</dc:title>
</cp:coreProperties>
</file>