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71E3-6D02-4A3C-B002-710F9C28A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75C-9E0C-459E-9B73-7BBCEB31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7B5-99EB-49BF-9DD8-170F52A2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AC6-226D-4B05-AFD7-72DC1244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CAD-24AB-4A1D-9519-1D54A490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B2F7-E546-49E2-8CE9-1242B911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76CF-C1CC-4707-895B-33788599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78AE-D12B-4A36-BC4C-ECA8F95F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784C-C4B8-4BFF-AC9C-ED5AB1E1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7D7B-05F9-424E-8D66-FBC33CB5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F4DF-B5E6-47CD-8994-72EA5471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AC9C-E547-4D8F-B2BC-823B0AB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43D-3950-47D6-804E-98D6BAE7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4D02-2EB7-4112-8BFC-56EABAFA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71D3-8F2E-4B26-8BAF-FD47DCA9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D257-E90F-4780-8545-BBBCA2EE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465C-72F7-4710-9033-599DFE31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1009-BD44-4372-A932-7E62DBC0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002-A9A3-4ED6-B904-4E6FE0D9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DAD-C2DA-46E0-A78A-A96F93B0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C99-9CD9-44F8-9619-B6FA036B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EBA-3475-472A-A959-B8B2EF3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CFE-B6A1-42F2-BE4D-2CADC138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B27-C36B-4059-8027-881F5E91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2A2-AA3F-4D8C-9D39-C9728F54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D6EE-873B-4F48-A882-39F088B6922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50B8-9547-4457-831C-9CEA39B616D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Comic Sans MS"/>
              </a:rPr>
              <a:t>BIOENERGETICS</a:t>
            </a:r>
            <a:endParaRPr b="0" lang="en-US" sz="72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What is Metabolism?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um total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f 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hemical activitie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of all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39" name="Picture 5" descr="metabolism[1]"/>
          <p:cNvPicPr/>
          <p:nvPr/>
        </p:nvPicPr>
        <p:blipFill>
          <a:blip r:embed="rId1"/>
          <a:srcRect l="0" t="0" r="0" b="16150"/>
          <a:stretch/>
        </p:blipFill>
        <p:spPr>
          <a:xfrm>
            <a:off x="5105520" y="2133720"/>
            <a:ext cx="3352680" cy="3862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Two Types of Metabolism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An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Cat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43" name="Picture 6" descr="1b"/>
          <p:cNvPicPr/>
          <p:nvPr/>
        </p:nvPicPr>
        <p:blipFill>
          <a:blip r:embed="rId1"/>
          <a:stretch/>
        </p:blipFill>
        <p:spPr>
          <a:xfrm>
            <a:off x="4267080" y="1752480"/>
            <a:ext cx="4343400" cy="45277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00"/>
                </a:solidFill>
                <a:latin typeface="Comic Sans MS"/>
              </a:rPr>
              <a:t>Anabolic Pathwa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nsum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)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uild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complicated molecules from simpler compound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 6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  </a:t>
            </a:r>
            <a:r>
              <a:rPr b="0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  C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495680" y="3581280"/>
            <a:ext cx="3835080" cy="2719800"/>
            <a:chOff x="4495680" y="3581280"/>
            <a:chExt cx="3835080" cy="2719800"/>
          </a:xfrm>
        </p:grpSpPr>
        <p:sp>
          <p:nvSpPr>
            <p:cNvPr id="148" name="Oval 5"/>
            <p:cNvSpPr/>
            <p:nvPr/>
          </p:nvSpPr>
          <p:spPr>
            <a:xfrm>
              <a:off x="5964120" y="358128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6173280" y="394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4495680" y="4398840"/>
              <a:ext cx="1297080" cy="89676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314120" y="3713040"/>
              <a:ext cx="1016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800240" y="584640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53" name="Місце для нижнього колонтитула 5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Comic Sans MS"/>
              </a:rPr>
              <a:t>Catabolic Pathwa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releas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reaking down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omplex molecules in simpler compound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+ 6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1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+  6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 +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457200" y="4343400"/>
            <a:ext cx="7886160" cy="1749960"/>
            <a:chOff x="457200" y="4343400"/>
            <a:chExt cx="7886160" cy="1749960"/>
          </a:xfrm>
        </p:grpSpPr>
        <p:sp>
          <p:nvSpPr>
            <p:cNvPr id="157" name="Oval 5"/>
            <p:cNvSpPr/>
            <p:nvPr/>
          </p:nvSpPr>
          <p:spPr>
            <a:xfrm>
              <a:off x="7162920" y="4876920"/>
              <a:ext cx="113004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57200" y="5638680"/>
              <a:ext cx="1612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7163640" y="4343400"/>
              <a:ext cx="1179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60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Cellular Energy - ATP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162" name="Picture 7" descr="ATP[1]"/>
          <p:cNvPicPr/>
          <p:nvPr/>
        </p:nvPicPr>
        <p:blipFill>
          <a:blip r:embed="rId1"/>
          <a:stretch/>
        </p:blipFill>
        <p:spPr>
          <a:xfrm>
            <a:off x="2666880" y="3048120"/>
            <a:ext cx="4492800" cy="30178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mponents: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1. adenine: nitrogenous base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2. ribose: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 five carbon sugar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e8bc00"/>
                </a:solidFill>
                <a:latin typeface="Comic Sans MS"/>
              </a:rPr>
              <a:t>3.phosphate group:  chain of 3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2973240" y="5093280"/>
            <a:ext cx="2387520" cy="1045080"/>
            <a:chOff x="2973240" y="5093280"/>
            <a:chExt cx="2387520" cy="1045080"/>
          </a:xfrm>
        </p:grpSpPr>
        <p:sp>
          <p:nvSpPr>
            <p:cNvPr id="167" name="AutoShape 5"/>
            <p:cNvSpPr/>
            <p:nvPr/>
          </p:nvSpPr>
          <p:spPr>
            <a:xfrm rot="79800">
              <a:off x="4282560" y="5105520"/>
              <a:ext cx="1066680" cy="99072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3825720" y="5105520"/>
              <a:ext cx="457200" cy="3808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2973240" y="5678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c0081"/>
                  </a:solidFill>
                  <a:latin typeface="Arial"/>
                </a:rPr>
                <a:t>ribos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03440" y="3755160"/>
            <a:ext cx="3508200" cy="1589040"/>
            <a:chOff x="703440" y="3755160"/>
            <a:chExt cx="3508200" cy="1589040"/>
          </a:xfrm>
        </p:grpSpPr>
        <p:sp>
          <p:nvSpPr>
            <p:cNvPr id="171" name="Text Box 9"/>
            <p:cNvSpPr/>
            <p:nvPr/>
          </p:nvSpPr>
          <p:spPr>
            <a:xfrm>
              <a:off x="703440" y="434340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adenin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2" name="AutoShape 10"/>
            <p:cNvSpPr/>
            <p:nvPr/>
          </p:nvSpPr>
          <p:spPr>
            <a:xfrm rot="5435400">
              <a:off x="3177360" y="4076640"/>
              <a:ext cx="1066680" cy="990360"/>
            </a:xfrm>
            <a:prstGeom prst="pentagon">
              <a:avLst/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 rot="19921200">
              <a:off x="2077920" y="3978000"/>
              <a:ext cx="1235160" cy="1143000"/>
            </a:xfrm>
            <a:prstGeom prst="hexagon">
              <a:avLst>
                <a:gd name="adj" fmla="val 27016"/>
                <a:gd name="vf" fmla="val 115470"/>
              </a:avLst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5349960" y="4343400"/>
            <a:ext cx="2745360" cy="1447920"/>
            <a:chOff x="5349960" y="4343400"/>
            <a:chExt cx="2745360" cy="1447920"/>
          </a:xfrm>
        </p:grpSpPr>
        <p:sp>
          <p:nvSpPr>
            <p:cNvPr id="175" name="Line 13"/>
            <p:cNvSpPr/>
            <p:nvPr/>
          </p:nvSpPr>
          <p:spPr>
            <a:xfrm>
              <a:off x="5349960" y="5562720"/>
              <a:ext cx="381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5731200" y="5257800"/>
              <a:ext cx="53316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649296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8" name="Oval 16"/>
            <p:cNvSpPr/>
            <p:nvPr/>
          </p:nvSpPr>
          <p:spPr>
            <a:xfrm>
              <a:off x="725508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6256440" y="5419800"/>
              <a:ext cx="230400" cy="12240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7026480" y="5410440"/>
              <a:ext cx="230040" cy="1220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580896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657108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733320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5427360" y="4343400"/>
              <a:ext cx="26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phosphate grou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5" name="AutoShape 23"/>
            <p:cNvSpPr/>
            <p:nvPr/>
          </p:nvSpPr>
          <p:spPr>
            <a:xfrm rot="5353800">
              <a:off x="6568920" y="4038840"/>
              <a:ext cx="304920" cy="1981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86" name="Місце для нижнього колонтитула 8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Comic Sans MS"/>
              </a:rPr>
              <a:t>Adenosine Triphosphate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339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re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ate groups-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two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with high energy bond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ast phosphate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group (PO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) contains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OST energy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89" name="Picture 6" descr="Copy of atp[1]"/>
          <p:cNvPicPr/>
          <p:nvPr/>
        </p:nvPicPr>
        <p:blipFill>
          <a:blip r:embed="rId1"/>
          <a:stretch/>
        </p:blipFill>
        <p:spPr>
          <a:xfrm>
            <a:off x="4724280" y="2057400"/>
            <a:ext cx="4038840" cy="4267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reaking the Bonds of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cess is called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orylation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ccurs continually in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ATP-ase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can weaken &amp; break 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last PO</a:t>
            </a:r>
            <a:r>
              <a:rPr b="1" lang="en-US" sz="3200" spc="-1" strike="noStrike" baseline="-25000">
                <a:solidFill>
                  <a:srgbClr val="2a3d7a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 bond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releasing energy &amp; free P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93" name="Picture 10" descr="C7_atp_2[1]"/>
          <p:cNvPicPr/>
          <p:nvPr/>
        </p:nvPicPr>
        <p:blipFill>
          <a:blip r:embed="rId1"/>
          <a:stretch/>
        </p:blipFill>
        <p:spPr>
          <a:xfrm>
            <a:off x="4876920" y="1828800"/>
            <a:ext cx="396216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ow does ATP work ?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Organisms use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zymes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break down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ergy-rich glucose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release its potential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This energy is trapped and stored in the form of </a:t>
            </a: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denosine triphosphate(ATP)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Comic Sans MS"/>
              </a:rPr>
              <a:t>How Much ATP Do Cells Use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t is estimated that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each cell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 will generate and consume approximate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0,000,000 molecules of ATP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er second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200" name="Picture 6" descr="Copy (2) of atp[1]"/>
          <p:cNvPicPr/>
          <p:nvPr/>
        </p:nvPicPr>
        <p:blipFill>
          <a:blip r:embed="rId1"/>
          <a:stretch/>
        </p:blipFill>
        <p:spPr>
          <a:xfrm>
            <a:off x="5191200" y="1905120"/>
            <a:ext cx="3416400" cy="44193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3d7a"/>
                </a:solidFill>
                <a:latin typeface="Comic Sans MS"/>
              </a:rPr>
              <a:t>What is Bioenergetics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study of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living syste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(environments) and 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rganis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(plants and animals) that utilize them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2" name="Picture 9" descr="061219_stevefrancis_vmed_1130a"/>
          <p:cNvPicPr/>
          <p:nvPr/>
        </p:nvPicPr>
        <p:blipFill>
          <a:blip r:embed="rId1"/>
          <a:stretch/>
        </p:blipFill>
        <p:spPr>
          <a:xfrm>
            <a:off x="5611680" y="2101680"/>
            <a:ext cx="264348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Comic Sans MS"/>
              </a:rPr>
              <a:t>Coupled Reaction - 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xergonic hydrolysi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f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s coupled with 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ndergonic dehydration proces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by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ransferring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o another molecule.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5334120" y="1905120"/>
            <a:ext cx="2514600" cy="2438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5" name="Oval 22"/>
          <p:cNvSpPr/>
          <p:nvPr/>
        </p:nvSpPr>
        <p:spPr>
          <a:xfrm>
            <a:off x="6172200" y="5181480"/>
            <a:ext cx="1600200" cy="1371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6" name="WordArt 25"/>
          <p:cNvSpPr txBox="1"/>
          <p:nvPr/>
        </p:nvSpPr>
        <p:spPr>
          <a:xfrm>
            <a:off x="5943600" y="2895480"/>
            <a:ext cx="1047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TP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WordArt 27"/>
          <p:cNvSpPr txBox="1"/>
          <p:nvPr/>
        </p:nvSpPr>
        <p:spPr>
          <a:xfrm>
            <a:off x="6324480" y="5638680"/>
            <a:ext cx="1352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P + 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4076640" y="382428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9" name="Line 29"/>
          <p:cNvSpPr/>
          <p:nvPr/>
        </p:nvSpPr>
        <p:spPr>
          <a:xfrm flipV="1">
            <a:off x="4572000" y="3352680"/>
            <a:ext cx="838080" cy="4572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4572000" y="594360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1" name="Line 32"/>
          <p:cNvSpPr/>
          <p:nvPr/>
        </p:nvSpPr>
        <p:spPr>
          <a:xfrm flipH="1">
            <a:off x="5486400" y="6248520"/>
            <a:ext cx="914400" cy="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Hydrolysis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+ 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AD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P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324480" y="3429000"/>
            <a:ext cx="2036880" cy="2133360"/>
            <a:chOff x="6324480" y="3429000"/>
            <a:chExt cx="2036880" cy="2133360"/>
          </a:xfrm>
        </p:grpSpPr>
        <p:sp>
          <p:nvSpPr>
            <p:cNvPr id="216" name="Line 5"/>
            <p:cNvSpPr/>
            <p:nvPr/>
          </p:nvSpPr>
          <p:spPr>
            <a:xfrm>
              <a:off x="6324480" y="3429000"/>
              <a:ext cx="0" cy="213336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17" name="Text Box 6"/>
            <p:cNvSpPr/>
            <p:nvPr/>
          </p:nvSpPr>
          <p:spPr>
            <a:xfrm>
              <a:off x="6553080" y="3913920"/>
              <a:ext cx="180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Hydrolysi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add water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1078560" y="1899000"/>
            <a:ext cx="7147080" cy="1999080"/>
            <a:chOff x="1078560" y="1899000"/>
            <a:chExt cx="7147080" cy="1999080"/>
          </a:xfrm>
        </p:grpSpPr>
        <p:sp>
          <p:nvSpPr>
            <p:cNvPr id="219" name="AutoShape 8"/>
            <p:cNvSpPr/>
            <p:nvPr/>
          </p:nvSpPr>
          <p:spPr>
            <a:xfrm rot="967200">
              <a:off x="2494440" y="2133720"/>
              <a:ext cx="1031760" cy="83988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0" name="AutoShape 9"/>
            <p:cNvSpPr/>
            <p:nvPr/>
          </p:nvSpPr>
          <p:spPr>
            <a:xfrm rot="79800">
              <a:off x="3600000" y="3046320"/>
              <a:ext cx="1033920" cy="8398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3157560" y="3046320"/>
              <a:ext cx="442440" cy="3229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4634280" y="3433680"/>
              <a:ext cx="3686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>
              <a:off x="500328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574164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648000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5512320" y="331200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6257880" y="330516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8" name="Text Box 17"/>
            <p:cNvSpPr/>
            <p:nvPr/>
          </p:nvSpPr>
          <p:spPr>
            <a:xfrm>
              <a:off x="507816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58132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5548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1" name="Text Box 20"/>
            <p:cNvSpPr/>
            <p:nvPr/>
          </p:nvSpPr>
          <p:spPr>
            <a:xfrm>
              <a:off x="3660480" y="249876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2" name="AutoShape 21"/>
            <p:cNvSpPr/>
            <p:nvPr/>
          </p:nvSpPr>
          <p:spPr>
            <a:xfrm rot="19677600">
              <a:off x="1218960" y="2205720"/>
              <a:ext cx="1427400" cy="940320"/>
            </a:xfrm>
            <a:prstGeom prst="hexagon">
              <a:avLst>
                <a:gd name="adj" fmla="val 37950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33" name="Group 22"/>
          <p:cNvGrpSpPr/>
          <p:nvPr/>
        </p:nvGrpSpPr>
        <p:grpSpPr>
          <a:xfrm>
            <a:off x="974160" y="4157640"/>
            <a:ext cx="7977240" cy="2349000"/>
            <a:chOff x="974160" y="4157640"/>
            <a:chExt cx="7977240" cy="2349000"/>
          </a:xfrm>
        </p:grpSpPr>
        <p:sp>
          <p:nvSpPr>
            <p:cNvPr id="234" name="AutoShape 23"/>
            <p:cNvSpPr/>
            <p:nvPr/>
          </p:nvSpPr>
          <p:spPr>
            <a:xfrm rot="967200">
              <a:off x="2278440" y="4414320"/>
              <a:ext cx="990360" cy="9018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5" name="AutoShape 24"/>
            <p:cNvSpPr/>
            <p:nvPr/>
          </p:nvSpPr>
          <p:spPr>
            <a:xfrm rot="79800">
              <a:off x="3338640" y="5395680"/>
              <a:ext cx="990360" cy="9018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6" name="Line 25"/>
            <p:cNvSpPr/>
            <p:nvPr/>
          </p:nvSpPr>
          <p:spPr>
            <a:xfrm>
              <a:off x="2915640" y="5396040"/>
              <a:ext cx="423000" cy="3463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>
              <a:off x="4329360" y="5812560"/>
              <a:ext cx="354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8" name="Oval 27"/>
            <p:cNvSpPr/>
            <p:nvPr/>
          </p:nvSpPr>
          <p:spPr>
            <a:xfrm>
              <a:off x="468396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9" name="Oval 28"/>
            <p:cNvSpPr/>
            <p:nvPr/>
          </p:nvSpPr>
          <p:spPr>
            <a:xfrm>
              <a:off x="539028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0" name="Oval 29"/>
            <p:cNvSpPr/>
            <p:nvPr/>
          </p:nvSpPr>
          <p:spPr>
            <a:xfrm>
              <a:off x="6875640" y="5525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1" name="Freeform 30"/>
            <p:cNvSpPr/>
            <p:nvPr/>
          </p:nvSpPr>
          <p:spPr>
            <a:xfrm>
              <a:off x="5171400" y="5681160"/>
              <a:ext cx="213840" cy="1119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475452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3" name="Rectangle 32"/>
            <p:cNvSpPr/>
            <p:nvPr/>
          </p:nvSpPr>
          <p:spPr>
            <a:xfrm>
              <a:off x="546048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4" name="Rectangle 33"/>
            <p:cNvSpPr/>
            <p:nvPr/>
          </p:nvSpPr>
          <p:spPr>
            <a:xfrm>
              <a:off x="6949440" y="5525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6153840" y="549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6" name="Text Box 35"/>
            <p:cNvSpPr/>
            <p:nvPr/>
          </p:nvSpPr>
          <p:spPr>
            <a:xfrm>
              <a:off x="4387680" y="604692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7" name="AutoShape 36"/>
            <p:cNvSpPr/>
            <p:nvPr/>
          </p:nvSpPr>
          <p:spPr>
            <a:xfrm rot="19677600">
              <a:off x="1143000" y="4419360"/>
              <a:ext cx="1274400" cy="1003320"/>
            </a:xfrm>
            <a:prstGeom prst="hexagon">
              <a:avLst>
                <a:gd name="adj" fmla="val 31755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48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Hyrolysis is Ex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50" name="Picture 4" descr="atp"/>
          <p:cNvPicPr/>
          <p:nvPr/>
        </p:nvPicPr>
        <p:blipFill>
          <a:blip r:embed="rId1"/>
          <a:stretch/>
        </p:blipFill>
        <p:spPr>
          <a:xfrm>
            <a:off x="1066680" y="1523880"/>
            <a:ext cx="4800600" cy="50673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5"/>
          <p:cNvSpPr/>
          <p:nvPr/>
        </p:nvSpPr>
        <p:spPr>
          <a:xfrm>
            <a:off x="5943600" y="3886200"/>
            <a:ext cx="1295280" cy="914400"/>
          </a:xfrm>
          <a:prstGeom prst="rightArrow">
            <a:avLst>
              <a:gd name="adj1" fmla="val 50000"/>
              <a:gd name="adj2" fmla="val 35413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315200" y="3124080"/>
            <a:ext cx="16002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Dehydration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DP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 P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836280" y="4398120"/>
            <a:ext cx="7343280" cy="2167560"/>
            <a:chOff x="836280" y="4398120"/>
            <a:chExt cx="7343280" cy="2167560"/>
          </a:xfrm>
        </p:grpSpPr>
        <p:sp>
          <p:nvSpPr>
            <p:cNvPr id="257" name="AutoShape 8"/>
            <p:cNvSpPr/>
            <p:nvPr/>
          </p:nvSpPr>
          <p:spPr>
            <a:xfrm rot="967200">
              <a:off x="2360520" y="4648320"/>
              <a:ext cx="1108440" cy="9126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8" name="AutoShape 9"/>
            <p:cNvSpPr/>
            <p:nvPr/>
          </p:nvSpPr>
          <p:spPr>
            <a:xfrm rot="79800">
              <a:off x="3548880" y="5640120"/>
              <a:ext cx="1110600" cy="9126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>
              <a:off x="3072960" y="5640120"/>
              <a:ext cx="475560" cy="3510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4659480" y="6061320"/>
              <a:ext cx="39636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505584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584892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64236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4" name="Freeform 15"/>
            <p:cNvSpPr/>
            <p:nvPr/>
          </p:nvSpPr>
          <p:spPr>
            <a:xfrm>
              <a:off x="5602680" y="592920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5" name="Freeform 16"/>
            <p:cNvSpPr/>
            <p:nvPr/>
          </p:nvSpPr>
          <p:spPr>
            <a:xfrm>
              <a:off x="6403680" y="592164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513648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592632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672300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614400" y="504540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0" name="AutoShape 21"/>
            <p:cNvSpPr/>
            <p:nvPr/>
          </p:nvSpPr>
          <p:spPr>
            <a:xfrm rot="19677600">
              <a:off x="990360" y="4726800"/>
              <a:ext cx="1533240" cy="1022040"/>
            </a:xfrm>
            <a:prstGeom prst="hexagon">
              <a:avLst>
                <a:gd name="adj" fmla="val 37504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71" name="Group 22"/>
          <p:cNvGrpSpPr/>
          <p:nvPr/>
        </p:nvGrpSpPr>
        <p:grpSpPr>
          <a:xfrm>
            <a:off x="581400" y="1939680"/>
            <a:ext cx="8165160" cy="2464920"/>
            <a:chOff x="581400" y="1939680"/>
            <a:chExt cx="8165160" cy="2464920"/>
          </a:xfrm>
        </p:grpSpPr>
        <p:sp>
          <p:nvSpPr>
            <p:cNvPr id="272" name="AutoShape 23"/>
            <p:cNvSpPr/>
            <p:nvPr/>
          </p:nvSpPr>
          <p:spPr>
            <a:xfrm rot="967200">
              <a:off x="1959480" y="2209680"/>
              <a:ext cx="1044000" cy="95904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3" name="AutoShape 24"/>
            <p:cNvSpPr/>
            <p:nvPr/>
          </p:nvSpPr>
          <p:spPr>
            <a:xfrm rot="79800">
              <a:off x="3077280" y="3252960"/>
              <a:ext cx="1044000" cy="9586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631240" y="3252960"/>
              <a:ext cx="446040" cy="3682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4122000" y="3695760"/>
              <a:ext cx="37368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6" name="Oval 27"/>
            <p:cNvSpPr/>
            <p:nvPr/>
          </p:nvSpPr>
          <p:spPr>
            <a:xfrm>
              <a:off x="449568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7" name="Oval 28"/>
            <p:cNvSpPr/>
            <p:nvPr/>
          </p:nvSpPr>
          <p:spPr>
            <a:xfrm>
              <a:off x="524016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>
              <a:off x="6806520" y="339084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9" name="Freeform 30"/>
            <p:cNvSpPr/>
            <p:nvPr/>
          </p:nvSpPr>
          <p:spPr>
            <a:xfrm>
              <a:off x="5009760" y="3556080"/>
              <a:ext cx="225360" cy="119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0" name="Text Box 31"/>
            <p:cNvSpPr/>
            <p:nvPr/>
          </p:nvSpPr>
          <p:spPr>
            <a:xfrm>
              <a:off x="456984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1" name="Rectangle 32"/>
            <p:cNvSpPr/>
            <p:nvPr/>
          </p:nvSpPr>
          <p:spPr>
            <a:xfrm>
              <a:off x="531396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2" name="Rectangle 33"/>
            <p:cNvSpPr/>
            <p:nvPr/>
          </p:nvSpPr>
          <p:spPr>
            <a:xfrm>
              <a:off x="6883920" y="3390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3" name="Text Box 34"/>
            <p:cNvSpPr/>
            <p:nvPr/>
          </p:nvSpPr>
          <p:spPr>
            <a:xfrm>
              <a:off x="6047280" y="3354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4" name="Text Box 35"/>
            <p:cNvSpPr/>
            <p:nvPr/>
          </p:nvSpPr>
          <p:spPr>
            <a:xfrm>
              <a:off x="4182840" y="394488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5" name="AutoShape 36"/>
            <p:cNvSpPr/>
            <p:nvPr/>
          </p:nvSpPr>
          <p:spPr>
            <a:xfrm rot="19677600">
              <a:off x="761760" y="2214360"/>
              <a:ext cx="1343520" cy="1066680"/>
            </a:xfrm>
            <a:prstGeom prst="hexagon">
              <a:avLst>
                <a:gd name="adj" fmla="val 31488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86" name="Text Box 39"/>
          <p:cNvSpPr/>
          <p:nvPr/>
        </p:nvSpPr>
        <p:spPr>
          <a:xfrm>
            <a:off x="5943600" y="1905120"/>
            <a:ext cx="266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(Remove 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7" name="Line 40"/>
          <p:cNvSpPr/>
          <p:nvPr/>
        </p:nvSpPr>
        <p:spPr>
          <a:xfrm flipH="1">
            <a:off x="6324120" y="2743200"/>
            <a:ext cx="304920" cy="76212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8" name="Line 41"/>
          <p:cNvSpPr/>
          <p:nvPr/>
        </p:nvSpPr>
        <p:spPr>
          <a:xfrm>
            <a:off x="6324480" y="4419720"/>
            <a:ext cx="0" cy="6858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Dehydration is End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1" name="Picture 4" descr="adp[1]"/>
          <p:cNvPicPr/>
          <p:nvPr/>
        </p:nvPicPr>
        <p:blipFill>
          <a:blip r:embed="rId1"/>
          <a:stretch/>
        </p:blipFill>
        <p:spPr>
          <a:xfrm>
            <a:off x="838080" y="2057400"/>
            <a:ext cx="5257800" cy="45482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5"/>
          <p:cNvSpPr/>
          <p:nvPr/>
        </p:nvSpPr>
        <p:spPr>
          <a:xfrm>
            <a:off x="6172200" y="3581280"/>
            <a:ext cx="990720" cy="9144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7162920" y="2514600"/>
            <a:ext cx="16761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2a3d7a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ow many high energy phosphate bonds does ATP have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8" name="Picture 3" descr="atp[1]"/>
          <p:cNvPicPr/>
          <p:nvPr/>
        </p:nvPicPr>
        <p:blipFill>
          <a:blip r:embed="rId1"/>
          <a:stretch/>
        </p:blipFill>
        <p:spPr>
          <a:xfrm>
            <a:off x="1523880" y="1981080"/>
            <a:ext cx="6400800" cy="449748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a3d7a"/>
                </a:solidFill>
                <a:latin typeface="Comic Sans MS"/>
              </a:rPr>
              <a:t>Which is true of photosyntheis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85800" y="2895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895480" y="28954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85800" y="4343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5334120" y="426708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a3d7a"/>
                </a:solidFill>
                <a:latin typeface="Comic Sans MS"/>
              </a:rPr>
              <a:t>The breakdown of ATP is due to: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33520" y="2963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533520" y="464832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add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removed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5105520" y="297180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2743200" y="4572000"/>
            <a:ext cx="76212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omic Sans MS"/>
              </a:rPr>
              <a:t>Which Reactions are often Coupled in Organisms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762120" y="2666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5800" y="3886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62120" y="5257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6" name="AutoShape 12"/>
          <p:cNvSpPr/>
          <p:nvPr/>
        </p:nvSpPr>
        <p:spPr>
          <a:xfrm>
            <a:off x="3429000" y="20574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3429000" y="34290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3657600" y="487692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quired by all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organism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Kinetic or Potenti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6" name="Picture 9" descr="e1fd5aab-a2c1-4c50-a04e-ff1f8f0eab10-big"/>
          <p:cNvPicPr/>
          <p:nvPr/>
        </p:nvPicPr>
        <p:blipFill>
          <a:blip r:embed="rId1"/>
          <a:stretch/>
        </p:blipFill>
        <p:spPr>
          <a:xfrm>
            <a:off x="5029200" y="2867040"/>
            <a:ext cx="3809880" cy="2584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Ready for the test? If not, review and try again!!!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Kinetic Energ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Energy of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Mo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Hea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ligh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energy are example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0" name="Picture 6" descr="energy10b[1]"/>
          <p:cNvPicPr/>
          <p:nvPr/>
        </p:nvPicPr>
        <p:blipFill>
          <a:blip r:embed="rId1"/>
          <a:stretch/>
        </p:blipFill>
        <p:spPr>
          <a:xfrm>
            <a:off x="4952880" y="2101680"/>
            <a:ext cx="35956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Potential 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of posi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Includes energy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stored in chemical bond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4" name="Picture 6" descr="model7[1]"/>
          <p:cNvPicPr/>
          <p:nvPr/>
        </p:nvPicPr>
        <p:blipFill>
          <a:blip r:embed="rId1"/>
          <a:stretch/>
        </p:blipFill>
        <p:spPr>
          <a:xfrm>
            <a:off x="4495680" y="2517840"/>
            <a:ext cx="4343400" cy="37400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Two Types of Energy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Endergonic Reactions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Chemical reaction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requires a net input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of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  6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3961800" y="3886200"/>
            <a:ext cx="4781520" cy="2581560"/>
            <a:chOff x="3961800" y="3886200"/>
            <a:chExt cx="4781520" cy="2581560"/>
          </a:xfrm>
        </p:grpSpPr>
        <p:sp>
          <p:nvSpPr>
            <p:cNvPr id="121" name="Oval 5"/>
            <p:cNvSpPr/>
            <p:nvPr/>
          </p:nvSpPr>
          <p:spPr>
            <a:xfrm>
              <a:off x="6178680" y="388620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6387840" y="42462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4724640" y="4565520"/>
              <a:ext cx="1296720" cy="89640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961800" y="46414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photon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7530120" y="4017600"/>
              <a:ext cx="1213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Light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333760" y="601308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27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Exergonic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Chemical reactions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releases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  </a:t>
            </a:r>
            <a:r>
              <a:rPr b="1" lang="en-US" sz="32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+ 6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+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375920" y="3962520"/>
            <a:ext cx="7767000" cy="1826280"/>
            <a:chOff x="1375920" y="3962520"/>
            <a:chExt cx="7767000" cy="1826280"/>
          </a:xfrm>
        </p:grpSpPr>
        <p:sp>
          <p:nvSpPr>
            <p:cNvPr id="131" name="Oval 5"/>
            <p:cNvSpPr/>
            <p:nvPr/>
          </p:nvSpPr>
          <p:spPr>
            <a:xfrm>
              <a:off x="7949880" y="4516560"/>
              <a:ext cx="113040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1375920" y="533412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7929720" y="396252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34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Metabolic Reactions of Cell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5:47:44Z</dcterms:created>
  <dc:creator>Cheryl Massengale</dc:creator>
  <dc:description/>
  <dc:language>en-US</dc:language>
  <cp:lastModifiedBy>LEGION</cp:lastModifiedBy>
  <dcterms:modified xsi:type="dcterms:W3CDTF">2016-12-07T09:22:59Z</dcterms:modified>
  <cp:revision>14</cp:revision>
  <dc:subject/>
  <dc:title>BIOENERGETICS</dc:title>
</cp:coreProperties>
</file>