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7447-44BC-4C63-A875-23ED65B1CF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6DE-0DBC-494B-87F8-811BC6A9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BAE-49E6-4F4E-AF02-73A5EA4B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2A2-6FD6-43AE-995A-C45CBE57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A29-3667-45C0-B381-96F5A213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825-6223-4F8E-A78B-8F1AA163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2DF-33B9-4BD9-99F9-1A9BA8D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F7A-0D85-4BD6-898C-3D452E46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B74-2901-4337-B1B3-610918C6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284-B713-42E3-ACAC-DD13213F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30F-9737-477F-B084-4A09670E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C8D-8564-4645-AA5A-D8578E50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C48-2860-4CE4-8955-E338B887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8AF9-FBF9-4061-9FA7-F27455636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2T05:50:50Z</dcterms:modified>
  <cp:revision>6</cp:revision>
  <dc:subject/>
  <dc:title>Group 14, the Carbon Group</dc:title>
</cp:coreProperties>
</file>