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E626-D6FA-41ED-A14A-9FB551FBF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4C7-23B5-4BA5-9B5F-AFB052C4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92DC-E07F-43ED-BEBC-ACEE4115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E16BE-FC7F-4AA8-8EA0-1B90666D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A5EF3-460C-44C0-B6B5-F8ED4405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BED22-039F-4A06-ADDC-38F8D635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F3CEF-A641-47B2-9FEB-2DB90CBD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95325-31A7-4069-B41D-17F0CEB3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D8760-87F5-495B-96CC-F3410AB6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08D61-EE66-4794-A7A7-F281659F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439ED-4523-4F95-B683-3C5BBD14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B3107-006E-42D2-98FC-F4C61724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EC768-FE0E-41DF-AA7C-CDFAA19E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B40-E410-44C9-9C8F-D14393DF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439AB-0498-409F-964B-C960E87D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FDC02-AA9D-4E54-A951-A5028A40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B6421-923C-4ADD-8CCB-0FE12391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7793C-B5B3-4BCE-AFCE-1176A075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850F4-B3E4-4746-8848-45519023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4EB07-5076-45CF-9B93-F0E17278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12E81-D730-41C8-9BBD-293C3970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56FA7-053B-4434-9CAC-20DD53FE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67146-D2E2-42E5-8E83-1EEA8E55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00269-E228-4F85-92E8-F2C81EBB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59E-EEAF-40F4-8C39-2D757FD6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240FB-7F28-4C5D-98A3-DD519809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4C436-04D0-4192-833B-DA12660D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2880B-7974-428E-A42C-F65D6234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49721-D049-4918-97B0-1474254F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F1CD7-0A1C-4E0E-BF0B-D1678278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1D110-71B2-4C78-A92D-0649CA72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4340A-B79D-4A03-9968-18F1AC34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E222E-08C7-4EC2-8B93-822E673F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8D8AE-E891-4DF8-89F4-A4A01903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CD176-3E95-408C-9465-4F67D95D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1081-B184-498E-B4EA-C9FEC725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38FD0-A9F5-474C-83E7-7BEC4D91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7F32A-0D14-42E8-98C8-D8E077BF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1D73A-9CFA-43D3-8E11-F2D0F49D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CB669-98CE-4DB5-836A-DA761431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6A249-08F8-4A87-A4E8-723CF1AF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D87D6-4A44-47A8-8D39-C4D51366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A966E-199A-4376-B079-C02D5528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C76F2-68E5-4850-8225-A57A6788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79845-438F-48A2-B76E-C8EBC1A9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02EC3-BE66-47BD-B72A-C0587428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DA21-8B00-4448-9916-9757CF7F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1CFFA-ABF8-4A09-B21E-C4A8D6C5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BBD47-8C0D-4F32-8570-550F6739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1B7AF-79ED-4398-AE67-0182DB77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89A59-A93D-4128-8AC9-14116E6E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7E8B1-CB3A-493A-A7A3-12072789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7CBB2-A490-47E2-93DB-C3C10465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42148-5E0D-4DFB-AF8D-F7EAC04A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6DBD6C-AEEB-42EF-928D-26311F13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FCFEA-6908-4AE3-AD38-8D125931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53C948-8BDA-412D-9F3F-00633841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B188-FB00-4788-AFFE-729CC84E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A8D02-3C2A-43FC-96B4-DED112A9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AAD10-889C-438C-B1F9-D791F0C9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BAC9D-EA65-4F51-BE98-7D76EE01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A617B-132F-4387-8AD5-3EE6BF99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3F0665-C2EF-48AF-88E6-E4BB0C8C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7C9F0A-6A18-4774-B2AA-252C63C1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AEE132-5964-48B8-9A29-B1673B09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2F55-CB22-436C-8567-7843E8A6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69F1-CC0C-40FA-A1D7-97EF2617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A1AF-21F8-4A3E-9F00-8649E82C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0B24-4E7F-456C-AD3D-838E702D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0A7E-9907-4B5B-A052-148475EF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C846-6E1B-45D1-BDA7-EEE67852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037F-5F19-403F-9676-6C02EA43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65FC-EA1F-4BC9-B522-3D9EAE51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BC6C-989B-409A-A235-484FE0C4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7F81-A274-4754-98C1-687DE9CA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E701E-1661-4BA4-ACFE-7A7F7412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FEE2A-5F24-4901-8E14-C8F7568F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1A8D1-8425-4F6B-8FFA-86EC43F0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1F2FF-BFEA-4522-BFF0-4A63FAFB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5A804-2CA0-43DA-A48A-658E83FA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9FDE-616E-4C9C-984C-1D82626F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09B73-9DB4-43E3-A275-BB495384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C742E-18F4-4C72-8085-DC2A75E8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1764E-30B5-4B96-9322-F49F9E96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84EF7-25EA-4A2C-BB4E-CDB17FB9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A7CF8-7D4E-4EA8-8F5B-5B3314A2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D21D5-56AA-4D1F-B52E-F8A39C61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C7CE4-206C-4DF3-A13B-FC4C6114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DA221-62DE-41DB-9157-A51DA3E7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6F03F-3BB5-49BA-99C0-CEF0CAE7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188A3-9915-4773-B21A-68FBABC3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4E3-855A-4377-A59B-24732CE6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7B0F4-3065-486F-A29E-9B6C3352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209AD-CB73-413B-A3D0-B1866951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968CF-DF4A-435F-A346-94547DDB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3DDC4-FD8B-47E6-901E-5313B852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07DC6-55F9-45B8-9448-BF6A30B2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88353-6093-4526-B169-61AB08A2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5872E-D32E-4F75-B660-E1088D62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67AED-AD65-4C96-8922-EDF7B310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122FB-F138-4A88-9AF8-DDCFA8F4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DC5F7-F863-4D12-BAC3-4672D8BB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8CF-E106-4FFF-A57F-AC43A6A6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7B66E-5D91-457B-931B-BBBF535B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75318-482B-46BC-9A3B-72077B53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CAD68-5FA4-4C67-BD96-68A1BE70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BBECD-6229-4D0F-8248-8320D535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B967B-08B5-4229-8406-C89E2E69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BADD6-6359-4969-A50F-207CDCAF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8546E-B687-43D8-A3FD-261D51FE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A5ACC-7816-4F63-8521-E89A9F56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614C2-4F0E-44CB-B3B9-55A0B76B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C4875-3B64-4AE0-9B13-82B3B4C8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795-25CF-4916-B8E9-84537285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8227D-0095-41D9-B62D-A307C9B8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E627D-53FF-4001-A31C-D49B3B22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10959-49E9-4645-81A9-78B98E11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0F31E-EBD2-4C37-9128-1253E05B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13AB1-0D4C-40BF-8EB4-5EA72285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B0E08-0330-4A27-BED9-86B804DB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30483-8FFE-4CEF-AE1C-CBC1A8FD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50C8D-22D9-405A-A426-A3C00115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3D04E-1E17-47A9-B667-4C8D2419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CEF51-C1E7-44C2-80F8-D009EEFE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CFA-E44E-4FDC-B8F8-9918D122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34E94-7297-4E12-A109-E56EC621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D7387-D576-402A-91BE-BEACAA5C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95E50-B19F-4559-92DE-6FC81A5A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E35BF-5E05-47E0-93F7-B34BB71F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CAE0F-4D52-406E-8D1D-4BE47AE0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CC9B3-726F-4F71-8BB5-FF3FF635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7A5A4-FAD2-4D75-8F34-902438D3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85917-A70A-4528-8F81-74CB819F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EE712-BD21-43B2-BC47-C3FECA2F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D68CA-261A-46A0-A2A3-52A2A2C9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9DAC-1270-4D04-AAFC-F5D3AC34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0BAB7-E269-4172-848B-1E88D254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83ED3-53B4-4490-8F4B-C7231EF2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11404-8F77-4602-BA7D-4A62CB3B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10AC3-FC84-4F29-83E3-FA113D20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633DF-856C-49C9-ADD6-7C7AA8CC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DB7D0-2E45-40FE-B474-2475429D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32910-4042-4A23-9CAA-5AC3A92C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CFD71-29E4-462A-8D6D-AF5C91C3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78E42-F609-4B2D-8AD5-95C342EA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71D5D-41C8-442F-B557-9D535821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679-7AF3-4CE7-8FF0-3F97A03E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B8EDC-A2E6-419A-A0F1-C3A2F8E1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F720C-88A0-40F7-8ACD-123A5FA5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4999B-C8F9-400F-BC00-7CF3EB92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E8E1C-0F2C-4171-8D4F-631513C6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A9853-77E3-4E52-980F-BF8448D2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1E935-2BB9-4EFD-823A-B6993C84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1E3BF-5BB0-4C2D-B4F2-284ED9AE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F3811-DCC8-4643-A800-2FFB1404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40BA5-9610-4656-A1BC-E188DE38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11D68-2ACA-443C-8487-DABAABB4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AB06-EFF1-4CC8-BF19-4E0F3580E68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D67D-9F83-4C6F-BA50-56350F6D5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1EF1-436D-492D-ABB7-4A99A6367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AD1D-3E60-43F8-8DBC-9DF49EA283D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C4A0-97ED-4DE2-96A1-98BBD3C6910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AB3F-F0C6-4812-9682-90D3FF1A08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2171-2034-4F31-B636-4522840A9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1CD2-5BAC-4993-91EA-846ADFD0A26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CE72-8EB2-45B6-8F15-14CBCA27D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452A-A9C1-419C-B757-F0E357571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7FF5-09F5-469B-8007-7BB873D37A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E75C-11DC-465F-9685-7150DF7E6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AB73-7676-4F5D-8BF5-241E01875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70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4:26Z</dcterms:modified>
  <cp:revision>15</cp:revision>
  <dc:subject/>
  <dc:title>Sexual Reproduction</dc:title>
</cp:coreProperties>
</file>