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2445-667B-40E6-8CF8-31C95FAFC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D0E-07E0-46D8-8CCA-CC8E825C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114-75F7-46DF-8C66-72A89379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07565-C58A-4197-853C-0E09B48F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607AF-8B09-44F6-A1E2-9EDBB474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554F6-119E-49DF-BD79-2EE279BD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DE55A-6AC9-48CB-8096-ECABBAB3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814CE-3CE2-4F78-B6FA-B3EF1176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B4750-FDA7-43D8-AE8C-4343C6E7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7F71F-AC6C-49C1-AD8F-ABCC3650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3EAFD-00A5-46E1-8FA7-E231D6DE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128EC-3A5E-443C-81D7-C02B166B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D8D90-4A3F-4B69-A3CD-AB777DC5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9FC-9134-4B18-AE11-ED899E7F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5EDB6-31D6-440E-9188-BBCF30D5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8D7E9-6B75-46C1-9BE1-0DD9FB77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D50A3-E0BE-4931-BD40-DE9C4EF0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EE847-7F52-4FD7-88EC-F3355B6B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6533D-CA74-4F66-A88D-67A742C6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35858-63BD-44B5-9D55-0723E9EA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FC79D-FB7F-4125-8DB9-D102266C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36F54-E722-4630-AA9C-88A66ED5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490F8-0B21-4646-851C-87E873CE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A2012-95BF-49C0-A30A-7CE370C9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5327-A40B-4DB2-8F1A-A9BFEB62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5060B-2881-4278-B2EF-FF35CCB9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DD9A4-BB1D-4A61-89C4-E9CC40A9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C305F-691B-4EC7-A9EC-922EB48F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DA0FB-F358-42CE-97C3-EF7722D5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DF2A5-0629-4359-AD5F-B898E16C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2E7E9-01BD-45AD-9953-E85A6EE6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58E1F-07A7-45AF-83A8-A8986599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3240C-7B63-4EE2-9651-6B5DF698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65825-A051-4931-BF0B-B70A8A3D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AB7B5-1B6A-45AA-ACD8-3FF07DF7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68D2-AB84-4B96-B5F8-3BA92BEE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5D893-8994-42AD-A924-A85638CC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3353A-20A5-496A-A384-BE902180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4BA3F-5D6E-4018-86E8-14EF4A9A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6361D-7535-4EEA-8064-738FBAFA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79434-18A4-4680-9994-A96D50E2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D4D0E-0802-466F-8E37-17E1094D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EF1A6-1DA2-4913-BBF0-13491DB7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B5A18-A792-4A50-962E-856D2112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902DF-65F2-4DC5-8798-44FE9730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A5525-8DF8-4A8F-B873-990C8EB8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4D38-59F4-483A-B18F-8C869840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531B1-E383-4EDF-AD01-D9E6CA97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E03B4-685B-4B79-86B6-80177323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4B0C6-1A8C-4D9F-8A34-921F2989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C31D9-4FC5-41E7-890E-B8171B1D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613F1-E274-44EB-9B20-996C98CE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7F173-3FE4-4412-8298-2345E84D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932C2-9FA7-4861-BC92-DB504CAB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2D35D-F15C-4058-8C83-DFB4A5B8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F2EA2-7D2F-42D2-8A90-9F73586A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67F22-57C3-4ACE-86B3-7B2F184C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2C36-C228-49C0-84F4-8EA7229A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75A92-DF70-4807-85A9-FC3A236A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E4FD0-9732-49B0-8F09-A0064B63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4FC36-B4E5-4210-B487-479D2F84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9399E9-0854-4ACB-9D36-55D5E7C6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AF11F-24BF-435E-809D-F4A4BC25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DFFAB-97C4-47DA-8BDF-9738ECCB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5FD9E-F41A-43B9-83D4-EE83FFE7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2DC0-8A79-47F5-AEF8-4B283EE5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3F1F-F0D6-4DDD-BDE9-D5FF4A85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DDBE-9E2A-448A-931D-2590C051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41AF-5D75-420B-A082-97D43CD5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D9D-6FE3-478F-A8E5-119F0D18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9591-4F24-41C8-8F53-2007836F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F0BA-1751-4DA3-BB16-A0E195F1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4EC7-2A34-4D5D-81E2-6088B9B5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2B5B-5E9B-433F-A66D-9FB4E812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92B7-D8DA-42F4-A8A3-84C3A260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7783C-FF92-4D95-98D2-C1B50C96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883A-E75B-4344-A012-499650C3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1093B-1C94-40D1-BCCF-5340E5EB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674C8-B641-428A-96B0-63902B2F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599B0-54E3-4876-8CB5-5056E158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6F2-9AE8-4526-A73C-29EB6B1E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4627-C52A-4434-B1B9-2DC31581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79284-DC1B-4985-9E8F-3F2A7F70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08EE-8032-4D43-90DD-061B78A8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DCA1-25F1-4677-91B6-03782940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4E65D-CF4B-48F6-90EA-B5A9CB58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8662-8998-41AA-BAF3-21B84073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4A456-6474-4B70-BCF8-03488C67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DA7A4-FFF6-4705-AEB9-279F4605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D6080-EB74-47CE-86FE-7D4DD83E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E0051-0FA3-4839-9618-EC9E0549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5BA-9BB8-4EFE-A973-8203789D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FF059-B7B0-4DA4-B7FA-958859C8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CA0C2-C821-4102-923C-BAE56C76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EF520-DF96-446C-AE7B-C8FD4693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EB516-8317-4448-9AD7-5A538C79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C752B-7E9A-4A06-9916-10827231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99CA5-A15B-4A91-8BB5-23E1972A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570F9-5D7D-4F4E-BCF5-0BF5C3DC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55B9-AD24-4AE6-8F9F-4E1BA636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4B553-F60B-4101-92EA-B2BE53D9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60F46-6E48-4630-9182-3B9A8094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C91-2209-4F07-942E-B041CE72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8FC4B-A7B4-4BC4-9FE1-D06F52A3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A4F4E-05AB-4F1A-B270-A28A1D79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2D355-C453-499F-981F-C0E843F5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ABC47-D274-4259-AAEE-7E0B586C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382DE-10D4-4305-8E6D-78E41E77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5FC86-1A21-402F-A474-EE32EF4E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C3686-CA44-4DAA-B93B-5506C7D8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3FFC1-B5E2-4BDB-879A-E819E20F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41CAC-5185-4F9D-AFF9-873696E9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53434-41B7-49DE-A81D-DADFB340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F42-D901-453B-B41C-BC0A4029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0425F-1E69-4EA8-8B1F-9F88B341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F259D-DC1D-4720-9F6E-8F2372EF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A4BA6-AC15-46B6-8499-2A140A03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2E1E1-6B33-4C70-9F9F-679F3393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1F641-8E0F-40D4-9F64-1281B76D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694D8-509D-4BE8-8C34-ADCEBA44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53B54-F459-408F-B5E3-EDB3AF52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8A139-3698-461C-93C2-ACFA0B52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F1988-6227-4F43-8ED9-23713C7D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1E13D-F389-446F-8FB0-E4E05D2C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95C-17F7-43E3-B069-1E1AC64D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72957-7D80-47DD-ADD5-A464DD58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47032-05A8-48E5-9391-71443A88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F781B-BCAB-4E5E-8ECE-859CF233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6FB7A-EDA8-4BAD-B270-59723080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99891-030D-4DFC-B7D3-6012CB67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99A93-D725-4B37-8036-25B3091F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AF8BB-1F04-4ACF-97CA-664950D0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A1CD3-42DD-4E31-BFB4-8AF13451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78792-F168-474A-8402-5138B3EB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81986-D4FC-4706-8DA8-6D5065A7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F8A-CE26-4EEB-9FF8-62B556F8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64A54-CC2D-4B43-98B8-61B248A1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6960E-F3F9-4AC1-8240-1F49A796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66DB2-F848-44D6-B3F7-1A3517A0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C4350-837C-4C43-9239-23BDBEAE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E032E-FBB8-49B2-BF88-3873B843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03CE2-A7F3-49E7-9385-D8F2BAE7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297DC-02B3-4318-BD62-BE5D6B4B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7C428-76CE-4FE5-AF0C-FCE4A9DA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C3923-FACC-4990-9A49-4A2FDCBF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F2F0E-16EF-47B5-9BC3-A106A606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58DB-B6B6-4714-8A6F-948BBEEC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7A1E1-8A8D-4B9F-8985-0F755782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90064-4DEE-46CC-A616-B437036D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669A9-4603-4697-9655-AF667538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17CF4-305F-4A58-80DD-E665A18B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C35EE-1FF7-45FE-A89C-9AF68FE9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93153-FDAA-49AC-AEC7-82B812C0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03D7C-77D2-4E3E-B93B-269E0DEC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65972-07F4-415F-8416-B104DD33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01A2D-D627-4199-8EF7-2427C9F5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DD0E1-95EE-4783-B376-7B91DA6D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A5E5-028A-4A70-85A9-DE665B312EA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C3A7-6847-447A-A450-D48C473D1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A8D8-DFB6-4EBA-8A9A-5D1A47DE9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A9D4-3DC4-415A-94A1-EBF89308F1B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E7DA-07C4-4EED-B54E-E6565E75933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43C7-95E1-4D4B-980B-FA10F789D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6E4D-010C-4354-9AD8-5D31A8F1B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E1FC-DF59-44C6-9D09-C9828D83360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8B9E-4628-4948-B2F5-7491F4F68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46E2-1F37-4AFB-89CD-9640051F4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2399-6C15-43ED-9D80-9CB679C2D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496F-E4F7-451F-8BD6-1436C2A73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E602-B8E9-4CF5-839D-F8575E730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70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4:26Z</dcterms:modified>
  <cp:revision>15</cp:revision>
  <dc:subject/>
  <dc:title>Sexual Reproduction</dc:title>
</cp:coreProperties>
</file>