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19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1.gif" ContentType="image/gif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7A46-574D-4FAF-A658-45047449F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335-9BA5-411F-8FA7-9D9842AF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BE01-C163-4EF9-8B9A-825FE8BB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79810-C888-4B41-ACED-43061851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7335D-F908-4D3F-8B72-3358AA54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B35D7-1660-4DCC-87BA-0E81F5EF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601E2-4DA0-408E-BD07-A4230A64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C42BC-3279-4DC7-A04C-9D892594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07DBF-AC15-4708-BCF9-C1DF16E1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5B643-2B3F-4BF9-9D1C-AB810E03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84761-5327-400F-9AC1-51C4C4B2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31125-E62E-42BE-AD32-D9E95103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099D4-937D-4E9A-AFE7-D3F1B5BD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060-77E8-47FE-940C-AD5C50D6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D1C93-F3C2-4674-88DA-0C64B482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A2460-071D-48C1-A35E-500ABA1D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9E25D-3DA1-4777-BFA8-311CE22A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9A85B-7743-4C56-815B-CA1AD803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CCCEF-E18A-4B8B-894B-4AE2F764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4EF0D-C4E0-4218-A0C7-3BE192FD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894C3-E0D3-498D-A1CE-F8FF8856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C6E64-57B4-4FCE-8CE4-D96D89E0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AFE93-B15A-4536-BD08-282C7B24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D12D0-B5DA-48EA-9805-95CF5977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AB87-D9B4-4966-8D20-5BD9EDB9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C7C54-FD7D-4A94-9819-FCBA875D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4ECF6-F352-4F44-AB60-DA3D360B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67254-28C7-40E1-83AC-920CDB6A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5F7FE-098D-4ACE-A597-87A80FE3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57506-EBD3-40DF-BEE3-795A90D3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9183D-7A38-4450-AD2B-53283B96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DDA8A-9050-4253-A7F7-2E7F3F8C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FFDEE-1D50-4550-8A2F-8FF53E74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0ED62-84FC-4477-A65E-82613C58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CB0EF-B3D2-4E45-878B-6182E494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8EDC-421B-4472-8C8A-354198D0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52DD5-71ED-4CEA-BE2B-CDD94EDF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FC5BA-1B08-423D-977E-7BF9EF7A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87A5D-6A85-47D6-801A-C4A06288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03945-EAB2-4FEA-AF29-3CDEAAEF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CF6D8-9238-4147-A6B2-48A9900C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AD4A4-FE52-4B2F-B148-E5D13FFC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AED50-6CC8-462D-97D9-EDECF1B9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48B99-040D-4C21-864A-4E0066FC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144D3-715E-403F-A656-4343B919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2C8F6-9882-4766-80DF-D1D7A02F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842F-5E55-402A-868E-EE06D4EB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DE2DB-3747-4131-8285-009A9F85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A7BC5-FC2B-48B0-8FBD-762BC2CE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45889-DC75-40DD-AE9D-EB2D3821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2B845-E626-4E21-9515-D12EE796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C6998-FEDC-4709-9CB1-22D10793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3D8BB8-FE24-4CB5-9E65-C1B9F8AD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FDDEBC-0122-4B70-83FE-9A739BF1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DFD715-98FF-41C8-A55D-7B96F7A0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235BA6-12DA-4500-A5E3-0D3B1B71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79D308-4959-4DD0-B6D9-A033246D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C45B-D3D0-4317-AC34-5144CC5F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70328-16C4-427C-9ED8-4A2BA50D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1B53B5-D795-4D1F-9281-40440E87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1EF560-8E3A-4828-9AE2-168EB2B9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909A5-E39A-49EA-9C56-C80D3231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A72852-7938-47F0-A414-3EBE836A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E29B9A-D815-4FB0-ABD4-9CB2D64F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10C8C-A59F-487A-965C-FBDF6F30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F141-6D82-4777-808B-5D130B04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EA0E-A6DD-4702-8409-2818B7B0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59A0-2FEE-4E20-9A07-E7C28CCE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D85C-44DB-4D7A-A129-894BD328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29A-9424-4DC1-A4F3-5056ABE0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EBEE-3C77-4A80-A634-F097DC3E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EDC9-D9F9-4976-9D77-80BD8B7D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79C8-CCC4-41D3-9BE5-08C6F569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7EA1-00E8-4A6B-910B-B5391498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8813-5FBA-4C89-90F0-87ECD2E1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90663-450B-4E0F-BC4E-0A1CE80A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498B0-E047-49DA-8202-4C6D66F4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A7E5D-757D-456A-A3E0-E46AE5CE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5109C-6C85-4A9A-839B-3B09B26E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DF56C-ABE6-4683-BCFE-AF08E6B1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A8DD-E5F2-4E7F-9360-1527772A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35451-D340-44CF-87EF-4BF35211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1F9CE-2E91-4095-9DFB-EDAF00FA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EB83A-9DAB-47A8-B821-DDA62272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FA4E3-0BC9-4E59-BD63-0AC95839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2B971-5BAC-49EC-8551-B493DF18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86FBC-9E59-4E63-A569-6CE79767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EF51A-702C-4F8C-9692-D938669F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B7D6D-346D-4202-9C9F-92209FF8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B1184-7784-4FD0-BB72-415A71F5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2DDA6-1AA2-4461-8261-9532C45D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1970-8A57-4DF9-987D-8A2CC88B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894E5-1233-4DE7-97DF-F26B9521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07926-8985-4F79-8E43-F06819D5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88CD4-8AB7-4A92-A9A6-EF252367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C77AA-B84A-4117-8E6F-91C641FC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9E86E-F309-44D0-9026-51DE8DB2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D6910-D522-460C-AEDB-FF355F5C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B3D7D-498B-4E50-B1AF-B26879CE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72847-31DF-484A-B5CE-B3ABD5C2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91859-2456-4BAB-9620-ABE8BD1C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EB286-5B4D-400B-A0E6-1BC98EAA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F5A3-14C0-4072-94EE-59C40E54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0B088-3147-416D-A153-D28729DA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F21D5-2488-42F5-8B04-3E8BF9F6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C71BD-E653-4BF5-9FFD-D6B8057F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EB2D3-042B-4F34-9535-1E5AEB7E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C5A15-8706-415F-B26B-AFAD4739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CA5CD-BF6C-40D6-960B-CA572D39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7BAFB-4B9E-463A-A49A-30C79F3C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5AB41-3738-401A-A4FE-FDE809E1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F7E41-010D-4267-ABE3-9FDD976B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02DDF-EC1D-4644-8BBC-54BA8E3A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39BC-1985-4780-A665-1333B8F2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1C21E-2453-4D7C-9462-CE307605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BAF5D-985E-430E-B713-F99C570F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BC778-AB36-427F-90CD-DD105F70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68F4A-114B-4F66-B8B9-17959454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703D2-8449-4EB0-93C0-2BC7301F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6501F-8A74-4725-A39F-6B8BF712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B7A7A-8C91-49A9-9F96-6BB9DFA7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FB89B-DEAA-498F-A5CB-F895821F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26483-B7C9-4F0B-AD3D-77C2518F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5BA66-D1C2-4FFF-9468-A8F3EC98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DE6B-41C5-4FC5-A7A0-87A3A010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C6337-11F6-48CA-B6D3-9B062354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20240-264D-4479-8A48-ABCA66C6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6B6FC-0549-4C04-9DED-B0F41EA6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AF46E-EC01-4643-9165-E6DDBE08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D0771-0ECF-4496-985C-FD24B946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2890C-E173-44F7-809B-9323C589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3898C-F77D-4854-A96E-E315DDF6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3EAFE-CE39-4BF7-9E99-82AA9FAD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12ED7-7D58-449F-8ECD-EA95C81F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9CE61-1C7B-407C-B539-38E82030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D007-4B05-49FE-A66E-A97FBF88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39138-CE04-416E-9DA8-F7D40F66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DF9ED-91F2-4EF5-A416-ED8270C8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6FE07-103F-4D1D-8C83-B785B880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8BC48-076F-4A5D-9911-1DDB959D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D9290-AEAD-484C-A8B8-8237342C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6C0E5-9764-438F-B6FC-9BE9877E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D9995-7021-47D3-8DFF-A7783F15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010A6-4F7F-4EEE-A4F9-8392D025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B31B4-84F2-4EC3-B0D8-F88FE0B4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91FDB-46F9-4FE2-A9E6-A21EBDE3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84ED-E252-4B65-847C-E48DB6B1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29795-083D-4A71-8336-B1BB6270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1172A-DE17-40AD-82BC-A7E79D73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364F6-1FFD-4BA2-9307-E52757BF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A0C91-7A5D-490D-AE53-DF7CF407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37C06-18C7-4D39-8C93-F16F1CB5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EEAAF-8BD5-49D7-A3B6-2A6BDE7E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5D6B4-D2F7-416F-B910-AE98764F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7CF41-E42B-410F-8903-1C521FE3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A8BAC-BAC5-4229-AC60-63B968AE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F04DF-EA4B-429C-8301-5A22EABB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0E16-D5A5-4EAA-A111-D4C213CA93E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AC4E-347A-4EC7-9BCB-F4D690A0E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E935-9658-441F-B9F7-78617A5CD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94C2-A856-48B4-B884-CF32928C637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7437-BACD-4D7F-BC6C-A3494974642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0809-F5E2-4367-B134-D41C8187D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B93A-2FD6-4B08-9A5F-365865D73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1F20-99B9-423C-9DEA-CA0EF3A143A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6474-4560-4FF7-942A-23FDACE77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DA2E-3DD9-4382-B944-5705022326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A0E1-C8B0-4632-A3CF-4851545BB8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6133-54E7-4D63-A618-23C86FC4A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C667-79E9-458F-A64D-B5E1642E0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Quick Review -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eiosi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division of cells which results in the production of gamet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Gamete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lso known as sex cells, germ cells, or spores; cells of sexual reproduction, which contain only half the chromosomes of a normal cell highered.mcgraw-hill.com/sites/0072549238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tudent_view0/glossary.htm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Chromosomes -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Threadlike bodies found in the nucleus, or center part, of a cell that carry the information of heredit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www.sharedexperience.org/Glossary.lasso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a female and male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Broadway"/>
              </a:rPr>
              <a:t>fertilization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- the combining of gam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Produces </a:t>
            </a:r>
            <a:r>
              <a:rPr b="0" i="1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genetic diversity</a:t>
            </a: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 - variation among and within species that is attributable to differences in hereditary material.</a:t>
            </a:r>
            <a:br>
              <a:rPr sz="3000"/>
            </a:br>
            <a:r>
              <a:rPr b="0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www.for.gov.bc.ca/hfd/library/documents/glossary/G.htm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Picture 4" descr="big_nose"/>
          <p:cNvPicPr/>
          <p:nvPr/>
        </p:nvPicPr>
        <p:blipFill>
          <a:blip r:embed="rId1"/>
          <a:stretch/>
        </p:blipFill>
        <p:spPr>
          <a:xfrm>
            <a:off x="3429000" y="3276720"/>
            <a:ext cx="1066680" cy="103644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bleak landscape"/>
          <p:cNvPicPr/>
          <p:nvPr/>
        </p:nvPicPr>
        <p:blipFill>
          <a:blip r:embed="rId1">
            <a:lum contrast="18000"/>
            <a:alphaModFix am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ossible Rea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EXTINCTION!!!!</a:t>
            </a: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	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ut, my sister does have a big nose.  So the human species is saved.  Kinda makes big noses pretty attractive now, doesn’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big nose girl"/>
          <p:cNvPicPr/>
          <p:nvPr/>
        </p:nvPicPr>
        <p:blipFill>
          <a:blip r:embed="rId1"/>
          <a:stretch/>
        </p:blipFill>
        <p:spPr>
          <a:xfrm>
            <a:off x="2286000" y="3657600"/>
            <a:ext cx="3962520" cy="2963880"/>
          </a:xfrm>
          <a:prstGeom prst="rect">
            <a:avLst/>
          </a:prstGeom>
          <a:ln w="0">
            <a:noFill/>
          </a:ln>
        </p:spPr>
      </p:pic>
      <p:sp>
        <p:nvSpPr>
          <p:cNvPr id="5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roadway"/>
              </a:rPr>
              <a:t>So what can we conclude about Sexual Reproduction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43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it produces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iversity ensures survival of a species in an environment tha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Sexual Rep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cess in which two cells, termed gametes, come together to form one </a:t>
            </a:r>
            <a:r>
              <a:rPr b="0" lang="en-US" sz="1800" spc="-1" strike="noStrike">
                <a:solidFill>
                  <a:srgbClr val="0066ff"/>
                </a:solidFill>
                <a:latin typeface="Broadway"/>
              </a:rPr>
              <a:t>fertilized</a:t>
            </a: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 cell that contains genetic information from both parental cells.   ucbiotech.org/glossary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duction of offspring whose genetic constitution is a mixture of that of two potentially genetically different gamete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evolution.unibe.ch/teaching/GlossarE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Q:  How many of you have more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than one pa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man_woman_walking_holding_hands_lg_wm"/>
          <p:cNvPicPr/>
          <p:nvPr/>
        </p:nvPicPr>
        <p:blipFill>
          <a:blip r:embed="rId1"/>
          <a:stretch/>
        </p:blipFill>
        <p:spPr>
          <a:xfrm>
            <a:off x="2895480" y="4114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5"/>
          <p:cNvSpPr/>
          <p:nvPr/>
        </p:nvSpPr>
        <p:spPr>
          <a:xfrm>
            <a:off x="457200" y="2286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hen, everyone in this room is a product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of 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6242760" y="636264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nimationFacto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a female and male parent (i.e. it takes two to tan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Q:  Why do we need more than 1 pa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6" descr="MCj03981910000[1]"/>
          <p:cNvPicPr/>
          <p:nvPr/>
        </p:nvPicPr>
        <p:blipFill>
          <a:blip r:embed="rId1"/>
          <a:stretch/>
        </p:blipFill>
        <p:spPr>
          <a:xfrm>
            <a:off x="1143000" y="3809880"/>
            <a:ext cx="1558800" cy="1814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8" descr="MCj03981910000[1]"/>
          <p:cNvPicPr/>
          <p:nvPr/>
        </p:nvPicPr>
        <p:blipFill>
          <a:blip r:embed="rId2"/>
          <a:stretch/>
        </p:blipFill>
        <p:spPr>
          <a:xfrm>
            <a:off x="4724280" y="3809880"/>
            <a:ext cx="1559160" cy="181476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9"/>
          <p:cNvSpPr/>
          <p:nvPr/>
        </p:nvSpPr>
        <p:spPr>
          <a:xfrm>
            <a:off x="533520" y="4419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½                   +      ½                 </a:t>
            </a:r>
            <a:r>
              <a:rPr b="1" lang="en-US" sz="3600" spc="-1" strike="noStrike">
                <a:solidFill>
                  <a:srgbClr val="000000"/>
                </a:solidFill>
                <a:latin typeface="Broadway"/>
              </a:rPr>
              <a:t>=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Requires a female and male par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So, by what we’ve discussed, in sexual reproduction “mom” donates half, and “dad” donates half.  How does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4" descr="Fertilization"/>
          <p:cNvPicPr/>
          <p:nvPr/>
        </p:nvPicPr>
        <p:blipFill>
          <a:blip r:embed="rId1"/>
          <a:stretch/>
        </p:blipFill>
        <p:spPr>
          <a:xfrm>
            <a:off x="2666880" y="2590920"/>
            <a:ext cx="3276720" cy="2895480"/>
          </a:xfrm>
          <a:prstGeom prst="rect">
            <a:avLst/>
          </a:prstGeom>
          <a:ln w="0">
            <a:noFill/>
          </a:ln>
        </p:spPr>
      </p:pic>
      <p:sp>
        <p:nvSpPr>
          <p:cNvPr id="5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equires a female and ma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</a:t>
            </a:r>
            <a:r>
              <a:rPr b="0" i="1" lang="en-US" sz="3200" spc="-1" strike="noStrike" u="sng">
                <a:solidFill>
                  <a:srgbClr val="0066ff"/>
                </a:solidFill>
                <a:uFillTx/>
                <a:latin typeface="Broadway"/>
              </a:rPr>
              <a:t>fertilization</a:t>
            </a: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 - the combining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7" descr="dancing baby 2"/>
          <p:cNvPicPr/>
          <p:nvPr/>
        </p:nvPicPr>
        <p:blipFill>
          <a:blip r:embed="rId1"/>
          <a:stretch/>
        </p:blipFill>
        <p:spPr>
          <a:xfrm>
            <a:off x="685800" y="2666880"/>
            <a:ext cx="2095560" cy="1905120"/>
          </a:xfrm>
          <a:prstGeom prst="rect">
            <a:avLst/>
          </a:prstGeom>
          <a:ln w="0">
            <a:noFill/>
          </a:ln>
        </p:spPr>
      </p:pic>
      <p:pic>
        <p:nvPicPr>
          <p:cNvPr id="570" name="disco baby music.mid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disco baby"/>
          <p:cNvPicPr/>
          <p:nvPr/>
        </p:nvPicPr>
        <p:blipFill>
          <a:blip r:embed="rId3"/>
          <a:stretch/>
        </p:blipFill>
        <p:spPr>
          <a:xfrm>
            <a:off x="6019920" y="251460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10"/>
          <p:cNvSpPr/>
          <p:nvPr/>
        </p:nvSpPr>
        <p:spPr>
          <a:xfrm>
            <a:off x="898560" y="4305240"/>
            <a:ext cx="75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ake a moment to write down one trait that is different and in what way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s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228600" y="63626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*Dancing baby graphics and music courtesy of MegaBaby.com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LEGION</cp:lastModifiedBy>
  <dcterms:modified xsi:type="dcterms:W3CDTF">2016-12-07T08:34:26Z</dcterms:modified>
  <cp:revision>15</cp:revision>
  <dc:subject/>
  <dc:title>Sexual Reproduction</dc:title>
</cp:coreProperties>
</file>